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6D52-7FCF-47CB-AB1F-6C788291A3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6C02-D191-40F5-BEE9-9BE3531271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16B4-1085-42A7-998B-92EBFC766A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97814-7407-44A9-8416-097E60E9E6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C508-C3FB-4E23-BC7E-3A80226080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81B6-E5FC-4AF2-9D8E-B12D7CBB14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D212F-5298-4E65-AAFF-8F2701757A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97D5-D51F-4C13-A20D-A4C81C5C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3AA9-E486-4B59-8B09-C55AB7C3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FD411-A69E-4872-9BBB-97C098928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98A42-112C-44AA-BB5B-6C9298966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FBB7-57D6-4290-8D5C-A463FB74E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2B49-5394-40FC-B266-C9A8AE49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A925-A2B1-420C-BC49-52982036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B4FA-9EE7-4529-967A-80328752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43E7-65AC-4AF7-8C79-DD39F78C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344C-90F2-443C-9276-052B3115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4670-0917-405D-826B-6C4E3B9F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A8050-1391-4F59-ACF5-333A8A2B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3184-02F7-4D79-8872-AB2438D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4343-2703-4D5B-A1DD-825667DF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B398-109F-41FC-B06F-A53468B3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3082-902B-43F2-8EA4-02E254232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E24CB-60F9-4724-A9DF-0C6D54EDB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5241F-7869-47ED-A329-B274D4F0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7982-B688-40C0-B35B-C90CF085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F896-C8B5-4353-BEE1-2CBBDD4E4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3D63D-570E-4EEB-B909-BA1A6D3E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EBF1F-427F-488F-990E-AD631BA9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B5C6C-3DE9-4722-B1F9-4580E34F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A9ACF-0EE4-46EE-9C54-AC1C5E7F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E36E-F8AE-4310-A341-01EA20BC355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9565-12AF-4363-8C69-4E0961B85F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79640" y="587700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Трифоева Ната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880" y="6237360"/>
            <a:ext cx="56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489 Московского р-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Gugens"/>
          <p:cNvPicPr/>
          <p:nvPr/>
        </p:nvPicPr>
        <p:blipFill>
          <a:blip r:embed="rId1"/>
          <a:stretch/>
        </p:blipFill>
        <p:spPr>
          <a:xfrm>
            <a:off x="5435640" y="206064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ris3"/>
          <p:cNvPicPr/>
          <p:nvPr/>
        </p:nvPicPr>
        <p:blipFill>
          <a:blip r:embed="rId1"/>
          <a:stretch/>
        </p:blipFill>
        <p:spPr>
          <a:xfrm>
            <a:off x="1547640" y="4606920"/>
            <a:ext cx="6048720" cy="2251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76560" y="6329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i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_1"/>
          <p:cNvPicPr/>
          <p:nvPr/>
        </p:nvPicPr>
        <p:blipFill>
          <a:blip r:embed="rId2"/>
          <a:stretch/>
        </p:blipFill>
        <p:spPr>
          <a:xfrm>
            <a:off x="6156360" y="585000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ris4"/>
          <p:cNvPicPr/>
          <p:nvPr/>
        </p:nvPicPr>
        <p:blipFill>
          <a:blip r:embed="rId1"/>
          <a:stretch/>
        </p:blipFill>
        <p:spPr>
          <a:xfrm>
            <a:off x="2195640" y="5013360"/>
            <a:ext cx="468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29:49Z</dcterms:created>
  <dc:creator>Admin</dc:creator>
  <dc:description/>
  <dc:language>en-US</dc:language>
  <cp:lastModifiedBy>LEGION</cp:lastModifiedBy>
  <dcterms:modified xsi:type="dcterms:W3CDTF">2015-03-30T08:14:58Z</dcterms:modified>
  <cp:revision>5</cp:revision>
  <dc:subject/>
  <dc:title>ПРИНЦИП ГЮЙГЕНСА. ЗАКОН ОТРАЖЕНИЯ СВЕТА </dc:title>
</cp:coreProperties>
</file>