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FE144-24E9-401B-83C9-35DBAF41BED0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РИНЦИП ГЮЙГЕНСА. ЗАКОН ОТРАЖЕНИЯ СВЕТА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669A0-02FD-498E-A739-52C6DE34A50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Законы отражения и преломления света можно вывести из одного общего принципа, описывающего поведение волн. Этот принцип впервые был выдвинут современником Ньютона Христианом Гюйгенсом.</a:t>
            </a:r>
            <a:br>
              <a:rPr sz="16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юйгенс Христиан (1629-1695) – голландский физик и математик, создатель первой волновой теории света. Основы этой теории Гюйгенс изложил в «Трактате о свете» (1690). Гюйгенс впервые использовал маятник для достижения регулярного хода часов и вывел формулу для периода колебаний математического и физического маятников. Математические работы Гюйгенса касались исследования конических сечений, циклоиды и других кривых. Ему принадлежит одна из первых работ по теории вероятности. С помощью усовершенствованной им астрономической трубы Гюйгенс открыл спутник Сатурна – Тита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9A47D-E1FB-4252-89E1-9D35A14A4AC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инцип Гюйгенс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гласно принципу Гюйгенса каждая точка среды, до которой дошло возмущение, сама становится источником вторичных волн. Для того чтобы, зная положение волновой поверхности в момент времени t, найти ее положение в следующий момент времени t+∆t, нужно каждую точку волновой поверхности рассматривать как источник вторичных волн. Поверхность, касательная ко всем вторичным волнам, представляет собой волновую поверхность в следующий момент времени (рис.1). Этот принцип в равной мере пригоден для описания распространения волн любой природы: механических, световых и т. д. Гюйгенс сформулировал его первоначально именно для световых вол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ля механических волн принцип Гюйгенса имеет наглядное истолкование: частицы среды, до которых доходят колебания, в свою очередь, колеблясь, приводят в движение соседние частицы среды, с которыми они взаимодействую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2B5BD-3C00-4A33-8DA8-20252B18A12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Закон отраже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 помощью принципа Гюйгенса можно вывести закон, которому подчиняются волны при отражении от границы раздела сре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ссмотрим отражение плоской волны. Волна называется плоской, если поверхности равной фазы (волновые поверхности) представляют собой плоскости. На рис.2. MN – отражающая поверхность, прямые А1А и В1В – два луча падающей плоской волны (они параллельны друг другу). Плоскость AC – волновая поверхность этой вол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гол </a:t>
            </a: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между падающим лучом и перпендикуляром к отражающей поверхности и точке падения называют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углом падения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лновую поверхность отраженной волны можно получить, если провести огибающую вторичных волн, центры которых лежат на границе раздела сред. Различные участки волновой поверхности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АС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достигают отражающей границы не одновременно. Возбуждение колебаний в точке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начнется раньше, чем в точке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, на время, где </a:t>
            </a: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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— скорость волны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8197B-3A44-4E40-B676-2905FCB89EA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Закон отражен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момент, когда волна достигнет точки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в этой точке начнется возбуждение колебаний, вторичная волна с центром в точке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уже будет представлять собой полусферу радиусом 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АD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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∆t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СВ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Радиусы вторичных волн от источников, расположенных между точками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В,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няются так, как показано на рис. 2. Огибающей вторичных волн является плоскость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DН,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касательная к сферическим поверхностям. Она представляет собой волновую поверхность отраженной волны. Отраженные лучи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АА</a:t>
            </a:r>
            <a:r>
              <a:rPr b="0" i="1" lang="ru-RU" sz="1200" spc="-1" strike="noStrike" baseline="-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BB</a:t>
            </a:r>
            <a:r>
              <a:rPr b="0" i="1" lang="ru-RU" sz="1200" spc="-1" strike="noStrike" baseline="-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ерпендикулярны волновой поверхности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DB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Угол </a:t>
            </a: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между перпендикуляром к отражающей поверхности и отраженным лучом называют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углом отражения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. к.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АD=СВ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и треугольники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ADB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АСВ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прямоугольные, то </a:t>
            </a:r>
            <a:r>
              <a:rPr b="0" i="1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DBA=</a:t>
            </a:r>
            <a:r>
              <a:rPr b="0" i="1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CAB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Но </a:t>
            </a: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CAB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DBA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как углы с перпендикулярными сторонами. Следовательно,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угол отражения равен углу паде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0A48A-379D-4105-9AD5-18711CE25E1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Заключени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к вытекает из построения Гюйгенса, падающий луч, луч отраженный и перпендикуляр, восставленный в точке падения, лежат в одной плоскости. Эти два утверждения представляют собой закон отражения све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сли обратить направление распространения световых лучей, то отраженный луч станет падающим, а падающий – отраженным. Обратимость хода световых лучей – их важное свойств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D82E8-8138-4F84-8EBB-61758FAD6EC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5CE133-A5FC-46FE-BAB2-B0F4393D0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386F2C-E720-4854-87B3-E72616224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AE8867-1D23-4BDD-A424-63342B131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0DA443-7152-4905-8A01-CAA4343A8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5ACED-BFE0-4610-9C7B-FF266ECFC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5CAD7-DE23-4F59-84A8-2D4157CDE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B1D78-33A3-4179-AF11-2499E9E71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D37FD-4EA0-4E66-BF96-D033D3ED0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A2B33-24FD-490A-A886-3C89CD928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ED3D1-03EE-459E-8127-2305C9FF5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6A7A5-60C4-4128-BA0A-713580DA5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DA0BD2-AECB-4380-9142-8C0712349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744CE-BD84-4AE8-A5DB-00D3196A8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D215B-4751-4057-99B4-29E544BBF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48658-AE53-4D48-9811-9937925B3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01046-E110-4F6B-AC83-D84C4F056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01921-C10C-4216-BD8D-96A9ADBC5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AD1B35-0D10-4F42-8868-4E34EB4AF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8D4EFA-0C7F-4361-8454-29FACE8B7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4073D0-4F91-4691-AB26-7D3061144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E30CAB-633E-4B3F-B696-64ABF99C8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1B1095-C108-4AED-8658-D0F6AD1C1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692A80-C9F9-4424-987E-37D30F13E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A87351-F185-46F9-B1D8-1D318E044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CF063-72B8-4A8A-9E37-0656BCFD7553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9FF7D-F1FB-4C09-B350-F6C30B789D17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Times New Roman"/>
              </a:rPr>
              <a:t>ПРИНЦИП ГЮЙГЕНСА. ЗАКОН ОТРАЖЕНИЯ СВЕТА</a:t>
            </a:r>
            <a:r>
              <a:rPr b="0" lang="ru-RU" sz="4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3779640" y="5877000"/>
            <a:ext cx="522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 физики Трифоева Наталия Борис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3422880" y="6237360"/>
            <a:ext cx="560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Школа № 489 Московского р-на Санкт-Петербур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Законы отражения и преломления света можно вывести из одного общего принципа, описывающего поведение волн. Этот принцип впервые был выдвинут современником Ньютона Христианом Гюйгенсом.</a:t>
            </a:r>
            <a:br>
              <a:rPr sz="24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Гюйгенс Христиан (1629-1695) – голландский физик и математик, создатель первой волновой теории света. Основы этой теории Гюйгенс изложил в «Трактате о свете» (1690). Гюйгенс впервые использовал маятник для достижения регулярного хода часов и вывел формулу для периода колебаний математического и физического маятников. Математические работы Гюйгенса касались исследования конических сечений, циклоиды и других кривых. Ему принадлежит одна из первых работ по теории вероятности. С помощью усовершенствованной им астрономической трубы Гюйгенс открыл спутник Сатурна – Тита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6" descr="Gugens"/>
          <p:cNvPicPr/>
          <p:nvPr/>
        </p:nvPicPr>
        <p:blipFill>
          <a:blip r:embed="rId1"/>
          <a:stretch/>
        </p:blipFill>
        <p:spPr>
          <a:xfrm>
            <a:off x="5435640" y="2060640"/>
            <a:ext cx="2808360" cy="35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нцип Гюйген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229600" cy="188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огласно принципу Гюйгенса каждая точка среды, до которой дошло возмущение, сама становится источником вторичных волн. Для того чтобы, зная положение волновой поверхности в момент времени t, найти ее положение в следующий момент времени t+∆t, нужно каждую точку волновой поверхности рассматривать как источник вторичных волн. Поверхность, касательная ко всем вторичным волнам, представляет собой волновую поверхность в следующий момент времени (рис.1). Этот принцип в равной мере пригоден для описания распространения волн любой природы: механических, световых и т. д. Гюйгенс сформулировал его первоначально именно для световых вол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ля механических волн принцип Гюйгенса имеет наглядное истолкование: частицы среды, до которых доходят колебания, в свою очередь, колеблясь, приводят в движение соседние частицы среды, с которыми они взаимодействуют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5" descr="ris3"/>
          <p:cNvPicPr/>
          <p:nvPr/>
        </p:nvPicPr>
        <p:blipFill>
          <a:blip r:embed="rId1"/>
          <a:stretch/>
        </p:blipFill>
        <p:spPr>
          <a:xfrm>
            <a:off x="1547640" y="4606920"/>
            <a:ext cx="6048720" cy="225108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7"/>
          <p:cNvSpPr/>
          <p:nvPr/>
        </p:nvSpPr>
        <p:spPr>
          <a:xfrm>
            <a:off x="7576560" y="6329520"/>
            <a:ext cx="82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ис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Закон отраж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 помощью принципа Гюйгенса можно вывести закон, которому подчиняются волны при отражении от границы раздела сре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ассмотрим отражение плоской волны. Волна называется плоской, если поверхности равной фазы (волновые поверхности) представляют собой плоскости. На рис.2. MN – отражающая поверхность, прямые А1А и В1В – два луча падающей плоской волны (они параллельны друг другу). Плоскость AC – волновая поверхность этой вол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4832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гол 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между падающим лучом и перпендикуляром к отражающей поверхности и точке падения называют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углом падения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олновую поверхность отраженной волны можно получить, если провести огибающую вторичных волн, центры которых лежат на границе раздела сред. Различные участки волновой поверхности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АС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достигают отражающей границы не одновременно. Возбуждение колебаний в точке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начнется раньше, чем в точке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, на время, где 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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— скорость волны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6" descr="ris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4" descr="2_1"/>
          <p:cNvPicPr/>
          <p:nvPr/>
        </p:nvPicPr>
        <p:blipFill>
          <a:blip r:embed="rId2"/>
          <a:stretch/>
        </p:blipFill>
        <p:spPr>
          <a:xfrm>
            <a:off x="6156360" y="5850000"/>
            <a:ext cx="122400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77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" dur="770" fill="hold"/>
                                        <p:tgtEl>
                                          <p:spTgt spid="12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4" dur="77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6" dur="77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Закон отражения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186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-25380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момент, когда волна достигнет точки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 в этой точке начнется возбуждение колебаний, вторичная волна с центром в точке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уже будет представлять собой полусферу радиусом 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АD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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∆t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СВ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Радиусы вторичных волн от источников, расположенных между точками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В,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еняются так, как показано на рис. 2. Огибающей вторичных волн является плоскость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DН,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касательная к сферическим поверхностям. Она представляет собой волновую поверхность отраженной волны. Отраженные лучи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АА</a:t>
            </a:r>
            <a:r>
              <a:rPr b="0" i="1" lang="ru-RU" sz="1800" spc="-1" strike="noStrike" baseline="-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BB</a:t>
            </a:r>
            <a:r>
              <a:rPr b="0" i="1" lang="ru-RU" sz="1800" spc="-1" strike="noStrike" baseline="-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ерпендикулярны волновой поверхности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DB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Угол 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между перпендикуляром к отражающей поверхности и отраженным лучом называют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углом отражения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Т. к.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АD=СВ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и треугольники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ADB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АСВ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прямоугольные, то </a:t>
            </a:r>
            <a:r>
              <a:rPr b="0" i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DBA=</a:t>
            </a:r>
            <a:r>
              <a:rPr b="0" i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CAB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Но 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CAB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DBA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как углы с перпендикулярными сторонами. Следовательно,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угол отражения равен углу паден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380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6" descr="ris4"/>
          <p:cNvPicPr/>
          <p:nvPr/>
        </p:nvPicPr>
        <p:blipFill>
          <a:blip r:embed="rId1"/>
          <a:stretch/>
        </p:blipFill>
        <p:spPr>
          <a:xfrm>
            <a:off x="2195640" y="5013360"/>
            <a:ext cx="4681440" cy="18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ключ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ак вытекает из построения Гюйгенса, падающий луч, луч отраженный и перпендикуляр, восставленный в точке падения, лежат в одной плоскости. Эти два утверждения представляют собой закон отражения све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Если обратить направление распространения световых лучей, то отраженный луч станет падающим, а падающий – отраженным. Обратимость хода световых лучей – их важное свойств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4T20:29:49Z</dcterms:created>
  <dc:creator>Admin</dc:creator>
  <dc:description/>
  <dc:language>en-US</dc:language>
  <cp:lastModifiedBy>LEGION</cp:lastModifiedBy>
  <dcterms:modified xsi:type="dcterms:W3CDTF">2015-03-30T08:14:58Z</dcterms:modified>
  <cp:revision>5</cp:revision>
  <dc:subject/>
  <dc:title>ПРИНЦИП ГЮЙГЕНСА. ЗАКОН ОТРАЖЕНИЯ СВЕТА </dc:title>
</cp:coreProperties>
</file>