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C7754-C96F-4060-A7F5-9167D27116C0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РИНЦИП ГЮЙГЕНСА. ЗАКОН ОТРАЖЕНИЯ СВЕТА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FF159-6671-443B-A40B-9984FEA89FD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Законы отражения и преломления света можно вывести из одного общего принципа, описывающего поведение волн. Этот принцип впервые был выдвинут современником Ньютона Христианом Гюйгенсом.</a:t>
            </a:r>
            <a:br>
              <a:rPr sz="16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юйгенс Христиан (1629-1695) – голландский физик и математик, создатель первой волновой теории света. Основы этой теории Гюйгенс изложил в «Трактате о свете» (1690). Гюйгенс впервые использовал маятник для достижения регулярного хода часов и вывел формулу для периода колебаний математического и физического маятников. Математические работы Гюйгенса касались исследования конических сечений, циклоиды и других кривых. Ему принадлежит одна из первых работ по теории вероятности. С помощью усовершенствованной им астрономической трубы Гюйгенс открыл спутник Сатурна – Тита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8F48A-3AD3-4676-AFBC-E71EB501A09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инцип Гюйгенс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гласно принципу Гюйгенса каждая точка среды, до которой дошло возмущение, сама становится источником вторичных волн. Для того чтобы, зная положение волновой поверхности в момент времени t, найти ее положение в следующий момент времени t+∆t, нужно каждую точку волновой поверхности рассматривать как источник вторичных волн. Поверхность, касательная ко всем вторичным волнам, представляет собой волновую поверхность в следующий момент времени (рис.1). Этот принцип в равной мере пригоден для описания распространения волн любой природы: механических, световых и т. д. Гюйгенс сформулировал его первоначально именно для световых вол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ля механических волн принцип Гюйгенса имеет наглядное истолкование: частицы среды, до которых доходят колебания, в свою очередь, колеблясь, приводят в движение соседние частицы среды, с которыми они взаимодействую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F9979-BCFB-4CED-8288-6BF70A992C0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Закон отраже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 помощью принципа Гюйгенса можно вывести закон, которому подчиняются волны при отражении от границы раздела сре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ссмотрим отражение плоской волны. Волна называется плоской, если поверхности равной фазы (волновые поверхности) представляют собой плоскости. На рис.2. MN – отражающая поверхность, прямые А1А и В1В – два луча падающей плоской волны (они параллельны друг другу). Плоскость AC – волновая поверхность этой вол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гол </a:t>
            </a: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между падающим лучом и перпендикуляром к отражающей поверхности и точке падения называют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углом падения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лновую поверхность отраженной волны можно получить, если провести огибающую вторичных волн, центры которых лежат на границе раздела сред. Различные участки волновой поверхности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АС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достигают отражающей границы не одновременно. Возбуждение колебаний в точке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начнется раньше, чем в точке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, на время, где </a:t>
            </a: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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— скорость волны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49A2A-30D5-4140-9A81-58FE21664EA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Закон отражен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момент, когда волна достигнет точки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в этой точке начнется возбуждение колебаний, вторичная волна с центром в точке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уже будет представлять собой полусферу радиусом 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АD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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∆t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СВ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Радиусы вторичных волн от источников, расположенных между точками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В,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няются так, как показано на рис. 2. Огибающей вторичных волн является плоскость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DН,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касательная к сферическим поверхностям. Она представляет собой волновую поверхность отраженной волны. Отраженные лучи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АА</a:t>
            </a:r>
            <a:r>
              <a:rPr b="0" i="1" lang="ru-RU" sz="1200" spc="-1" strike="noStrike" baseline="-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BB</a:t>
            </a:r>
            <a:r>
              <a:rPr b="0" i="1" lang="ru-RU" sz="1200" spc="-1" strike="noStrike" baseline="-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ерпендикулярны волновой поверхности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DB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Угол </a:t>
            </a: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между перпендикуляром к отражающей поверхности и отраженным лучом называют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углом отражения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. к.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АD=СВ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и треугольники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ADB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АСВ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прямоугольные, то </a:t>
            </a:r>
            <a:r>
              <a:rPr b="0" i="1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DBA=</a:t>
            </a:r>
            <a:r>
              <a:rPr b="0" i="1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CAB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Но </a:t>
            </a: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CAB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DBA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как углы с перпендикулярными сторонами. Следовательно,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угол отражения равен углу паде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48ABC-2C1A-4E21-9BCA-9C6834A4816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Заключени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к вытекает из построения Гюйгенса, падающий луч, луч отраженный и перпендикуляр, восставленный в точке падения, лежат в одной плоскости. Эти два утверждения представляют собой закон отражения све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сли обратить направление распространения световых лучей, то отраженный луч станет падающим, а падающий – отраженным. Обратимость хода световых лучей – их важное свойств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756AB-ADCB-4116-9FC4-980F6970419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DEB34A-14FB-484D-BD6E-CC1FA4A9C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ABB366-BA89-4843-A45A-288AEC7C1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6D5041-7559-4F81-A2E8-D0B715703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7DC65A-4CAE-4F2A-AD72-0C8391CA2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16D4D-46CE-40E2-8B81-2673CB6ED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DC85F-05C3-42D5-82DD-051F180E7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52B9C-D68C-48FD-96D2-D77C4A474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F08CE-8358-45B0-B63D-03DB9765F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BD2F4-1697-4E93-B394-584AAEFD8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36F77-46DE-4DE5-9E1D-6EF48CFC6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4635D-35D3-4FA1-94C9-ACED43CD9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43C6A4-D366-45EA-AC21-F20201A3D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A1BB5-4190-49A7-9302-1D450C4A4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04E09-07A6-4530-8522-C3B575E3D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A7B14-CB2B-407B-AE3C-E1DDC6B16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B2448-3255-4017-957E-B2CF081A4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2774B-2E38-4DE0-9D3A-A63E9D4B0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5D0328-5D60-4C41-BF60-C8D0F9657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0F4598-F5F8-4584-A461-A5D1CE9F5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8BC348-B9F1-41BF-AEC4-15BB4BB0F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E0A825-0DB9-43DF-B0B1-DA946B491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B9B295-336F-47D8-B59F-FB51DC7C8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1E95F9-8514-4A39-B783-8122C001D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2EDA45-3D4C-46E8-827A-5A7E24688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98DCB-CBBD-470D-B11B-488AFF0C4990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6A0AA-B9F5-4988-83CC-C563191A091C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Times New Roman"/>
              </a:rPr>
              <a:t>ПРИНЦИП ГЮЙГЕНСА. ЗАКОН ОТРАЖЕНИЯ СВЕТА</a:t>
            </a:r>
            <a:r>
              <a:rPr b="0" lang="ru-RU" sz="4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3779640" y="5877000"/>
            <a:ext cx="522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 физики Трифоева Наталия Борис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3422880" y="6237360"/>
            <a:ext cx="560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Школа № 489 Московского р-на Санкт-Петербур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Законы отражения и преломления света можно вывести из одного общего принципа, описывающего поведение волн. Этот принцип впервые был выдвинут современником Ньютона Христианом Гюйгенсом.</a:t>
            </a:r>
            <a:br>
              <a:rPr sz="24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Гюйгенс Христиан (1629-1695) – голландский физик и математик, создатель первой волновой теории света. Основы этой теории Гюйгенс изложил в «Трактате о свете» (1690). Гюйгенс впервые использовал маятник для достижения регулярного хода часов и вывел формулу для периода колебаний математического и физического маятников. Математические работы Гюйгенса касались исследования конических сечений, циклоиды и других кривых. Ему принадлежит одна из первых работ по теории вероятности. С помощью усовершенствованной им астрономической трубы Гюйгенс открыл спутник Сатурна – Тита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6" descr="Gugens"/>
          <p:cNvPicPr/>
          <p:nvPr/>
        </p:nvPicPr>
        <p:blipFill>
          <a:blip r:embed="rId1"/>
          <a:stretch/>
        </p:blipFill>
        <p:spPr>
          <a:xfrm>
            <a:off x="5435640" y="2060640"/>
            <a:ext cx="2808360" cy="35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нцип Гюйген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229600" cy="188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огласно принципу Гюйгенса каждая точка среды, до которой дошло возмущение, сама становится источником вторичных волн. Для того чтобы, зная положение волновой поверхности в момент времени t, найти ее положение в следующий момент времени t+∆t, нужно каждую точку волновой поверхности рассматривать как источник вторичных волн. Поверхность, касательная ко всем вторичным волнам, представляет собой волновую поверхность в следующий момент времени (рис.1). Этот принцип в равной мере пригоден для описания распространения волн любой природы: механических, световых и т. д. Гюйгенс сформулировал его первоначально именно для световых вол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ля механических волн принцип Гюйгенса имеет наглядное истолкование: частицы среды, до которых доходят колебания, в свою очередь, колеблясь, приводят в движение соседние частицы среды, с которыми они взаимодействуют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5" descr="ris3"/>
          <p:cNvPicPr/>
          <p:nvPr/>
        </p:nvPicPr>
        <p:blipFill>
          <a:blip r:embed="rId1"/>
          <a:stretch/>
        </p:blipFill>
        <p:spPr>
          <a:xfrm>
            <a:off x="1547640" y="4606920"/>
            <a:ext cx="6048720" cy="225108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7"/>
          <p:cNvSpPr/>
          <p:nvPr/>
        </p:nvSpPr>
        <p:spPr>
          <a:xfrm>
            <a:off x="7576560" y="6329520"/>
            <a:ext cx="82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ис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Закон отраж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 помощью принципа Гюйгенса можно вывести закон, которому подчиняются волны при отражении от границы раздела сре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ассмотрим отражение плоской волны. Волна называется плоской, если поверхности равной фазы (волновые поверхности) представляют собой плоскости. На рис.2. MN – отражающая поверхность, прямые А1А и В1В – два луча падающей плоской волны (они параллельны друг другу). Плоскость AC – волновая поверхность этой вол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4832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гол 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между падающим лучом и перпендикуляром к отражающей поверхности и точке падения называют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углом падения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олновую поверхность отраженной волны можно получить, если провести огибающую вторичных волн, центры которых лежат на границе раздела сред. Различные участки волновой поверхности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АС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достигают отражающей границы не одновременно. Возбуждение колебаний в точке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начнется раньше, чем в точке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, на время, где 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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— скорость волны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6" descr="ris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4" descr="2_1"/>
          <p:cNvPicPr/>
          <p:nvPr/>
        </p:nvPicPr>
        <p:blipFill>
          <a:blip r:embed="rId2"/>
          <a:stretch/>
        </p:blipFill>
        <p:spPr>
          <a:xfrm>
            <a:off x="6156360" y="5850000"/>
            <a:ext cx="122400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77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" dur="770" fill="hold"/>
                                        <p:tgtEl>
                                          <p:spTgt spid="12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4" dur="77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6" dur="77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Закон отражения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186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-25380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момент, когда волна достигнет точки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 в этой точке начнется возбуждение колебаний, вторичная волна с центром в точке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уже будет представлять собой полусферу радиусом 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АD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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∆t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СВ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Радиусы вторичных волн от источников, расположенных между точками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В,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еняются так, как показано на рис. 2. Огибающей вторичных волн является плоскость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DН,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касательная к сферическим поверхностям. Она представляет собой волновую поверхность отраженной волны. Отраженные лучи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АА</a:t>
            </a:r>
            <a:r>
              <a:rPr b="0" i="1" lang="ru-RU" sz="1800" spc="-1" strike="noStrike" baseline="-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BB</a:t>
            </a:r>
            <a:r>
              <a:rPr b="0" i="1" lang="ru-RU" sz="1800" spc="-1" strike="noStrike" baseline="-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ерпендикулярны волновой поверхности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DB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Угол 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между перпендикуляром к отражающей поверхности и отраженным лучом называют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углом отражения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Т. к.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АD=СВ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и треугольники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ADB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АСВ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прямоугольные, то </a:t>
            </a:r>
            <a:r>
              <a:rPr b="0" i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DBA=</a:t>
            </a:r>
            <a:r>
              <a:rPr b="0" i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CAB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Но 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CAB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DBA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как углы с перпендикулярными сторонами. Следовательно,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угол отражения равен углу паден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380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6" descr="ris4"/>
          <p:cNvPicPr/>
          <p:nvPr/>
        </p:nvPicPr>
        <p:blipFill>
          <a:blip r:embed="rId1"/>
          <a:stretch/>
        </p:blipFill>
        <p:spPr>
          <a:xfrm>
            <a:off x="2195640" y="5013360"/>
            <a:ext cx="4681440" cy="18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ключ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ак вытекает из построения Гюйгенса, падающий луч, луч отраженный и перпендикуляр, восставленный в точке падения, лежат в одной плоскости. Эти два утверждения представляют собой закон отражения све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Если обратить направление распространения световых лучей, то отраженный луч станет падающим, а падающий – отраженным. Обратимость хода световых лучей – их важное свойств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4T20:29:49Z</dcterms:created>
  <dc:creator>Admin</dc:creator>
  <dc:description/>
  <dc:language>en-US</dc:language>
  <cp:lastModifiedBy>LEGION</cp:lastModifiedBy>
  <dcterms:modified xsi:type="dcterms:W3CDTF">2015-03-30T08:14:58Z</dcterms:modified>
  <cp:revision>5</cp:revision>
  <dc:subject/>
  <dc:title>ПРИНЦИП ГЮЙГЕНСА. ЗАКОН ОТРАЖЕНИЯ СВЕТА </dc:title>
</cp:coreProperties>
</file>