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DD49-F9AF-42B2-B631-79143F2186A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НЦИП ГЮЙГЕНСА. ЗАКОН ОТРАЖЕНИЯ СВЕТ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4867-B7D1-4091-8CFB-3489487DD1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Законы отражения и преломления света можно вывести из одного общего принципа, описывающего поведение волн. Этот принцип впервые был выдвинут современником Ньютона Христианом Гюйгенсом.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юйгенс Христиан (1629-1695) – голландский физик и математик, создатель первой волновой теории света. Основы этой теории Гюйгенс изложил в «Трактате о свете» (1690). Гюйгенс впервые использовал маятник для достижения регулярного хода часов и вывел формулу для периода колебаний математического и физического маятников. Математические работы Гюйгенса касались исследования конических сечений, циклоиды и других кривых. Ему принадлежит одна из первых работ по теории вероятности. С помощью усовершенствованной им астрономической трубы Гюйгенс открыл спутник Сатурна – Тит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1E76-0BFE-466A-8C54-22D83ACEF2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нцип Гюйген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но принципу Гюйгенса каждая точка среды, до которой дошло возмущение, сама становится источником вторичных волн. Для того чтобы, зная положение волновой поверхности в момент времени t, найти ее положение в следующий момент времени t+∆t, нужно каждую точку волновой поверхности рассматривать как источник вторичных волн. Поверхность, касательная ко всем вторичным волнам, представляет собой волновую поверхность в следующий момент времени (рис.1). Этот принцип в равной мере пригоден для описания распространения волн любой природы: механических, световых и т. д. Гюйгенс сформулировал его первоначально именно для световых вол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механических волн принцип Гюйгенса имеет наглядное истолкование: частицы среды, до которых доходят колебания, в свою очередь, колеблясь, приводят в движение соседние частицы среды, с которыми они взаимодейству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1692-9A4F-42DD-8FF7-DAC18CD9DBF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принципа Гюйгенса можно вывести закон, которому подчиняются волны при отражении от границы раздела с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смотрим отражение плоской волны. Волна называется плоской, если поверхности равной фазы (волновые поверхности) представляют собой плоскости. На рис.2. MN – отражающая поверхность, прямые А1А и В1В – два луча падающей плоской волны (они параллельны друг другу). Плоскость AC – волновая поверхность этой вол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жду падающим лучом и перпендикуляром к отражающей поверхности и точке падения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лом пад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лновую поверхность отраженной волны можно получить, если провести огибающую вторичных волн, центры которых лежат на границе раздела сред. Различные участки волновой поверхност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остигают отражающей границы не одновременно. Возбуждение колебаний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ачнется раньше, чем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на время, где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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скорость волны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5BB6E-A9A8-4F09-B3B6-7FDF4E52F9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момент, когда волна достигнет точк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 этой точке начнется возбуждение колебаний, вторичная волна с центром в точке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же будет представлять собой полусферу радиусом 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СВ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адиусы вторичных волн от источников, расположенных между точкам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В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няются так, как показано на рис. 2. Огибающей вторичных волн является плоскость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Н,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сательная к сферическим поверхностям. Она представляет собой волновую поверхность отраженной волны. Отраженные луч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0" i="1" lang="ru-RU" sz="12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ru-RU" sz="1200" spc="-1" strike="noStrike" baseline="-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пендикулярны волновой поверхност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Угол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между перпендикуляром к отражающей поверхности и отраженным лучом называю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лом отраже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. к.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D=С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треугольник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АСВ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ямоугольные, то 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A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CAB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Но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CA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ак углы с перпендикулярными сторонами. Следовательно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гол отражения равен углу пад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163A4-5329-4F29-B526-DFE8E94DB3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вытекает из построения Гюйгенса, падающий луч, луч отраженный и перпендикуляр, восставленный в точке падения, лежат в одной плоскости. Эти два утверждения представляют собой закон отражения с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братить направление распространения световых лучей, то отраженный луч станет падающим, а падающий – отраженным. Обратимость хода световых лучей – их важное свой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26BB-47A4-4106-967E-AC8866FE612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808A9-A65B-4E48-AFDB-5B6F7677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C3437-3062-44CB-BCAD-93E6BE67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E5D28-97F4-44F6-A88A-C1CFF979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1A95D-629D-4B3C-BF2C-A105565D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32021-4BEB-40AA-80A4-C8B1CDD6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E1FB-EC5D-4772-B59C-72A26150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1F42-4EC9-4516-B02E-037708CBB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7A89-7D89-4BF9-A29F-B3E77CD8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8339A-1DB6-44E7-A3D3-A7D337E3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76D9-1C6C-4B47-B90E-D21BB376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6BB70-42DF-40AC-9E82-E87FB74D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44830-49A7-4C57-8F25-453DB2752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7BBE1-8A8B-4153-AA10-8CFACDB2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CB9C-9478-450D-A16D-583F7466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291D8-7C0B-43B3-928D-0B70A2557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00D9-4103-40B8-AF79-4D76B50FB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7FED0-3274-4633-B42B-533DEF2B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A641C-4F86-4567-B02B-9BF11CD8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1DE66-49F8-4D61-A54D-4C70979B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C2D45-C47D-47BC-A365-1A78D6647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6EF14-9728-461B-BF27-D2B88767D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D549E-E398-446B-9DF1-5674B0B5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7E243-8EC9-43AF-8B83-C824F8238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1CCDE-2A89-401A-BED4-DF48B2A53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6840-9F83-491A-8F5D-F82C313A463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8087F-BAEA-4718-8E33-8EFBE1DCC13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Times New Roman"/>
              </a:rPr>
              <a:t>ПРИНЦИП ГЮЙГЕНСА. ЗАКОН ОТРАЖЕНИЯ СВЕТА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3779640" y="5877000"/>
            <a:ext cx="522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 Трифоева Наталия Борис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422880" y="6237360"/>
            <a:ext cx="560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кола № 489 Московского р-на Санкт-Петербур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Законы отражения и преломления света можно вывести из одного общего принципа, описывающего поведение волн. Этот принцип впервые был выдвинут современником Ньютона Христианом Гюйгенсом.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юйгенс Христиан (1629-1695) – голландский физик и математик, создатель первой волновой теории света. Основы этой теории Гюйгенс изложил в «Трактате о свете» (1690). Гюйгенс впервые использовал маятник для достижения регулярного хода часов и вывел формулу для периода колебаний математического и физического маятников. Математические работы Гюйгенса касались исследования конических сечений, циклоиды и других кривых. Ему принадлежит одна из первых работ по теории вероятности. С помощью усовершенствованной им астрономической трубы Гюйгенс открыл спутник Сатурна – Тит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Gugens"/>
          <p:cNvPicPr/>
          <p:nvPr/>
        </p:nvPicPr>
        <p:blipFill>
          <a:blip r:embed="rId1"/>
          <a:stretch/>
        </p:blipFill>
        <p:spPr>
          <a:xfrm>
            <a:off x="5435640" y="2060640"/>
            <a:ext cx="28083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Гюйген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18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гласно принципу Гюйгенса каждая точка среды, до которой дошло возмущение, сама становится источником вторичных волн. Для того чтобы, зная положение волновой поверхности в момент времени t, найти ее положение в следующий момент времени t+∆t, нужно каждую точку волновой поверхности рассматривать как источник вторичных волн. Поверхность, касательная ко всем вторичным волнам, представляет собой волновую поверхность в следующий момент времени (рис.1). Этот принцип в равной мере пригоден для описания распространения волн любой природы: механических, световых и т. д. Гюйгенс сформулировал его первоначально именно для световых вол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механических волн принцип Гюйгенса имеет наглядное истолкование: частицы среды, до которых доходят колебания, в свою очередь, колеблясь, приводят в движение соседние частицы среды, с которыми они взаимодействую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5" descr="ris3"/>
          <p:cNvPicPr/>
          <p:nvPr/>
        </p:nvPicPr>
        <p:blipFill>
          <a:blip r:embed="rId1"/>
          <a:stretch/>
        </p:blipFill>
        <p:spPr>
          <a:xfrm>
            <a:off x="1547640" y="4606920"/>
            <a:ext cx="6048720" cy="2251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7"/>
          <p:cNvSpPr/>
          <p:nvPr/>
        </p:nvSpPr>
        <p:spPr>
          <a:xfrm>
            <a:off x="7576560" y="6329520"/>
            <a:ext cx="8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омощью принципа Гюйгенса можно вывести закон, которому подчиняются волны при отражении от границы раздела ср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смотрим отражение плоской волны. Волна называется плоской, если поверхности равной фазы (волновые поверхности) представляют собой плоскости. На рис.2. MN – отражающая поверхность, прямые А1А и В1В – два луча падающей плоской волны (они параллельны друг другу). Плоскость AC – волновая поверхность этой вол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ежду падающим лучом и перпендикуляром к отражающей поверхности и точке падения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лом пад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лновую поверхность отраженной волны можно получить, если провести огибающую вторичных волн, центры которых лежат на границе раздела сред. Различные участки волновой поверхност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С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достигают отражающей границы не одновременно. Возбуждение колебаний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ачнется раньше, чем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на время, где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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— скорость волны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6" descr="ris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2_1"/>
          <p:cNvPicPr/>
          <p:nvPr/>
        </p:nvPicPr>
        <p:blipFill>
          <a:blip r:embed="rId2"/>
          <a:stretch/>
        </p:blipFill>
        <p:spPr>
          <a:xfrm>
            <a:off x="6156360" y="5850000"/>
            <a:ext cx="1224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он отражен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186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момент, когда волна достигнет точ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в этой точке начнется возбуждение колебаний, вторичная волна с центром в точк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же будет представлять собой полусферу радиусом 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В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Радиусы вторичных волн от источников, расположенных между точкам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няются так, как показано на рис. 2. Огибающей вторичных волн является плоскость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Н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асательная к сферическим поверхностям. Она представляет собой волновую поверхность отраженной волны. Отраженные луч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А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BB</a:t>
            </a:r>
            <a:r>
              <a:rPr b="0" i="1" lang="ru-RU" sz="1800" spc="-1" strike="noStrike" baseline="-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пендикулярны волновой поверхност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между перпендикуляром к отражающей поверхности и отраженным лучом называют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лом отраж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. к.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D=С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треугольник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АС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прямоугольные, то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A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AB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Но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CAB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DBA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как углы с перпендикулярными сторонами. Следовательно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ол отражения равен углу пад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3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ris4"/>
          <p:cNvPicPr/>
          <p:nvPr/>
        </p:nvPicPr>
        <p:blipFill>
          <a:blip r:embed="rId1"/>
          <a:stretch/>
        </p:blipFill>
        <p:spPr>
          <a:xfrm>
            <a:off x="2195640" y="5013360"/>
            <a:ext cx="468144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к вытекает из построения Гюйгенса, падающий луч, луч отраженный и перпендикуляр, восставленный в точке падения, лежат в одной плоскости. Эти два утверждения представляют собой закон отражения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обратить направление распространения световых лучей, то отраженный луч станет падающим, а падающий – отраженным. Обратимость хода световых лучей – их важное свойств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20:29:49Z</dcterms:created>
  <dc:creator>Admin</dc:creator>
  <dc:description/>
  <dc:language>en-US</dc:language>
  <cp:lastModifiedBy>LEGION</cp:lastModifiedBy>
  <dcterms:modified xsi:type="dcterms:W3CDTF">2015-03-30T08:14:58Z</dcterms:modified>
  <cp:revision>5</cp:revision>
  <dc:subject/>
  <dc:title>ПРИНЦИП ГЮЙГЕНСА. ЗАКОН ОТРАЖЕНИЯ СВЕТА </dc:title>
</cp:coreProperties>
</file>