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BBAF-F81E-448C-902F-AE2180177C6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НЦИП ГЮЙГЕНСА. ЗАКОН ОТРАЖЕНИЯ СВЕТ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B741-B5C4-41ED-934E-01C74B896B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Законы отражения и преломления света можно вывести из одного общего принципа, описывающего поведение волн. Этот принцип впервые был выдвинут современником Ньютона Христианом Гюйгенсом.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юйгенс Христиан (1629-1695) – голландский физик и математик, создатель первой волновой теории света. Основы этой теории Гюйгенс изложил в «Трактате о свете» (1690). Гюйгенс впервые использовал маятник для достижения регулярного хода часов и вывел формулу для периода колебаний математического и физического маятников. Математические работы Гюйгенса касались исследования конических сечений, циклоиды и других кривых. Ему принадлежит одна из первых работ по теории вероятности. С помощью усовершенствованной им астрономической трубы Гюйгенс открыл спутник Сатурна – Тит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D128-6E62-4ABB-B1B8-B5A0065763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цип Гюйген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гласно принципу Гюйгенса каждая точка среды, до которой дошло возмущение, сама становится источником вторичных волн. Для того чтобы, зная положение волновой поверхности в момент времени t, найти ее положение в следующий момент времени t+∆t, нужно каждую точку волновой поверхности рассматривать как источник вторичных волн. Поверхность, касательная ко всем вторичным волнам, представляет собой волновую поверхность в следующий момент времени (рис.1). Этот принцип в равной мере пригоден для описания распространения волн любой природы: механических, световых и т. д. Гюйгенс сформулировал его первоначально именно для световых вол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механических волн принцип Гюйгенса имеет наглядное истолкование: частицы среды, до которых доходят колебания, в свою очередь, колеблясь, приводят в движение соседние частицы среды, с которыми они взаимодейству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68D8-B2F0-43B0-B510-7393E1602B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принципа Гюйгенса можно вывести закон, которому подчиняются волны при отражении от границы раздела с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им отражение плоской волны. Волна называется плоской, если поверхности равной фазы (волновые поверхности) представляют собой плоскости. На рис.2. MN – отражающая поверхность, прямые А1А и В1В – два луча падающей плоской волны (они параллельны друг другу). Плоскость AC – волновая поверхность этой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ежду падающим лучом и перпендикуляром к отражающей поверхности и точке падения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глом паде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новую поверхность отраженной волны можно получить, если провести огибающую вторичных волн, центры которых лежат на границе раздела сред. Различные участки волновой поверхност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остигают отражающей границы не одновременно. Возбуждение колебаний в точке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чнется раньше, чем в точке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на время, где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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скорость волны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618E-B688-47E0-A17D-BAE3AF7BDF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омент, когда волна достигнет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 этой точке начнется возбуждение колебаний, вторичная волна с центром в точке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же будет представлять собой полусферу радиусом 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диусы вторичных волн от источников, расположенных между точкам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яются так, как показано на рис. 2. Огибающей вторичных волн является плоскость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Н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сательная к сферическим поверхностям. Она представляет собой волновую поверхность отраженной волны. Отраженные луч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А</a:t>
            </a:r>
            <a:r>
              <a:rPr b="0" i="1" lang="ru-RU" sz="1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ru-RU" sz="1200" spc="-1" strike="noStrike" baseline="-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пендикулярны волновой поверхност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B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гол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ежду перпендикуляром к отражающей поверхности и отраженным лучом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глом отраже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. к.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D=С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треугольник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AD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С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ямоугольные, то 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BA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CAB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о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CA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к углы с перпендикулярными сторонами. Следовательно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гол отражения равен углу па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DA93-753E-408F-9B69-DEEF2FC84A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вытекает из построения Гюйгенса, падающий луч, луч отраженный и перпендикуляр, восставленный в точке падения, лежат в одной плоскости. Эти два утверждения представляют собой закон отражения с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обратить направление распространения световых лучей, то отраженный луч станет падающим, а падающий – отраженным. Обратимость хода световых лучей – их важное свой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46E1-BA67-4FF4-82DE-9292AB34D5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A94CD-D5DB-4932-96F7-083EC9C7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47012-FC61-4B82-A463-882E1ED8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62064-73BE-4724-9F2B-305021E2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6DEF7-F54B-4D81-B110-12A951AC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F5EF-6966-49AB-8436-30A92B76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AD42-A47A-41A8-A6BD-93D1BED7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8BD6-A6C4-40B5-80F1-D52D75ED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E30A-89E0-4F47-B5B4-96C10365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8B5F-1243-4A30-B362-2EC1FD97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D348-CB76-46B3-8AE2-D48E4656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CBFB-0D71-4CC9-9D56-765C5FDD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57616-8F1B-4B96-A5C5-12A4FB1A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EE7B-9EC0-4C78-9AFC-CA50E942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C5C8-5DB0-4044-88D7-21B3D4A3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DD6A-1B80-4894-9F34-C0524A69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ED64-6F79-42BF-B11E-98CB13E7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C327-D204-4C90-8C5F-0ACF3C77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86346-D180-4DBD-BD52-C8DF8A46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CCD7D-CD7A-40E7-AE2A-1473FDE1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06EE8-F0CE-403C-AD1C-33A72DEF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81374-6654-4404-84A6-E1993869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3C5D6-ED6C-48C5-9BBC-DD64DA11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CFC12-9BD4-433F-999D-9A4C4979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3DE3C-8E73-41C2-A9CA-A06644A5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B89D-77D1-4E0E-BE7C-31625FD3AA4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0C93-4B8B-42D2-BEF3-C8D3C35EEBA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imes New Roman"/>
              </a:rPr>
              <a:t>ПРИНЦИП ГЮЙГЕНСА. ЗАКОН ОТРАЖЕНИЯ СВЕТА</a:t>
            </a: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779640" y="5877000"/>
            <a:ext cx="522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ки Трифоева Наталия Бор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422880" y="6237360"/>
            <a:ext cx="56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а № 489 Московского р-на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аконы отражения и преломления света можно вывести из одного общего принципа, описывающего поведение волн. Этот принцип впервые был выдвинут современником Ньютона Христианом Гюйгенсом.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юйгенс Христиан (1629-1695) – голландский физик и математик, создатель первой волновой теории света. Основы этой теории Гюйгенс изложил в «Трактате о свете» (1690). Гюйгенс впервые использовал маятник для достижения регулярного хода часов и вывел формулу для периода колебаний математического и физического маятников. Математические работы Гюйгенса касались исследования конических сечений, циклоиды и других кривых. Ему принадлежит одна из первых работ по теории вероятности. С помощью усовершенствованной им астрономической трубы Гюйгенс открыл спутник Сатурна – Тит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Gugens"/>
          <p:cNvPicPr/>
          <p:nvPr/>
        </p:nvPicPr>
        <p:blipFill>
          <a:blip r:embed="rId1"/>
          <a:stretch/>
        </p:blipFill>
        <p:spPr>
          <a:xfrm>
            <a:off x="5435640" y="2060640"/>
            <a:ext cx="28083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Гюйген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гласно принципу Гюйгенса каждая точка среды, до которой дошло возмущение, сама становится источником вторичных волн. Для того чтобы, зная положение волновой поверхности в момент времени t, найти ее положение в следующий момент времени t+∆t, нужно каждую точку волновой поверхности рассматривать как источник вторичных волн. Поверхность, касательная ко всем вторичным волнам, представляет собой волновую поверхность в следующий момент времени (рис.1). Этот принцип в равной мере пригоден для описания распространения волн любой природы: механических, световых и т. д. Гюйгенс сформулировал его первоначально именно для световых вол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механических волн принцип Гюйгенса имеет наглядное истолкование: частицы среды, до которых доходят колебания, в свою очередь, колеблясь, приводят в движение соседние частицы среды, с которыми они взаимодейству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ris3"/>
          <p:cNvPicPr/>
          <p:nvPr/>
        </p:nvPicPr>
        <p:blipFill>
          <a:blip r:embed="rId1"/>
          <a:stretch/>
        </p:blipFill>
        <p:spPr>
          <a:xfrm>
            <a:off x="1547640" y="4606920"/>
            <a:ext cx="6048720" cy="2251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7576560" y="632952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омощью принципа Гюйгенса можно вывести закон, которому подчиняются волны при отражении от границы раздела ср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мотрим отражение плоской волны. Волна называется плоской, если поверхности равной фазы (волновые поверхности) представляют собой плоскости. На рис.2. MN – отражающая поверхность, прямые А1А и В1В – два луча падающей плоской волны (они параллельны друг другу). Плоскость AC – волновая поверхность этой вол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ежду падающим лучом и перпендикуляром к отражающей поверхности и точке падения называю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лом пад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лновую поверхность отраженной волны можно получить, если провести огибающую вторичных волн, центры которых лежат на границе раздела сред. Различные участки волновой поверхност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остигают отражающей границы не одновременно. Возбуждение колебаний в точк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чнется раньше, чем в точк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на время, где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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скорость волны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ris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2_1"/>
          <p:cNvPicPr/>
          <p:nvPr/>
        </p:nvPicPr>
        <p:blipFill>
          <a:blip r:embed="rId2"/>
          <a:stretch/>
        </p:blipFill>
        <p:spPr>
          <a:xfrm>
            <a:off x="6156360" y="5850000"/>
            <a:ext cx="1224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момент, когда волна достигнет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в этой точке начнется возбуждение колебаний, вторичная волна с центром в точк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же будет представлять собой полусферу радиусом 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диусы вторичных волн от источников, расположенных между точкам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няются так, как показано на рис. 2. Огибающей вторичных волн является плоскость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Н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асательная к сферическим поверхностям. Она представляет собой волновую поверхность отраженной волны. Отраженные луч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А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пендикулярны волновой поверхност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B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гол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ежду перпендикуляром к отражающей поверхности и отраженным лучом называю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лом отраж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 к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D=С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треугольник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AD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С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ямоугольные, то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BA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CAB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о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B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ак углы с перпендикулярными сторонами. Следовательно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ол отражения равен углу па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ris4"/>
          <p:cNvPicPr/>
          <p:nvPr/>
        </p:nvPicPr>
        <p:blipFill>
          <a:blip r:embed="rId1"/>
          <a:stretch/>
        </p:blipFill>
        <p:spPr>
          <a:xfrm>
            <a:off x="2195640" y="5013360"/>
            <a:ext cx="46814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вытекает из построения Гюйгенса, падающий луч, луч отраженный и перпендикуляр, восставленный в точке падения, лежат в одной плоскости. Эти два утверждения представляют собой закон отражения с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обратить направление распространения световых лучей, то отраженный луч станет падающим, а падающий – отраженным. Обратимость хода световых лучей – их важное свой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0:29:49Z</dcterms:created>
  <dc:creator>Admin</dc:creator>
  <dc:description/>
  <dc:language>en-US</dc:language>
  <cp:lastModifiedBy>LEGION</cp:lastModifiedBy>
  <dcterms:modified xsi:type="dcterms:W3CDTF">2015-03-30T08:14:58Z</dcterms:modified>
  <cp:revision>5</cp:revision>
  <dc:subject/>
  <dc:title>ПРИНЦИП ГЮЙГЕНСА. ЗАКОН ОТРАЖЕНИЯ СВЕТА </dc:title>
</cp:coreProperties>
</file>