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46.jpeg" ContentType="image/jpeg"/>
  <Override PartName="/ppt/media/image24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45.jpeg" ContentType="image/jpeg"/>
  <Override PartName="/ppt/media/image14.wmf" ContentType="image/x-wmf"/>
  <Override PartName="/ppt/media/image22.jpeg" ContentType="image/jpeg"/>
  <Override PartName="/ppt/media/image15.wmf" ContentType="image/x-wmf"/>
  <Override PartName="/ppt/media/image1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30.wmf" ContentType="image/x-wmf"/>
  <Override PartName="/ppt/media/image34.wmf" ContentType="image/x-wmf"/>
  <Override PartName="/ppt/media/image42.jpeg" ContentType="image/jpeg"/>
  <Override PartName="/ppt/media/image9.wmf" ContentType="image/x-wmf"/>
  <Override PartName="/ppt/media/image35.wmf" ContentType="image/x-wmf"/>
  <Override PartName="/ppt/media/image13.wmf" ContentType="image/x-wmf"/>
  <Override PartName="/ppt/media/image39.jpeg" ContentType="image/jpeg"/>
  <Override PartName="/ppt/media/image41.wmf" ContentType="image/x-wmf"/>
  <Override PartName="/ppt/media/image33.wmf" ContentType="image/x-wmf"/>
  <Override PartName="/ppt/media/image28.wmf" ContentType="image/x-wmf"/>
  <Override PartName="/ppt/media/image3.jpeg" ContentType="image/jpeg"/>
  <Override PartName="/ppt/media/image37.jpeg" ContentType="image/jpeg"/>
  <Override PartName="/ppt/media/image40.jpeg" ContentType="image/jpeg"/>
  <Override PartName="/ppt/media/image43.jpeg" ContentType="image/jpeg"/>
  <Override PartName="/ppt/media/image44.wmf" ContentType="image/x-wmf"/>
  <Override PartName="/ppt/media/image32.wmf" ContentType="image/x-wmf"/>
  <Override PartName="/ppt/media/image47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38.wmf" ContentType="image/x-wmf"/>
  <Override PartName="/ppt/media/image7.jpeg" ContentType="image/jpeg"/>
  <Override PartName="/ppt/media/image31.wmf" ContentType="image/x-wmf"/>
  <Override PartName="/ppt/media/image11.jpeg" ContentType="image/jpeg"/>
  <Override PartName="/ppt/media/image5.jpeg" ContentType="image/jpeg"/>
  <Override PartName="/ppt/media/image20.wmf" ContentType="image/x-wmf"/>
  <Override PartName="/ppt/media/image36.jpeg" ContentType="image/jpeg"/>
  <Override PartName="/ppt/media/image18.wmf" ContentType="image/x-wmf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E04B-EFAD-4975-B72D-65C9CCEC690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лектролитической диссоц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общающий ур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394D-75B2-47C2-B71F-4DEEE218D58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ческая связь между классами неорганических соединений с точки зр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Э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73AF-5DD5-49CC-AA62-DB17F9DBB25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протекания реакций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CEA2-287F-4CA5-9186-54B0A18A586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авила техники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0A5E-FE4B-481D-BDCC-E3513AA3C7B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кции ионного обмена, протекающие с образованием оса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06FD-0246-40AA-8010-7687A2A08F8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Impact"/>
              </a:rPr>
              <a:t>Условия протекания реакций ио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Impact"/>
              </a:rPr>
              <a:t>обм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Б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B18D-743C-4761-9ECE-E9745558FB4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Реакции ионного обме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отекающие c обра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малорастворим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(выпадение осад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9BC4-7458-45C5-AD90-BFBBE5E8D71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Реакции 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протекающие, с обра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малодиссоциирова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(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0207-561A-47C0-9622-8723F11933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ология Фарад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F5A2-CF13-4451-B3CF-8576963A740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Реакции ионного обме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отекающие с образова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газообразн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5BC1-BA58-47E8-85D7-AE5D5CD2DA4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59B2-85A6-4059-BDFC-4A0B0019FD1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ыстория открытия ТЭ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985F-A163-435E-9726-BC250643BF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растворов 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96F8-F9B7-462D-ADAE-E95F34D8298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лектролитической диссоц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170F-0FFC-4114-9798-727D5A96DB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е и слабые электрол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98FF-6B2F-428B-BE23-BFF1333790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протекания реакций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41D0-084C-45D7-8CA0-A86C17DD483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во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E618-C15F-482F-8C28-D061E0E223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BD10-AADE-44E0-A6A2-79E823C6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E469-0F01-424C-9A47-F0F772CE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E656-3D30-4664-BDFD-23687A25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F146-1841-4612-B019-4BFED5EC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E9EA-7E22-49EB-972A-5EAA163D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9749-733C-4AB1-96B9-ED80E559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9944-9AAE-4AFC-A423-3C75EE99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AB0C-0532-4D3C-A751-284B8BC6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A91B-EEB0-4D64-855B-02E3672D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7750-4B9D-44DE-8F16-8C083936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F1BC-FCD4-487B-A33F-120EF153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58E-28A9-4D18-B1D1-04D44BBB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B3FC-9ECA-4D77-A42A-5B58CAFA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F656-2E28-4063-B3CE-25248A8A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7120-EB5E-44DD-A4BD-81142493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52BA-7D5A-44BA-9CF4-8BC9D07A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11B0-8DF1-44FC-A80A-0102263E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C0E7-D459-4A3E-A037-28327261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9F2-373F-4E55-94EE-978B1F48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6F3D-389C-4408-9B91-AEB219EE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FAC-6F01-4913-ADB6-74DEAD9C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588-C728-4D1E-9716-F2CAD85D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1FA-0512-474E-949A-F99B22FE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62A-B606-4FA2-8730-16F2B390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1A54-B90E-48BF-87F4-5239332F51E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BB61-3F31-44E9-A4D1-0D8EC39B8F5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image" Target="../media/image33.wmf"/><Relationship Id="rId11" Type="http://schemas.openxmlformats.org/officeDocument/2006/relationships/image" Target="../media/image34.wmf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3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library.timacad.ru/images/photo/sau05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Теория электролитической диссоциаци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бобщающий урок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39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Генетическая связь между классами неорганических соединений с точки зрения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Э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Oval 18"/>
          <p:cNvSpPr/>
          <p:nvPr/>
        </p:nvSpPr>
        <p:spPr>
          <a:xfrm>
            <a:off x="1908000" y="981000"/>
            <a:ext cx="5329440" cy="5112000"/>
          </a:xfrm>
          <a:prstGeom prst="ellipse">
            <a:avLst/>
          </a:prstGeom>
          <a:solidFill>
            <a:srgbClr val="f8f8f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340000" y="1484280"/>
            <a:ext cx="4537080" cy="8254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ими из указанных веществ будут реагиров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348000" y="2486160"/>
            <a:ext cx="2889360" cy="2925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995640" y="189000"/>
            <a:ext cx="1297080" cy="693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7415280" y="3141720"/>
            <a:ext cx="1728720" cy="673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3924360" y="5979960"/>
            <a:ext cx="1447920" cy="770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"/>
          <p:cNvPicPr/>
          <p:nvPr/>
        </p:nvPicPr>
        <p:blipFill>
          <a:blip r:embed="rId5"/>
          <a:stretch/>
        </p:blipFill>
        <p:spPr>
          <a:xfrm>
            <a:off x="179280" y="3141720"/>
            <a:ext cx="1692360" cy="638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"/>
          <p:cNvPicPr/>
          <p:nvPr/>
        </p:nvPicPr>
        <p:blipFill>
          <a:blip r:embed="rId6"/>
          <a:stretch/>
        </p:blipFill>
        <p:spPr>
          <a:xfrm>
            <a:off x="6877080" y="1125360"/>
            <a:ext cx="1752480" cy="827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7"/>
          <a:stretch/>
        </p:blipFill>
        <p:spPr>
          <a:xfrm>
            <a:off x="711360" y="4941720"/>
            <a:ext cx="1118880" cy="827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/>
          <p:cNvPicPr/>
          <p:nvPr/>
        </p:nvPicPr>
        <p:blipFill>
          <a:blip r:embed="rId8"/>
          <a:stretch/>
        </p:blipFill>
        <p:spPr>
          <a:xfrm>
            <a:off x="7020000" y="5084640"/>
            <a:ext cx="1800000" cy="8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/>
          <p:cNvPicPr/>
          <p:nvPr/>
        </p:nvPicPr>
        <p:blipFill>
          <a:blip r:embed="rId9"/>
          <a:stretch/>
        </p:blipFill>
        <p:spPr>
          <a:xfrm>
            <a:off x="177840" y="1101600"/>
            <a:ext cx="2092320" cy="87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WindowsMediaPlayer1"/>
          <p:cNvGraphicFramePr/>
          <p:nvPr/>
        </p:nvGraphicFramePr>
        <p:xfrm>
          <a:off x="9144000" y="6472080"/>
          <a:ext cx="460440" cy="387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3" name="WindowsMediaPlayer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144000" y="6472080"/>
                    <a:ext cx="4604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рактическое задание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: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условия протекания реакций ионного обмен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ahoma"/>
              </a:rPr>
              <a:t>Правила техники безопасност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69080" cy="37054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250920" y="4638600"/>
            <a:ext cx="4032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а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тушить спиртовку только колпачк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б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зажигать одну спиртовку от другой, передавать спиртовку в зажженном вид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в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пробовать вещества на вкус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г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брать вещества рукам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д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выливать или высып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татки реактивов в склянки и банки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з которых они были взят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716360" y="4869000"/>
            <a:ext cx="4032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е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менять пробки и пипет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 различных банок или склянок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ж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работать только над стол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з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смыть водой, затем нейтрализующим веществом реактив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сли он попал на кожу или одежд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и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собирайте остатки веществ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ециально предназначенную посуд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4320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anchor="t">
            <a:normAutofit fontScale="90000"/>
          </a:bodyPr>
          <a:p>
            <a:pPr marL="548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осад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6156360" y="765000"/>
            <a:ext cx="1154160" cy="50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1" name="Rectangle 4"/>
          <p:cNvSpPr/>
          <p:nvPr/>
        </p:nvSpPr>
        <p:spPr>
          <a:xfrm>
            <a:off x="1476360" y="1397160"/>
            <a:ext cx="61437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1152360" cy="512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3" name="Picture 6" descr=""/>
          <p:cNvPicPr/>
          <p:nvPr/>
        </p:nvPicPr>
        <p:blipFill>
          <a:blip r:embed="rId3"/>
          <a:stretch/>
        </p:blipFill>
        <p:spPr>
          <a:xfrm>
            <a:off x="6924600" y="1557360"/>
            <a:ext cx="1055880" cy="512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4" name="Picture 7" descr=""/>
          <p:cNvPicPr/>
          <p:nvPr/>
        </p:nvPicPr>
        <p:blipFill>
          <a:blip r:embed="rId4"/>
          <a:stretch/>
        </p:blipFill>
        <p:spPr>
          <a:xfrm>
            <a:off x="4140360" y="1557360"/>
            <a:ext cx="1295280" cy="50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5" name="Picture 8" descr=""/>
          <p:cNvPicPr/>
          <p:nvPr/>
        </p:nvPicPr>
        <p:blipFill>
          <a:blip r:embed="rId5"/>
          <a:stretch/>
        </p:blipFill>
        <p:spPr>
          <a:xfrm>
            <a:off x="395280" y="692280"/>
            <a:ext cx="1152360" cy="50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6" name="Picture 9" descr=""/>
          <p:cNvPicPr/>
          <p:nvPr/>
        </p:nvPicPr>
        <p:blipFill>
          <a:blip r:embed="rId6"/>
          <a:stretch/>
        </p:blipFill>
        <p:spPr>
          <a:xfrm>
            <a:off x="3262320" y="765000"/>
            <a:ext cx="1184400" cy="5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7" name="Rectangle 10"/>
          <p:cNvSpPr/>
          <p:nvPr/>
        </p:nvSpPr>
        <p:spPr>
          <a:xfrm>
            <a:off x="0" y="2060640"/>
            <a:ext cx="87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в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11" descr=""/>
          <p:cNvPicPr/>
          <p:nvPr/>
        </p:nvPicPr>
        <p:blipFill>
          <a:blip r:embed="rId7"/>
          <a:stretch/>
        </p:blipFill>
        <p:spPr>
          <a:xfrm>
            <a:off x="5867280" y="3284640"/>
            <a:ext cx="1122480" cy="615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9" name="Picture 12" descr=""/>
          <p:cNvPicPr/>
          <p:nvPr/>
        </p:nvPicPr>
        <p:blipFill>
          <a:blip r:embed="rId8"/>
          <a:stretch/>
        </p:blipFill>
        <p:spPr>
          <a:xfrm>
            <a:off x="1835280" y="3213000"/>
            <a:ext cx="1136520" cy="58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0" name="Picture 13" descr=""/>
          <p:cNvPicPr/>
          <p:nvPr/>
        </p:nvPicPr>
        <p:blipFill>
          <a:blip r:embed="rId9"/>
          <a:stretch/>
        </p:blipFill>
        <p:spPr>
          <a:xfrm>
            <a:off x="4067280" y="2781360"/>
            <a:ext cx="1095120" cy="392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1" name="Rectangle 14"/>
          <p:cNvSpPr/>
          <p:nvPr/>
        </p:nvSpPr>
        <p:spPr>
          <a:xfrm>
            <a:off x="0" y="4149720"/>
            <a:ext cx="87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газ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15" descr=""/>
          <p:cNvPicPr/>
          <p:nvPr/>
        </p:nvPicPr>
        <p:blipFill>
          <a:blip r:embed="rId10"/>
          <a:stretch/>
        </p:blipFill>
        <p:spPr>
          <a:xfrm>
            <a:off x="4140360" y="5661000"/>
            <a:ext cx="873000" cy="42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3" name="Picture 16" descr=""/>
          <p:cNvPicPr/>
          <p:nvPr/>
        </p:nvPicPr>
        <p:blipFill>
          <a:blip r:embed="rId11"/>
          <a:stretch/>
        </p:blipFill>
        <p:spPr>
          <a:xfrm>
            <a:off x="5724360" y="4797360"/>
            <a:ext cx="1276560" cy="5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4" name="Picture 17" descr=""/>
          <p:cNvPicPr/>
          <p:nvPr/>
        </p:nvPicPr>
        <p:blipFill>
          <a:blip r:embed="rId12"/>
          <a:stretch/>
        </p:blipFill>
        <p:spPr>
          <a:xfrm>
            <a:off x="1763640" y="4797360"/>
            <a:ext cx="1184400" cy="52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aphicFrame>
        <p:nvGraphicFramePr>
          <p:cNvPr id="205" name="WindowsMediaPlayer1"/>
          <p:cNvGraphicFramePr/>
          <p:nvPr/>
        </p:nvGraphicFramePr>
        <p:xfrm>
          <a:off x="9144000" y="6629400"/>
          <a:ext cx="314280" cy="22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6" name="WindowsMediaPlayer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144000" y="6629400"/>
                    <a:ext cx="314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371600" y="501300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006 г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9Б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411280" y="59500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843280" y="6021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фрагмента уро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5" descr="1"/>
          <p:cNvPicPr/>
          <p:nvPr/>
        </p:nvPicPr>
        <p:blipFill>
          <a:blip r:embed="rId1"/>
          <a:stretch/>
        </p:blipFill>
        <p:spPr>
          <a:xfrm>
            <a:off x="2771640" y="1773360"/>
            <a:ext cx="3789360" cy="2841480"/>
          </a:xfrm>
          <a:prstGeom prst="rect">
            <a:avLst/>
          </a:prstGeom>
          <a:ln w="0">
            <a:noFill/>
          </a:ln>
        </p:spPr>
      </p:pic>
      <p:sp>
        <p:nvSpPr>
          <p:cNvPr id="211" name="WordArt 6"/>
          <p:cNvSpPr txBox="1"/>
          <p:nvPr/>
        </p:nvSpPr>
        <p:spPr>
          <a:xfrm>
            <a:off x="324000" y="333360"/>
            <a:ext cx="856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ловия протекания реакций ионного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мена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324000" y="1773360"/>
            <a:ext cx="842472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ионного обмена,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 c образованием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орастворимого вещества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выпадение осадка)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835280" y="5661000"/>
            <a:ext cx="5184720" cy="934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P1000948"/>
          <p:cNvPicPr/>
          <p:nvPr/>
        </p:nvPicPr>
        <p:blipFill>
          <a:blip r:embed="rId2"/>
          <a:stretch/>
        </p:blipFill>
        <p:spPr>
          <a:xfrm>
            <a:off x="1116000" y="1843200"/>
            <a:ext cx="2287440" cy="30286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1619280" y="692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5076720" y="692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6" descr="P1000949"/>
          <p:cNvPicPr/>
          <p:nvPr/>
        </p:nvPicPr>
        <p:blipFill>
          <a:blip r:embed="rId3"/>
          <a:stretch/>
        </p:blipFill>
        <p:spPr>
          <a:xfrm>
            <a:off x="5003640" y="1914480"/>
            <a:ext cx="2187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430200" y="1700280"/>
            <a:ext cx="8389800" cy="32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 ионного обмен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, с образование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одиссоциированног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ществ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воды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411280" y="5589720"/>
            <a:ext cx="3888000" cy="1014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P1000950"/>
          <p:cNvPicPr/>
          <p:nvPr/>
        </p:nvPicPr>
        <p:blipFill>
          <a:blip r:embed="rId2"/>
          <a:stretch/>
        </p:blipFill>
        <p:spPr>
          <a:xfrm>
            <a:off x="1258920" y="1986120"/>
            <a:ext cx="2071800" cy="27446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979640" y="836640"/>
            <a:ext cx="280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5219640" y="907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6" descr="P1000951"/>
          <p:cNvPicPr/>
          <p:nvPr/>
        </p:nvPicPr>
        <p:blipFill>
          <a:blip r:embed="rId3"/>
          <a:stretch/>
        </p:blipFill>
        <p:spPr>
          <a:xfrm>
            <a:off x="5292720" y="1986120"/>
            <a:ext cx="2131920" cy="28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ерминология Фараде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faraday"/>
          <p:cNvPicPr/>
          <p:nvPr/>
        </p:nvPicPr>
        <p:blipFill>
          <a:blip r:embed="rId2"/>
          <a:stretch/>
        </p:blipFill>
        <p:spPr>
          <a:xfrm>
            <a:off x="539640" y="4581360"/>
            <a:ext cx="1562040" cy="2076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250920" y="4076640"/>
            <a:ext cx="208764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йкл Фарад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91 -186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623320" y="2708280"/>
            <a:ext cx="606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л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ли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электрическая проницаем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476960" y="1413000"/>
            <a:ext cx="2120760" cy="45972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1833-1834 г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250920" y="2205000"/>
            <a:ext cx="86421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ионного обмена,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 с образованием 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азообразного вещества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1835280" y="5950080"/>
            <a:ext cx="5472000" cy="747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P1000954"/>
          <p:cNvPicPr/>
          <p:nvPr/>
        </p:nvPicPr>
        <p:blipFill>
          <a:blip r:embed="rId2"/>
          <a:stretch/>
        </p:blipFill>
        <p:spPr>
          <a:xfrm>
            <a:off x="1116000" y="1843200"/>
            <a:ext cx="2287440" cy="30286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5796720" y="836640"/>
            <a:ext cx="21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6" descr="P1000955"/>
          <p:cNvPicPr/>
          <p:nvPr/>
        </p:nvPicPr>
        <p:blipFill>
          <a:blip r:embed="rId3"/>
          <a:stretch/>
        </p:blipFill>
        <p:spPr>
          <a:xfrm>
            <a:off x="5651640" y="1843200"/>
            <a:ext cx="224136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4572000" y="1413000"/>
            <a:ext cx="34560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ы 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WordArt 3"/>
          <p:cNvSpPr txBox="1"/>
          <p:nvPr/>
        </p:nvSpPr>
        <p:spPr>
          <a:xfrm>
            <a:off x="2195640" y="5373720"/>
            <a:ext cx="5256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3" name="Picture 5" descr="j0299125"/>
          <p:cNvPicPr/>
          <p:nvPr/>
        </p:nvPicPr>
        <p:blipFill>
          <a:blip r:embed="rId1"/>
          <a:stretch/>
        </p:blipFill>
        <p:spPr>
          <a:xfrm>
            <a:off x="1116000" y="1700280"/>
            <a:ext cx="23763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едыстория открытия ТЭ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4" descr="клаузиус"/>
          <p:cNvPicPr/>
          <p:nvPr/>
        </p:nvPicPr>
        <p:blipFill>
          <a:blip r:embed="rId1"/>
          <a:stretch/>
        </p:blipFill>
        <p:spPr>
          <a:xfrm>
            <a:off x="250920" y="1844640"/>
            <a:ext cx="3124080" cy="4000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755640" y="5877000"/>
            <a:ext cx="211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дольф Клаузиу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419640" y="3068640"/>
            <a:ext cx="54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57 г. Р. Клаузиус создал теорию электропровод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оны образуются в растворе без воздействия т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ория растворов Менделее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Picture 5" descr="mendl"/>
          <p:cNvPicPr/>
          <p:nvPr/>
        </p:nvPicPr>
        <p:blipFill>
          <a:blip r:embed="rId1"/>
          <a:stretch/>
        </p:blipFill>
        <p:spPr>
          <a:xfrm>
            <a:off x="539640" y="1700280"/>
            <a:ext cx="1543320" cy="2401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345960" y="414972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.И. Менделее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834-190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202840" y="1844640"/>
            <a:ext cx="5592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5-188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 цикл работ по изучению раствор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дратная теория раство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611080" y="2708280"/>
            <a:ext cx="38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65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 докторская диссерта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 соединении спирта с водою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905920" y="4653000"/>
            <a:ext cx="5011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учил зависимость плотности от соста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3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ще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53000" y="5013360"/>
            <a:ext cx="24465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6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150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173040" y="5532480"/>
            <a:ext cx="566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889 г. выступил на заседании РФХ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 диссоциации растворенных веществ в воде»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ровергая идеи Аррениу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398320" y="3573360"/>
            <a:ext cx="647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87 г. «Исследование водных раствор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удельному весу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еория электролитической диссоциац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Picture 5" descr="arrhenius-portr"/>
          <p:cNvPicPr/>
          <p:nvPr/>
        </p:nvPicPr>
        <p:blipFill>
          <a:blip r:embed="rId1"/>
          <a:stretch/>
        </p:blipFill>
        <p:spPr>
          <a:xfrm>
            <a:off x="611280" y="1773360"/>
            <a:ext cx="1606320" cy="2016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331560" y="3789360"/>
            <a:ext cx="21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анте Аррениу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859-192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2040" y="1916280"/>
            <a:ext cx="4641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883 г. – защита диссертац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имическая теория электролит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191320" y="2997360"/>
            <a:ext cx="664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олиты в растворе распадаются на ио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 действием молекул полярного растворителя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электролитическая диссоци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216520" y="4208400"/>
            <a:ext cx="57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оны существенно отличаются от атом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астворе ионы движутся хаотич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1988280" y="5013360"/>
            <a:ext cx="747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пропускании через раствор электролита постоян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ического тока ионы перемещаются направленн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тионы к катоду, анионы к анод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11" descr="sau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1773360"/>
            <a:ext cx="2001960" cy="115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219693497"/>
          <p:cNvPicPr/>
          <p:nvPr/>
        </p:nvPicPr>
        <p:blipFill>
          <a:blip r:embed="rId4"/>
          <a:stretch/>
        </p:blipFill>
        <p:spPr>
          <a:xfrm>
            <a:off x="684360" y="4581360"/>
            <a:ext cx="1419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ильные и слабые электролит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29" descr=""/>
          <p:cNvPicPr/>
          <p:nvPr/>
        </p:nvPicPr>
        <p:blipFill>
          <a:blip r:embed="rId1"/>
          <a:stretch/>
        </p:blipFill>
        <p:spPr>
          <a:xfrm>
            <a:off x="2178000" y="3618000"/>
            <a:ext cx="596880" cy="458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1" descr=""/>
          <p:cNvPicPr/>
          <p:nvPr/>
        </p:nvPicPr>
        <p:blipFill>
          <a:blip r:embed="rId2"/>
          <a:stretch/>
        </p:blipFill>
        <p:spPr>
          <a:xfrm>
            <a:off x="6593040" y="2614680"/>
            <a:ext cx="150840" cy="14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1908000" y="1557360"/>
          <a:ext cx="6840720" cy="4319640"/>
        </p:xfrm>
        <a:graphic>
          <a:graphicData uri="http://schemas.openxmlformats.org/drawingml/2006/table">
            <a:tbl>
              <a:tblPr/>
              <a:tblGrid>
                <a:gridCol w="2232360"/>
                <a:gridCol w="2376360"/>
                <a:gridCol w="2232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абые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 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ней силы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%&l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льные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gt;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19"/>
          <p:cNvSpPr/>
          <p:nvPr/>
        </p:nvSpPr>
        <p:spPr>
          <a:xfrm>
            <a:off x="250920" y="3573360"/>
            <a:ext cx="1503360" cy="2014200"/>
          </a:xfrm>
          <a:prstGeom prst="rect">
            <a:avLst/>
          </a:prstGeom>
          <a:noFill/>
          <a:ln w="9360">
            <a:solidFill>
              <a:srgbClr val="505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виси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прир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оли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6630840" y="357336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606000" y="39337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Щело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6676200" y="429264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Cl, HBr, H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6697080" y="4630680"/>
            <a:ext cx="101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6705000" y="5010120"/>
            <a:ext cx="97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6712560" y="5348160"/>
            <a:ext cx="201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H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4269240" y="3860640"/>
            <a:ext cx="1029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1893240" y="3648240"/>
            <a:ext cx="2322000" cy="23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Органические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кислоты,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iO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CN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33" descr=""/>
          <p:cNvPicPr/>
          <p:nvPr/>
        </p:nvPicPr>
        <p:blipFill>
          <a:blip r:embed="rId3"/>
          <a:stretch/>
        </p:blipFill>
        <p:spPr>
          <a:xfrm>
            <a:off x="196920" y="1557360"/>
            <a:ext cx="1584360" cy="123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електр"/>
          <p:cNvPicPr/>
          <p:nvPr/>
        </p:nvPicPr>
        <p:blipFill>
          <a:blip r:embed="rId1"/>
          <a:stretch/>
        </p:blipFill>
        <p:spPr>
          <a:xfrm>
            <a:off x="2170080" y="0"/>
            <a:ext cx="480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словия протекания реакций ионного обме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ел2"/>
          <p:cNvPicPr/>
          <p:nvPr/>
        </p:nvPicPr>
        <p:blipFill>
          <a:blip r:embed="rId1"/>
          <a:stretch/>
        </p:blipFill>
        <p:spPr>
          <a:xfrm>
            <a:off x="468360" y="1332000"/>
            <a:ext cx="822960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оверь свои зн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Line 1"/>
          <p:cNvSpPr/>
          <p:nvPr/>
        </p:nvSpPr>
        <p:spPr>
          <a:xfrm>
            <a:off x="2843280" y="692280"/>
            <a:ext cx="0" cy="5616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2916360" y="765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ряженные части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0" y="765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916360" y="119700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Положительно заряженные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0" y="12700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ат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916360" y="1700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Отрицательно заряженные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0" y="177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Ан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916360" y="227664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Вещества, растворы и расплавы которых проводят электрический 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0" y="24224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916360" y="306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Вещества растворы и расплавы которых не проводят электрический 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0" y="32148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Неэлектроли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2916360" y="393372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Электролиты, в растворах которых все молекулы распались на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0" y="407844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Сильные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843280" y="4941720"/>
            <a:ext cx="61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Вещества частично диссоциирующие на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0" y="49417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Слабые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843280" y="558972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Процесс распада электролитов на ионы при растворении в воде или расплавл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0" y="558972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Электролитическая диссоци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20"/>
          <p:cNvSpPr/>
          <p:nvPr/>
        </p:nvSpPr>
        <p:spPr>
          <a:xfrm>
            <a:off x="0" y="162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23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24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25"/>
          <p:cNvSpPr/>
          <p:nvPr/>
        </p:nvSpPr>
        <p:spPr>
          <a:xfrm>
            <a:off x="0" y="5516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27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16:20:50Z</dcterms:created>
  <dc:creator>KDV</dc:creator>
  <dc:description/>
  <dc:language>en-US</dc:language>
  <cp:lastModifiedBy>LEGION</cp:lastModifiedBy>
  <dcterms:modified xsi:type="dcterms:W3CDTF">2015-03-30T08:18:24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05000000000001023620</vt:lpwstr>
  </property>
</Properties>
</file>