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4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4.wmf" ContentType="image/x-wmf"/>
  <Override PartName="/ppt/media/image22.jpeg" ContentType="image/jpeg"/>
  <Override PartName="/ppt/media/image15.wmf" ContentType="image/x-wmf"/>
  <Override PartName="/ppt/media/image1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30.wmf" ContentType="image/x-wmf"/>
  <Override PartName="/ppt/media/image34.wmf" ContentType="image/x-wmf"/>
  <Override PartName="/ppt/media/image42.jpeg" ContentType="image/jpeg"/>
  <Override PartName="/ppt/media/image9.wmf" ContentType="image/x-wmf"/>
  <Override PartName="/ppt/media/image35.wmf" ContentType="image/x-wmf"/>
  <Override PartName="/ppt/media/image13.wmf" ContentType="image/x-wmf"/>
  <Override PartName="/ppt/media/image39.jpeg" ContentType="image/jpeg"/>
  <Override PartName="/ppt/media/image41.wmf" ContentType="image/x-wmf"/>
  <Override PartName="/ppt/media/image33.wmf" ContentType="image/x-wmf"/>
  <Override PartName="/ppt/media/image28.wmf" ContentType="image/x-wmf"/>
  <Override PartName="/ppt/media/image3.jpeg" ContentType="image/jpeg"/>
  <Override PartName="/ppt/media/image37.jpeg" ContentType="image/jpeg"/>
  <Override PartName="/ppt/media/image40.jpeg" ContentType="image/jpeg"/>
  <Override PartName="/ppt/media/image43.jpeg" ContentType="image/jpeg"/>
  <Override PartName="/ppt/media/image44.wmf" ContentType="image/x-wmf"/>
  <Override PartName="/ppt/media/image32.wmf" ContentType="image/x-wmf"/>
  <Override PartName="/ppt/media/image4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7.jpeg" ContentType="image/jpeg"/>
  <Override PartName="/ppt/media/image31.wmf" ContentType="image/x-wmf"/>
  <Override PartName="/ppt/media/image11.jpeg" ContentType="image/jpeg"/>
  <Override PartName="/ppt/media/image5.jpeg" ContentType="image/jpeg"/>
  <Override PartName="/ppt/media/image20.wmf" ContentType="image/x-wmf"/>
  <Override PartName="/ppt/media/image36.jpeg" ContentType="image/jpeg"/>
  <Override PartName="/ppt/media/image18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EF6D-A4B8-4CD2-8304-0B70E5155C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общающий ур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703-07A7-48A3-9083-F6296D4349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тическая связь между классами неорганических соединений с точки зр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D619-47F2-424B-9D62-5040EBA300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ад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456-F6A7-4999-B8F2-936D2C57B0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авила техники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54F6-E0D1-407A-9B9C-D48A131BDE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кции ионного обмена, протекающие с образованием оса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523A-376B-4AB7-83C9-07F6009E3B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Условия протекания реакций ио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Impact"/>
              </a:rPr>
              <a:t>об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Б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4241-2B57-45DC-86DD-75D06C06C5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c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малораствори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(выпадение ос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CA3-7CFF-48E4-BB44-31FE939CB6B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Реакции 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протекающие, с обра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малодиссоциирова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1800"/>
                </a:solidFill>
                <a:latin typeface="Impact"/>
              </a:rPr>
              <a:t>(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31A-B09B-4306-A577-7AD7567B7E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ология Фарад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6FC3-365E-488D-89FF-6189A40836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Реакции ионного обме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отекающие с образова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газообразн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E588-A63A-4035-AEB7-FF812ADEB5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1B4-99ED-495B-80E8-D6B743C2DE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открытия ТЭ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F0B6-1DE5-4212-8507-7A21E927B5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растворов Менделе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D9C8-A90D-452E-938C-97658100F7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лектролитической диссоц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0127-0BF2-4F62-9B74-BD33AF8FFB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е и слабые электро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92B-4F23-493F-860C-69F45BA2D3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протекания реакций ион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F677-0362-4012-8B71-363C78EBD1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D642-2E17-47BF-A0EA-861ABF8C78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7EC-3D7B-4D54-B21D-03B36A81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CBA-A226-48ED-B51F-7150812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070-1F62-490D-A420-568F9550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B7F-1EFE-4BCA-A4AF-98437582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E53-FF31-4719-94D7-A77101C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E4D-F042-4F27-87BC-E6E8A07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E7A4-E5A5-40A0-A167-6B4DB8D7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DBC2-3D55-4769-A79E-1C64E052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4F01-3CE1-4769-A971-6E6BC06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369B-801D-43E4-8D77-05FB152A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083C-61EF-4778-B173-52C22D1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4F2-427F-4738-8118-87407E7C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B45-07BC-441E-A510-2B6C593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85A-01E8-4F02-8C3A-6C18F27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94D9-A797-470B-81B0-9F4E7BBB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674-669C-4F61-B19B-3923258B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44B6-C021-43B0-9093-56B93888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391-2ACA-4147-A720-859EB03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52A-448B-4643-8092-DE9F1452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510-E1EF-4951-A277-0E7D72D2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5F2-C9FF-43D3-81F1-08B3BD8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399-022C-4AFE-84B2-9A91DF3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0AF-5D03-444F-B23E-A3C885C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993-1964-462B-B69F-D88FFCCD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AE46-3222-42FE-ABE7-2BAE238207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E092-917D-4F19-985B-5FA3D8033A9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3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library.timacad.ru/images/photo/sau05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бобщающий уро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енетическая связь между классами неорганических соединений с точки зрения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Oval 18"/>
          <p:cNvSpPr/>
          <p:nvPr/>
        </p:nvSpPr>
        <p:spPr>
          <a:xfrm>
            <a:off x="1908000" y="981000"/>
            <a:ext cx="5329440" cy="5112000"/>
          </a:xfrm>
          <a:prstGeom prst="ellipse">
            <a:avLst/>
          </a:prstGeom>
          <a:solidFill>
            <a:srgbClr val="f8f8f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40000" y="1484280"/>
            <a:ext cx="4537080" cy="8254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ими из указанных веществ будут реагиров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486160"/>
            <a:ext cx="2889360" cy="292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1297080" cy="69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7415280" y="3141720"/>
            <a:ext cx="1728720" cy="673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3924360" y="5979960"/>
            <a:ext cx="1447920" cy="77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179280" y="3141720"/>
            <a:ext cx="1692360" cy="638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6"/>
          <a:stretch/>
        </p:blipFill>
        <p:spPr>
          <a:xfrm>
            <a:off x="6877080" y="1125360"/>
            <a:ext cx="1752480" cy="827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7"/>
          <a:stretch/>
        </p:blipFill>
        <p:spPr>
          <a:xfrm>
            <a:off x="711360" y="4941720"/>
            <a:ext cx="1118880" cy="827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8"/>
          <a:stretch/>
        </p:blipFill>
        <p:spPr>
          <a:xfrm>
            <a:off x="7020000" y="5084640"/>
            <a:ext cx="1800000" cy="8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9"/>
          <a:stretch/>
        </p:blipFill>
        <p:spPr>
          <a:xfrm>
            <a:off x="177840" y="1101600"/>
            <a:ext cx="2092320" cy="8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WindowsMediaPlayer1"/>
          <p:cNvGraphicFramePr/>
          <p:nvPr/>
        </p:nvGraphicFramePr>
        <p:xfrm>
          <a:off x="9144000" y="6472080"/>
          <a:ext cx="460440" cy="387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WindowsMediaPlayer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44000" y="6472080"/>
                    <a:ext cx="4604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актическое задание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: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ahoma"/>
              </a:rPr>
              <a:t>Правила техники безопас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3705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250920" y="4638600"/>
            <a:ext cx="403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а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тушить спиртовку только колпачк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б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зажигать одну спиртовку от другой, передавать спиртовку в зажженном вид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в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пробовать вещества на вкус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г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брать вещества ру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д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выливать или высы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татки реактивов в склянки и банки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 которых они были взят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4869000"/>
            <a:ext cx="4032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е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запрещается менять пробки и пипет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 различных банок или склянок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ж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аботать только над стол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з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мыть водой, затем нейтрализующим веществом реактив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если он попал на кожу или одежд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и)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обирайте остатки веществ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циально предназначенную посуд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4320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txBody>
          <a:bodyPr anchor="t">
            <a:normAutofit fontScale="90000"/>
          </a:bodyPr>
          <a:p>
            <a:pPr marL="548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осад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115416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Rectangle 4"/>
          <p:cNvSpPr/>
          <p:nvPr/>
        </p:nvSpPr>
        <p:spPr>
          <a:xfrm>
            <a:off x="1476360" y="1397160"/>
            <a:ext cx="61437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115236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6924600" y="1557360"/>
            <a:ext cx="1055880" cy="512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4" name="Picture 7" descr=""/>
          <p:cNvPicPr/>
          <p:nvPr/>
        </p:nvPicPr>
        <p:blipFill>
          <a:blip r:embed="rId4"/>
          <a:stretch/>
        </p:blipFill>
        <p:spPr>
          <a:xfrm>
            <a:off x="4140360" y="1557360"/>
            <a:ext cx="1295280" cy="5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5" name="Picture 8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1152360" cy="50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6" name="Picture 9" descr=""/>
          <p:cNvPicPr/>
          <p:nvPr/>
        </p:nvPicPr>
        <p:blipFill>
          <a:blip r:embed="rId6"/>
          <a:stretch/>
        </p:blipFill>
        <p:spPr>
          <a:xfrm>
            <a:off x="3262320" y="765000"/>
            <a:ext cx="118440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7" name="Rectangle 10"/>
          <p:cNvSpPr/>
          <p:nvPr/>
        </p:nvSpPr>
        <p:spPr>
          <a:xfrm>
            <a:off x="0" y="206064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5867280" y="3284640"/>
            <a:ext cx="1122480" cy="61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9" name="Picture 12" descr=""/>
          <p:cNvPicPr/>
          <p:nvPr/>
        </p:nvPicPr>
        <p:blipFill>
          <a:blip r:embed="rId8"/>
          <a:stretch/>
        </p:blipFill>
        <p:spPr>
          <a:xfrm>
            <a:off x="1835280" y="3213000"/>
            <a:ext cx="1136520" cy="5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0" name="Picture 13" descr=""/>
          <p:cNvPicPr/>
          <p:nvPr/>
        </p:nvPicPr>
        <p:blipFill>
          <a:blip r:embed="rId9"/>
          <a:stretch/>
        </p:blipFill>
        <p:spPr>
          <a:xfrm>
            <a:off x="4067280" y="2781360"/>
            <a:ext cx="1095120" cy="39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1" name="Rectangle 14"/>
          <p:cNvSpPr/>
          <p:nvPr/>
        </p:nvSpPr>
        <p:spPr>
          <a:xfrm>
            <a:off x="0" y="4149720"/>
            <a:ext cx="87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кции ионного обмена, протекающие с образованием г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5" descr=""/>
          <p:cNvPicPr/>
          <p:nvPr/>
        </p:nvPicPr>
        <p:blipFill>
          <a:blip r:embed="rId10"/>
          <a:stretch/>
        </p:blipFill>
        <p:spPr>
          <a:xfrm>
            <a:off x="4140360" y="5661000"/>
            <a:ext cx="873000" cy="42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3" name="Picture 16" descr=""/>
          <p:cNvPicPr/>
          <p:nvPr/>
        </p:nvPicPr>
        <p:blipFill>
          <a:blip r:embed="rId11"/>
          <a:stretch/>
        </p:blipFill>
        <p:spPr>
          <a:xfrm>
            <a:off x="5724360" y="4797360"/>
            <a:ext cx="1276560" cy="5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4" name="Picture 17" descr=""/>
          <p:cNvPicPr/>
          <p:nvPr/>
        </p:nvPicPr>
        <p:blipFill>
          <a:blip r:embed="rId12"/>
          <a:stretch/>
        </p:blipFill>
        <p:spPr>
          <a:xfrm>
            <a:off x="1763640" y="4797360"/>
            <a:ext cx="1184400" cy="5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205" name="WindowsMediaPlayer1"/>
          <p:cNvGraphicFramePr/>
          <p:nvPr/>
        </p:nvGraphicFramePr>
        <p:xfrm>
          <a:off x="9144000" y="6629400"/>
          <a:ext cx="314280" cy="22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" name="WindowsMediaPlayer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144000" y="6629400"/>
                    <a:ext cx="3142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6 г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9Б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41128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43280" y="6021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фрагмента уро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" descr="1"/>
          <p:cNvPicPr/>
          <p:nvPr/>
        </p:nvPicPr>
        <p:blipFill>
          <a:blip r:embed="rId1"/>
          <a:stretch/>
        </p:blipFill>
        <p:spPr>
          <a:xfrm>
            <a:off x="2771640" y="1773360"/>
            <a:ext cx="3789360" cy="28414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6"/>
          <p:cNvSpPr txBox="1"/>
          <p:nvPr/>
        </p:nvSpPr>
        <p:spPr>
          <a:xfrm>
            <a:off x="324000" y="333360"/>
            <a:ext cx="85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ловия протекания реакций ионного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мен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324000" y="1773360"/>
            <a:ext cx="8424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c образованием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растворимого вещества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ыпадение осадка)</a:t>
            </a:r>
            <a:endParaRPr b="0" lang="en-US" sz="20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835280" y="5661000"/>
            <a:ext cx="5184720" cy="93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P1000948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619280" y="692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076720" y="692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6" descr="P1000949"/>
          <p:cNvPicPr/>
          <p:nvPr/>
        </p:nvPicPr>
        <p:blipFill>
          <a:blip r:embed="rId3"/>
          <a:stretch/>
        </p:blipFill>
        <p:spPr>
          <a:xfrm>
            <a:off x="5003640" y="1914480"/>
            <a:ext cx="218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430200" y="1700280"/>
            <a:ext cx="8389800" cy="32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 ионного обмен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, с образование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лодиссоциирован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ществ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e1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воды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e1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5589720"/>
            <a:ext cx="3888000" cy="1014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P1000950"/>
          <p:cNvPicPr/>
          <p:nvPr/>
        </p:nvPicPr>
        <p:blipFill>
          <a:blip r:embed="rId2"/>
          <a:stretch/>
        </p:blipFill>
        <p:spPr>
          <a:xfrm>
            <a:off x="1258920" y="1986120"/>
            <a:ext cx="2071800" cy="2744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79640" y="836640"/>
            <a:ext cx="280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219640" y="907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6" descr="P1000951"/>
          <p:cNvPicPr/>
          <p:nvPr/>
        </p:nvPicPr>
        <p:blipFill>
          <a:blip r:embed="rId3"/>
          <a:stretch/>
        </p:blipFill>
        <p:spPr>
          <a:xfrm>
            <a:off x="5292720" y="1986120"/>
            <a:ext cx="213192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ерминология Фарад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faraday"/>
          <p:cNvPicPr/>
          <p:nvPr/>
        </p:nvPicPr>
        <p:blipFill>
          <a:blip r:embed="rId2"/>
          <a:stretch/>
        </p:blipFill>
        <p:spPr>
          <a:xfrm>
            <a:off x="539640" y="4581360"/>
            <a:ext cx="1562040" cy="2076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250920" y="4076640"/>
            <a:ext cx="208764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91 -186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23320" y="2708280"/>
            <a:ext cx="606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л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электрическая проницае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476960" y="1413000"/>
            <a:ext cx="2120760" cy="45972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1833-1834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250920" y="2205000"/>
            <a:ext cx="86421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акции ионного обмена,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екающие с образованием 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зообразного вещества</a:t>
            </a:r>
            <a:endParaRPr b="0" lang="en-US" sz="2400" spc="1" strike="noStrike">
              <a:ln w="255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1835280" y="5950080"/>
            <a:ext cx="5472000" cy="747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P1000954"/>
          <p:cNvPicPr/>
          <p:nvPr/>
        </p:nvPicPr>
        <p:blipFill>
          <a:blip r:embed="rId2"/>
          <a:stretch/>
        </p:blipFill>
        <p:spPr>
          <a:xfrm>
            <a:off x="1116000" y="1843200"/>
            <a:ext cx="2287440" cy="30286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5796720" y="836640"/>
            <a:ext cx="21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6" descr="P1000955"/>
          <p:cNvPicPr/>
          <p:nvPr/>
        </p:nvPicPr>
        <p:blipFill>
          <a:blip r:embed="rId3"/>
          <a:stretch/>
        </p:blipFill>
        <p:spPr>
          <a:xfrm>
            <a:off x="5651640" y="1843200"/>
            <a:ext cx="2241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4572000" y="1413000"/>
            <a:ext cx="34560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 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2195640" y="5373720"/>
            <a:ext cx="5256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3" name="Picture 5" descr="j0299125"/>
          <p:cNvPicPr/>
          <p:nvPr/>
        </p:nvPicPr>
        <p:blipFill>
          <a:blip r:embed="rId1"/>
          <a:stretch/>
        </p:blipFill>
        <p:spPr>
          <a:xfrm>
            <a:off x="1116000" y="1700280"/>
            <a:ext cx="2376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ыстория открытия ТЭ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клаузиус"/>
          <p:cNvPicPr/>
          <p:nvPr/>
        </p:nvPicPr>
        <p:blipFill>
          <a:blip r:embed="rId1"/>
          <a:stretch/>
        </p:blipFill>
        <p:spPr>
          <a:xfrm>
            <a:off x="250920" y="1844640"/>
            <a:ext cx="3124080" cy="400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55640" y="587700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дольф Клауз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419640" y="3068640"/>
            <a:ext cx="54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57 г. Р. Клаузиус создал теорию электропрово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оны образуются в растворе без воздействия 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ория растворов Менделее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endl"/>
          <p:cNvPicPr/>
          <p:nvPr/>
        </p:nvPicPr>
        <p:blipFill>
          <a:blip r:embed="rId1"/>
          <a:stretch/>
        </p:blipFill>
        <p:spPr>
          <a:xfrm>
            <a:off x="539640" y="1700280"/>
            <a:ext cx="1543320" cy="2401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345960" y="41497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.И. Менделе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34-19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02840" y="1844640"/>
            <a:ext cx="5592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5-188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цикл работ по изучению раство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дратная теория раств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611080" y="2708280"/>
            <a:ext cx="38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6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докторская диссер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соединении спирта с водою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05920" y="4653000"/>
            <a:ext cx="50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учил зависимость плотности от соста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3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53000" y="5013360"/>
            <a:ext cx="24465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6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50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173040" y="553248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9 г. выступил на заседании РФХ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 диссоциации растворенных веществ в воде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ровергая идеи Аррениу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398320" y="3573360"/>
            <a:ext cx="64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87 г. «Исследование водных раствор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удельному весу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еория электролитической диссоци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5" descr="arrhenius-portr"/>
          <p:cNvPicPr/>
          <p:nvPr/>
        </p:nvPicPr>
        <p:blipFill>
          <a:blip r:embed="rId1"/>
          <a:stretch/>
        </p:blipFill>
        <p:spPr>
          <a:xfrm>
            <a:off x="611280" y="1773360"/>
            <a:ext cx="160632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31560" y="378936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анте Аррени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859-192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2040" y="1916280"/>
            <a:ext cx="464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883 г. – защита диссертац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мическая теория электролит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91320" y="2997360"/>
            <a:ext cx="66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ы в растворе распадаются на ио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действием молекул полярного растворителя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электролитическая диссоци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16520" y="4208400"/>
            <a:ext cx="57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 существенно отличаются от атом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створе ионы движутся хаоти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988280" y="5013360"/>
            <a:ext cx="747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опускании через раствор электролита постоя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ического тока ионы перемещаются направлен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тионы к катоду, анионы к ан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11" descr="sau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7080" y="1773360"/>
            <a:ext cx="2001960" cy="115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219693497"/>
          <p:cNvPicPr/>
          <p:nvPr/>
        </p:nvPicPr>
        <p:blipFill>
          <a:blip r:embed="rId4"/>
          <a:stretch/>
        </p:blipFill>
        <p:spPr>
          <a:xfrm>
            <a:off x="684360" y="4581360"/>
            <a:ext cx="1419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ильные и слабые электроли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29" descr=""/>
          <p:cNvPicPr/>
          <p:nvPr/>
        </p:nvPicPr>
        <p:blipFill>
          <a:blip r:embed="rId1"/>
          <a:stretch/>
        </p:blipFill>
        <p:spPr>
          <a:xfrm>
            <a:off x="2178000" y="3618000"/>
            <a:ext cx="596880" cy="45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"/>
          <p:cNvPicPr/>
          <p:nvPr/>
        </p:nvPicPr>
        <p:blipFill>
          <a:blip r:embed="rId2"/>
          <a:stretch/>
        </p:blipFill>
        <p:spPr>
          <a:xfrm>
            <a:off x="6593040" y="2614680"/>
            <a:ext cx="150840" cy="14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908000" y="1557360"/>
          <a:ext cx="6840720" cy="4319640"/>
        </p:xfrm>
        <a:graphic>
          <a:graphicData uri="http://schemas.openxmlformats.org/drawingml/2006/table">
            <a:tbl>
              <a:tblPr/>
              <a:tblGrid>
                <a:gridCol w="2232360"/>
                <a:gridCol w="2376360"/>
                <a:gridCol w="2232000"/>
              </a:tblGrid>
              <a:tr h="20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аб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 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ей силы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%&lt;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льные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9"/>
          <p:cNvSpPr/>
          <p:nvPr/>
        </p:nvSpPr>
        <p:spPr>
          <a:xfrm>
            <a:off x="250920" y="3573360"/>
            <a:ext cx="1503360" cy="2014200"/>
          </a:xfrm>
          <a:prstGeom prst="rect">
            <a:avLst/>
          </a:prstGeom>
          <a:noFill/>
          <a:ln w="9360">
            <a:solidFill>
              <a:srgbClr val="505e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виси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прир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лектроли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6630840" y="357336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606000" y="39337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Щело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676200" y="4292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, HBr, H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6697080" y="4630680"/>
            <a:ext cx="101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6705000" y="5010120"/>
            <a:ext cx="97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712560" y="5348160"/>
            <a:ext cx="20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HCl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4269240" y="3860640"/>
            <a:ext cx="1029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893240" y="3648240"/>
            <a:ext cx="2322000" cy="23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Органическ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кислоты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i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3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HCN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3" descr=""/>
          <p:cNvPicPr/>
          <p:nvPr/>
        </p:nvPicPr>
        <p:blipFill>
          <a:blip r:embed="rId3"/>
          <a:stretch/>
        </p:blipFill>
        <p:spPr>
          <a:xfrm>
            <a:off x="196920" y="1557360"/>
            <a:ext cx="1584360" cy="123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електр"/>
          <p:cNvPicPr/>
          <p:nvPr/>
        </p:nvPicPr>
        <p:blipFill>
          <a:blip r:embed="rId1"/>
          <a:stretch/>
        </p:blipFill>
        <p:spPr>
          <a:xfrm>
            <a:off x="2170080" y="0"/>
            <a:ext cx="480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Условия протекания реакций ионного обме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ел2"/>
          <p:cNvPicPr/>
          <p:nvPr/>
        </p:nvPicPr>
        <p:blipFill>
          <a:blip r:embed="rId1"/>
          <a:stretch/>
        </p:blipFill>
        <p:spPr>
          <a:xfrm>
            <a:off x="468360" y="1332000"/>
            <a:ext cx="822960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вои зн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Line 1"/>
          <p:cNvSpPr/>
          <p:nvPr/>
        </p:nvSpPr>
        <p:spPr>
          <a:xfrm>
            <a:off x="2843280" y="692280"/>
            <a:ext cx="0" cy="561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916360" y="765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ряженные час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765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16360" y="119700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Положи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0" y="12700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916360" y="1700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Отрицательно заряженные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Ан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916360" y="227664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Вещества, растворы и расплавы которых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0" y="24224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916360" y="306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Вещества растворы и расплавы которых не проводят электрический 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0" y="3214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Неэлектроли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2916360" y="3933720"/>
            <a:ext cx="62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Электролиты, в растворах которых все молекулы распались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0" y="40784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ильн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843280" y="494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ещества частично диссоциирующие на и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0" y="49417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Слабые электроли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843280" y="5589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роцесс распада электролитов на ионы при растворении в воде или расплавл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0" y="55897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Электролитическая диссоци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0" y="3860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0" y="5516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27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6:20:50Z</dcterms:created>
  <dc:creator>KDV</dc:creator>
  <dc:description/>
  <dc:language>en-US</dc:language>
  <cp:lastModifiedBy>LEGION</cp:lastModifiedBy>
  <dcterms:modified xsi:type="dcterms:W3CDTF">2015-03-30T08:18:2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3620</vt:lpwstr>
  </property>
</Properties>
</file>