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46.jpeg" ContentType="image/jpeg"/>
  <Override PartName="/ppt/media/image24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45.jpeg" ContentType="image/jpeg"/>
  <Override PartName="/ppt/media/image14.wmf" ContentType="image/x-wmf"/>
  <Override PartName="/ppt/media/image22.jpeg" ContentType="image/jpeg"/>
  <Override PartName="/ppt/media/image15.wmf" ContentType="image/x-wmf"/>
  <Override PartName="/ppt/media/image1.jpeg" ContentType="image/jpeg"/>
  <Override PartName="/ppt/media/image25.wmf" ContentType="image/x-wmf"/>
  <Override PartName="/ppt/media/image23.jpeg" ContentType="image/jpeg"/>
  <Override PartName="/ppt/media/image12.png" ContentType="image/png"/>
  <Override PartName="/ppt/media/image30.wmf" ContentType="image/x-wmf"/>
  <Override PartName="/ppt/media/image34.wmf" ContentType="image/x-wmf"/>
  <Override PartName="/ppt/media/image42.jpeg" ContentType="image/jpeg"/>
  <Override PartName="/ppt/media/image9.wmf" ContentType="image/x-wmf"/>
  <Override PartName="/ppt/media/image35.wmf" ContentType="image/x-wmf"/>
  <Override PartName="/ppt/media/image13.wmf" ContentType="image/x-wmf"/>
  <Override PartName="/ppt/media/image39.jpeg" ContentType="image/jpeg"/>
  <Override PartName="/ppt/media/image41.wmf" ContentType="image/x-wmf"/>
  <Override PartName="/ppt/media/image33.wmf" ContentType="image/x-wmf"/>
  <Override PartName="/ppt/media/image28.wmf" ContentType="image/x-wmf"/>
  <Override PartName="/ppt/media/image3.jpeg" ContentType="image/jpeg"/>
  <Override PartName="/ppt/media/image37.jpeg" ContentType="image/jpeg"/>
  <Override PartName="/ppt/media/image40.jpeg" ContentType="image/jpeg"/>
  <Override PartName="/ppt/media/image43.jpeg" ContentType="image/jpeg"/>
  <Override PartName="/ppt/media/image44.wmf" ContentType="image/x-wmf"/>
  <Override PartName="/ppt/media/image32.wmf" ContentType="image/x-wmf"/>
  <Override PartName="/ppt/media/image47.wmf" ContentType="image/x-wmf"/>
  <Override PartName="/ppt/media/image10.wmf" ContentType="image/x-wmf"/>
  <Override PartName="/ppt/media/image8.wmf" ContentType="image/x-wmf"/>
  <Override PartName="/ppt/media/image4.jpeg" ContentType="image/jpeg"/>
  <Override PartName="/ppt/media/image38.wmf" ContentType="image/x-wmf"/>
  <Override PartName="/ppt/media/image7.jpeg" ContentType="image/jpeg"/>
  <Override PartName="/ppt/media/image31.wmf" ContentType="image/x-wmf"/>
  <Override PartName="/ppt/media/image11.jpeg" ContentType="image/jpeg"/>
  <Override PartName="/ppt/media/image5.jpeg" ContentType="image/jpeg"/>
  <Override PartName="/ppt/media/image20.wmf" ContentType="image/x-wmf"/>
  <Override PartName="/ppt/media/image36.jpeg" ContentType="image/jpeg"/>
  <Override PartName="/ppt/media/image18.wmf" ContentType="image/x-wmf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AD50-C352-47BA-98BC-124C090883A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электролитической диссоци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бобщающий уро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ACF4-E484-476F-B0DC-E91FCA32696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тическая связь между классами неорганических соединений с точки зр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Э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24FF-55CA-40F1-BD96-6865EA82634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адани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протекания реакций ионног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AD2E-16C3-445C-8136-ECA05A12E67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авила техники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20C8-77BF-43B7-8F2D-B56DB1E1AA3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акции ионного обмена, протекающие с образованием осад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F5C0-318F-4AA2-89B7-A5B71BD3B8F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Impact"/>
              </a:rPr>
              <a:t>Условия протекания реакций ио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Impact"/>
              </a:rPr>
              <a:t>обме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6 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Б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8B51-3E50-40F0-AD51-54BE7A04F29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Реакции ионного обме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протекающие c образов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малорастворимого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(выпадение осад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9230-47BA-4367-94FE-E401B42C292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1800"/>
                </a:solidFill>
                <a:latin typeface="Impact"/>
              </a:rPr>
              <a:t>Реакции  ионног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1800"/>
                </a:solidFill>
                <a:latin typeface="Impact"/>
              </a:rPr>
              <a:t>протекающие, с образов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1800"/>
                </a:solidFill>
                <a:latin typeface="Impact"/>
              </a:rPr>
              <a:t>малодиссоциирова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1800"/>
                </a:solidFill>
                <a:latin typeface="Impact"/>
              </a:rPr>
              <a:t>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1800"/>
                </a:solidFill>
                <a:latin typeface="Impact"/>
              </a:rPr>
              <a:t>(во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E54B-B987-4960-AB1E-1109B05D0E1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ология Фараде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4570-01C7-4416-BE7A-6404FF772FC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Реакции ионного обме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протекающие с образова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газообразного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2C9C-7D6B-4501-AB6A-AA7874ABBE8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B8BF-FFC2-4D71-B187-5325A7592C8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ыстория открытия ТЭ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2334-7C6B-406D-BED9-1E5C31394B4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растворов Менделе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0D50-684F-40DD-8927-313948F092E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электролитической диссоци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0DCB-C193-4DAD-ACFD-7930DC82155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ые и слабые электрол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82D3-2337-4381-B7B7-1E1AA82E085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протекания реакций ионног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9161-40D5-4CCC-B0DF-4C53EC211AC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 свои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9435-76E3-44F0-A329-1CC6409A5B4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3524-EBFC-4C6B-A826-ECC7ECAA4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2549-3B5C-42E9-B45D-D7E554E5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D2DB-1FC6-44D5-B7BF-A32FC05C0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999E-61AB-49DC-84DC-F81C1D2BA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3259-4D18-40F5-BB65-13C808073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AAAD-5C1B-4BCA-88E2-19493F4E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244E-595E-4CE9-9301-4B8C21AB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D0B9-21BD-4D78-8992-4DC9D632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0F38-C0B3-41C8-B085-CD84B5B8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C0A0-64D0-4617-913D-82E2B49B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B84D-8173-4EC9-8810-18DF7E63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FE3D-0B0F-4468-A6DB-1F14FADB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275C-1179-4BAB-B505-B6DB3A41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1658-9FB2-4A3A-9042-DE9797D8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93C6-7B2A-485C-B7F1-5E9F3DD0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436B-4C65-4AD8-8EE0-AA7366714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F7C5-01BA-4672-A20F-9D123A83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42F1-1BAB-4A5D-9EE4-B2B19399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DEDC-5468-4391-8CA3-D0384FFA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3F33-A621-4B76-AB36-4FB89227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6E23-1DD0-44C3-A87F-8CB92DF6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182D-1B0D-48C3-B335-D48F9BC2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19CC-3A77-4CB9-82C1-F27C29A2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8A64-7D41-4A8D-B81B-5AD0D97D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3A42-6123-483B-B194-FEB1484AACF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39D8-6A28-4C3C-BB5E-DF898E46125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image" Target="../media/image30.wmf"/><Relationship Id="rId8" Type="http://schemas.openxmlformats.org/officeDocument/2006/relationships/image" Target="../media/image31.wmf"/><Relationship Id="rId9" Type="http://schemas.openxmlformats.org/officeDocument/2006/relationships/image" Target="../media/image32.wmf"/><Relationship Id="rId10" Type="http://schemas.openxmlformats.org/officeDocument/2006/relationships/image" Target="../media/image33.wmf"/><Relationship Id="rId11" Type="http://schemas.openxmlformats.org/officeDocument/2006/relationships/image" Target="../media/image34.wmf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36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library.timacad.ru/images/photo/sau05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Теория электролитической диссоциации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обобщающий урок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39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Генетическая связь между классами неорганических соединений с точки зрения 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Э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Oval 18"/>
          <p:cNvSpPr/>
          <p:nvPr/>
        </p:nvSpPr>
        <p:spPr>
          <a:xfrm>
            <a:off x="1908000" y="981000"/>
            <a:ext cx="5329440" cy="5112000"/>
          </a:xfrm>
          <a:prstGeom prst="ellipse">
            <a:avLst/>
          </a:prstGeom>
          <a:solidFill>
            <a:srgbClr val="f8f8f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2340000" y="1484280"/>
            <a:ext cx="4537080" cy="82548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акими из указанных веществ будут реагирова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3348000" y="2486160"/>
            <a:ext cx="2889360" cy="2925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995640" y="189000"/>
            <a:ext cx="1297080" cy="693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7415280" y="3141720"/>
            <a:ext cx="1728720" cy="673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"/>
          <p:cNvPicPr/>
          <p:nvPr/>
        </p:nvPicPr>
        <p:blipFill>
          <a:blip r:embed="rId4"/>
          <a:stretch/>
        </p:blipFill>
        <p:spPr>
          <a:xfrm>
            <a:off x="3924360" y="5979960"/>
            <a:ext cx="1447920" cy="770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"/>
          <p:cNvPicPr/>
          <p:nvPr/>
        </p:nvPicPr>
        <p:blipFill>
          <a:blip r:embed="rId5"/>
          <a:stretch/>
        </p:blipFill>
        <p:spPr>
          <a:xfrm>
            <a:off x="179280" y="3141720"/>
            <a:ext cx="1692360" cy="638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"/>
          <p:cNvPicPr/>
          <p:nvPr/>
        </p:nvPicPr>
        <p:blipFill>
          <a:blip r:embed="rId6"/>
          <a:stretch/>
        </p:blipFill>
        <p:spPr>
          <a:xfrm>
            <a:off x="6877080" y="1125360"/>
            <a:ext cx="1752480" cy="827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"/>
          <p:cNvPicPr/>
          <p:nvPr/>
        </p:nvPicPr>
        <p:blipFill>
          <a:blip r:embed="rId7"/>
          <a:stretch/>
        </p:blipFill>
        <p:spPr>
          <a:xfrm>
            <a:off x="711360" y="4941720"/>
            <a:ext cx="1118880" cy="827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"/>
          <p:cNvPicPr/>
          <p:nvPr/>
        </p:nvPicPr>
        <p:blipFill>
          <a:blip r:embed="rId8"/>
          <a:stretch/>
        </p:blipFill>
        <p:spPr>
          <a:xfrm>
            <a:off x="7020000" y="5084640"/>
            <a:ext cx="1800000" cy="8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"/>
          <p:cNvPicPr/>
          <p:nvPr/>
        </p:nvPicPr>
        <p:blipFill>
          <a:blip r:embed="rId9"/>
          <a:stretch/>
        </p:blipFill>
        <p:spPr>
          <a:xfrm>
            <a:off x="177840" y="1101600"/>
            <a:ext cx="2092320" cy="87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WindowsMediaPlayer1"/>
          <p:cNvGraphicFramePr/>
          <p:nvPr/>
        </p:nvGraphicFramePr>
        <p:xfrm>
          <a:off x="9144000" y="6472080"/>
          <a:ext cx="460440" cy="387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83" name="WindowsMediaPlayer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144000" y="6472080"/>
                    <a:ext cx="46044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227664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Практическое задание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: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условия протекания реакций ионного обмен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ahoma"/>
              </a:rPr>
              <a:t>Правила техники безопасност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569080" cy="37054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250920" y="4638600"/>
            <a:ext cx="40320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а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тушить спиртовку только колпачком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б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запрещается зажигать одну спиртовку от другой, передавать спиртовку в зажженном вид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в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запрещается пробовать вещества на вкус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г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запрещается брать вещества рукам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д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запрещается выливать или высыпа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статки реактивов в склянки и банки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з которых они были взяты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4716360" y="4869000"/>
            <a:ext cx="4032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е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запрещается менять пробки и пипетк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т различных банок или склянок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ж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работать только над столом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з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смыть водой, затем нейтрализующим веществом реактив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если он попал на кожу или одежду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и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собирайте остатки веществ 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пециально предназначенную посуд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4320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txBody>
          <a:bodyPr anchor="t">
            <a:normAutofit fontScale="90000"/>
          </a:bodyPr>
          <a:p>
            <a:pPr marL="548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акции ионного обмена, протекающие с образованием осад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8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6156360" y="765000"/>
            <a:ext cx="1154160" cy="506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1" name="Rectangle 4"/>
          <p:cNvSpPr/>
          <p:nvPr/>
        </p:nvSpPr>
        <p:spPr>
          <a:xfrm>
            <a:off x="1476360" y="1397160"/>
            <a:ext cx="614376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1116000" y="1484280"/>
            <a:ext cx="1152360" cy="512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3" name="Picture 6" descr=""/>
          <p:cNvPicPr/>
          <p:nvPr/>
        </p:nvPicPr>
        <p:blipFill>
          <a:blip r:embed="rId3"/>
          <a:stretch/>
        </p:blipFill>
        <p:spPr>
          <a:xfrm>
            <a:off x="6924600" y="1557360"/>
            <a:ext cx="1055880" cy="512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4" name="Picture 7" descr=""/>
          <p:cNvPicPr/>
          <p:nvPr/>
        </p:nvPicPr>
        <p:blipFill>
          <a:blip r:embed="rId4"/>
          <a:stretch/>
        </p:blipFill>
        <p:spPr>
          <a:xfrm>
            <a:off x="4140360" y="1557360"/>
            <a:ext cx="1295280" cy="506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5" name="Picture 8" descr=""/>
          <p:cNvPicPr/>
          <p:nvPr/>
        </p:nvPicPr>
        <p:blipFill>
          <a:blip r:embed="rId5"/>
          <a:stretch/>
        </p:blipFill>
        <p:spPr>
          <a:xfrm>
            <a:off x="395280" y="692280"/>
            <a:ext cx="1152360" cy="500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6" name="Picture 9" descr=""/>
          <p:cNvPicPr/>
          <p:nvPr/>
        </p:nvPicPr>
        <p:blipFill>
          <a:blip r:embed="rId6"/>
          <a:stretch/>
        </p:blipFill>
        <p:spPr>
          <a:xfrm>
            <a:off x="3262320" y="765000"/>
            <a:ext cx="1184400" cy="503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7" name="Rectangle 10"/>
          <p:cNvSpPr/>
          <p:nvPr/>
        </p:nvSpPr>
        <p:spPr>
          <a:xfrm>
            <a:off x="0" y="2060640"/>
            <a:ext cx="878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акции ионного обмена, протекающие с образованием во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11" descr=""/>
          <p:cNvPicPr/>
          <p:nvPr/>
        </p:nvPicPr>
        <p:blipFill>
          <a:blip r:embed="rId7"/>
          <a:stretch/>
        </p:blipFill>
        <p:spPr>
          <a:xfrm>
            <a:off x="5867280" y="3284640"/>
            <a:ext cx="1122480" cy="615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9" name="Picture 12" descr=""/>
          <p:cNvPicPr/>
          <p:nvPr/>
        </p:nvPicPr>
        <p:blipFill>
          <a:blip r:embed="rId8"/>
          <a:stretch/>
        </p:blipFill>
        <p:spPr>
          <a:xfrm>
            <a:off x="1835280" y="3213000"/>
            <a:ext cx="1136520" cy="584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0" name="Picture 13" descr=""/>
          <p:cNvPicPr/>
          <p:nvPr/>
        </p:nvPicPr>
        <p:blipFill>
          <a:blip r:embed="rId9"/>
          <a:stretch/>
        </p:blipFill>
        <p:spPr>
          <a:xfrm>
            <a:off x="4067280" y="2781360"/>
            <a:ext cx="1095120" cy="392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1" name="Rectangle 14"/>
          <p:cNvSpPr/>
          <p:nvPr/>
        </p:nvSpPr>
        <p:spPr>
          <a:xfrm>
            <a:off x="0" y="4149720"/>
            <a:ext cx="878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акции ионного обмена, протекающие с образованием газ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15" descr=""/>
          <p:cNvPicPr/>
          <p:nvPr/>
        </p:nvPicPr>
        <p:blipFill>
          <a:blip r:embed="rId10"/>
          <a:stretch/>
        </p:blipFill>
        <p:spPr>
          <a:xfrm>
            <a:off x="4140360" y="5661000"/>
            <a:ext cx="873000" cy="422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3" name="Picture 16" descr=""/>
          <p:cNvPicPr/>
          <p:nvPr/>
        </p:nvPicPr>
        <p:blipFill>
          <a:blip r:embed="rId11"/>
          <a:stretch/>
        </p:blipFill>
        <p:spPr>
          <a:xfrm>
            <a:off x="5724360" y="4797360"/>
            <a:ext cx="1276560" cy="503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4" name="Picture 17" descr=""/>
          <p:cNvPicPr/>
          <p:nvPr/>
        </p:nvPicPr>
        <p:blipFill>
          <a:blip r:embed="rId12"/>
          <a:stretch/>
        </p:blipFill>
        <p:spPr>
          <a:xfrm>
            <a:off x="1763640" y="4797360"/>
            <a:ext cx="1184400" cy="528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aphicFrame>
        <p:nvGraphicFramePr>
          <p:cNvPr id="205" name="WindowsMediaPlayer1"/>
          <p:cNvGraphicFramePr/>
          <p:nvPr/>
        </p:nvGraphicFramePr>
        <p:xfrm>
          <a:off x="9144000" y="6629400"/>
          <a:ext cx="314280" cy="228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6" name="WindowsMediaPlayer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144000" y="6629400"/>
                    <a:ext cx="3142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371600" y="5013000"/>
            <a:ext cx="640080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006 г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9Б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411280" y="595008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843280" y="6021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 фрагмента уро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5" descr="1"/>
          <p:cNvPicPr/>
          <p:nvPr/>
        </p:nvPicPr>
        <p:blipFill>
          <a:blip r:embed="rId1"/>
          <a:stretch/>
        </p:blipFill>
        <p:spPr>
          <a:xfrm>
            <a:off x="2771640" y="1773360"/>
            <a:ext cx="3789360" cy="2841480"/>
          </a:xfrm>
          <a:prstGeom prst="rect">
            <a:avLst/>
          </a:prstGeom>
          <a:ln w="0">
            <a:noFill/>
          </a:ln>
        </p:spPr>
      </p:pic>
      <p:sp>
        <p:nvSpPr>
          <p:cNvPr id="211" name="WordArt 6"/>
          <p:cNvSpPr txBox="1"/>
          <p:nvPr/>
        </p:nvSpPr>
        <p:spPr>
          <a:xfrm>
            <a:off x="324000" y="333360"/>
            <a:ext cx="856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ловия протекания реакций ионного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мена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2"/>
          <p:cNvSpPr txBox="1"/>
          <p:nvPr/>
        </p:nvSpPr>
        <p:spPr>
          <a:xfrm>
            <a:off x="324000" y="1773360"/>
            <a:ext cx="842472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акции ионного обмена,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текающие c образованием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лорастворимого вещества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выпадение осадка)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835280" y="5661000"/>
            <a:ext cx="5184720" cy="934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P1000948"/>
          <p:cNvPicPr/>
          <p:nvPr/>
        </p:nvPicPr>
        <p:blipFill>
          <a:blip r:embed="rId2"/>
          <a:stretch/>
        </p:blipFill>
        <p:spPr>
          <a:xfrm>
            <a:off x="1116000" y="1843200"/>
            <a:ext cx="2287440" cy="30286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1619280" y="69228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О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5076720" y="692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Л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6" descr="P1000949"/>
          <p:cNvPicPr/>
          <p:nvPr/>
        </p:nvPicPr>
        <p:blipFill>
          <a:blip r:embed="rId3"/>
          <a:stretch/>
        </p:blipFill>
        <p:spPr>
          <a:xfrm>
            <a:off x="5003640" y="1914480"/>
            <a:ext cx="2187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2"/>
          <p:cNvSpPr txBox="1"/>
          <p:nvPr/>
        </p:nvSpPr>
        <p:spPr>
          <a:xfrm>
            <a:off x="430200" y="1700280"/>
            <a:ext cx="8389800" cy="32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e1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акции  ионного обмен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e1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e1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текающие, с образование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e1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e1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лодиссоциированного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e1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e1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ществ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e1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e1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воды)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e1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2411280" y="5589720"/>
            <a:ext cx="3888000" cy="1014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P1000950"/>
          <p:cNvPicPr/>
          <p:nvPr/>
        </p:nvPicPr>
        <p:blipFill>
          <a:blip r:embed="rId2"/>
          <a:stretch/>
        </p:blipFill>
        <p:spPr>
          <a:xfrm>
            <a:off x="1258920" y="1986120"/>
            <a:ext cx="2071800" cy="27446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"/>
          <p:cNvSpPr/>
          <p:nvPr/>
        </p:nvSpPr>
        <p:spPr>
          <a:xfrm>
            <a:off x="1979640" y="836640"/>
            <a:ext cx="2808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5219640" y="9079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Л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6" descr="P1000951"/>
          <p:cNvPicPr/>
          <p:nvPr/>
        </p:nvPicPr>
        <p:blipFill>
          <a:blip r:embed="rId3"/>
          <a:stretch/>
        </p:blipFill>
        <p:spPr>
          <a:xfrm>
            <a:off x="5292720" y="1986120"/>
            <a:ext cx="2131920" cy="28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ерминология Фараде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1828800" cy="2743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faraday"/>
          <p:cNvPicPr/>
          <p:nvPr/>
        </p:nvPicPr>
        <p:blipFill>
          <a:blip r:embed="rId2"/>
          <a:stretch/>
        </p:blipFill>
        <p:spPr>
          <a:xfrm>
            <a:off x="539640" y="4581360"/>
            <a:ext cx="1562040" cy="20764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250920" y="4076640"/>
            <a:ext cx="208764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йкл Фарад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791 -1867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2623320" y="2708280"/>
            <a:ext cx="606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ти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и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ктроли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т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ктроли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электрическая проницаем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4476960" y="1413000"/>
            <a:ext cx="2120760" cy="459720"/>
          </a:xfrm>
          <a:prstGeom prst="rect">
            <a:avLst/>
          </a:prstGeom>
          <a:noFill/>
          <a:ln w="9360">
            <a:solidFill>
              <a:srgbClr val="8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1833-1834 г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2"/>
          <p:cNvSpPr txBox="1"/>
          <p:nvPr/>
        </p:nvSpPr>
        <p:spPr>
          <a:xfrm>
            <a:off x="250920" y="2205000"/>
            <a:ext cx="86421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акции ионного обмена,</a:t>
            </a:r>
            <a:endParaRPr b="0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текающие с образованием </a:t>
            </a:r>
            <a:endParaRPr b="0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азообразного вещества</a:t>
            </a:r>
            <a:endParaRPr b="0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1835280" y="5950080"/>
            <a:ext cx="5472000" cy="747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P1000954"/>
          <p:cNvPicPr/>
          <p:nvPr/>
        </p:nvPicPr>
        <p:blipFill>
          <a:blip r:embed="rId2"/>
          <a:stretch/>
        </p:blipFill>
        <p:spPr>
          <a:xfrm>
            <a:off x="1116000" y="1843200"/>
            <a:ext cx="2287440" cy="30286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5"/>
          <p:cNvSpPr/>
          <p:nvPr/>
        </p:nvSpPr>
        <p:spPr>
          <a:xfrm>
            <a:off x="5796720" y="836640"/>
            <a:ext cx="216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Л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Picture 6" descr="P1000955"/>
          <p:cNvPicPr/>
          <p:nvPr/>
        </p:nvPicPr>
        <p:blipFill>
          <a:blip r:embed="rId3"/>
          <a:stretch/>
        </p:blipFill>
        <p:spPr>
          <a:xfrm>
            <a:off x="5651640" y="1843200"/>
            <a:ext cx="224136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2"/>
          <p:cNvSpPr txBox="1"/>
          <p:nvPr/>
        </p:nvSpPr>
        <p:spPr>
          <a:xfrm>
            <a:off x="4572000" y="1413000"/>
            <a:ext cx="345600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ы молодц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Р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1" name="WordArt 3"/>
          <p:cNvSpPr txBox="1"/>
          <p:nvPr/>
        </p:nvSpPr>
        <p:spPr>
          <a:xfrm>
            <a:off x="2195640" y="5373720"/>
            <a:ext cx="525600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33" name="Picture 5" descr="j0299125"/>
          <p:cNvPicPr/>
          <p:nvPr/>
        </p:nvPicPr>
        <p:blipFill>
          <a:blip r:embed="rId1"/>
          <a:stretch/>
        </p:blipFill>
        <p:spPr>
          <a:xfrm>
            <a:off x="1116000" y="1700280"/>
            <a:ext cx="237636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едыстория открытия ТЭ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Picture 4" descr="клаузиус"/>
          <p:cNvPicPr/>
          <p:nvPr/>
        </p:nvPicPr>
        <p:blipFill>
          <a:blip r:embed="rId1"/>
          <a:stretch/>
        </p:blipFill>
        <p:spPr>
          <a:xfrm>
            <a:off x="250920" y="1844640"/>
            <a:ext cx="3124080" cy="40006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755640" y="5877000"/>
            <a:ext cx="211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удольф Клаузиу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419640" y="3068640"/>
            <a:ext cx="54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857 г. Р. Клаузиус создал теорию электропровод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оны образуются в растворе без воздействия то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еория растворов Менделее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8" name="Picture 5" descr="mendl"/>
          <p:cNvPicPr/>
          <p:nvPr/>
        </p:nvPicPr>
        <p:blipFill>
          <a:blip r:embed="rId1"/>
          <a:stretch/>
        </p:blipFill>
        <p:spPr>
          <a:xfrm>
            <a:off x="539640" y="1700280"/>
            <a:ext cx="1543320" cy="24019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345960" y="414972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.И. Менделее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834-1907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202840" y="1844640"/>
            <a:ext cx="5592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8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5-1887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. цикл работ по изучению раствор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идратная теория раство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2611080" y="2708280"/>
            <a:ext cx="38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865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. докторская диссертац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О соединении спирта с водою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2905920" y="4653000"/>
            <a:ext cx="5011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учил зависимость плотности от состав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33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щест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53000" y="5013360"/>
            <a:ext cx="244656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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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6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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150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3173040" y="5532480"/>
            <a:ext cx="566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889 г. выступил на заседании РФХ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О диссоциации растворенных веществ в воде»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провергая идеи Аррениус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2398320" y="3573360"/>
            <a:ext cx="647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887 г. «Исследование водных раствор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удельному весу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8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еория электролитической диссоциац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7" name="Picture 5" descr="arrhenius-portr"/>
          <p:cNvPicPr/>
          <p:nvPr/>
        </p:nvPicPr>
        <p:blipFill>
          <a:blip r:embed="rId1"/>
          <a:stretch/>
        </p:blipFill>
        <p:spPr>
          <a:xfrm>
            <a:off x="611280" y="1773360"/>
            <a:ext cx="1606320" cy="2016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331560" y="3789360"/>
            <a:ext cx="21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анте Аррениу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859-1927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282040" y="1916280"/>
            <a:ext cx="4641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883 г. – защита диссертаци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имическая теория электролито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191320" y="2997360"/>
            <a:ext cx="664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лектролиты в растворе распадаются на ион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 действием молекул полярного растворителя –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электролитическая диссоци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2216520" y="4208400"/>
            <a:ext cx="57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оны существенно отличаются от атом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растворе ионы движутся хаотичн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1988280" y="5013360"/>
            <a:ext cx="747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пропускании через раствор электролита постоянн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лектрического тока ионы перемещаются направленно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тионы к катоду, анионы к анод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11" descr="sau0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77080" y="1773360"/>
            <a:ext cx="2001960" cy="1152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219693497"/>
          <p:cNvPicPr/>
          <p:nvPr/>
        </p:nvPicPr>
        <p:blipFill>
          <a:blip r:embed="rId4"/>
          <a:stretch/>
        </p:blipFill>
        <p:spPr>
          <a:xfrm>
            <a:off x="684360" y="4581360"/>
            <a:ext cx="1419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ильные и слабые электролит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6" name="Picture 29" descr=""/>
          <p:cNvPicPr/>
          <p:nvPr/>
        </p:nvPicPr>
        <p:blipFill>
          <a:blip r:embed="rId1"/>
          <a:stretch/>
        </p:blipFill>
        <p:spPr>
          <a:xfrm>
            <a:off x="2178000" y="3618000"/>
            <a:ext cx="596880" cy="458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1" descr=""/>
          <p:cNvPicPr/>
          <p:nvPr/>
        </p:nvPicPr>
        <p:blipFill>
          <a:blip r:embed="rId2"/>
          <a:stretch/>
        </p:blipFill>
        <p:spPr>
          <a:xfrm>
            <a:off x="6593040" y="2614680"/>
            <a:ext cx="150840" cy="14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1908000" y="1557360"/>
          <a:ext cx="6840720" cy="4319640"/>
        </p:xfrm>
        <a:graphic>
          <a:graphicData uri="http://schemas.openxmlformats.org/drawingml/2006/table">
            <a:tbl>
              <a:tblPr/>
              <a:tblGrid>
                <a:gridCol w="2232360"/>
                <a:gridCol w="2376360"/>
                <a:gridCol w="2232000"/>
              </a:tblGrid>
              <a:tr h="20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абые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lt; 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редней силы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%&lt;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lt;3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ильные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gt;3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 Box 19"/>
          <p:cNvSpPr/>
          <p:nvPr/>
        </p:nvSpPr>
        <p:spPr>
          <a:xfrm>
            <a:off x="250920" y="3573360"/>
            <a:ext cx="1503360" cy="2014200"/>
          </a:xfrm>
          <a:prstGeom prst="rect">
            <a:avLst/>
          </a:prstGeom>
          <a:noFill/>
          <a:ln w="9360">
            <a:solidFill>
              <a:srgbClr val="505e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висит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 приро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лектроли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21"/>
          <p:cNvSpPr/>
          <p:nvPr/>
        </p:nvSpPr>
        <p:spPr>
          <a:xfrm>
            <a:off x="6630840" y="3573360"/>
            <a:ext cx="9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6606000" y="39337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Щелоч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6676200" y="4292640"/>
            <a:ext cx="18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Cl, HBr, H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6697080" y="4630680"/>
            <a:ext cx="101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6705000" y="5010120"/>
            <a:ext cx="975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26"/>
          <p:cNvSpPr/>
          <p:nvPr/>
        </p:nvSpPr>
        <p:spPr>
          <a:xfrm>
            <a:off x="6712560" y="5348160"/>
            <a:ext cx="201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Cl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HCl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27"/>
          <p:cNvSpPr/>
          <p:nvPr/>
        </p:nvSpPr>
        <p:spPr>
          <a:xfrm>
            <a:off x="4269240" y="3860640"/>
            <a:ext cx="1029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28"/>
          <p:cNvSpPr/>
          <p:nvPr/>
        </p:nvSpPr>
        <p:spPr>
          <a:xfrm>
            <a:off x="1893240" y="3648240"/>
            <a:ext cx="2322000" cy="23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Органические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кислоты,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SiO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HCN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33" descr=""/>
          <p:cNvPicPr/>
          <p:nvPr/>
        </p:nvPicPr>
        <p:blipFill>
          <a:blip r:embed="rId3"/>
          <a:stretch/>
        </p:blipFill>
        <p:spPr>
          <a:xfrm>
            <a:off x="196920" y="1557360"/>
            <a:ext cx="1584360" cy="1239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електр"/>
          <p:cNvPicPr/>
          <p:nvPr/>
        </p:nvPicPr>
        <p:blipFill>
          <a:blip r:embed="rId1"/>
          <a:stretch/>
        </p:blipFill>
        <p:spPr>
          <a:xfrm>
            <a:off x="2170080" y="0"/>
            <a:ext cx="480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Условия протекания реакций ионного обмен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ел2"/>
          <p:cNvPicPr/>
          <p:nvPr/>
        </p:nvPicPr>
        <p:blipFill>
          <a:blip r:embed="rId1"/>
          <a:stretch/>
        </p:blipFill>
        <p:spPr>
          <a:xfrm>
            <a:off x="468360" y="1332000"/>
            <a:ext cx="822960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noFill/>
          <a:ln w="9360">
            <a:solidFill>
              <a:srgbClr val="8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оверь свои зна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Line 1"/>
          <p:cNvSpPr/>
          <p:nvPr/>
        </p:nvSpPr>
        <p:spPr>
          <a:xfrm>
            <a:off x="2843280" y="692280"/>
            <a:ext cx="0" cy="5616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2916360" y="76500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ряженные частиц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0" y="7650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916360" y="1197000"/>
            <a:ext cx="55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Положительно заряженные 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0" y="12700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Кат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2916360" y="170028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Отрицательно заряженные 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0" y="1773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Ан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2916360" y="227664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Вещества, растворы и расплавы которых проводят электрический т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0" y="242244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Электроли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2916360" y="306864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Вещества растворы и расплавы которых не проводят электрический т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0" y="32148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Неэлектролит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2916360" y="393372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. Электролиты, в растворах которых все молекулы распались на 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0" y="407844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. Сильные электроли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2843280" y="4941720"/>
            <a:ext cx="61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. Вещества частично диссоциирующие на 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0" y="494172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. Слабые электроли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2843280" y="5589720"/>
            <a:ext cx="59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. Процесс распада электролитов на ионы при растворении в воде или расплавле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0" y="558972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. Электролитическая диссоциа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Line 19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Line 20"/>
          <p:cNvSpPr/>
          <p:nvPr/>
        </p:nvSpPr>
        <p:spPr>
          <a:xfrm>
            <a:off x="0" y="1628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Line 21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Line 22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Line 23"/>
          <p:cNvSpPr/>
          <p:nvPr/>
        </p:nvSpPr>
        <p:spPr>
          <a:xfrm>
            <a:off x="0" y="3860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Line 24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Line 25"/>
          <p:cNvSpPr/>
          <p:nvPr/>
        </p:nvSpPr>
        <p:spPr>
          <a:xfrm>
            <a:off x="0" y="5516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Line 26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Line 27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1T16:20:50Z</dcterms:created>
  <dc:creator>KDV</dc:creator>
  <dc:description/>
  <dc:language>en-US</dc:language>
  <cp:lastModifiedBy>LEGION</cp:lastModifiedBy>
  <dcterms:modified xsi:type="dcterms:W3CDTF">2015-03-30T08:18:24Z</dcterms:modified>
  <cp:revision>3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a05000000000001023620</vt:lpwstr>
  </property>
</Properties>
</file>