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7503-DEF0-4CA5-8CFA-F9DAC3F83C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6D92-7131-4E9B-9FA4-FA513C6332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литик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государственных мероприятий по использованию финансовых отношений для выполнения государством своих фу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30B4-F5B2-4AD5-9E9F-85DDBCB7B2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П охватывает комплекс мероприя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разработка общей концепции финансовой политики, определение ее основных направлений, целей, глав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управление финансовой деятельностью государства и других субъектов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F7D3-DDA9-4A9C-8E1D-65CE3C2C8C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финансов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ловий для формирования максимально возможных финансовых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ционального (с точки зрения государства) распределения и использования финансовы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гулирования и стимулирования экономических и социальных процессов финансовыми метод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финансового механ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управления финанса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8281-CFD0-4C77-921D-A55384E180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механиз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ивный финансовый мех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ий финансовый мех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059E-FB47-454D-8B83-7218B2D56B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финансов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консервати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о – дирек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33D0-89AC-4132-B12A-349CD596D6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нансовая политика на современном этап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алоговой нагруз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ие государственных обязатель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я финансовых ресурсов на решении приоритет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зависимости бюджетных доходов от конъюнктуры мировы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межбюджетных отношений и управление государственными финан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8069-0BD3-49C0-9198-8F1D6DA3F7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251-78F4-447E-A165-E56F3DE5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FCB-AAA5-44C7-A28A-3F5256EF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F2A-6197-4E66-B0A5-759B12AC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462-AA41-4ABD-B499-1EEFE176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BCE-976C-43CB-B0AD-C6ACCE35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D27-7CDA-42A4-92B3-199B179E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225-0C5D-40A5-8E3D-F7030BC4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82F4-830A-4142-ABFF-5843B7BE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A53-6E53-4FB1-9352-44D8559F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41F-80F5-4520-BAC5-1022AA55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84B-6DF6-48E2-96CB-C03D47DC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166-6716-4F42-80A0-AD60EC1D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8881-98AA-4C40-B582-3241BF281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политика 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политик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мероприятий по использованию финансовых отношений для выполнения государством своих фун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П охватывает комплекс мероприят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разработка общей концепции финансовой политики, определение ее основных направлений, целей, главных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управление финансовой деятельностью государства и других субъектов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финансовой полит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словий для формирования максимально возможных финансовых усло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рационального (с точки зрения государства) распределения и использования финансов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регулирования и стимулирования экономических и социальных процессов финансовыми метод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отка финансового механ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эффективной системы управления финанса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й механиз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рективный финансовый механиз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ий финансовый механ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финансовой полит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консервати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ово – директи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политика на современном эта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налоговой нагруз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рядочение государственных обязатель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нтрация финансовых ресурсов на решении приоритет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зависимости бюджетных доходов от конъюнктуры мировых ц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эффективной системы межбюджетных отношений и управление государственными финан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1:46:37Z</dcterms:created>
  <dc:creator>eryabova</dc:creator>
  <dc:description/>
  <dc:language>en-US</dc:language>
  <cp:lastModifiedBy>LEGION</cp:lastModifiedBy>
  <dcterms:modified xsi:type="dcterms:W3CDTF">2014-11-10T10:50:40Z</dcterms:modified>
  <cp:revision>7</cp:revision>
  <dc:subject/>
  <dc:title>Финансовая политика государства</dc:title>
</cp:coreProperties>
</file>