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1912-624C-409D-B2BF-3CFA8E5FF4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DE44-219E-4909-8B69-EA833E5459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D5D0-639C-4EAB-939D-2EE1D4BDC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П охватывает комплекс мероприя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правление финансовой деятельностью государства и других субъектов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E0E0-87B2-4EB3-9125-DE4ACFED0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ловий для формирования максимально возможных финансовых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финансового механ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управления финанса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FD0F-9A63-4D8B-A2C7-8934532957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ханиз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ивный финансовый мех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ий финансовый мех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EF6A-2577-4A14-B6DB-A9CFC9574A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онсервати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о – дирек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AE0B-E59B-4364-A680-596DFAC8FA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ая политика на современном этап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алоговой нагруз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ие государственных обяза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финансовых ресурсов на решении приорите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зависимости бюджетных доходов от конъюнктуры мировы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748E-E159-4BA1-80A5-AFCD972473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609-2853-4F5A-A514-02114BB2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FB1-4E4F-4460-9720-C4D61058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4F0-8BDC-4EB0-A50A-9E8A6CC2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A73-4EEB-4742-B26D-09271666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CBE-A97C-4C93-ACC2-C7CC35FA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264-F3F8-46A5-A816-324D24E2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27D-B9D5-447E-9BA8-57A1977D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7D0-FC51-4633-8007-86682E4E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F3C-0DA2-410C-85B5-9F263E8C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07B-6F80-439C-92B9-1FA01438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928-B9F9-466E-9832-43D7847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41A-E2FD-4AA7-8052-0E0A44A6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FC6-DACB-406C-A984-B6E36DDE4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П охватывает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управление финансовой деятельностью государства и других субъектов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для формирования максимально возможных финансовых усл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финансового мех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эффективной системы управления финанс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й механиз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рективный финансовый механиз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ий финансовый мех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серв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ово – дирек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политика на современн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налогов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ение государственных обяз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финансовых ресурсов на решении приорите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зависимости бюджетных доходов от конъюнктуры мировых ц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46:37Z</dcterms:created>
  <dc:creator>eryabova</dc:creator>
  <dc:description/>
  <dc:language>en-US</dc:language>
  <cp:lastModifiedBy>LEGION</cp:lastModifiedBy>
  <dcterms:modified xsi:type="dcterms:W3CDTF">2014-11-10T10:50:40Z</dcterms:modified>
  <cp:revision>7</cp:revision>
  <dc:subject/>
  <dc:title>Финансовая политика государства</dc:title>
</cp:coreProperties>
</file>