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6F12-C5A0-4F30-B2C9-D7D02E1E1D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ая политика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79B3-CBBA-4F4E-9524-F2DBCAC960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ая политика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государственных мероприятий по использованию финансовых отношений для выполнения государством своих фун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5FDC-981C-4ADA-9E07-404CA4298A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П охватывает комплекс мероприят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разработка общей концепции финансовой политики, определение ее основных направлений, целей, главны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управление финансовой деятельностью государства и других субъектов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84E7-90D5-4361-BC96-A6D88A4C4A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финансов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условий для формирования максимально возможных финансовых усло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рационального (с точки зрения государства) распределения и использования финансовых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регулирования и стимулирования экономических и социальных процессов финансовыми метод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финансового механ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эффективной системы управления финансам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4934-7A66-4E4D-9726-78E8E25C24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механиз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ективный финансовый механ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щий финансовый механ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ACD9-6038-42AB-85F1-5C27A644CF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финансов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ческ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щ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консерватив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ово – директив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C329-2141-415C-B242-235B26476A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инансовая политика на современном этап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налоговой нагруз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рядочение государственных обязатель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нтрация финансовых ресурсов на решении приоритетны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зависимости бюджетных доходов от конъюнктуры мировых це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эффективной системы межбюджетных отношений и управление государственными финанс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300E-1D71-4026-8A5F-05FBBE7AE2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8F5F-61EA-4E91-826D-D0C52CD84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D1FC-424C-4136-A0EE-8AB6CDBB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2157-F9E5-4BBE-8C83-1A0FA3DF1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4B92-C2EA-45D4-96EA-6F659C2B1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AD57-1F70-475F-A7C0-25C51ED9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DF30-6949-4151-919A-D840F055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ED00-41C1-42D2-AC5F-F3B174C7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149B-2766-40AA-9CAF-33657F4B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A3B2-BB3F-4372-AFAE-03BED299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42AD-20A3-4D53-B077-5B625882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F4FD-8CE3-4E43-8455-16095744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B8A9-1E6A-4390-B7DA-2D8664BE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BDB6-915C-476D-9198-A3662A176B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нансовая политика государ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нансовая политика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окупность государственных мероприятий по использованию финансовых отношений для выполнения государством своих функ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ФП охватывает комплекс мероприят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разработка общей концепции финансовой политики, определение ее основных направлений, целей, главных задач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управление финансовой деятельностью государства и других субъектов эконом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финансовой полит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условий для формирования максимально возможных финансовых услов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ие рационального (с точки зрения государства) распределения и использования финансовых ресур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регулирования и стимулирования экономических и социальных процессов финансовыми метод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ботка финансового механиз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эффективной системы управления финансами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нансовый механиз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ирективный финансовый механизм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гулирующий финансовый механиз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финансовой полит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ческ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гулирующ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консерватив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ново – директив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нансовая политика на современном этап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ижение налоговой нагруз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орядочение государственных обязательст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центрация финансовых ресурсов на решении приоритетных задач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ижение зависимости бюджетных доходов от конъюнктуры мировых це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эффективной системы межбюджетных отношений и управление государственными финанс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1:46:37Z</dcterms:created>
  <dc:creator>eryabova</dc:creator>
  <dc:description/>
  <dc:language>en-US</dc:language>
  <cp:lastModifiedBy>LEGION</cp:lastModifiedBy>
  <dcterms:modified xsi:type="dcterms:W3CDTF">2014-11-10T10:50:40Z</dcterms:modified>
  <cp:revision>7</cp:revision>
  <dc:subject/>
  <dc:title>Финансовая политика государства</dc:title>
</cp:coreProperties>
</file>