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F2B-68A0-49D8-BBA7-E00024E0F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6DC3-9F0C-45D7-9590-7A8A22208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1E3E-D17A-44C8-9562-774108F8C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П охватывает комплекс мероприя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правление финансовой деятельностью государства и других субъектов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3DFD-14BB-4EF7-89DB-050099E356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ловий для формирования максимально возможных финансовых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финансового механ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управления финанса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B09-E00A-4A73-84D0-74D40799B0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ханиз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ивный финансовый мех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ий финансовый мех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C360-44FB-4F1F-B328-5DB29D57F6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онсервати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о – дирек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BB9C-3139-4C80-838A-7EAF8CA0C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ая политика на современном этап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алоговой нагруз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ие государственных обяза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финансовых ресурсов на решении приорите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зависимости бюджетных доходов от конъюнктуры мировы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5AAB-04D7-436A-85AF-E89A01266E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A05-1489-41D6-8760-CF6091B2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78E-CB58-420D-8EE6-E7BB0C03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FDC-3F4D-4B6F-91DD-9F4AE05D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022-F2CB-471E-8143-61D1DBE2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223-B1B2-4D5F-BCEC-B2989584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EB8-6CBB-45AC-BAAC-B1E314CC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58D-DF65-4B9F-A638-844339E4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FB9-2C21-4C41-882E-4614EE9E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641-5C9A-43F8-A8FE-816B26DC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334-22CC-4C03-B91B-AED5E36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BCB-9118-4918-8A45-B30577E9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EF6-528C-4992-8131-82A73EC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A39D-C523-435B-A2BE-C8852B006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П охватывает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управление финансовой деятельностью государства и других субъектов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для формирования максимально возможных финансовых усл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финансового мех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эффективной системы управления финанс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й механиз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рективный финансовый механиз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ий финансовый мех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серв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ово – дирек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политика на современн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налогов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ение государственных обяз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финансовых ресурсов на решении приорите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зависимости бюджетных доходов от конъюнктуры мировых ц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46:37Z</dcterms:created>
  <dc:creator>eryabova</dc:creator>
  <dc:description/>
  <dc:language>en-US</dc:language>
  <cp:lastModifiedBy>LEGION</cp:lastModifiedBy>
  <dcterms:modified xsi:type="dcterms:W3CDTF">2014-11-10T10:50:40Z</dcterms:modified>
  <cp:revision>7</cp:revision>
  <dc:subject/>
  <dc:title>Финансовая политика государства</dc:title>
</cp:coreProperties>
</file>