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6C0D-90C8-4441-9EB3-B465039084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ая политика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4035-FB5B-4177-B224-DFAFD34675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ая политика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сть государственных мероприятий по использованию финансовых отношений для выполнения государством своих функ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0201-1651-4EF0-AE02-CE070F83D1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П охватывает комплекс мероприят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разработка общей концепции финансовой политики, определение ее основных направлений, целей, главных зада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управление финансовой деятельностью государства и других субъектов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4C16-159E-4870-9494-789442A728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финансовой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условий для формирования максимально возможных финансовых услов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рационального (с точки зрения государства) распределения и использования финансовых рес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регулирования и стимулирования экономических и социальных процессов финансовыми метод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ка финансового механиз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эффективной системы управления финансам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A367-28F0-4B00-8CD6-09550D48AF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механиз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рективный финансовый механиз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ющий финансовый механ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B75F-2D39-416D-9807-E2FDC55B1C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финансовой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ческ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ющ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консервативн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ово – директив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64B4-64F6-4B07-AEE9-E4DC006154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инансовая политика на современном этап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налоговой нагруз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орядочение государственных обязатель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нтрация финансовых ресурсов на решении приоритетных зада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зависимости бюджетных доходов от конъюнктуры мировых це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эффективной системы межбюджетных отношений и управление государственными финанс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F8E7-8771-4ADF-85DD-D4802DD8AE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8D77-8F04-4FC2-9D30-CC83DF749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1968-B69F-41A3-B914-0955246B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8060-669E-4A22-BC62-80A04A2FC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E3C3-D60A-467B-A14C-82DBCF8E4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69C3-0DBF-4313-8B9D-B07B1359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0C42-9BF5-4243-B175-25593B79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6B8D-4EF9-46B5-89D0-AB0D1E55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B64C-882C-4129-947B-A08DF566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2925-2EA8-4350-8FD2-650229FE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C056-7F53-4C3F-BAB0-A03BB279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4060-AFDA-4021-88F5-B517EADE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70D3-E01E-4BCB-BACD-6841E712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4708-0F2B-45ED-B9F3-92309B3870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нансовая политика государ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нансовая политика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окупность государственных мероприятий по использованию финансовых отношений для выполнения государством своих функ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ФП охватывает комплекс мероприят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 разработка общей концепции финансовой политики, определение ее основных направлений, целей, главных задач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 управление финансовой деятельностью государства и других субъектов эконом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финансовой полит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ение условий для формирования максимально возможных финансовых услов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ление рационального (с точки зрения государства) распределения и использования финансовых ресур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регулирования и стимулирования экономических и социальных процессов финансовыми метод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ботка финансового механизм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эффективной системы управления финансами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нансовый механиз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ирективный финансовый механизм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гулирующий финансовый механиз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финансовой полит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ческ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гулирующ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консервативн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ново – директив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инансовая политика на современном этап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ижение налоговой нагруз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орядочение государственных обязательст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центрация финансовых ресурсов на решении приоритетных задач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ижение зависимости бюджетных доходов от конъюнктуры мировых це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эффективной системы межбюджетных отношений и управление государственными финанс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11:46:37Z</dcterms:created>
  <dc:creator>eryabova</dc:creator>
  <dc:description/>
  <dc:language>en-US</dc:language>
  <cp:lastModifiedBy>LEGION</cp:lastModifiedBy>
  <dcterms:modified xsi:type="dcterms:W3CDTF">2014-11-10T10:50:40Z</dcterms:modified>
  <cp:revision>7</cp:revision>
  <dc:subject/>
  <dc:title>Финансовая политика государства</dc:title>
</cp:coreProperties>
</file>