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2333-5313-4AD4-A2CA-C060B0B5346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боту подготовил ученик 8-а класса ЗОШ№3 г.Запорожья Коваленко Анто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читель Карпова Ларис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AF80-FB6F-49D0-811C-0F19F46F7A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нтересны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DDB4-A55D-4A76-AA21-0172B5581B3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Аномальные свойства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1582-51C0-4A65-AB53-CBC6ADF84D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дивительное ве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10A5-DF02-463F-A4CD-20BAF39ABC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D290-B410-453B-AA81-6F8BF6ECD8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верхностное на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Благодаря тому, что круглые шарики воды очень упруги, идет дождь, выпадает 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F0CA-3F7B-4914-B343-275F037617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еплоем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3F8C-6E96-4464-93FB-BB2CCEBB216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37 °С, температуре человеческого тела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A289-017C-4FAC-AA57-6712D54CCDA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ще несколько удивительных свойст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E7BC-7612-4D31-B440-51C50D8698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Но </a:t>
            </a:r>
            <a:r>
              <a:rPr b="1" lang="ru-RU" sz="1400" spc="-1" strike="noStrike">
                <a:solidFill>
                  <a:srgbClr val="eeece1"/>
                </a:solidFill>
                <a:latin typeface="Calibri"/>
              </a:rPr>
              <a:t>самое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45E5-ECE7-42AB-BF0E-DD951C107C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CF4-E822-49C0-B55C-6DBA41D7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FE3-90F4-4309-AA23-566BA901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CCC-EA22-47FC-B0A0-784AA262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4A7-2253-4557-942C-B07FACD4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CCEEC-4D8D-45D6-94A1-0621B864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970A6-B9D2-431E-8800-A3E643EF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CA060-3DA7-436E-BD0D-FE0B2295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347F5-4F57-4D54-8220-CAE27A95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9807B-1200-4122-A26B-412566B4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97636-840B-4FB5-A02A-41F33ACE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BFA07-8FCB-4DCA-BBA4-EF53A362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3DE-6653-48B4-BDD1-430FAA3C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FD684-CC54-47D6-A177-1E0A00E2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FEF9F-F254-4132-85A2-FC7FCA86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6B8B5-C313-443E-A022-A2BB8550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CBB12-A60E-425E-9ACA-F1601981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BACCE-40C4-404E-B7AF-A8415024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6C2-0FA7-4CFF-9D87-D1740AE6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17A-A98C-402D-9DBE-0D972D09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0668-ACD0-4244-A808-560020D4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5B0-4344-427E-9917-6FEC5A8A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E42-68CD-493B-941F-77BE9F2A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9950-E7DF-49C8-8FB3-A0798270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E59-B3BC-4C5B-A5EB-35920C30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7A9F-812B-482B-9B7B-1389F12E8E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01C6-4662-4F02-81B5-6AA931A007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2/mezhdusosen.9/0_16c57_6bede103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30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Работу подготовил ученик 8-а класса ЗОШ№3 г.Запорожья Коваленко Антон </a:t>
            </a:r>
            <a:br>
              <a:rPr sz="4000"/>
            </a:b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Учитель Карпова Лариса Борис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43213313[1]"/>
          <p:cNvPicPr/>
          <p:nvPr/>
        </p:nvPicPr>
        <p:blipFill>
          <a:blip r:embed="rId1"/>
          <a:stretch/>
        </p:blipFill>
        <p:spPr>
          <a:xfrm>
            <a:off x="2743200" y="2905200"/>
            <a:ext cx="6400800" cy="39528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Интересный фа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Картинка 3 из 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3371760" cy="44960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Аномальные свойства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2401dc21d5c4[1]"/>
          <p:cNvPicPr/>
          <p:nvPr/>
        </p:nvPicPr>
        <p:blipFill>
          <a:blip r:embed="rId1"/>
          <a:stretch/>
        </p:blipFill>
        <p:spPr>
          <a:xfrm>
            <a:off x="2666880" y="2971800"/>
            <a:ext cx="3743280" cy="3152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Удивительное веще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waterstructure[1]"/>
          <p:cNvPicPr/>
          <p:nvPr/>
        </p:nvPicPr>
        <p:blipFill>
          <a:blip r:embed="rId1"/>
          <a:stretch/>
        </p:blipFill>
        <p:spPr>
          <a:xfrm>
            <a:off x="3505320" y="4267080"/>
            <a:ext cx="1981080" cy="1936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5812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Молекула в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лот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оверхностное натяж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Благодаря тому, что круглые шарики воды очень упруги, идет дождь, выпадает 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Теплоемк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008"/>
          <p:cNvPicPr/>
          <p:nvPr/>
        </p:nvPicPr>
        <p:blipFill>
          <a:blip r:embed="rId1"/>
          <a:stretch/>
        </p:blipFill>
        <p:spPr>
          <a:xfrm>
            <a:off x="1295280" y="2514600"/>
            <a:ext cx="6477120" cy="3886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+37 °С, температуре человеческого тела 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ще несколько удивительных свойст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амое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strvoda[1]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8004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0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