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A00F-DAE8-4D79-B7CE-89F0F6F373F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боту подготовил ученик 8-а класса ЗОШ№3 г.Запорожья Коваленко Анто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читель Карпова Ларис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318A-DB2B-49FD-B424-F04D0F6594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нтересны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02C3-D551-4FDA-9577-72352C72C8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Аномальные свойства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DC95-3FC6-460A-8ACE-F10CA52F2B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дивительное ве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E355-DE9E-40D8-9C04-7DC04250A0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8ED0-7FD3-48E0-AE42-F67BA6A1EE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верхностное на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Благодаря тому, что круглые шарики воды очень упруги, идет дождь, выпадает 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A337-6F73-44F1-9CD6-C695730205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еплоем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D462-392F-4177-9D90-71A2EA09673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37 °С, температуре человеческого тела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555C-0F6D-45E1-B8DF-BA41A47AB6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ще несколько удивительных свойст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2F54-8333-4C05-8218-C4CB697CB8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Но </a:t>
            </a:r>
            <a:r>
              <a:rPr b="1" lang="ru-RU" sz="1400" spc="-1" strike="noStrike">
                <a:solidFill>
                  <a:srgbClr val="eeece1"/>
                </a:solidFill>
                <a:latin typeface="Calibri"/>
              </a:rPr>
              <a:t>самое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AEA6-BAD9-4B9A-8909-9713284486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636-4575-4322-AD1D-B825117C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013-0449-4456-AF28-A1875380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404-CC80-4C24-A3F4-2BCCA050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C23D-10B4-4D9B-9B0D-50D97B9B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E8E17-75B9-48CB-A8A1-9DE1CCDA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CFB45-2F14-48E7-AFEE-EDD848FC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2BD08-EDB7-432B-8DAE-2F862FB3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D727F-2FD3-4781-96D3-B4158E16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51F9C-DA3D-4E35-A2BC-43A7D40A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B2AE9-5DA2-4A4B-BD78-DB91B178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09E34-D1B8-49DF-9385-8683CEF0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D29-AEE3-4FC9-BA05-2929418C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B1FCF-E76F-4707-860A-D156D568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4F445-DCF8-4A09-89D6-139C8031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6F2DE-CF76-4EE7-AB0C-160C80D8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51ACE-7A92-4288-9872-DF51C7E6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A61A2-21D0-40BD-A8BE-BE2E3520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66C-27EE-4690-9A8D-422BDA06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293-CC74-4677-873D-544B8D84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637-0FD3-45BC-B6E7-35CEAD8F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297-1BD9-4667-BC77-E810644D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093-317C-493E-9830-629F021D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519-0FB5-4F8B-B410-B9AEDE3A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609-C909-44BA-A146-7867F161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707B-21DD-4860-9188-BB124106F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2ACC-425E-4CEC-8A7D-6721F61A49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2/mezhdusosen.9/0_16c57_6bede103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30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Работу подготовил ученик 8-а класса ЗОШ№3 г.Запорожья Коваленко Антон </a:t>
            </a:r>
            <a:br>
              <a:rPr sz="4000"/>
            </a:b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Учитель Карпова Лариса Борис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43213313[1]"/>
          <p:cNvPicPr/>
          <p:nvPr/>
        </p:nvPicPr>
        <p:blipFill>
          <a:blip r:embed="rId1"/>
          <a:stretch/>
        </p:blipFill>
        <p:spPr>
          <a:xfrm>
            <a:off x="2743200" y="2905200"/>
            <a:ext cx="6400800" cy="39528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Интересный фа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Картинка 3 из 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3371760" cy="44960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Аномальные свойства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2401dc21d5c4[1]"/>
          <p:cNvPicPr/>
          <p:nvPr/>
        </p:nvPicPr>
        <p:blipFill>
          <a:blip r:embed="rId1"/>
          <a:stretch/>
        </p:blipFill>
        <p:spPr>
          <a:xfrm>
            <a:off x="2666880" y="2971800"/>
            <a:ext cx="3743280" cy="3152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Удивительное веще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waterstructure[1]"/>
          <p:cNvPicPr/>
          <p:nvPr/>
        </p:nvPicPr>
        <p:blipFill>
          <a:blip r:embed="rId1"/>
          <a:stretch/>
        </p:blipFill>
        <p:spPr>
          <a:xfrm>
            <a:off x="3505320" y="4267080"/>
            <a:ext cx="1981080" cy="1936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5812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Молекула в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лот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оверхностное натяж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Благодаря тому, что круглые шарики воды очень упруги, идет дождь, выпадает 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Теплоемк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008"/>
          <p:cNvPicPr/>
          <p:nvPr/>
        </p:nvPicPr>
        <p:blipFill>
          <a:blip r:embed="rId1"/>
          <a:stretch/>
        </p:blipFill>
        <p:spPr>
          <a:xfrm>
            <a:off x="1295280" y="2514600"/>
            <a:ext cx="6477120" cy="3886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+37 °С, температуре человеческого тела 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ще несколько удивительных свойст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амое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strvoda[1]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8004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0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