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5A70-B25A-4A42-868F-948072FF1D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8AFD-6EC8-4C07-BAD3-BE676BE543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атт (1736-18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9F1C-4C1F-4F7E-9054-5D468DFF12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развить мощность 1 Вт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ите  груз массой 100 г на высоту 1 м    за    1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200E-EF77-4B3E-A8F0-0FAA86CBE1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мощности, 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D971-00F8-4159-8A6E-F0320953B1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87B5-F3E9-4C96-969D-00992A2FA7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9E4C-6B8F-4B55-AC32-6B06FD157C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51F9-B8F3-4497-99BC-7AB64D1013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92B7-E003-47A0-963B-AC1F58B327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5B77-1EDC-4025-8BFA-D8AFB7D858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. № 3.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ите мощность штангиста, поднимающего штангу массой 250 кг на высоту 2 м за 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825F-4701-4E36-B087-395C556EF0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а №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м/ч  1м/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A=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кН        12000Н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S=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= 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=12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м/с=12000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5FA5-1974-4BB4-AAFB-D40E2F6836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. 28 (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?              А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500кг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 м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Н/кг · 2500кг =25000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А=2500Н· 12м=300000Дж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D407-81B1-40DA-AF9D-7F81F30A02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приро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р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м мощность смер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подъему - А=29400000Дж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струи воздух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490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я часть смерча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14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иаметр всей колоны смерча 200м, 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=314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24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Мощность всей колоны 490 МВт. Сравним с мощностью техники, созданной рукам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5C27-4F7C-4743-BA81-44FAD553AD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сегодня нового узнали на урок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у мы науч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лось ваше настро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98A8-392D-40D7-ACB6-26A2EB9A83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54.  Упр. 29 (3,6),   задание 18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тор: Дмитрюк Т.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КОУ «Ситнико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2C98-CD10-4B6F-9131-DCF69922A1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. 28 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?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F S          S=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т   120000кг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0 см   1,2м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0000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              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0Дж=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2051-1989-4DEB-9A89-0B70DA9637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C885-71CC-45A2-9DF5-600C0DC2F3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нятие мощ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мощ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решать задачи на применение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BB9D-389E-403F-85AB-24325EE9EA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же лифт делает её быстрее все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36E4-6157-4B5D-84C6-6F60EBD073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 быстроту выполнения работы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17DC-17FA-45FE-A076-706170F25A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равна  отношению работы ко времени, за которое она соверш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1C91-4690-4AD6-B5C8-4E075289DC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Вт - мощность, при которой в 1 с совершается работа в 1 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D525-D6F5-4449-9140-EE101E3661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F61-462F-4556-A31F-06664221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E4A-94AE-4AC2-9DB2-63203AB6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1C4-DAD9-4864-B475-CDCC9ECE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03E-F417-47CD-83D0-D5E34709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6A6A-7128-472C-A276-6AEE0391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3339-F445-4807-B884-C9CE92A3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EA46-7C6E-465D-B83F-6D32ACB5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3785-5617-4202-87B9-97DF7328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E60B-FBC1-4532-B9B9-47D00BDF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C2B4-1FCA-4E63-8201-6D55627E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3714-5479-4D5C-9F64-0325FFC7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C73-3B20-4FCA-AF71-5C36B0AA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42E9-99BD-4BA6-A033-14CECBD5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F432-2073-408D-814C-5460F927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0813-190A-4B56-A844-047A84C1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0602-3666-45F8-BCB0-848CD4CD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6E92-7206-48E3-A8E1-9771943F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7F5-A7D3-4766-B3CC-FC510145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19C-195A-435F-9129-0B97813D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0D5-CCDB-4CCF-AFFB-C78B3B62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E8E-9D08-4106-9A66-31E159C0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BBC-2689-40F0-9722-0038F268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96A-C6BC-416F-8930-19E9C61D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AFA-94B1-4658-AF0A-326D5510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DA5D-5324-43BF-903C-36E8B6F8C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986C-02C9-4763-A9DB-E9149C937D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0"/>
          <p:cNvSpPr txBox="1"/>
          <p:nvPr/>
        </p:nvSpPr>
        <p:spPr>
          <a:xfrm>
            <a:off x="900000" y="1268280"/>
            <a:ext cx="7315200" cy="423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жеймс Уатт (1736-181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2920" y="162864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4643280" y="1628640"/>
            <a:ext cx="4032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032360" cy="45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826920" y="1483920"/>
            <a:ext cx="7490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тите развить мощность 1 Вт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нимите  груз массой 100 г на высоту 1 м    за    1 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900000" y="2133720"/>
            <a:ext cx="741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начение мощности, В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ческого серд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мощность челове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– 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бегая по лестни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иная си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5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ь совершает прыжок высота 2 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кД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532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0" y="2924280"/>
            <a:ext cx="31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3132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0" y="3141720"/>
            <a:ext cx="374508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= 3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,5 ∙10 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443640" y="263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7380360" y="29955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745164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523280" y="29242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51640" y="4076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203640" y="4076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5580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516720" y="436572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6948360" y="378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6443640" y="37162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5 10 </a:t>
            </a:r>
            <a:r>
              <a:rPr b="0" lang="ru-RU" sz="2800" spc="-1" strike="noStrike" baseline="22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6659640" y="4365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8532720" y="4076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6012000" y="53006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5 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796000" y="5229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. № 3.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пределите мощность штангиста, поднимающего штангу массой 250 кг на высоту 2 м за 4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799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шение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395280" y="2781360"/>
            <a:ext cx="24480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843280" y="1989000"/>
            <a:ext cx="1440" cy="453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900000" y="206208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 -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50920" y="3141720"/>
            <a:ext cx="259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h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3132000" y="2276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2916360" y="256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51"/>
          <p:cNvSpPr/>
          <p:nvPr/>
        </p:nvSpPr>
        <p:spPr>
          <a:xfrm>
            <a:off x="3851280" y="2854440"/>
            <a:ext cx="504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924360" y="2349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3851280" y="22780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3924360" y="2781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4427640" y="2565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 flipV="1" rot="10836600">
            <a:off x="2916000" y="34300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2843280" y="4221000"/>
            <a:ext cx="17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9"/>
          <p:cNvSpPr/>
          <p:nvPr/>
        </p:nvSpPr>
        <p:spPr>
          <a:xfrm>
            <a:off x="2843280" y="40053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m 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1692360" y="5230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1692360" y="5662440"/>
            <a:ext cx="3585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169236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4"/>
          <p:cNvSpPr/>
          <p:nvPr/>
        </p:nvSpPr>
        <p:spPr>
          <a:xfrm>
            <a:off x="493236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5003640" y="4726080"/>
            <a:ext cx="360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6"/>
          <p:cNvSpPr/>
          <p:nvPr/>
        </p:nvSpPr>
        <p:spPr>
          <a:xfrm>
            <a:off x="4932360" y="4654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67"/>
          <p:cNvSpPr/>
          <p:nvPr/>
        </p:nvSpPr>
        <p:spPr>
          <a:xfrm>
            <a:off x="5364000" y="45100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2 500 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8"/>
          <p:cNvSpPr/>
          <p:nvPr/>
        </p:nvSpPr>
        <p:spPr>
          <a:xfrm>
            <a:off x="3003480" y="5291280"/>
            <a:ext cx="38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69"/>
          <p:cNvSpPr/>
          <p:nvPr/>
        </p:nvSpPr>
        <p:spPr>
          <a:xfrm>
            <a:off x="2987640" y="53020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= 2500 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м =5000 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70"/>
          <p:cNvSpPr/>
          <p:nvPr/>
        </p:nvSpPr>
        <p:spPr>
          <a:xfrm>
            <a:off x="3132000" y="602136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2"/>
          <p:cNvSpPr/>
          <p:nvPr/>
        </p:nvSpPr>
        <p:spPr>
          <a:xfrm>
            <a:off x="3924360" y="56754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406728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74"/>
          <p:cNvSpPr/>
          <p:nvPr/>
        </p:nvSpPr>
        <p:spPr>
          <a:xfrm>
            <a:off x="4067280" y="63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4427640" y="630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5724360" y="602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6156360" y="6021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50 В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дача №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м/ч  1м/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A=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кН        12000Н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S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= 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=1200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м/с=12000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2843280" y="321300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611280" y="3716280"/>
            <a:ext cx="22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572000" y="3284640"/>
            <a:ext cx="0" cy="201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пр. 28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- ?              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2500кг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 м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0Н/кг · 2500кг =25000Н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А=2500Н· 12м=300000Дж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539640" y="2133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700360" y="1628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природных явл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рч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м мощность смер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по подъему - А=29400000Дж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ость струи воздух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=49000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я часть смерча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314 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иаметр всей колоны смерча 200м, 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=314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24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Мощность всей колоны 490 МВт. Сравним с мощностью техники, созданной рукам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 мы сегодня нового узнали на уро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му мы научилис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изменилось ваше настро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54.  Упр. 29 (3,6),   задание 18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втор: Дмитрюк Т.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КОУ «Ситниковская СОШ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пр. 28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?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F S          S=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т   120000кг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0 см   1,2м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000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              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40000Дж=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2556000" y="1844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356000" y="184464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539640" y="220500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900000" y="1268280"/>
            <a:ext cx="7344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на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 понятие мощ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ицы измерения мощ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ме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решать задачи на применение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же лифт делает её быстрее все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532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Мощнос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характеризует  быстроту выполнения работы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равна  отношению работы ко времени, за которое она соверш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971640" y="2421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71640" y="2492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348000" y="24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4067280" y="285264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284720" y="2205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356000" y="2852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187280" y="378936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835280" y="386064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2627280" y="422100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2771640" y="3500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2843280" y="41497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500720" y="393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5076720" y="4292640"/>
            <a:ext cx="358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5580000" y="4005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4572000" y="450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5651640" y="458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4643280" y="51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5148360" y="5445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5651640" y="51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111600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1116000" y="357336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1116000" y="494172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>
            <a:off x="363528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41"/>
          <p:cNvSpPr/>
          <p:nvPr/>
        </p:nvSpPr>
        <p:spPr>
          <a:xfrm>
            <a:off x="2340000" y="50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125892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1763640" y="5805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2340000" y="57340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 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45"/>
          <p:cNvSpPr/>
          <p:nvPr/>
        </p:nvSpPr>
        <p:spPr>
          <a:xfrm>
            <a:off x="1116000" y="558972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6"/>
          <p:cNvSpPr/>
          <p:nvPr/>
        </p:nvSpPr>
        <p:spPr>
          <a:xfrm>
            <a:off x="1116000" y="558972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7"/>
          <p:cNvSpPr/>
          <p:nvPr/>
        </p:nvSpPr>
        <p:spPr>
          <a:xfrm>
            <a:off x="3419640" y="558972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8"/>
          <p:cNvSpPr/>
          <p:nvPr/>
        </p:nvSpPr>
        <p:spPr>
          <a:xfrm>
            <a:off x="1116000" y="6453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диницы измер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Вт - мощность, при которой в 1 с совершается работа в 1 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11280" y="2852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ват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268360" y="29242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987640" y="321300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2916360" y="2492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джоу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012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2987640" y="31399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секу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5796000" y="299736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6732720" y="29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7596360" y="335772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596360" y="2708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251840" y="3346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716436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812000" y="3357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5292720" y="2852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324000" y="393372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1000000 Вт          1 Вт = 0,000001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кВт = 1000 Вт                1 Вт = 0,001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0,001 Вт               1 Вт = 1000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л.с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~ 735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5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3:03:31Z</dcterms:created>
  <dc:creator>User</dc:creator>
  <dc:description/>
  <dc:language>en-US</dc:language>
  <cp:lastModifiedBy>LEGION</cp:lastModifiedBy>
  <dcterms:modified xsi:type="dcterms:W3CDTF">2015-03-30T08:21:04Z</dcterms:modified>
  <cp:revision>42</cp:revision>
  <dc:subject/>
  <dc:title>Слайд 1</dc:title>
</cp:coreProperties>
</file>