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BCA1-BBA1-413C-811F-49FBBB7385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ACC-C92B-47D4-AB43-74E2CFDBFE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атт (1736-18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D28E-0224-4E20-AAC5-09158AE900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развить мощность 1 Вт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 груз массой 100 г на высоту 1 м    за    1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B29B-1E12-44BB-B815-011077BD5F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мощности, 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35D0-1634-4E5F-A0A4-CE14081BE2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DBF0-E55D-4268-99FF-8AC9944C64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55C-E525-4194-8740-FA6B78F389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67F1-66EE-47AC-BF54-54AAF34891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B839-181E-4219-84A5-96E0952CBE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504B-840D-4C2C-9101-EB899641D9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. № 3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мощность штангиста, поднимающего штангу массой 250 кг на высоту 2 м за 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438C-AF36-4B23-BB90-E7EDB75094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а №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м/ч  1м/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A=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кН        12000Н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S=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= 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=12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м/с=12000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9113-9126-4D3A-8314-A9D0A0C7B1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. 28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?              А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500кг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 м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Н/кг · 2500кг =25000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А=2500Н· 12м=300000Дж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5874-47EA-4EEF-9205-48AEC5A657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приро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р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м мощность смер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подъему - А=29400000Дж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струи возду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490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я часть смерча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14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иаметр всей колоны смерча 200м, 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314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24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Мощность всей колоны 490 МВт. Сравним с мощностью техники, созданной рукам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3C4-8BB9-4FE9-96D4-C19CA5D620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сегодня нового узнали на урок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у мы науч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лось ваше настро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141A-6A5C-4E88-A28E-F50FE2CAF2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54.  Упр. 29 (3,6),   задание 18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тор: Дмитрюк Т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итнико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AD73-3374-43A9-A1AC-B5B67FEBA7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28 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?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F S          S=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т   120000кг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0 см   1,2м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0000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              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0Дж=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2100-8757-4150-B30E-8247A4B435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9FCA-4812-4F2F-B3FF-C640D54FA6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нятие мощ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мощ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решать задачи на применение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38CF-8E85-40B0-8AB0-AEA3A21A97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же лифт делает её быстрее все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E82-594D-4A21-BA83-2D952EA664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 быстроту выполнения работы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8D6C-7ADD-49E4-AC70-077BF24601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равна  отношению работы ко времени, за которое она совер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B261-D9D9-4E58-8A60-42BA3F8D79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Вт - мощность, при которой в 1 с совершается работа в 1 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21F3-86CF-4E83-B76F-C098197867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589-353F-45D7-B8AC-D2E32024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4C4-CFD5-4254-9C51-0F4D7FCC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994-7B21-40C4-B200-1706D179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B15-4805-4BB9-ADD2-FF3B468E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D635-7B9B-4E59-BBE1-808BEA85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4833-1E03-495D-90D0-A1525B81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AC96-624C-4640-B5D8-2E758BF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F01A-AA06-4BBC-8617-D708BF51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83D4-E9BB-4597-A69F-32440511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AE8F-65E0-40DD-B9C8-0589D63B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C92F-0E7B-410C-8FFA-8D4B9EDB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A83-2C25-4946-8D90-3317824D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572-C1D7-4157-8C64-1063E61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9F0D-B1FD-4D68-A529-7E577C79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163F-71C6-46CF-A51E-36A3577E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A05F-FD1E-4AE7-8149-B7C7933E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73CD-8E51-4486-8FA2-579AA1E8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5A3-B9F3-4499-9117-7E005BD5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15A-27E6-4220-84A9-2F31F674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120-4611-4C4A-92D5-21E79005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51A-9CD4-47BC-974E-B22CEDE0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9F1-F6A8-4080-BD0B-C2925ED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70B-4E02-487B-B4A8-E83827E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5AA-EC45-4988-9474-B98E8947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2013-BFC3-496A-8EC0-352AAD3EA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A713-F2E5-4A54-AA81-3610C1DFFC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"/>
          <p:cNvSpPr txBox="1"/>
          <p:nvPr/>
        </p:nvSpPr>
        <p:spPr>
          <a:xfrm>
            <a:off x="900000" y="1268280"/>
            <a:ext cx="7315200" cy="423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жеймс Уатт (1736-181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6920" y="1483920"/>
            <a:ext cx="7490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тите развить мощность 1 Вт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нимите  груз массой 100 г на высоту 1 м    за    1 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900000" y="2133720"/>
            <a:ext cx="74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мощности, В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ого серд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мощность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– 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бегая по лестни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иная 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5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ь совершает прыжок высота 2 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Д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32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0" y="2924280"/>
            <a:ext cx="31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0" y="3141720"/>
            <a:ext cx="37450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= 3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,5 ∙10 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443640" y="26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7380360" y="29955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45164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23280" y="29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51640" y="4076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03640" y="407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5580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516720" y="43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94836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644364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5 10 </a:t>
            </a:r>
            <a:r>
              <a:rPr b="0" lang="ru-RU" sz="2800" spc="-1" strike="noStrike" baseline="22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659640" y="4365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8532720" y="4076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12000" y="5300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5 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796000" y="5229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. № 3.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мощность штангиста, поднимающего штангу массой 250 кг на высоту 2 м за 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шение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95280" y="2781360"/>
            <a:ext cx="2448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843280" y="1989000"/>
            <a:ext cx="1440" cy="453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900000" y="20620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 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0920" y="3141720"/>
            <a:ext cx="259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h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3132000" y="2276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291636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3851280" y="2854440"/>
            <a:ext cx="504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924360" y="234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851280" y="2278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2436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427640" y="256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flipV="1" rot="10836600">
            <a:off x="2916000" y="3430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2843280" y="4221000"/>
            <a:ext cx="17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9"/>
          <p:cNvSpPr/>
          <p:nvPr/>
        </p:nvSpPr>
        <p:spPr>
          <a:xfrm>
            <a:off x="2843280" y="4005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m 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1692360" y="523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1692360" y="5662440"/>
            <a:ext cx="3585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169236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4932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5003640" y="4726080"/>
            <a:ext cx="360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4932360" y="4654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7"/>
          <p:cNvSpPr/>
          <p:nvPr/>
        </p:nvSpPr>
        <p:spPr>
          <a:xfrm>
            <a:off x="5364000" y="45100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3003480" y="5291280"/>
            <a:ext cx="38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987640" y="5302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2500 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м =5000 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3132000" y="602136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2"/>
          <p:cNvSpPr/>
          <p:nvPr/>
        </p:nvSpPr>
        <p:spPr>
          <a:xfrm>
            <a:off x="3924360" y="56754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406728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067280" y="63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4427640" y="630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5724360" y="602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6156360" y="602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50 В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ча №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м/ч  1м/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A=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кН        12000Н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S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= 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=1200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м/с=12000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2843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611280" y="371628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572000" y="3284640"/>
            <a:ext cx="0" cy="20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. 28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- ?              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500кг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 м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0Н/кг · 2500кг =25000Н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А=2500Н· 12м=300000Дж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539640" y="2133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700360" y="1628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природных яв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рч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м мощность смер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по подъему - А=29400000Дж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струи воздух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4900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я часть смерч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14 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иаметр всей колоны смерча 200м, 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=314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24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Мощность всей колоны 490 МВт. Сравним с мощностью техники, созданной рукам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мы сегодня нового узнали на уро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у мы научилис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изменилось ваше настро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54.  Упр. 29 (3,6),   задание 18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втор: Дмитрюк Т.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КОУ «Ситниковс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пр. 28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?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F S          S=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т   120000кг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0 см   1,2м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000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              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40000Дж=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2556000" y="1844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356000" y="1844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39640" y="220500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900000" y="1268280"/>
            <a:ext cx="734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понятие мощ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ицы измерения мощ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ме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ешать задачи на применение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же лифт делает её быстрее вс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532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Мощнос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характеризует  быстроту выполнения работ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равна  отношению работы ко времени, за которое она соверш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2421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71640" y="2492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34800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067280" y="285264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472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356000" y="28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187280" y="3789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835280" y="3860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627280" y="422100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771640" y="350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843280" y="41497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500720" y="393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5076720" y="429264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580000" y="4005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572000" y="450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651640" y="458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64328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5148360" y="5445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65164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111600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1116000" y="357336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1116000" y="494172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363528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1"/>
          <p:cNvSpPr/>
          <p:nvPr/>
        </p:nvSpPr>
        <p:spPr>
          <a:xfrm>
            <a:off x="234000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125892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1763640" y="5805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2340000" y="5734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>
            <a:off x="1116000" y="558972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6"/>
          <p:cNvSpPr/>
          <p:nvPr/>
        </p:nvSpPr>
        <p:spPr>
          <a:xfrm>
            <a:off x="1116000" y="558972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3419640" y="558972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8"/>
          <p:cNvSpPr/>
          <p:nvPr/>
        </p:nvSpPr>
        <p:spPr>
          <a:xfrm>
            <a:off x="1116000" y="645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диницы измер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т - мощность, при которой в 1 с совершается работа в 1 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ват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6836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987640" y="321300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916360" y="24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джо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012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987640" y="3139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796000" y="2997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6732720" y="29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7596360" y="3357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596360" y="2708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25184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164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812000" y="335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24000" y="393372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1000000 Вт          1 Вт = 0,000001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кВт = 1000 Вт                1 Вт = 0,001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0,001 Вт               1 Вт = 1000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л.с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735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5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3:03:31Z</dcterms:created>
  <dc:creator>User</dc:creator>
  <dc:description/>
  <dc:language>en-US</dc:language>
  <cp:lastModifiedBy>LEGION</cp:lastModifiedBy>
  <dcterms:modified xsi:type="dcterms:W3CDTF">2015-03-30T08:21:04Z</dcterms:modified>
  <cp:revision>42</cp:revision>
  <dc:subject/>
  <dc:title>Слайд 1</dc:title>
</cp:coreProperties>
</file>