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6A31-F697-417F-B03F-20EA6B4EE7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5760-4FF4-4486-BF90-D0CF9C4EF33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78DD-3488-4FDE-948F-5E8DED875970}"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9D09-FC2F-4E1A-A205-63E6BA6D642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6998-DBF3-4574-8D78-AD3226F77CF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AB8C-5329-4773-B410-0197981872B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167B-BF50-4C59-8210-E37E82A5A3C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E0FA-73C5-4445-890F-BB1B1FDCA98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5D044-150F-4F7A-8D1A-6B95BE239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69AB-E35F-4922-AA61-F0803188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9B73B-2484-463F-962D-3C228BA2A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781F-CE44-4080-9421-7C05BB844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8B39D-0CD8-469B-9C20-41727993A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C6401-6BD5-4F7F-AD22-787B5A3F8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C3FFE-4DEF-4D9E-8632-7CD7DAC4C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A3190-B0FD-4203-8971-0B3D96838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E18E0-BE71-4B7A-AECB-20B810D37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2619F-CAF7-40A4-96BF-7C5719BD8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B5BF7-0C76-4015-84FA-6A67C5B73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781C-D86F-4B16-A9EE-068EA232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57E3-6EC6-4129-A09C-3FCA2097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FE208-BB8B-4A7B-BA46-6909B00E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E348E-9B57-41F2-9D7B-47BA331AC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D0746-C48B-412E-9ADF-04584FD95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7C233-DE9B-454A-A8EC-53F9A4FA9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0AEE-3A02-4520-A995-D619AE88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08036-EF73-43BC-844D-81B56C2F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7FE56-A9AF-4ADF-A5D7-0860B973D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85470-40E4-43CC-ADC0-830C25491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F96CF-3338-4F7F-943B-3B3F60783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D543-882A-47F5-847D-F9EB81BB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4608-654F-4186-86F7-BE6D569FB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D046-B1C4-46F9-922E-433D9CB97D7B}" type="datetime">
              <a:rPr b="0" lang="ru-RU"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716B-2141-4A97-9D8B-F3748D5DB94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294D-8419-456E-997F-6F0C52AA3A39}" type="datetime">
              <a:rPr b="0" lang="ru-RU" sz="1400" spc="-1" strike="noStrike">
                <a:solidFill>
                  <a:srgbClr val="ffffff"/>
                </a:solidFill>
                <a:latin typeface="Times New Roman"/>
              </a:rPr>
              <a:t>30.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B3E4-A993-40AB-B0C9-526F9BDFC93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4A9F-BC77-42B1-8800-B4D081256B26}"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0A0F-EC24-46C8-950C-CEB94645E661}"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2187-E7FB-47D9-9FC1-6548A795F692}"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AD75-3997-4BC7-809A-95F178BA74D0}"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1B36-D050-4A76-AED9-00DE2AC97A38}"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31B-D5B2-4DB0-BF34-040087EA45D7}"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66AD-DF1F-4F1E-AF4E-799527C88B87}" type="datetime">
              <a:rPr b="0" lang="ru-RU" sz="1400" spc="-1" strike="noStrike">
                <a:solidFill>
                  <a:srgbClr val="ffffff"/>
                </a:solidFill>
                <a:latin typeface="Arial"/>
              </a:rPr>
              <a:t>30.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