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6D3E-6400-4D7B-AD16-5CA8824F6FA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151E-B1CB-494B-8E46-1FD8DC853B7B}"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946C-E912-41D6-BC7B-2356CE0EE6B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433E-8363-4F91-A0EE-69880504D9D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CB21-636C-47DA-8D00-8BA3EE825853}"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C7CE-949E-4125-8A7A-122B0C5F56D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0733-C89D-4092-8335-BD42BE67B264}"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32B1-07DC-4213-A8F9-9BE2DB54D91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B8E44-7E21-4FE9-A400-E59FB1439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C611F-EDCE-4C96-8898-2EDD45A0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2CC81-FCDA-48C2-9093-26F936CDF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2DB90-96B7-43D3-A8B0-7B2482A85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6A3DC-F5A1-4275-9418-3E3FA4E96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2FFA3-E94A-4938-B837-A09ADFEEA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21E51-765F-470C-BF4B-5B5650A69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159A9-8518-4A14-B7CB-F11E2CB7F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50FF9-4C6F-4A0C-89AF-AAB5D1E4D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1563B-9722-455C-90B2-B5592F84A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9D734-22D3-4259-B9B6-7808CE5D9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90E2-8F6E-489F-9D25-48196675A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62355-445D-4A56-B34E-993BCC6BA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095CB-DDB9-4A50-8FC0-3B0A09037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3DA33-DAD9-445A-A71C-B9D6ED136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90C98-5A81-4450-94AD-A0EFAAB93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19DFB-AE73-4078-A391-174211B6B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DD6C-505B-4061-B8F3-76B12F02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9C5F9-6385-4022-A212-99CF26568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B9D41-8CDB-48E9-8B81-F0517835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29D48-5507-4C2A-8F06-93AB371D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39789-24E1-41BC-B70B-CA9B339B6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8B7C-D249-4F4C-8416-B8DD53EDB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3EC3C-352A-4E39-95FE-46D2D9186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EF2F-40A1-4B6D-8934-20D37F189CCD}" type="datetime">
              <a:rPr b="0" lang="ru-RU"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E67B-0816-4029-A8E9-D9E4E7F19D1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B09C-5200-4C50-8AE8-EC7F7F9E5A60}" type="datetime">
              <a:rPr b="0" lang="ru-RU" sz="1400" spc="-1" strike="noStrike">
                <a:solidFill>
                  <a:srgbClr val="ffffff"/>
                </a:solidFill>
                <a:latin typeface="Times New Roman"/>
              </a:rPr>
              <a:t>31.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407F-1D54-45D7-B0AF-ADA6305C5A2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013B-63EE-4046-8823-1CFE47637864}" type="datetime">
              <a:rPr b="0" lang="ru-RU" sz="1400" spc="-1" strike="noStrike">
                <a:solidFill>
                  <a:srgbClr val="ffffff"/>
                </a:solidFill>
                <a:latin typeface="Arial"/>
              </a:rPr>
              <a:t>31.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9946-3B67-4962-890E-5893BC6591EB}" type="datetime">
              <a:rPr b="0" lang="ru-RU" sz="1400" spc="-1" strike="noStrike">
                <a:solidFill>
                  <a:srgbClr val="ffffff"/>
                </a:solidFill>
                <a:latin typeface="Arial"/>
              </a:rPr>
              <a:t>31.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A010-0A05-4BA5-BB0D-C7A558FF720E}" type="datetime">
              <a:rPr b="0" lang="ru-RU" sz="1400" spc="-1" strike="noStrike">
                <a:solidFill>
                  <a:srgbClr val="ffffff"/>
                </a:solidFill>
                <a:latin typeface="Arial"/>
              </a:rPr>
              <a:t>31.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9DB5-3476-4098-8CB8-C27E187985C4}" type="datetime">
              <a:rPr b="0" lang="ru-RU" sz="1400" spc="-1" strike="noStrike">
                <a:solidFill>
                  <a:srgbClr val="ffffff"/>
                </a:solidFill>
                <a:latin typeface="Arial"/>
              </a:rPr>
              <a:t>31.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35DF-1776-4D91-9372-7B65E78BE815}" type="datetime">
              <a:rPr b="0" lang="ru-RU" sz="1400" spc="-1" strike="noStrike">
                <a:solidFill>
                  <a:srgbClr val="ffffff"/>
                </a:solidFill>
                <a:latin typeface="Arial"/>
              </a:rPr>
              <a:t>31.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7C47-8D7D-4AC5-BEB3-2748D7528413}" type="datetime">
              <a:rPr b="0" lang="ru-RU" sz="1400" spc="-1" strike="noStrike">
                <a:solidFill>
                  <a:srgbClr val="ffffff"/>
                </a:solidFill>
                <a:latin typeface="Arial"/>
              </a:rPr>
              <a:t>31.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64C1-7D73-42B6-A0C6-D6E36EBD6A12}" type="datetime">
              <a:rPr b="0" lang="ru-RU" sz="1400" spc="-1" strike="noStrike">
                <a:solidFill>
                  <a:srgbClr val="ffffff"/>
                </a:solidFill>
                <a:latin typeface="Arial"/>
              </a:rPr>
              <a:t>31.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