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7.png" ContentType="image/png"/>
  <Override PartName="/ppt/media/image37.png" ContentType="image/png"/>
  <Override PartName="/ppt/media/image14.jpeg" ContentType="image/jpeg"/>
  <Override PartName="/ppt/media/image33.png" ContentType="image/png"/>
  <Override PartName="/ppt/media/image8.png" ContentType="image/png"/>
  <Override PartName="/ppt/media/image38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32.png" ContentType="image/png"/>
  <Override PartName="/ppt/media/image25.jpeg" ContentType="image/jpeg"/>
  <Override PartName="/ppt/media/image13.jpeg" ContentType="image/jpeg"/>
  <Override PartName="/ppt/media/image39.png" ContentType="image/png"/>
  <Override PartName="/ppt/media/image34.png" ContentType="image/png"/>
  <Override PartName="/ppt/media/image12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23.jpeg" ContentType="image/jpeg"/>
  <Override PartName="/ppt/media/image15.jpeg" ContentType="image/jpeg"/>
  <Override PartName="/ppt/media/image16.png" ContentType="image/pn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59AB5-A435-41C0-8DE3-EE135D6F8B2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0 класс                                      ФИЗИКА 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ОЗНАНИЕ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F37C5-BF28-4F6D-9857-CDF37B11E7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Научная гипо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научная гипотеза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является предположением о том, что существует связь между известным и вновь объясняемым явлением. Но те гипотезы, которые не нашли подтверждения в экспериментах, считаются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ложными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и отвергаю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3D7D8-FED8-47AC-A0CE-975D7CDE872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Теор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Галил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вободное падение т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Ньюто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Закон Всемирного тягот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5705B-A793-4083-BB95-75DDF72723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УНДАМЕНТАЛЬНЫЕ ФИЗИЧЕСКИЕ ТЕОРИ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собенность фундаментальных физических теор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х преемственност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общая теория включает частные, уже известные зако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ет границы                           использования предыдущей теор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AC874-7167-42F9-B162-4BD0AF3777B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ИЗИЧЕСКИЕ ЗАКОНЫ И ТЕОРИИ, ГРАНИЦЫ ИХ ПРИМЕНИМОСТ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обобщения экспериментальных фактов, а также результатов деятельности людей устанавливаются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изические закон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устойчивые повторяющиеся объективные закономерности, существующие в природе. Наиболее важные законы устанавливают связь между физическими величинами, для чего необходимо эти величины измеря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Научный мет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пираясь на опыт, отыскиваю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личествен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математически формулируемые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оны природ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открытые законы проверяются практик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9B459-466F-4CEF-9718-54CB765F00E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ЗАДА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DC3B4-66D8-435F-BA5D-FE2FC8A1AAD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РЕ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МЫ ДЛЯ ПРОВЕДЕНИЯ ОПЫТА ДОЛЖНЫ БЫТЬ ОДИНАКОВЫМИ, Т.Е. УГОЛ ПРИ ВЕРШИНЕ РАВ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ЕТСВЕННО УГЛЫ ПАДЕНИЯ БУДУТ РАЗЛЧИНЫ В СЛУЧАЕ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И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Б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ПОМНИТЕ, КАК ПОСТРОИТЬ УГОЛ ПА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869DE-569C-49F5-AEA8-0475745B99E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ЗАДА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ЕГЭ 2009,А7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 ФОТОГРАФИИ ПОКАЗАНА УСТАНОВКА ДЛЯ ИССЛЕДОВАНИЯ РАВНОУС-КОРЕННОГО СКОЛЬЖЕНИЯ КАРЕТКИ (1) МАССОЙ 0,1 КГ ПО НАКЛОННОЙ ПЛОСКОСТИ, УСТАНОВЛЕННОЙ ПОД УГЛОМ 3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0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ГОРИЗОН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омент начала движения верхний датчик (А) включает секундомер (2), а при  прохождении каретки мимо нижнего датчика (В) секундомер выключается. Числа на линейке обозначают длину в см. Какое выражение описывает зависимость скорости каретки от времен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3B7F-7543-4FD3-B6F9-BB07F29078C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РЕ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ЙТЕ ФОРМУЛУ РАВНОУСКОРЕННОГО ДВИЖЕНИЯ БЕЗ НАЧАЛЬНОЙ СКОР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S=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ɑt</a:t>
            </a:r>
            <a:r>
              <a:rPr b="1" lang="en-US" sz="1200" spc="-1" strike="noStrike" baseline="30000">
                <a:solidFill>
                  <a:srgbClr val="ff0000"/>
                </a:solidFill>
                <a:latin typeface="Calibri"/>
                <a:ea typeface="Arial"/>
              </a:rPr>
              <a:t>2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/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НАХОДИТЕ УСКОРЕНИЕ  </a:t>
            </a: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  <a:ea typeface="Arial"/>
              </a:rPr>
              <a:t>1,25 м/с</a:t>
            </a:r>
            <a:r>
              <a:rPr b="1" lang="ru-RU" sz="1200" spc="-1" strike="noStrike" u="sng" baseline="30000">
                <a:solidFill>
                  <a:srgbClr val="ff0000"/>
                </a:solidFill>
                <a:uFillTx/>
                <a:latin typeface="Calibri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ЗАПИСЫВАЕТЕ УРАВНЕНИЕ СКОРОСТИ ОТ ВРЕМЕНИ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Ʋ</a:t>
            </a:r>
            <a:r>
              <a:rPr b="0" lang="el-GR" sz="1200" spc="-1" strike="noStrike">
                <a:solidFill>
                  <a:srgbClr val="ff0000"/>
                </a:solidFill>
                <a:latin typeface="Calibri"/>
              </a:rPr>
              <a:t> =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Ʋ</a:t>
            </a:r>
            <a:r>
              <a:rPr b="0" lang="ru-RU" sz="1200" spc="-1" strike="noStrike" baseline="-25000">
                <a:solidFill>
                  <a:srgbClr val="ff0000"/>
                </a:solidFill>
                <a:latin typeface="Calibri"/>
                <a:ea typeface="Arial"/>
              </a:rPr>
              <a:t>0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  <a:ea typeface="Arial"/>
              </a:rPr>
              <a:t> +</a:t>
            </a:r>
            <a:r>
              <a:rPr b="0" lang="el-GR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ɑ</a:t>
            </a:r>
            <a:r>
              <a:rPr b="0" i="1" lang="en-US" sz="1200" spc="-1" strike="noStrike">
                <a:solidFill>
                  <a:srgbClr val="ff0000"/>
                </a:solidFill>
                <a:latin typeface="Calibri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200" spc="-1" strike="noStrike" u="sng">
                <a:solidFill>
                  <a:srgbClr val="ff0000"/>
                </a:solidFill>
                <a:uFillTx/>
                <a:latin typeface="Calibri"/>
                <a:ea typeface="Arial"/>
              </a:rPr>
              <a:t>Ʋ</a:t>
            </a:r>
            <a:r>
              <a:rPr b="1" lang="el-GR" sz="1200" spc="-1" strike="noStrike" u="sng">
                <a:solidFill>
                  <a:srgbClr val="ff0000"/>
                </a:solidFill>
                <a:uFillTx/>
                <a:latin typeface="Calibri"/>
              </a:rPr>
              <a:t> = 1,25</a:t>
            </a:r>
            <a:r>
              <a:rPr b="1" i="1" lang="en-US" sz="1200" spc="-1" strike="noStrike" u="sng">
                <a:solidFill>
                  <a:srgbClr val="ff0000"/>
                </a:solidFill>
                <a:uFillTx/>
                <a:latin typeface="Calibri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75382-CABA-48BF-A78E-F22D6509F09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ЗАДА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8A4D7-0F3B-417F-A60F-BE0E3E1D4FE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УНДАМЕНТАЛЬНЫЕ ВЗАИМОДЕЙСТВ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Все бесконечное разнообразие физических процессов, происходящих в нашем мире, можно объяснить существованием в природе очень малого количества фундаментальных взаимодейств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A601E-AE66-498C-9679-3B73F6649D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ЧТО ИЗУЧАЕТ ФИЗИ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Black"/>
              </a:rPr>
              <a:t>Физика изучает мир, в котором мы живем, явления, в нем происходящие, открывает законы, которым подчиняются все эти явления, устанавливает их взаимосвяз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96C4E-2B3D-4234-BBFE-0970450F7F2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ГРАВИТАЦИО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35D72-8E8C-4985-82E2-44E6EDE2629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ЭЛЕКТРОМАГНИТ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96EDD-A869-4699-9DC9-7392E29F0C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ИЛЬНОЕ (ЯДЕРНО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078B9-5E44-4B63-8E71-108A5D050C4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ЛАБОЕ (ЯДЕРНО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04A84-D42E-45F3-B375-7CB45D6E9D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ИЗИЧЕСКИЕ ВЕЛИЧИ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ДЛ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2aac"/>
                </a:solidFill>
                <a:latin typeface="Calibri"/>
              </a:rPr>
              <a:t>Длина</a:t>
            </a:r>
            <a:r>
              <a:rPr b="1" lang="ru-RU" sz="1200" spc="-1" strike="noStrike">
                <a:solidFill>
                  <a:srgbClr val="332aac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332aac"/>
                </a:solidFill>
                <a:latin typeface="Calibri"/>
              </a:rPr>
              <a:t>–</a:t>
            </a:r>
            <a:r>
              <a:rPr b="1" lang="ru-RU" sz="1200" spc="-1" strike="noStrike">
                <a:solidFill>
                  <a:srgbClr val="332aac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332aac"/>
                </a:solidFill>
                <a:latin typeface="Calibri"/>
              </a:rPr>
              <a:t>мера для измерения расстояния</a:t>
            </a:r>
            <a:r>
              <a:rPr b="1" lang="ru-RU" sz="1200" spc="-1" strike="noStrike">
                <a:solidFill>
                  <a:srgbClr val="332aac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2aac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332aac"/>
                </a:solidFill>
                <a:latin typeface="Calibri"/>
              </a:rPr>
              <a:t>Метр </a:t>
            </a:r>
            <a:r>
              <a:rPr b="1" lang="ru-RU" sz="1200" spc="-1" strike="noStrike">
                <a:solidFill>
                  <a:srgbClr val="332aac"/>
                </a:solidFill>
                <a:latin typeface="Calibri"/>
              </a:rPr>
              <a:t>– </a:t>
            </a:r>
            <a:r>
              <a:rPr b="1" i="1" lang="ru-RU" sz="1200" spc="-1" strike="noStrike">
                <a:solidFill>
                  <a:srgbClr val="332aac"/>
                </a:solidFill>
                <a:latin typeface="Calibri"/>
              </a:rPr>
              <a:t>единица длины, равная расстоянию, которое проходит свет в вакууме за время ½ 99 792 458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7B300-4D69-4C4F-B920-46B3E51679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ИЗИЧЕСКИЕ ВЕЛИЧИНЫ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2aac"/>
                </a:solidFill>
                <a:latin typeface="Calibri"/>
              </a:rPr>
              <a:t>Время – мера измерение разных промежутков времени</a:t>
            </a:r>
            <a:r>
              <a:rPr b="1" lang="ru-RU" sz="1200" spc="-1" strike="noStrike">
                <a:solidFill>
                  <a:srgbClr val="332aac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15B5A-4ABB-4558-A5AC-5899E2ECF7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ИЗИЧЕСКИЕ ВЕЛИЧИНЫ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2aac"/>
                </a:solidFill>
                <a:latin typeface="Calibri"/>
              </a:rPr>
              <a:t>Килограмм – единица массы, равная массе международного эталона килограмма</a:t>
            </a:r>
            <a:r>
              <a:rPr b="1" lang="ru-RU" sz="1200" spc="-1" strike="noStrike">
                <a:solidFill>
                  <a:srgbClr val="332aac"/>
                </a:solidFill>
                <a:latin typeface="Calibri"/>
              </a:rPr>
              <a:t>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риблизительно равен массе 1 л чистой воды при 15 </a:t>
            </a:r>
            <a:r>
              <a:rPr b="1" lang="ru-RU" sz="1200" spc="-1" strike="noStrike" baseline="30000">
                <a:solidFill>
                  <a:srgbClr val="ffff00"/>
                </a:solidFill>
                <a:latin typeface="Calibri"/>
              </a:rPr>
              <a:t>0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C9134-7E96-4140-9EE7-F773D63F0C1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ИЗМЕРЕНИЕ ФИЗИЧЕСКИХ ВЕЛИЧ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Измерение физических велич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есть действие, выполняемое с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мощью средств измерен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хождения значения физической величин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инятых единиц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рямое измерение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змерение, при котором искомое значение величины находят непосредственно из опытных данных. Например: измерение напряжения при помощи вольтмет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C6A15-E70B-40E3-8E3A-E33481C020F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ИЗМЕРЕНИЕ ФИЗИЧЕСКИХ ВЕЛИЧ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Косвенное измерение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змерение, при котором искомое значение величины находят на основании известной зависимости между этой величиной и величинами, подвергаемыми прямым измерения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меры – измерение сопротивления проводника и плотности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EF9F2-2DF1-4F94-88A1-0B91FB04A1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ИЗМЕРЕНИЕ ФИЗИЧЕСКИХ ВЕЛИЧ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огрешность измерения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 —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оценка отклонения величины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измеренного значения величины от её истинного значения. Погрешность измерения является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характеристикой (мерой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точности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измер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огрешность измерительного прибора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 разность между показанием прибора и истинным значением измеряемой велич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огрешность измерения равна половине цены деления приб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Абсолютная погрешность измерения (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Δизм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.)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 разность между действительным и истинным значениями измеряемой величин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Δизм.=Хд. - Хи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Относительная погрешность измерения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(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δизм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.) - отношение абсолютной погрешности измерения к истинному значению измеряемой величины, выраженное в %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09C22-4683-4CCF-9507-9412F3E9108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Возникновение физик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B6090-C67E-43AD-879A-590E5E2F15F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Материя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Все то, что существует во Вселенной, независимо от нашего сознания. Материя в нашем мире существует в виде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вещества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и пол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E4E4-EF4D-488E-8982-8954DEF3578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Что и как изучает физ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B9A79-4003-4F75-A19C-9827E49C67C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Эволюция взгляда на физическую картину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9AABE-B711-49E0-8B86-6002635F97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ТЕХНИЧЕСКИЕ УСТРОЙСТВА ДЛЯ ИЗУЧЕНИЯ ВСЕЛЕННОЙ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04192-7050-42C6-B15A-43F8B58B275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ТЕХНИЧЕСКИЕ УСТРОЙСТВА ДЛЯ ИЗУЧЕНИЯ ВСЕЛЕН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DDCC6-0D3B-4B9F-916E-016EED8DF93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ЭТАПЫ НАУЧНОГО ПОЗНАН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57BDC-952E-4080-AFC9-6684BCFE30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D1EE-4307-4B9D-8409-A6D54703A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FB07-C962-4E72-B3B2-A90AEDEEF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56DE-FE30-446F-8885-A7CF51B1F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9AC9-D3C4-4647-AE24-943FC02A2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6AE6-B140-46CA-948D-65B781125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FE4B-F521-4C3C-8F1B-4A3903CD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7F20-5A94-4EF1-8C6A-94265FBFF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8AF4-F298-4F7F-8A2B-1808399D4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12CA-1F7A-4294-97F5-967504A7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9763-9D1A-4F84-A762-72AA9A68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97B2-550F-4A39-A5A0-3442D306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CD0C-1757-4D38-B0A0-9D3787BB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E2050-694F-4FA5-82FF-6AD449BD5F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hyperlink" Target="file:///D:/&#1052;&#1040;&#1056;&#1048;&#1053;&#1040;%20&#1044;&#1054;&#1052;/&#1060;&#1048;&#1047;&#1048;&#1050;&#1040;%202010-2011/10%20&#1087;&#1088;&#1086;&#1092;&#1080;&#1083;&#1100;/http.doc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hyperlink" Target="file:///D:/&#1052;&#1040;&#1056;&#1048;&#1053;&#1040;%20&#1044;&#1054;&#1052;/&#1060;&#1048;&#1047;&#1048;&#1050;&#1040;%202010-2011/10%20&#1087;&#1088;&#1086;&#1092;&#1080;&#1083;&#1100;/http.doc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115920"/>
            <a:ext cx="8280360" cy="197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10 класс                                      ФИЗИКА И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ЗНАНИЕ МИ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1042920" y="5300640"/>
            <a:ext cx="7705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физики Чижова Марина Валентино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. Тверь, МОУ СОШ № 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Научная гипоте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890360"/>
            <a:ext cx="4680000" cy="42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научная гипотеза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является предположением о том, что существует связь между известным и вновь объясняемым явлением. Но те гипотезы, которые не нашли подтверждения в экспериментах, считаются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ложными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и отверга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Ньютон"/>
          <p:cNvPicPr/>
          <p:nvPr/>
        </p:nvPicPr>
        <p:blipFill>
          <a:blip r:embed="rId1"/>
          <a:stretch/>
        </p:blipFill>
        <p:spPr>
          <a:xfrm>
            <a:off x="6227640" y="1916280"/>
            <a:ext cx="2081160" cy="25192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6372360" y="5013360"/>
            <a:ext cx="23032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И. Нью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Теор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Галил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вободное падение т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ьюто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Закон Всемирного тяго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4"/>
          <p:cNvSpPr/>
          <p:nvPr/>
        </p:nvSpPr>
        <p:spPr>
          <a:xfrm>
            <a:off x="4500720" y="2781360"/>
            <a:ext cx="0" cy="647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4500720" y="4508640"/>
            <a:ext cx="0" cy="647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324000" y="5157720"/>
            <a:ext cx="8496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ы теории проверяются постоянно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эксперимент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оторый является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критерием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ьности теор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ФУНДАМЕНТАЛЬНЫЕ ФИЗИЧЕСКИЕ ТЕОР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8920" y="1557000"/>
            <a:ext cx="8713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Особенность фундаментальных физических теорий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их преемственности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олее общая теория включает частные, уже известные закон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пределяет границы                           использования предыдущей теори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1"/>
          <a:stretch/>
        </p:blipFill>
        <p:spPr>
          <a:xfrm>
            <a:off x="-195120" y="-6480"/>
            <a:ext cx="9339120" cy="15433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результате обобщения экспериментальных фактов, а также результатов деятельности людей устанавливаются </a:t>
            </a:r>
            <a:r>
              <a:rPr b="1" lang="ru-RU" sz="2700" spc="-1" strike="noStrike">
                <a:solidFill>
                  <a:srgbClr val="ff0000"/>
                </a:solidFill>
                <a:latin typeface="Arial"/>
              </a:rPr>
              <a:t>физические законы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— устойчивые повторяющиеся объективные закономерности, существующие в природе. Наиболее важные законы устанавливают связь между физическими величинами, для чего необходимо эти величины измерять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Arial"/>
              </a:rPr>
              <a:t>Научный метод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, опираясь на опыт, отыскивают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количественные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(математически формулируемые)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законы природы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; открытые законы проверяются практикой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http://markx.narod.ru/pic/poznanie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http://markx.narod.ru/pic/poznanie.gif"/>
          <p:cNvPicPr/>
          <p:nvPr/>
        </p:nvPicPr>
        <p:blipFill>
          <a:blip r:embed="rId3"/>
          <a:stretch/>
        </p:blipFill>
        <p:spPr>
          <a:xfrm>
            <a:off x="0" y="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Заголовок 1" descr=""/>
          <p:cNvPicPr/>
          <p:nvPr/>
        </p:nvPicPr>
        <p:blipFill>
          <a:blip r:embed="rId1"/>
          <a:srcRect l="0" t="13707" r="0" b="10041"/>
          <a:stretch/>
        </p:blipFill>
        <p:spPr>
          <a:xfrm>
            <a:off x="539640" y="1341360"/>
            <a:ext cx="8290080" cy="2808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179280" y="4437000"/>
            <a:ext cx="7324920" cy="154296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12"/>
          <p:cNvSpPr/>
          <p:nvPr/>
        </p:nvSpPr>
        <p:spPr>
          <a:xfrm>
            <a:off x="7524720" y="4437000"/>
            <a:ext cx="138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Б и 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Б и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А и 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В и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РЕШ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ЗМЫ ДЛЯ ПРОВЕДЕНИЯ ОПЫТА ДОЛЖНЫ БЫТЬ ОДИНАКОВЫМИ, Т.Е. УГОЛ ПРИ ВЕРШИНЕ РАВ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ОТЕТСВЕННО УГЛЫ ПАДЕНИЯ БУДУТ РАЗЛЧИНЫ В СЛУЧАЕ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И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Б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ПОМНИТЕ, КАК ПОСТРОИТЬ УГОЛ ПА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108000" y="1341360"/>
            <a:ext cx="3959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ЕГЭ 2009,А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ФОТОГРАФИИ ПОКАЗАНА УСТАНОВКА ДЛЯ ИССЛЕДОВАНИЯ РАВНОУС-КОРЕННОГО СКОЛЬЖЕНИЯ КАРЕТКИ (1) МАССОЙ 0,1 КГ ПО НАКЛОННОЙ ПЛОСКОСТИ, УСТАНОВЛЕННОЙ ПОД УГЛОМ 3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ГОРИЗОН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4211640" y="1197000"/>
            <a:ext cx="4932360" cy="381636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0" y="3860640"/>
            <a:ext cx="4608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момент начала движения верхний датчик (А) включает секундомер (2), а при  прохождении каретки мимо нижнего датчика (В) секундомер выключается. Числа на линейке обозначают длину в см. Какое выражение описывает зависимость скорости каретки от време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1"/>
          <p:cNvSpPr/>
          <p:nvPr/>
        </p:nvSpPr>
        <p:spPr>
          <a:xfrm>
            <a:off x="4932360" y="4941720"/>
            <a:ext cx="216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Ʋ</a:t>
            </a:r>
            <a:r>
              <a:rPr b="1" lang="el-GR" sz="2400" spc="-1" strike="noStrike">
                <a:solidFill>
                  <a:srgbClr val="ff0000"/>
                </a:solidFill>
                <a:latin typeface="Constantia"/>
                <a:ea typeface="Arial"/>
              </a:rPr>
              <a:t> = 1,25</a:t>
            </a:r>
            <a:r>
              <a:rPr b="1" i="1" lang="en-US" sz="2400" spc="-1" strike="noStrike">
                <a:solidFill>
                  <a:srgbClr val="ff0000"/>
                </a:solidFill>
                <a:latin typeface="Constantia"/>
                <a:ea typeface="Arial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Ʋ</a:t>
            </a:r>
            <a:r>
              <a:rPr b="1" i="1" lang="el-GR" sz="2400" spc="-1" strike="noStrike">
                <a:solidFill>
                  <a:srgbClr val="ff0000"/>
                </a:solidFill>
                <a:latin typeface="Constantia"/>
                <a:ea typeface="Arial"/>
              </a:rPr>
              <a:t> = 0,5</a:t>
            </a:r>
            <a:r>
              <a:rPr b="1" i="1" lang="en-US" sz="2400" spc="-1" strike="noStrike">
                <a:solidFill>
                  <a:srgbClr val="ff0000"/>
                </a:solidFill>
                <a:latin typeface="Constantia"/>
                <a:ea typeface="Arial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Ʋ</a:t>
            </a:r>
            <a:r>
              <a:rPr b="1" i="1" lang="el-GR" sz="2400" spc="-1" strike="noStrike">
                <a:solidFill>
                  <a:srgbClr val="ff0000"/>
                </a:solidFill>
                <a:latin typeface="Constantia"/>
                <a:ea typeface="Arial"/>
              </a:rPr>
              <a:t> = 2,5</a:t>
            </a:r>
            <a:r>
              <a:rPr b="1" i="1" lang="en-US" sz="2400" spc="-1" strike="noStrike">
                <a:solidFill>
                  <a:srgbClr val="ff0000"/>
                </a:solidFill>
                <a:latin typeface="Constantia"/>
                <a:ea typeface="Arial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Ʋ</a:t>
            </a:r>
            <a:r>
              <a:rPr b="1" i="1" lang="el-GR" sz="2400" spc="-1" strike="noStrike">
                <a:solidFill>
                  <a:srgbClr val="ff0000"/>
                </a:solidFill>
                <a:latin typeface="Constantia"/>
                <a:ea typeface="Arial"/>
              </a:rPr>
              <a:t> = 1,9</a:t>
            </a:r>
            <a:r>
              <a:rPr b="1" i="1" lang="en-US" sz="2400" spc="-1" strike="noStrike">
                <a:solidFill>
                  <a:srgbClr val="ff0000"/>
                </a:solidFill>
                <a:latin typeface="Constantia"/>
                <a:ea typeface="Arial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УЙТЕ ФОРМУЛУ РАВНОУСКОРЕННОГО ДВИЖЕНИЯ БЕЗ НАЧАЛЬНОЙ СКОР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=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ɑt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ХОДИТЕ УСКОРЕНИЕ 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1,25 м/с</a:t>
            </a:r>
            <a:r>
              <a:rPr b="1" lang="ru-RU" sz="3200" spc="-1" strike="noStrike" u="sng" baseline="30000">
                <a:solidFill>
                  <a:srgbClr val="ff0000"/>
                </a:solidFill>
                <a:uFillTx/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ЗАПИСЫВАЕТЕ УРАВНЕНИЕ СКОРОСТИ ОТ ВРЕМЕНИ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Ʋ</a:t>
            </a:r>
            <a:r>
              <a:rPr b="0" lang="el-GR" sz="3200" spc="-1" strike="noStrike">
                <a:solidFill>
                  <a:srgbClr val="ff0000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Ʋ</a:t>
            </a:r>
            <a:r>
              <a:rPr b="0" lang="ru-RU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0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 +</a:t>
            </a:r>
            <a:r>
              <a:rPr b="0" lang="el-GR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ɑ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Ʋ</a:t>
            </a:r>
            <a:r>
              <a:rPr b="1" lang="el-GR" sz="3200" spc="-1" strike="noStrike" u="sng">
                <a:solidFill>
                  <a:srgbClr val="ff0000"/>
                </a:solidFill>
                <a:uFillTx/>
                <a:latin typeface="Arial"/>
              </a:rPr>
              <a:t> = 1,25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РЕШ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Заголовок 1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8717040" cy="2638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"/>
          <p:cNvPicPr/>
          <p:nvPr/>
        </p:nvPicPr>
        <p:blipFill>
          <a:blip r:embed="rId2"/>
          <a:stretch/>
        </p:blipFill>
        <p:spPr>
          <a:xfrm>
            <a:off x="0" y="4292640"/>
            <a:ext cx="9067680" cy="11905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4500720" y="4149720"/>
            <a:ext cx="23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3"/>
          <a:srcRect l="50020" t="0" r="23777" b="0"/>
          <a:stretch/>
        </p:blipFill>
        <p:spPr>
          <a:xfrm>
            <a:off x="4500720" y="4292640"/>
            <a:ext cx="2376360" cy="119052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1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ФУНДАМЕНТАЛЬНЫЕ ВЗАИМОДЕЙСТВ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0" y="1341360"/>
            <a:ext cx="896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Все бесконечное разнообразие физических процессов, происходящих в нашем мире, можно объяснить существованием в природе очень малого количества фундаментальных взаимодейств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Organization Chart 4"/>
          <p:cNvGrpSpPr/>
          <p:nvPr/>
        </p:nvGrpSpPr>
        <p:grpSpPr>
          <a:xfrm>
            <a:off x="179280" y="3068640"/>
            <a:ext cx="8856360" cy="3353400"/>
            <a:chOff x="179280" y="3068640"/>
            <a:chExt cx="8856360" cy="3353400"/>
          </a:xfrm>
        </p:grpSpPr>
        <p:cxnSp>
          <p:nvCxnSpPr>
            <p:cNvPr id="137" name="_s1028"/>
            <p:cNvCxnSpPr>
              <a:stCxn id="138" idx="0"/>
              <a:endCxn id="139" idx="2"/>
            </p:cNvCxnSpPr>
            <p:nvPr/>
          </p:nvCxnSpPr>
          <p:spPr>
            <a:xfrm flipV="1" rot="16200000">
              <a:off x="5937120" y="2782080"/>
              <a:ext cx="763200" cy="3465720"/>
            </a:xfrm>
            <a:prstGeom prst="bentConnector3">
              <a:avLst>
                <a:gd name="adj1" fmla="val 1495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1029"/>
            <p:cNvCxnSpPr>
              <a:stCxn id="141" idx="0"/>
              <a:endCxn id="139" idx="2"/>
            </p:cNvCxnSpPr>
            <p:nvPr/>
          </p:nvCxnSpPr>
          <p:spPr>
            <a:xfrm flipV="1" rot="16200000">
              <a:off x="4789080" y="3930120"/>
              <a:ext cx="763200" cy="1169640"/>
            </a:xfrm>
            <a:prstGeom prst="bentConnector3">
              <a:avLst>
                <a:gd name="adj1" fmla="val 1495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2" name="_s1030"/>
            <p:cNvCxnSpPr>
              <a:stCxn id="143" idx="0"/>
              <a:endCxn id="139" idx="2"/>
            </p:cNvCxnSpPr>
            <p:nvPr/>
          </p:nvCxnSpPr>
          <p:spPr>
            <a:xfrm flipH="1" flipV="1" rot="5400000">
              <a:off x="3641040" y="3951360"/>
              <a:ext cx="763200" cy="1127520"/>
            </a:xfrm>
            <a:prstGeom prst="bentConnector3">
              <a:avLst>
                <a:gd name="adj1" fmla="val 1495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4" name="_s1031"/>
            <p:cNvCxnSpPr>
              <a:stCxn id="145" idx="0"/>
              <a:endCxn id="139" idx="2"/>
            </p:cNvCxnSpPr>
            <p:nvPr/>
          </p:nvCxnSpPr>
          <p:spPr>
            <a:xfrm flipH="1" flipV="1" rot="5400000">
              <a:off x="2493000" y="2802960"/>
              <a:ext cx="763200" cy="3423960"/>
            </a:xfrm>
            <a:prstGeom prst="bentConnector3">
              <a:avLst>
                <a:gd name="adj1" fmla="val 1495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9" name="_s1032"/>
            <p:cNvSpPr/>
            <p:nvPr/>
          </p:nvSpPr>
          <p:spPr>
            <a:xfrm>
              <a:off x="2914920" y="3068640"/>
              <a:ext cx="3339000" cy="106524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Взаимодейств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1033"/>
            <p:cNvSpPr/>
            <p:nvPr/>
          </p:nvSpPr>
          <p:spPr>
            <a:xfrm>
              <a:off x="179280" y="4896720"/>
              <a:ext cx="1968120" cy="152532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Гравита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ционно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1034"/>
            <p:cNvSpPr/>
            <p:nvPr/>
          </p:nvSpPr>
          <p:spPr>
            <a:xfrm>
              <a:off x="2475360" y="4896720"/>
              <a:ext cx="1968120" cy="152532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Электро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магнитно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1035"/>
            <p:cNvSpPr/>
            <p:nvPr/>
          </p:nvSpPr>
          <p:spPr>
            <a:xfrm>
              <a:off x="4771440" y="4896720"/>
              <a:ext cx="1968120" cy="152532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Сильно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036"/>
            <p:cNvSpPr/>
            <p:nvPr/>
          </p:nvSpPr>
          <p:spPr>
            <a:xfrm>
              <a:off x="7067520" y="4896720"/>
              <a:ext cx="1968120" cy="152532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Слабо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ЧТО ИЗУЧАЕТ ФИЗИК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1"/>
          <p:cNvPicPr/>
          <p:nvPr/>
        </p:nvPicPr>
        <p:blipFill>
          <a:blip r:embed="rId1"/>
          <a:stretch/>
        </p:blipFill>
        <p:spPr>
          <a:xfrm>
            <a:off x="250920" y="1268280"/>
            <a:ext cx="5184720" cy="48405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7"/>
          <p:cNvSpPr/>
          <p:nvPr/>
        </p:nvSpPr>
        <p:spPr>
          <a:xfrm>
            <a:off x="5724360" y="1773360"/>
            <a:ext cx="3024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Физика изучает мир, в котором мы живем, явления, в нем происходящие, открывает законы, которым подчиняются все эти явления, устанавливает их взаимосвяз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ГРАВИТАЦИОН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Рисунок 52" descr="_11"/>
          <p:cNvPicPr/>
          <p:nvPr/>
        </p:nvPicPr>
        <p:blipFill>
          <a:blip r:embed="rId1"/>
          <a:stretch/>
        </p:blipFill>
        <p:spPr>
          <a:xfrm>
            <a:off x="324000" y="1557360"/>
            <a:ext cx="4897440" cy="3699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5292720" y="1484280"/>
            <a:ext cx="338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Радиус действия, м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-Бесконечно больш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5435640" y="2781360"/>
            <a:ext cx="3382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Место взаимодействия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-Между телами, имеющими масс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5435640" y="4653000"/>
            <a:ext cx="33829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Переносчик взаимо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равито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611280" y="566100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ДАЛЬНОДЕЙСТВУЮ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ЭЛЕКТРОМАГНИТ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5292720" y="1484280"/>
            <a:ext cx="338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Радиус действия, м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-Бесконечно больш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5435640" y="3068640"/>
            <a:ext cx="3382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Место взаимодействия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-Между телами, имеющими заря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5435640" y="4653000"/>
            <a:ext cx="3382920" cy="11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Переносчик взаимо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Фото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611280" y="566100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ДАЛЬНОДЕЙСТВУЮ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Magnet0873"/>
          <p:cNvPicPr/>
          <p:nvPr/>
        </p:nvPicPr>
        <p:blipFill>
          <a:blip r:embed="rId1"/>
          <a:stretch/>
        </p:blipFill>
        <p:spPr>
          <a:xfrm>
            <a:off x="0" y="1268280"/>
            <a:ext cx="3313080" cy="22240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Картинка 8 из 1768"/>
          <p:cNvPicPr/>
          <p:nvPr/>
        </p:nvPicPr>
        <p:blipFill>
          <a:blip r:embed="rId2"/>
          <a:stretch/>
        </p:blipFill>
        <p:spPr>
          <a:xfrm>
            <a:off x="539640" y="220500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Картинка 96 из 1768"/>
          <p:cNvPicPr/>
          <p:nvPr/>
        </p:nvPicPr>
        <p:blipFill>
          <a:blip r:embed="rId3"/>
          <a:stretch/>
        </p:blipFill>
        <p:spPr>
          <a:xfrm>
            <a:off x="1547640" y="2924280"/>
            <a:ext cx="3816360" cy="280836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ИЛЬНОЕ (ЯДЕРНОЕ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5292720" y="1484280"/>
            <a:ext cx="338292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Радиус действия, м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 фм (фемтометр, 10</a:t>
            </a:r>
            <a:r>
              <a:rPr b="1" lang="ru-RU" sz="2000" spc="-1" strike="noStrike" baseline="30000">
                <a:solidFill>
                  <a:srgbClr val="ff0000"/>
                </a:solidFill>
                <a:latin typeface="Arial"/>
              </a:rPr>
              <a:t>-15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435640" y="2492280"/>
            <a:ext cx="3382920" cy="11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Место взаимодействия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-Между нуклонам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эл. частиц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5435640" y="3716280"/>
            <a:ext cx="3382920" cy="11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Переносчик взаимо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люо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эл. частиц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611280" y="566100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КОРТКОДЕЙСТВУЮ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7" descr="Формула Эйншейна"/>
          <p:cNvPicPr/>
          <p:nvPr/>
        </p:nvPicPr>
        <p:blipFill>
          <a:blip r:embed="rId1"/>
          <a:stretch/>
        </p:blipFill>
        <p:spPr>
          <a:xfrm>
            <a:off x="2124000" y="6093000"/>
            <a:ext cx="1511280" cy="420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152712400053405a9d365b9ca4d042baf0cc5080fe"/>
          <p:cNvPicPr/>
          <p:nvPr/>
        </p:nvPicPr>
        <p:blipFill>
          <a:blip r:embed="rId2"/>
          <a:stretch/>
        </p:blipFill>
        <p:spPr>
          <a:xfrm>
            <a:off x="179280" y="1341360"/>
            <a:ext cx="3168720" cy="2938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Удивительный мир внутри атомного ядра. Лекция для школьников атом,протон, кварки, масса"/>
          <p:cNvPicPr/>
          <p:nvPr/>
        </p:nvPicPr>
        <p:blipFill>
          <a:blip r:embed="rId3"/>
          <a:stretch/>
        </p:blipFill>
        <p:spPr>
          <a:xfrm>
            <a:off x="684360" y="2205000"/>
            <a:ext cx="4679640" cy="35100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0"/>
          <p:cNvSpPr/>
          <p:nvPr/>
        </p:nvSpPr>
        <p:spPr>
          <a:xfrm>
            <a:off x="5364000" y="5300640"/>
            <a:ext cx="33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СТАБИЛЬНОСТЬ ЯДРА АТ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1" descr="142"/>
          <p:cNvPicPr/>
          <p:nvPr/>
        </p:nvPicPr>
        <p:blipFill>
          <a:blip r:embed="rId4"/>
          <a:stretch/>
        </p:blipFill>
        <p:spPr>
          <a:xfrm>
            <a:off x="900000" y="1341360"/>
            <a:ext cx="7201080" cy="512460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ЛАБОЕ (ЯДЕРНОЕ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5292720" y="1484280"/>
            <a:ext cx="338292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Радиус действия, м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 ам (аттометр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, 10</a:t>
            </a:r>
            <a:r>
              <a:rPr b="1" lang="ru-RU" sz="2000" spc="-1" strike="noStrike" baseline="30000">
                <a:solidFill>
                  <a:srgbClr val="ff0000"/>
                </a:solidFill>
                <a:latin typeface="Arial"/>
              </a:rPr>
              <a:t>-17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5435640" y="3068640"/>
            <a:ext cx="338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Место взаимодействия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–Между квар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5435640" y="3789360"/>
            <a:ext cx="3382920" cy="11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Переносчик взаимо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озо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250920" y="595008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КОРТКОДЕЙСТВУЮ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5364000" y="5013360"/>
            <a:ext cx="35290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2aac"/>
                </a:solidFill>
                <a:latin typeface="Arial"/>
              </a:rPr>
              <a:t>Радиоактивный распад уран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2aac"/>
                </a:solidFill>
                <a:latin typeface="Arial"/>
              </a:rPr>
              <a:t>реакции термоядерного синтеза на Солнц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8" descr="1"/>
          <p:cNvPicPr/>
          <p:nvPr/>
        </p:nvPicPr>
        <p:blipFill>
          <a:blip r:embed="rId1"/>
          <a:stretch/>
        </p:blipFill>
        <p:spPr>
          <a:xfrm>
            <a:off x="468360" y="1268280"/>
            <a:ext cx="4240080" cy="4525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" descr="Удивительный мир внутри атомного ядра. Лекция для школьников атом,протон, кварки, масса"/>
          <p:cNvPicPr/>
          <p:nvPr/>
        </p:nvPicPr>
        <p:blipFill>
          <a:blip r:embed="rId2"/>
          <a:stretch/>
        </p:blipFill>
        <p:spPr>
          <a:xfrm>
            <a:off x="395280" y="1773360"/>
            <a:ext cx="5113440" cy="383544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ИЗИЧЕСКИЕ ВЕЛИЧИН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Рисунок 13" descr="длина"/>
          <p:cNvPicPr/>
          <p:nvPr/>
        </p:nvPicPr>
        <p:blipFill>
          <a:blip r:embed="rId1"/>
          <a:stretch/>
        </p:blipFill>
        <p:spPr>
          <a:xfrm>
            <a:off x="971640" y="1413000"/>
            <a:ext cx="7343640" cy="2273040"/>
          </a:xfrm>
          <a:prstGeom prst="rect">
            <a:avLst/>
          </a:prstGeom>
          <a:ln w="25560">
            <a:solidFill>
              <a:srgbClr val="ff00ff"/>
            </a:solidFill>
            <a:miter/>
          </a:ln>
        </p:spPr>
      </p:pic>
      <p:sp>
        <p:nvSpPr>
          <p:cNvPr id="185" name="Text Box 4"/>
          <p:cNvSpPr/>
          <p:nvPr/>
        </p:nvSpPr>
        <p:spPr>
          <a:xfrm>
            <a:off x="0" y="3860640"/>
            <a:ext cx="8964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Длина</a:t>
            </a:r>
            <a:r>
              <a:rPr b="1" lang="ru-RU" sz="2400" spc="-1" strike="noStrike">
                <a:solidFill>
                  <a:srgbClr val="332aac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–</a:t>
            </a:r>
            <a:r>
              <a:rPr b="1" lang="ru-RU" sz="2400" spc="-1" strike="noStrike">
                <a:solidFill>
                  <a:srgbClr val="332aac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мера для измерения расстояния</a:t>
            </a:r>
            <a:r>
              <a:rPr b="1" lang="ru-RU" sz="2400" spc="-1" strike="noStrike">
                <a:solidFill>
                  <a:srgbClr val="332aa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2aac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Метр </a:t>
            </a:r>
            <a:r>
              <a:rPr b="1" lang="ru-RU" sz="2400" spc="-1" strike="noStrike">
                <a:solidFill>
                  <a:srgbClr val="332aac"/>
                </a:solidFill>
                <a:latin typeface="Arial"/>
              </a:rPr>
              <a:t>– </a:t>
            </a: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единица длины, равная расстоянию, которое проходит свет в вакууме за время ½ 99 792 458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684360" y="6381720"/>
            <a:ext cx="158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..\..\http.do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ИЗИЧЕСКИЕ ВЕЛИЧИНЫ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2016000" cy="200016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4"/>
          <p:cNvSpPr/>
          <p:nvPr/>
        </p:nvSpPr>
        <p:spPr>
          <a:xfrm>
            <a:off x="3095640" y="2133720"/>
            <a:ext cx="60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Время – мера измерение разных промежутков времени</a:t>
            </a:r>
            <a:r>
              <a:rPr b="1" lang="ru-RU" sz="2400" spc="-1" strike="noStrike">
                <a:solidFill>
                  <a:srgbClr val="332aa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4643280" y="141300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РЕМ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Рисунок 30" descr="10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216000" y="3357720"/>
            <a:ext cx="8604000" cy="225108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7"/>
          <p:cNvSpPr/>
          <p:nvPr/>
        </p:nvSpPr>
        <p:spPr>
          <a:xfrm>
            <a:off x="179280" y="566100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Секунда – эта единица времени, равная 9 192 631 770 периодам излучения изотопа атома цезия – 133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-1065240" y="5897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468360" y="6491160"/>
            <a:ext cx="1582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.\..\http.do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ИЗИЧЕСКИЕ ВЕЛИЧИНЫ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2843280" y="1197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АС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Рисунок 32" descr="7"/>
          <p:cNvPicPr/>
          <p:nvPr/>
        </p:nvPicPr>
        <p:blipFill>
          <a:blip r:embed="rId1"/>
          <a:stretch/>
        </p:blipFill>
        <p:spPr>
          <a:xfrm>
            <a:off x="162000" y="1628640"/>
            <a:ext cx="8982000" cy="2270160"/>
          </a:xfrm>
          <a:prstGeom prst="rect">
            <a:avLst/>
          </a:prstGeom>
          <a:ln w="0">
            <a:noFill/>
          </a:ln>
        </p:spPr>
      </p:pic>
      <p:grpSp>
        <p:nvGrpSpPr>
          <p:cNvPr id="200" name="Group 5"/>
          <p:cNvGrpSpPr/>
          <p:nvPr/>
        </p:nvGrpSpPr>
        <p:grpSpPr>
          <a:xfrm>
            <a:off x="-541440" y="3933720"/>
            <a:ext cx="10080720" cy="1824120"/>
            <a:chOff x="-541440" y="3933720"/>
            <a:chExt cx="10080720" cy="1824120"/>
          </a:xfrm>
        </p:grpSpPr>
        <p:sp>
          <p:nvSpPr>
            <p:cNvPr id="201" name="AutoShape 6"/>
            <p:cNvSpPr/>
            <p:nvPr/>
          </p:nvSpPr>
          <p:spPr>
            <a:xfrm>
              <a:off x="-541440" y="3933720"/>
              <a:ext cx="10080720" cy="182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7"/>
            <p:cNvSpPr/>
            <p:nvPr/>
          </p:nvSpPr>
          <p:spPr>
            <a:xfrm>
              <a:off x="249120" y="4611600"/>
              <a:ext cx="1184400" cy="40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Масс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8"/>
            <p:cNvSpPr/>
            <p:nvPr/>
          </p:nvSpPr>
          <p:spPr>
            <a:xfrm>
              <a:off x="2225160" y="3933720"/>
              <a:ext cx="4942080" cy="40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0000"/>
                  </a:solidFill>
                  <a:latin typeface="Arial"/>
                </a:rPr>
                <a:t>Мера количества вещества и энерг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9"/>
            <p:cNvSpPr/>
            <p:nvPr/>
          </p:nvSpPr>
          <p:spPr>
            <a:xfrm>
              <a:off x="2225160" y="4611600"/>
              <a:ext cx="4942080" cy="40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0000"/>
                  </a:solidFill>
                  <a:latin typeface="Arial"/>
                </a:rPr>
                <a:t>Мера инертно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0"/>
            <p:cNvSpPr/>
            <p:nvPr/>
          </p:nvSpPr>
          <p:spPr>
            <a:xfrm>
              <a:off x="2225160" y="5289840"/>
              <a:ext cx="5891400" cy="33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0000"/>
                  </a:solidFill>
                  <a:latin typeface="Arial"/>
                </a:rPr>
                <a:t>Мера гравитационных свойств матер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V="1">
              <a:off x="1435320" y="4068720"/>
              <a:ext cx="789840" cy="54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>
              <a:off x="1435320" y="4882320"/>
              <a:ext cx="7898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>
              <a:off x="1435320" y="5018400"/>
              <a:ext cx="789840" cy="54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Text Box 14"/>
          <p:cNvSpPr/>
          <p:nvPr/>
        </p:nvSpPr>
        <p:spPr>
          <a:xfrm>
            <a:off x="216000" y="5661000"/>
            <a:ext cx="8928000" cy="11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2aac"/>
                </a:solidFill>
                <a:latin typeface="Arial"/>
              </a:rPr>
              <a:t>Килограмм – единица массы, равная массе международного эталона килограмма</a:t>
            </a:r>
            <a:r>
              <a:rPr b="1" lang="ru-RU" sz="2000" spc="-1" strike="noStrike">
                <a:solidFill>
                  <a:srgbClr val="332aac"/>
                </a:solidFill>
                <a:latin typeface="Arial"/>
              </a:rPr>
              <a:t>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иблизительно равен массе 1 л чистой воды при 15 </a:t>
            </a:r>
            <a:r>
              <a:rPr b="1" lang="ru-RU" sz="1800" spc="-1" strike="noStrike" baseline="30000">
                <a:solidFill>
                  <a:srgbClr val="ffff00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ЗМЕРЕНИЕ ФИЗИЧЕСКИХ ВЕЛИЧ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Содержимое 2"/>
          <p:cNvSpPr/>
          <p:nvPr/>
        </p:nvSpPr>
        <p:spPr>
          <a:xfrm>
            <a:off x="108000" y="1413000"/>
            <a:ext cx="892800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змерение физических велич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есть действие, выполняемое с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мощью средств измерени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хождения значения физической величин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ринятых единиц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ямое измерение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измерение, при котором искомое значение величины находят непосредственно из опытных данных. Например: измерение напряжения при помощи вольтмет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5364000" y="3068640"/>
            <a:ext cx="3168720" cy="33908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"/>
          <p:cNvPicPr/>
          <p:nvPr/>
        </p:nvPicPr>
        <p:blipFill>
          <a:blip r:embed="rId2"/>
          <a:stretch/>
        </p:blipFill>
        <p:spPr>
          <a:xfrm>
            <a:off x="900000" y="2997360"/>
            <a:ext cx="4103640" cy="343692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08000" y="1412640"/>
            <a:ext cx="87120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освенное измерение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измерение, при котором искомое значение величины находят на основании известной зависимости между этой величиной и величинами, подвергаемыми прямым измерения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395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ЗМЕРЕНИЕ ФИЗИЧЕСКИХ ВЕЛИЧ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погрешности"/>
          <p:cNvPicPr/>
          <p:nvPr/>
        </p:nvPicPr>
        <p:blipFill>
          <a:blip r:embed="rId1"/>
          <a:stretch/>
        </p:blipFill>
        <p:spPr>
          <a:xfrm>
            <a:off x="1547640" y="3284640"/>
            <a:ext cx="1365480" cy="14698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5"/>
          <p:cNvSpPr/>
          <p:nvPr/>
        </p:nvSpPr>
        <p:spPr>
          <a:xfrm>
            <a:off x="5364000" y="378936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/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4643280" y="5013360"/>
            <a:ext cx="3457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спользовать весы с разновесом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 мерный цилиндр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539640" y="5084640"/>
            <a:ext cx="3457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спользовать амперметр и вольтметр для измерения силы тока и напря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1835280" y="2565360"/>
            <a:ext cx="53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ры – измерение сопротивления проводника и плотности ве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ЗМЕРЕНИЕ ФИЗИЧЕСКИХ ВЕЛИЧ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108000" y="1484280"/>
            <a:ext cx="8856720" cy="42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грешность измер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—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ценка отклонения величин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змеренного значения величины от её истинного значения. Погрешность измерения являет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арактеристикой (мерой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чност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мер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грешность измерительного прибора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азность между показанием прибора и истинным значением измеряемой велич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огрешность измерения равна половине цены деления приб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бсолютная погрешность измерения (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Δизм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.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азность между действительным и истинным значениями измеряемой величин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Δизм.=Хд. - Х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bbe0e3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тносительная погрешность измер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δиз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) - отношение абсолютной погрешности измерения к истинному значению измеряемой величины, выраженное в %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" descr="http://www.prist.ru/infos/articles/general_measurement/equation_12.gif"/>
          <p:cNvPicPr/>
          <p:nvPr/>
        </p:nvPicPr>
        <p:blipFill>
          <a:blip r:embed="rId1"/>
          <a:stretch/>
        </p:blipFill>
        <p:spPr>
          <a:xfrm>
            <a:off x="3497400" y="5365800"/>
            <a:ext cx="2298600" cy="873000"/>
          </a:xfrm>
          <a:prstGeom prst="rect">
            <a:avLst/>
          </a:prstGeom>
          <a:ln w="0">
            <a:noFill/>
          </a:ln>
        </p:spPr>
      </p:pic>
      <p:sp>
        <p:nvSpPr>
          <p:cNvPr id="2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озникновение физики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5"/>
          <p:cNvPicPr/>
          <p:nvPr/>
        </p:nvPicPr>
        <p:blipFill>
          <a:blip r:embed="rId1"/>
          <a:stretch/>
        </p:blipFill>
        <p:spPr>
          <a:xfrm>
            <a:off x="324000" y="2349360"/>
            <a:ext cx="1981080" cy="252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" name="WordArt 5"/>
          <p:cNvSpPr txBox="1"/>
          <p:nvPr/>
        </p:nvSpPr>
        <p:spPr>
          <a:xfrm>
            <a:off x="250920" y="4869000"/>
            <a:ext cx="26287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ТОЛЕМЕЙ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1116000" y="1197000"/>
            <a:ext cx="727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Каждый школьник знаком теперь с истинам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за которые Архимед отдал бы жизн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2340000" y="321300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Научный дух зародился в Древней Гре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6"/>
          <p:cNvPicPr/>
          <p:nvPr/>
        </p:nvPicPr>
        <p:blipFill>
          <a:blip r:embed="rId2"/>
          <a:stretch/>
        </p:blipFill>
        <p:spPr>
          <a:xfrm>
            <a:off x="6300720" y="2276640"/>
            <a:ext cx="2103480" cy="2622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1" name="WordArt 9"/>
          <p:cNvSpPr txBox="1"/>
          <p:nvPr/>
        </p:nvSpPr>
        <p:spPr>
          <a:xfrm>
            <a:off x="6012000" y="4941720"/>
            <a:ext cx="2628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АЛИЛЕЙ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4788000" y="573408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Ученый, положивший начало физике, как нау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Материя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Все то, что существует во Вселенной, независимо от нашего сознания. Материя в нашем мире существует в виде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вещества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и пол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1476360" y="3429000"/>
            <a:ext cx="6120000" cy="266544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Что и как изучает физ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31680" y="1258920"/>
            <a:ext cx="8788320" cy="453708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Эволюция взгляда на физическую картину ми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250920" y="1284120"/>
            <a:ext cx="8785080" cy="524520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ТЕХНИЧЕСКИЕ УСТРОЙСТВА ДЛЯ ИЗУЧЕНИЯ ВСЕЛЕННО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star_refraktor"/>
          <p:cNvPicPr/>
          <p:nvPr/>
        </p:nvPicPr>
        <p:blipFill>
          <a:blip r:embed="rId1"/>
          <a:stretch/>
        </p:blipFill>
        <p:spPr>
          <a:xfrm>
            <a:off x="250920" y="1341360"/>
            <a:ext cx="2560680" cy="31323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0" y="4508640"/>
            <a:ext cx="3097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аринный рефра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нзов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3708рефлектор Ньютона"/>
          <p:cNvPicPr/>
          <p:nvPr/>
        </p:nvPicPr>
        <p:blipFill>
          <a:blip r:embed="rId2"/>
          <a:stretch/>
        </p:blipFill>
        <p:spPr>
          <a:xfrm>
            <a:off x="3276720" y="2924280"/>
            <a:ext cx="2101680" cy="25858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7"/>
          <p:cNvSpPr/>
          <p:nvPr/>
        </p:nvSpPr>
        <p:spPr>
          <a:xfrm>
            <a:off x="2771640" y="5445000"/>
            <a:ext cx="295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флектор Ньют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еркальн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15"/>
          <p:cNvPicPr/>
          <p:nvPr/>
        </p:nvPicPr>
        <p:blipFill>
          <a:blip r:embed="rId3"/>
          <a:stretch/>
        </p:blipFill>
        <p:spPr>
          <a:xfrm>
            <a:off x="5580000" y="2708280"/>
            <a:ext cx="3206880" cy="27241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9"/>
          <p:cNvSpPr/>
          <p:nvPr/>
        </p:nvSpPr>
        <p:spPr>
          <a:xfrm>
            <a:off x="5435640" y="1628640"/>
            <a:ext cx="345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ршина потухшего вулкана Мауна-Кеа высотой 4200 м (остров Гавайи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16"/>
          <p:cNvPicPr/>
          <p:nvPr/>
        </p:nvPicPr>
        <p:blipFill>
          <a:blip r:embed="rId1"/>
          <a:stretch/>
        </p:blipFill>
        <p:spPr>
          <a:xfrm>
            <a:off x="395280" y="1341360"/>
            <a:ext cx="4105440" cy="3753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395280" y="522936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диотелескоп в Аресибо Пуэрто-Ри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7"/>
          <p:cNvPicPr/>
          <p:nvPr/>
        </p:nvPicPr>
        <p:blipFill>
          <a:blip r:embed="rId2"/>
          <a:stretch/>
        </p:blipFill>
        <p:spPr>
          <a:xfrm>
            <a:off x="5219640" y="1773360"/>
            <a:ext cx="3384720" cy="27302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7"/>
          <p:cNvSpPr/>
          <p:nvPr/>
        </p:nvSpPr>
        <p:spPr>
          <a:xfrm>
            <a:off x="4859280" y="5084640"/>
            <a:ext cx="38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временная спутниковая обсерватория, работающая в инфракрасном диапазо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ТЕХНИЧЕСКИЕ УСТРОЙСТВА ДЛЯ ИЗУЧЕНИЯ ВСЕЛЕННОЙ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ЭТАПЫ НАУЧНОГО ПОЗНА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4"/>
          <p:cNvPicPr/>
          <p:nvPr/>
        </p:nvPicPr>
        <p:blipFill>
          <a:blip r:embed="rId1"/>
          <a:stretch/>
        </p:blipFill>
        <p:spPr>
          <a:xfrm>
            <a:off x="1763640" y="1341360"/>
            <a:ext cx="5781600" cy="3753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755640" y="52293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юбопытство. С него все и начало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. Джеймс, Дж. Мартин  «Все возможные мир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7:00:59Z</dcterms:created>
  <dc:creator>Марина</dc:creator>
  <dc:description/>
  <dc:language>en-US</dc:language>
  <cp:lastModifiedBy>LEGION</cp:lastModifiedBy>
  <dcterms:modified xsi:type="dcterms:W3CDTF">2015-03-30T08:22:56Z</dcterms:modified>
  <cp:revision>11</cp:revision>
  <dc:subject/>
  <dc:title>ФИЗИКА И ПОЗНАНИЕ МИРА</dc:title>
</cp:coreProperties>
</file>