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1A26-A0D0-4DDC-B849-B8A7E1BCEB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77CB-CC2B-4EA1-AEC0-05776D2807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CE2-08D1-4CB7-BF6D-70AAA487D3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261F-C330-4FF5-8DBD-5394511AF8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1949-7735-4C1E-AB39-7ED8772147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3447-2EB4-4753-A080-293B819B60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4F81-2B7A-4494-9670-E5A110E88C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39C-0EC3-4D2A-8177-97B01DF957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1D63-D5EC-4A02-A6B6-1779D6AAEC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1763-6D5F-45B0-8CC1-35746F4E8F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D658-A97C-4865-890E-A8DB32C3DE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BD7E-3F26-475E-87D8-442F30CA39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7CA-D832-4E68-ABA7-39BD02E8B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BB9A-CDF2-497B-9C02-237CBA3A27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C716-E3D1-4B04-8512-E5B304870C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3E85-92AE-4967-B5DF-D9C832B838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4935-0EE1-4BB7-BC9A-7C84B7771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4775-AE09-4561-B82C-673616E6F6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322C-27A6-49E3-BFB0-8A0F7BC8DE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Килограмм – единица массы, равная массе международного эталона килограмм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близительно равен массе 1 л чистой воды при 15 </a:t>
            </a:r>
            <a:r>
              <a:rPr b="1" lang="ru-RU" sz="1200" spc="-1" strike="noStrike" baseline="30000">
                <a:solidFill>
                  <a:srgbClr val="ffff00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494E-9BDA-4B8C-A9A2-B8604A1378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BFDA-F6F2-4091-B8A1-127DF5F78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– измерение сопротивления проводника и плотности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58D1-7710-4F5C-8372-6356070C3F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3CED-96B0-44F3-A81D-C21A2D98FD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489F-EB46-4C14-B8C6-14DC1FC00D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77E-D29B-4268-A0CE-17967E0912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C221-CAA9-4A16-9B25-2F7CC05A2A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75D8-D4AF-47CA-9948-F1D5C8255A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CB5D-342E-4823-916F-268C4A857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685D-1927-4D87-9DD6-6D7DC7721F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F1DC-4786-4881-B54E-6795E2F255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192-6D4A-4A2D-BD70-71F8D6DA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019-BE3E-4925-BDFD-3CF82A6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C79-5B07-4503-9C8A-0D564B45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99A-A1AC-46B7-8912-C6EE2E55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6E4-F283-4752-9F68-84779EE1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226-EEE9-4807-A237-F4C2A36B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06F-AED9-4EEC-8FC2-A08F17A3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860-C107-45EC-910E-529DAD3F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AEB-231B-43DD-B9B8-35D6359E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A45-45E1-4550-BE5E-75C818FB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87E-8156-45C1-BC8C-49D09F8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201-4330-48F5-9C16-696D48E4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84D5-4521-4425-9A66-0003C79EB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3-30T08:22:56Z</dcterms:modified>
  <cp:revision>11</cp:revision>
  <dc:subject/>
  <dc:title>ФИЗИКА И ПОЗНАНИЕ МИРА</dc:title>
</cp:coreProperties>
</file>