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18.png" ContentType="image/pn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7.png" ContentType="image/png"/>
  <Override PartName="/ppt/media/image37.png" ContentType="image/png"/>
  <Override PartName="/ppt/media/image14.jpeg" ContentType="image/jpeg"/>
  <Override PartName="/ppt/media/image33.png" ContentType="image/png"/>
  <Override PartName="/ppt/media/image8.png" ContentType="image/png"/>
  <Override PartName="/ppt/media/image38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32.png" ContentType="image/png"/>
  <Override PartName="/ppt/media/image25.jpeg" ContentType="image/jpeg"/>
  <Override PartName="/ppt/media/image13.jpeg" ContentType="image/jpeg"/>
  <Override PartName="/ppt/media/image39.png" ContentType="image/png"/>
  <Override PartName="/ppt/media/image34.png" ContentType="image/png"/>
  <Override PartName="/ppt/media/image12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23.jpeg" ContentType="image/jpeg"/>
  <Override PartName="/ppt/media/image15.jpeg" ContentType="image/jpeg"/>
  <Override PartName="/ppt/media/image16.png" ContentType="image/pn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EC333-8ADB-4E56-B6EC-5D629E0FC98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0 класс                                      ФИЗИКА 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ОЗНАНИЕ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C9506-BB17-413A-BDC5-712598DFBEE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Научная гипо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научная гипотеза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является предположением о том, что существует связь между известным и вновь объясняемым явлением. Но те гипотезы, которые не нашли подтверждения в экспериментах, считаются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ложными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и отвергаю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4273A-E46C-4C31-A3BB-968660A11C4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Теор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Галил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вободное падение т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Ньюто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Закон Всемирного тягот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B4367-1007-4187-8004-4F7293161DF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ФУНДАМЕНТАЛЬНЫЕ ФИЗИЧЕСКИЕ ТЕОРИИ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собенность фундаментальных физических теор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их преемственност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е общая теория включает частные, уже известные зако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ет границы                           использования предыдущей теор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2F2F0-57E4-4866-805E-232C9464797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ИЗИЧЕСКИЕ ЗАКОНЫ И ТЕОРИИ, ГРАНИЦЫ ИХ ПРИМЕНИМОСТ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обобщения экспериментальных фактов, а также результатов деятельности людей устанавливаются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физические закон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устойчивые повторяющиеся объективные закономерности, существующие в природе. Наиболее важные законы устанавливают связь между физическими величинами, для чего необходимо эти величины измеря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Научный мето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пираясь на опыт, отыскиваю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личествен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математически формулируемые)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оны природ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открытые законы проверяются практик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B647F-3191-43E0-9E91-97A8DE1806F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ЗАДА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582F2-55E8-40B4-BEE8-BDC107E42D1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РЕШ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МЫ ДЛЯ ПРОВЕДЕНИЯ ОПЫТА ДОЛЖНЫ БЫТЬ ОДИНАКОВЫМИ, Т.Е. УГОЛ ПРИ ВЕРШИНЕ РАВ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ЕТСВЕННО УГЛЫ ПАДЕНИЯ БУДУТ РАЗЛЧИНЫ В СЛУЧАЕ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И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Б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ПОМНИТЕ, КАК ПОСТРОИТЬ УГОЛ ПА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3A7DE-251C-44DB-8A23-2A209042B6D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ЗАДА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ЕГЭ 2009,А7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 ФОТОГРАФИИ ПОКАЗАНА УСТАНОВКА ДЛЯ ИССЛЕДОВАНИЯ РАВНОУС-КОРЕННОГО СКОЛЬЖЕНИЯ КАРЕТКИ (1) МАССОЙ 0,1 КГ ПО НАКЛОННОЙ ПЛОСКОСТИ, УСТАНОВЛЕННОЙ ПОД УГЛОМ 3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0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ГОРИЗОН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омент начала движения верхний датчик (А) включает секундомер (2), а при  прохождении каретки мимо нижнего датчика (В) секундомер выключается. Числа на линейке обозначают длину в см. Какое выражение описывает зависимость скорости каретки от времен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0615C-26C6-46A0-9541-C5CCEA1D5E8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РЕШ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ЙТЕ ФОРМУЛУ РАВНОУСКОРЕННОГО ДВИЖЕНИЯ БЕЗ НАЧАЛЬНОЙ СКОР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S=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ɑt</a:t>
            </a:r>
            <a:r>
              <a:rPr b="1" lang="en-US" sz="1200" spc="-1" strike="noStrike" baseline="30000">
                <a:solidFill>
                  <a:srgbClr val="ff0000"/>
                </a:solidFill>
                <a:latin typeface="Calibri"/>
                <a:ea typeface="Arial"/>
              </a:rPr>
              <a:t>2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/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НАХОДИТЕ УСКОРЕНИЕ  </a:t>
            </a: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  <a:ea typeface="Arial"/>
              </a:rPr>
              <a:t>1,25 м/с</a:t>
            </a:r>
            <a:r>
              <a:rPr b="1" lang="ru-RU" sz="1200" spc="-1" strike="noStrike" u="sng" baseline="30000">
                <a:solidFill>
                  <a:srgbClr val="ff0000"/>
                </a:solidFill>
                <a:uFillTx/>
                <a:latin typeface="Calibri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ЗАПИСЫВАЕТЕ УРАВНЕНИЕ СКОРОСТИ ОТ ВРЕМЕНИ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Ʋ</a:t>
            </a:r>
            <a:r>
              <a:rPr b="0" lang="el-GR" sz="1200" spc="-1" strike="noStrike">
                <a:solidFill>
                  <a:srgbClr val="ff0000"/>
                </a:solidFill>
                <a:latin typeface="Calibri"/>
              </a:rPr>
              <a:t> =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Ʋ</a:t>
            </a:r>
            <a:r>
              <a:rPr b="0" lang="ru-RU" sz="1200" spc="-1" strike="noStrike" baseline="-25000">
                <a:solidFill>
                  <a:srgbClr val="ff0000"/>
                </a:solidFill>
                <a:latin typeface="Calibri"/>
                <a:ea typeface="Arial"/>
              </a:rPr>
              <a:t>0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  <a:ea typeface="Arial"/>
              </a:rPr>
              <a:t> +</a:t>
            </a:r>
            <a:r>
              <a:rPr b="0" lang="el-GR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ɑ</a:t>
            </a:r>
            <a:r>
              <a:rPr b="0" i="1" lang="en-US" sz="1200" spc="-1" strike="noStrike">
                <a:solidFill>
                  <a:srgbClr val="ff0000"/>
                </a:solidFill>
                <a:latin typeface="Calibri"/>
              </a:rPr>
              <a:t>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200" spc="-1" strike="noStrike" u="sng">
                <a:solidFill>
                  <a:srgbClr val="ff0000"/>
                </a:solidFill>
                <a:uFillTx/>
                <a:latin typeface="Calibri"/>
                <a:ea typeface="Arial"/>
              </a:rPr>
              <a:t>Ʋ</a:t>
            </a:r>
            <a:r>
              <a:rPr b="1" lang="el-GR" sz="1200" spc="-1" strike="noStrike" u="sng">
                <a:solidFill>
                  <a:srgbClr val="ff0000"/>
                </a:solidFill>
                <a:uFillTx/>
                <a:latin typeface="Calibri"/>
              </a:rPr>
              <a:t> = 1,25</a:t>
            </a:r>
            <a:r>
              <a:rPr b="1" i="1" lang="en-US" sz="1200" spc="-1" strike="noStrike" u="sng">
                <a:solidFill>
                  <a:srgbClr val="ff0000"/>
                </a:solidFill>
                <a:uFillTx/>
                <a:latin typeface="Calibri"/>
              </a:rPr>
              <a:t>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31AAE-8736-4685-924C-A9FFDAF0381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ЗАДА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91214-69E1-4640-AD42-3770B011AC9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ФУНДАМЕНТАЛЬНЫЕ ВЗАИМОДЕЙСТВ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Все бесконечное разнообразие физических процессов, происходящих в нашем мире, можно объяснить существованием в природе очень малого количества фундаментальных взаимодейств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6591C-888F-490F-A87F-C1D8D747EED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ЧТО ИЗУЧАЕТ ФИЗИ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Black"/>
              </a:rPr>
              <a:t>Физика изучает мир, в котором мы живем, явления, в нем происходящие, открывает законы, которым подчиняются все эти явления, устанавливает их взаимосвяз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ABCB7-2D3C-46E3-AA67-4D2BC198057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ГРАВИТАЦИО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03EA6-735B-4240-8653-4762B9EF844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ЭЛЕКТРОМАГНИТ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B8D3E-3723-4188-A93A-B6ED8CC5D77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ИЛЬНОЕ (ЯДЕРНО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EFAE1-6C02-4F21-9EAC-BBFE5210413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ЛАБОЕ (ЯДЕРНО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A8B56-796A-45D2-AA32-3883DF68319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ФИЗИЧЕСКИЕ ВЕЛИЧИ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ДЛ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2aac"/>
                </a:solidFill>
                <a:latin typeface="Calibri"/>
              </a:rPr>
              <a:t>Длина</a:t>
            </a:r>
            <a:r>
              <a:rPr b="1" lang="ru-RU" sz="1200" spc="-1" strike="noStrike">
                <a:solidFill>
                  <a:srgbClr val="332aac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332aac"/>
                </a:solidFill>
                <a:latin typeface="Calibri"/>
              </a:rPr>
              <a:t>–</a:t>
            </a:r>
            <a:r>
              <a:rPr b="1" lang="ru-RU" sz="1200" spc="-1" strike="noStrike">
                <a:solidFill>
                  <a:srgbClr val="332aac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332aac"/>
                </a:solidFill>
                <a:latin typeface="Calibri"/>
              </a:rPr>
              <a:t>мера для измерения расстояния</a:t>
            </a:r>
            <a:r>
              <a:rPr b="1" lang="ru-RU" sz="1200" spc="-1" strike="noStrike">
                <a:solidFill>
                  <a:srgbClr val="332aac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2aac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332aac"/>
                </a:solidFill>
                <a:latin typeface="Calibri"/>
              </a:rPr>
              <a:t>Метр </a:t>
            </a:r>
            <a:r>
              <a:rPr b="1" lang="ru-RU" sz="1200" spc="-1" strike="noStrike">
                <a:solidFill>
                  <a:srgbClr val="332aac"/>
                </a:solidFill>
                <a:latin typeface="Calibri"/>
              </a:rPr>
              <a:t>– </a:t>
            </a:r>
            <a:r>
              <a:rPr b="1" i="1" lang="ru-RU" sz="1200" spc="-1" strike="noStrike">
                <a:solidFill>
                  <a:srgbClr val="332aac"/>
                </a:solidFill>
                <a:latin typeface="Calibri"/>
              </a:rPr>
              <a:t>единица длины, равная расстоянию, которое проходит свет в вакууме за время ½ 99 792 458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67FF5-ECDD-4BB6-A80C-BBB80A5AB68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ФИЗИЧЕСКИЕ ВЕЛИЧИНЫ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2aac"/>
                </a:solidFill>
                <a:latin typeface="Calibri"/>
              </a:rPr>
              <a:t>Время – мера измерение разных промежутков времени</a:t>
            </a:r>
            <a:r>
              <a:rPr b="1" lang="ru-RU" sz="1200" spc="-1" strike="noStrike">
                <a:solidFill>
                  <a:srgbClr val="332aac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25215-3B84-41F6-A9A3-C389E7AA3C5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ФИЗИЧЕСКИЕ ВЕЛИЧИНЫ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2aac"/>
                </a:solidFill>
                <a:latin typeface="Calibri"/>
              </a:rPr>
              <a:t>Килограмм – единица массы, равная массе международного эталона килограмма</a:t>
            </a:r>
            <a:r>
              <a:rPr b="1" lang="ru-RU" sz="1200" spc="-1" strike="noStrike">
                <a:solidFill>
                  <a:srgbClr val="332aac"/>
                </a:solidFill>
                <a:latin typeface="Calibri"/>
              </a:rPr>
              <a:t>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приблизительно равен массе 1 л чистой воды при 15 </a:t>
            </a:r>
            <a:r>
              <a:rPr b="1" lang="ru-RU" sz="1200" spc="-1" strike="noStrike" baseline="30000">
                <a:solidFill>
                  <a:srgbClr val="ffff00"/>
                </a:solidFill>
                <a:latin typeface="Calibri"/>
              </a:rPr>
              <a:t>0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67EC9-4FE4-4076-9F18-84D6DAE5B1C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ИЗМЕРЕНИЕ ФИЗИЧЕСКИХ ВЕЛИЧ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Измерение физических величи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есть действие, выполняемое с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мощью средств измерен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хождения значения физической величин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инятых единиц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рямое измерение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змерение, при котором искомое значение величины находят непосредственно из опытных данных. Например: измерение напряжения при помощи вольтмет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8C9D5-287F-44AE-8551-74DD74AA45A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ИЗМЕРЕНИЕ ФИЗИЧЕСКИХ ВЕЛИЧ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Косвенное измерение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змерение, при котором искомое значение величины находят на основании известной зависимости между этой величиной и величинами, подвергаемыми прямым измерения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меры – измерение сопротивления проводника и плотности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46ADA-B071-48D4-BEC6-E5AFBC8E0C8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ИЗМЕРЕНИЕ ФИЗИЧЕСКИХ ВЕЛИЧ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огрешность измерения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 —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оценка отклонения величины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измеренного значения величины от её истинного значения. Погрешность измерения является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характеристикой (мерой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точности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измер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огрешность измерительного прибора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 разность между показанием прибора и истинным значением измеряемой велич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огрешность измерения равна половине цены деления приб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Абсолютная погрешность измерения (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Δизм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.)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 разность между действительным и истинным значениями измеряемой величин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Δизм.=Хд. - Хи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Относительная погрешность измерения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(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δизм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.) - отношение абсолютной погрешности измерения к истинному значению измеряемой величины, выраженное в %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7648A-DA83-43AB-A156-C22CE9EA983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Возникновение физик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828F7-255F-48B8-88E6-999980A8649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Материя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Все то, что существует во Вселенной, независимо от нашего сознания. Материя в нашем мире существует в виде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вещества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и пол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3AF64-2A45-48F3-AF6E-A3134B10CBF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Что и как изучает физ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EEB20-40F3-4A16-A1FC-1AD6807FF18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Эволюция взгляда на физическую картину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AC4AF-61EB-4B64-BBA1-6D93450C06F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ТЕХНИЧЕСКИЕ УСТРОЙСТВА ДЛЯ ИЗУЧЕНИЯ ВСЕЛЕННОЙ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A01DF-95B2-4256-B851-AEA3F4523A8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ТЕХНИЧЕСКИЕ УСТРОЙСТВА ДЛЯ ИЗУЧЕНИЯ ВСЕЛЕН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9E5ED-67A8-4A7F-ACD2-EC849AA4066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ЭТАПЫ НАУЧНОГО ПОЗНАН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0F515-F20E-4B7A-AC27-3A3A64238A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F443-A0B5-4431-8977-AC6401DB4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754D-5432-4D47-8E43-979F7630E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99A9-C7C8-4117-A45A-D9C16960E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32B3-57CA-43A1-A581-BF1482630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49F3-AFAF-422B-A7C3-82DFF643C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2C1B-3D85-4EC5-A335-BF43CD4E0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1914-7A69-426B-A9C6-B5CA98F15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1AD2-522F-4178-B932-792FFFBD2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0D79-265E-453A-BBB5-7FF0FB1FB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36D6-A654-4935-A12A-5F42888F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FDF8-068D-42A9-A692-2E0B0970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7697-E642-4E65-B8D6-500967C7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92B63-3842-40EB-A022-7ED0CE42ED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hyperlink" Target="file:///D:/&#1052;&#1040;&#1056;&#1048;&#1053;&#1040;%20&#1044;&#1054;&#1052;/&#1060;&#1048;&#1047;&#1048;&#1050;&#1040;%202010-2011/10%20&#1087;&#1088;&#1086;&#1092;&#1080;&#1083;&#1100;/http.doc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hyperlink" Target="file:///D:/&#1052;&#1040;&#1056;&#1048;&#1053;&#1040;%20&#1044;&#1054;&#1052;/&#1060;&#1048;&#1047;&#1048;&#1050;&#1040;%202010-2011/10%20&#1087;&#1088;&#1086;&#1092;&#1080;&#1083;&#1100;/http.doc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115920"/>
            <a:ext cx="8280360" cy="197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10 класс                                      ФИЗИКА И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ЗНАНИЕ МИ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1042920" y="5300640"/>
            <a:ext cx="7705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физики Чижова Марина Валентино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. Тверь, МОУ СОШ № 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Научная гипоте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890360"/>
            <a:ext cx="4680000" cy="42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научная гипотеза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является предположением о том, что существует связь между известным и вновь объясняемым явлением. Но те гипотезы, которые не нашли подтверждения в экспериментах, считаются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ложными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и отверга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Ньютон"/>
          <p:cNvPicPr/>
          <p:nvPr/>
        </p:nvPicPr>
        <p:blipFill>
          <a:blip r:embed="rId1"/>
          <a:stretch/>
        </p:blipFill>
        <p:spPr>
          <a:xfrm>
            <a:off x="6227640" y="1916280"/>
            <a:ext cx="2081160" cy="25192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6372360" y="5013360"/>
            <a:ext cx="23032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И. Нью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Теор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Галил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вободное падение т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ьюто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Закон Всемирного тяго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4"/>
          <p:cNvSpPr/>
          <p:nvPr/>
        </p:nvSpPr>
        <p:spPr>
          <a:xfrm>
            <a:off x="4500720" y="2781360"/>
            <a:ext cx="0" cy="647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4500720" y="4508640"/>
            <a:ext cx="0" cy="647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324000" y="5157720"/>
            <a:ext cx="8496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ы теории проверяются постоянно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эксперимент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оторый является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критерием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ьности теор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ФУНДАМЕНТАЛЬНЫЕ ФИЗИЧЕСКИЕ ТЕОР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8920" y="1557000"/>
            <a:ext cx="8713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Особенность фундаментальных физических теорий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их преемственности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олее общая теория включает частные, уже известные закон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пределяет границы                           использования предыдущей теори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1"/>
          <a:stretch/>
        </p:blipFill>
        <p:spPr>
          <a:xfrm>
            <a:off x="-195120" y="-6480"/>
            <a:ext cx="9339120" cy="15433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результате обобщения экспериментальных фактов, а также результатов деятельности людей устанавливаются </a:t>
            </a:r>
            <a:r>
              <a:rPr b="1" lang="ru-RU" sz="2700" spc="-1" strike="noStrike">
                <a:solidFill>
                  <a:srgbClr val="ff0000"/>
                </a:solidFill>
                <a:latin typeface="Arial"/>
              </a:rPr>
              <a:t>физические законы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— устойчивые повторяющиеся объективные закономерности, существующие в природе. Наиболее важные законы устанавливают связь между физическими величинами, для чего необходимо эти величины измерять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Arial"/>
              </a:rPr>
              <a:t>Научный метод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, опираясь на опыт, отыскивают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количественные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(математически формулируемые)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законы природы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; открытые законы проверяются практикой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http://markx.narod.ru/pic/poznanie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http://markx.narod.ru/pic/poznanie.gif"/>
          <p:cNvPicPr/>
          <p:nvPr/>
        </p:nvPicPr>
        <p:blipFill>
          <a:blip r:embed="rId3"/>
          <a:stretch/>
        </p:blipFill>
        <p:spPr>
          <a:xfrm>
            <a:off x="0" y="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Заголовок 1" descr=""/>
          <p:cNvPicPr/>
          <p:nvPr/>
        </p:nvPicPr>
        <p:blipFill>
          <a:blip r:embed="rId1"/>
          <a:srcRect l="0" t="13707" r="0" b="10041"/>
          <a:stretch/>
        </p:blipFill>
        <p:spPr>
          <a:xfrm>
            <a:off x="539640" y="1341360"/>
            <a:ext cx="8290080" cy="2808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179280" y="4437000"/>
            <a:ext cx="7324920" cy="154296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12"/>
          <p:cNvSpPr/>
          <p:nvPr/>
        </p:nvSpPr>
        <p:spPr>
          <a:xfrm>
            <a:off x="7524720" y="4437000"/>
            <a:ext cx="138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Б и 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Б и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А и 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В и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РЕШ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ЗМЫ ДЛЯ ПРОВЕДЕНИЯ ОПЫТА ДОЛЖНЫ БЫТЬ ОДИНАКОВЫМИ, Т.Е. УГОЛ ПРИ ВЕРШИНЕ РАВ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ОТЕТСВЕННО УГЛЫ ПАДЕНИЯ БУДУТ РАЗЛЧИНЫ В СЛУЧАЕ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И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Б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ПОМНИТЕ, КАК ПОСТРОИТЬ УГОЛ ПА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108000" y="1341360"/>
            <a:ext cx="3959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ЕГЭ 2009,А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ФОТОГРАФИИ ПОКАЗАНА УСТАНОВКА ДЛЯ ИССЛЕДОВАНИЯ РАВНОУС-КОРЕННОГО СКОЛЬЖЕНИЯ КАРЕТКИ (1) МАССОЙ 0,1 КГ ПО НАКЛОННОЙ ПЛОСКОСТИ, УСТАНОВЛЕННОЙ ПОД УГЛОМ 3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ГОРИЗОН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4211640" y="1197000"/>
            <a:ext cx="4932360" cy="381636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0" y="3860640"/>
            <a:ext cx="4608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момент начала движения верхний датчик (А) включает секундомер (2), а при  прохождении каретки мимо нижнего датчика (В) секундомер выключается. Числа на линейке обозначают длину в см. Какое выражение описывает зависимость скорости каретки от време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1"/>
          <p:cNvSpPr/>
          <p:nvPr/>
        </p:nvSpPr>
        <p:spPr>
          <a:xfrm>
            <a:off x="4932360" y="4941720"/>
            <a:ext cx="216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Ʋ</a:t>
            </a:r>
            <a:r>
              <a:rPr b="1" lang="el-GR" sz="2400" spc="-1" strike="noStrike">
                <a:solidFill>
                  <a:srgbClr val="ff0000"/>
                </a:solidFill>
                <a:latin typeface="Constantia"/>
                <a:ea typeface="Arial"/>
              </a:rPr>
              <a:t> = 1,25</a:t>
            </a:r>
            <a:r>
              <a:rPr b="1" i="1" lang="en-US" sz="2400" spc="-1" strike="noStrike">
                <a:solidFill>
                  <a:srgbClr val="ff0000"/>
                </a:solidFill>
                <a:latin typeface="Constantia"/>
                <a:ea typeface="Arial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Ʋ</a:t>
            </a:r>
            <a:r>
              <a:rPr b="1" i="1" lang="el-GR" sz="2400" spc="-1" strike="noStrike">
                <a:solidFill>
                  <a:srgbClr val="ff0000"/>
                </a:solidFill>
                <a:latin typeface="Constantia"/>
                <a:ea typeface="Arial"/>
              </a:rPr>
              <a:t> = 0,5</a:t>
            </a:r>
            <a:r>
              <a:rPr b="1" i="1" lang="en-US" sz="2400" spc="-1" strike="noStrike">
                <a:solidFill>
                  <a:srgbClr val="ff0000"/>
                </a:solidFill>
                <a:latin typeface="Constantia"/>
                <a:ea typeface="Arial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Ʋ</a:t>
            </a:r>
            <a:r>
              <a:rPr b="1" i="1" lang="el-GR" sz="2400" spc="-1" strike="noStrike">
                <a:solidFill>
                  <a:srgbClr val="ff0000"/>
                </a:solidFill>
                <a:latin typeface="Constantia"/>
                <a:ea typeface="Arial"/>
              </a:rPr>
              <a:t> = 2,5</a:t>
            </a:r>
            <a:r>
              <a:rPr b="1" i="1" lang="en-US" sz="2400" spc="-1" strike="noStrike">
                <a:solidFill>
                  <a:srgbClr val="ff0000"/>
                </a:solidFill>
                <a:latin typeface="Constantia"/>
                <a:ea typeface="Arial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Ʋ</a:t>
            </a:r>
            <a:r>
              <a:rPr b="1" i="1" lang="el-GR" sz="2400" spc="-1" strike="noStrike">
                <a:solidFill>
                  <a:srgbClr val="ff0000"/>
                </a:solidFill>
                <a:latin typeface="Constantia"/>
                <a:ea typeface="Arial"/>
              </a:rPr>
              <a:t> = 1,9</a:t>
            </a:r>
            <a:r>
              <a:rPr b="1" i="1" lang="en-US" sz="2400" spc="-1" strike="noStrike">
                <a:solidFill>
                  <a:srgbClr val="ff0000"/>
                </a:solidFill>
                <a:latin typeface="Constantia"/>
                <a:ea typeface="Arial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УЙТЕ ФОРМУЛУ РАВНОУСКОРЕННОГО ДВИЖЕНИЯ БЕЗ НАЧАЛЬНОЙ СКОР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=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ɑt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АХОДИТЕ УСКОРЕНИЕ 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1,25 м/с</a:t>
            </a:r>
            <a:r>
              <a:rPr b="1" lang="ru-RU" sz="3200" spc="-1" strike="noStrike" u="sng" baseline="30000">
                <a:solidFill>
                  <a:srgbClr val="ff0000"/>
                </a:solidFill>
                <a:uFillTx/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ЗАПИСЫВАЕТЕ УРАВНЕНИЕ СКОРОСТИ ОТ ВРЕМЕНИ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Ʋ</a:t>
            </a:r>
            <a:r>
              <a:rPr b="0" lang="el-GR" sz="3200" spc="-1" strike="noStrike">
                <a:solidFill>
                  <a:srgbClr val="ff0000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Ʋ</a:t>
            </a:r>
            <a:r>
              <a:rPr b="0" lang="ru-RU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0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 +</a:t>
            </a:r>
            <a:r>
              <a:rPr b="0" lang="el-GR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ɑ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Ʋ</a:t>
            </a:r>
            <a:r>
              <a:rPr b="1" lang="el-GR" sz="3200" spc="-1" strike="noStrike" u="sng">
                <a:solidFill>
                  <a:srgbClr val="ff0000"/>
                </a:solidFill>
                <a:uFillTx/>
                <a:latin typeface="Arial"/>
              </a:rPr>
              <a:t> = 1,25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РЕШ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Заголовок 1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8717040" cy="2638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"/>
          <p:cNvPicPr/>
          <p:nvPr/>
        </p:nvPicPr>
        <p:blipFill>
          <a:blip r:embed="rId2"/>
          <a:stretch/>
        </p:blipFill>
        <p:spPr>
          <a:xfrm>
            <a:off x="0" y="4292640"/>
            <a:ext cx="9067680" cy="11905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4500720" y="4149720"/>
            <a:ext cx="23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3"/>
          <a:srcRect l="50020" t="0" r="23777" b="0"/>
          <a:stretch/>
        </p:blipFill>
        <p:spPr>
          <a:xfrm>
            <a:off x="4500720" y="4292640"/>
            <a:ext cx="2376360" cy="119052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1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ФУНДАМЕНТАЛЬНЫЕ ВЗАИМОДЕЙСТВ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0" y="1341360"/>
            <a:ext cx="896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Все бесконечное разнообразие физических процессов, происходящих в нашем мире, можно объяснить существованием в природе очень малого количества фундаментальных взаимодейств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Organization Chart 4"/>
          <p:cNvGrpSpPr/>
          <p:nvPr/>
        </p:nvGrpSpPr>
        <p:grpSpPr>
          <a:xfrm>
            <a:off x="179280" y="3068640"/>
            <a:ext cx="8856360" cy="3353400"/>
            <a:chOff x="179280" y="3068640"/>
            <a:chExt cx="8856360" cy="3353400"/>
          </a:xfrm>
        </p:grpSpPr>
        <p:cxnSp>
          <p:nvCxnSpPr>
            <p:cNvPr id="137" name="_s1028"/>
            <p:cNvCxnSpPr>
              <a:stCxn id="138" idx="0"/>
              <a:endCxn id="139" idx="2"/>
            </p:cNvCxnSpPr>
            <p:nvPr/>
          </p:nvCxnSpPr>
          <p:spPr>
            <a:xfrm flipV="1" rot="16200000">
              <a:off x="5937120" y="2782080"/>
              <a:ext cx="763200" cy="3465720"/>
            </a:xfrm>
            <a:prstGeom prst="bentConnector3">
              <a:avLst>
                <a:gd name="adj1" fmla="val 1495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1029"/>
            <p:cNvCxnSpPr>
              <a:stCxn id="141" idx="0"/>
              <a:endCxn id="139" idx="2"/>
            </p:cNvCxnSpPr>
            <p:nvPr/>
          </p:nvCxnSpPr>
          <p:spPr>
            <a:xfrm flipV="1" rot="16200000">
              <a:off x="4789080" y="3930120"/>
              <a:ext cx="763200" cy="1169640"/>
            </a:xfrm>
            <a:prstGeom prst="bentConnector3">
              <a:avLst>
                <a:gd name="adj1" fmla="val 1495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2" name="_s1030"/>
            <p:cNvCxnSpPr>
              <a:stCxn id="143" idx="0"/>
              <a:endCxn id="139" idx="2"/>
            </p:cNvCxnSpPr>
            <p:nvPr/>
          </p:nvCxnSpPr>
          <p:spPr>
            <a:xfrm flipH="1" flipV="1" rot="5400000">
              <a:off x="3641040" y="3951360"/>
              <a:ext cx="763200" cy="1127520"/>
            </a:xfrm>
            <a:prstGeom prst="bentConnector3">
              <a:avLst>
                <a:gd name="adj1" fmla="val 1495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4" name="_s1031"/>
            <p:cNvCxnSpPr>
              <a:stCxn id="145" idx="0"/>
              <a:endCxn id="139" idx="2"/>
            </p:cNvCxnSpPr>
            <p:nvPr/>
          </p:nvCxnSpPr>
          <p:spPr>
            <a:xfrm flipH="1" flipV="1" rot="5400000">
              <a:off x="2493000" y="2802960"/>
              <a:ext cx="763200" cy="3423960"/>
            </a:xfrm>
            <a:prstGeom prst="bentConnector3">
              <a:avLst>
                <a:gd name="adj1" fmla="val 1495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9" name="_s1032"/>
            <p:cNvSpPr/>
            <p:nvPr/>
          </p:nvSpPr>
          <p:spPr>
            <a:xfrm>
              <a:off x="2914920" y="3068640"/>
              <a:ext cx="3339000" cy="106524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Взаимодейств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1033"/>
            <p:cNvSpPr/>
            <p:nvPr/>
          </p:nvSpPr>
          <p:spPr>
            <a:xfrm>
              <a:off x="179280" y="4896720"/>
              <a:ext cx="1968120" cy="152532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Гравита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ционно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1034"/>
            <p:cNvSpPr/>
            <p:nvPr/>
          </p:nvSpPr>
          <p:spPr>
            <a:xfrm>
              <a:off x="2475360" y="4896720"/>
              <a:ext cx="1968120" cy="152532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Электро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магнитно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1035"/>
            <p:cNvSpPr/>
            <p:nvPr/>
          </p:nvSpPr>
          <p:spPr>
            <a:xfrm>
              <a:off x="4771440" y="4896720"/>
              <a:ext cx="1968120" cy="152532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Сильно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036"/>
            <p:cNvSpPr/>
            <p:nvPr/>
          </p:nvSpPr>
          <p:spPr>
            <a:xfrm>
              <a:off x="7067520" y="4896720"/>
              <a:ext cx="1968120" cy="152532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Слабо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ЧТО ИЗУЧАЕТ ФИЗИК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1"/>
          <p:cNvPicPr/>
          <p:nvPr/>
        </p:nvPicPr>
        <p:blipFill>
          <a:blip r:embed="rId1"/>
          <a:stretch/>
        </p:blipFill>
        <p:spPr>
          <a:xfrm>
            <a:off x="250920" y="1268280"/>
            <a:ext cx="5184720" cy="48405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7"/>
          <p:cNvSpPr/>
          <p:nvPr/>
        </p:nvSpPr>
        <p:spPr>
          <a:xfrm>
            <a:off x="5724360" y="1773360"/>
            <a:ext cx="30243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Физика изучает мир, в котором мы живем, явления, в нем происходящие, открывает законы, которым подчиняются все эти явления, устанавливает их взаимосвяз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ГРАВИТАЦИОН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Рисунок 52" descr="_11"/>
          <p:cNvPicPr/>
          <p:nvPr/>
        </p:nvPicPr>
        <p:blipFill>
          <a:blip r:embed="rId1"/>
          <a:stretch/>
        </p:blipFill>
        <p:spPr>
          <a:xfrm>
            <a:off x="324000" y="1557360"/>
            <a:ext cx="4897440" cy="3699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5292720" y="1484280"/>
            <a:ext cx="338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Радиус действия, м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-Бесконечно больш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5435640" y="2781360"/>
            <a:ext cx="3382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Место взаимодействия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-Между телами, имеющими масс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5435640" y="4653000"/>
            <a:ext cx="33829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Переносчик взаимо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равито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611280" y="566100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ДАЛЬНОДЕЙСТВУЮЩ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ЭЛЕКТРОМАГНИТ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5292720" y="1484280"/>
            <a:ext cx="338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Радиус действия, м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-Бесконечно больш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5435640" y="3068640"/>
            <a:ext cx="3382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Место взаимодействия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-Между телами, имеющими заря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5435640" y="4653000"/>
            <a:ext cx="3382920" cy="11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Переносчик взаимо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Фото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611280" y="566100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ДАЛЬНОДЕЙСТВУЮЩ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7" descr="Magnet0873"/>
          <p:cNvPicPr/>
          <p:nvPr/>
        </p:nvPicPr>
        <p:blipFill>
          <a:blip r:embed="rId1"/>
          <a:stretch/>
        </p:blipFill>
        <p:spPr>
          <a:xfrm>
            <a:off x="0" y="1268280"/>
            <a:ext cx="3313080" cy="22240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Картинка 8 из 1768"/>
          <p:cNvPicPr/>
          <p:nvPr/>
        </p:nvPicPr>
        <p:blipFill>
          <a:blip r:embed="rId2"/>
          <a:stretch/>
        </p:blipFill>
        <p:spPr>
          <a:xfrm>
            <a:off x="539640" y="220500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Картинка 96 из 1768"/>
          <p:cNvPicPr/>
          <p:nvPr/>
        </p:nvPicPr>
        <p:blipFill>
          <a:blip r:embed="rId3"/>
          <a:stretch/>
        </p:blipFill>
        <p:spPr>
          <a:xfrm>
            <a:off x="1547640" y="2924280"/>
            <a:ext cx="3816360" cy="280836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ИЛЬНОЕ (ЯДЕРНОЕ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5292720" y="1484280"/>
            <a:ext cx="338292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Радиус действия, м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 фм (фемтометр, 10</a:t>
            </a:r>
            <a:r>
              <a:rPr b="1" lang="ru-RU" sz="2000" spc="-1" strike="noStrike" baseline="30000">
                <a:solidFill>
                  <a:srgbClr val="ff0000"/>
                </a:solidFill>
                <a:latin typeface="Arial"/>
              </a:rPr>
              <a:t>-15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435640" y="2492280"/>
            <a:ext cx="3382920" cy="11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Место взаимодействия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-Между нуклонам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эл. частиц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5435640" y="3716280"/>
            <a:ext cx="3382920" cy="11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Переносчик взаимо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люо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эл. частиц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611280" y="566100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КОРТКОДЕЙСТВУЮЩ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7" descr="Формула Эйншейна"/>
          <p:cNvPicPr/>
          <p:nvPr/>
        </p:nvPicPr>
        <p:blipFill>
          <a:blip r:embed="rId1"/>
          <a:stretch/>
        </p:blipFill>
        <p:spPr>
          <a:xfrm>
            <a:off x="2124000" y="6093000"/>
            <a:ext cx="1511280" cy="420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152712400053405a9d365b9ca4d042baf0cc5080fe"/>
          <p:cNvPicPr/>
          <p:nvPr/>
        </p:nvPicPr>
        <p:blipFill>
          <a:blip r:embed="rId2"/>
          <a:stretch/>
        </p:blipFill>
        <p:spPr>
          <a:xfrm>
            <a:off x="179280" y="1341360"/>
            <a:ext cx="3168720" cy="29386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Удивительный мир внутри атомного ядра. Лекция для школьников атом,протон, кварки, масса"/>
          <p:cNvPicPr/>
          <p:nvPr/>
        </p:nvPicPr>
        <p:blipFill>
          <a:blip r:embed="rId3"/>
          <a:stretch/>
        </p:blipFill>
        <p:spPr>
          <a:xfrm>
            <a:off x="684360" y="2205000"/>
            <a:ext cx="4679640" cy="35100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0"/>
          <p:cNvSpPr/>
          <p:nvPr/>
        </p:nvSpPr>
        <p:spPr>
          <a:xfrm>
            <a:off x="5364000" y="5300640"/>
            <a:ext cx="33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2aac"/>
                </a:solidFill>
                <a:latin typeface="Arial"/>
              </a:rPr>
              <a:t>СТАБИЛЬНОСТЬ ЯДРА АТ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1" descr="142"/>
          <p:cNvPicPr/>
          <p:nvPr/>
        </p:nvPicPr>
        <p:blipFill>
          <a:blip r:embed="rId4"/>
          <a:stretch/>
        </p:blipFill>
        <p:spPr>
          <a:xfrm>
            <a:off x="900000" y="1341360"/>
            <a:ext cx="7201080" cy="512460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ЛАБОЕ (ЯДЕРНОЕ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5292720" y="1484280"/>
            <a:ext cx="338292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Радиус действия, м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 ам (аттометр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, 10</a:t>
            </a:r>
            <a:r>
              <a:rPr b="1" lang="ru-RU" sz="2000" spc="-1" strike="noStrike" baseline="30000">
                <a:solidFill>
                  <a:srgbClr val="ff0000"/>
                </a:solidFill>
                <a:latin typeface="Arial"/>
              </a:rPr>
              <a:t>-17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5435640" y="3068640"/>
            <a:ext cx="338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Место взаимодействия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–Между квар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5435640" y="3789360"/>
            <a:ext cx="3382920" cy="11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Переносчик взаимо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озо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250920" y="595008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КОРТКОДЕЙСТВУЮЩ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5364000" y="5013360"/>
            <a:ext cx="35290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2aac"/>
                </a:solidFill>
                <a:latin typeface="Arial"/>
              </a:rPr>
              <a:t>Радиоактивный распад уран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2aac"/>
                </a:solidFill>
                <a:latin typeface="Arial"/>
              </a:rPr>
              <a:t>реакции термоядерного синтеза на Солнц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8" descr="1"/>
          <p:cNvPicPr/>
          <p:nvPr/>
        </p:nvPicPr>
        <p:blipFill>
          <a:blip r:embed="rId1"/>
          <a:stretch/>
        </p:blipFill>
        <p:spPr>
          <a:xfrm>
            <a:off x="468360" y="1268280"/>
            <a:ext cx="4240080" cy="4525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" descr="Удивительный мир внутри атомного ядра. Лекция для школьников атом,протон, кварки, масса"/>
          <p:cNvPicPr/>
          <p:nvPr/>
        </p:nvPicPr>
        <p:blipFill>
          <a:blip r:embed="rId2"/>
          <a:stretch/>
        </p:blipFill>
        <p:spPr>
          <a:xfrm>
            <a:off x="395280" y="1773360"/>
            <a:ext cx="5113440" cy="383544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ИЗИЧЕСКИЕ ВЕЛИЧИН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Рисунок 13" descr="длина"/>
          <p:cNvPicPr/>
          <p:nvPr/>
        </p:nvPicPr>
        <p:blipFill>
          <a:blip r:embed="rId1"/>
          <a:stretch/>
        </p:blipFill>
        <p:spPr>
          <a:xfrm>
            <a:off x="971640" y="1413000"/>
            <a:ext cx="7343640" cy="2273040"/>
          </a:xfrm>
          <a:prstGeom prst="rect">
            <a:avLst/>
          </a:prstGeom>
          <a:ln w="25560">
            <a:solidFill>
              <a:srgbClr val="ff00ff"/>
            </a:solidFill>
            <a:miter/>
          </a:ln>
        </p:spPr>
      </p:pic>
      <p:sp>
        <p:nvSpPr>
          <p:cNvPr id="185" name="Text Box 4"/>
          <p:cNvSpPr/>
          <p:nvPr/>
        </p:nvSpPr>
        <p:spPr>
          <a:xfrm>
            <a:off x="0" y="3860640"/>
            <a:ext cx="89647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2aac"/>
                </a:solidFill>
                <a:latin typeface="Arial"/>
              </a:rPr>
              <a:t>Длина</a:t>
            </a:r>
            <a:r>
              <a:rPr b="1" lang="ru-RU" sz="2400" spc="-1" strike="noStrike">
                <a:solidFill>
                  <a:srgbClr val="332aac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2aac"/>
                </a:solidFill>
                <a:latin typeface="Arial"/>
              </a:rPr>
              <a:t>–</a:t>
            </a:r>
            <a:r>
              <a:rPr b="1" lang="ru-RU" sz="2400" spc="-1" strike="noStrike">
                <a:solidFill>
                  <a:srgbClr val="332aac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2aac"/>
                </a:solidFill>
                <a:latin typeface="Arial"/>
              </a:rPr>
              <a:t>мера для измерения расстояния</a:t>
            </a:r>
            <a:r>
              <a:rPr b="1" lang="ru-RU" sz="2400" spc="-1" strike="noStrike">
                <a:solidFill>
                  <a:srgbClr val="332aa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2aac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2aac"/>
                </a:solidFill>
                <a:latin typeface="Arial"/>
              </a:rPr>
              <a:t>Метр </a:t>
            </a:r>
            <a:r>
              <a:rPr b="1" lang="ru-RU" sz="2400" spc="-1" strike="noStrike">
                <a:solidFill>
                  <a:srgbClr val="332aac"/>
                </a:solidFill>
                <a:latin typeface="Arial"/>
              </a:rPr>
              <a:t>– </a:t>
            </a:r>
            <a:r>
              <a:rPr b="1" i="1" lang="ru-RU" sz="2400" spc="-1" strike="noStrike">
                <a:solidFill>
                  <a:srgbClr val="332aac"/>
                </a:solidFill>
                <a:latin typeface="Arial"/>
              </a:rPr>
              <a:t>единица длины, равная расстоянию, которое проходит свет в вакууме за время ½ 99 792 458 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684360" y="6381720"/>
            <a:ext cx="158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..\..\http.do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ИЗИЧЕСКИЕ ВЕЛИЧИНЫ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2016000" cy="200016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4"/>
          <p:cNvSpPr/>
          <p:nvPr/>
        </p:nvSpPr>
        <p:spPr>
          <a:xfrm>
            <a:off x="3095640" y="2133720"/>
            <a:ext cx="60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2aac"/>
                </a:solidFill>
                <a:latin typeface="Arial"/>
              </a:rPr>
              <a:t>Время – мера измерение разных промежутков времени</a:t>
            </a:r>
            <a:r>
              <a:rPr b="1" lang="ru-RU" sz="2400" spc="-1" strike="noStrike">
                <a:solidFill>
                  <a:srgbClr val="332aa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4643280" y="141300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РЕМ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Рисунок 30" descr="10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216000" y="3357720"/>
            <a:ext cx="8604000" cy="225108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7"/>
          <p:cNvSpPr/>
          <p:nvPr/>
        </p:nvSpPr>
        <p:spPr>
          <a:xfrm>
            <a:off x="179280" y="566100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Секунда – эта единица времени, равная 9 192 631 770 периодам излучения изотопа атома цезия – 133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-1065240" y="5897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468360" y="6491160"/>
            <a:ext cx="1582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.\..\http.do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ИЗИЧЕСКИЕ ВЕЛИЧИНЫ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2843280" y="119700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АС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Рисунок 32" descr="7"/>
          <p:cNvPicPr/>
          <p:nvPr/>
        </p:nvPicPr>
        <p:blipFill>
          <a:blip r:embed="rId1"/>
          <a:stretch/>
        </p:blipFill>
        <p:spPr>
          <a:xfrm>
            <a:off x="162000" y="1628640"/>
            <a:ext cx="8982000" cy="2270160"/>
          </a:xfrm>
          <a:prstGeom prst="rect">
            <a:avLst/>
          </a:prstGeom>
          <a:ln w="0">
            <a:noFill/>
          </a:ln>
        </p:spPr>
      </p:pic>
      <p:grpSp>
        <p:nvGrpSpPr>
          <p:cNvPr id="200" name="Group 5"/>
          <p:cNvGrpSpPr/>
          <p:nvPr/>
        </p:nvGrpSpPr>
        <p:grpSpPr>
          <a:xfrm>
            <a:off x="-541440" y="3933720"/>
            <a:ext cx="10080720" cy="1824120"/>
            <a:chOff x="-541440" y="3933720"/>
            <a:chExt cx="10080720" cy="1824120"/>
          </a:xfrm>
        </p:grpSpPr>
        <p:sp>
          <p:nvSpPr>
            <p:cNvPr id="201" name="AutoShape 6"/>
            <p:cNvSpPr/>
            <p:nvPr/>
          </p:nvSpPr>
          <p:spPr>
            <a:xfrm>
              <a:off x="-541440" y="3933720"/>
              <a:ext cx="10080720" cy="182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7"/>
            <p:cNvSpPr/>
            <p:nvPr/>
          </p:nvSpPr>
          <p:spPr>
            <a:xfrm>
              <a:off x="249120" y="4611600"/>
              <a:ext cx="1184400" cy="40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Масс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8"/>
            <p:cNvSpPr/>
            <p:nvPr/>
          </p:nvSpPr>
          <p:spPr>
            <a:xfrm>
              <a:off x="2225160" y="3933720"/>
              <a:ext cx="4942080" cy="40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0000"/>
                  </a:solidFill>
                  <a:latin typeface="Arial"/>
                </a:rPr>
                <a:t>Мера количества вещества и энерг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9"/>
            <p:cNvSpPr/>
            <p:nvPr/>
          </p:nvSpPr>
          <p:spPr>
            <a:xfrm>
              <a:off x="2225160" y="4611600"/>
              <a:ext cx="4942080" cy="40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0000"/>
                  </a:solidFill>
                  <a:latin typeface="Arial"/>
                </a:rPr>
                <a:t>Мера инертно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10"/>
            <p:cNvSpPr/>
            <p:nvPr/>
          </p:nvSpPr>
          <p:spPr>
            <a:xfrm>
              <a:off x="2225160" y="5289840"/>
              <a:ext cx="5891400" cy="33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0000"/>
                  </a:solidFill>
                  <a:latin typeface="Arial"/>
                </a:rPr>
                <a:t>Мера гравитационных свойств матер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V="1">
              <a:off x="1435320" y="4068720"/>
              <a:ext cx="789840" cy="54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>
              <a:off x="1435320" y="4882320"/>
              <a:ext cx="7898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>
              <a:off x="1435320" y="5018400"/>
              <a:ext cx="789840" cy="54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Text Box 14"/>
          <p:cNvSpPr/>
          <p:nvPr/>
        </p:nvSpPr>
        <p:spPr>
          <a:xfrm>
            <a:off x="216000" y="5661000"/>
            <a:ext cx="8928000" cy="11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2aac"/>
                </a:solidFill>
                <a:latin typeface="Arial"/>
              </a:rPr>
              <a:t>Килограмм – единица массы, равная массе международного эталона килограмма</a:t>
            </a:r>
            <a:r>
              <a:rPr b="1" lang="ru-RU" sz="2000" spc="-1" strike="noStrike">
                <a:solidFill>
                  <a:srgbClr val="332aac"/>
                </a:solidFill>
                <a:latin typeface="Arial"/>
              </a:rPr>
              <a:t>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иблизительно равен массе 1 л чистой воды при 15 </a:t>
            </a:r>
            <a:r>
              <a:rPr b="1" lang="ru-RU" sz="1800" spc="-1" strike="noStrike" baseline="30000">
                <a:solidFill>
                  <a:srgbClr val="ffff00"/>
                </a:solidFill>
                <a:latin typeface="Arial"/>
              </a:rPr>
              <a:t>0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ЗМЕРЕНИЕ ФИЗИЧЕСКИХ ВЕЛИЧ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Содержимое 2"/>
          <p:cNvSpPr/>
          <p:nvPr/>
        </p:nvSpPr>
        <p:spPr>
          <a:xfrm>
            <a:off x="108000" y="1413000"/>
            <a:ext cx="892800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змерение физических велич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есть действие, выполняемое с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мощью средств измерени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хождения значения физической величин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ринятых единиц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ямое измерение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измерение, при котором искомое значение величины находят непосредственно из опытных данных. Например: измерение напряжения при помощи вольтмет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5364000" y="3068640"/>
            <a:ext cx="3168720" cy="33908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"/>
          <p:cNvPicPr/>
          <p:nvPr/>
        </p:nvPicPr>
        <p:blipFill>
          <a:blip r:embed="rId2"/>
          <a:stretch/>
        </p:blipFill>
        <p:spPr>
          <a:xfrm>
            <a:off x="900000" y="2997360"/>
            <a:ext cx="4103640" cy="343692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08000" y="1412640"/>
            <a:ext cx="87120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освенное измерение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измерение, при котором искомое значение величины находят на основании известной зависимости между этой величиной и величинами, подвергаемыми прямым измерения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395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ЗМЕРЕНИЕ ФИЗИЧЕСКИХ ВЕЛИЧ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погрешности"/>
          <p:cNvPicPr/>
          <p:nvPr/>
        </p:nvPicPr>
        <p:blipFill>
          <a:blip r:embed="rId1"/>
          <a:stretch/>
        </p:blipFill>
        <p:spPr>
          <a:xfrm>
            <a:off x="1547640" y="3284640"/>
            <a:ext cx="1365480" cy="14698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5"/>
          <p:cNvSpPr/>
          <p:nvPr/>
        </p:nvSpPr>
        <p:spPr>
          <a:xfrm>
            <a:off x="5364000" y="378936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/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4643280" y="5013360"/>
            <a:ext cx="3457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спользовать весы с разновесом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 мерный цилиндр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539640" y="5084640"/>
            <a:ext cx="3457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спользовать амперметр и вольтметр для измерения силы тока и напря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1835280" y="2565360"/>
            <a:ext cx="53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ры – измерение сопротивления проводника и плотности ве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ЗМЕРЕНИЕ ФИЗИЧЕСКИХ ВЕЛИЧ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108000" y="1484280"/>
            <a:ext cx="8856720" cy="42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грешность измер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—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ценка отклонения величин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змеренного значения величины от её истинного значения. Погрешность измерения являет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арактеристикой (мерой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чност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мер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грешность измерительного прибора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азность между показанием прибора и истинным значением измеряемой велич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огрешность измерения равна половине цены деления приб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бсолютная погрешность измерения (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Δизм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.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азность между действительным и истинным значениями измеряемой величин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Δизм.=Хд. - Х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bbe0e3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тносительная погрешность измер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δиз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) - отношение абсолютной погрешности измерения к истинному значению измеряемой величины, выраженное в %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" descr="http://www.prist.ru/infos/articles/general_measurement/equation_12.gif"/>
          <p:cNvPicPr/>
          <p:nvPr/>
        </p:nvPicPr>
        <p:blipFill>
          <a:blip r:embed="rId1"/>
          <a:stretch/>
        </p:blipFill>
        <p:spPr>
          <a:xfrm>
            <a:off x="3497400" y="5365800"/>
            <a:ext cx="2298600" cy="873000"/>
          </a:xfrm>
          <a:prstGeom prst="rect">
            <a:avLst/>
          </a:prstGeom>
          <a:ln w="0">
            <a:noFill/>
          </a:ln>
        </p:spPr>
      </p:pic>
      <p:sp>
        <p:nvSpPr>
          <p:cNvPr id="2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Возникновение физики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5"/>
          <p:cNvPicPr/>
          <p:nvPr/>
        </p:nvPicPr>
        <p:blipFill>
          <a:blip r:embed="rId1"/>
          <a:stretch/>
        </p:blipFill>
        <p:spPr>
          <a:xfrm>
            <a:off x="324000" y="2349360"/>
            <a:ext cx="1981080" cy="252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" name="WordArt 5"/>
          <p:cNvSpPr txBox="1"/>
          <p:nvPr/>
        </p:nvSpPr>
        <p:spPr>
          <a:xfrm>
            <a:off x="250920" y="4869000"/>
            <a:ext cx="26287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ТОЛЕМЕЙ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1116000" y="1197000"/>
            <a:ext cx="727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Каждый школьник знаком теперь с истинам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за которые Архимед отдал бы жизн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2340000" y="321300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Научный дух зародился в Древней Гре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6"/>
          <p:cNvPicPr/>
          <p:nvPr/>
        </p:nvPicPr>
        <p:blipFill>
          <a:blip r:embed="rId2"/>
          <a:stretch/>
        </p:blipFill>
        <p:spPr>
          <a:xfrm>
            <a:off x="6300720" y="2276640"/>
            <a:ext cx="2103480" cy="2622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1" name="WordArt 9"/>
          <p:cNvSpPr txBox="1"/>
          <p:nvPr/>
        </p:nvSpPr>
        <p:spPr>
          <a:xfrm>
            <a:off x="6012000" y="4941720"/>
            <a:ext cx="2628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ГАЛИЛЕЙ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4788000" y="573408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Ученый, положивший начало физике, как наук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Материя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Все то, что существует во Вселенной, независимо от нашего сознания. Материя в нашем мире существует в виде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вещества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и пол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1476360" y="3429000"/>
            <a:ext cx="6120000" cy="266544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Что и как изучает физ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31680" y="1258920"/>
            <a:ext cx="8788320" cy="453708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Эволюция взгляда на физическую картину ми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250920" y="1284120"/>
            <a:ext cx="8785080" cy="524520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ТЕХНИЧЕСКИЕ УСТРОЙСТВА ДЛЯ ИЗУЧЕНИЯ ВСЕЛЕННО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star_refraktor"/>
          <p:cNvPicPr/>
          <p:nvPr/>
        </p:nvPicPr>
        <p:blipFill>
          <a:blip r:embed="rId1"/>
          <a:stretch/>
        </p:blipFill>
        <p:spPr>
          <a:xfrm>
            <a:off x="250920" y="1341360"/>
            <a:ext cx="2560680" cy="31323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0" y="4508640"/>
            <a:ext cx="3097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аринный рефра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нзов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3708рефлектор Ньютона"/>
          <p:cNvPicPr/>
          <p:nvPr/>
        </p:nvPicPr>
        <p:blipFill>
          <a:blip r:embed="rId2"/>
          <a:stretch/>
        </p:blipFill>
        <p:spPr>
          <a:xfrm>
            <a:off x="3276720" y="2924280"/>
            <a:ext cx="2101680" cy="25858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7"/>
          <p:cNvSpPr/>
          <p:nvPr/>
        </p:nvSpPr>
        <p:spPr>
          <a:xfrm>
            <a:off x="2771640" y="5445000"/>
            <a:ext cx="295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флектор Ньют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еркальн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15"/>
          <p:cNvPicPr/>
          <p:nvPr/>
        </p:nvPicPr>
        <p:blipFill>
          <a:blip r:embed="rId3"/>
          <a:stretch/>
        </p:blipFill>
        <p:spPr>
          <a:xfrm>
            <a:off x="5580000" y="2708280"/>
            <a:ext cx="3206880" cy="27241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9"/>
          <p:cNvSpPr/>
          <p:nvPr/>
        </p:nvSpPr>
        <p:spPr>
          <a:xfrm>
            <a:off x="5435640" y="1628640"/>
            <a:ext cx="345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ршина потухшего вулкана Мауна-Кеа высотой 4200 м (остров Гавайи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16"/>
          <p:cNvPicPr/>
          <p:nvPr/>
        </p:nvPicPr>
        <p:blipFill>
          <a:blip r:embed="rId1"/>
          <a:stretch/>
        </p:blipFill>
        <p:spPr>
          <a:xfrm>
            <a:off x="395280" y="1341360"/>
            <a:ext cx="4105440" cy="3753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395280" y="522936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диотелескоп в Аресибо Пуэрто-Ри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7"/>
          <p:cNvPicPr/>
          <p:nvPr/>
        </p:nvPicPr>
        <p:blipFill>
          <a:blip r:embed="rId2"/>
          <a:stretch/>
        </p:blipFill>
        <p:spPr>
          <a:xfrm>
            <a:off x="5219640" y="1773360"/>
            <a:ext cx="3384720" cy="27302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7"/>
          <p:cNvSpPr/>
          <p:nvPr/>
        </p:nvSpPr>
        <p:spPr>
          <a:xfrm>
            <a:off x="4859280" y="5084640"/>
            <a:ext cx="38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временная спутниковая обсерватория, работающая в инфракрасном диапазо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ТЕХНИЧЕСКИЕ УСТРОЙСТВА ДЛЯ ИЗУЧЕНИЯ ВСЕЛЕННОЙ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ЭТАПЫ НАУЧНОГО ПОЗНАН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4"/>
          <p:cNvPicPr/>
          <p:nvPr/>
        </p:nvPicPr>
        <p:blipFill>
          <a:blip r:embed="rId1"/>
          <a:stretch/>
        </p:blipFill>
        <p:spPr>
          <a:xfrm>
            <a:off x="1763640" y="1341360"/>
            <a:ext cx="5781600" cy="3753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755640" y="52293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юбопытство. С него все и начало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. Джеймс, Дж. Мартин  «Все возможные мир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17:00:59Z</dcterms:created>
  <dc:creator>Марина</dc:creator>
  <dc:description/>
  <dc:language>en-US</dc:language>
  <cp:lastModifiedBy>LEGION</cp:lastModifiedBy>
  <dcterms:modified xsi:type="dcterms:W3CDTF">2015-03-30T08:22:56Z</dcterms:modified>
  <cp:revision>11</cp:revision>
  <dc:subject/>
  <dc:title>ФИЗИКА И ПОЗНАНИЕ МИРА</dc:title>
</cp:coreProperties>
</file>