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84FD-8785-4A9D-A85D-447CCCF4B1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0162-D04F-4DF9-A5EC-9A8D1760C5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BE05-BA1D-4927-9015-15C93F6697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2CA6-E645-4D15-8681-EB9872B720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FF41-A023-43BF-976C-F3A36B1A88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ED70-F546-45E3-94E2-BA86BEA26C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89C7-A7EE-4887-BF1C-9F0A6A3B79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3985-B9B4-482B-92A0-0FEDEB8C1C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2F36-EC55-45E4-8AFB-8A9EFE9C19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0D83-D41E-4185-AF0A-1A32A4B2A9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56CF-AC44-4444-9350-557DECD8B0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E7BF-EDDC-48BF-BEDE-F5AF2ECCCF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49C0-4561-42C8-8666-AD03E02748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0782-4FB7-4CAE-A9EA-31C269F1F9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0195-543F-4224-9009-B26C87BCFC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F6D2-0A22-44BF-95F8-2E1F204964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E4CD-B475-49CF-9E9F-694E24AE37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329A-728D-4368-B22F-98BF23EFD4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23F9-7D47-405C-ACA9-B3A27C4CBF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Килограмм – единица массы, равная массе международного эталона килограмм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близительно равен массе 1 л чистой воды при 15 </a:t>
            </a:r>
            <a:r>
              <a:rPr b="1" lang="ru-RU" sz="1200" spc="-1" strike="noStrike" baseline="30000">
                <a:solidFill>
                  <a:srgbClr val="ffff00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525D-1056-4B12-9325-A21BB5639C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F3FC-DFA9-4B49-BDB5-9BB6EC5310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– измерение сопротивления проводника и плотности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227F-A56B-483F-89DF-EDCA859072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0347-B4AE-4088-8019-165870B4B6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CE07-01B1-4B4B-96CE-28CBE162BF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6B10-844B-421A-B3AE-D800B16243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E20E-930D-4F7B-91F3-0334762BFA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6FBE-54C5-49F2-8729-A31D5FC27A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71CD-45A4-4D1C-ABBD-685AC6B06D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A3FA-B4E8-4D3E-A0F7-DB70505485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10A6-436D-4D87-BECF-B254D23752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A12-6081-4E3B-B014-7E0896AE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F64-7C84-415D-901A-164B63E8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7E3-1520-4E56-BCE8-E6DBB41D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BA9-1A94-426E-A878-8E21818C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C65-B18C-44A2-A556-2BF06072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68E-E981-40A9-B04D-5BF5977A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EF1-80F1-4E5A-B05B-3C88DEE4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62A-B980-4850-A1DE-84AC679D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343-9508-492D-9336-0872F835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316-51B6-4AFE-9440-FF87EE9A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D30-9CD9-4BD4-BBF4-1627D085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27E-04B2-4D45-96BF-F0F5FBD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9AE4-14F1-425B-A11F-7C79AF1DA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3-30T08:22:56Z</dcterms:modified>
  <cp:revision>11</cp:revision>
  <dc:subject/>
  <dc:title>ФИЗИКА И ПОЗНАНИЕ МИРА</dc:title>
</cp:coreProperties>
</file>