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61F1-3544-4E5B-9408-37035E07B9A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c2cf4"/>
                </a:solidFill>
                <a:latin typeface="Calibri"/>
              </a:rPr>
              <a:t>Соединения проводников в электрической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a0aba"/>
                </a:solidFill>
                <a:latin typeface="Calibri"/>
              </a:rPr>
              <a:t>Презентация учителя физики МОУ «СОШ №6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A820-4E52-45D3-AD7A-231D14FFCD6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79d3b"/>
                </a:solidFill>
                <a:latin typeface="Calibri"/>
              </a:rPr>
              <a:t>Проводники в цепи можно соединять последовательно</a:t>
            </a:r>
            <a:r>
              <a:rPr b="0" i="1" lang="ru-RU" sz="1400" spc="-1" strike="noStrike">
                <a:solidFill>
                  <a:srgbClr val="279d3b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лементы цепи соединяются один за други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970B-EC24-42AA-A4F7-89C89E7D48E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c2cf4"/>
                </a:solidFill>
                <a:latin typeface="Calibri"/>
              </a:rPr>
              <a:t>При последовательном соединении проводник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Сила то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любой 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и неизмен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яж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напряжений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стках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противл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сопротивле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ов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B12E-1AEF-4727-A3F3-1525C1CE9D0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8c515"/>
                </a:solidFill>
                <a:latin typeface="Calibri"/>
              </a:rPr>
              <a:t>Пример решения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следовательно соединённых прово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м 6 и 4 Ом включены в сеть с напряжением 20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8B1D-A76E-41C7-A999-F03D98E58B0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b8c515"/>
                </a:solidFill>
                <a:latin typeface="Calibri"/>
              </a:rPr>
              <a:t>Задача для самостоятельного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=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6897-9432-4E1A-A08F-8C057382848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5ED-3673-4D63-934F-21A802E2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2D2-A1EF-4F58-8445-CB8D9C3A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487-388C-403C-9C0B-27429FD0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B56-0975-450F-9CCB-4D5ACD63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CE54-4C50-40A5-B063-B42881D0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8FB0-2582-418B-AD04-A8525403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BE6A-4AB0-417B-B4D3-88439F9E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2F4E-8ACF-415C-A4DC-402CF72C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4ECE-70E7-4F07-990E-C0CFE8A4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7AE5-354A-42F7-BA8C-2C3C470A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BFC8-355F-4D2B-8438-8221A171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93E-89F1-4FAC-8D69-93613541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F31F-5F2A-49BB-BF38-3A3D2FD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CB90-D464-4AE3-B11B-43A9FA22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B134-6F2F-4DDC-A6E1-00D6265A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6A75-3FD5-4244-BEFC-F182FFF5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92CB-6F11-41AA-8057-B27A9018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3DF-4CBE-4252-B3F0-FA2AAA70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1A10-A8DE-498A-8E63-F9E7BCEF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462-E62E-4D56-B212-6ACD0115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8BF9-A0D7-48BA-A4CD-57BA0332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D8C-B7BE-41B8-B468-6A55C97E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371-455E-4144-A5B8-9991649B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170-06DD-4DD5-B1CB-C210E4A5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B921-0BF7-43AD-B2AA-E534F0B7AB8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8920" y="63000"/>
              <a:ext cx="3630960" cy="6141960"/>
              <a:chOff x="5398920" y="63000"/>
              <a:chExt cx="3630960" cy="61419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880" y="34812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8120"/>
                <a:ext cx="90576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91640"/>
                <a:ext cx="43920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392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120" y="2657520"/>
                <a:ext cx="16308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9080" y="12466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9200" y="294336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360" y="276120"/>
              <a:ext cx="893160" cy="825840"/>
              <a:chOff x="5643360" y="276120"/>
              <a:chExt cx="89316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70760"/>
                <a:ext cx="17928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200" y="45108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080" y="3758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0240"/>
              <a:ext cx="1059480" cy="831240"/>
              <a:chOff x="968760" y="5250240"/>
              <a:chExt cx="105948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440" y="5514840"/>
                <a:ext cx="250920" cy="299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26160"/>
                <a:ext cx="429840" cy="24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4800"/>
                <a:ext cx="44928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25880"/>
              <a:ext cx="1690560" cy="1146600"/>
              <a:chOff x="375840" y="42588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443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695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36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05920" y="3712320"/>
              <a:ext cx="1156320" cy="1607760"/>
              <a:chOff x="74059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606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1136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0428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DB67-BA54-41A1-A42B-B2B6F2B9B904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5120" y="14479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f4"/>
                </a:solidFill>
                <a:latin typeface="Verdana"/>
              </a:rPr>
              <a:t>Соединения проводников в электрической цеп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00200" y="29718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a0aba"/>
                </a:solidFill>
                <a:latin typeface="Verdana"/>
              </a:rPr>
              <a:t>Презентация учителя физики МОУ «СОШ №6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267080" y="45720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Симонова Артур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Михайлович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79d3b"/>
                </a:solidFill>
                <a:latin typeface="Verdana"/>
              </a:rPr>
              <a:t>Проводники в цепи можно соединять последовательно</a:t>
            </a:r>
            <a:r>
              <a:rPr b="0" i="1" lang="ru-RU" sz="3200" spc="-1" strike="noStrike">
                <a:solidFill>
                  <a:srgbClr val="279d3b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Элементы цепи соединяются один за други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3276720" cy="1314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24996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3170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8307720" y="16765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4000" y="3505320"/>
            <a:ext cx="75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c2cf4"/>
                </a:solidFill>
                <a:latin typeface="Arial"/>
              </a:rPr>
              <a:t>Проводники можно соединить параллель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676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762480" y="426708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9e13"/>
                </a:solidFill>
                <a:latin typeface="Arial"/>
              </a:rPr>
              <a:t>Электрическая цепь при этом разветвляетс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7130880" y="4267080"/>
            <a:ext cx="1708200" cy="2171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4"/>
          <p:cNvSpPr/>
          <p:nvPr/>
        </p:nvSpPr>
        <p:spPr>
          <a:xfrm>
            <a:off x="6631200" y="44197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6631200" y="502920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6631200" y="5791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c2cf4"/>
                </a:solidFill>
                <a:latin typeface="Verdana"/>
              </a:rPr>
              <a:t>При последовательном соединении проводников: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 любой точк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неизменна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напряжений на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участках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сопротивлений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элементов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793920" y="106668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67480" y="175248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2485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567480" y="23623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80880" y="4114800"/>
            <a:ext cx="3962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а сумм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ил токов в каждой ветви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о всех ветвях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одинаково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определяется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по формуле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837440" y="3429000"/>
            <a:ext cx="50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79d3b"/>
                </a:solidFill>
                <a:latin typeface="Verdana"/>
              </a:rPr>
              <a:t>При параллельном соединении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6487560" y="4114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6337800" y="4419720"/>
            <a:ext cx="105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095880" y="4800600"/>
            <a:ext cx="165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/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5943600" y="5181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или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  R=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2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30400" y="102960"/>
            <a:ext cx="595296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Пример решения задачи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ва последовательно соединённых проводни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противлением 6 и 4 Ом включены в сеть с напряжением 20 В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821520" y="2398680"/>
            <a:ext cx="166824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ан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6 Ом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4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20 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666880" y="2438280"/>
            <a:ext cx="480060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Из закона Ома определим силу тока в цепи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20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10 Ом=2А,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где сопротивлени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6 Ом + 4 Ом = 10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Сила тока в последовательно соединённых проводниках одинакова, поэтом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=2A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Напряжение найдём из закона Ома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 А*6 Ом = 12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А*4 Ом = 8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 ,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10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1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,  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8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180720" cy="25336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Задача для самостоятельного реш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750680"/>
            <a:ext cx="213372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0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5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=12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--------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133720" y="838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04920" y="8380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ва проводника сопротивлением 10 и 15 Ом соединены параллельно и подключены к сети напряжением 12 В. Определите общее сопротивление проводников, общую силу тока. А также силу тока в каждом проводник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126600" y="18288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590920" y="2209680"/>
            <a:ext cx="52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. Найдём общее сопротивление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2742840" y="2895480"/>
            <a:ext cx="58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0 Ом*15 Ом/(10 Ом+15 Ом)=6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2666880" y="32767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. Определим общую силу тока в цепи, используя закон Ом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1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6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2743200" y="41148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3. Определим силу тока в каждом проводнике по  закону Ома, учитывая, что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0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 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5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195000" y="5638680"/>
            <a:ext cx="46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6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16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161640" cy="22482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3:0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