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7357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0" y="0"/>
            <a:ext cx="6735600" cy="987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dt" idx="7"/>
          </p:nvPr>
        </p:nvSpPr>
        <p:spPr>
          <a:xfrm>
            <a:off x="38145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Img"/>
          </p:nvPr>
        </p:nvSpPr>
        <p:spPr>
          <a:xfrm>
            <a:off x="900000" y="739440"/>
            <a:ext cx="4935600" cy="3701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body"/>
          </p:nvPr>
        </p:nvSpPr>
        <p:spPr>
          <a:xfrm>
            <a:off x="672840" y="468792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ftr" idx="8"/>
          </p:nvPr>
        </p:nvSpPr>
        <p:spPr>
          <a:xfrm>
            <a:off x="-360" y="9374040"/>
            <a:ext cx="291924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 type="sldNum" idx="9"/>
          </p:nvPr>
        </p:nvSpPr>
        <p:spPr>
          <a:xfrm>
            <a:off x="3814560" y="9374040"/>
            <a:ext cx="291924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992B9-C98E-4512-93E4-FF856FA48426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90000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72840" y="468792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c2cf4"/>
                </a:solidFill>
                <a:latin typeface="Calibri"/>
              </a:rPr>
              <a:t>Соединения проводников в электрической цеп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a0aba"/>
                </a:solidFill>
                <a:latin typeface="Calibri"/>
              </a:rPr>
              <a:t>Презентация учителя физики МОУ «СОШ №6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3814920" y="9374040"/>
            <a:ext cx="2919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5054C-3435-4319-BC4F-B9C44BA14CE0}" type="slidenum">
              <a:rPr b="0" lang="uk-UA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90000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72840" y="468792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279d3b"/>
                </a:solidFill>
                <a:latin typeface="Calibri"/>
              </a:rPr>
              <a:t>Проводники в цепи можно соединять последовательно</a:t>
            </a:r>
            <a:r>
              <a:rPr b="0" i="1" lang="ru-RU" sz="1400" spc="-1" strike="noStrike">
                <a:solidFill>
                  <a:srgbClr val="279d3b"/>
                </a:solidFill>
                <a:latin typeface="Calibri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Calibri"/>
              </a:rPr>
              <a:t>Элементы цепи соединяются один за другим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Місце для номера слайда 3"/>
          <p:cNvSpPr/>
          <p:nvPr/>
        </p:nvSpPr>
        <p:spPr>
          <a:xfrm>
            <a:off x="3814920" y="9374040"/>
            <a:ext cx="2919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BF873-4CA1-4207-BD60-828ECD536E8F}" type="slidenum">
              <a:rPr b="0" lang="uk-UA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90000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72840" y="468792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2c2cf4"/>
                </a:solidFill>
                <a:latin typeface="Calibri"/>
              </a:rPr>
              <a:t>При последовательном соединении проводников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1.Сила тока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в любой точк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цепи неизменн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Напряжение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равн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сумме напряжений н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участках цеп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опротивление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равн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сумме сопротивлений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элементов цеп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Місце для номера слайда 3"/>
          <p:cNvSpPr/>
          <p:nvPr/>
        </p:nvSpPr>
        <p:spPr>
          <a:xfrm>
            <a:off x="3814920" y="9374040"/>
            <a:ext cx="2919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3F002-A1E9-4BE4-A5D9-7103E8850FFF}" type="slidenum">
              <a:rPr b="0" lang="uk-UA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90000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72840" y="468792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b8c515"/>
                </a:solidFill>
                <a:latin typeface="Calibri"/>
              </a:rPr>
              <a:t>Пример решения задачи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ва последовательно соединённых проводн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противлением 6 и 4 Ом включены в сеть с напряжением 20 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ите общую силу тока в цепи, силу тока в каждом проводнике, а также напряжение на каждом из ни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Місце для номера слайда 3"/>
          <p:cNvSpPr/>
          <p:nvPr/>
        </p:nvSpPr>
        <p:spPr>
          <a:xfrm>
            <a:off x="3814920" y="9374040"/>
            <a:ext cx="2919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E56E7-DDDA-46B8-9920-6363C5632C95}" type="slidenum">
              <a:rPr b="0" lang="uk-UA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90000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72840" y="468792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b8c515"/>
                </a:solidFill>
                <a:latin typeface="Calibri"/>
              </a:rPr>
              <a:t>Задача для самостоятельного реш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но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10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15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=12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--------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=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=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Місце для номера слайда 3"/>
          <p:cNvSpPr/>
          <p:nvPr/>
        </p:nvSpPr>
        <p:spPr>
          <a:xfrm>
            <a:off x="3814920" y="9374040"/>
            <a:ext cx="2919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44560-8306-471D-A196-12A415AA8AC2}" type="slidenum">
              <a:rPr b="0" lang="uk-UA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99DE1-411C-426E-B9C4-94E5D3D2F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12855-455F-49CB-A142-7ED138185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A76E4-119F-4869-ABB1-BED3548EB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865E8-633D-4D59-86FE-499B73D98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D941E-C0F9-4589-A920-2E7501B93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A65F3-5037-40EF-AE55-29A36398E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85A6D-1D7A-410D-8903-5E1ABDADC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B164D-90AF-42B2-A3B9-58A9C6878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2153B-34D8-4E5C-89C6-FDDDB88FD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193AB-32B8-4FF1-B227-40367AF54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665B3-BBC2-40B9-8BED-0BD053D4B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0DD20-D5FA-400C-85F3-D0EF2FCE4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EF4B7-79F0-4140-AC85-DEC4DEAE9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998D2-DC95-4B93-88F2-CD30AFBBC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F7859-BB12-48B2-9011-03C68E57C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F42CF-B73A-49BB-9722-4AA5161BB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0CE7D-79B8-4489-88B9-E794A93E6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9E8F7-CE0B-469A-83BA-90DE5C0A7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A07DC-6040-4E95-AC42-517B07C09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6F5CB-5642-454E-9457-0CAD1F949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557B9-7BFA-4B81-90DB-5A6898535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DE95E-2787-4083-9769-0DFEECECF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1B697-042E-4875-80D6-D23B0EE2A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08ADA-1ECC-4692-965C-323F298E4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040" cy="3118680"/>
              <a:chOff x="-1080" y="2601000"/>
              <a:chExt cx="2687040" cy="311868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8200" y="3847680"/>
                <a:ext cx="65520" cy="18180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840" y="4051080"/>
                <a:ext cx="1833120" cy="1668600"/>
                <a:chOff x="852840" y="4051080"/>
                <a:chExt cx="1833120" cy="166860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74400" y="3934800"/>
                  <a:ext cx="477360" cy="12438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64480" y="4978800"/>
                  <a:ext cx="110520" cy="51048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498760" y="5565600"/>
                  <a:ext cx="200880" cy="8892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280" y="6172920"/>
              <a:ext cx="790920" cy="635400"/>
              <a:chOff x="467280" y="6172920"/>
              <a:chExt cx="790920" cy="63540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1600" y="6171480"/>
                <a:ext cx="196560" cy="2559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58880" y="6512760"/>
                <a:ext cx="336600" cy="212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640" y="6410880"/>
                <a:ext cx="352080" cy="108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11CD0-04DE-4D35-9E87-0A6219DDDD95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50040" cy="6858000"/>
            <a:chOff x="-20160" y="0"/>
            <a:chExt cx="905004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398920" y="63000"/>
              <a:ext cx="3630960" cy="6141960"/>
              <a:chOff x="5398920" y="63000"/>
              <a:chExt cx="3630960" cy="614196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1880" y="348120"/>
                <a:ext cx="2115000" cy="235692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21040" y="1968120"/>
                <a:ext cx="905760" cy="84276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3800" y="2591640"/>
                <a:ext cx="439200" cy="39492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50040" y="673920"/>
                <a:ext cx="38880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43120" y="2657520"/>
                <a:ext cx="163080" cy="33156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29080" y="1246680"/>
                <a:ext cx="190080" cy="14256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29200" y="2943360"/>
                <a:ext cx="523800" cy="326772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760" y="2000160"/>
              <a:ext cx="199908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8964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51520" y="1033200"/>
              <a:ext cx="1015560" cy="1262520"/>
              <a:chOff x="4151520" y="1033200"/>
              <a:chExt cx="1015560" cy="126252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65880" y="1071000"/>
                <a:ext cx="285840" cy="378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50840" y="1604160"/>
                <a:ext cx="488880" cy="3146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11560" y="1962000"/>
                <a:ext cx="511200" cy="1602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43360" y="276120"/>
              <a:ext cx="893160" cy="825840"/>
              <a:chOff x="5643360" y="276120"/>
              <a:chExt cx="893160" cy="82584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54960" y="770760"/>
                <a:ext cx="179280" cy="3621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04200" y="451080"/>
                <a:ext cx="306360" cy="300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47080" y="375840"/>
                <a:ext cx="319320" cy="153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68760" y="5250240"/>
              <a:ext cx="1059480" cy="831240"/>
              <a:chOff x="968760" y="5250240"/>
              <a:chExt cx="1059480" cy="83124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711440" y="5514840"/>
                <a:ext cx="250920" cy="29988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93400" y="5726160"/>
                <a:ext cx="429840" cy="2491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60120" y="5374800"/>
                <a:ext cx="449280" cy="12672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75840" y="425880"/>
              <a:ext cx="1690560" cy="1146600"/>
              <a:chOff x="375840" y="425880"/>
              <a:chExt cx="1690560" cy="114660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76440" y="1044360"/>
                <a:ext cx="35532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23120" y="569520"/>
                <a:ext cx="608400" cy="4406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78640" y="1083600"/>
                <a:ext cx="636120" cy="22392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405920" y="3712320"/>
              <a:ext cx="1156320" cy="1607760"/>
              <a:chOff x="7405920" y="3712320"/>
              <a:chExt cx="1156320" cy="160776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60640" y="4755960"/>
                <a:ext cx="35532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911360" y="4455360"/>
                <a:ext cx="608400" cy="4406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604280" y="3781440"/>
                <a:ext cx="636120" cy="22392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248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2576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6980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3088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520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4916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AC64E-5560-421A-BB04-A192E15EA6AC}" type="slidenum">
              <a:rPr b="0" lang="ru-RU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905120" y="1447920"/>
            <a:ext cx="67053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c2cf4"/>
                </a:solidFill>
                <a:latin typeface="Verdana"/>
              </a:rPr>
              <a:t>Соединения проводников в электрической цепи</a:t>
            </a: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600200" y="2971800"/>
            <a:ext cx="419112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a0aba"/>
                </a:solidFill>
                <a:latin typeface="Verdana"/>
              </a:rPr>
              <a:t>Презентация учителя физики МОУ «СОШ №6»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6" name="Text Box 14"/>
          <p:cNvSpPr/>
          <p:nvPr/>
        </p:nvSpPr>
        <p:spPr>
          <a:xfrm>
            <a:off x="4267080" y="457200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2c2cf4"/>
                </a:solidFill>
                <a:latin typeface="Arial"/>
              </a:rPr>
              <a:t>Симонова Артура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2c2cf4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2c2cf4"/>
                </a:solidFill>
                <a:latin typeface="Arial"/>
              </a:rPr>
              <a:t>Михайловича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279d3b"/>
                </a:solidFill>
                <a:latin typeface="Verdana"/>
              </a:rPr>
              <a:t>Проводники в цепи можно соединять последовательно</a:t>
            </a:r>
            <a:r>
              <a:rPr b="0" i="1" lang="ru-RU" sz="3200" spc="-1" strike="noStrike">
                <a:solidFill>
                  <a:srgbClr val="279d3b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6699"/>
                </a:solidFill>
                <a:latin typeface="Verdana"/>
              </a:rPr>
              <a:t>Элементы цепи соединяются один за другим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80" name="Picture 5" descr=""/>
          <p:cNvPicPr/>
          <p:nvPr/>
        </p:nvPicPr>
        <p:blipFill>
          <a:blip r:embed="rId1"/>
          <a:stretch/>
        </p:blipFill>
        <p:spPr>
          <a:xfrm>
            <a:off x="5867280" y="2057400"/>
            <a:ext cx="3276720" cy="131436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6"/>
          <p:cNvSpPr/>
          <p:nvPr/>
        </p:nvSpPr>
        <p:spPr>
          <a:xfrm>
            <a:off x="6249960" y="16765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R</a:t>
            </a:r>
            <a:r>
              <a:rPr b="0" lang="en-US" sz="900" spc="-1" strike="noStrike">
                <a:solidFill>
                  <a:srgbClr val="006699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2" name="Text Box 7"/>
          <p:cNvSpPr/>
          <p:nvPr/>
        </p:nvSpPr>
        <p:spPr>
          <a:xfrm>
            <a:off x="7317000" y="16765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R</a:t>
            </a:r>
            <a:r>
              <a:rPr b="0" lang="en-US" sz="900" spc="-1" strike="noStrike">
                <a:solidFill>
                  <a:srgbClr val="006699"/>
                </a:solidFill>
                <a:latin typeface="Arial"/>
              </a:rPr>
              <a:t>2</a:t>
            </a:r>
            <a:endParaRPr b="0" lang="en-US" sz="9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3" name="Text Box 8"/>
          <p:cNvSpPr/>
          <p:nvPr/>
        </p:nvSpPr>
        <p:spPr>
          <a:xfrm>
            <a:off x="8307720" y="1676520"/>
            <a:ext cx="41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R</a:t>
            </a: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4" name="Text Box 10"/>
          <p:cNvSpPr/>
          <p:nvPr/>
        </p:nvSpPr>
        <p:spPr>
          <a:xfrm>
            <a:off x="234000" y="3505320"/>
            <a:ext cx="756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2c2cf4"/>
                </a:solidFill>
                <a:latin typeface="Arial"/>
              </a:rPr>
              <a:t>Проводники можно соединить параллельно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5" name="Text Box 11"/>
          <p:cNvSpPr/>
          <p:nvPr/>
        </p:nvSpPr>
        <p:spPr>
          <a:xfrm>
            <a:off x="1676520" y="4114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6" name="Rectangle 12"/>
          <p:cNvSpPr/>
          <p:nvPr/>
        </p:nvSpPr>
        <p:spPr>
          <a:xfrm>
            <a:off x="762480" y="4267080"/>
            <a:ext cx="504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b59e13"/>
                </a:solidFill>
                <a:latin typeface="Arial"/>
              </a:rPr>
              <a:t>Электрическая цепь при этом разветвляется: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87" name="Picture 13" descr=""/>
          <p:cNvPicPr/>
          <p:nvPr/>
        </p:nvPicPr>
        <p:blipFill>
          <a:blip r:embed="rId2"/>
          <a:stretch/>
        </p:blipFill>
        <p:spPr>
          <a:xfrm>
            <a:off x="7130880" y="4267080"/>
            <a:ext cx="1708200" cy="2171880"/>
          </a:xfrm>
          <a:prstGeom prst="rect">
            <a:avLst/>
          </a:prstGeom>
          <a:ln w="0">
            <a:noFill/>
          </a:ln>
        </p:spPr>
      </p:pic>
      <p:sp>
        <p:nvSpPr>
          <p:cNvPr id="188" name="Rectangle 14"/>
          <p:cNvSpPr/>
          <p:nvPr/>
        </p:nvSpPr>
        <p:spPr>
          <a:xfrm>
            <a:off x="6631200" y="4419720"/>
            <a:ext cx="41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R</a:t>
            </a: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9" name="Rectangle 15"/>
          <p:cNvSpPr/>
          <p:nvPr/>
        </p:nvSpPr>
        <p:spPr>
          <a:xfrm>
            <a:off x="6631200" y="5029200"/>
            <a:ext cx="41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R</a:t>
            </a: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0" name="Rectangle 16"/>
          <p:cNvSpPr/>
          <p:nvPr/>
        </p:nvSpPr>
        <p:spPr>
          <a:xfrm>
            <a:off x="6631200" y="5791320"/>
            <a:ext cx="41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R</a:t>
            </a: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4850"/>
                            </p:stCondLst>
                            <p:childTnLst>
                              <p:par>
                                <p:cTn id="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5350"/>
                            </p:stCondLst>
                            <p:childTnLst>
                              <p:par>
                                <p:cTn id="6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2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5850"/>
                            </p:stCondLst>
                            <p:childTnLst>
                              <p:par>
                                <p:cTn id="6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43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2c2cf4"/>
                </a:solidFill>
                <a:latin typeface="Verdana"/>
              </a:rPr>
              <a:t>При последовательном соединении проводников:</a:t>
            </a:r>
            <a:endParaRPr b="0" lang="en-US" sz="1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066320"/>
            <a:ext cx="3886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 u="sng">
                <a:solidFill>
                  <a:srgbClr val="006699"/>
                </a:solidFill>
                <a:uFillTx/>
                <a:latin typeface="Verdana"/>
              </a:rPr>
              <a:t>1.Сила тока</a:t>
            </a:r>
            <a:r>
              <a:rPr b="1" i="1" lang="ru-RU" sz="1400" spc="-1" strike="noStrike">
                <a:solidFill>
                  <a:srgbClr val="006699"/>
                </a:solidFill>
                <a:latin typeface="Verdana"/>
              </a:rPr>
              <a:t> в любой точке 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6699"/>
                </a:solidFill>
                <a:latin typeface="Verdana"/>
              </a:rPr>
              <a:t>цепи неизменна: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6699"/>
                </a:solidFill>
                <a:latin typeface="Verdana"/>
              </a:rPr>
              <a:t>2.</a:t>
            </a:r>
            <a:r>
              <a:rPr b="1" i="1" lang="ru-RU" sz="1400" spc="-1" strike="noStrike" u="sng">
                <a:solidFill>
                  <a:srgbClr val="006699"/>
                </a:solidFill>
                <a:uFillTx/>
                <a:latin typeface="Verdana"/>
              </a:rPr>
              <a:t>Напряжение</a:t>
            </a:r>
            <a:r>
              <a:rPr b="1" i="1" lang="ru-RU" sz="1400" spc="-1" strike="noStrike">
                <a:solidFill>
                  <a:srgbClr val="006699"/>
                </a:solidFill>
                <a:latin typeface="Verdana"/>
              </a:rPr>
              <a:t> равно 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6699"/>
                </a:solidFill>
                <a:latin typeface="Verdana"/>
              </a:rPr>
              <a:t>сумме напряжений на 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6699"/>
                </a:solidFill>
                <a:latin typeface="Verdana"/>
              </a:rPr>
              <a:t>участках цепи: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6699"/>
                </a:solidFill>
                <a:latin typeface="Verdana"/>
              </a:rPr>
              <a:t>3.</a:t>
            </a:r>
            <a:r>
              <a:rPr b="1" i="1" lang="ru-RU" sz="1400" spc="-1" strike="noStrike" u="sng">
                <a:solidFill>
                  <a:srgbClr val="006699"/>
                </a:solidFill>
                <a:uFillTx/>
                <a:latin typeface="Verdana"/>
              </a:rPr>
              <a:t>Сопротивление</a:t>
            </a:r>
            <a:r>
              <a:rPr b="1" i="1" lang="ru-RU" sz="1400" spc="-1" strike="noStrike">
                <a:solidFill>
                  <a:srgbClr val="006699"/>
                </a:solidFill>
                <a:latin typeface="Verdana"/>
              </a:rPr>
              <a:t> равно 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6699"/>
                </a:solidFill>
                <a:latin typeface="Verdana"/>
              </a:rPr>
              <a:t>сумме сопротивлений</a:t>
            </a:r>
            <a:r>
              <a:rPr b="1" lang="ru-RU" sz="1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6699"/>
                </a:solidFill>
                <a:latin typeface="Verdana"/>
              </a:rPr>
              <a:t>элементов цепи: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4" name="Text Box 4"/>
          <p:cNvSpPr/>
          <p:nvPr/>
        </p:nvSpPr>
        <p:spPr>
          <a:xfrm>
            <a:off x="6793920" y="1066680"/>
            <a:ext cx="10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=I</a:t>
            </a: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=I</a:t>
            </a: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5" name="Text Box 5"/>
          <p:cNvSpPr/>
          <p:nvPr/>
        </p:nvSpPr>
        <p:spPr>
          <a:xfrm>
            <a:off x="6567480" y="1752480"/>
            <a:ext cx="151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U=U</a:t>
            </a:r>
            <a:r>
              <a:rPr b="0" lang="en-US" sz="1100" spc="-1" strike="noStrike">
                <a:solidFill>
                  <a:srgbClr val="006699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+U</a:t>
            </a:r>
            <a:r>
              <a:rPr b="0" lang="en-US" sz="1100" spc="-1" strike="noStrike">
                <a:solidFill>
                  <a:srgbClr val="006699"/>
                </a:solidFill>
                <a:latin typeface="Arial"/>
              </a:rPr>
              <a:t>2</a:t>
            </a:r>
            <a:endParaRPr b="0" lang="en-US" sz="11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6" name="Text Box 6"/>
          <p:cNvSpPr/>
          <p:nvPr/>
        </p:nvSpPr>
        <p:spPr>
          <a:xfrm>
            <a:off x="6248520" y="49528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7" name="Text Box 7"/>
          <p:cNvSpPr/>
          <p:nvPr/>
        </p:nvSpPr>
        <p:spPr>
          <a:xfrm>
            <a:off x="6567480" y="2362320"/>
            <a:ext cx="151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R=R</a:t>
            </a:r>
            <a:r>
              <a:rPr b="0" lang="en-US" sz="1100" spc="-1" strike="noStrike">
                <a:solidFill>
                  <a:srgbClr val="006699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+R</a:t>
            </a:r>
            <a:r>
              <a:rPr b="0" lang="en-US" sz="1100" spc="-1" strike="noStrike">
                <a:solidFill>
                  <a:srgbClr val="006699"/>
                </a:solidFill>
                <a:latin typeface="Arial"/>
              </a:rPr>
              <a:t>2</a:t>
            </a:r>
            <a:endParaRPr b="0" lang="en-US" sz="11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8" name="Rectangle 3"/>
          <p:cNvSpPr/>
          <p:nvPr/>
        </p:nvSpPr>
        <p:spPr>
          <a:xfrm>
            <a:off x="380880" y="4114800"/>
            <a:ext cx="396252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 u="sng">
                <a:solidFill>
                  <a:srgbClr val="006699"/>
                </a:solidFill>
                <a:uFillTx/>
                <a:latin typeface="Verdana"/>
              </a:rPr>
              <a:t>1.Сила тока</a:t>
            </a:r>
            <a:r>
              <a:rPr b="1" i="1" lang="ru-RU" sz="1400" spc="-1" strike="noStrike">
                <a:solidFill>
                  <a:srgbClr val="006699"/>
                </a:solidFill>
                <a:latin typeface="Verdana"/>
              </a:rPr>
              <a:t> равна сумме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6699"/>
                </a:solidFill>
                <a:latin typeface="Verdana"/>
              </a:rPr>
              <a:t>   </a:t>
            </a:r>
            <a:r>
              <a:rPr b="1" i="1" lang="ru-RU" sz="1400" spc="-1" strike="noStrike">
                <a:solidFill>
                  <a:srgbClr val="006699"/>
                </a:solidFill>
                <a:latin typeface="Verdana"/>
              </a:rPr>
              <a:t>сил токов в каждой ветви цепи: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6699"/>
                </a:solidFill>
                <a:latin typeface="Verdana"/>
              </a:rPr>
              <a:t>2.</a:t>
            </a:r>
            <a:r>
              <a:rPr b="1" i="1" lang="ru-RU" sz="1400" spc="-1" strike="noStrike" u="sng">
                <a:solidFill>
                  <a:srgbClr val="006699"/>
                </a:solidFill>
                <a:uFillTx/>
                <a:latin typeface="Verdana"/>
              </a:rPr>
              <a:t>Напряжение</a:t>
            </a:r>
            <a:r>
              <a:rPr b="1" i="1" lang="ru-RU" sz="1400" spc="-1" strike="noStrike">
                <a:solidFill>
                  <a:srgbClr val="006699"/>
                </a:solidFill>
                <a:latin typeface="Verdana"/>
              </a:rPr>
              <a:t> во всех ветвях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6699"/>
                </a:solidFill>
                <a:latin typeface="Verdana"/>
              </a:rPr>
              <a:t>   </a:t>
            </a:r>
            <a:r>
              <a:rPr b="1" i="1" lang="ru-RU" sz="1400" spc="-1" strike="noStrike">
                <a:solidFill>
                  <a:srgbClr val="006699"/>
                </a:solidFill>
                <a:latin typeface="Verdana"/>
              </a:rPr>
              <a:t>цепи одинаково: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6699"/>
                </a:solidFill>
                <a:latin typeface="Verdana"/>
              </a:rPr>
              <a:t>3.</a:t>
            </a:r>
            <a:r>
              <a:rPr b="1" i="1" lang="ru-RU" sz="1400" spc="-1" strike="noStrike" u="sng">
                <a:solidFill>
                  <a:srgbClr val="006699"/>
                </a:solidFill>
                <a:uFillTx/>
                <a:latin typeface="Verdana"/>
              </a:rPr>
              <a:t>Сопротивление</a:t>
            </a:r>
            <a:r>
              <a:rPr b="1" i="1" lang="ru-RU" sz="1400" spc="-1" strike="noStrike">
                <a:solidFill>
                  <a:srgbClr val="006699"/>
                </a:solidFill>
                <a:latin typeface="Verdana"/>
              </a:rPr>
              <a:t> определяется 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6699"/>
                </a:solidFill>
                <a:latin typeface="Verdana"/>
              </a:rPr>
              <a:t>   </a:t>
            </a:r>
            <a:r>
              <a:rPr b="1" i="1" lang="ru-RU" sz="1400" spc="-1" strike="noStrike">
                <a:solidFill>
                  <a:srgbClr val="006699"/>
                </a:solidFill>
                <a:latin typeface="Verdana"/>
              </a:rPr>
              <a:t>по формуле: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9" name="TextBox 9"/>
          <p:cNvSpPr/>
          <p:nvPr/>
        </p:nvSpPr>
        <p:spPr>
          <a:xfrm>
            <a:off x="1837440" y="3429000"/>
            <a:ext cx="50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279d3b"/>
                </a:solidFill>
                <a:latin typeface="Verdana"/>
              </a:rPr>
              <a:t>При параллельном соединении проводников: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0" name="TextBox 10"/>
          <p:cNvSpPr/>
          <p:nvPr/>
        </p:nvSpPr>
        <p:spPr>
          <a:xfrm>
            <a:off x="6487560" y="4114800"/>
            <a:ext cx="75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I=I</a:t>
            </a:r>
            <a:r>
              <a:rPr b="0" lang="en-US" sz="800" spc="-1" strike="noStrike">
                <a:solidFill>
                  <a:srgbClr val="006699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+I</a:t>
            </a:r>
            <a:r>
              <a:rPr b="0" lang="en-US" sz="800" spc="-1" strike="noStrike">
                <a:solidFill>
                  <a:srgbClr val="006699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1" name="TextBox 11"/>
          <p:cNvSpPr/>
          <p:nvPr/>
        </p:nvSpPr>
        <p:spPr>
          <a:xfrm>
            <a:off x="6337800" y="4419720"/>
            <a:ext cx="1055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U=U</a:t>
            </a:r>
            <a:r>
              <a:rPr b="0" lang="en-US" sz="800" spc="-1" strike="noStrike">
                <a:solidFill>
                  <a:srgbClr val="006699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+U</a:t>
            </a:r>
            <a:r>
              <a:rPr b="0" lang="en-US" sz="800" spc="-1" strike="noStrike">
                <a:solidFill>
                  <a:srgbClr val="006699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2" name="TextBox 12"/>
          <p:cNvSpPr/>
          <p:nvPr/>
        </p:nvSpPr>
        <p:spPr>
          <a:xfrm>
            <a:off x="6095880" y="4800600"/>
            <a:ext cx="1658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1/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R=1/R</a:t>
            </a:r>
            <a:r>
              <a:rPr b="0" lang="en-US" sz="800" spc="-1" strike="noStrike">
                <a:solidFill>
                  <a:srgbClr val="006699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+1/R</a:t>
            </a:r>
            <a:r>
              <a:rPr b="0" lang="en-US" sz="800" spc="-1" strike="noStrike">
                <a:solidFill>
                  <a:srgbClr val="006699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3" name="TextBox 13"/>
          <p:cNvSpPr/>
          <p:nvPr/>
        </p:nvSpPr>
        <p:spPr>
          <a:xfrm>
            <a:off x="5943600" y="5181480"/>
            <a:ext cx="2057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или                            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     R=R</a:t>
            </a:r>
            <a:r>
              <a:rPr b="0" lang="en-US" sz="800" spc="-1" strike="noStrike">
                <a:solidFill>
                  <a:srgbClr val="006699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*R</a:t>
            </a:r>
            <a:r>
              <a:rPr b="0" lang="en-US" sz="800" spc="-1" strike="noStrike">
                <a:solidFill>
                  <a:srgbClr val="006699"/>
                </a:solidFill>
                <a:latin typeface="Arial"/>
              </a:rPr>
              <a:t>2</a:t>
            </a:r>
            <a:r>
              <a:rPr b="0" lang="ru-RU" sz="8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/(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 R</a:t>
            </a: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+R</a:t>
            </a: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fade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0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8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6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2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8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40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46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52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5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5800"/>
                            </p:stCondLst>
                            <p:childTnLst>
                              <p:par>
                                <p:cTn id="16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6600"/>
                            </p:stCondLst>
                            <p:childTnLst>
                              <p:par>
                                <p:cTn id="17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7400"/>
                            </p:stCondLst>
                            <p:childTnLst>
                              <p:par>
                                <p:cTn id="182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8400"/>
                            </p:stCondLst>
                            <p:childTnLst>
                              <p:par>
                                <p:cTn id="188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9400"/>
                            </p:stCondLst>
                            <p:childTnLst>
                              <p:par>
                                <p:cTn id="194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10400"/>
                            </p:stCondLst>
                            <p:childTnLst>
                              <p:par>
                                <p:cTn id="200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11400"/>
                            </p:stCondLst>
                            <p:childTnLst>
                              <p:par>
                                <p:cTn id="206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12400"/>
                            </p:stCondLst>
                            <p:childTnLst>
                              <p:par>
                                <p:cTn id="212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130400" y="102960"/>
            <a:ext cx="5952960" cy="1089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b8c515"/>
                </a:solidFill>
                <a:latin typeface="Verdana"/>
              </a:rPr>
              <a:t>Пример решения задачи:</a:t>
            </a: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        </a:t>
            </a: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Два последовательно соединённых проводника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    </a:t>
            </a: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сопротивлением 6 и 4 Ом включены в сеть с напряжением 20 В.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    </a:t>
            </a: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Определите общую силу тока в цепи, силу тока в каждом проводнике, а также напряжение на каждом из них.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7" name="Text Box 5"/>
          <p:cNvSpPr/>
          <p:nvPr/>
        </p:nvSpPr>
        <p:spPr>
          <a:xfrm>
            <a:off x="821520" y="2398680"/>
            <a:ext cx="1668240" cy="25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Дано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R</a:t>
            </a: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1</a:t>
            </a:r>
            <a:r>
              <a:rPr b="0" lang="ru-RU" sz="2000" spc="-1" strike="noStrike">
                <a:solidFill>
                  <a:srgbClr val="006699"/>
                </a:solidFill>
                <a:latin typeface="Arial"/>
              </a:rPr>
              <a:t>=6 Ом    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R</a:t>
            </a: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=4 </a:t>
            </a:r>
            <a:r>
              <a:rPr b="0" lang="ru-RU" sz="2000" spc="-1" strike="noStrike">
                <a:solidFill>
                  <a:srgbClr val="006699"/>
                </a:solidFill>
                <a:latin typeface="Arial"/>
              </a:rPr>
              <a:t>Ом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U</a:t>
            </a:r>
            <a:r>
              <a:rPr b="0" lang="ru-RU" sz="2000" spc="-1" strike="noStrike">
                <a:solidFill>
                  <a:srgbClr val="006699"/>
                </a:solidFill>
                <a:latin typeface="Arial"/>
              </a:rPr>
              <a:t>=20 В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        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Arial"/>
              </a:rPr>
              <a:t>----------------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I=</a:t>
            </a:r>
            <a:r>
              <a:rPr b="0" lang="ru-RU" sz="2000" spc="-1" strike="noStrike">
                <a:solidFill>
                  <a:srgbClr val="006699"/>
                </a:solidFill>
                <a:latin typeface="Arial"/>
              </a:rPr>
              <a:t>? 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I</a:t>
            </a: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=</a:t>
            </a:r>
            <a:r>
              <a:rPr b="0" lang="ru-RU" sz="2000" spc="-1" strike="noStrike">
                <a:solidFill>
                  <a:srgbClr val="006699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I</a:t>
            </a: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=</a:t>
            </a:r>
            <a:r>
              <a:rPr b="0" lang="ru-RU" sz="2000" spc="-1" strike="noStrike">
                <a:solidFill>
                  <a:srgbClr val="006699"/>
                </a:solidFill>
                <a:latin typeface="Arial"/>
              </a:rPr>
              <a:t>?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   U</a:t>
            </a: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=</a:t>
            </a:r>
            <a:r>
              <a:rPr b="0" lang="ru-RU" sz="2000" spc="-1" strike="noStrike">
                <a:solidFill>
                  <a:srgbClr val="006699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U</a:t>
            </a: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006699"/>
                </a:solidFill>
                <a:latin typeface="Arial"/>
              </a:rPr>
              <a:t>=?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8" name="Text Box 9"/>
          <p:cNvSpPr/>
          <p:nvPr/>
        </p:nvSpPr>
        <p:spPr>
          <a:xfrm>
            <a:off x="2666880" y="2438280"/>
            <a:ext cx="4800600" cy="35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Решение: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Arial"/>
              </a:rPr>
              <a:t>Из закона Ома определим силу тока в цепи: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Arial"/>
              </a:rPr>
              <a:t>               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I=U/R=20</a:t>
            </a: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В/10 Ом=2А,</a:t>
            </a:r>
            <a:r>
              <a:rPr b="0" lang="ru-RU" sz="1600" spc="-1" strike="noStrike">
                <a:solidFill>
                  <a:srgbClr val="006699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Arial"/>
              </a:rPr>
              <a:t>где сопротивление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R=R</a:t>
            </a: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+R</a:t>
            </a: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 =</a:t>
            </a: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6 Ом + 4 Ом = 10 Ом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Arial"/>
              </a:rPr>
              <a:t>Сила тока в последовательно соединённых проводниках одинакова, поэтому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Arial"/>
              </a:rPr>
              <a:t>                      </a:t>
            </a:r>
            <a:r>
              <a:rPr b="0" lang="en-US" sz="16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=I</a:t>
            </a: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=I=2A </a:t>
            </a: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6699"/>
                </a:solidFill>
                <a:latin typeface="Arial"/>
              </a:rPr>
              <a:t>Напряжение найдём из закона Ома: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U</a:t>
            </a: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=I</a:t>
            </a: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*R</a:t>
            </a: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=</a:t>
            </a: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2 А*6 Ом = 12 В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U</a:t>
            </a: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=I</a:t>
            </a: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*R</a:t>
            </a: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=2 </a:t>
            </a: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А*4 Ом = 8 В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Arial"/>
              </a:rPr>
              <a:t>Ответ</a:t>
            </a: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I=I</a:t>
            </a: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=I</a:t>
            </a: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=2 </a:t>
            </a:r>
            <a:r>
              <a:rPr b="0" lang="ru-RU" sz="2000" spc="-1" strike="noStrike">
                <a:solidFill>
                  <a:srgbClr val="006699"/>
                </a:solidFill>
                <a:latin typeface="Arial"/>
              </a:rPr>
              <a:t>А , 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R=10 </a:t>
            </a:r>
            <a:r>
              <a:rPr b="0" lang="ru-RU" sz="2000" spc="-1" strike="noStrike">
                <a:solidFill>
                  <a:srgbClr val="006699"/>
                </a:solidFill>
                <a:latin typeface="Arial"/>
              </a:rPr>
              <a:t>Ом,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Arial"/>
              </a:rPr>
              <a:t>           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U</a:t>
            </a: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=12 </a:t>
            </a:r>
            <a:r>
              <a:rPr b="0" lang="ru-RU" sz="2000" spc="-1" strike="noStrike">
                <a:solidFill>
                  <a:srgbClr val="006699"/>
                </a:solidFill>
                <a:latin typeface="Arial"/>
              </a:rPr>
              <a:t>В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       ,  U</a:t>
            </a: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=8</a:t>
            </a:r>
            <a:r>
              <a:rPr b="0" lang="ru-RU" sz="2000" spc="-1" strike="noStrike">
                <a:solidFill>
                  <a:srgbClr val="006699"/>
                </a:solidFill>
                <a:latin typeface="Arial"/>
              </a:rPr>
              <a:t>В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09" name="Picture 10" descr=""/>
          <p:cNvPicPr/>
          <p:nvPr/>
        </p:nvPicPr>
        <p:blipFill>
          <a:blip r:embed="rId1"/>
          <a:stretch/>
        </p:blipFill>
        <p:spPr>
          <a:xfrm>
            <a:off x="2362320" y="2286000"/>
            <a:ext cx="180720" cy="2533680"/>
          </a:xfrm>
          <a:prstGeom prst="rect">
            <a:avLst/>
          </a:prstGeom>
          <a:ln w="0">
            <a:noFill/>
          </a:ln>
        </p:spPr>
      </p:pic>
      <p:sp>
        <p:nvSpPr>
          <p:cNvPr id="2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0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8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3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3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3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3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4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4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5200"/>
                            </p:stCondLst>
                            <p:childTnLst>
                              <p:par>
                                <p:cTn id="24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2000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2000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7" dur="500"/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0" dur="500"/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2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2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2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2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500"/>
                                        <p:tgtEl>
                                          <p:spTgt spid="2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2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2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2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2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500"/>
                                        <p:tgtEl>
                                          <p:spTgt spid="2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2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2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2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2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500"/>
                                        <p:tgtEl>
                                          <p:spTgt spid="2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8" dur="80"/>
                                        <p:tgtEl>
                                          <p:spTgt spid="2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9" dur="80"/>
                                        <p:tgtEl>
                                          <p:spTgt spid="2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0" dur="80"/>
                                        <p:tgtEl>
                                          <p:spTgt spid="2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3" dur="80"/>
                                        <p:tgtEl>
                                          <p:spTgt spid="2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4" dur="80"/>
                                        <p:tgtEl>
                                          <p:spTgt spid="2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5" dur="80"/>
                                        <p:tgtEl>
                                          <p:spTgt spid="2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734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b8c515"/>
                </a:solidFill>
                <a:latin typeface="Verdana"/>
              </a:rPr>
              <a:t>Задача для самостоятельного решения</a:t>
            </a: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228240" y="1750680"/>
            <a:ext cx="2133720" cy="430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Дано: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R</a:t>
            </a: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1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=10 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Ом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R</a:t>
            </a: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=15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 Ом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U=12 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В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----------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R=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?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I=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?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I</a:t>
            </a: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1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=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?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I</a:t>
            </a: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=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?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2133720" y="838080"/>
            <a:ext cx="183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4" name="Text Box 5"/>
          <p:cNvSpPr/>
          <p:nvPr/>
        </p:nvSpPr>
        <p:spPr>
          <a:xfrm>
            <a:off x="304920" y="8380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Два проводника сопротивлением 10 и 15 Ом соединены параллельно и подключены к сети напряжением 12 В. Определите общее сопротивление проводников, общую силу тока. А также силу тока в каждом проводнике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5" name="Text Box 9"/>
          <p:cNvSpPr/>
          <p:nvPr/>
        </p:nvSpPr>
        <p:spPr>
          <a:xfrm>
            <a:off x="3126600" y="1828800"/>
            <a:ext cx="121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Решение: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6" name="Text Box 10"/>
          <p:cNvSpPr/>
          <p:nvPr/>
        </p:nvSpPr>
        <p:spPr>
          <a:xfrm>
            <a:off x="2590920" y="2209680"/>
            <a:ext cx="529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1. Найдём общее сопротивление проводников: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7" name="Rectangle 11"/>
          <p:cNvSpPr/>
          <p:nvPr/>
        </p:nvSpPr>
        <p:spPr>
          <a:xfrm>
            <a:off x="2742840" y="2895480"/>
            <a:ext cx="589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R=R</a:t>
            </a: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*R</a:t>
            </a: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 /(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 R</a:t>
            </a: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+R</a:t>
            </a: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)</a:t>
            </a: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=10 Ом*15 Ом/(10 Ом+15 Ом)=6 Ом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8" name="Text Box 12"/>
          <p:cNvSpPr/>
          <p:nvPr/>
        </p:nvSpPr>
        <p:spPr>
          <a:xfrm>
            <a:off x="2666880" y="3276720"/>
            <a:ext cx="6324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2. Определим общую силу тока в цепи, используя закон Ома: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I=U/R=12 </a:t>
            </a: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В/6 Ом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=2 А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9" name="Text Box 13"/>
          <p:cNvSpPr/>
          <p:nvPr/>
        </p:nvSpPr>
        <p:spPr>
          <a:xfrm>
            <a:off x="2743200" y="4114800"/>
            <a:ext cx="6172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3. Определим силу тока в каждом проводнике по  закону Ома, учитывая, что 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U</a:t>
            </a: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=U</a:t>
            </a: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=U</a:t>
            </a: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I</a:t>
            </a: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=U/R</a:t>
            </a: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=</a:t>
            </a: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12 В/ 10 Ом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=1,2 А ;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I</a:t>
            </a: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=U/R</a:t>
            </a: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=</a:t>
            </a: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12 В/ 15 Ом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=0,8 А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0" name="Text Box 14"/>
          <p:cNvSpPr/>
          <p:nvPr/>
        </p:nvSpPr>
        <p:spPr>
          <a:xfrm>
            <a:off x="3195000" y="5638680"/>
            <a:ext cx="466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Arial"/>
              </a:rPr>
              <a:t>Ответ: 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R=6 </a:t>
            </a: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Ом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, I </a:t>
            </a: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=2 А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, I</a:t>
            </a: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=1,2 А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, I</a:t>
            </a: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2 </a:t>
            </a: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=0,8 А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21" name="Picture 16" descr=""/>
          <p:cNvPicPr/>
          <p:nvPr/>
        </p:nvPicPr>
        <p:blipFill>
          <a:blip r:embed="rId1"/>
          <a:stretch/>
        </p:blipFill>
        <p:spPr>
          <a:xfrm>
            <a:off x="2590920" y="2209680"/>
            <a:ext cx="161640" cy="2248200"/>
          </a:xfrm>
          <a:prstGeom prst="rect">
            <a:avLst/>
          </a:prstGeom>
          <a:ln w="0">
            <a:noFill/>
          </a:ln>
        </p:spPr>
      </p:pic>
      <p:sp>
        <p:nvSpPr>
          <p:cNvPr id="2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nodeType="clickEffect" fill="hold">
                      <p:stCondLst>
                        <p:cond delay="0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4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0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5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500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500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500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2000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500"/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3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500"/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500"/>
                                        <p:tgtEl>
                                          <p:spTgt spid="2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3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500"/>
                                        <p:tgtEl>
                                          <p:spTgt spid="2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8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8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2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96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5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4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5-03-30T08:23:09Z</dcterms:modified>
  <cp:revision>2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