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7356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7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900000" y="739440"/>
            <a:ext cx="4935600" cy="370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8"/>
          </p:nvPr>
        </p:nvSpPr>
        <p:spPr>
          <a:xfrm>
            <a:off x="-36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9"/>
          </p:nvPr>
        </p:nvSpPr>
        <p:spPr>
          <a:xfrm>
            <a:off x="381456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22EB3-0F98-40AA-A38C-62FA34723B52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c2cf4"/>
                </a:solidFill>
                <a:latin typeface="Calibri"/>
              </a:rPr>
              <a:t>Соединения проводников в электрической цеп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a0aba"/>
                </a:solidFill>
                <a:latin typeface="Calibri"/>
              </a:rPr>
              <a:t>Презентация учителя физики МОУ «СОШ №6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C1B28-1557-43F1-8122-1FF3932042CE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279d3b"/>
                </a:solidFill>
                <a:latin typeface="Calibri"/>
              </a:rPr>
              <a:t>Проводники в цепи можно соединять последовательно</a:t>
            </a:r>
            <a:r>
              <a:rPr b="0" i="1" lang="ru-RU" sz="1400" spc="-1" strike="noStrike">
                <a:solidFill>
                  <a:srgbClr val="279d3b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Элементы цепи соединяются один за другим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6FF9B-F0E5-45AE-937E-DD2338C1DBA7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2c2cf4"/>
                </a:solidFill>
                <a:latin typeface="Calibri"/>
              </a:rPr>
              <a:t>При последовательном соединении проводников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1.Сила тока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в любой точк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цепи неизменн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пряжение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равн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умме напряжений 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участках цеп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противление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равн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умме сопротивлени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лементов цеп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5B1FF-3940-4DEF-9194-C9AAAFF15DE4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b8c515"/>
                </a:solidFill>
                <a:latin typeface="Calibri"/>
              </a:rPr>
              <a:t>Пример решения задач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а последовательно соединённых провод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противлением 6 и 4 Ом включены в сеть с напряжением 20 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те общую силу тока в цепи, силу тока в каждом проводнике, а также напряжение на каждом из н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1FC75-F84D-43C7-BE43-3D432BFDA1BF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b8c515"/>
                </a:solidFill>
                <a:latin typeface="Calibri"/>
              </a:rPr>
              <a:t>Задача для самостоятельного ре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10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15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=12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--------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=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=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A04F6-D1AF-465B-9179-8A9FFEE6E591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7A5B-9133-4533-B6A3-9EFE39D6D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F614-9CC0-461D-99DF-70F9F1178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454C-8A05-4A52-9283-2C996D512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A6A2-3421-4C0A-8E04-E3FC232A7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9BEB1-C139-41D0-A6E5-8D9CC4BEA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3B8DF-6AB5-44EE-AA72-A6667A58A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D53A0-2849-40E9-A900-1225D8892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6C82B-3287-4D82-90B7-4298EB033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EFCD3-62E5-499D-A823-7A4F49B57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4BEE9-960E-46D9-9B75-1BBB60807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05403-1871-4A0E-B39D-BF2493F0C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2DF2-8892-4AD6-A99A-4A53C6E55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C0F9C-6F1C-49C3-BDD1-0188118F6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71BDD-0A5A-4F2D-813B-49F1CBF87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B68CF-A1BE-464D-92E4-DFE781BAE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D8BF4-56D5-49EE-B414-3C2EEF4CC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48D38-6274-4451-9333-169863DB9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1C5A-2B86-412E-9B20-4DB25355F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02AB-DBF5-40DD-AD29-CE76C0373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3111-62A6-4973-BC2D-AFA1173D9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1C4E-E2CF-4245-A1AF-2F32F39A9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7C9D-002E-4394-B6B6-E19AAE68F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400E-4A61-4CD1-871A-29626DE3B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904A-7B1A-4ED5-B776-0D3080CCA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8680"/>
              <a:chOff x="-1080" y="2601000"/>
              <a:chExt cx="2687040" cy="311868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840" y="4051080"/>
                <a:ext cx="1833120" cy="1668600"/>
                <a:chOff x="852840" y="4051080"/>
                <a:chExt cx="1833120" cy="166860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74400" y="3934800"/>
                  <a:ext cx="477360" cy="12438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64480" y="4978800"/>
                  <a:ext cx="110520" cy="51048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498760" y="5565600"/>
                  <a:ext cx="200880" cy="889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45EDD-4D88-419E-A2C1-4CF9F91C6C01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040" cy="6858000"/>
            <a:chOff x="-20160" y="0"/>
            <a:chExt cx="905004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398920" y="63000"/>
              <a:ext cx="3630960" cy="6141960"/>
              <a:chOff x="5398920" y="63000"/>
              <a:chExt cx="3630960" cy="614196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1880" y="348120"/>
                <a:ext cx="2115000" cy="235692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040" y="1968120"/>
                <a:ext cx="905760" cy="84276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3800" y="2591640"/>
                <a:ext cx="439200" cy="39492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0040" y="673920"/>
                <a:ext cx="38880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43120" y="2657520"/>
                <a:ext cx="163080" cy="33156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29080" y="1246680"/>
                <a:ext cx="190080" cy="1425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29200" y="2943360"/>
                <a:ext cx="523800" cy="326772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908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64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51520" y="1033200"/>
              <a:ext cx="1015560" cy="1262520"/>
              <a:chOff x="4151520" y="1033200"/>
              <a:chExt cx="1015560" cy="126252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5880" y="1071000"/>
                <a:ext cx="285840" cy="378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50840" y="1604160"/>
                <a:ext cx="488880" cy="314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11560" y="1962000"/>
                <a:ext cx="511200" cy="160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3360" y="276120"/>
              <a:ext cx="893160" cy="825840"/>
              <a:chOff x="5643360" y="276120"/>
              <a:chExt cx="893160" cy="8258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4960" y="770760"/>
                <a:ext cx="179280" cy="362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4200" y="451080"/>
                <a:ext cx="306360" cy="300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7080" y="375840"/>
                <a:ext cx="319320" cy="153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760" y="5250240"/>
              <a:ext cx="1059480" cy="831240"/>
              <a:chOff x="968760" y="5250240"/>
              <a:chExt cx="1059480" cy="83124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1440" y="5514840"/>
                <a:ext cx="250920" cy="2998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3400" y="5726160"/>
                <a:ext cx="429840" cy="2491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74800"/>
                <a:ext cx="449280" cy="1267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25880"/>
              <a:ext cx="1690560" cy="1146600"/>
              <a:chOff x="375840" y="425880"/>
              <a:chExt cx="169056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440" y="104436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3120" y="569520"/>
                <a:ext cx="60840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083600"/>
                <a:ext cx="636120" cy="223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405920" y="3712320"/>
              <a:ext cx="1156320" cy="1607760"/>
              <a:chOff x="7405920" y="3712320"/>
              <a:chExt cx="115632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60640" y="475596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11360" y="4455360"/>
                <a:ext cx="60840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604280" y="3781440"/>
                <a:ext cx="636120" cy="223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48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76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80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88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520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916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5C16A-1D9D-466A-BE2C-41DC53E5DAE6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05120" y="1447920"/>
            <a:ext cx="67053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f4"/>
                </a:solidFill>
                <a:latin typeface="Verdana"/>
              </a:rPr>
              <a:t>Соединения проводников в электрической цепи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600200" y="2971800"/>
            <a:ext cx="41911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a0aba"/>
                </a:solidFill>
                <a:latin typeface="Verdana"/>
              </a:rPr>
              <a:t>Презентация учителя физики МОУ «СОШ №6»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267080" y="457200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c2cf4"/>
                </a:solidFill>
                <a:latin typeface="Arial"/>
              </a:rPr>
              <a:t>Симонова Артура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c2cf4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2c2cf4"/>
                </a:solidFill>
                <a:latin typeface="Arial"/>
              </a:rPr>
              <a:t>Михайловича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79d3b"/>
                </a:solidFill>
                <a:latin typeface="Verdana"/>
              </a:rPr>
              <a:t>Проводники в цепи можно соединять последовательно</a:t>
            </a:r>
            <a:r>
              <a:rPr b="0" i="1" lang="ru-RU" sz="3200" spc="-1" strike="noStrike">
                <a:solidFill>
                  <a:srgbClr val="279d3b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6699"/>
                </a:solidFill>
                <a:latin typeface="Verdana"/>
              </a:rPr>
              <a:t>Элементы цепи соединяются один за другим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0" name="Picture 5" descr=""/>
          <p:cNvPicPr/>
          <p:nvPr/>
        </p:nvPicPr>
        <p:blipFill>
          <a:blip r:embed="rId1"/>
          <a:stretch/>
        </p:blipFill>
        <p:spPr>
          <a:xfrm>
            <a:off x="5867280" y="2057400"/>
            <a:ext cx="3276720" cy="131436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6"/>
          <p:cNvSpPr/>
          <p:nvPr/>
        </p:nvSpPr>
        <p:spPr>
          <a:xfrm>
            <a:off x="624996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R</a:t>
            </a:r>
            <a:r>
              <a:rPr b="0" lang="en-US" sz="900" spc="-1" strike="noStrike">
                <a:solidFill>
                  <a:srgbClr val="006699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731700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R</a:t>
            </a:r>
            <a:r>
              <a:rPr b="0" lang="en-US" sz="900" spc="-1" strike="noStrike">
                <a:solidFill>
                  <a:srgbClr val="006699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8307720" y="1676520"/>
            <a:ext cx="41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R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234000" y="3505320"/>
            <a:ext cx="756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c2cf4"/>
                </a:solidFill>
                <a:latin typeface="Arial"/>
              </a:rPr>
              <a:t>Проводники можно соединить параллельно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1676520" y="4114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6" name="Rectangle 12"/>
          <p:cNvSpPr/>
          <p:nvPr/>
        </p:nvSpPr>
        <p:spPr>
          <a:xfrm>
            <a:off x="762480" y="4267080"/>
            <a:ext cx="50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59e13"/>
                </a:solidFill>
                <a:latin typeface="Arial"/>
              </a:rPr>
              <a:t>Электрическая цепь при этом разветвляется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7" name="Picture 13" descr=""/>
          <p:cNvPicPr/>
          <p:nvPr/>
        </p:nvPicPr>
        <p:blipFill>
          <a:blip r:embed="rId2"/>
          <a:stretch/>
        </p:blipFill>
        <p:spPr>
          <a:xfrm>
            <a:off x="7130880" y="4267080"/>
            <a:ext cx="1708200" cy="21718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14"/>
          <p:cNvSpPr/>
          <p:nvPr/>
        </p:nvSpPr>
        <p:spPr>
          <a:xfrm>
            <a:off x="6631200" y="4419720"/>
            <a:ext cx="41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R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9" name="Rectangle 15"/>
          <p:cNvSpPr/>
          <p:nvPr/>
        </p:nvSpPr>
        <p:spPr>
          <a:xfrm>
            <a:off x="6631200" y="5029200"/>
            <a:ext cx="41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R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" name="Rectangle 16"/>
          <p:cNvSpPr/>
          <p:nvPr/>
        </p:nvSpPr>
        <p:spPr>
          <a:xfrm>
            <a:off x="6631200" y="5791320"/>
            <a:ext cx="41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R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4850"/>
                            </p:stCondLst>
                            <p:childTnLst>
                              <p:par>
                                <p:cTn id="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350"/>
                            </p:stCondLst>
                            <p:childTnLst>
                              <p:par>
                                <p:cTn id="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850"/>
                            </p:stCondLst>
                            <p:childTnLst>
                              <p:par>
                                <p:cTn id="6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43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c2cf4"/>
                </a:solidFill>
                <a:latin typeface="Verdana"/>
              </a:rPr>
              <a:t>При последовательном соединении проводников:</a:t>
            </a:r>
            <a:endParaRPr b="0" lang="en-US" sz="1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6699"/>
                </a:solidFill>
                <a:uFillTx/>
                <a:latin typeface="Verdana"/>
              </a:rPr>
              <a:t>1.Сила тока</a:t>
            </a: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 в любой точке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цепи неизменна: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2.</a:t>
            </a:r>
            <a:r>
              <a:rPr b="1" i="1" lang="ru-RU" sz="1400" spc="-1" strike="noStrike" u="sng">
                <a:solidFill>
                  <a:srgbClr val="006699"/>
                </a:solidFill>
                <a:uFillTx/>
                <a:latin typeface="Verdana"/>
              </a:rPr>
              <a:t>Напряжение</a:t>
            </a: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 равно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сумме напряжений на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участках цепи: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6699"/>
                </a:solidFill>
                <a:latin typeface="Verdana"/>
              </a:rPr>
              <a:t>3.</a:t>
            </a:r>
            <a:r>
              <a:rPr b="1" i="1" lang="ru-RU" sz="1400" spc="-1" strike="noStrike" u="sng">
                <a:solidFill>
                  <a:srgbClr val="006699"/>
                </a:solidFill>
                <a:uFillTx/>
                <a:latin typeface="Verdana"/>
              </a:rPr>
              <a:t>Сопротивление</a:t>
            </a: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 равно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сумме сопротивлений</a:t>
            </a:r>
            <a:r>
              <a:rPr b="1" lang="ru-RU" sz="1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элементов цепи: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6793920" y="1066680"/>
            <a:ext cx="10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=I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=I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6567480" y="1752480"/>
            <a:ext cx="151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=U</a:t>
            </a:r>
            <a:r>
              <a:rPr b="0" lang="en-US" sz="11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+U</a:t>
            </a:r>
            <a:r>
              <a:rPr b="0" lang="en-US" sz="1100" spc="-1" strike="noStrike">
                <a:solidFill>
                  <a:srgbClr val="006699"/>
                </a:solidFill>
                <a:latin typeface="Arial"/>
              </a:rPr>
              <a:t>2</a:t>
            </a:r>
            <a:endParaRPr b="0" lang="en-US" sz="11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6248520" y="4952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6567480" y="2362320"/>
            <a:ext cx="151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=R</a:t>
            </a:r>
            <a:r>
              <a:rPr b="0" lang="en-US" sz="11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+R</a:t>
            </a:r>
            <a:r>
              <a:rPr b="0" lang="en-US" sz="1100" spc="-1" strike="noStrike">
                <a:solidFill>
                  <a:srgbClr val="006699"/>
                </a:solidFill>
                <a:latin typeface="Arial"/>
              </a:rPr>
              <a:t>2</a:t>
            </a:r>
            <a:endParaRPr b="0" lang="en-US" sz="11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380880" y="4114800"/>
            <a:ext cx="39625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6699"/>
                </a:solidFill>
                <a:uFillTx/>
                <a:latin typeface="Verdana"/>
              </a:rPr>
              <a:t>1.Сила тока</a:t>
            </a: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 равна сумме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сил токов в каждой ветви цепи: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2.</a:t>
            </a:r>
            <a:r>
              <a:rPr b="1" i="1" lang="ru-RU" sz="1400" spc="-1" strike="noStrike" u="sng">
                <a:solidFill>
                  <a:srgbClr val="006699"/>
                </a:solidFill>
                <a:uFillTx/>
                <a:latin typeface="Verdana"/>
              </a:rPr>
              <a:t>Напряжение</a:t>
            </a: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 во всех ветвях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цепи одинаково: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3.</a:t>
            </a:r>
            <a:r>
              <a:rPr b="1" i="1" lang="ru-RU" sz="1400" spc="-1" strike="noStrike" u="sng">
                <a:solidFill>
                  <a:srgbClr val="006699"/>
                </a:solidFill>
                <a:uFillTx/>
                <a:latin typeface="Verdana"/>
              </a:rPr>
              <a:t>Сопротивление</a:t>
            </a: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 определяется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по формуле: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" name="TextBox 9"/>
          <p:cNvSpPr/>
          <p:nvPr/>
        </p:nvSpPr>
        <p:spPr>
          <a:xfrm>
            <a:off x="1837440" y="3429000"/>
            <a:ext cx="50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79d3b"/>
                </a:solidFill>
                <a:latin typeface="Verdana"/>
              </a:rPr>
              <a:t>При параллельном соединении проводников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TextBox 10"/>
          <p:cNvSpPr/>
          <p:nvPr/>
        </p:nvSpPr>
        <p:spPr>
          <a:xfrm>
            <a:off x="6487560" y="4114800"/>
            <a:ext cx="7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I=I</a:t>
            </a:r>
            <a:r>
              <a:rPr b="0" lang="en-US" sz="8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+I</a:t>
            </a:r>
            <a:r>
              <a:rPr b="0" lang="en-US" sz="800" spc="-1" strike="noStrike">
                <a:solidFill>
                  <a:srgbClr val="006699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1" name="TextBox 11"/>
          <p:cNvSpPr/>
          <p:nvPr/>
        </p:nvSpPr>
        <p:spPr>
          <a:xfrm>
            <a:off x="6337800" y="4419720"/>
            <a:ext cx="1055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U=U</a:t>
            </a:r>
            <a:r>
              <a:rPr b="0" lang="en-US" sz="8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+U</a:t>
            </a:r>
            <a:r>
              <a:rPr b="0" lang="en-US" sz="800" spc="-1" strike="noStrike">
                <a:solidFill>
                  <a:srgbClr val="006699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" name="TextBox 12"/>
          <p:cNvSpPr/>
          <p:nvPr/>
        </p:nvSpPr>
        <p:spPr>
          <a:xfrm>
            <a:off x="6095880" y="4800600"/>
            <a:ext cx="1658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1/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R=1/R</a:t>
            </a:r>
            <a:r>
              <a:rPr b="0" lang="en-US" sz="8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+1/R</a:t>
            </a:r>
            <a:r>
              <a:rPr b="0" lang="en-US" sz="800" spc="-1" strike="noStrike">
                <a:solidFill>
                  <a:srgbClr val="006699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TextBox 13"/>
          <p:cNvSpPr/>
          <p:nvPr/>
        </p:nvSpPr>
        <p:spPr>
          <a:xfrm>
            <a:off x="5943600" y="518148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или                           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    R=R</a:t>
            </a:r>
            <a:r>
              <a:rPr b="0" lang="en-US" sz="8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*R</a:t>
            </a:r>
            <a:r>
              <a:rPr b="0" lang="en-US" sz="800" spc="-1" strike="noStrike">
                <a:solidFill>
                  <a:srgbClr val="006699"/>
                </a:solidFill>
                <a:latin typeface="Arial"/>
              </a:rPr>
              <a:t>2</a:t>
            </a:r>
            <a:r>
              <a:rPr b="0" lang="ru-RU" sz="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/(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R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+R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4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5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16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6600"/>
                            </p:stCondLst>
                            <p:childTnLst>
                              <p:par>
                                <p:cTn id="17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7400"/>
                            </p:stCondLst>
                            <p:childTnLst>
                              <p:par>
                                <p:cTn id="18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8400"/>
                            </p:stCondLst>
                            <p:childTnLst>
                              <p:par>
                                <p:cTn id="18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9400"/>
                            </p:stCondLst>
                            <p:childTnLst>
                              <p:par>
                                <p:cTn id="19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0400"/>
                            </p:stCondLst>
                            <p:childTnLst>
                              <p:par>
                                <p:cTn id="20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1400"/>
                            </p:stCondLst>
                            <p:childTnLst>
                              <p:par>
                                <p:cTn id="20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12400"/>
                            </p:stCondLst>
                            <p:childTnLst>
                              <p:par>
                                <p:cTn id="21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30400" y="102960"/>
            <a:ext cx="5952960" cy="108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b8c515"/>
                </a:solidFill>
                <a:latin typeface="Verdana"/>
              </a:rPr>
              <a:t>Пример решения задачи: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    </a:t>
            </a: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Два последовательно соединённых проводника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сопротивлением 6 и 4 Ом включены в сеть с напряжением 20 В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Определите общую силу тока в цепи, силу тока в каждом проводнике, а также напряжение на каждом из них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821520" y="2398680"/>
            <a:ext cx="1668240" cy="25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Дано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R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=6 Ом   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R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=4 </a:t>
            </a: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Ом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U</a:t>
            </a: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=20 В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----------------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=</a:t>
            </a: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?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=</a:t>
            </a: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=</a:t>
            </a: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?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  U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=</a:t>
            </a: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U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=?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8" name="Text Box 9"/>
          <p:cNvSpPr/>
          <p:nvPr/>
        </p:nvSpPr>
        <p:spPr>
          <a:xfrm>
            <a:off x="2666880" y="2438280"/>
            <a:ext cx="4800600" cy="35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Решение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Arial"/>
              </a:rPr>
              <a:t>Из закона Ома определим силу тока в цепи: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I=U/R=20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В/10 Ом=2А,</a:t>
            </a:r>
            <a:r>
              <a:rPr b="0" lang="ru-RU" sz="16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Arial"/>
              </a:rPr>
              <a:t>где сопротивление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R=R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+R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=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6 Ом + 4 Ом = 10 Ом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Arial"/>
              </a:rPr>
              <a:t>Сила тока в последовательно соединённых проводниках одинакова, поэтому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Arial"/>
              </a:rPr>
              <a:t>                      </a:t>
            </a: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=I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=I=2A 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6699"/>
                </a:solidFill>
                <a:latin typeface="Arial"/>
              </a:rPr>
              <a:t>Напряжение найдём из закона Ома: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U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=I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*R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=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2 А*6 Ом = 12 В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U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=I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*R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=2 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А*4 Ом = 8 В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Arial"/>
              </a:rPr>
              <a:t>Ответ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=I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=I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=2 </a:t>
            </a: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А ,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R=10 </a:t>
            </a: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Ом,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U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=12 </a:t>
            </a: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В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      ,  U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=8</a:t>
            </a: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9" name="Picture 10" descr=""/>
          <p:cNvPicPr/>
          <p:nvPr/>
        </p:nvPicPr>
        <p:blipFill>
          <a:blip r:embed="rId1"/>
          <a:stretch/>
        </p:blipFill>
        <p:spPr>
          <a:xfrm>
            <a:off x="2362320" y="2286000"/>
            <a:ext cx="180720" cy="2533680"/>
          </a:xfrm>
          <a:prstGeom prst="rect">
            <a:avLst/>
          </a:prstGeom>
          <a:ln w="0">
            <a:noFill/>
          </a:ln>
        </p:spPr>
      </p:pic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24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8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7" dur="500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0" dur="500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2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2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80"/>
                                        <p:tgtEl>
                                          <p:spTgt spid="2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2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4" dur="80"/>
                                        <p:tgtEl>
                                          <p:spTgt spid="2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80"/>
                                        <p:tgtEl>
                                          <p:spTgt spid="2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73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b8c515"/>
                </a:solidFill>
                <a:latin typeface="Verdana"/>
              </a:rPr>
              <a:t>Задача для самостоятельного решения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28240" y="1750680"/>
            <a:ext cx="2133720" cy="430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Дано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R</a:t>
            </a: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=10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Ом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R</a:t>
            </a: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=15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Ом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U=12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В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----------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R=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I=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I</a:t>
            </a: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=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I</a:t>
            </a: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=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2133720" y="83808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304920" y="8380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Два проводника сопротивлением 10 и 15 Ом соединены параллельно и подключены к сети напряжением 12 В. Определите общее сопротивление проводников, общую силу тока. А также силу тока в каждом проводнике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5" name="Text Box 9"/>
          <p:cNvSpPr/>
          <p:nvPr/>
        </p:nvSpPr>
        <p:spPr>
          <a:xfrm>
            <a:off x="3126600" y="1828800"/>
            <a:ext cx="121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Решение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6" name="Text Box 10"/>
          <p:cNvSpPr/>
          <p:nvPr/>
        </p:nvSpPr>
        <p:spPr>
          <a:xfrm>
            <a:off x="2590920" y="2209680"/>
            <a:ext cx="529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1. Найдём общее сопротивление проводников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7" name="Rectangle 11"/>
          <p:cNvSpPr/>
          <p:nvPr/>
        </p:nvSpPr>
        <p:spPr>
          <a:xfrm>
            <a:off x="2742840" y="2895480"/>
            <a:ext cx="589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R=R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*R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 /(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R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+R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=10 Ом*15 Ом/(10 Ом+15 Ом)=6 Ом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8" name="Text Box 12"/>
          <p:cNvSpPr/>
          <p:nvPr/>
        </p:nvSpPr>
        <p:spPr>
          <a:xfrm>
            <a:off x="2666880" y="3276720"/>
            <a:ext cx="632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2. Определим общую силу тока в цепи, используя закон Ома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I=U/R=12 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В/6 Ом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=2 А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" name="Text Box 13"/>
          <p:cNvSpPr/>
          <p:nvPr/>
        </p:nvSpPr>
        <p:spPr>
          <a:xfrm>
            <a:off x="2743200" y="411480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3. Определим силу тока в каждом проводнике по  закону Ома, учитывая, что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U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=U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=U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I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=U/R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=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12 В/ 10 Ом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=1,2 А ;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I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=U/R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=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12 В/ 15 Ом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=0,8 А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0" name="Text Box 14"/>
          <p:cNvSpPr/>
          <p:nvPr/>
        </p:nvSpPr>
        <p:spPr>
          <a:xfrm>
            <a:off x="3195000" y="5638680"/>
            <a:ext cx="466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Ответ: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R=6 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Ом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, I 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=2 А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, I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=1,2 А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, I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2 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=0,8 А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21" name="Picture 16" descr=""/>
          <p:cNvPicPr/>
          <p:nvPr/>
        </p:nvPicPr>
        <p:blipFill>
          <a:blip r:embed="rId1"/>
          <a:stretch/>
        </p:blipFill>
        <p:spPr>
          <a:xfrm>
            <a:off x="2590920" y="2209680"/>
            <a:ext cx="161640" cy="2248200"/>
          </a:xfrm>
          <a:prstGeom prst="rect">
            <a:avLst/>
          </a:prstGeom>
          <a:ln w="0">
            <a:noFill/>
          </a:ln>
        </p:spPr>
      </p:pic>
      <p:sp>
        <p:nvSpPr>
          <p:cNvPr id="2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0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4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0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3-30T08:23:09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