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4.gif" ContentType="image/gif"/>
  <Override PartName="/ppt/media/image1.png" ContentType="image/png"/>
  <Override PartName="/ppt/media/image9.jpeg" ContentType="image/jpeg"/>
  <Override PartName="/ppt/media/image3.png" ContentType="image/png"/>
  <Override PartName="/ppt/media/image15.wmf" ContentType="image/x-wmf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2.png" ContentType="image/png"/>
  <Override PartName="/ppt/media/image10.wmf" ContentType="image/x-wmf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237B-DFC7-45E6-BAED-B46C1A041C8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онятия и законы дина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6F78-F491-4904-A1A1-DA1EA000FB0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ерциальные системы отсчета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тсчета, в которых тело находится в покое или движется равномерно и прямолинейно, если на него не действуют друг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отсчёта, связанные с Землёй и с Солнцем можно приближенно считать инерциа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FD72-8099-4E2B-8662-CE58B7F460B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1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адник на лошади перепрыгивает барьер. В каком случае можно говорить об инерциальных системах отсчёт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9547-E6F0-431A-A72D-4754D3633F7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2. Гребцы на лодке пытаясь заставить лодку двигаться против течения, не могут с этим справиться, и лодка остаётся в покое относительно берега. Действие каких сил при этом скомпенсирован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92B5-9210-4A89-9BBA-600925BEF91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3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ли шайба, брошенная хоккеистом, двигаться равномерно по льду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9956-925B-4695-80DF-5C9CB57BD04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флекс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ового вы узн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 ли вам интересен материа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ызвало затрудн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0D28-1D03-4CCA-9D0B-99BCCE4B21F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вы сОтносительность 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е объяснить падение ябл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дание: Выяснить -  в чём основное отли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оцентрической и системы от гелиоцентрическ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317E-0206-45AF-84A3-9E01AFAB46F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в 4-4 веке до н.э. ученые пытались понять, что заставляет двигаться тела, при каких условиях тела находятся в покое. Древнегреческий ученый Аристотель утверждал : «…» Прав ли он?? Давайте посмотрим описание опыта с тел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ристотель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384 - 322 г. до н. э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в 4 веке до н.э. ученые пытались понять, что застав-ляет двигаться тела, при каких условиях тела находятся в покое. Древнегреческий ученый Аристотель утверждал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сё, что находится в движении, движется благодаря воздействию другого. Без действия нет движен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 ли он??ежкой в вашем учебнике. (обсуждаются результаты опыта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подобных опытов итальянский ученый Галилео Галилей, живший в 17 веке, предположил, что Арис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ЛИЛЕО ГАЛИЛЕ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1564-164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ь заблуждался! «…….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подобных опытов итальянский ученый Галилео Галилей, живший в 17 веке, предположил, что Аристотель заблуждалс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Если на тело не действуют другие тела, то оно либ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ходится в по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либ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вижется прямолинейно и равномерн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Аристотелю, шарик, упавший 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опыт убеждает нас, что это не так, что шарик падает у основания мачты! Галилей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ристотел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шарик, упавш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, опыт убеждает нас, что это не так, что шарик падает у основания мачты!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лил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3A64-43B6-4905-B70B-16D0E728A1E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ий английский ученый Исаак Ньютон , обобщив выводы Галилея, формулирует закон, названный законом инерции. «…….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аа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ьют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43-172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ь свою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ий английский ученый Исаак Ньютон , обобщив выводы Галилея, формулирует закон, названный законом инер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8080"/>
                </a:solidFill>
                <a:latin typeface="Calibri"/>
              </a:rPr>
              <a:t>«Тело сохраняет свою скорость, если на него не действуют другие тела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ить свою скор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 инерции (первый закон Ньютона, первый закон механики)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кое тело находится в покое или движется равномерно и прямолинейно, если на него не действуют други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134A-020D-4866-9B32-F32B5835036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EEDD-6672-4062-983C-2B5C0C60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E79C-2886-43D2-84DB-84067339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EE38-5FB9-43EB-9917-4B1B464A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D29-2767-4443-ADBB-7A8534BD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E979-BB15-4FC2-8F9F-75F5ABA9B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84F2-6BF1-439A-AC04-DF3D08F0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37B9-7C90-4295-8A12-CC224367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ADCA-07E6-483A-A22A-F7D87A8C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1D3D-8685-4999-8414-CC8060D0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85A3-4D61-4F2C-BBCC-6022BD8D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9796-5B63-4B3C-A8E4-7098C061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8F64-7B64-4086-84B7-52D9B52F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FE07-CF19-4610-A0C2-FC4483E1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4906-59ED-4132-863B-CDE5E1BE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8873-B44E-4FAE-BA33-8054B748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E04D-DD8C-4CF2-96CB-E06B110D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61DFD-ED77-476E-89F1-C8C7416BB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55681-0288-4382-9EBB-B51F18FD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B23F7-14AA-4375-AC5E-021BE731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E3812-DD9D-48FE-B4B5-A43AEBF0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E84C4-019E-45A3-BC35-A8C16A11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301AA-E3DA-4D32-B474-433476DE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A8A-22C0-4ED8-AFCE-DDA7675A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76E5D-B5E9-48F7-954C-08859AAB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F4EC1-62E0-4773-903B-7793EAA1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51DEB-AEF2-45E5-9D21-07DE6A08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3AAF3-9AD4-4FB1-83E0-ABADCDE0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93299-9681-4605-A320-8B1FD855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0E05D-6A17-4098-957A-9D68C0AF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308AC-BD0D-453D-B73F-E7C6CFBA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5D32C-E6C1-4261-B728-0AD43B20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02DF5-5E36-4A59-9B64-38306DF9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356F4-181C-4300-8F12-6D12D2A6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9A6C-2A43-4DB3-B62A-13EEAC82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8C6C7-2D47-4D46-B89C-EC450F79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0DB20-4B48-4796-8D98-FB5FE0C3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33AFF-E870-4D0C-BB77-8CEE913B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B76DD-E977-4460-8A41-7002E07B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025C3-EE6B-4CED-B501-75F2AD0E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69A47-F7EF-4B29-AB17-8B2EEB14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DEAE0-65DE-4D38-8748-B9E8A251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4E792-99EB-4209-962F-9041D0C1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A7BF7-A4BA-4A51-84C9-F6A0A802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8813E-3785-4198-81A9-E88DB73E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9E78-01AF-4B84-893F-7864B506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70419-DDD2-4BCE-A210-A4FFFF9E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46639-578E-48CA-AAD1-954E3FF9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2C1DF-CB4A-4E04-97EB-00FD0AE9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13481-9D44-40A7-9A81-F3AFA816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E9C44-7DBD-4231-A984-5012BF36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9A677-D59E-490D-B76C-C6B4A17E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949F3-FED9-473B-AFA9-713C345A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B8444-7634-4400-8DCE-7972ADA3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B2B1C-9399-4562-9988-3D3F445E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8E72D-259A-4ABB-86D6-A242F323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5E96-CDBB-4F4F-907E-C0A2A317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A365C-AFDA-4174-BF90-58ABBC74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4061-87F1-488F-8F48-EB24C337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4F4-2242-4269-8176-F3E4DF57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D888-31CC-494F-8961-D73B1B7B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472C-D8EE-499A-9E10-8F3952035D9F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8F85-E42D-4AB4-AA4B-6EEFCB9F319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1DA7-CB0D-47CC-9DC5-C88B7BA0D797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C30C-89D3-4139-AF81-AD1A19C1BE0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42C6-70BA-48A3-ADEE-FE8E9833921D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A047-862F-431C-9C69-125306AA173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C199-FA43-4894-8AC0-33D68159BA87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3E9E-B32C-46B5-94FE-F70BC2E3E0F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DD0C-64EA-455D-B61D-612AFC9B3A1F}" type="datetime">
              <a:rPr b="0" lang="ru-RU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02D3-5592-4830-81DA-D8B6C050C1A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Основные понятия и законы динамики.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929160" y="5286240"/>
            <a:ext cx="77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«Верхне – Кубинская сош» Ольчикова Людмила Михайловн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2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нерциальные системы отсчета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ы отсчета, в которых тело находится в покое или движется равномерно и прямолинейно, если на него не действуют другие те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ы отсчёта, связанные с Землёй и с Солнцем можно приближенно считать инерциальн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7" descr="j0301076"/>
          <p:cNvPicPr/>
          <p:nvPr/>
        </p:nvPicPr>
        <p:blipFill>
          <a:blip r:embed="rId1"/>
          <a:stretch/>
        </p:blipFill>
        <p:spPr>
          <a:xfrm>
            <a:off x="3276720" y="43657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993080" cy="295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Задача 1. </a:t>
            </a: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Всадник на лошади перепрыгивает барьер. В каком случае можно говорить об инерциальных системах отсчёта?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4500720" y="4149720"/>
            <a:ext cx="3300120" cy="209376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183520" cy="35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адача2. Гребцы на лодке пытаясь заставить лодку двигаться против течения, не могут с этим справиться, и лодка остаётся в покое относительно берега. Действие каких сил при этом скомпенсировано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5435640" y="4483080"/>
            <a:ext cx="2587680" cy="181944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183520" cy="275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адача 3.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ожет ли шайба, брошенная хоккеистом, двигаться равномерно по льду?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Picture 4" descr="j0285318"/>
          <p:cNvPicPr/>
          <p:nvPr/>
        </p:nvPicPr>
        <p:blipFill>
          <a:blip r:embed="rId1"/>
          <a:stretch/>
        </p:blipFill>
        <p:spPr>
          <a:xfrm>
            <a:off x="1403280" y="3860640"/>
            <a:ext cx="2160720" cy="1927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"/>
          <p:cNvPicPr/>
          <p:nvPr/>
        </p:nvPicPr>
        <p:blipFill>
          <a:blip r:embed="rId2"/>
          <a:stretch/>
        </p:blipFill>
        <p:spPr>
          <a:xfrm>
            <a:off x="5580000" y="4221000"/>
            <a:ext cx="2521080" cy="147636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0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Рефлексия 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183520" cy="201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нового вы узнали на урок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 ли вам интересен материал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то вызвало затруднения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6" descr="j0299125"/>
          <p:cNvPicPr/>
          <p:nvPr/>
        </p:nvPicPr>
        <p:blipFill>
          <a:blip r:embed="rId1"/>
          <a:stretch/>
        </p:blipFill>
        <p:spPr>
          <a:xfrm>
            <a:off x="3747960" y="3789360"/>
            <a:ext cx="1492200" cy="244800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>
            <a:off x="1763640" y="4797360"/>
            <a:ext cx="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1762200" y="4795920"/>
            <a:ext cx="201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3780000" y="4797360"/>
            <a:ext cx="0" cy="93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1763640" y="5734080"/>
            <a:ext cx="201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1763640" y="5734080"/>
            <a:ext cx="720720" cy="719280"/>
          </a:xfrm>
          <a:prstGeom prst="ellipse">
            <a:avLst/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3059280" y="5734080"/>
            <a:ext cx="720720" cy="719280"/>
          </a:xfrm>
          <a:prstGeom prst="ellipse">
            <a:avLst/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8" descr="AG00327_"/>
          <p:cNvPicPr/>
          <p:nvPr/>
        </p:nvPicPr>
        <p:blipFill>
          <a:blip r:embed="rId1"/>
          <a:stretch/>
        </p:blipFill>
        <p:spPr>
          <a:xfrm>
            <a:off x="2050920" y="3933720"/>
            <a:ext cx="1150920" cy="8636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Относительность движе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8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0111E-006 L 0.11823 4.80111E-006 E">
                                      <p:cBhvr>
                                        <p:cTn id="18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23 4.80111E-006 L 0.11823 0.2937 E">
                                      <p:cBhvr>
                                        <p:cTn id="2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-152280" y="404280"/>
            <a:ext cx="943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Задание: Выяснить -  в чём основное отличи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геоцентрической и системы от гелиоцентрической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24000" y="1700280"/>
          <a:ext cx="8351640" cy="4479840"/>
        </p:xfrm>
        <a:graphic>
          <a:graphicData uri="http://schemas.openxmlformats.org/drawingml/2006/table">
            <a:tbl>
              <a:tblPr/>
              <a:tblGrid>
                <a:gridCol w="2592360"/>
                <a:gridCol w="2735280"/>
                <a:gridCol w="3024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центрическая систем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лиоцентрическая систем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 теор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сительно чего рассматривается движение небесных тел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позволяет объяснить?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имуществ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43280" y="5300640"/>
            <a:ext cx="3972240" cy="83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ристотел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384 - 322 г. до н. э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4392720" cy="6120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Еще в 4 веке до н.э. ученые пытались понять, что застав-ляет двигаться тела, при каких условиях тела находятся в покое. Древнегреческий ученый Аристотель утверждал :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«Всё, что находится в движении, движется благодаря воздействию другого. Без действия нет движения»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в ли он?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3" descr="249518943_tonnel"/>
          <p:cNvPicPr/>
          <p:nvPr/>
        </p:nvPicPr>
        <p:blipFill>
          <a:blip r:embed="rId1"/>
          <a:stretch/>
        </p:blipFill>
        <p:spPr>
          <a:xfrm>
            <a:off x="4859280" y="333360"/>
            <a:ext cx="3683160" cy="48243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39280" y="5300640"/>
            <a:ext cx="4619880" cy="1303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АЛИЛЕО ГАЛИЛЕ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1564-1642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3" descr="galileo"/>
          <p:cNvPicPr/>
          <p:nvPr/>
        </p:nvPicPr>
        <p:blipFill>
          <a:blip r:embed="rId1"/>
          <a:stretch/>
        </p:blipFill>
        <p:spPr>
          <a:xfrm>
            <a:off x="468360" y="549360"/>
            <a:ext cx="3887640" cy="46083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4"/>
          <p:cNvSpPr/>
          <p:nvPr/>
        </p:nvSpPr>
        <p:spPr>
          <a:xfrm>
            <a:off x="4643280" y="338760"/>
            <a:ext cx="396576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основании подобных опытов итальянский ученый Галилео Галилей, живший в 17 веке, предположил, что Аристотель заблуждался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Если на тело не действуют другие тела, то оно либ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находится в поко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либо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движется прямолинейно и равномерн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.</a:t>
            </a: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4" descr="otnosit"/>
          <p:cNvPicPr/>
          <p:nvPr/>
        </p:nvPicPr>
        <p:blipFill>
          <a:blip r:embed="rId1"/>
          <a:stretch/>
        </p:blipFill>
        <p:spPr>
          <a:xfrm>
            <a:off x="358920" y="476280"/>
            <a:ext cx="8785080" cy="5400720"/>
          </a:xfrm>
          <a:prstGeom prst="rect">
            <a:avLst/>
          </a:prstGeom>
          <a:ln w="0">
            <a:noFill/>
          </a:ln>
        </p:spPr>
      </p:pic>
      <p:sp>
        <p:nvSpPr>
          <p:cNvPr id="253" name="Line 5"/>
          <p:cNvSpPr/>
          <p:nvPr/>
        </p:nvSpPr>
        <p:spPr>
          <a:xfrm>
            <a:off x="4572000" y="620640"/>
            <a:ext cx="0" cy="597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468360" y="5877000"/>
            <a:ext cx="3816360" cy="368280"/>
          </a:xfrm>
          <a:prstGeom prst="rect">
            <a:avLst/>
          </a:prstGeom>
          <a:solidFill>
            <a:srgbClr val="1ec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ИСТОТЕЛ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4932360" y="5877000"/>
            <a:ext cx="3672000" cy="368280"/>
          </a:xfrm>
          <a:prstGeom prst="rect">
            <a:avLst/>
          </a:prstGeom>
          <a:solidFill>
            <a:srgbClr val="1ec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ЛИЛ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7956360" cy="5635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гласно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ристотелю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шарик, упавш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верхушки мачты корабля, должен остановиться, поскольку на него перестает действовать рука человека, и, подчиняясь притяжению Земли, начать падать вертикально вниз. За время его падения корабль уплывет вперед и шарик упадет на некотором расстоянии от мачты корабл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ако, опыт убеждает нас, что это не так, что шарик падает у основания мачты!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алилей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объяснил это тем, что падающий шарик сохраняет свою скорость, равную скорости корабля и движется не вертикально вниз, а по криволинейной траектории – парабол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/>
          <p:cNvSpPr/>
          <p:nvPr/>
        </p:nvSpPr>
        <p:spPr>
          <a:xfrm>
            <a:off x="5003640" y="2637000"/>
            <a:ext cx="3673800" cy="3528720"/>
          </a:xfrm>
          <a:prstGeom prst="horizontalScroll">
            <a:avLst>
              <a:gd name="adj" fmla="val 12500"/>
            </a:avLst>
          </a:prstGeom>
          <a:solidFill>
            <a:srgbClr val="f07f09"/>
          </a:solidFill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e3ded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39280" y="5373360"/>
            <a:ext cx="3754440" cy="93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аак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ьюто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643-1727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4" descr="000045-1"/>
          <p:cNvPicPr/>
          <p:nvPr/>
        </p:nvPicPr>
        <p:blipFill>
          <a:blip r:embed="rId1"/>
          <a:stretch/>
        </p:blipFill>
        <p:spPr>
          <a:xfrm>
            <a:off x="539640" y="765000"/>
            <a:ext cx="4267440" cy="4608720"/>
          </a:xfrm>
          <a:prstGeom prst="rect">
            <a:avLst/>
          </a:prstGeom>
          <a:ln w="9360">
            <a:solidFill>
              <a:srgbClr val="3219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62" name="Text Box 5"/>
          <p:cNvSpPr/>
          <p:nvPr/>
        </p:nvSpPr>
        <p:spPr>
          <a:xfrm>
            <a:off x="5508720" y="3284640"/>
            <a:ext cx="309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ded1"/>
                </a:solidFill>
                <a:latin typeface="Arial"/>
              </a:rPr>
              <a:t>«Тело сохраняет свою скорость, если на него не действуют другие тела.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4932360" y="476280"/>
            <a:ext cx="359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кий английский ученый Исаак Ньютон , обобщив выводы Галилея, формулирует закон, названный законом инерц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23640" y="530280"/>
            <a:ext cx="5327640" cy="5562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так, если на тело перестают действовать другие тела, оно не останавливается, оно продолжает движение по инерции, пытается сохранить свою скор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кон инерции (первый закон Ньютона, первый закон механики)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сякое тело находится в покое или движется равномерно и прямолинейно, если на него не действуют другие тел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718240" y="1052640"/>
            <a:ext cx="2879640" cy="396072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7:01:33Z</dcterms:created>
  <dc:creator>Titanik</dc:creator>
  <dc:description/>
  <dc:language>en-US</dc:language>
  <cp:lastModifiedBy>LEGION</cp:lastModifiedBy>
  <dcterms:modified xsi:type="dcterms:W3CDTF">2015-03-30T08:23:55Z</dcterms:modified>
  <cp:revision>47</cp:revision>
  <dc:subject/>
  <dc:title>Слайд 1</dc:title>
</cp:coreProperties>
</file>