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2.gif" ContentType="image/gif"/>
  <Override PartName="/ppt/media/image14.gif" ContentType="image/gif"/>
  <Override PartName="/ppt/media/image1.png" ContentType="image/png"/>
  <Override PartName="/ppt/media/image9.jpeg" ContentType="image/jpeg"/>
  <Override PartName="/ppt/media/image3.png" ContentType="image/png"/>
  <Override PartName="/ppt/media/image15.wmf" ContentType="image/x-wmf"/>
  <Override PartName="/ppt/media/image4.gif" ContentType="image/gif"/>
  <Override PartName="/ppt/media/image6.jpeg" ContentType="image/jpeg"/>
  <Override PartName="/ppt/media/image5.jpeg" ContentType="image/jpeg"/>
  <Override PartName="/ppt/media/image11.gif" ContentType="image/gif"/>
  <Override PartName="/ppt/media/image7.jpeg" ContentType="image/jpeg"/>
  <Override PartName="/ppt/media/image2.png" ContentType="image/png"/>
  <Override PartName="/ppt/media/image10.wmf" ContentType="image/x-wmf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84E4-1976-41FD-86CB-73C584D4BB0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нятия и законы дина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8BD4-9AE3-4425-AB5D-909D49FDB52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ерциальные системы отсчета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отсчета, в которых тело находится в покое или движется равномерно и прямолинейно, если на него не действуют другие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отсчёта, связанные с Землёй и с Солнцем можно приближенно считать инерциаль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FCDA-AAEB-4DE1-91CD-1E2D19EAA83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адник на лошади перепрыгивает барьер. В каком случае можно говорить об инерциальных системах отсчёт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9966-35DD-42B5-A47F-0848AD1EE0F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2. Гребцы на лодке пытаясь заставить лодку двигаться против течения, не могут с этим справиться, и лодка остаётся в покое относительно берега. Действие каких сил при этом скомпенсирован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B469-05EE-4FF8-8EE5-9F75C875C7D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 ли шайба, брошенная хоккеистом, двигаться равномерно по льду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8955-1925-40BB-832D-D2B1B8DE5B4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флекс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нового вы узнали на уро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 ли вам интересен материа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ызвало затрудн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C1BE-781E-49F7-B30C-691B61A419D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вы сОтносительность дви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е объяснить падение ябл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Задание: Выяснить -  в чём основное отли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геоцентрической и системы от гелиоцентрическ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EF51-32CE-4616-B9EA-D7E59569800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е в 4-4 веке до н.э. ученые пытались понять, что заставляет двигаться тела, при каких условиях тела находятся в покое. Древнегреческий ученый Аристотель утверждал : «…» Прав ли он?? Давайте посмотрим описание опыта с тел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ристотель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384 - 322 г. до н. э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е в 4 веке до н.э. ученые пытались понять, что застав-ляет двигаться тела, при каких условиях тела находятся в покое. Древнегреческий ученый Аристотель утверждал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сё, что находится в движении, движется благодаря воздействию другого. Без действия нет движен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 ли он??ежкой в вашем учебнике. (обсуждаются результаты опыта.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ании подобных опытов итальянский ученый Галилео Галилей, живший в 17 веке, предположил, что Арис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АЛИЛЕО ГАЛИЛЕЙ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1564-164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ль заблуждался! «…….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ании подобных опытов итальянский ученый Галилео Галилей, живший в 17 веке, предположил, что Аристотель заблуждалс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Если на тело не действуют другие тела, то оно либо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ходится в пок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либо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вижется прямолинейно и равномерн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Аристотелю, шарик, упавший с верхушки мачты корабля, должен остановиться, поскольку на него перестает действовать рука человека, и, подчиняясь притяжению Земли, начать падать вертикально вниз. За время его падения корабль уплывет вперед и шарик упадет на некотором расстоянии от мачты кораб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, опыт убеждает нас, что это не так, что шарик падает у основания мачты! Галилей объяснил это тем, что падающий шарик сохраняет свою скорость, равную скорости корабля и движется не вертикально вниз, а по криволинейной траектории – параб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ристотел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шарик, упавш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верхушки мачты корабля, должен остановиться, поскольку на него перестает действовать рука человека, и, подчиняясь притяжению Земли, начать падать вертикально вниз. За время его падения корабль уплывет вперед и шарик упадет на некотором расстоянии от мачты кораб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, опыт убеждает нас, что это не так, что шарик падает у основания мачты!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алил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ъяснил это тем, что падающий шарик сохраняет свою скорость, равную скорости корабля и движется не вертикально вниз, а по криволинейной траектории – параб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065A-CE09-4A72-8EA0-94B79ADE167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кий английский ученый Исаак Ньютон , обобщив выводы Галилея, формулирует закон, названный законом инерции. «…….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если на тело перестают действовать другие тела, оно не останавливается, оно продолжает движение по инерции, пытается сохр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аа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ьюто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43-172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ь свою скор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кий английский ученый Исаак Ньютон , обобщив выводы Галилея, формулирует закон, названный законом инер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Calibri"/>
              </a:rPr>
              <a:t>«Тело сохраняет свою скорость, если на него не действуют другие тела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если на тело перестают действовать другие тела, оно не останавливается, оно продолжает движение по инерции, пытается сохранить свою скор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он инерции (первый закон Ньютона, первый закон механики)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якое тело находится в покое или движется равномерно и прямолинейно, если на него не действуют другие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7C07-AB69-4553-A017-5C9E9307117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108E-3324-437D-93BE-9CE9F1881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02C1-B4AE-470D-BB55-839C4067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EB8A-537C-435D-BCB9-649055C3C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575A-BC78-430B-A8B2-796F7A008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E33A-1CCD-4DCF-BC98-E3895FBF6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BCC2-FF0E-4466-8D59-00D484F7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4008-8BE3-4F1B-99DA-B4EAD6F1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D717-CA50-4D48-8FFB-40E5EFDD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DD2C-6827-40C6-8F86-2E81C1E6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44EC-0F48-4FB0-AB6B-756F895E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49FD-2737-4CA3-AC60-6D48C84B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BB53-DE07-4396-B163-8464BACC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A11F-164C-4A8A-BF0C-5152B35A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C74A-22EE-42D3-A43C-A94C0D79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CECD-5E70-4530-84BA-0E2F7CE5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EAEAA-44FF-42E0-ABA6-06EF6009F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072F-D1BC-4CAF-84A1-D0B9CD469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C9C17-FDB4-4863-8281-A5179608B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2E32E-5301-4022-9D50-0117E11D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A3000-3AD8-4882-816E-C9CA1AB0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D0947-7840-4796-BE8B-C45D9A7C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ACE8A-556A-41EE-9587-265FFCF8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4074-9C33-4907-838A-5D46E186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F24D4-CBBB-4536-9037-3CCD79C9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2BAFD-8386-4EA1-A2B3-16756D4B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8162F-2E0A-4D32-A286-3F08ACF1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92851-717F-4530-A728-02950120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4CBC0-4E44-4982-9499-37B4384B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9D418-0BF9-4FBC-A47A-7E2AD86B9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C8D5C-7771-4A7C-9BCC-C6D7129E9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CD215-1223-47DD-A07A-6469BA498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319BA-D826-41BB-A2A5-85DB0F13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3A3D7-CB55-43DE-89D7-B4E09A4E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F7E5-B94A-4FBA-8483-4D479CC4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6011C-BF90-46B8-BB2F-BCF0BB7B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FC0BE-FBC3-4BE5-81FA-4350CD43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4EEDE-AF25-4EDA-89F2-98C60A60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0225D-FC83-4369-9787-CB572B2C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2E599-16D5-4976-97C7-3C1209B5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0D174-EC79-402C-8802-1D81FB3D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20A38-0B0C-4EAE-9886-9D82E08F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D9CF4-0DD4-4FCF-A1CE-F47D41AA1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CD1A0-213A-4A27-81DE-E27B8251F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CE3C5-8DD5-471E-A1DA-5F3BADBB1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113C-6532-40FF-924C-B42D2F11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21D10-7F96-4FEA-8C3A-E1807447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84D2C-A04B-45EF-A489-B0F261F7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3D787-C994-4AC0-9C23-C46D9902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335E4-4DBA-4710-9737-061C7ACF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2B709-8C89-4A01-8EC3-E5EB73E8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578BC-B7F1-407D-AE64-76298955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9080C-60F5-4D01-AF93-AA2F0A9C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5351D-7E69-4CDA-8A5B-51AE18F2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A1741-3AD3-48C1-B0E5-39BE4340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13C60-383A-4381-A389-7C9D132CD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E353-5C41-403D-9B1C-B1CDA310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28810-6B48-4BF6-B660-70806E5D7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E3D8-E79F-43D2-AB0C-34297F97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E16C-E2D6-423F-8F41-8198ADE6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A500-C597-4E3B-9B33-81AD457A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980E-7C76-4F65-92BF-3EEBD6CDA378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5EE4-7843-4982-91C5-B2CF9EEC598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6C2B-692C-4AB1-9993-0BD0FB116F80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078B-7AF2-4229-955E-9A2CF688B68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67AD-1C9C-4CD6-A440-9A32231D0EE7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E960-A7F4-48FE-92E8-26AC7BE7CA3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7660-4D76-4E86-B886-F590F67EE8A7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C4BD-05ED-42D6-AAB6-ED3EE93912DE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0B83-483D-4B57-81A8-820E8371FFA1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D140-829E-4D0A-B9C3-52DEABD657D3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Основные понятия и законы динамики.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TextBox 2"/>
          <p:cNvSpPr/>
          <p:nvPr/>
        </p:nvSpPr>
        <p:spPr>
          <a:xfrm>
            <a:off x="929160" y="5286240"/>
            <a:ext cx="77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У «Верхне – Кубинская сош» Ольчикова Людмила Михайлов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нерциальные системы отсчета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ы отсчета, в которых тело находится в покое или движется равномерно и прямолинейно, если на него не действуют другие тел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ы отсчёта, связанные с Землёй и с Солнцем можно приближенно считать инерциальны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Picture 7" descr="j0301076"/>
          <p:cNvPicPr/>
          <p:nvPr/>
        </p:nvPicPr>
        <p:blipFill>
          <a:blip r:embed="rId1"/>
          <a:stretch/>
        </p:blipFill>
        <p:spPr>
          <a:xfrm>
            <a:off x="3276720" y="43657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70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993080" cy="295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Задача 1. </a:t>
            </a:r>
            <a:br>
              <a:rPr sz="2900"/>
            </a:b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Всадник на лошади перепрыгивает барьер. В каком случае можно говорить об инерциальных системах отсчёта?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4500720" y="4149720"/>
            <a:ext cx="3300120" cy="2093760"/>
          </a:xfrm>
          <a:prstGeom prst="rect">
            <a:avLst/>
          </a:prstGeom>
          <a:ln w="0">
            <a:noFill/>
          </a:ln>
        </p:spPr>
      </p:pic>
      <p:sp>
        <p:nvSpPr>
          <p:cNvPr id="273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183520" cy="35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Задача2. Гребцы на лодке пытаясь заставить лодку двигаться против течения, не могут с этим справиться, и лодка остаётся в покое относительно берега. Действие каких сил при этом скомпенсировано?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5" name="Picture 4" descr=""/>
          <p:cNvPicPr/>
          <p:nvPr/>
        </p:nvPicPr>
        <p:blipFill>
          <a:blip r:embed="rId1"/>
          <a:stretch/>
        </p:blipFill>
        <p:spPr>
          <a:xfrm>
            <a:off x="5435640" y="4483080"/>
            <a:ext cx="2587680" cy="181944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183520" cy="275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Задача 3. 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Может ли шайба, брошенная хоккеистом, двигаться равномерно по льду?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Picture 4" descr="j0285318"/>
          <p:cNvPicPr/>
          <p:nvPr/>
        </p:nvPicPr>
        <p:blipFill>
          <a:blip r:embed="rId1"/>
          <a:stretch/>
        </p:blipFill>
        <p:spPr>
          <a:xfrm>
            <a:off x="1403280" y="3860640"/>
            <a:ext cx="2160720" cy="19274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"/>
          <p:cNvPicPr/>
          <p:nvPr/>
        </p:nvPicPr>
        <p:blipFill>
          <a:blip r:embed="rId2"/>
          <a:stretch/>
        </p:blipFill>
        <p:spPr>
          <a:xfrm>
            <a:off x="5580000" y="4221000"/>
            <a:ext cx="2521080" cy="147636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0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8d3e"/>
                </a:solidFill>
                <a:latin typeface="Verdana"/>
              </a:rPr>
              <a:t>Рефлексия 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183520" cy="2017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о нового вы узнали на урок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 ли вам интересен материал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о вызвало затруднения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6" descr="j0299125"/>
          <p:cNvPicPr/>
          <p:nvPr/>
        </p:nvPicPr>
        <p:blipFill>
          <a:blip r:embed="rId1"/>
          <a:stretch/>
        </p:blipFill>
        <p:spPr>
          <a:xfrm>
            <a:off x="3747960" y="3789360"/>
            <a:ext cx="1492200" cy="244800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2"/>
          <p:cNvSpPr/>
          <p:nvPr/>
        </p:nvSpPr>
        <p:spPr>
          <a:xfrm>
            <a:off x="1763640" y="4797360"/>
            <a:ext cx="0" cy="93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"/>
          <p:cNvSpPr/>
          <p:nvPr/>
        </p:nvSpPr>
        <p:spPr>
          <a:xfrm>
            <a:off x="1762200" y="4795920"/>
            <a:ext cx="201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4"/>
          <p:cNvSpPr/>
          <p:nvPr/>
        </p:nvSpPr>
        <p:spPr>
          <a:xfrm>
            <a:off x="3780000" y="4797360"/>
            <a:ext cx="0" cy="93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"/>
          <p:cNvSpPr/>
          <p:nvPr/>
        </p:nvSpPr>
        <p:spPr>
          <a:xfrm>
            <a:off x="1763640" y="5734080"/>
            <a:ext cx="201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6"/>
          <p:cNvSpPr/>
          <p:nvPr/>
        </p:nvSpPr>
        <p:spPr>
          <a:xfrm>
            <a:off x="1763640" y="5734080"/>
            <a:ext cx="720720" cy="719280"/>
          </a:xfrm>
          <a:prstGeom prst="ellipse">
            <a:avLst/>
          </a:prstGeom>
          <a:solidFill>
            <a:srgbClr val="f07f0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7"/>
          <p:cNvSpPr/>
          <p:nvPr/>
        </p:nvSpPr>
        <p:spPr>
          <a:xfrm>
            <a:off x="3059280" y="5734080"/>
            <a:ext cx="720720" cy="719280"/>
          </a:xfrm>
          <a:prstGeom prst="ellipse">
            <a:avLst/>
          </a:prstGeom>
          <a:solidFill>
            <a:srgbClr val="f07f0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8" descr="AG00327_"/>
          <p:cNvPicPr/>
          <p:nvPr/>
        </p:nvPicPr>
        <p:blipFill>
          <a:blip r:embed="rId1"/>
          <a:stretch/>
        </p:blipFill>
        <p:spPr>
          <a:xfrm>
            <a:off x="2050920" y="3933720"/>
            <a:ext cx="1150920" cy="8636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тносительность движе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8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80111E-006 L 0.11823 4.80111E-006 E">
                                      <p:cBhvr>
                                        <p:cTn id="18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823 4.80111E-006 L 0.11823 0.2937 E">
                                      <p:cBhvr>
                                        <p:cTn id="22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-152280" y="404280"/>
            <a:ext cx="943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Задание: Выяснить -  в чём основное отлич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геоцентрической и системы от гелиоцентрической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24000" y="1700280"/>
          <a:ext cx="8351640" cy="4479840"/>
        </p:xfrm>
        <a:graphic>
          <a:graphicData uri="http://schemas.openxmlformats.org/drawingml/2006/table">
            <a:tbl>
              <a:tblPr/>
              <a:tblGrid>
                <a:gridCol w="2592360"/>
                <a:gridCol w="2735280"/>
                <a:gridCol w="30240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центрическая систем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лиоцентрическая систем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р теори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0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сительно чего рассматривается движение небесных тел?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позволяет объяснить?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имуществ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43280" y="5300640"/>
            <a:ext cx="3972240" cy="83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ристотель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384 - 322 г. до н. э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4392720" cy="6120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Еще в 4 веке до н.э. ученые пытались понять, что застав-ляет двигаться тела, при каких условиях тела находятся в покое. Древнегреческий ученый Аристотель утверждал 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«Всё, что находится в движении, движется благодаря воздействию другого. Без действия нет движения»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ав ли он?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Picture 3" descr="249518943_tonnel"/>
          <p:cNvPicPr/>
          <p:nvPr/>
        </p:nvPicPr>
        <p:blipFill>
          <a:blip r:embed="rId1"/>
          <a:stretch/>
        </p:blipFill>
        <p:spPr>
          <a:xfrm>
            <a:off x="4859280" y="333360"/>
            <a:ext cx="3683160" cy="482436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539280" y="5300640"/>
            <a:ext cx="4619880" cy="1303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АЛИЛЕО ГАЛИЛЕ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1564-1642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3" descr="galileo"/>
          <p:cNvPicPr/>
          <p:nvPr/>
        </p:nvPicPr>
        <p:blipFill>
          <a:blip r:embed="rId1"/>
          <a:stretch/>
        </p:blipFill>
        <p:spPr>
          <a:xfrm>
            <a:off x="468360" y="549360"/>
            <a:ext cx="3887640" cy="460836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4"/>
          <p:cNvSpPr/>
          <p:nvPr/>
        </p:nvSpPr>
        <p:spPr>
          <a:xfrm>
            <a:off x="4643280" y="338760"/>
            <a:ext cx="396576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основании подобных опытов итальянский ученый Галилео Галилей, живший в 17 веке, предположил, что Аристотель заблуждался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Если на тело не действуют другие тела, то оно либо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находится в поко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либо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движется прямолинейно и равномерн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».</a:t>
            </a:r>
            <a:br>
              <a:rPr sz="2600"/>
            </a:b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Picture 4" descr="otnosit"/>
          <p:cNvPicPr/>
          <p:nvPr/>
        </p:nvPicPr>
        <p:blipFill>
          <a:blip r:embed="rId1"/>
          <a:stretch/>
        </p:blipFill>
        <p:spPr>
          <a:xfrm>
            <a:off x="358920" y="476280"/>
            <a:ext cx="8785080" cy="5400720"/>
          </a:xfrm>
          <a:prstGeom prst="rect">
            <a:avLst/>
          </a:prstGeom>
          <a:ln w="0">
            <a:noFill/>
          </a:ln>
        </p:spPr>
      </p:pic>
      <p:sp>
        <p:nvSpPr>
          <p:cNvPr id="253" name="Line 5"/>
          <p:cNvSpPr/>
          <p:nvPr/>
        </p:nvSpPr>
        <p:spPr>
          <a:xfrm>
            <a:off x="4572000" y="620640"/>
            <a:ext cx="0" cy="5977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468360" y="5877000"/>
            <a:ext cx="3816360" cy="368280"/>
          </a:xfrm>
          <a:prstGeom prst="rect">
            <a:avLst/>
          </a:prstGeom>
          <a:solidFill>
            <a:srgbClr val="1ec5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ИСТОТЕЛ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4932360" y="5877000"/>
            <a:ext cx="3672000" cy="368280"/>
          </a:xfrm>
          <a:prstGeom prst="rect">
            <a:avLst/>
          </a:prstGeom>
          <a:solidFill>
            <a:srgbClr val="1ec5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ЛИЛЕ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502920" y="530280"/>
            <a:ext cx="7956360" cy="5635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гласно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ристотелю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шарик, упавши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 верхушки мачты корабля, должен остановиться, поскольку на него перестает действовать рука человека, и, подчиняясь притяжению Земли, начать падать вертикально вниз. За время его падения корабль уплывет вперед и шарик упадет на некотором расстоянии от мачты корабл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ако, опыт убеждает нас, что это не так, что шарик падает у основания мачты!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алилей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объяснил это тем, что падающий шарик сохраняет свою скорость, равную скорости корабля и движется не вертикально вниз, а по криволинейной траектории – парабол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AutoShape 2"/>
          <p:cNvSpPr/>
          <p:nvPr/>
        </p:nvSpPr>
        <p:spPr>
          <a:xfrm>
            <a:off x="5003640" y="2637000"/>
            <a:ext cx="3673800" cy="3528720"/>
          </a:xfrm>
          <a:prstGeom prst="horizontalScroll">
            <a:avLst>
              <a:gd name="adj" fmla="val 12500"/>
            </a:avLst>
          </a:prstGeom>
          <a:solidFill>
            <a:srgbClr val="f07f09"/>
          </a:solidFill>
          <a:ln w="57240">
            <a:solidFill>
              <a:srgbClr val="000000"/>
            </a:solidFill>
            <a:miter/>
          </a:ln>
          <a:effectLst>
            <a:outerShdw dist="107932" dir="18900000" blurRad="0" rotWithShape="0">
              <a:srgbClr val="e3ded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539280" y="5373360"/>
            <a:ext cx="3754440" cy="934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аак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ьютон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643-1727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4" descr="000045-1"/>
          <p:cNvPicPr/>
          <p:nvPr/>
        </p:nvPicPr>
        <p:blipFill>
          <a:blip r:embed="rId1"/>
          <a:stretch/>
        </p:blipFill>
        <p:spPr>
          <a:xfrm>
            <a:off x="539640" y="765000"/>
            <a:ext cx="4267440" cy="4608720"/>
          </a:xfrm>
          <a:prstGeom prst="rect">
            <a:avLst/>
          </a:prstGeom>
          <a:ln w="9360">
            <a:solidFill>
              <a:srgbClr val="3219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62" name="Text Box 5"/>
          <p:cNvSpPr/>
          <p:nvPr/>
        </p:nvSpPr>
        <p:spPr>
          <a:xfrm>
            <a:off x="5508720" y="3284640"/>
            <a:ext cx="309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3ded1"/>
                </a:solidFill>
                <a:latin typeface="Arial"/>
              </a:rPr>
              <a:t>«Тело сохраняет свою скорость, если на него не действуют другие тела.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4932360" y="476280"/>
            <a:ext cx="359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ликий английский ученый Исаак Ньютон , обобщив выводы Галилея, формулирует закон, названный законом инерци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323640" y="530280"/>
            <a:ext cx="5327640" cy="5562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так, если на тело перестают действовать другие тела, оно не останавливается, оно продолжает движение по инерции, пытается сохранить свою скорос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кон инерции (первый закон Ньютона, первый закон механики):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сякое тело находится в покое или движется равномерно и прямолинейно, если на него не действуют другие тел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5718240" y="1052640"/>
            <a:ext cx="2879640" cy="396072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07:01:33Z</dcterms:created>
  <dc:creator>Titanik</dc:creator>
  <dc:description/>
  <dc:language>en-US</dc:language>
  <cp:lastModifiedBy>LEGION</cp:lastModifiedBy>
  <dcterms:modified xsi:type="dcterms:W3CDTF">2015-03-30T08:23:55Z</dcterms:modified>
  <cp:revision>47</cp:revision>
  <dc:subject/>
  <dc:title>Слайд 1</dc:title>
</cp:coreProperties>
</file>