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4.gif" ContentType="image/gif"/>
  <Override PartName="/ppt/media/image1.png" ContentType="image/png"/>
  <Override PartName="/ppt/media/image9.jpeg" ContentType="image/jpeg"/>
  <Override PartName="/ppt/media/image3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2.png" ContentType="image/png"/>
  <Override PartName="/ppt/media/image10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FE1D-CFDA-4E96-9F14-962EC9F187F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 и законы дина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C525-252E-4F3C-AB59-C904DD1376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ерциальные системы отсчет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829C-8B37-45D2-B920-0A0942ADB49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E90F-DED0-40FF-B28B-A20D95F0122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8EBA-F5E8-4343-BF66-3B95BBBB7C4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шайба, брошенная хоккеистом, двигаться равномерно по льд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85D4-5F0A-4C8D-A44F-60023D524F9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ли вам интересен материа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звало затруд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922B-0640-4F5C-84EE-3564568660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ы сОтносительность 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е объяснить падение ябл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09AD-8CCA-46C2-90CD-BCDDEBFD69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-4 веке до н.э. ученые пытались понять, что заставляет двигаться тела, при каких условиях тела находятся в покое. Древнегреческий ученый Аристотель утверждал : «…» Прав ли он?? Давайте посмотрим описание опыта с те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ристотель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384 - 322 г. до н. э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 ли он??ежкой в вашем учебнике. (обсуждаются результаты опыта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О ГАЛИЛ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64-164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ь заблуждался!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сли на тело не действуют другие тела, то оно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ся в по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ижется прямолинейно и равномер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Аристотелю, шарик, упавший 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Галилей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истотел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шарик, упавш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2172-7AA8-4D07-88F0-EA5A0B83AAB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аа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ьют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43-17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Calibri"/>
              </a:rPr>
              <a:t>«Тело сохраняет свою скорость, если на него не действуют другие тел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инерции (первый закон Ньютона, первый закон механики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06CA-C5F2-45DC-B40E-F8C38CD0F7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1456-5928-456C-9886-29379ECA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AD4-59A1-4FB6-B064-B17F6C9A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9E6-E55A-4EEE-A627-2368D30E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007-CCCC-4F8F-936C-02424BB6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877B-D03F-4A0C-80B3-566B3AB2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8997-F871-486F-8F64-0A807916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9D84-61BC-47EB-B1E8-C5945FAA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F47C-AFA9-4D3A-B95B-87EBAEF9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23A2-ECA5-40BB-B777-91CC793C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5281-143D-476B-B20E-1D66EBF8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ED69-7EB1-4D84-A798-72530081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40A-C571-4326-A438-B959D08C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7B80-1EFC-4EF6-B38D-5183C1AA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6770-BD98-4210-A41E-D2EF29C1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DC85-1A02-4619-A410-57A5D123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29AD-197B-495B-A0E7-BDE6DCBB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65B7-AF93-418E-BA09-47417932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9C4D1-74E8-404A-BE00-BF1E857C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A838-7F2E-40BA-A511-328339F2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E41A-4EEC-4D63-8565-1C5A17F6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4F9C-23FB-4F4B-94EC-76FADF45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1214-A932-4835-8C5B-B580FAC3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4D8-0631-4CF1-A64D-722C9B35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BA2F-8CD0-4503-B240-F3297948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1F31-A254-4F44-9217-4F271C1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AEC0-294E-49C4-8D28-3FEBF89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F8D3-2D33-4F5F-97A0-D297773C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01CE-0734-412F-91CE-714515CC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2D1A-185F-4C0D-81DD-1DD194D4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0DFB0-095C-49F1-BB49-69749AD0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9DCF-2B02-400B-82E0-A1A38C9F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FE62-0397-481B-AEBA-C454D3DD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E4831-9404-4690-9FE7-E138A996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5D3-553A-4B8D-AAC6-2AF1F231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599FA-67F1-477B-8CC3-58708E93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678B9-6219-4F4C-9457-0212303C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E1C67-AC68-4297-8E65-9CD96D82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5C574-7B02-4221-9F64-BB4973D8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A7687-3025-4F9A-B13D-0F9B3A9F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A5CE9-4021-48BE-BE7F-A6F126C0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1F7F-ED64-449C-9710-8E0B13F7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2147E-05DC-4CE6-8D6F-A5DD1203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2F0E6-8D34-405B-BB4B-583E5D25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83532-1CDB-4819-A773-AD2D800B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ACE-6219-4A30-A956-1535D65D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5E4C5-9710-4F73-8B2E-D185452B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60E68-2993-4BC6-A0CA-1B4EC742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7C408-3439-4A4D-A31A-C8587F6A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FC7A0-965E-42CC-8A76-F21533C0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B1035-8DD2-45B0-A103-5CEC7893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04FEF-D523-4BB3-907A-27E6B8CF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1C62A-C13A-4091-8579-E2EFBA23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E00C0-E480-48F6-9D9A-59977111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34ED3-9340-4678-B6C2-19EAE61F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A9B82-5C5A-491A-BB23-1BAD3353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176-9211-4642-B042-9C065A6C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718D-7C79-44CB-B855-CBFC8586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B55-D43D-492D-B5FC-9FBBFBA6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661-8579-4416-B4C3-17496520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ABB-C281-4812-A31E-F4B6AB6B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71C8-F686-4104-A946-FDB17300C07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41CD-DAFD-4563-A19F-087A4CFC06A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7E33-9634-4DD0-9FD6-E5BE6EAD064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5847-8260-462C-AC00-694D776334F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1147-F28C-4FF4-A973-6FFD9C992331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2C43-1775-454E-864F-8074BB772F7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61A6-C2D5-4582-9B75-632218CAD8C2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F2CB-B129-4B0C-A8AC-2185A135CDF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BD36-E847-4982-B593-B0339D1A50E8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B545-65EB-46CA-87E1-B8CDDC33018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сновные понятия и законы динами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929160" y="5286240"/>
            <a:ext cx="77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нерциальные системы отсчета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7" descr="j0301076"/>
          <p:cNvPicPr/>
          <p:nvPr/>
        </p:nvPicPr>
        <p:blipFill>
          <a:blip r:embed="rId1"/>
          <a:stretch/>
        </p:blipFill>
        <p:spPr>
          <a:xfrm>
            <a:off x="327672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993080" cy="29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Задача 1. 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3300120" cy="20937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8352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5435640" y="4483080"/>
            <a:ext cx="2587680" cy="181944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83520" cy="27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 3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ожет ли шайба, брошенная хоккеистом, двигаться равномерно по льду?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4" descr="j0285318"/>
          <p:cNvPicPr/>
          <p:nvPr/>
        </p:nvPicPr>
        <p:blipFill>
          <a:blip r:embed="rId1"/>
          <a:stretch/>
        </p:blipFill>
        <p:spPr>
          <a:xfrm>
            <a:off x="1403280" y="3860640"/>
            <a:ext cx="2160720" cy="1927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2521080" cy="1476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Рефлексия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183520" cy="201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ли вам интересен материа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ызвало затруднен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6" descr="j0299125"/>
          <p:cNvPicPr/>
          <p:nvPr/>
        </p:nvPicPr>
        <p:blipFill>
          <a:blip r:embed="rId1"/>
          <a:stretch/>
        </p:blipFill>
        <p:spPr>
          <a:xfrm>
            <a:off x="3747960" y="3789360"/>
            <a:ext cx="149220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176364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1762200" y="4795920"/>
            <a:ext cx="20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78000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1763640" y="573408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176364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305928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AG00327_"/>
          <p:cNvPicPr/>
          <p:nvPr/>
        </p:nvPicPr>
        <p:blipFill>
          <a:blip r:embed="rId1"/>
          <a:stretch/>
        </p:blipFill>
        <p:spPr>
          <a:xfrm>
            <a:off x="2050920" y="3933720"/>
            <a:ext cx="1150920" cy="863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носительность движ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0111E-006 L 0.11823 4.80111E-006 E">
                                      <p:cBhvr>
                                        <p:cTn id="1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4.80111E-006 L 0.11823 0.2937 E">
                                      <p:cBhvr>
                                        <p:cTn id="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-152280" y="404280"/>
            <a:ext cx="94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1700280"/>
          <a:ext cx="8351640" cy="4479840"/>
        </p:xfrm>
        <a:graphic>
          <a:graphicData uri="http://schemas.openxmlformats.org/drawingml/2006/table">
            <a:tbl>
              <a:tblPr/>
              <a:tblGrid>
                <a:gridCol w="2592360"/>
                <a:gridCol w="2735280"/>
                <a:gridCol w="3024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и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 теор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о чего рассматривается движение небесных тел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позволяет объяснить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43280" y="5300640"/>
            <a:ext cx="397224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384 - 322 г. до н. э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439272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в ли он?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3" descr="249518943_tonnel"/>
          <p:cNvPicPr/>
          <p:nvPr/>
        </p:nvPicPr>
        <p:blipFill>
          <a:blip r:embed="rId1"/>
          <a:stretch/>
        </p:blipFill>
        <p:spPr>
          <a:xfrm>
            <a:off x="4859280" y="333360"/>
            <a:ext cx="3683160" cy="48243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9280" y="5300640"/>
            <a:ext cx="4619880" cy="130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ЛИЛЕО ГАЛИЛ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564-164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galileo"/>
          <p:cNvPicPr/>
          <p:nvPr/>
        </p:nvPicPr>
        <p:blipFill>
          <a:blip r:embed="rId1"/>
          <a:stretch/>
        </p:blipFill>
        <p:spPr>
          <a:xfrm>
            <a:off x="468360" y="549360"/>
            <a:ext cx="3887640" cy="46083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4643280" y="338760"/>
            <a:ext cx="39657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а тело не действуют другие тела, то оно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аходится в поко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вижется прямолинейно и равномер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otnosit"/>
          <p:cNvPicPr/>
          <p:nvPr/>
        </p:nvPicPr>
        <p:blipFill>
          <a:blip r:embed="rId1"/>
          <a:stretch/>
        </p:blipFill>
        <p:spPr>
          <a:xfrm>
            <a:off x="358920" y="476280"/>
            <a:ext cx="8785080" cy="5400720"/>
          </a:xfrm>
          <a:prstGeom prst="rect">
            <a:avLst/>
          </a:prstGeom>
          <a:ln w="0">
            <a:noFill/>
          </a:ln>
        </p:spPr>
      </p:pic>
      <p:sp>
        <p:nvSpPr>
          <p:cNvPr id="253" name="Line 5"/>
          <p:cNvSpPr/>
          <p:nvPr/>
        </p:nvSpPr>
        <p:spPr>
          <a:xfrm>
            <a:off x="4572000" y="620640"/>
            <a:ext cx="0" cy="597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468360" y="5877000"/>
            <a:ext cx="381636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932360" y="5877000"/>
            <a:ext cx="367200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И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7956360" cy="563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гласн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ю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шарик, упавш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, опыт убеждает нас, что это не так, что шарик падает у основания мачты!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алиле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5003640" y="2637000"/>
            <a:ext cx="3673800" cy="352872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280" y="5373360"/>
            <a:ext cx="3754440" cy="93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аа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ьют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643-1727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000045-1"/>
          <p:cNvPicPr/>
          <p:nvPr/>
        </p:nvPicPr>
        <p:blipFill>
          <a:blip r:embed="rId1"/>
          <a:stretch/>
        </p:blipFill>
        <p:spPr>
          <a:xfrm>
            <a:off x="539640" y="765000"/>
            <a:ext cx="4267440" cy="4608720"/>
          </a:xfrm>
          <a:prstGeom prst="rect">
            <a:avLst/>
          </a:prstGeom>
          <a:ln w="9360">
            <a:solidFill>
              <a:srgbClr val="321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Text Box 5"/>
          <p:cNvSpPr/>
          <p:nvPr/>
        </p:nvSpPr>
        <p:spPr>
          <a:xfrm>
            <a:off x="5508720" y="3284640"/>
            <a:ext cx="30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ded1"/>
                </a:solidFill>
                <a:latin typeface="Arial"/>
              </a:rPr>
              <a:t>«Тело сохраняет свою скорость, если на него не действуют другие тела.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932360" y="476280"/>
            <a:ext cx="35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3640" y="530280"/>
            <a:ext cx="5327640" cy="556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кон инерции (первый закон Ньютона, первый закон механики)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718240" y="105264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7:01:33Z</dcterms:created>
  <dc:creator>Titanik</dc:creator>
  <dc:description/>
  <dc:language>en-US</dc:language>
  <cp:lastModifiedBy>LEGION</cp:lastModifiedBy>
  <dcterms:modified xsi:type="dcterms:W3CDTF">2015-03-30T08:23:55Z</dcterms:modified>
  <cp:revision>47</cp:revision>
  <dc:subject/>
  <dc:title>Слайд 1</dc:title>
</cp:coreProperties>
</file>