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png" ContentType="image/png"/>
  <Override PartName="/ppt/media/image16.wmf" ContentType="image/x-wmf"/>
  <Override PartName="/ppt/media/image15.png" ContentType="image/png"/>
  <Override PartName="/ppt/media/image14.wmf" ContentType="image/x-wmf"/>
  <Override PartName="/ppt/media/image1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07D26-291E-42FF-994C-EA219D7BF50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вантовая физ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 Гаврилов-Ям МОУ СОШ №3. Медведев Максим. 5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03D93-43F6-44D4-835A-431E4AB5D7E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ение адрона, квар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составлении таблицы элементарных частиц в основе всех семейств предположили существование семейства кварков – частиц с зарядом меньше, чем у электрона (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⅓, +⅔, +⅔). Нуклоны состоят из трёх кварков, мезоны – из кварка и антиквар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Почему кварки существуют только в виде адронов и не существуют в свободном состоянии? Электронным зондирующим пучком установили, что кварки обмениваются глюонами. Сила взаимодействия с расстоянием увеличивается, так как глюон начинает порождать другие глюо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При попытке разорвать глюонные связи образуется новый мезо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24ABA-9BC1-4585-90E9-7816766BBE2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ресур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С. Барашенков. «Вселенная в электрон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Большая энциклопедия Кирилла и Мефоди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анта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«Астрономи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A8DB2-BB98-46EE-9668-ABB38384F19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знать основные свойства элементарных частиц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ть изотопы водор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ть законы микро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ть с механизм ядерных реакций на Солнц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знать свойства мез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ить строение адр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00620-DBF7-4CD2-AB33-9EC5CD304EF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войства элементарных части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н – отрицательно заряженная элементарная частица с массо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≈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0,511 МэВ, со спином 0,5 ћ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он – положительная частица с массо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≈ 938,3 МэВ(≈ 1 а.е), со спином 0,5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ћ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итрон – античастица электрона. Заряд 1, масса как у электрона, спин -0,5 ћ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йтрон – нейтральная элементарная частица, масс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≈ 939,6 МэВ, спи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0,5. В свободном состоянии нейтрон нестабилен и имеет время жизни около 16 мин. Вместе с протонами нейтрон образуют атомные ядра; в ядрах нейтрон стабил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B3B66-ACEB-48B0-8137-10E08636167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ород и его изото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водорода три изотопа – протий, дейтерий и трит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B55DB-24BC-42E4-AFE0-9EC86FD84D4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ейтерий и трити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ород с массовым числом 2 называют тяжелым водородом, дейтерием. Для его обозначения используют символы 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, или D (читается «де»), ядро d — дейтрон. Радиоактивный изотоп с массовым числом 3 называют сверхтяжелым водородом, или тритием, символ 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 или Т (читается «те»), ядро t — трит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радиоактивности трит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95616-97DA-4A67-A458-B9C51D314E2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ы микро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известно, нейтрон в свободном состоянии распадается на протон, электрон и антинейтрино. А почему рождается пара лептонов? Разве ту энергию, что несёт антинейтрино, не может унести электрон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реакции должны проходить по законам сохранения. В эти законы входят: закон сохранения энергии, электрического, лептонного, барионного заряда, и т.д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22C03-2B35-441F-8D42-C76573DDA07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дерные реакции на Солнц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лнце, как и другие звёзды, светит благодаря термоядерным реакци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D19B6-6C20-4104-ACF3-995DF1AA9ED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-мез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ядре протоны и нейтроны обмениваются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-мезонами, сильновзаимодействующими частицами в примерно 270 раз тяжелее электр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В заряженном состоянии распадается на мюон и антинейтри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39234-3526-4AF6-AECA-E9C2485CAC4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юон и тяжёлый лепт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юон очень похож на электрон, но в двести с лишним раз тяжелее. Кроме того, мюон радиоактивен, он распадается на электрон и антинейтри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CF27D-3835-4DDE-B727-996317FEB54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3B0B-D4DB-48FF-8211-CFBE7EB62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8092-78CD-4BCE-BB58-280F1DBAF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7EF8-251C-406D-BAB2-08D14C44B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21A4-4D27-4AE9-8620-CDEA4C1A1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0A381-B17D-496B-B342-B69789C19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3B316-21ED-4D9E-A2EE-D1198EE97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5A834-1EA7-4A0D-AB6B-44D94F5A4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ACA96-1F80-4EF5-A8AC-E40F74168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28513-1E0D-4073-830F-73C541BF4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4B02D-562E-415B-A1B7-A28BDB1B9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A1325-F8B7-42E5-9993-F8AFB222D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121D-C79C-4134-8E2B-D119FC530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ADF13-ACC9-4751-AA94-140AA61E1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E39F0-74D4-4D1D-BF21-CD03CB9B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39ED5-A74F-4D9F-ABDA-B809F704B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9C64A-2944-4EFE-B2F6-33A45EBC8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2AB9E-D324-4B27-95ED-498756069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5F4E-C5C6-485E-BE1E-392A19251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B6DD-16E9-4FDD-9F0D-5858271A6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24D3-C9A8-4EDC-BE83-D33C3D6D2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204A-F3F9-4594-9384-8C7B36FBF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B08E-544E-482A-9B7A-9CDFFD18F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395F-E9C6-4D56-943E-9C8CF3A1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1CF8-EFAE-42CC-B64F-E8C10E23B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e3351"/>
            </a:gs>
            <a:gs pos="100000">
              <a:srgbClr val="4f598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282e49"/>
                </a:gs>
                <a:gs pos="100000">
                  <a:srgbClr val="3f487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303656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303657"/>
                </a:gs>
                <a:gs pos="100000">
                  <a:srgbClr val="3f487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3f4873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414974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394166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555e9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2b314d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3f4873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2a304d"/>
                </a:gs>
                <a:gs pos="100000">
                  <a:srgbClr val="3f487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73e62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5963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52941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92e48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2395b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5f689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3f4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a304d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2c3250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3f4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32395a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303656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434b77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62b45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34b77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32395b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e3351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94166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3e466f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94166"/>
                  </a:gs>
                  <a:gs pos="100000">
                    <a:srgbClr val="4f598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f598d"/>
                  </a:gs>
                  <a:gs pos="100000">
                    <a:srgbClr val="5f68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9BD0C-4E25-43FC-B9DC-1B8CB6F4342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e3351"/>
            </a:gs>
            <a:gs pos="100000">
              <a:srgbClr val="4f598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282e49"/>
                </a:gs>
                <a:gs pos="100000">
                  <a:srgbClr val="3f487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303656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303657"/>
                </a:gs>
                <a:gs pos="100000">
                  <a:srgbClr val="3f487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3f4873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414974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394166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555e9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2b314d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3f4873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2a304d"/>
                </a:gs>
                <a:gs pos="100000">
                  <a:srgbClr val="3f487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73e62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5963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52941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92e48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2395b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5f689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3f4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a304d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2c3250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3f4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32395a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303656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434b77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62b45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34b77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32395b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e3351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94166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3e466f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94166"/>
                  </a:gs>
                  <a:gs pos="100000">
                    <a:srgbClr val="4f598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f598d"/>
                  </a:gs>
                  <a:gs pos="100000">
                    <a:srgbClr val="5f68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86FC7-085C-44AC-9FB6-BFB251A64E8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5.wmf"/><Relationship Id="rId6" Type="http://schemas.openxmlformats.org/officeDocument/2006/relationships/image" Target="../media/image4.wmf"/><Relationship Id="rId7" Type="http://schemas.openxmlformats.org/officeDocument/2006/relationships/image" Target="../media/image5.wmf"/><Relationship Id="rId8" Type="http://schemas.openxmlformats.org/officeDocument/2006/relationships/image" Target="../media/image4.wmf"/><Relationship Id="rId9" Type="http://schemas.openxmlformats.org/officeDocument/2006/relationships/image" Target="../media/image6.wmf"/><Relationship Id="rId10" Type="http://schemas.openxmlformats.org/officeDocument/2006/relationships/image" Target="../media/image6.wmf"/><Relationship Id="rId11" Type="http://schemas.openxmlformats.org/officeDocument/2006/relationships/image" Target="../media/image5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8.wmf"/><Relationship Id="rId17" Type="http://schemas.openxmlformats.org/officeDocument/2006/relationships/image" Target="../media/image9.wmf"/><Relationship Id="rId18" Type="http://schemas.openxmlformats.org/officeDocument/2006/relationships/image" Target="../media/image10.wmf"/><Relationship Id="rId19" Type="http://schemas.openxmlformats.org/officeDocument/2006/relationships/image" Target="../media/image11.wmf"/><Relationship Id="rId20" Type="http://schemas.openxmlformats.org/officeDocument/2006/relationships/image" Target="../media/image12.wmf"/><Relationship Id="rId21" Type="http://schemas.openxmlformats.org/officeDocument/2006/relationships/image" Target="../media/image13.wmf"/><Relationship Id="rId22" Type="http://schemas.openxmlformats.org/officeDocument/2006/relationships/image" Target="../media/image10.wmf"/><Relationship Id="rId23" Type="http://schemas.openxmlformats.org/officeDocument/2006/relationships/image" Target="../media/image14.wmf"/><Relationship Id="rId24" Type="http://schemas.openxmlformats.org/officeDocument/2006/relationships/image" Target="../media/image6.wmf"/><Relationship Id="rId25" Type="http://schemas.openxmlformats.org/officeDocument/2006/relationships/slideLayout" Target="../slideLayouts/slideLayout13.xml"/><Relationship Id="rId2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0.wmf"/><Relationship Id="rId5" Type="http://schemas.openxmlformats.org/officeDocument/2006/relationships/image" Target="../media/image14.wmf"/><Relationship Id="rId6" Type="http://schemas.openxmlformats.org/officeDocument/2006/relationships/image" Target="../media/image6.wmf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png"/><Relationship Id="rId3" Type="http://schemas.openxmlformats.org/officeDocument/2006/relationships/image" Target="../media/image6.wmf"/><Relationship Id="rId4" Type="http://schemas.openxmlformats.org/officeDocument/2006/relationships/image" Target="../media/image4.wmf"/><Relationship Id="rId5" Type="http://schemas.openxmlformats.org/officeDocument/2006/relationships/image" Target="../media/image6.wmf"/><Relationship Id="rId6" Type="http://schemas.openxmlformats.org/officeDocument/2006/relationships/image" Target="../media/image5.wmf"/><Relationship Id="rId7" Type="http://schemas.openxmlformats.org/officeDocument/2006/relationships/image" Target="../media/image4.wmf"/><Relationship Id="rId8" Type="http://schemas.openxmlformats.org/officeDocument/2006/relationships/image" Target="../media/image6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14.wmf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5.wmf"/><Relationship Id="rId4" Type="http://schemas.openxmlformats.org/officeDocument/2006/relationships/image" Target="../media/image4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14.wmf"/><Relationship Id="rId10" Type="http://schemas.openxmlformats.org/officeDocument/2006/relationships/image" Target="../media/image11.wmf"/><Relationship Id="rId11" Type="http://schemas.openxmlformats.org/officeDocument/2006/relationships/image" Target="../media/image7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8.wmf"/><Relationship Id="rId4" Type="http://schemas.openxmlformats.org/officeDocument/2006/relationships/image" Target="../media/image16.wmf"/><Relationship Id="rId5" Type="http://schemas.openxmlformats.org/officeDocument/2006/relationships/image" Target="../media/image12.wmf"/><Relationship Id="rId6" Type="http://schemas.openxmlformats.org/officeDocument/2006/relationships/image" Target="../media/image1.png"/><Relationship Id="rId7" Type="http://schemas.openxmlformats.org/officeDocument/2006/relationships/image" Target="../media/image10.wmf"/><Relationship Id="rId8" Type="http://schemas.openxmlformats.org/officeDocument/2006/relationships/image" Target="../media/image7.wmf"/><Relationship Id="rId9" Type="http://schemas.openxmlformats.org/officeDocument/2006/relationships/image" Target="../media/image7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.png"/><Relationship Id="rId3" Type="http://schemas.openxmlformats.org/officeDocument/2006/relationships/image" Target="../media/image14.wmf"/><Relationship Id="rId4" Type="http://schemas.openxmlformats.org/officeDocument/2006/relationships/image" Target="../media/image6.wmf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Квантовая физи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619280" y="6424560"/>
            <a:ext cx="7524720" cy="4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. Гаврилов-Ям МОУ СОШ №3. Медведев Максим. 5 клас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8" descr="proton"/>
          <p:cNvPicPr/>
          <p:nvPr/>
        </p:nvPicPr>
        <p:blipFill>
          <a:blip r:embed="rId1"/>
          <a:stretch/>
        </p:blipFill>
        <p:spPr>
          <a:xfrm>
            <a:off x="826920" y="1484280"/>
            <a:ext cx="265320" cy="2653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9" descr="neitron"/>
          <p:cNvPicPr/>
          <p:nvPr/>
        </p:nvPicPr>
        <p:blipFill>
          <a:blip r:embed="rId2"/>
          <a:stretch/>
        </p:blipFill>
        <p:spPr>
          <a:xfrm>
            <a:off x="826920" y="1773360"/>
            <a:ext cx="265320" cy="2649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elektron"/>
          <p:cNvPicPr/>
          <p:nvPr/>
        </p:nvPicPr>
        <p:blipFill>
          <a:blip r:embed="rId3"/>
          <a:stretch/>
        </p:blipFill>
        <p:spPr>
          <a:xfrm>
            <a:off x="900000" y="2205000"/>
            <a:ext cx="85680" cy="856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1" descr="foton"/>
          <p:cNvPicPr/>
          <p:nvPr/>
        </p:nvPicPr>
        <p:blipFill>
          <a:blip r:embed="rId4"/>
          <a:stretch/>
        </p:blipFill>
        <p:spPr>
          <a:xfrm>
            <a:off x="847800" y="2924280"/>
            <a:ext cx="171360" cy="5868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12"/>
          <p:cNvSpPr/>
          <p:nvPr/>
        </p:nvSpPr>
        <p:spPr>
          <a:xfrm>
            <a:off x="1258920" y="1341360"/>
            <a:ext cx="2973240" cy="30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т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йтр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лектр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зитр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фотон(квант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нейтрино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или антинейтри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π-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езо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юо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Group 20"/>
          <p:cNvGrpSpPr/>
          <p:nvPr/>
        </p:nvGrpSpPr>
        <p:grpSpPr>
          <a:xfrm>
            <a:off x="5568840" y="2697120"/>
            <a:ext cx="469800" cy="480960"/>
            <a:chOff x="5568840" y="2697120"/>
            <a:chExt cx="469800" cy="480960"/>
          </a:xfrm>
        </p:grpSpPr>
        <p:pic>
          <p:nvPicPr>
            <p:cNvPr id="177" name="Picture 21" descr="neitron"/>
            <p:cNvPicPr/>
            <p:nvPr/>
          </p:nvPicPr>
          <p:blipFill>
            <a:blip r:embed="rId5"/>
            <a:stretch/>
          </p:blipFill>
          <p:spPr>
            <a:xfrm>
              <a:off x="5773680" y="2697120"/>
              <a:ext cx="264960" cy="2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22" descr="proton"/>
            <p:cNvPicPr/>
            <p:nvPr/>
          </p:nvPicPr>
          <p:blipFill>
            <a:blip r:embed="rId6"/>
            <a:stretch/>
          </p:blipFill>
          <p:spPr>
            <a:xfrm>
              <a:off x="5762520" y="2903400"/>
              <a:ext cx="264960" cy="26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Picture 23" descr="neitron"/>
            <p:cNvPicPr/>
            <p:nvPr/>
          </p:nvPicPr>
          <p:blipFill>
            <a:blip r:embed="rId7"/>
            <a:stretch/>
          </p:blipFill>
          <p:spPr>
            <a:xfrm>
              <a:off x="5568840" y="2913120"/>
              <a:ext cx="264960" cy="2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Picture 24" descr="proton"/>
            <p:cNvPicPr/>
            <p:nvPr/>
          </p:nvPicPr>
          <p:blipFill>
            <a:blip r:embed="rId8"/>
            <a:stretch/>
          </p:blipFill>
          <p:spPr>
            <a:xfrm>
              <a:off x="5570280" y="2701800"/>
              <a:ext cx="265320" cy="26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1" name="Oval 26"/>
          <p:cNvSpPr/>
          <p:nvPr/>
        </p:nvSpPr>
        <p:spPr>
          <a:xfrm>
            <a:off x="5292720" y="2421000"/>
            <a:ext cx="1008000" cy="1008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25" descr="elektron"/>
          <p:cNvPicPr/>
          <p:nvPr/>
        </p:nvPicPr>
        <p:blipFill>
          <a:blip r:embed="rId9"/>
          <a:stretch/>
        </p:blipFill>
        <p:spPr>
          <a:xfrm>
            <a:off x="5281560" y="2708280"/>
            <a:ext cx="85680" cy="856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7" descr="elektron"/>
          <p:cNvPicPr/>
          <p:nvPr/>
        </p:nvPicPr>
        <p:blipFill>
          <a:blip r:embed="rId10"/>
          <a:stretch/>
        </p:blipFill>
        <p:spPr>
          <a:xfrm>
            <a:off x="6227640" y="3068640"/>
            <a:ext cx="85680" cy="85680"/>
          </a:xfrm>
          <a:prstGeom prst="rect">
            <a:avLst/>
          </a:prstGeom>
          <a:ln w="0">
            <a:noFill/>
          </a:ln>
        </p:spPr>
      </p:pic>
      <p:grpSp>
        <p:nvGrpSpPr>
          <p:cNvPr id="184" name="Group 33"/>
          <p:cNvGrpSpPr/>
          <p:nvPr/>
        </p:nvGrpSpPr>
        <p:grpSpPr>
          <a:xfrm>
            <a:off x="7656480" y="3603600"/>
            <a:ext cx="625320" cy="419040"/>
            <a:chOff x="7656480" y="3603600"/>
            <a:chExt cx="625320" cy="419040"/>
          </a:xfrm>
        </p:grpSpPr>
        <p:pic>
          <p:nvPicPr>
            <p:cNvPr id="185" name="Picture 31" descr="neitron"/>
            <p:cNvPicPr/>
            <p:nvPr/>
          </p:nvPicPr>
          <p:blipFill>
            <a:blip r:embed="rId11"/>
            <a:stretch/>
          </p:blipFill>
          <p:spPr>
            <a:xfrm>
              <a:off x="7656480" y="3612960"/>
              <a:ext cx="264960" cy="26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30" descr="proton"/>
            <p:cNvPicPr/>
            <p:nvPr/>
          </p:nvPicPr>
          <p:blipFill>
            <a:blip r:embed="rId12"/>
            <a:stretch/>
          </p:blipFill>
          <p:spPr>
            <a:xfrm>
              <a:off x="7850160" y="3603600"/>
              <a:ext cx="264960" cy="2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32" descr="proton"/>
            <p:cNvPicPr/>
            <p:nvPr/>
          </p:nvPicPr>
          <p:blipFill>
            <a:blip r:embed="rId13"/>
            <a:stretch/>
          </p:blipFill>
          <p:spPr>
            <a:xfrm>
              <a:off x="8016840" y="3757320"/>
              <a:ext cx="264960" cy="26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8" name="Oval 34"/>
          <p:cNvSpPr/>
          <p:nvPr/>
        </p:nvSpPr>
        <p:spPr>
          <a:xfrm>
            <a:off x="7451640" y="3284640"/>
            <a:ext cx="1008000" cy="1008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35" descr="elektron"/>
          <p:cNvPicPr/>
          <p:nvPr/>
        </p:nvPicPr>
        <p:blipFill>
          <a:blip r:embed="rId14"/>
          <a:stretch/>
        </p:blipFill>
        <p:spPr>
          <a:xfrm>
            <a:off x="7440480" y="3571920"/>
            <a:ext cx="85680" cy="856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88" descr="elektron"/>
          <p:cNvPicPr/>
          <p:nvPr/>
        </p:nvPicPr>
        <p:blipFill>
          <a:blip r:embed="rId15"/>
          <a:stretch/>
        </p:blipFill>
        <p:spPr>
          <a:xfrm>
            <a:off x="8101080" y="4221000"/>
            <a:ext cx="85680" cy="86040"/>
          </a:xfrm>
          <a:prstGeom prst="rect">
            <a:avLst/>
          </a:prstGeom>
          <a:ln w="0">
            <a:noFill/>
          </a:ln>
        </p:spPr>
      </p:pic>
      <p:sp>
        <p:nvSpPr>
          <p:cNvPr id="191" name="Oval 151"/>
          <p:cNvSpPr/>
          <p:nvPr/>
        </p:nvSpPr>
        <p:spPr>
          <a:xfrm>
            <a:off x="992160" y="3213000"/>
            <a:ext cx="17640" cy="1764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156" descr="Mezon-"/>
          <p:cNvPicPr/>
          <p:nvPr/>
        </p:nvPicPr>
        <p:blipFill>
          <a:blip r:embed="rId16"/>
          <a:stretch/>
        </p:blipFill>
        <p:spPr>
          <a:xfrm>
            <a:off x="396720" y="3438360"/>
            <a:ext cx="265320" cy="2653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8" descr="Mezon+"/>
          <p:cNvPicPr/>
          <p:nvPr/>
        </p:nvPicPr>
        <p:blipFill>
          <a:blip r:embed="rId17"/>
          <a:stretch/>
        </p:blipFill>
        <p:spPr>
          <a:xfrm>
            <a:off x="700200" y="3429000"/>
            <a:ext cx="264960" cy="2649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59" descr="Mezon0"/>
          <p:cNvPicPr/>
          <p:nvPr/>
        </p:nvPicPr>
        <p:blipFill>
          <a:blip r:embed="rId18"/>
          <a:stretch/>
        </p:blipFill>
        <p:spPr>
          <a:xfrm>
            <a:off x="996840" y="3429000"/>
            <a:ext cx="265320" cy="26496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160"/>
          <p:cNvSpPr/>
          <p:nvPr/>
        </p:nvSpPr>
        <p:spPr>
          <a:xfrm>
            <a:off x="307800" y="3645000"/>
            <a:ext cx="11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   +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161"/>
          <p:cNvSpPr/>
          <p:nvPr/>
        </p:nvSpPr>
        <p:spPr>
          <a:xfrm>
            <a:off x="0" y="3429000"/>
            <a:ext cx="3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68"/>
          <p:cNvSpPr/>
          <p:nvPr/>
        </p:nvSpPr>
        <p:spPr>
          <a:xfrm>
            <a:off x="611280" y="414972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   +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169"/>
          <p:cNvSpPr/>
          <p:nvPr/>
        </p:nvSpPr>
        <p:spPr>
          <a:xfrm>
            <a:off x="0" y="4076640"/>
            <a:ext cx="3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Picture 171" descr="pozitron"/>
          <p:cNvPicPr/>
          <p:nvPr/>
        </p:nvPicPr>
        <p:blipFill>
          <a:blip r:embed="rId19"/>
          <a:stretch/>
        </p:blipFill>
        <p:spPr>
          <a:xfrm>
            <a:off x="900000" y="2565360"/>
            <a:ext cx="85680" cy="856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73" descr="Muon-"/>
          <p:cNvPicPr/>
          <p:nvPr/>
        </p:nvPicPr>
        <p:blipFill>
          <a:blip r:embed="rId20"/>
          <a:stretch/>
        </p:blipFill>
        <p:spPr>
          <a:xfrm>
            <a:off x="684360" y="4076640"/>
            <a:ext cx="215640" cy="216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74" descr="Muon+"/>
          <p:cNvPicPr/>
          <p:nvPr/>
        </p:nvPicPr>
        <p:blipFill>
          <a:blip r:embed="rId21"/>
          <a:stretch/>
        </p:blipFill>
        <p:spPr>
          <a:xfrm>
            <a:off x="1042920" y="4076640"/>
            <a:ext cx="204840" cy="2048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75" descr="Mezon0"/>
          <p:cNvPicPr/>
          <p:nvPr/>
        </p:nvPicPr>
        <p:blipFill>
          <a:blip r:embed="rId22"/>
          <a:stretch/>
        </p:blipFill>
        <p:spPr>
          <a:xfrm>
            <a:off x="8101080" y="1989000"/>
            <a:ext cx="264960" cy="265320"/>
          </a:xfrm>
          <a:prstGeom prst="rect">
            <a:avLst/>
          </a:prstGeom>
          <a:ln w="0">
            <a:noFill/>
          </a:ln>
        </p:spPr>
      </p:pic>
      <p:grpSp>
        <p:nvGrpSpPr>
          <p:cNvPr id="203" name="Group 177"/>
          <p:cNvGrpSpPr/>
          <p:nvPr/>
        </p:nvGrpSpPr>
        <p:grpSpPr>
          <a:xfrm>
            <a:off x="5435640" y="2133720"/>
            <a:ext cx="178920" cy="91800"/>
            <a:chOff x="5435640" y="2133720"/>
            <a:chExt cx="178920" cy="91800"/>
          </a:xfrm>
        </p:grpSpPr>
        <p:pic>
          <p:nvPicPr>
            <p:cNvPr id="204" name="Picture 178" descr="elektron_sl2"/>
            <p:cNvPicPr/>
            <p:nvPr/>
          </p:nvPicPr>
          <p:blipFill>
            <a:blip r:embed="rId23"/>
            <a:stretch/>
          </p:blipFill>
          <p:spPr>
            <a:xfrm>
              <a:off x="5435640" y="2133720"/>
              <a:ext cx="126720" cy="9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Picture 179" descr="elektron"/>
            <p:cNvPicPr/>
            <p:nvPr/>
          </p:nvPicPr>
          <p:blipFill>
            <a:blip r:embed="rId24"/>
            <a:stretch/>
          </p:blipFill>
          <p:spPr>
            <a:xfrm>
              <a:off x="5528880" y="2133720"/>
              <a:ext cx="85680" cy="8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троение адрона, кварк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50560" y="765000"/>
            <a:ext cx="84452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составлении таблицы элементарных частиц в основе всех семейств предположили существование семейства кварков – частиц с зарядом меньше, чем у электрона (-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⅓, +⅔, +⅔). Нуклоны состоят из трёх кварков, мезоны – из кварка и антиквар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очему кварки существуют только в виде адронов и не существуют в свободном состоянии? Электронным зондирующим пучком установили, что кварки обмениваются глюонами. Сила взаимодействия с расстоянием увеличивается, так как глюон начинает порождать другие глюон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ри попытке разорвать глюонные связи образуется новый мезон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8" name="Picture 11" descr="Mezon0"/>
          <p:cNvPicPr/>
          <p:nvPr/>
        </p:nvPicPr>
        <p:blipFill>
          <a:blip r:embed="rId4"/>
          <a:stretch/>
        </p:blipFill>
        <p:spPr>
          <a:xfrm>
            <a:off x="3635280" y="6308640"/>
            <a:ext cx="265320" cy="265320"/>
          </a:xfrm>
          <a:prstGeom prst="rect">
            <a:avLst/>
          </a:prstGeom>
          <a:ln w="0">
            <a:noFill/>
          </a:ln>
        </p:spPr>
      </p:pic>
      <p:grpSp>
        <p:nvGrpSpPr>
          <p:cNvPr id="359" name="Group 16"/>
          <p:cNvGrpSpPr/>
          <p:nvPr/>
        </p:nvGrpSpPr>
        <p:grpSpPr>
          <a:xfrm>
            <a:off x="7812000" y="6441840"/>
            <a:ext cx="169560" cy="97200"/>
            <a:chOff x="7812000" y="6441840"/>
            <a:chExt cx="169560" cy="97200"/>
          </a:xfrm>
        </p:grpSpPr>
        <p:pic>
          <p:nvPicPr>
            <p:cNvPr id="360" name="Picture 14" descr="elektron_sl2"/>
            <p:cNvPicPr/>
            <p:nvPr/>
          </p:nvPicPr>
          <p:blipFill>
            <a:blip r:embed="rId5"/>
            <a:stretch/>
          </p:blipFill>
          <p:spPr>
            <a:xfrm rot="10800000">
              <a:off x="7854480" y="6441840"/>
              <a:ext cx="127080" cy="9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Picture 15" descr="elektron"/>
            <p:cNvPicPr/>
            <p:nvPr/>
          </p:nvPicPr>
          <p:blipFill>
            <a:blip r:embed="rId6"/>
            <a:stretch/>
          </p:blipFill>
          <p:spPr>
            <a:xfrm>
              <a:off x="7812000" y="6453360"/>
              <a:ext cx="85680" cy="85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62" name="Picture 17" descr="Mezon0"/>
          <p:cNvPicPr/>
          <p:nvPr/>
        </p:nvPicPr>
        <p:blipFill>
          <a:blip r:embed="rId7"/>
          <a:stretch/>
        </p:blipFill>
        <p:spPr>
          <a:xfrm>
            <a:off x="3635280" y="6308640"/>
            <a:ext cx="265320" cy="265320"/>
          </a:xfrm>
          <a:prstGeom prst="rect">
            <a:avLst/>
          </a:prstGeom>
          <a:ln w="0">
            <a:noFill/>
          </a:ln>
        </p:spPr>
      </p:pic>
      <p:sp>
        <p:nvSpPr>
          <p:cNvPr id="363" name="Text Box 18"/>
          <p:cNvSpPr/>
          <p:nvPr/>
        </p:nvSpPr>
        <p:spPr>
          <a:xfrm>
            <a:off x="8459640" y="6308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Line 19"/>
          <p:cNvSpPr/>
          <p:nvPr/>
        </p:nvSpPr>
        <p:spPr>
          <a:xfrm flipH="1">
            <a:off x="7954920" y="6524640"/>
            <a:ext cx="504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21"/>
          <p:cNvSpPr/>
          <p:nvPr/>
        </p:nvSpPr>
        <p:spPr>
          <a:xfrm>
            <a:off x="4356000" y="6308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π </a:t>
            </a:r>
            <a:r>
              <a:rPr b="0" lang="ru-RU" sz="1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Line 22"/>
          <p:cNvSpPr/>
          <p:nvPr/>
        </p:nvSpPr>
        <p:spPr>
          <a:xfrm flipH="1">
            <a:off x="3851280" y="6524640"/>
            <a:ext cx="504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24"/>
          <p:cNvSpPr/>
          <p:nvPr/>
        </p:nvSpPr>
        <p:spPr>
          <a:xfrm>
            <a:off x="1979640" y="6165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π </a:t>
            </a:r>
            <a:r>
              <a:rPr b="0" lang="ru-RU" sz="1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Line 25"/>
          <p:cNvSpPr/>
          <p:nvPr/>
        </p:nvSpPr>
        <p:spPr>
          <a:xfrm flipV="1">
            <a:off x="2340000" y="6237000"/>
            <a:ext cx="50328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Line 26"/>
          <p:cNvSpPr/>
          <p:nvPr/>
        </p:nvSpPr>
        <p:spPr>
          <a:xfrm>
            <a:off x="2340000" y="638172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0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2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7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2" dur="5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4" dur="8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5" dur="8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6" dur="8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2" dur="8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3" dur="8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4" dur="8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69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70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3.97872E-007 L -0.45017 -0.00532 E">
                                      <p:cBhvr>
                                        <p:cTn id="709" dur="7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7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5017 -0.00532 L -0.67066 0.07865 E">
                                      <p:cBhvr>
                                        <p:cTn id="712" dur="13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5.66736E-007 L -0.09445 -0.04187 E">
                                      <p:cBhvr>
                                        <p:cTn id="716" dur="2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7.77238E-007 L -0.11024 0.02105 E">
                                      <p:cBhvr>
                                        <p:cTn id="718" dur="2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6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7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8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Информационные ресурсы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68000" y="1599840"/>
            <a:ext cx="821844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. С. Барашенков. «Вселенная в электроне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Большая энциклопедия Кирилла и Мефодия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ванта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«Астрономия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cc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знать основные свойства элементарных частиц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cc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смотреть изотопы водоро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cc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смотреть законы микроми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cc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смотреть с механизм ядерных реакций на Солнц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cc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знать свойства мезо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cc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учить строение адро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WordArt 5"/>
          <p:cNvSpPr txBox="1"/>
          <p:nvPr/>
        </p:nvSpPr>
        <p:spPr>
          <a:xfrm>
            <a:off x="1835280" y="189000"/>
            <a:ext cx="5616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Наши цел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8036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Свойства элементарных частиц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421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388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Электрон – отрицательно заряженная элементарная частица с массой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  <a:ea typeface="Arial"/>
              </a:rPr>
              <a:t>≈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0,511 МэВ, со спином 0,5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ћ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388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Протон – положительная частица с массой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  <a:ea typeface="Arial"/>
              </a:rPr>
              <a:t>≈ 938,3 МэВ(≈ 1 а.е), со спином 0,5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ћ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388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Позитрон – античастица электрона. Заряд 1, масса как у электрона, спин -0,5 ћ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388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Нейтрон – нейтральная элементарная частица, масса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  <a:ea typeface="Arial"/>
              </a:rPr>
              <a:t>≈ 939,6 МэВ, спин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0,5. В свободном состоянии нейтрон нестабилен и имеет время жизни около 16 мин. Вместе с протонами нейтрон образуют атомные ядра; в ядрах нейтрон стабилен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5" descr="proton"/>
          <p:cNvPicPr/>
          <p:nvPr/>
        </p:nvPicPr>
        <p:blipFill>
          <a:blip r:embed="rId1"/>
          <a:stretch/>
        </p:blipFill>
        <p:spPr>
          <a:xfrm>
            <a:off x="1476360" y="2708280"/>
            <a:ext cx="264960" cy="26496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одород и его изотоп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 водорода три изотопа – протий, дейтерий и трит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8" descr="elektron"/>
          <p:cNvPicPr/>
          <p:nvPr/>
        </p:nvPicPr>
        <p:blipFill>
          <a:blip r:embed="rId3"/>
          <a:stretch/>
        </p:blipFill>
        <p:spPr>
          <a:xfrm>
            <a:off x="1065240" y="2852640"/>
            <a:ext cx="85680" cy="85680"/>
          </a:xfrm>
          <a:prstGeom prst="rect">
            <a:avLst/>
          </a:prstGeom>
          <a:ln w="0">
            <a:noFill/>
          </a:ln>
        </p:spPr>
      </p:pic>
      <p:sp>
        <p:nvSpPr>
          <p:cNvPr id="217" name="Oval 9"/>
          <p:cNvSpPr/>
          <p:nvPr/>
        </p:nvSpPr>
        <p:spPr>
          <a:xfrm>
            <a:off x="1116000" y="2347920"/>
            <a:ext cx="1008000" cy="1008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13" descr="proton"/>
          <p:cNvPicPr/>
          <p:nvPr/>
        </p:nvPicPr>
        <p:blipFill>
          <a:blip r:embed="rId4"/>
          <a:stretch/>
        </p:blipFill>
        <p:spPr>
          <a:xfrm>
            <a:off x="3348000" y="2781360"/>
            <a:ext cx="265320" cy="2649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4" descr="elektron"/>
          <p:cNvPicPr/>
          <p:nvPr/>
        </p:nvPicPr>
        <p:blipFill>
          <a:blip r:embed="rId5"/>
          <a:stretch/>
        </p:blipFill>
        <p:spPr>
          <a:xfrm>
            <a:off x="3008160" y="2925720"/>
            <a:ext cx="86040" cy="85680"/>
          </a:xfrm>
          <a:prstGeom prst="rect">
            <a:avLst/>
          </a:prstGeom>
          <a:ln w="0">
            <a:noFill/>
          </a:ln>
        </p:spPr>
      </p:pic>
      <p:sp>
        <p:nvSpPr>
          <p:cNvPr id="220" name="Oval 15"/>
          <p:cNvSpPr/>
          <p:nvPr/>
        </p:nvSpPr>
        <p:spPr>
          <a:xfrm>
            <a:off x="3059280" y="2421000"/>
            <a:ext cx="1008000" cy="1008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16" descr="neitron"/>
          <p:cNvPicPr/>
          <p:nvPr/>
        </p:nvPicPr>
        <p:blipFill>
          <a:blip r:embed="rId6"/>
          <a:stretch/>
        </p:blipFill>
        <p:spPr>
          <a:xfrm>
            <a:off x="3564000" y="2781360"/>
            <a:ext cx="264960" cy="264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1" descr="proton"/>
          <p:cNvPicPr/>
          <p:nvPr/>
        </p:nvPicPr>
        <p:blipFill>
          <a:blip r:embed="rId7"/>
          <a:stretch/>
        </p:blipFill>
        <p:spPr>
          <a:xfrm>
            <a:off x="5291280" y="2779560"/>
            <a:ext cx="264960" cy="2653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2" descr="elektron"/>
          <p:cNvPicPr/>
          <p:nvPr/>
        </p:nvPicPr>
        <p:blipFill>
          <a:blip r:embed="rId8"/>
          <a:stretch/>
        </p:blipFill>
        <p:spPr>
          <a:xfrm>
            <a:off x="4951440" y="2944800"/>
            <a:ext cx="85680" cy="85680"/>
          </a:xfrm>
          <a:prstGeom prst="rect">
            <a:avLst/>
          </a:prstGeom>
          <a:ln w="0">
            <a:noFill/>
          </a:ln>
        </p:spPr>
      </p:pic>
      <p:sp>
        <p:nvSpPr>
          <p:cNvPr id="224" name="Oval 23"/>
          <p:cNvSpPr/>
          <p:nvPr/>
        </p:nvSpPr>
        <p:spPr>
          <a:xfrm>
            <a:off x="5002200" y="2440080"/>
            <a:ext cx="1008000" cy="1008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24" descr="neitron"/>
          <p:cNvPicPr/>
          <p:nvPr/>
        </p:nvPicPr>
        <p:blipFill>
          <a:blip r:embed="rId9"/>
          <a:stretch/>
        </p:blipFill>
        <p:spPr>
          <a:xfrm>
            <a:off x="5506920" y="2779560"/>
            <a:ext cx="265320" cy="2653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5" descr="neitron"/>
          <p:cNvPicPr/>
          <p:nvPr/>
        </p:nvPicPr>
        <p:blipFill>
          <a:blip r:embed="rId10"/>
          <a:stretch/>
        </p:blipFill>
        <p:spPr>
          <a:xfrm>
            <a:off x="5364000" y="2924280"/>
            <a:ext cx="265320" cy="26496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26"/>
          <p:cNvSpPr/>
          <p:nvPr/>
        </p:nvSpPr>
        <p:spPr>
          <a:xfrm>
            <a:off x="1333800" y="3500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30"/>
          <p:cNvSpPr/>
          <p:nvPr/>
        </p:nvSpPr>
        <p:spPr>
          <a:xfrm>
            <a:off x="3278520" y="3500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31"/>
          <p:cNvSpPr/>
          <p:nvPr/>
        </p:nvSpPr>
        <p:spPr>
          <a:xfrm>
            <a:off x="5294160" y="35002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Line 33"/>
          <p:cNvSpPr/>
          <p:nvPr/>
        </p:nvSpPr>
        <p:spPr>
          <a:xfrm flipV="1">
            <a:off x="1547640" y="2997360"/>
            <a:ext cx="7164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Line 34"/>
          <p:cNvSpPr/>
          <p:nvPr/>
        </p:nvSpPr>
        <p:spPr>
          <a:xfrm flipV="1">
            <a:off x="3492360" y="2997360"/>
            <a:ext cx="7164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Line 35"/>
          <p:cNvSpPr/>
          <p:nvPr/>
        </p:nvSpPr>
        <p:spPr>
          <a:xfrm flipV="1">
            <a:off x="5508720" y="3068640"/>
            <a:ext cx="7128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36"/>
          <p:cNvSpPr/>
          <p:nvPr/>
        </p:nvSpPr>
        <p:spPr>
          <a:xfrm>
            <a:off x="539640" y="4005360"/>
            <a:ext cx="815832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дород с массовым числом 1 называют легким водородом, или протием, обозначают символом Н, а его ядро называют протоном, символ 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6 0.00533 C 0.00677 0.04584 0.03524 0.07269 0.06493 0.06597 C 0.09531 0.05926 0.11493 0.02107 0.1099 -0.01921 C 0.10504 -0.05879 0.07691 -0.08541 0.0467 -0.0787 C 0.01649 -0.07176 -0.00347 -0.03449 0.00156 0.00533 Z">
                                      <p:cBhvr>
                                        <p:cTn id="83" dur="2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6 0.00509 C 0.00677 0.04607 0.03524 0.07245 0.06493 0.06574 C 0.09531 0.05903 0.11458 0.02083 0.1099 -0.01944 C 0.10504 -0.05903 0.07691 -0.08565 0.0467 -0.07893 C 0.01649 -0.07199 -0.00347 -0.03472 0.00156 0.00509 Z">
                                      <p:cBhvr>
                                        <p:cTn id="103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08 0.00463 C 0.00729 0.0456 0.03576 0.07199 0.06545 0.06528 C 0.09583 0.05856 0.11493 0.02037 0.11042 -0.01991 C 0.10556 -0.05949 0.07743 -0.08611 0.04722 -0.0794 C 0.01701 -0.07246 -0.00295 -0.03519 0.00208 0.00463 Z">
                                      <p:cBhvr>
                                        <p:cTn id="125" dur="2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11" descr="proton"/>
          <p:cNvPicPr/>
          <p:nvPr/>
        </p:nvPicPr>
        <p:blipFill>
          <a:blip r:embed="rId1"/>
          <a:stretch/>
        </p:blipFill>
        <p:spPr>
          <a:xfrm>
            <a:off x="1619280" y="5805360"/>
            <a:ext cx="264960" cy="26532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Дейтерий и тритий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94920" y="980640"/>
            <a:ext cx="83026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дород с массовым числом 2 называют тяжелым водородом, дейтерием. Для его обозначения используют символы 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, или D (читается «де»), ядро d — дейтрон. Радиоактивный изотоп с массовым числом 3 называют сверхтяжелым водородом, или тритием, символ 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 или Т (читается «те»), ядро t — трито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хема радиоактивности трити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4" descr="proton"/>
          <p:cNvPicPr/>
          <p:nvPr/>
        </p:nvPicPr>
        <p:blipFill>
          <a:blip r:embed="rId4"/>
          <a:stretch/>
        </p:blipFill>
        <p:spPr>
          <a:xfrm>
            <a:off x="1401840" y="5770440"/>
            <a:ext cx="264960" cy="2653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7" descr="neitron"/>
          <p:cNvPicPr/>
          <p:nvPr/>
        </p:nvPicPr>
        <p:blipFill>
          <a:blip r:embed="rId5"/>
          <a:stretch/>
        </p:blipFill>
        <p:spPr>
          <a:xfrm>
            <a:off x="1619280" y="5805360"/>
            <a:ext cx="264960" cy="2653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8" descr="neitron"/>
          <p:cNvPicPr/>
          <p:nvPr/>
        </p:nvPicPr>
        <p:blipFill>
          <a:blip r:embed="rId6"/>
          <a:stretch/>
        </p:blipFill>
        <p:spPr>
          <a:xfrm>
            <a:off x="1476360" y="5950080"/>
            <a:ext cx="264960" cy="26496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9"/>
          <p:cNvSpPr/>
          <p:nvPr/>
        </p:nvSpPr>
        <p:spPr>
          <a:xfrm>
            <a:off x="1404720" y="64911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Line 10"/>
          <p:cNvSpPr/>
          <p:nvPr/>
        </p:nvSpPr>
        <p:spPr>
          <a:xfrm flipV="1">
            <a:off x="1619280" y="6059520"/>
            <a:ext cx="7128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3" name="Group 29"/>
          <p:cNvGrpSpPr/>
          <p:nvPr/>
        </p:nvGrpSpPr>
        <p:grpSpPr>
          <a:xfrm>
            <a:off x="1763640" y="5877000"/>
            <a:ext cx="179640" cy="92160"/>
            <a:chOff x="1763640" y="5877000"/>
            <a:chExt cx="179640" cy="92160"/>
          </a:xfrm>
        </p:grpSpPr>
        <p:pic>
          <p:nvPicPr>
            <p:cNvPr id="244" name="Picture 28" descr="elektron_sl2"/>
            <p:cNvPicPr/>
            <p:nvPr/>
          </p:nvPicPr>
          <p:blipFill>
            <a:blip r:embed="rId7"/>
            <a:stretch/>
          </p:blipFill>
          <p:spPr>
            <a:xfrm>
              <a:off x="1763640" y="5877000"/>
              <a:ext cx="127080" cy="9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3" descr="elektron"/>
            <p:cNvPicPr/>
            <p:nvPr/>
          </p:nvPicPr>
          <p:blipFill>
            <a:blip r:embed="rId8"/>
            <a:stretch/>
          </p:blipFill>
          <p:spPr>
            <a:xfrm>
              <a:off x="1857240" y="5877000"/>
              <a:ext cx="86040" cy="85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6" name="Oval 14"/>
          <p:cNvSpPr/>
          <p:nvPr/>
        </p:nvSpPr>
        <p:spPr>
          <a:xfrm>
            <a:off x="1908000" y="5950080"/>
            <a:ext cx="17640" cy="17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560" bIns="-34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Line 15"/>
          <p:cNvSpPr/>
          <p:nvPr/>
        </p:nvSpPr>
        <p:spPr>
          <a:xfrm>
            <a:off x="1619280" y="6165720"/>
            <a:ext cx="792000" cy="358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6"/>
          <p:cNvSpPr/>
          <p:nvPr/>
        </p:nvSpPr>
        <p:spPr>
          <a:xfrm>
            <a:off x="2268360" y="649116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Line 17"/>
          <p:cNvSpPr/>
          <p:nvPr/>
        </p:nvSpPr>
        <p:spPr>
          <a:xfrm flipV="1">
            <a:off x="5219640" y="5589360"/>
            <a:ext cx="1440000" cy="215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18"/>
          <p:cNvSpPr/>
          <p:nvPr/>
        </p:nvSpPr>
        <p:spPr>
          <a:xfrm>
            <a:off x="6588000" y="544500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ine 19"/>
          <p:cNvSpPr/>
          <p:nvPr/>
        </p:nvSpPr>
        <p:spPr>
          <a:xfrm flipH="1">
            <a:off x="5724000" y="5950080"/>
            <a:ext cx="1584360" cy="5032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20"/>
          <p:cNvSpPr/>
          <p:nvPr/>
        </p:nvSpPr>
        <p:spPr>
          <a:xfrm>
            <a:off x="5508720" y="623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21"/>
          <p:cNvSpPr/>
          <p:nvPr/>
        </p:nvSpPr>
        <p:spPr>
          <a:xfrm>
            <a:off x="1908000" y="5950080"/>
            <a:ext cx="792360" cy="3585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22"/>
          <p:cNvSpPr/>
          <p:nvPr/>
        </p:nvSpPr>
        <p:spPr>
          <a:xfrm>
            <a:off x="2627280" y="616572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Line 27"/>
          <p:cNvSpPr/>
          <p:nvPr/>
        </p:nvSpPr>
        <p:spPr>
          <a:xfrm>
            <a:off x="5591160" y="6351480"/>
            <a:ext cx="14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0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8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7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9" dur="250" autoRev="1" fill="hold"/>
                                        <p:tgtEl>
                                          <p:spTgt spid="2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1.11022E-016 L 0.60538 -0.00116 E">
                                      <p:cBhvr>
                                        <p:cTn id="189" dur="5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5.18519E-006 L 0.36215 -0.02107 E">
                                      <p:cBhvr>
                                        <p:cTn id="193" dur="7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коны микромир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88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Как известно, нейтрон в свободном состоянии распадается на протон, электрон и антинейтрино. А почему рождается пара лептонов? Разве ту энергию, что несёт антинейтрино, не может унести электрон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88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Все реакции должны проходить по законам сохранения. В эти законы входят: закон сохранения энергии, электрического, лептонного, барионного заряда, и т.д…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9" name="Group 52"/>
          <p:cNvGrpSpPr/>
          <p:nvPr/>
        </p:nvGrpSpPr>
        <p:grpSpPr>
          <a:xfrm>
            <a:off x="2259000" y="5157720"/>
            <a:ext cx="5265720" cy="1611360"/>
            <a:chOff x="2259000" y="5157720"/>
            <a:chExt cx="5265720" cy="1611360"/>
          </a:xfrm>
        </p:grpSpPr>
        <p:sp>
          <p:nvSpPr>
            <p:cNvPr id="260" name="Text Box 48"/>
            <p:cNvSpPr/>
            <p:nvPr/>
          </p:nvSpPr>
          <p:spPr>
            <a:xfrm>
              <a:off x="4572000" y="5805360"/>
              <a:ext cx="29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электрический заряд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61" name="Picture 4" descr="neitron"/>
            <p:cNvPicPr/>
            <p:nvPr/>
          </p:nvPicPr>
          <p:blipFill>
            <a:blip r:embed="rId3"/>
            <a:stretch/>
          </p:blipFill>
          <p:spPr>
            <a:xfrm>
              <a:off x="2341440" y="5300640"/>
              <a:ext cx="265320" cy="26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Line 5"/>
            <p:cNvSpPr/>
            <p:nvPr/>
          </p:nvSpPr>
          <p:spPr>
            <a:xfrm>
              <a:off x="2700360" y="5445000"/>
              <a:ext cx="216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63" name="Picture 6" descr="proton"/>
            <p:cNvPicPr/>
            <p:nvPr/>
          </p:nvPicPr>
          <p:blipFill>
            <a:blip r:embed="rId4"/>
            <a:stretch/>
          </p:blipFill>
          <p:spPr>
            <a:xfrm>
              <a:off x="2989440" y="5300640"/>
              <a:ext cx="264960" cy="26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Text Box 7"/>
            <p:cNvSpPr/>
            <p:nvPr/>
          </p:nvSpPr>
          <p:spPr>
            <a:xfrm>
              <a:off x="3277800" y="522936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65" name="Picture 8" descr="elektron"/>
            <p:cNvPicPr/>
            <p:nvPr/>
          </p:nvPicPr>
          <p:blipFill>
            <a:blip r:embed="rId5"/>
            <a:stretch/>
          </p:blipFill>
          <p:spPr>
            <a:xfrm>
              <a:off x="3565440" y="5373720"/>
              <a:ext cx="85680" cy="8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Text Box 9"/>
            <p:cNvSpPr/>
            <p:nvPr/>
          </p:nvSpPr>
          <p:spPr>
            <a:xfrm>
              <a:off x="3638160" y="522936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Oval 10"/>
            <p:cNvSpPr/>
            <p:nvPr/>
          </p:nvSpPr>
          <p:spPr>
            <a:xfrm>
              <a:off x="3925800" y="5394240"/>
              <a:ext cx="17640" cy="1764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Text Box 11"/>
            <p:cNvSpPr/>
            <p:nvPr/>
          </p:nvSpPr>
          <p:spPr>
            <a:xfrm>
              <a:off x="2268360" y="5589720"/>
              <a:ext cx="187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→   p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  <a:ea typeface="Arial"/>
                </a:rPr>
                <a:t>+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+ e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  <a:ea typeface="Arial"/>
                </a:rPr>
                <a:t>-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+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Text Box 13"/>
            <p:cNvSpPr/>
            <p:nvPr/>
          </p:nvSpPr>
          <p:spPr>
            <a:xfrm>
              <a:off x="3852720" y="5589720"/>
              <a:ext cx="2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Line 14"/>
            <p:cNvSpPr/>
            <p:nvPr/>
          </p:nvSpPr>
          <p:spPr>
            <a:xfrm>
              <a:off x="3935520" y="5703840"/>
              <a:ext cx="144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Text Box 15"/>
            <p:cNvSpPr/>
            <p:nvPr/>
          </p:nvSpPr>
          <p:spPr>
            <a:xfrm>
              <a:off x="2259000" y="5864400"/>
              <a:ext cx="20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0    =   1  +(-1)+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Text Box 16"/>
            <p:cNvSpPr/>
            <p:nvPr/>
          </p:nvSpPr>
          <p:spPr>
            <a:xfrm>
              <a:off x="2259000" y="6153120"/>
              <a:ext cx="237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= 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0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+1/2+(-1/2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Text Box 32"/>
            <p:cNvSpPr/>
            <p:nvPr/>
          </p:nvSpPr>
          <p:spPr>
            <a:xfrm>
              <a:off x="4573440" y="5157720"/>
              <a:ext cx="104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реакц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Text Box 46"/>
            <p:cNvSpPr/>
            <p:nvPr/>
          </p:nvSpPr>
          <p:spPr>
            <a:xfrm>
              <a:off x="4573440" y="5516640"/>
              <a:ext cx="8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запис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Text Box 47"/>
            <p:cNvSpPr/>
            <p:nvPr/>
          </p:nvSpPr>
          <p:spPr>
            <a:xfrm>
              <a:off x="2268360" y="6400800"/>
              <a:ext cx="214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= 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+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0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+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 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Text Box 49"/>
            <p:cNvSpPr/>
            <p:nvPr/>
          </p:nvSpPr>
          <p:spPr>
            <a:xfrm>
              <a:off x="4572000" y="6093000"/>
              <a:ext cx="23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лептонный заряд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Text Box 50"/>
            <p:cNvSpPr/>
            <p:nvPr/>
          </p:nvSpPr>
          <p:spPr>
            <a:xfrm>
              <a:off x="4572000" y="6381720"/>
              <a:ext cx="23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барионный заряд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7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2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Ядерные реакции на Солнц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лнце, как и другие звёзды, светит благодаря термоядерным реакция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Picture 4" descr="proton"/>
          <p:cNvPicPr/>
          <p:nvPr/>
        </p:nvPicPr>
        <p:blipFill>
          <a:blip r:embed="rId2"/>
          <a:stretch/>
        </p:blipFill>
        <p:spPr>
          <a:xfrm>
            <a:off x="539640" y="2421000"/>
            <a:ext cx="265320" cy="2649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6" descr="proton"/>
          <p:cNvPicPr/>
          <p:nvPr/>
        </p:nvPicPr>
        <p:blipFill>
          <a:blip r:embed="rId3"/>
          <a:stretch/>
        </p:blipFill>
        <p:spPr>
          <a:xfrm>
            <a:off x="7596360" y="2421000"/>
            <a:ext cx="264960" cy="26496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7"/>
          <p:cNvSpPr/>
          <p:nvPr/>
        </p:nvSpPr>
        <p:spPr>
          <a:xfrm>
            <a:off x="1189440" y="2492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Line 8"/>
          <p:cNvSpPr/>
          <p:nvPr/>
        </p:nvSpPr>
        <p:spPr>
          <a:xfrm flipH="1">
            <a:off x="755640" y="2637000"/>
            <a:ext cx="503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9"/>
          <p:cNvSpPr/>
          <p:nvPr/>
        </p:nvSpPr>
        <p:spPr>
          <a:xfrm>
            <a:off x="8461800" y="2421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Line 10"/>
          <p:cNvSpPr/>
          <p:nvPr/>
        </p:nvSpPr>
        <p:spPr>
          <a:xfrm flipH="1" flipV="1">
            <a:off x="7885080" y="2565000"/>
            <a:ext cx="574560" cy="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Picture 11" descr="neitron"/>
          <p:cNvPicPr/>
          <p:nvPr/>
        </p:nvPicPr>
        <p:blipFill>
          <a:blip r:embed="rId4"/>
          <a:stretch/>
        </p:blipFill>
        <p:spPr>
          <a:xfrm>
            <a:off x="4284720" y="2492280"/>
            <a:ext cx="264960" cy="26532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12"/>
          <p:cNvSpPr/>
          <p:nvPr/>
        </p:nvSpPr>
        <p:spPr>
          <a:xfrm>
            <a:off x="5510520" y="2852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Line 13"/>
          <p:cNvSpPr/>
          <p:nvPr/>
        </p:nvSpPr>
        <p:spPr>
          <a:xfrm flipH="1">
            <a:off x="5076720" y="2997360"/>
            <a:ext cx="503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Picture 14" descr="proton"/>
          <p:cNvPicPr/>
          <p:nvPr/>
        </p:nvPicPr>
        <p:blipFill>
          <a:blip r:embed="rId5"/>
          <a:stretch/>
        </p:blipFill>
        <p:spPr>
          <a:xfrm>
            <a:off x="539640" y="7029360"/>
            <a:ext cx="265320" cy="26532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15"/>
          <p:cNvSpPr/>
          <p:nvPr/>
        </p:nvSpPr>
        <p:spPr>
          <a:xfrm>
            <a:off x="3858840" y="2852640"/>
            <a:ext cx="5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Line 16"/>
          <p:cNvSpPr/>
          <p:nvPr/>
        </p:nvSpPr>
        <p:spPr>
          <a:xfrm>
            <a:off x="4356000" y="306864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3" name="Group 20"/>
          <p:cNvGrpSpPr/>
          <p:nvPr/>
        </p:nvGrpSpPr>
        <p:grpSpPr>
          <a:xfrm>
            <a:off x="826920" y="7029360"/>
            <a:ext cx="480960" cy="480960"/>
            <a:chOff x="826920" y="7029360"/>
            <a:chExt cx="480960" cy="480960"/>
          </a:xfrm>
        </p:grpSpPr>
        <p:pic>
          <p:nvPicPr>
            <p:cNvPr id="294" name="Picture 18" descr="neitron"/>
            <p:cNvPicPr/>
            <p:nvPr/>
          </p:nvPicPr>
          <p:blipFill>
            <a:blip r:embed="rId6"/>
            <a:stretch/>
          </p:blipFill>
          <p:spPr>
            <a:xfrm>
              <a:off x="826920" y="7173720"/>
              <a:ext cx="265320" cy="2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19" descr="proton"/>
            <p:cNvPicPr/>
            <p:nvPr/>
          </p:nvPicPr>
          <p:blipFill>
            <a:blip r:embed="rId7"/>
            <a:stretch/>
          </p:blipFill>
          <p:spPr>
            <a:xfrm>
              <a:off x="1042920" y="7245000"/>
              <a:ext cx="264960" cy="26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17" descr="proton"/>
            <p:cNvPicPr/>
            <p:nvPr/>
          </p:nvPicPr>
          <p:blipFill>
            <a:blip r:embed="rId8"/>
            <a:stretch/>
          </p:blipFill>
          <p:spPr>
            <a:xfrm>
              <a:off x="971280" y="7029360"/>
              <a:ext cx="265320" cy="26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Text Box 21"/>
          <p:cNvSpPr/>
          <p:nvPr/>
        </p:nvSpPr>
        <p:spPr>
          <a:xfrm>
            <a:off x="829080" y="3500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 Box 22"/>
          <p:cNvSpPr/>
          <p:nvPr/>
        </p:nvSpPr>
        <p:spPr>
          <a:xfrm>
            <a:off x="7742520" y="3429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24"/>
          <p:cNvSpPr/>
          <p:nvPr/>
        </p:nvSpPr>
        <p:spPr>
          <a:xfrm>
            <a:off x="4650840" y="3284640"/>
            <a:ext cx="5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25"/>
          <p:cNvSpPr/>
          <p:nvPr/>
        </p:nvSpPr>
        <p:spPr>
          <a:xfrm>
            <a:off x="250920" y="371628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Протоны с высокой энергией сближаются. Один из них может распасться на протон, позитрон и нейтрино. Тогда образуется ядро дейтер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Oval 29"/>
          <p:cNvSpPr/>
          <p:nvPr/>
        </p:nvSpPr>
        <p:spPr>
          <a:xfrm>
            <a:off x="4427640" y="2781360"/>
            <a:ext cx="17280" cy="17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560" bIns="-34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2" name="Group 33"/>
          <p:cNvGrpSpPr/>
          <p:nvPr/>
        </p:nvGrpSpPr>
        <p:grpSpPr>
          <a:xfrm>
            <a:off x="4356000" y="2421000"/>
            <a:ext cx="182520" cy="92160"/>
            <a:chOff x="4356000" y="2421000"/>
            <a:chExt cx="182520" cy="92160"/>
          </a:xfrm>
        </p:grpSpPr>
        <p:pic>
          <p:nvPicPr>
            <p:cNvPr id="303" name="Picture 27" descr="elektron_sl2"/>
            <p:cNvPicPr/>
            <p:nvPr/>
          </p:nvPicPr>
          <p:blipFill>
            <a:blip r:embed="rId9"/>
            <a:stretch/>
          </p:blipFill>
          <p:spPr>
            <a:xfrm>
              <a:off x="4356000" y="2421000"/>
              <a:ext cx="127080" cy="9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32" descr="pozitron"/>
            <p:cNvPicPr/>
            <p:nvPr/>
          </p:nvPicPr>
          <p:blipFill>
            <a:blip r:embed="rId10"/>
            <a:stretch/>
          </p:blipFill>
          <p:spPr>
            <a:xfrm>
              <a:off x="4452840" y="2421000"/>
              <a:ext cx="85680" cy="85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5" name="Text Box 34"/>
          <p:cNvSpPr/>
          <p:nvPr/>
        </p:nvSpPr>
        <p:spPr>
          <a:xfrm>
            <a:off x="8251560" y="184464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Line 35"/>
          <p:cNvSpPr/>
          <p:nvPr/>
        </p:nvSpPr>
        <p:spPr>
          <a:xfrm flipH="1">
            <a:off x="7524720" y="2060640"/>
            <a:ext cx="719280" cy="28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37"/>
          <p:cNvSpPr/>
          <p:nvPr/>
        </p:nvSpPr>
        <p:spPr>
          <a:xfrm>
            <a:off x="8534160" y="3213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Line 38"/>
          <p:cNvSpPr/>
          <p:nvPr/>
        </p:nvSpPr>
        <p:spPr>
          <a:xfrm flipH="1" flipV="1">
            <a:off x="8388360" y="3068640"/>
            <a:ext cx="28728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42"/>
          <p:cNvSpPr/>
          <p:nvPr/>
        </p:nvSpPr>
        <p:spPr>
          <a:xfrm>
            <a:off x="250920" y="436572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Ядро дейтерия присоединяет к себе протон, испускает мощный гамма-квант и становится ядром лёгкого гел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0" name="Picture 44" descr="foton"/>
          <p:cNvPicPr/>
          <p:nvPr/>
        </p:nvPicPr>
        <p:blipFill>
          <a:blip r:embed="rId11"/>
          <a:stretch/>
        </p:blipFill>
        <p:spPr>
          <a:xfrm>
            <a:off x="5003640" y="3068640"/>
            <a:ext cx="171720" cy="5868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45"/>
          <p:cNvSpPr/>
          <p:nvPr/>
        </p:nvSpPr>
        <p:spPr>
          <a:xfrm>
            <a:off x="8847000" y="3573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Line 46"/>
          <p:cNvSpPr/>
          <p:nvPr/>
        </p:nvSpPr>
        <p:spPr>
          <a:xfrm flipH="1" flipV="1">
            <a:off x="8388360" y="3644640"/>
            <a:ext cx="50472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47"/>
          <p:cNvSpPr/>
          <p:nvPr/>
        </p:nvSpPr>
        <p:spPr>
          <a:xfrm>
            <a:off x="324000" y="508464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Когда такие ядра сближаются, они могут объединиться в ядро обычного гелия, «отпустив на свободу» два прото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48"/>
          <p:cNvSpPr/>
          <p:nvPr/>
        </p:nvSpPr>
        <p:spPr>
          <a:xfrm>
            <a:off x="324000" y="5734080"/>
            <a:ext cx="87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так, в итоге последовательных превращений образуется ядро обычного гелия. Так как масса ядра гелия меньше суммы масс четырёх ядер водорода, то остаток массы переходит в энерги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9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8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9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1.11111E-006 -1.85185E-006 L -0.33872 0.01042 E">
                                      <p:cBhvr>
                                        <p:cTn id="296" dur="7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7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2.5E-006 -2.22222E-006 L 0.41076 0.01227 E">
                                      <p:cBhvr>
                                        <p:cTn id="298" dur="700" fill="hold"/>
                                        <p:tgtEl>
                                          <p:spTgt spid="2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30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2" dur="250" autoRev="1" fill="hold"/>
                                        <p:tgtEl>
                                          <p:spTgt spid="2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30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1.11111E-006 L 0.42674 0.03333 E">
                                      <p:cBhvr>
                                        <p:cTn id="313" dur="500" fill="hold"/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7.40741E-007 L 0.32725 -0.00857 E">
                                      <p:cBhvr>
                                        <p:cTn id="315" dur="7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27778E-006 -1.85185E-006 L 0.0394 0.05255 E">
                                      <p:cBhvr>
                                        <p:cTn id="317" dur="1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872 0.01042 L -0.29931 0.06297 E">
                                      <p:cBhvr>
                                        <p:cTn id="319" dur="1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3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8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3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35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36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36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0.01065 L 0.45937 -0.58611 E">
                                      <p:cBhvr>
                                        <p:cTn id="374" dur="1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42 -0.01644 L 0.35798 0.07384 E">
                                      <p:cBhvr>
                                        <p:cTn id="379" dur="300" fill="hold"/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3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8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3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4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40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41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7037E-006 L 0.37552 -0.6125 E">
                                      <p:cBhvr>
                                        <p:cTn id="419" dur="10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4896 -0.60902 L 0.7967 -0.55463 E">
                                      <p:cBhvr>
                                        <p:cTn id="422" dur="7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2274 0.06297 L -0.73889 0.12778 E">
                                      <p:cBhvr>
                                        <p:cTn id="424" dur="7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9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0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4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5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45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45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ccecff"/>
                </a:solidFill>
                <a:latin typeface="Arial"/>
                <a:ea typeface="Arial"/>
              </a:rPr>
              <a:t>π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  <a:ea typeface="Arial"/>
              </a:rPr>
              <a:t>-мезон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24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88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В ядре протоны и нейтроны обмениваются </a:t>
            </a:r>
            <a:r>
              <a:rPr b="0" lang="el-GR" sz="3100" spc="-1" strike="noStrike">
                <a:solidFill>
                  <a:srgbClr val="ffffff"/>
                </a:solidFill>
                <a:latin typeface="Arial"/>
                <a:ea typeface="Arial"/>
              </a:rPr>
              <a:t>π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  <a:ea typeface="Arial"/>
              </a:rPr>
              <a:t>-мезонами, сильновзаимодействующими частицами в примерно 270 раз тяжелее электрона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88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  <a:ea typeface="Arial"/>
              </a:rPr>
              <a:t>В заряженном состоянии распадается на мюон и антинейтрино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8" name="Picture 4" descr="Mezon-"/>
          <p:cNvPicPr/>
          <p:nvPr/>
        </p:nvPicPr>
        <p:blipFill>
          <a:blip r:embed="rId3"/>
          <a:stretch/>
        </p:blipFill>
        <p:spPr>
          <a:xfrm>
            <a:off x="428760" y="3548160"/>
            <a:ext cx="264960" cy="26496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5"/>
          <p:cNvSpPr/>
          <p:nvPr/>
        </p:nvSpPr>
        <p:spPr>
          <a:xfrm>
            <a:off x="1116000" y="3500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π </a:t>
            </a:r>
            <a:r>
              <a:rPr b="0" lang="ru-RU" sz="1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Line 7"/>
          <p:cNvSpPr/>
          <p:nvPr/>
        </p:nvSpPr>
        <p:spPr>
          <a:xfrm flipH="1">
            <a:off x="611280" y="3716280"/>
            <a:ext cx="504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Oval 9"/>
          <p:cNvSpPr/>
          <p:nvPr/>
        </p:nvSpPr>
        <p:spPr>
          <a:xfrm>
            <a:off x="684360" y="3789360"/>
            <a:ext cx="17280" cy="1764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2" name="Group 14"/>
          <p:cNvGrpSpPr/>
          <p:nvPr/>
        </p:nvGrpSpPr>
        <p:grpSpPr>
          <a:xfrm>
            <a:off x="395280" y="3573360"/>
            <a:ext cx="283680" cy="216000"/>
            <a:chOff x="395280" y="3573360"/>
            <a:chExt cx="283680" cy="216000"/>
          </a:xfrm>
        </p:grpSpPr>
        <p:pic>
          <p:nvPicPr>
            <p:cNvPr id="323" name="Picture 13" descr="elektron_sl"/>
            <p:cNvPicPr/>
            <p:nvPr/>
          </p:nvPicPr>
          <p:blipFill>
            <a:blip r:embed="rId4"/>
            <a:stretch/>
          </p:blipFill>
          <p:spPr>
            <a:xfrm>
              <a:off x="395280" y="3573360"/>
              <a:ext cx="14904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Picture 12" descr="Muon-"/>
            <p:cNvPicPr/>
            <p:nvPr/>
          </p:nvPicPr>
          <p:blipFill>
            <a:blip r:embed="rId5"/>
            <a:stretch/>
          </p:blipFill>
          <p:spPr>
            <a:xfrm>
              <a:off x="474480" y="3573360"/>
              <a:ext cx="204480" cy="204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5" name="Line 15"/>
          <p:cNvSpPr/>
          <p:nvPr/>
        </p:nvSpPr>
        <p:spPr>
          <a:xfrm flipV="1">
            <a:off x="7380360" y="3500280"/>
            <a:ext cx="720720" cy="6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16"/>
          <p:cNvSpPr/>
          <p:nvPr/>
        </p:nvSpPr>
        <p:spPr>
          <a:xfrm>
            <a:off x="6372360" y="3141720"/>
            <a:ext cx="27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юонное антинейтри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Line 17"/>
          <p:cNvSpPr/>
          <p:nvPr/>
        </p:nvSpPr>
        <p:spPr>
          <a:xfrm flipH="1">
            <a:off x="5076720" y="3645000"/>
            <a:ext cx="935280" cy="144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18"/>
          <p:cNvSpPr/>
          <p:nvPr/>
        </p:nvSpPr>
        <p:spPr>
          <a:xfrm>
            <a:off x="4788000" y="3716280"/>
            <a:ext cx="6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0" lang="ru-RU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20"/>
          <p:cNvSpPr/>
          <p:nvPr/>
        </p:nvSpPr>
        <p:spPr>
          <a:xfrm>
            <a:off x="611280" y="4221000"/>
            <a:ext cx="82296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88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  <a:ea typeface="Arial"/>
              </a:rPr>
              <a:t>В нейтральном состоянии он почти мгновенно распадается на два </a:t>
            </a:r>
            <a:r>
              <a:rPr b="0" lang="el-GR" sz="3100" spc="-1" strike="noStrike">
                <a:solidFill>
                  <a:srgbClr val="ffffff"/>
                </a:solidFill>
                <a:latin typeface="Arial"/>
                <a:ea typeface="Arial"/>
              </a:rPr>
              <a:t>γ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  <a:ea typeface="Arial"/>
              </a:rPr>
              <a:t>-фотона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Picture 21" descr="Mezon0"/>
          <p:cNvPicPr/>
          <p:nvPr/>
        </p:nvPicPr>
        <p:blipFill>
          <a:blip r:embed="rId7"/>
          <a:stretch/>
        </p:blipFill>
        <p:spPr>
          <a:xfrm>
            <a:off x="4211640" y="5229360"/>
            <a:ext cx="264960" cy="26496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22"/>
          <p:cNvSpPr/>
          <p:nvPr/>
        </p:nvSpPr>
        <p:spPr>
          <a:xfrm>
            <a:off x="4859280" y="5157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π </a:t>
            </a:r>
            <a:r>
              <a:rPr b="0" lang="ru-RU" sz="1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Line 23"/>
          <p:cNvSpPr/>
          <p:nvPr/>
        </p:nvSpPr>
        <p:spPr>
          <a:xfrm flipH="1">
            <a:off x="4354560" y="5373720"/>
            <a:ext cx="504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3" name="Picture 24" descr="foton"/>
          <p:cNvPicPr/>
          <p:nvPr/>
        </p:nvPicPr>
        <p:blipFill>
          <a:blip r:embed="rId8"/>
          <a:stretch/>
        </p:blipFill>
        <p:spPr>
          <a:xfrm>
            <a:off x="4282920" y="5229360"/>
            <a:ext cx="171720" cy="586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25" descr="foton"/>
          <p:cNvPicPr/>
          <p:nvPr/>
        </p:nvPicPr>
        <p:blipFill>
          <a:blip r:embed="rId9"/>
          <a:stretch/>
        </p:blipFill>
        <p:spPr>
          <a:xfrm rot="10800000">
            <a:off x="4284720" y="5373360"/>
            <a:ext cx="171360" cy="5868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26"/>
          <p:cNvSpPr/>
          <p:nvPr/>
        </p:nvSpPr>
        <p:spPr>
          <a:xfrm>
            <a:off x="1403280" y="5229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Line 27"/>
          <p:cNvSpPr/>
          <p:nvPr/>
        </p:nvSpPr>
        <p:spPr>
          <a:xfrm flipH="1">
            <a:off x="898560" y="5445000"/>
            <a:ext cx="504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Text Box 28"/>
          <p:cNvSpPr/>
          <p:nvPr/>
        </p:nvSpPr>
        <p:spPr>
          <a:xfrm>
            <a:off x="7524720" y="5084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Line 29"/>
          <p:cNvSpPr/>
          <p:nvPr/>
        </p:nvSpPr>
        <p:spPr>
          <a:xfrm flipV="1">
            <a:off x="7812000" y="5229360"/>
            <a:ext cx="863640" cy="7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0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3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8" dur="5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9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0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1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49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1" dur="3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3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path" presetID="63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8.33333E-007 -2.27388E-006 L 0.58299 -0.00509 E">
                                      <p:cBhvr>
                                        <p:cTn id="509" dur="10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0" nodeType="withEffect" fill="hold" presetClass="path" presetID="63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4.44444E-006 5.45917E-007 L 0.72362 0.06176 E">
                                      <p:cBhvr>
                                        <p:cTn id="511" dur="5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6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7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8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3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4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5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2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3" dur="8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4" dur="8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5" dur="8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54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5" dur="3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path" presetID="63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2.22222E-006 -4.62873E-006 L 0.47899 -0.00416 E">
                                      <p:cBhvr>
                                        <p:cTn id="562" dur="3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3" nodeType="withEffect" fill="hold" presetClass="path" presetID="35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1.38889E-006 -4.26324E-006 L -0.40312 0.00625 E">
                                      <p:cBhvr>
                                        <p:cTn id="564" dur="300" fill="hold"/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1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2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3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9" dur="8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0" dur="8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1" dur="8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6" descr="Muon-"/>
          <p:cNvPicPr/>
          <p:nvPr/>
        </p:nvPicPr>
        <p:blipFill>
          <a:blip r:embed="rId1"/>
          <a:stretch/>
        </p:blipFill>
        <p:spPr>
          <a:xfrm>
            <a:off x="4284720" y="3355920"/>
            <a:ext cx="216000" cy="21600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Мюон и тяжёлый лептон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юон очень похож на электрон, но в двести с лишним раз тяжелее. Кроме того, мюон радиоактивен, он распадается на электрон и антинейтрино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Oval 8"/>
          <p:cNvSpPr/>
          <p:nvPr/>
        </p:nvSpPr>
        <p:spPr>
          <a:xfrm>
            <a:off x="4356000" y="3500280"/>
            <a:ext cx="17640" cy="1764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Line 9"/>
          <p:cNvSpPr/>
          <p:nvPr/>
        </p:nvSpPr>
        <p:spPr>
          <a:xfrm flipH="1" flipV="1">
            <a:off x="3708000" y="3357720"/>
            <a:ext cx="576360" cy="712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 Box 10"/>
          <p:cNvSpPr/>
          <p:nvPr/>
        </p:nvSpPr>
        <p:spPr>
          <a:xfrm>
            <a:off x="3419640" y="3141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0" lang="ru-RU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6" name="Group 11"/>
          <p:cNvGrpSpPr/>
          <p:nvPr/>
        </p:nvGrpSpPr>
        <p:grpSpPr>
          <a:xfrm>
            <a:off x="4284720" y="3357720"/>
            <a:ext cx="178920" cy="91800"/>
            <a:chOff x="4284720" y="3357720"/>
            <a:chExt cx="178920" cy="91800"/>
          </a:xfrm>
        </p:grpSpPr>
        <p:pic>
          <p:nvPicPr>
            <p:cNvPr id="347" name="Picture 12" descr="elektron_sl2"/>
            <p:cNvPicPr/>
            <p:nvPr/>
          </p:nvPicPr>
          <p:blipFill>
            <a:blip r:embed="rId3"/>
            <a:stretch/>
          </p:blipFill>
          <p:spPr>
            <a:xfrm>
              <a:off x="4284720" y="3357720"/>
              <a:ext cx="126720" cy="9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Picture 13" descr="elektron"/>
            <p:cNvPicPr/>
            <p:nvPr/>
          </p:nvPicPr>
          <p:blipFill>
            <a:blip r:embed="rId4"/>
            <a:stretch/>
          </p:blipFill>
          <p:spPr>
            <a:xfrm>
              <a:off x="4377960" y="3357720"/>
              <a:ext cx="85680" cy="8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9" name="Line 14"/>
          <p:cNvSpPr/>
          <p:nvPr/>
        </p:nvSpPr>
        <p:spPr>
          <a:xfrm>
            <a:off x="539640" y="3573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Text Box 15"/>
          <p:cNvSpPr/>
          <p:nvPr/>
        </p:nvSpPr>
        <p:spPr>
          <a:xfrm>
            <a:off x="395280" y="386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Line 16"/>
          <p:cNvSpPr/>
          <p:nvPr/>
        </p:nvSpPr>
        <p:spPr>
          <a:xfrm>
            <a:off x="468360" y="3933720"/>
            <a:ext cx="14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Line 17"/>
          <p:cNvSpPr/>
          <p:nvPr/>
        </p:nvSpPr>
        <p:spPr>
          <a:xfrm flipH="1">
            <a:off x="8388360" y="3573360"/>
            <a:ext cx="71280" cy="2872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 Box 18"/>
          <p:cNvSpPr/>
          <p:nvPr/>
        </p:nvSpPr>
        <p:spPr>
          <a:xfrm>
            <a:off x="8244000" y="3860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Rectangle 19"/>
          <p:cNvSpPr/>
          <p:nvPr/>
        </p:nvSpPr>
        <p:spPr>
          <a:xfrm>
            <a:off x="611280" y="3860640"/>
            <a:ext cx="8229600" cy="28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ак же ведёт себя и тяжёлый лепто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Лепто» - с греческого «лёгкий». Но после открытия мюона и тяжёлого лептона, название «лептон» и «адрон» стали чисто условными, фактически синонимами «слабо»- и «сильновзаимодействующий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nodeType="clickEffect" fill="hold">
                      <p:stCondLst>
                        <p:cond delay="0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3" dur="5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0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1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2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60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3" dur="3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path" presetID="63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1.38889E-006 3.7037E-006 L 0.45486 0.0037 E">
                                      <p:cBhvr>
                                        <p:cTn id="620" dur="7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1" nodeType="withEffect" fill="hold" presetClass="path" presetID="35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3.05556E-006 -4.07407E-006 L -0.41823 -0.00115 E">
                                      <p:cBhvr>
                                        <p:cTn id="622" dur="5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7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8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9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6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7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8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5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0" dur="5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0:31:24Z</dcterms:created>
  <dc:creator>Максим</dc:creator>
  <dc:description/>
  <dc:language>en-US</dc:language>
  <cp:lastModifiedBy>LEGION</cp:lastModifiedBy>
  <dcterms:modified xsi:type="dcterms:W3CDTF">2015-03-30T08:27:12Z</dcterms:modified>
  <cp:revision>167</cp:revision>
  <dc:subject>Квантовая физика, радиоактивность и термоядерные реакции</dc:subject>
  <dc:title>Квантовая физи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e07000000000001023620</vt:lpwstr>
  </property>
  <property fmtid="{D5CDD505-2E9C-101B-9397-08002B2CF9AE}" pid="3" name="Version">
    <vt:r8>9</vt:r8>
  </property>
</Properties>
</file>