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C12F-2D79-42C9-9757-0965E675630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6B17-AFF4-43BA-A820-6DE60B41C5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став Счетной пала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седатель Счетной па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назначается на должность Государственной Думой по представлению Президента РФ сроком на шесть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меститель Председател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четной палаты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. назначается Советом Федерации по представлению Президента РФ сроком на шесть лет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удиторы Счетной па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2 человек, кот. назначаются Советом Федерации и Государственной Думой по шесть аудиторов сроком на шесть л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ппарат Счетной пала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т. состоит из инспекторов и иных штатных сотрудник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4F3A-FBAD-4C02-B3CA-B9971275F1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Счетной палатой РФ 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ная палата осущест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о-ревизион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но-аналитическую, информационную и иные виды деятель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единую систему контроля за исполнением федерального бюджета и бюджетов федеральных внебюджетных фондов,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.е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E8B5-1060-476A-A8F1-036EA227C7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ывает и проводи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еративный контроль за исполнением федерального бюдж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тчетном год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од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ы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визий и тематические провер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дельным разделам и статьям федерального бюджета, бюджетов федеральных внебюджетных фон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ударстве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енним и внешни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л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6FD1-0DB2-46C3-8038-A14C1E2C67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федеральными внебюджетными фондами, за банковской систем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экспертизу: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к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иных нормативных правовых акт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ждународных договоров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едеральных програм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иных документов, затрагивающих вопросы финансо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анализ и исследование нарушений и отклонений в бюджетном проце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9908-BBD7-47F1-9A30-38EA60D291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Министерством финансов Р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МинФина регулиру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ановлением от 30 июня 2004 г. №329 «О министерстве финансо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ановлением от 7 апреля 2004 г. №185 «Вопросы Министерства Финансо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2E58-F509-4A51-BE73-8CD65D065A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инистерство финансов Российской Федерации (Минфин России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едеральный орган исполнительной власти, осуществляющий функции по выработке государственной политики и нормативно-правовому регулированию в сфере бюджетной, налоговой, страховой, валютной, банковской деятельности, государственного долга, аудиторской деятельности, бухгалтерского учета и бухгалтерской отчетности, производства, переработки и обращения драгоценных металлов и драгоценных камн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E337-0E31-45A7-B76C-30E383DD52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Фин России возглавляет Министр, назначаемый и освобождаемый от должности Президент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р имеет заместителей назначаемых на должность и освобождаемых от должности Прави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заместителей Министра устанавливается Правительством РФ (д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CDD5-BB05-4056-9879-F0982AA31C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адачи Минфина в фин.контрол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о финансов РФ осуществляет внутренний контроль з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ием бюджетных средст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лавными распорядителями, распорядителями и получателями бюджет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о финансов РФ организует финансовый контроль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рки и ревиз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юридических лиц - получателей гарантий Правительства РФ, бюджетных кредитов, бюджетных ссуд и бюджетных инвестиций, а также осущест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F809-4FE2-4800-8708-76F7C03D60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Министерством финансов РФ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ю и контроль деятельности находящихся в его ведении  служб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й налоговой службы, Федеральной службы страхового надзора, Федеральной службы финансово-бюджетного надзора, Федеральной службы по финансовому мониторингу и Федерального казначейства, а также Федеральной таможенной службы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ответствии с ФЗ "О драгоценных металлах и драгоценных камнях" организует государственный контроль за качеством сортировки и оценки драгоценных камней и федерального пробирного надзо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61FD-05B2-485B-BCEE-9B47532EA4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Федеральным казначейство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федерального Казначейства регулирует: Постановление Правительства РФ от 1 декабря 2004 г. № 703 «О федеральном казначейств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казначейство возглавляет руководитель, назначаемый и освобождаемый от должности Прави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00B6-E44C-4C8B-95C3-345F0DC1A1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финансовый контрол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и целенаправленная система экономико – правовых действий конкретных органов власти и управления, базирующихся на положениях основных законов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87A6-7E6F-4A3B-B3C2-31FA4B1244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едеральное казначейств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предварительный и текущий контроль з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едением операций с бюджетными сред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ятельностью кредитных организаций и других участников бюджетного процесса по исполняемым бюджетам и бюджетам государственных внебюджетных фон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существления указанного контроля и координирует  работу федеральных органов исполнительной вл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8F8F-8533-4A9C-9272-57CB626D5A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инансов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времени прове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вар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текущий контро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следующи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форме  (регламенту) прове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й (внеш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ный (внутренн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2C21-E2C8-4E69-A3BB-1144495589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лассификация финансовог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троля (продолжени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убъектам контрол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ски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представительных органов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сполнительных органов власти (Министерство Финансов РФ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финансово – кредитных органов (Федеральная служба по налогам и сборам, Центральный бан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фирменны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ор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0B61-2E12-4BB4-8C36-0AB6847F6C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инансов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я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фере финансовой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н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ой конт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644B-11AF-4E0E-BB60-B653F37A24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нципы организации финансового контрол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независимость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объективность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компетентность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гласность.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91AE-2657-4198-ABA0-A738E6F22B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нципы организации финансового контроля (продолжение)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з базовых принципов вытекают другие, носящие прикладной характер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ность требов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дкупность субъектов контроля, презумпция  невиновности (до суда) в финансовых преступлениях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0C22-86EC-443E-946D-8C6B4D3B7D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финансовый контро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со стороны государства за формированием и использованием дене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B5AC-7610-4152-8417-4DC8F1110C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финансов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неж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редел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рмировании и использовании финансовых ресурсов на всех уровнях бюдже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D270-457B-4BA5-AB66-392A0EBDC2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рганы государственного или муниципального финансового контрол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четная пала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нтрольные и финансовые органы исполнительной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нтрольные органы законодательных (представительных)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695B-68C0-457C-9DE2-675D207F24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рольное управление президента РФ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структурное подразделение Администрации Презид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регулируется  Указом президента РФ от 8.06.2004г. №729 «Об утверждении положения о контрольном управлении Президента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0126-BEAA-4015-AB6C-B70E86E96E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Контрольное управление президента РФ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одчиняется непосредственно президенту РФ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но взаимодействует со всеми органами исполнительной вла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ик Контрольного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вляется помощником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начается и освобождается от должности Президентом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2F96-6641-44F8-9CD7-7A5D86A7CC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чи Контрольного управ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 проверка исполнения государственными органами исполнительной власти, а также организациями федеральных законов, указов, распоряжений и иных решений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еализацией общенациональных про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 проверка исполнения поручений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еализацией ежегодных посланий Президента РФ Федеральному Собранию РФ, бюджетных посланий и иных программных документов Президен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8D40-3662-41B8-9306-4FF3362B97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Счетной палатой РФ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четной палаты регулируется ФЗ  №4-ФЗ «О счетной палате РФ», в котором определено, ч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ная палата образована Федеральным Собранием РФ и подотчетна 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A4EF-E4C1-440B-9356-1E28187211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1AEA-23B3-49C3-91A1-2B00A924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E3045-5572-4045-BC86-9AEF5D32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27F7C-8593-41D1-9FB7-AC369649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2AD2-231E-45FD-81A5-71DE7013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4EB3-FA8F-49A4-9C9F-6BEAD266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9C0E-62E5-47DA-831C-4B00394A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BC67-91C6-4BCB-8543-B29E95FA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70D4-1A22-4D59-BB5C-501EA5BF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93B8-59CB-4445-8156-00DFFD63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3063-A11C-4271-B630-6FFDDA27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E284-A637-47FE-BAC7-EF0F1911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12135-42C9-48CF-826E-3B8819D9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6983-B6FA-420A-9C32-CBCBD447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DEB5-7727-4E92-A3FA-B3F4C6D5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D67D-A4D9-408D-B373-DEC88AFC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13ED-9BCB-4CC5-9827-4F43965A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C036-EB0F-4F2E-A990-700D6A51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B1B43-B58C-4FBF-B062-69497118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84097-3AD1-4DEF-A0FB-20EF5091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805C-B6B4-4B9C-AE90-E1C2CA98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A69F4-D745-4EDE-A279-E88D8A80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38226-33E6-4303-A6E5-7903D4C3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460EE-D955-46A9-899A-9A914569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99CCE-8EE2-4FFD-B03A-B486AB51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7E14E-FCDC-4C76-959D-6691899E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AE9DF-56C5-4CCA-8B7A-80A8BEFD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4B4EA-E850-433D-B60C-A9C1CE9B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133A8-AA7E-4FCF-8AD4-67B99594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CE2F7-0ABA-49E3-BE53-FD13BA5F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DCEB7-B9CF-4EA5-849E-C827192E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18A7E-D54A-4947-8289-4F82124C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41613-9185-4053-A017-6E85DC8A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F4E31-6480-4B61-BF21-41EF473F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B7458-CB59-46C2-AC18-9B544744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6A268-DAAA-4556-BBAB-AE5185D7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0EC27-4E7E-4A1F-A666-65180E1B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C7537-AA32-4439-A168-5443D220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82678-2CF0-42D0-B96A-C013BE4A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DF354-D1EF-433A-9569-C73F67F4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25865-55F2-4755-8D29-2BDF2BB7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3DBE3-DEA4-4E9D-BAC9-031D1362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FEC18-EE03-4E8C-8CEA-E5846F8E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66985-261F-47C2-876D-8AC80C1F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01C5A-15E6-4662-8091-B779F987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165C5-B2C0-46BF-84BA-6D833523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93549-E540-4E04-8939-45AC452E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F6A71-9BE7-4B94-BB8A-0C2C7E9C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50FB9-E1BE-4FE3-BA02-6DEAE03D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9E7AA-2A78-4639-9494-47E95234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85FDC-A46A-465E-8403-6B11B855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E2DA1-7B91-4461-8B62-E748368F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9DDB8-A198-4B0A-BFB1-21EE02C4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C1AB2-3EF0-4823-B3DE-CDB54279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06973-2DB1-4A5A-844F-0E52E678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5D20B-C96C-4F17-B355-C651B141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245D7-C47E-400D-B4B9-C89E72A3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9D419-7889-4988-9F70-27C69868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0570B-2490-4255-8EC0-09FF14E0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A35F3-41CB-46DB-BA94-CA00C2AB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61E80-CB63-4701-88C6-08FA542D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32724-1D42-48E2-93C4-D03AC92E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6A21D-6980-4009-97E6-F8960BE1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C7429-6794-466D-B5CC-2E1C1B90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F129E-9519-475A-A587-760BDDBF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DC647-A896-4271-8B8B-0FB9ACC7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C5E82-A11D-42C3-B58F-416E20B3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3F6D3-BA3A-4E29-81E1-92F61D8A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1C93C-1C8C-4F33-BEFE-9D3C6DF5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F1FBB-D236-4D4C-85D2-689D1AEF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CB9B1-4F8A-4135-981C-A9C9BE5E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B298C-120D-4A9B-8A66-E9C13222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72873-7C26-408B-833A-2EDC0885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D584-462A-44FE-95C6-33B5E37587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Группа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Прямоуг.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рямоуг.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Прямоуг.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Прямоуг.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Прямоуг.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Прямоуг.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Прямоуг.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Прямоуг.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Прямоуг.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E747-396E-45DC-B668-B31AF98C10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Группа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57" name="Линия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рямоуг.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Прямоуг.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оуг.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оуг.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Группа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9" name="Прямоуг.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Группа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1" name="Прямоуг.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Линия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7C93-54FF-4406-A384-A4AD83099D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Линия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6" name="Прямоуг.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рямоуг.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Группа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49" name="Прямоуг.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Прямоуг.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Прямоуг.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Прямоуг.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Прямоуг.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Прямоуг.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Прямоуг.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Прямоуг.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Прямоуг.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Прямоуг.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C966-B631-4980-AEA4-E2B1B79529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.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Группа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02" name="Прямоуг.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оуг.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оуг.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рямоуг.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Линия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оуг.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E60D-3C13-44C4-BE80-E5E90B7E23A4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Группа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0" name="Прямоуг.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Группа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52" name="Прямоуг.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Прямоуг.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Линия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Группа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56" name="Прямоуг.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Линия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07E7-F8D5-45A8-8CBC-CC2DA7966C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Финансовый контрол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 Счетной па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дседатель Счетной пала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назначается на должность Государственной Думой по представлению Президента РФ сроком на шесть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меститель Председ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четной палаты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. назначается Советом Федерации по представлению Президента РФ сроком на шесть лет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удиторы Счетной пала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человек, кот. назначаются Советом Федерации и Государственной Думой по шесть аудиторов сроком на шесть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ппарат Счетной палат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. состоит из инспекторов и иных штатных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инансовый контроль, осуществляемый Счетной палатой РФ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07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четная палата осуществляе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нтрольно-ревизионную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экспертно-аналитическую, информационную и иные виды деятельности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еспечивает единую систему контроля за исполнением федерального бюджета и бюджетов федеральных внебюджетных фондов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рганизовывает и проводит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оперативный контроль за исполнением федерального бюджет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в отчетном году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роводит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мплексные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ревизий и тематические проверки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по отдельным разделам и статьям федерального бюджета, бюджетов федеральных внебюджетных фондов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уществляет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контроль з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г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осударственны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внутренним и внешним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долго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Р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нтроль за федеральными внебюджетными фондами, за банковской системо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уществляет экспертизу: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законо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и иных нормативных правовых актов,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ых договоров РФ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федеральных програм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и иных документов, затрагивающих вопросы финансов РФ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оводит анализ и исследование нарушений и отклонений в бюджетном процесс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820872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Министерством финансов РФ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ятельность МинФина регулируется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Постановлением от 30 июня 2004 г. №329 «О министерстве финансов РФ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Постановлением от 7 апреля 2004 г. №185 «Вопросы Министерства Финансов РФ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инфин Росс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федеральный орган исполнительной власти, осуществляющий функции по выработке государственной политики и нормативно-правовому регулированию в сфере бюджетной, налоговой, страховой, валютной, банковской деятельности, государственного долга, аудиторской деятельности, бухгалтерского учета и бухгалтерской отчетности, производства, переработки и обращения драгоценных металлов и драгоценных камней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Фин России возглавляет Министр, назначаемый и освобождаемый от должности Президентом Р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р имеет заместителей назначаемых на должность и освобождаемых от должности Правительством Р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заместителей Министра устанавливается Правительством РФ (д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Минфина в фин.контр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ерство финансов РФ осуществляет внутренний контроль з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спользованием бюджетных сред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вными распорядителями, распорядителями и получателями бюджетных сред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ерство финансов РФ организует финансовый контроль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ки и ревиз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юридических лиц - получателей гарантий Правительства РФ, бюджетных кредитов, бюджетных ссуд и бюджетных инвестиций, а также осуществля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овый контроль, осуществляемый Министерством финансов РФ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ординацию и контроль деятельности находящихся в его ведении  служ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ой налоговой службы, Федеральной службы страхового надзора, Федеральной службы финансово-бюджетного надзора, Федеральной службы по финансовому мониторингу и Федерального казначейства, а также Федеральной таможенной службы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ФЗ "О драгоценных металлах и драгоценных камнях" организует государственный контроль за качеством сортировки и оценки драгоценных камней и федерального пробирного надз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Федеральным казначейством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ятельность федерального Казначейства регулирует: Постановление Правительства РФ от 1 декабря 2004 г. № 703 «О федеральном казначействе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Федеральное казначейство возглавляет руководитель, назначаемый и освобождаемый от должности Правительством РФ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сударственный финансовый контроль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мплексная и целенаправленная система экономико – правовых действий конкретных органов власти и управления, базирующихся на положениях основных законов государ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деральное казначей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507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 предварительный и текущий контроль з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дением операций с бюджетными средств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еятельностью кредитных организаций и других участников бюджетного процесса по исполняемым бюджетам и бюджетам государственных внебюджетных фон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существления указанного контроля и координирует  работу федеральных органов исполнительной вл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контрол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времени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1) предварительны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2) текущий контроль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3) последующий контрол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форме  (регламенту)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язательный (внешний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нициативный (внутренний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280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субъектам контрол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идентски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представительных органов вл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сполнительных органов власти (Министерство Финансов РФ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финансово – кредитных органов (Федеральная служба по налогам и сборам, Центральный банк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омственны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фирменны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удитор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360" y="274680"/>
            <a:ext cx="82087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сфере финансовой деятельности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бюджетн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логов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алютн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редитны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траховой контрол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5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методам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оверк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следование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дзор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анализ финансовой деятельнос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блюдение (мониторинг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евиз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нципы организации финансового контрол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езависимость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ъективность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мпетентность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гласность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208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ринципы организации финансового контроля (продолжение) 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813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базовых принципов вытекают другие, носящие прикладной характ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зультативнос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тк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огичность требован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одкупность субъектов контроля, презумпция  невиновности (до суда) в финансовых преступлениях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6840" y="62064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сударственный финансовый контрол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нтроль со стороны государства за формированием и использованием денежных средст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ъект финансового контро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нежны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пределительные проце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 формировании и использовании финансовых ресурсов на всех уровнях бюджетной систе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Органы государственного или муниципального финансового контроля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четная палата РФ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контрольные и финансовые органы исполнительной власт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контрольные органы законодательных (представительных) орга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842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рольное управление президента РФ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структурное подразделение Администрации Президен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регулируется  Указом президента РФ от 8.06.2004г. №729 «Об утверждении положения о контрольном управлении Президента РФ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ное управление президента РФ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Подчиняется непосредственно президенту РФ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, но взаимодействует со всеми органами исполнительной власти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 Контрольного У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является помощником Президента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значается и освобождается от должности Президентом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Контрольного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 проверка исполнения государственными органами исполнительной власти, а также организациями федеральных законов, указов, распоряжений и иных решений Президента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реализацией общенациональных про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 проверка исполнения поручений Президента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реализацией ежегодных посланий Президента РФ Федеральному Собранию РФ, бюджетных посланий и иных программных документов Президент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274680"/>
            <a:ext cx="82087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Счетной палатой РФ</a:t>
            </a:r>
            <a:br>
              <a:rPr sz="3000"/>
            </a:b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счетной палаты регулируется ФЗ  №4-ФЗ «О счетной палате РФ», в котором определено, чт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четная палата образована Федеральным Собранием РФ и подотчетна е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6:09:24Z</dcterms:created>
  <dc:creator>Riabova Elena</dc:creator>
  <dc:description/>
  <dc:language>en-US</dc:language>
  <cp:lastModifiedBy>LEGION</cp:lastModifiedBy>
  <dcterms:modified xsi:type="dcterms:W3CDTF">2014-11-10T10:51:49Z</dcterms:modified>
  <cp:revision>33</cp:revision>
  <dc:subject/>
  <dc:title>Финансовый контроль</dc:title>
</cp:coreProperties>
</file>