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C294-8A75-4322-9271-C45B059AA7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D8A0-67D6-40BF-8499-CD131F7B0D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став Счетной пала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датель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меститель Председател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четной палат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удиторы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ппарат Счетной пала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. состоит из инспекторов и иных штатных сотрудни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EA0F-0FFA-450C-8D5D-1A9185B8C4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ная палата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-ревизион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но-аналитическую, информационную и иные виды деятель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.е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E5EC-3DA5-4F3E-BDA2-3F94B01EC6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ет и проводи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еративный контроль за исполнением федерального бюдж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тчетном го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визий и тематические провер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ударстве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енним и внешни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4746-6715-471E-BC9F-5C9DEE25A9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федеральными внебюджетными фондами, за банковской сис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экспертизу: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к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нормативных правовых акт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ых договоров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едеральных програм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документов, затрагивающих вопросы финансо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анализ и исследование нарушений и отклонений в бюджетн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EB55-CCD8-4658-8898-12F85DBA87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инФина регулиру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30 июня 2004 г. №329 «О министерстве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7 апреля 2004 г. №185 «Вопросы Министерства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A878-E4FF-46E9-8CBC-65DE08EC77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инистерство финансов Российской Федерации (Минфин России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3C7C-D798-4270-855E-C44719161E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стителей Министра устанавливается Правительством РФ (д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A27C-4E01-4E88-9EE0-83125CBCF9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адачи Минфина в фин.контрол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существляет внутренний контроль з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м бюджетных средст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лавными распорядителями, распорядителями и получателями бюджет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рганизует финансовый контроль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и и ревиз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9863-0AA6-44DD-A24D-816D509EE6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ю и контроль деятельности находящихся в его ведении  служб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0A89-3E83-40C0-840D-4E3433A3BF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Федеральным казначей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F2EB-F311-44F2-89B1-32AE3E3390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70A3-0263-4693-B618-2A26AE885B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едеральное казначейств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предварительный и текущий контроль з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дением операций с бюджетными сред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B791-E93D-44D8-AA37-BF7BF72716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и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вар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текущий контро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ледующи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форме  (регламенту)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й (внеш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ый (внутренн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020A-7421-4770-A146-A78E511CC7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убъектам контрол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ски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представ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сполнительных органов власти (Министерство Финансов РФ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фирм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ор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64C8-6F96-42D1-9FFF-8841E0C5A0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фере финансовой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ой конт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782F-6202-4EC0-8F8C-391B9E3308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5446-DA11-4EC2-B55B-860139F3F5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 (продолжение)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з базовых принципов вытекают другие, носящие прикладной характе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требо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08AE-BC91-4E3D-ABDE-0525141CC0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со стороны государства за формированием и использованием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86ED-03AA-4B44-8BB2-E0EF807DB2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неж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едел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FF35-4B03-4247-B90F-B08F7EF3DC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рганы государственного или муниципального финансового контрол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четная пала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и финансовые органы исполнительной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органы законодательных (представительных)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6464-1A84-4E86-87AB-B622B320F6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структурное подразделение Администрации Презид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B071-C8D5-4CB7-A73A-351027F64E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одчиняется непосредственно президенту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но взаимодействует со всеми органами исполнительной вла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 Контрольного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вляется помощником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начается и освобождается от должности Президентом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3B8A-4E6C-48F2-8D4A-12C4B1212A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 Контрольного упр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общенациональных про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поруч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C3C0-28CB-40FE-9DF7-B2F5A770DD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ная палата образована Федеральным Собранием РФ и подотчетна 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8908-A0BE-4F01-A337-2759EF88C0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9F84-F00E-40D6-9529-4AB8BF90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8D08-0745-4C13-9441-7457F73A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07A0-5FE1-404B-97EC-56958E3C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E6E0-6FC7-43BE-AF2A-94C0596C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1B05-8158-4BF4-8BDB-45DBDDDD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6185-AC12-4445-A41A-33D96091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AC14-BAD2-48BC-9156-B2A68CB5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87CE-EC27-4BA0-BE44-434C848C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1138-7F0C-4AC9-B406-BDEA32CE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FD0C-2F89-4F85-A248-5D3D8403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C250-B3F2-4C4D-B9A9-4B5A0632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E397-4B1A-4A61-981F-A4EEC7CB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34AA-7B25-4F3C-BAF7-D657F610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8D7E-0E9E-4C46-87FF-409FEEE9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041E-E0DA-4182-B9C3-A07C54CF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D1D6-B979-4BD0-AECD-41FA15FC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8631-F4A5-441F-B407-D8777E2F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8F666-FCA3-4A29-8F8D-F02348F6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FD114-2760-4C29-A61F-3F30F07D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025DB-744E-48C9-BFB9-6D404268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DEE5-BE4D-438B-9FD2-34A857FF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7EB1-5FAF-4B54-BACE-20F45EE3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9E147-7124-421B-99CB-A109E9E5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54D4-CDD9-4A82-B77A-EE653BA2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FFBFC-98C5-4D39-9BA8-5E455126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3C353-F148-4080-A44D-FC4260C0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4623-2DC7-445E-A23A-6F62453D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1653-A6AD-4B48-BBCA-3E7B0D14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256F9-D129-47F0-870A-B44E0540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AE886-BF67-4DD3-9E79-758CF3E2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B7786-BC39-447A-AA7B-F2BC76D4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033E8-4F77-4F48-BC23-3BF7CBCA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5877D-DD3A-4275-AC3A-B91378D4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706D-C1F6-4458-87E2-4D22AFA2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56702-CE33-4B4B-95DC-F1C555F5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5EBA2-3918-4619-8BA1-AAF86A27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BA8ED-A618-4BC8-96EF-618832FA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AFB4D-6677-45F3-B983-917A49CB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036D7-BA90-4988-954F-B4736A42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0FE96-A994-41C7-A3BA-D63D8C27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8B001-F3C3-47C5-8F18-B2D9E8AA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D5B49-B75D-438C-89AC-0C6177C7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4DB7F-B58D-4FE9-92DA-504BFBD2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E5A6A-2CC5-4A76-9D1F-D43179DD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C590-128F-4700-887C-3DC8F940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E5A16-A822-4348-8C97-6B3D4240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76219-0B60-4A0D-9B3F-E9EC54DB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D5CC5-8C58-41F9-91E2-424C9EAA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D3D5B-B901-46C2-B175-67A2DE69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95EEC-A0B4-48D1-8415-D006D0BB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D639E-4EFE-4791-A8D3-38EBF87A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558E4-B372-477C-9BD1-27696B4F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26FC2-AE49-491C-83B9-110B09C2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8E4D9-C3E5-4A7E-A8CF-18B9EE88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4B3AC-EEF5-4E84-859B-B6697CED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5DF22-739B-490F-8CCB-0D07E0D3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5B576-8413-4F3A-AA9B-B25B6F91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6ABF2-B453-49AE-BB53-AAF44AAE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499B6-C4B2-4DAB-9A99-E835FC96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28661-BF00-4CC6-906B-71CD835D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84B94-5F6C-4D2B-A22C-CF0EF935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BF9D9-DF35-4F22-8050-9B703ECD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B84E7-7492-4E33-A1A2-71A1BE66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9C9B8-3DBC-4112-B965-B84EF4E7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A79AC-9189-4AB9-BCB2-4EEBB3DA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5C573-EFFB-4A67-A632-32ECA18F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066C-E117-4002-9C35-C7F6108B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4C77A-C5FA-4F86-B34E-C5F1674A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865D8-2625-4DCC-A6A9-331A9F97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27AFC-9FD7-44AF-BB87-C682A604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E3490-8128-4F57-9FCE-45996A5C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2DBE-54A2-42D6-8C6D-9EF09373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A4E4-089C-470C-B534-50D5F40F49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Прямоуг.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уг.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уг.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Прямоуг.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Прямоуг.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Прямоуг.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рямоуг.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Прямоуг.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Прямоуг.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876E-1921-4C04-9108-56DD65E10F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Группа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57" name="Линия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оуг.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оуг.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.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.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9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1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BBAB-5BDD-47FD-B43B-3F8AB67CE8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6" name="Прямоуг.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оуг.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Группа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9" name="Прямоуг.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оуг.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оуг.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рямоуг.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Прямоуг.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Прямоуг.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Прямоуг.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Прямоуг.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Прямоуг.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Прямоуг.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1B62-7A7C-420A-B345-4C87D88000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.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02" name="Прямоуг.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.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оуг.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оуг.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Линия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оуг.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12C8-D96D-4CF3-B9F3-FE71B0810FFB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0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2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56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9AD3-EBF1-4BCD-951A-2EB926030E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Финансовый контрол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 Счетной па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едатель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меститель Председ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четной палат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удиторы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ппарат Счетной палат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. состоит из инспекторов и иных штатных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Счетной палатой РФ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четная палата осущест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но-ревизионную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кспертно-аналитическую, информационную и иные виды деятельности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рганизовывает и проводи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перативный контроль за исполнением федерального бюджет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 отчетном году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роводит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лексные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ревизий и тематические проверки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контроль з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сударственны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нутренним и внешним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долго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Р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 за федеральными внебюджетными фондами, за банковской системо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экспертизу: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закон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нормативных правовых актов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ых договоров РФ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федеральных програм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документов, затрагивающих вопросы финансов РФ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одит анализ и исследование нарушений и отклонений в бюджетном процесс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820872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Министерством финансов РФ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МинФина регулируется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30 июня 2004 г. №329 «О министерстве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7 апреля 2004 г. №185 «Вопросы Министерства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фин Росс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заместителей Министра устанавливается Правительством РФ (д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Минфина в фин.контр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существляет внутренний контроль з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ием бюджетных сред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вными распорядителями, распорядителями и получателями бюджетных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рганизует финансовый контроль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ки и ревиз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Министерством финансов РФ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цию и контроль деятельности находящихся в его ведении  служ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Федеральным казначейством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ое казначе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 предварительный и текущий контроль з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дением операций с бюджетными сред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контрол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времени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) предварительны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2) текущий контро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3) последующий контрол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форме  (регламенту)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язательный (внешний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нициативный (внутренний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280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субъектам контрол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идентски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представительных органов в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сполнительных органов власти (Министерство Финансов РФ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омств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фирм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дитор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сфере финансовой деятельности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юдже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логов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алю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редитны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траховой контрол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5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методам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ерк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следовани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дзор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нализ финансовой деятельнос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блюдение (мониторинг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евиз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инципы организации финансового контроля (продолжение) 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базовых принципов вытекают другие, носящие прикладной характ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ивно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тк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гичность требован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620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троль со стороны государства за формированием и использованием денежных средст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ъект финансового контро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нежны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ительные проце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Органы государственного или муниципального финансового контроля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четная палата РФ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и финансовые органы исполнительной вла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органы законодательных (представительных) орг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42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структурное подразделение Администрации Президен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Подчиняется непосредственно президенту РФ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но взаимодействует со всеми органами исполнительной власти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 Контрольного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является помощником Президента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значается и освобождается от должности Президентом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Контрольного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общенациональных про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поруч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Счетной палатой РФ</a:t>
            </a:r>
            <a:br>
              <a:rPr sz="3000"/>
            </a:b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четная палата образована Федеральным Собранием РФ и подотчетна е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6:09:24Z</dcterms:created>
  <dc:creator>Riabova Elena</dc:creator>
  <dc:description/>
  <dc:language>en-US</dc:language>
  <cp:lastModifiedBy>LEGION</cp:lastModifiedBy>
  <dcterms:modified xsi:type="dcterms:W3CDTF">2014-11-10T10:51:49Z</dcterms:modified>
  <cp:revision>33</cp:revision>
  <dc:subject/>
  <dc:title>Финансовый контроль</dc:title>
</cp:coreProperties>
</file>