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B1105-A4AD-435E-86EC-02A408332AC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й контро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87A01-519F-4BBE-B44C-5FCC58AA1F0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остав Счетной палат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едседатель Счетной палаты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торый назначается на должность Государственной Думой по представлению Президента РФ сроком на шесть л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аместитель Председателя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Счетной палаты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т. назначается Советом Федерации по представлению Президента РФ сроком на шесть лет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удиторы Счетной палаты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2 человек, кот. назначаются Советом Федерации и Государственной Думой по шесть аудиторов сроком на шесть лет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ппарат Счетной палаты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от. состоит из инспекторов и иных штатных сотруднико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FFEF2-984A-4536-842F-7873ED71AD8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Финансовый контроль, осуществляемый Счетной палатой РФ 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(продолжение)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четная палата осуществля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но-ревизионную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ертно-аналитическую, информационную и иные виды деятельност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вает единую систему контроля за исполнением федерального бюджета и бюджетов федеральных внебюджетных фондов,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т.е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A2B89-4A40-4216-9C25-2BC9B454A0B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овывает и проводит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перативный контроль за исполнением федерального бюджет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отчетном год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водит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лексные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евизий и тематические проверк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 отдельным разделам и статьям федерального бюджета, бюджетов федеральных внебюджетных фонд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яет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нтроль з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ударственны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нутренним и внешним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олг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D46F3-C56D-4BC7-9879-9BABB4EBABA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за федеральными внебюджетными фондами, за банковской систем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яет экспертизу: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закон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иных нормативных правовых актов,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еждународных договоров РФ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едеральных програм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иных документов, затрагивающих вопросы финансов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одит анализ и исследование нарушений и отклонений в бюджетном процесс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D9D47-8FC4-401C-81CA-0B238E699DA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Финансовый контроль, осуществляемый Министерством финансов РФ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МинФина регулируетс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становлением от 30 июня 2004 г. №329 «О министерстве финансов РФ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становлением от 7 апреля 2004 г. №185 «Вопросы Министерства Финансов РФ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2367C-A96D-4A8B-803C-F6269FB3EB1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Министерство финансов Российской Федерации (Минфин России)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федеральный орган исполнительной власти, осуществляющий функции по выработке государственной политики и нормативно-правовому регулированию в сфере бюджетной, налоговой, страховой, валютной, банковской деятельности, государственного долга, аудиторской деятельности, бухгалтерского учета и бухгалтерской отчетности, производства, переработки и обращения драгоценных металлов и драгоценных камней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CFCD5-9815-4F80-BD17-702DC4095F8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нФин России возглавляет Министр, назначаемый и освобождаемый от должности Президентом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нистр имеет заместителей назначаемых на должность и освобождаемых от должности Правительством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о заместителей Министра устанавливается Правительством РФ (дв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CEB4B-7417-4457-846D-3A73D5A6415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Задачи Минфина в фин.контроле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нистерство финансов РФ осуществляет внутренний контроль за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спользованием бюджетных средст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лавными распорядителями, распорядителями и получателями бюджетных сред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нистерство финансов РФ организует финансовый контроль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верки и ревиз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юридических лиц - получателей гарантий Правительства РФ, бюджетных кредитов, бюджетных ссуд и бюджетных инвестиций, а также осуществля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69D64-A28B-4A5A-B22A-B3F74404EFB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нансовый контроль, осуществляемый Министерством финансов РФ (продолж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ординацию и контроль деятельности находящихся в его ведении  служб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ой налоговой службы, Федеральной службы страхового надзора, Федеральной службы финансово-бюджетного надзора, Федеральной службы по финансовому мониторингу и Федерального казначейства, а также Федеральной таможенной службы)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соответствии с ФЗ "О драгоценных металлах и драгоценных камнях" организует государственный контроль за качеством сортировки и оценки драгоценных камней и федерального пробирного надзор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99A36-DE84-4AB1-B043-AC22F8E7990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Финансовый контроль, осуществляемый Федеральным казначейством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федерального Казначейства регулирует: Постановление Правительства РФ от 1 декабря 2004 г. № 703 «О федеральном казначейств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ое казначейство возглавляет руководитель, назначаемый и освобождаемый от должности Правительством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160E4-52BC-47F6-AB06-669E5A6DE89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осударственный финансовый контроль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лексная и целенаправленная система экономико – правовых действий конкретных органов власти и управления, базирующихся на положениях основных законов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C80A3-9D3C-4B2A-B7B5-0CE7359724F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Федеральное казначейство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яет предварительный и текущий контроль з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едением операций с бюджетными средств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деятельностью кредитных организаций и других участников бюджетного процесса по исполняемым бюджетам и бюджетам государственных внебюджетных фонд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существления указанного контроля и координирует  работу федеральных органов исполнительной вла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00BEE-3B60-403D-A72D-AC1298352E2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финансового контр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 времени провед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предваритель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текущий контрол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последующий контро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 форме  (регламенту) провед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ый (внешни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ициативный (внутренний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E61D1-2AC1-4A0E-BF28-DC27CB4B93D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лассификация финансового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онтроля (продолжение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 субъектам контроля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идентский финансовый контрол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представительных органов вла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исполнительных органов власти (Министерство Финансов РФ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финансово – кредитных органов (Федеральная служба по налогам и сборам, Центральный банк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омственный финансовый контрол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трифирменный финансовый контрол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удиторск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6692D-45A3-49CA-B5D9-27558993D6F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финансовог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я (продолж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 сфере финансовой деятель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юджетный контрол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ый контрол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онтрол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ны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ховой контро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B585C-BB68-4540-A028-A4D065C1599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инципы организации финансового контроля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независимость,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объективность,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компетентность,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гласность. 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823FB-73C1-449D-8942-A63B3861078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ринципы организации финансового контроля (продолжение) 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Из базовых принципов вытекают другие, носящие прикладной характер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ивност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тк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гичность требовани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одкупность субъектов контроля, презумпция  невиновности (до суда) в финансовых преступлениях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5D4B4-E054-4BFC-9396-859D8990E16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осударственный финансовый контрол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со стороны государства за формированием и использованием денежных сред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F4A67-07BF-4BC6-B215-988C19F05F1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 финансового контр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нежны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спределительные процес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формировании и использовании финансовых ресурсов на всех уровнях бюджетн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1B809-F3C2-4C18-A4E4-EEB5365BE20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Органы государственного или муниципального финансового контрол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четная палата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онтрольные и финансовые органы исполнительной вла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онтрольные органы законодательных (представительных) орга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9F72E-4533-4B48-9475-E478AE907CC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нтрольное управление президента РФ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 структурное подразделение Администрации Президент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регулируется  Указом президента РФ от 8.06.2004г. №729 «Об утверждении положения о контрольном управлении Президента РФ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D3D17-57A8-427B-8155-9A6A8FBA1A9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Контрольное управление президента РФ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К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Подчиняется непосредственно президенту РФ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 но взаимодействует со всеми органами исполнительной власт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альник Контрольного Упра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является помощником Президента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значается и освобождается от должности Президентом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A4F69-69AB-4617-A4B9-F07A0E45878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Задачи Контрольного управл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и проверка исполнения государственными органами исполнительной власти, а также организациями федеральных законов, указов, распоряжений и иных решений Президента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за реализацией общенациональных проек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и проверка исполнения поручений Президента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за реализацией ежегодных посланий Президента РФ Федеральному Собранию РФ, бюджетных посланий и иных программных документов Президента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88D54-376E-4F90-98F5-BC33F901767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Финансовый контроль, осуществляемый Счетной палатой РФ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счетной палаты регулируется ФЗ  №4-ФЗ «О счетной палате РФ», в котором определено, что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четная палата образована Федеральным Собранием РФ и подотчетна ему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8A46B-054A-4AB9-8E61-5AEBFEC4319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0FE53-090B-4C67-8C3A-E5D8DE6F4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94E8E-66FA-4744-A869-13945DEA1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980FE-36D5-4ABC-976A-559B5B9A2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89752-4AB9-473F-B972-849566DE4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184CC-0458-4C74-BBA2-603F2AED1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9B0F3-837B-4B9C-B7B6-303529E55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CB63C-2957-4DFE-90C2-952D8C0D2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696D3-536A-4ADF-978D-B69930FE5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5F4A7-F31F-466A-B643-3211B055A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535F1-7737-4E6B-BA9B-000800CF9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B73BD-4720-4728-B451-A0A271711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5E943-FBEC-40AC-9586-D04CEE272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EDB3C-1E6D-41A0-B3AA-94D61F4A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F6132-B92A-4A02-8A1E-CF514B04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9BF62-8FFB-4047-8F5D-0FA6EFAEA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9B18A-DE6B-45AA-9C7B-241AA401A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3E838-E429-400A-906C-BB85BA983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32F11-DC2E-4587-95F4-480874BC9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0674C-80DF-4BE5-9890-0E263186D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0ADEB-5481-4B09-A32F-31A6649B5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0FE6A-E9FD-49D4-A3F5-042370368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6CA92-E185-47BB-9D18-8CAAA7DD0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E2D12-2AB7-4613-8CB7-89AE927AE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3D739-C7E2-4D07-91C1-B59FCA114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AF3C9-B36D-47A7-9D1F-2EFD3C24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EDC6D-5886-43F4-922E-7F84635BA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FF3C2-50E2-46A5-AB55-02C3F501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AEB10-F983-4F5F-97D0-757D47767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81728-C102-4F25-BA71-C768937EA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255A7-25D4-48D5-BCC8-3D1FDC3FB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0820E-D24A-4ACC-87BE-8E081E1DE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59F44-3F53-4EDB-BE35-4EFF5EDBB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6776C-0742-4540-97E5-4847CD7FD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7895A-0B18-4682-B439-9F998AE92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557BE-4AA2-4054-990C-211097949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004CD-B971-4F37-BFFF-A922A6F9B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B4D9F-2087-44EF-98CE-E8667E9A4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3AC5C-A149-4029-93B4-D6AF9391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0FF10-3D00-4AFB-8804-519729DD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019C8-C2F2-4578-A15B-DF1E0F7F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F9385-AD69-4EDC-925B-E954F5C3E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2B820-6F6C-4878-B2BD-5E93A6F00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595E3-E5DF-4869-806A-763C6F582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B87EC1-2E8A-4B74-BE8F-2D59AB0C3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1BAF9-1228-4330-9730-740654157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638425-AD14-4EB7-AF17-0CDDC25A2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B00BA3-82E1-4191-97A2-226EA2FCA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3DD18D-2B6C-414E-A52C-444BFA1C5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99D14-C6AF-4174-86D6-C0D432B53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0D9074-1901-4145-8A4B-49BAB67F9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6D474E-D218-4201-B620-3BDAE42D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2AF2C-00F0-4E4D-9A38-D424067A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DFF310-D79B-4CE0-935B-02ADFA142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18E962-0C85-4220-8481-0BB436ACC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5735C-FB99-4DCA-84CC-1951B8206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5D699-71D1-4DB8-A624-828BA76E2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22C047-CE83-4023-82A8-06DC9BA87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A4F63C-8EEC-4658-AD2F-E8D8FB2A2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6CE141-D071-4774-A12B-7D0AB07BE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BE480-F5A1-4EEF-B958-B4423D8DD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70AFBD-732D-4D7A-9F17-D44C65DB8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A9B7B2-0CF4-4C58-B47F-A0562AE01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A4117A-5B6B-4C0B-876F-78C048E28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B4BB4A-8C7C-4ECB-B0A7-CB9E7847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ADCFCD-6023-4EDC-82FF-8B8AA601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A287F1-7B36-4633-8ABB-9CDB62B5C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91623-5BD7-4D49-B0A8-95505706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B47F4B-A360-4EC8-95BF-2EFF468F2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B8367F-52EF-44EF-9CB8-C77F1733C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8A0546-FE5B-4DE8-AD98-EE7BC8BB1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2B716-C780-4981-8407-B991D7A8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0E2F0-FB58-492C-9F45-1BDBC7790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D85B3-BC23-4F12-A47C-7D66D558F2E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Группа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Прямоуг.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Прямоуг.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Прямоуг.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Прямоуг.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Прямоуг.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Прямоуг.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Прямоуг.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Прямоуг.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Прямоуг.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1FD63-225A-472C-A794-D42B4FA3005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Группа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57" name="Линия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Прямоуг.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Прямоуг.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Прямоуг.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Прямоуг.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Группа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99" name="Прямоуг.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Группа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01" name="Прямоуг.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Линия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A8495-6D4F-40C8-A9DB-90CD6A9DC95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Линия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Группа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46" name="Прямоуг.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Прямоуг.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Группа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49" name="Прямоуг.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Прямоуг.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Прямоуг.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Прямоуг.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Прямоуг.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Прямоуг.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Прямоуг.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Прямоуг.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Прямоуг.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Прямоуг.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B0DC4-B13A-461A-AC3B-5CC2CAE998B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рямоуг.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Группа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202" name="Прямоуг.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Прямоуг.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Прямоуг.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Прямоуг.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Линия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Прямоуг.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9D11D-6F4D-4CE1-8D42-97BFD8552517}" type="slidenum"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Группа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250" name="Прямоуг.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1" name="Группа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252" name="Прямоуг.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Прямоуг.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Линия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Группа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256" name="Прямоуг.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Линия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6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17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21EC6-79BB-411B-B998-2C3A333DEDC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Финансовый контроль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став Счетной пал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5075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едседатель Счетной палат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торый назначается на должность Государственной Думой по представлению Президента РФ сроком на шесть л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меститель Председател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четной палаты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т. назначается Советом Федерации по представлению Президента РФ сроком на шесть лет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удиторы Счетной палат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 человек, кот. назначаются Советом Федерации и Государственной Думой по шесть аудиторов сроком на шесть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ппарат Счетной палаты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т. состоит из инспекторов и иных штатных сотруд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Финансовый контроль, осуществляемый Счетной палатой РФ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продолжение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5075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Счетная палата осуществляет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контрольно-ревизионную,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экспертно-аналитическую, информационную и иные виды деятельности,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обеспечивает единую систему контроля за исполнением федерального бюджета и бюджетов федеральных внебюджетных фондов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.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323640" y="404280"/>
            <a:ext cx="856908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организовывает и проводит </a:t>
            </a:r>
            <a:r>
              <a:rPr b="0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оперативный контроль за исполнением федерального бюджета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в отчетном году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проводит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комплексные </a:t>
            </a:r>
            <a:r>
              <a:rPr b="0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ревизий и тематические проверки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по отдельным разделам и статьям федерального бюджета, бюджетов федеральных внебюджетных фондов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осуществляет </a:t>
            </a:r>
            <a:r>
              <a:rPr b="0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контроль за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г</a:t>
            </a:r>
            <a:r>
              <a:rPr b="0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осударственным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внутренним и внешним </a:t>
            </a:r>
            <a:r>
              <a:rPr b="0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долгом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РФ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контроль за федеральными внебюджетными фондами, за банковской системой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осуществляет экспертизу: </a:t>
            </a:r>
            <a:r>
              <a:rPr b="0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законов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и иных нормативных правовых актов, </a:t>
            </a:r>
            <a:r>
              <a:rPr b="0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международных договоров РФ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федеральных программ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и иных документов, затрагивающих вопросы финансов РФ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проводит анализ и исследование нарушений и отклонений в бюджетном процесс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4360" y="277560"/>
            <a:ext cx="8208720" cy="78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33"/>
                </a:solidFill>
                <a:latin typeface="Times New Roman"/>
              </a:rPr>
              <a:t>Финансовый контроль, осуществляемый Министерством финансов РФ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4000" y="148392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деятельность МинФина регулируется: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- Постановлением от 30 июня 2004 г. №329 «О министерстве финансов РФ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- Постановлением от 7 апреля 2004 г. №185 «Вопросы Министерства Финансов РФ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нистерство финансов Российской Федераци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Минфин России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федеральный орган исполнительной власти, осуществляющий функции по выработке государственной политики и нормативно-правовому регулированию в сфере бюджетной, налоговой, страховой, валютной, банковской деятельности, государственного долга, аудиторской деятельности, бухгалтерского учета и бухгалтерской отчетности, производства, переработки и обращения драгоценных металлов и драгоценных камней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нФин России возглавляет Министр, назначаемый и освобождаемый от должности Президентом Р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нистр имеет заместителей назначаемых на должность и освобождаемых от должности Правительством Р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личество заместителей Министра устанавливается Правительством РФ (дв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чи Минфина в фин.контро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нистерство финансов РФ осуществляет внутренний контроль за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использованием бюджетных средст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главными распорядителями, распорядителями и получателями бюджетных средст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нистерство финансов РФ организует финансовый контроль,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верки и ревизи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юридических лиц - получателей гарантий Правительства РФ, бюджетных кредитов, бюджетных ссуд и бюджетных инвестиций, а также осуществля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5075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нансовый контроль, осуществляемый Министерством финансов РФ (продолж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7138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ординацию и контроль деятельности находящихся в его ведении  служб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едеральной налоговой службы, Федеральной службы страхового надзора, Федеральной службы финансово-бюджетного надзора, Федеральной службы по финансовому мониторингу и Федерального казначейства, а также Федеральной таможенной службы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оответствии с ФЗ "О драгоценных металлах и драгоценных камнях" организует государственный контроль за качеством сортировки и оценки драгоценных камней и федерального пробирного надз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33"/>
                </a:solidFill>
                <a:latin typeface="Times New Roman"/>
              </a:rPr>
              <a:t>Финансовый контроль, осуществляемый Федеральным казначейством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Деятельность федерального Казначейства регулирует: Постановление Правительства РФ от 1 декабря 2004 г. № 703 «О федеральном казначействе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Федеральное казначейство возглавляет руководитель, назначаемый и освобождаемый от должности Правительством РФ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Государственный финансовый контроль –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омплексная и целенаправленная система экономико – правовых действий конкретных органов власти и управления, базирующихся на положениях основных законов государств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8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едеральное казначей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5075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уществляет предварительный и текущий контроль з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ведением операций с бюджетными средства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деятельностью кредитных организаций и других участников бюджетного процесса по исполняемым бюджетам и бюджетам государственных внебюджетных фонд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осуществления указанного контроля и координирует  работу федеральных органов исполнительной вла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78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0033"/>
                </a:solidFill>
                <a:latin typeface="Times New Roman"/>
              </a:rPr>
              <a:t>Классификация финансового контроля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По времени проведения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1) предварительный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2) текущий контроль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3) последующий контроль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По форме  (регламенту) проведения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обязательный (внешний)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инициативный (внутренний)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8280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330033"/>
                </a:solidFill>
                <a:latin typeface="Times New Roman"/>
              </a:rPr>
              <a:t>Классификация финансового </a:t>
            </a:r>
            <a:br>
              <a:rPr sz="3400"/>
            </a:br>
            <a:r>
              <a:rPr b="0" lang="ru-RU" sz="3400" spc="-1" strike="noStrike">
                <a:solidFill>
                  <a:srgbClr val="330033"/>
                </a:solidFill>
                <a:latin typeface="Times New Roman"/>
              </a:rPr>
              <a:t>контроля (продолжение)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о субъектам контроля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зидентский финансовый контрол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ь представительных органов вла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ь исполнительных органов власти (Министерство Финансов РФ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ь финансово – кредитных органов (Федеральная служба по налогам и сборам, Центральный банк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домственный финансовый контрол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утрифирменный финансовый контрол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удиторск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4360" y="274680"/>
            <a:ext cx="820872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330033"/>
                </a:solidFill>
                <a:latin typeface="Times New Roman"/>
              </a:rPr>
              <a:t>Классификация финансового </a:t>
            </a:r>
            <a:br>
              <a:rPr sz="3400"/>
            </a:br>
            <a:r>
              <a:rPr b="0" lang="ru-RU" sz="3400" spc="-1" strike="noStrike">
                <a:solidFill>
                  <a:srgbClr val="330033"/>
                </a:solidFill>
                <a:latin typeface="Times New Roman"/>
              </a:rPr>
              <a:t>контроля (продолжение)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84358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По сфере финансовой деятельности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бюджетный контроль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налоговый контроль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валютный контроль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кредитный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страховой контроль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3516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330033"/>
                </a:solidFill>
                <a:latin typeface="Times New Roman"/>
              </a:rPr>
              <a:t>Классификация финансового </a:t>
            </a:r>
            <a:br>
              <a:rPr sz="3400"/>
            </a:br>
            <a:r>
              <a:rPr b="0" lang="ru-RU" sz="3400" spc="-1" strike="noStrike">
                <a:solidFill>
                  <a:srgbClr val="330033"/>
                </a:solidFill>
                <a:latin typeface="Times New Roman"/>
              </a:rPr>
              <a:t>контроля (продолжение)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11280" y="1628280"/>
            <a:ext cx="807552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-18864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по методам проведения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проверки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обследование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надзор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анализ финансовой деятельност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наблюдение (мониторинг)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ревизия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нципы организации финансового контрол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spcBef>
                <a:spcPts val="8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независимость,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spcBef>
                <a:spcPts val="8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объективность,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spcBef>
                <a:spcPts val="8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компетентность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spcBef>
                <a:spcPts val="8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гласность.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4360" y="274320"/>
            <a:ext cx="8208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Принципы организации финансового контроля (продолжение) :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55640" y="1557000"/>
            <a:ext cx="8137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базовых принципов вытекают другие, носящие прикладной характер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езультативност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еткос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огичность требований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подкупность субъектов контроля, презумпция  невиновности (до суда) в финансовых преступлениях и д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456840" y="62064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Государственный финансовый контроль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–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онтроль со стороны государства за формированием и использованием денежных средств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бъект финансового контрол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енежные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аспределительные процесс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 формировании и использовании финансовых ресурсов на всех уровнях бюджетной систем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3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0033"/>
                </a:solidFill>
                <a:latin typeface="Times New Roman"/>
              </a:rPr>
              <a:t>Органы государственного или муниципального финансового контроля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четная палата РФ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 контрольные и финансовые органы исполнительной власти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 контрольные органы законодательных (представительных) орган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539280" y="1413000"/>
            <a:ext cx="8425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нтрольное управление президента РФ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 структурное подразделение Администрации Президент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ятельность регулируется  Указом президента РФ от 8.06.2004г. №729 «Об утверждении положения о контрольном управлении Президента РФ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трольное управление президента РФ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К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6840" y="980640"/>
            <a:ext cx="84358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 u="sng">
                <a:solidFill>
                  <a:srgbClr val="000000"/>
                </a:solidFill>
                <a:uFillTx/>
                <a:latin typeface="Arial"/>
              </a:rPr>
              <a:t>Подчиняется непосредственно президенту РФ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, но взаимодействует со всеми органами исполнительной власти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чальник Контрольного Управ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является помощником Президента РФ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назначается и освобождается от должности Президентом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дачи Контрольного упр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407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ь и проверка исполнения государственными органами исполнительной власти, а также организациями федеральных законов, указов, распоряжений и иных решений Президента РФ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ь за реализацией общенациональных проект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ь и проверка исполнения поручений Президента РФ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ь за реализацией ежегодных посланий Президента РФ Федеральному Собранию РФ, бюджетных посланий и иных программных документов Президента Р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4360" y="274680"/>
            <a:ext cx="820872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300"/>
            </a:br>
            <a:r>
              <a:rPr b="1" lang="ru-RU" sz="3000" spc="-1" strike="noStrike">
                <a:solidFill>
                  <a:srgbClr val="330033"/>
                </a:solidFill>
                <a:latin typeface="Times New Roman"/>
              </a:rPr>
              <a:t>Финансовый контроль, осуществляемый Счетной палатой РФ</a:t>
            </a:r>
            <a:br>
              <a:rPr sz="3000"/>
            </a:b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ятельность счетной палаты регулируется ФЗ  №4-ФЗ «О счетной палате РФ», в котором определено, чт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четная палата образована Федеральным Собранием РФ и подотчетна ем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9T06:09:24Z</dcterms:created>
  <dc:creator>Riabova Elena</dc:creator>
  <dc:description/>
  <dc:language>en-US</dc:language>
  <cp:lastModifiedBy>LEGION</cp:lastModifiedBy>
  <dcterms:modified xsi:type="dcterms:W3CDTF">2014-11-10T10:51:49Z</dcterms:modified>
  <cp:revision>33</cp:revision>
  <dc:subject/>
  <dc:title>Финансовый контроль</dc:title>
</cp:coreProperties>
</file>