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E6E0C-7761-4111-ABB6-0837CF4939E2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нансовый контро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84ED0-71B2-44E4-9A06-08813CA858E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Состав Счетной палаты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редседатель Счетной палаты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торый назначается на должность Государственной Думой по представлению Президента РФ сроком на шесть ле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заместитель Председателя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Счетной палаты,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т. назначается Советом Федерации по представлению Президента РФ сроком на шесть лет.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аудиторы Счетной палаты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12 человек, кот. назначаются Советом Федерации и Государственной Думой по шесть аудиторов сроком на шесть лет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аппарат Счетной палаты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кот. состоит из инспекторов и иных штатных сотрудников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8C41B-25A4-4B79-909A-8A9981775E4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Финансовый контроль, осуществляемый Счетной палатой РФ </a:t>
            </a:r>
            <a:r>
              <a:rPr b="1" lang="ru-RU" sz="900" spc="-1" strike="noStrike">
                <a:solidFill>
                  <a:srgbClr val="000000"/>
                </a:solidFill>
                <a:latin typeface="Calibri"/>
              </a:rPr>
              <a:t>(продолжение)</a:t>
            </a: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четная палата осуществляе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трольно-ревизионную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спертно-аналитическую, информационную и иные виды деятельности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еспечивает единую систему контроля за исполнением федерального бюджета и бюджетов федеральных внебюджетных фондов, 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т.е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20CA6-A5F9-4D41-A556-5C623258DF4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овывает и проводит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оперативный контроль за исполнением федерального бюджет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 отчетном году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роводит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плексные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ревизий и тематические проверк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о отдельным разделам и статьям федерального бюджета, бюджетов федеральных внебюджетных фонд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уществляет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контроль з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г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осударственны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нутренним и внешним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долго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Р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BA822-6F9F-4828-BA7B-5E0BC72B986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троль за федеральными внебюджетными фондами, за банковской системо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уществляет экспертизу: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законо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 иных нормативных правовых актов,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международных договоров РФ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федеральных програм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 иных документов, затрагивающих вопросы финансов РФ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одит анализ и исследование нарушений и отклонений в бюджетном процесс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4B081-32AF-4905-AE5A-AF1D29CFAAB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Финансовый контроль, осуществляемый Министерством финансов РФ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ятельность МинФина регулируется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Постановлением от 30 июня 2004 г. №329 «О министерстве финансов РФ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Постановлением от 7 апреля 2004 г. №185 «Вопросы Министерства Финансов РФ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AC605-BDB2-44A3-BE10-1242FABBAE5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Министерство финансов Российской Федерации (Минфин России)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федеральный орган исполнительной власти, осуществляющий функции по выработке государственной политики и нормативно-правовому регулированию в сфере бюджетной, налоговой, страховой, валютной, банковской деятельности, государственного долга, аудиторской деятельности, бухгалтерского учета и бухгалтерской отчетности, производства, переработки и обращения драгоценных металлов и драгоценных камней и т.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892F4-C26B-4FEB-AD57-141C8995FF4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нФин России возглавляет Министр, назначаемый и освобождаемый от должности Президентом РФ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нистр имеет заместителей назначаемых на должность и освобождаемых от должности Правительством РФ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личество заместителей Министра устанавливается Правительством РФ (два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BC43F-2D0F-4F1A-A8BD-86B8D84389E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Задачи Минфина в фин.контроле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нистерство финансов РФ осуществляет внутренний контроль за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использованием бюджетных средст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главными распорядителями, распорядителями и получателями бюджетных средст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нистерство финансов РФ организует финансовый контроль,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оверки и ревизи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юридических лиц - получателей гарантий Правительства РФ, бюджетных кредитов, бюджетных ссуд и бюджетных инвестиций, а также осуществляе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D2F66-67EA-4834-8653-9041257A737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инансовый контроль, осуществляемый Министерством финансов РФ (продолжени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-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ординацию и контроль деятельности находящихся в его ведении  служб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едеральной налоговой службы, Федеральной службы страхового надзора, Федеральной службы финансово-бюджетного надзора, Федеральной службы по финансовому мониторингу и Федерального казначейства, а также Федеральной таможенной службы)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в соответствии с ФЗ "О драгоценных металлах и драгоценных камнях" организует государственный контроль за качеством сортировки и оценки драгоценных камней и федерального пробирного надзора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D419A-0DC0-43F5-92A9-860C09BC8BA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Финансовый контроль, осуществляемый Федеральным казначейством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ятельность федерального Казначейства регулирует: Постановление Правительства РФ от 1 декабря 2004 г. № 703 «О федеральном казначействе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едеральное казначейство возглавляет руководитель, назначаемый и освобождаемый от должности Правительством РФ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58E49-3CF9-42C8-A0D0-ABF2413B729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Государственный финансовый контроль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плексная и целенаправленная система экономико – правовых действий конкретных органов власти и управления, базирующихся на положениях основных законов государ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9FC6B-1F90-4F98-9063-BEB893D0377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Федеральное казначейство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уществляет предварительный и текущий контроль за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ведением операций с бюджетными средствам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деятельностью кредитных организаций и других участников бюджетного процесса по исполняемым бюджетам и бюджетам государственных внебюджетных фонд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осуществления указанного контроля и координирует  работу федеральных органов исполнительной власт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284DF-9424-460C-B795-5815CE29FB3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сификация финансового контрол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о времени проведе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 предварительн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 текущий контрол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) последующий контро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о форме  (регламенту) проведе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язательный (внешний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ициативный (внутренний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7A7E9-9D86-4107-BEA8-6EDDB5E3629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Классификация финансового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контроля (продолжение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о субъектам контроля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зидентский финансовый контрол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троль представительных органов вла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троль исполнительных органов власти (Министерство Финансов РФ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троль финансово – кредитных органов (Федеральная служба по налогам и сборам, Центральный банк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домственный финансовый контрол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утрифирменный финансовый контрол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удиторск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6AF49-16CE-4B91-95CA-F6A027674A7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сификация финансового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троля (продолжени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о сфере финансовой деятельност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юджетный контрол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оговый контрол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й контрол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едитны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аховой контрол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9B034-FEC4-4357-826C-BBFF788D07F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Принципы организации финансового контроля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Calibri"/>
              </a:rPr>
              <a:t>независимость,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Calibri"/>
              </a:rPr>
              <a:t>объективность,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Calibri"/>
              </a:rPr>
              <a:t>компетентность,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Calibri"/>
              </a:rPr>
              <a:t>гласность. 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FF54D-6675-499D-9246-CDDA3FE9A3C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Принципы организации финансового контроля (продолжение) 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Из базовых принципов вытекают другие, носящие прикладной характер: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зультативность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ткост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огичность требований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подкупность субъектов контроля, презумпция  невиновности (до суда) в финансовых преступлениях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B4DFA-66F8-4D68-A0B4-8CD7DFC1B02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Государственный финансовый контрол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троль со стороны государства за формированием и использованием денежных средст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F3028-6FDE-4BAE-958C-1C1F2620E07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ект финансового контрол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енежные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аспределительные процес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формировании и использовании финансовых ресурсов на всех уровнях бюджетной систе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077A9-A47F-47EC-AB54-3C067EC6D00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Органы государственного или муниципального финансового контроля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Счетная палата РФ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контрольные и финансовые органы исполнительной вла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контрольные органы законодательных (представительных) орган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6066A-6365-4B09-8406-06BD500AC27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)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Контрольное управление президента РФ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 структурное подразделение Администрации Президента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ятельность регулируется  Указом президента РФ от 8.06.2004г. №729 «Об утверждении положения о контрольном управлении Президента РФ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3058A-A2F4-4F80-8311-6B244B2BA2A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Контрольное управление президента РФ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КУ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Calibri"/>
              </a:rPr>
              <a:t>Подчиняется непосредственно президенту РФ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, но взаимодействует со всеми органами исполнительной власти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чальник Контрольного Управле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является помощником Президента РФ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назначается и освобождается от должности Президентом Р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36D37-0CC6-4664-8DEA-31415775861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Задачи Контрольного управлени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троль и проверка исполнения государственными органами исполнительной власти, а также организациями федеральных законов, указов, распоряжений и иных решений Президента РФ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троль за реализацией общенациональных проект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троль и проверка исполнения поручений Президента РФ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троль за реализацией ежегодных посланий Президента РФ Федеральному Собранию РФ, бюджетных посланий и иных программных документов Президента Р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94EC2-B08C-4CA5-97BD-8AC6F65AC28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Финансовый контроль, осуществляемый Счетной палатой РФ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ятельность счетной палаты регулируется ФЗ  №4-ФЗ «О счетной палате РФ», в котором определено, что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четная палата образована Федеральным Собранием РФ и подотчетна ему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D80DA-EB78-4C0A-9B6F-145E324D828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235435-1DDF-452F-90A0-47FB4C602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737D49-9AAC-4F7A-8C27-C3F4F2032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294499-D98C-4EA5-999F-CD0037DA6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027F42-3991-4B73-AEB7-6DF5CB43E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82461-0355-451E-9066-D5DAEDADA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19334-A8F3-42FF-9F64-7229A6FBB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541CC-A938-48EB-A908-63BBE2B05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2B319-BEBA-41F4-90F2-224FAFBA9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E04BF-F70B-4348-96C6-A6A850454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B1F9D-4F95-479F-A4EC-22C3E543F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BD235-43DC-4F74-BA43-144E78895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10B8E6-B121-47D8-9368-2C82F327A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8A65E-B034-48F3-B13D-11509D632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DFBB1-4DAB-4044-8EEB-40275B66C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A5DEE-D474-4C8B-ABE6-A91708403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7CD56-408D-40EF-B747-861BB316C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5A0EB-5388-44D7-997F-457FA232E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6BE843-F417-4572-8A4A-62E51E4D9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2FFB4A-B141-4D9F-9531-FCC3D4534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7251A2-04B4-45B3-965C-743125561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238D92-6CF2-47E4-9C9D-56B276764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81F53A-D34D-4CB0-A329-6FB659485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B6894E-83FD-469D-B646-FC0F7504B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7D1427-14D1-40EA-8987-591F39D1F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BDB491-EE1B-43FD-BBA8-1F4D95AD0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66D9D1-8FAF-4282-8ECA-4BD182E96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06617A-C96F-4601-9126-D8DA51955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FEFED9-A67B-4BA3-B920-74C785E0B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00FB54-12CC-418A-8489-FE77C6819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BAF5EF-AD15-4768-8EE8-1BA34DF65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927A0A-1931-4E1B-A35A-95C752138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B9DB77-160F-4A2B-93AD-69A904D53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E7B0E0-C1BD-4303-8EAC-C3AC1BBBA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7C3039-B352-41BA-BB18-93FFD7D11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E1CBFA-DF2D-497B-8A93-0CA33C262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489E56-F43A-42E7-B73C-F08390FC7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4684FE-0889-45F5-9532-35AC4EFD7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1796B9-12FD-4095-8F3E-83EA1FE07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EAB1F6-62D8-4538-A97F-AD20421EB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237C5C-C65B-4840-957D-81BF4C7CB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9FC278-8157-4173-888A-236AEA227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9F0706-FF5E-411B-B89B-E7731BC0A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1C5E3D-C469-4777-94D7-34C384EAB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2D2E0D-6E6A-42AC-B21E-CF3E84C01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F569C5-45D0-4054-B987-E341E60CA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3F74CD-F2C8-46FE-A08F-99354C639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CB18BC-0A35-4E67-838E-E2EB82223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8DB638-3F78-4709-9723-A263B6925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943B27-4EFF-4ADA-9ED5-9CBB909BB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93362A-FE43-4592-ACD1-022600E50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7D6DCB-430E-44D7-8D99-6DE5FE248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46CE76-B6EE-49AC-8D9D-BD6FD668C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E47492-D1B2-451B-B2C0-605105F11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580067-67D7-4E60-89D8-AC86BC8F8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8139B1-0A13-48F7-875A-E347EE182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638D70-903F-4039-B70B-EB828EF4F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933C4D-43E9-4C0F-8661-9470D2A0F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AD8F98-3837-4CCC-BF19-4D2A80D1C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8F3639-B6B5-4946-9EEC-3AA17C212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4E9AFC-BCAC-4F79-A7F9-A846C35E2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9DD012-7375-4E2A-B2FA-F34CA8F6E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1991E2-5812-4190-938E-FD4922F73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20ACDE-6DA0-40AE-BCF3-AE0F22475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F63D0B-7011-455D-83C0-0A94A6FF4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A87F0B-C37D-4F8E-98B9-6FAF38520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B39875-9062-4818-BA16-0603E6713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E650E8-F3F0-4467-9ABB-EA798F7CF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F8201B-6171-4566-B37E-57D20FF0B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E022E9-80DE-4B0B-84EA-265C8B8BA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96A888-7B1B-4B28-8B95-46062FAB6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B6721F-F82E-47F6-9063-BA262768E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29AF98-946E-4A9B-9D2D-B7CD1E6B8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6623B-C7CB-4A6D-9760-19F25B75BF72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Группа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Прямоуг.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Прямоуг.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Прямоуг.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Прямоуг.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Прямоуг.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Прямоуг.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Прямоуг.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Прямоуг.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Прямоуг.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930B1-FAD8-405D-A7D8-371448D28E0F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" name="Группа 7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57" name="Линия 8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Прямоуг. 9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Прямоуг. 10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Прямоуг. 11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Прямоуг. 12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Группа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99" name="Прямоуг.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" name="Группа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101" name="Прямоуг.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Линия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0A483-2474-4CFC-AAA1-B57F0AD0A84B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Линия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" name="Группа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46" name="Прямоуг.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Прямоуг.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8" name="Группа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49" name="Прямоуг.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Прямоуг.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Прямоуг.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Прямоуг.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Прямоуг.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Прямоуг.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Прямоуг.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Прямоуг.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Прямоуг.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Прямоуг.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B0CF2-8BE8-4A64-8496-72615725F053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Прямоуг. 2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Группа 8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202" name="Прямоуг. 9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Прямоуг. 10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Прямоуг. 11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Прямоуг. 12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Линия 13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Прямоуг. 14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A1B26-238C-4F3E-B9E3-F964A52F3548}" type="slidenum"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9" name="Группа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250" name="Прямоуг.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1" name="Группа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252" name="Прямоуг.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Прямоуг.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Линия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5" name="Группа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256" name="Прямоуг.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Линия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 type="dt" idx="16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 type="ftr" idx="17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 type="sldNum" idx="18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9AA8F-9D8A-44E3-8647-B3C755C6B3C7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ffffff"/>
                </a:solidFill>
                <a:latin typeface="Arial"/>
              </a:rPr>
              <a:t>Финансовый контроль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остав Счетной пала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50752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редседатель Счетной палаты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торый назначается на должность Государственной Думой по представлению Президента РФ сроком на шесть лет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меститель Председател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Счетной палаты,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т. назначается Советом Федерации по представлению Президента РФ сроком на шесть лет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удиторы Счетной палаты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2 человек, кот. назначаются Советом Федерации и Государственной Думой по шесть аудиторов сроком на шесть л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аппарат Счетной палаты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т. состоит из инспекторов и иных штатных сотрудни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Финансовый контроль, осуществляемый Счетной палатой РФ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продолжение)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50752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Счетная палата осуществляет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контрольно-ревизионную,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экспертно-аналитическую, информационную и иные виды деятельности,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обеспечивает единую систему контроля за исполнением федерального бюджета и бюджетов федеральных внебюджетных фондов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.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/>
          </p:nvPr>
        </p:nvSpPr>
        <p:spPr>
          <a:xfrm>
            <a:off x="323640" y="404280"/>
            <a:ext cx="856908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организовывает и проводит </a:t>
            </a:r>
            <a:r>
              <a:rPr b="0" lang="ru-RU" sz="3400" spc="-1" strike="noStrike" u="sng">
                <a:solidFill>
                  <a:srgbClr val="000000"/>
                </a:solidFill>
                <a:uFillTx/>
                <a:latin typeface="Arial"/>
              </a:rPr>
              <a:t>оперативный контроль за исполнением федерального бюджета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 в отчетном году;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 u="sng">
                <a:solidFill>
                  <a:srgbClr val="000000"/>
                </a:solidFill>
                <a:uFillTx/>
                <a:latin typeface="Arial"/>
              </a:rPr>
              <a:t>проводит 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комплексные </a:t>
            </a:r>
            <a:r>
              <a:rPr b="0" lang="ru-RU" sz="3400" spc="-1" strike="noStrike" u="sng">
                <a:solidFill>
                  <a:srgbClr val="000000"/>
                </a:solidFill>
                <a:uFillTx/>
                <a:latin typeface="Arial"/>
              </a:rPr>
              <a:t>ревизий и тематические проверки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 по отдельным разделам и статьям федерального бюджета, бюджетов федеральных внебюджетных фондов;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осуществляет </a:t>
            </a:r>
            <a:r>
              <a:rPr b="0" lang="ru-RU" sz="3400" spc="-1" strike="noStrike" u="sng">
                <a:solidFill>
                  <a:srgbClr val="000000"/>
                </a:solidFill>
                <a:uFillTx/>
                <a:latin typeface="Arial"/>
              </a:rPr>
              <a:t>контроль за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 г</a:t>
            </a:r>
            <a:r>
              <a:rPr b="0" lang="ru-RU" sz="3400" spc="-1" strike="noStrike" u="sng">
                <a:solidFill>
                  <a:srgbClr val="000000"/>
                </a:solidFill>
                <a:uFillTx/>
                <a:latin typeface="Arial"/>
              </a:rPr>
              <a:t>осударственным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 внутренним и внешним </a:t>
            </a:r>
            <a:r>
              <a:rPr b="0" lang="ru-RU" sz="3400" spc="-1" strike="noStrike" u="sng">
                <a:solidFill>
                  <a:srgbClr val="000000"/>
                </a:solidFill>
                <a:uFillTx/>
                <a:latin typeface="Arial"/>
              </a:rPr>
              <a:t>долгом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 РФ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контроль за федеральными внебюджетными фондами, за банковской системой;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осуществляет экспертизу: </a:t>
            </a:r>
            <a:r>
              <a:rPr b="0" lang="ru-RU" sz="3400" spc="-1" strike="noStrike" u="sng">
                <a:solidFill>
                  <a:srgbClr val="000000"/>
                </a:solidFill>
                <a:uFillTx/>
                <a:latin typeface="Arial"/>
              </a:rPr>
              <a:t>законов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 и иных нормативных правовых актов, </a:t>
            </a:r>
            <a:r>
              <a:rPr b="0" lang="ru-RU" sz="3400" spc="-1" strike="noStrike" u="sng">
                <a:solidFill>
                  <a:srgbClr val="000000"/>
                </a:solidFill>
                <a:uFillTx/>
                <a:latin typeface="Arial"/>
              </a:rPr>
              <a:t>международных договоров РФ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3400" spc="-1" strike="noStrike" u="sng">
                <a:solidFill>
                  <a:srgbClr val="000000"/>
                </a:solidFill>
                <a:uFillTx/>
                <a:latin typeface="Arial"/>
              </a:rPr>
              <a:t>федеральных программ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 и иных документов, затрагивающих вопросы финансов РФ;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проводит анализ и исследование нарушений и отклонений в бюджетном процессе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4360" y="277560"/>
            <a:ext cx="8208720" cy="78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330033"/>
                </a:solidFill>
                <a:latin typeface="Times New Roman"/>
              </a:rPr>
              <a:t>Финансовый контроль, осуществляемый Министерством финансов РФ</a:t>
            </a:r>
            <a:endParaRPr b="0" lang="en-US" sz="3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84000" y="1483920"/>
            <a:ext cx="82803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деятельность МинФина регулируется: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- Постановлением от 30 июня 2004 г. №329 «О министерстве финансов РФ»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- Постановлением от 7 апреля 2004 г. №185 «Вопросы Министерства Финансов РФ»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7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инистерство финансов Российской Федерации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Минфин России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федеральный орган исполнительной власти, осуществляющий функции по выработке государственной политики и нормативно-правовому регулированию в сфере бюджетной, налоговой, страховой, валютной, банковской деятельности, государственного долга, аудиторской деятельности, бухгалтерского учета и бухгалтерской отчетности, производства, переработки и обращения драгоценных металлов и драгоценных камней и т.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инФин России возглавляет Министр, назначаемый и освобождаемый от должности Президентом РФ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инистр имеет заместителей назначаемых на должность и освобождаемых от должности Правительством РФ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личество заместителей Министра устанавливается Правительством РФ (два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дачи Минфина в фин.контрол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инистерство финансов РФ осуществляет внутренний контроль за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использованием бюджетных средств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главными распорядителями, распорядителями и получателями бюджетных средст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инистерство финансов РФ организует финансовый контроль,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оверки и ревизи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юридических лиц - получателей гарантий Правительства РФ, бюджетных кредитов, бюджетных ссуд и бюджетных инвестиций, а также осуществляе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5075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инансовый контроль, осуществляемый Министерством финансов РФ (продолжени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250560" y="1268280"/>
            <a:ext cx="871380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ординацию и контроль деятельности находящихся в его ведении  служб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едеральной налоговой службы, Федеральной службы страхового надзора, Федеральной службы финансово-бюджетного надзора, Федеральной службы по финансовому мониторингу и Федерального казначейства, а также Федеральной таможенной службы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соответствии с ФЗ "О драгоценных металлах и драгоценных камнях" организует государственный контроль за качеством сортировки и оценки драгоценных камней и федерального пробирного надзо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330033"/>
                </a:solidFill>
                <a:latin typeface="Times New Roman"/>
              </a:rPr>
              <a:t>Финансовый контроль, осуществляемый Федеральным казначейством</a:t>
            </a:r>
            <a:endParaRPr b="0" lang="en-US" sz="3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6840" y="1628280"/>
            <a:ext cx="843588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Деятельность федерального Казначейства регулирует: Постановление Правительства РФ от 1 декабря 2004 г. № 703 «О федеральном казначействе»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Федеральное казначейство возглавляет руководитель, назначаемый и освобождаемый от должности Правительством РФ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24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Государственный финансовый контроль –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комплексная и целенаправленная система экономико – правовых действий конкретных органов власти и управления, базирующихся на положениях основных законов государства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8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едеральное казначейст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50752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существляет предварительный и текущий контроль за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ведением операций с бюджетными средствам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деятельностью кредитных организаций и других участников бюджетного процесса по исполняемым бюджетам и бюджетам государственных внебюджетных фондо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осуществления указанного контроля и координирует  работу федеральных органов исполнительной власт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914040" y="277560"/>
            <a:ext cx="7978680" cy="78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0033"/>
                </a:solidFill>
                <a:latin typeface="Times New Roman"/>
              </a:rPr>
              <a:t>Классификация финансового контроля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400" spc="-1" strike="noStrike" u="sng">
                <a:solidFill>
                  <a:srgbClr val="000000"/>
                </a:solidFill>
                <a:uFillTx/>
                <a:latin typeface="Arial"/>
              </a:rPr>
              <a:t>По времени проведения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1) предварительный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2) текущий контроль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3) последующий контроль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400" spc="-1" strike="noStrike" u="sng">
                <a:solidFill>
                  <a:srgbClr val="000000"/>
                </a:solidFill>
                <a:uFillTx/>
                <a:latin typeface="Arial"/>
              </a:rPr>
              <a:t>По форме  (регламенту) проведения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обязательный (внешний);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инициативный (внутренний)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82803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330033"/>
                </a:solidFill>
                <a:latin typeface="Times New Roman"/>
              </a:rPr>
              <a:t>Классификация финансового </a:t>
            </a:r>
            <a:br>
              <a:rPr sz="3400"/>
            </a:br>
            <a:r>
              <a:rPr b="0" lang="ru-RU" sz="3400" spc="-1" strike="noStrike">
                <a:solidFill>
                  <a:srgbClr val="330033"/>
                </a:solidFill>
                <a:latin typeface="Times New Roman"/>
              </a:rPr>
              <a:t>контроля (продолжение)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по субъектам контроля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езидентский финансовый контроль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нтроль представительных органов власт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нтроль исполнительных органов власти (Министерство Финансов РФ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нтроль финансово – кредитных органов (Федеральная служба по налогам и сборам, Центральный банк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едомственный финансовый контроль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нутрифирменный финансовый контроль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удиторск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4360" y="274680"/>
            <a:ext cx="820872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330033"/>
                </a:solidFill>
                <a:latin typeface="Times New Roman"/>
              </a:rPr>
              <a:t>Классификация финансового </a:t>
            </a:r>
            <a:br>
              <a:rPr sz="3400"/>
            </a:br>
            <a:r>
              <a:rPr b="0" lang="ru-RU" sz="3400" spc="-1" strike="noStrike">
                <a:solidFill>
                  <a:srgbClr val="330033"/>
                </a:solidFill>
                <a:latin typeface="Times New Roman"/>
              </a:rPr>
              <a:t>контроля (продолжение)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6840" y="1628280"/>
            <a:ext cx="843588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400" spc="-1" strike="noStrike" u="sng">
                <a:solidFill>
                  <a:srgbClr val="000000"/>
                </a:solidFill>
                <a:uFillTx/>
                <a:latin typeface="Arial"/>
              </a:rPr>
              <a:t>По сфере финансовой деятельности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бюджетный контроль;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налоговый контроль;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валютный контроль;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кредитный;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страховой контроль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3516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330033"/>
                </a:solidFill>
                <a:latin typeface="Times New Roman"/>
              </a:rPr>
              <a:t>Классификация финансового </a:t>
            </a:r>
            <a:br>
              <a:rPr sz="3400"/>
            </a:br>
            <a:r>
              <a:rPr b="0" lang="ru-RU" sz="3400" spc="-1" strike="noStrike">
                <a:solidFill>
                  <a:srgbClr val="330033"/>
                </a:solidFill>
                <a:latin typeface="Times New Roman"/>
              </a:rPr>
              <a:t>контроля (продолжение)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11280" y="1628280"/>
            <a:ext cx="807552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5000"/>
          </a:bodyPr>
          <a:p>
            <a:pPr marL="188640" indent="-188640">
              <a:spcBef>
                <a:spcPts val="8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400" spc="-1" strike="noStrike" u="sng">
                <a:solidFill>
                  <a:srgbClr val="000000"/>
                </a:solidFill>
                <a:uFillTx/>
                <a:latin typeface="Arial"/>
              </a:rPr>
              <a:t>по методам проведения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18864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проверки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18864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обследование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18864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надзор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18864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анализ финансовой деятельности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18864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наблюдение (мониторинг)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18864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ревизия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188640" indent="-18864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ринципы организации финансового контроля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086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08600" indent="-156960">
              <a:spcBef>
                <a:spcPts val="8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независимость,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08600" indent="-156960">
              <a:spcBef>
                <a:spcPts val="8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объективность,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08600" indent="-156960">
              <a:spcBef>
                <a:spcPts val="8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компетентность,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08600" indent="-156960">
              <a:spcBef>
                <a:spcPts val="8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гласность. 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4360" y="274320"/>
            <a:ext cx="820872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0033"/>
                </a:solidFill>
                <a:latin typeface="Times New Roman"/>
              </a:rPr>
              <a:t>Принципы организации финансового контроля (продолжение) :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755640" y="1557000"/>
            <a:ext cx="81374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 базовых принципов вытекают другие, носящие прикладной характер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результативность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четкость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логичность требований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еподкупность субъектов контроля, презумпция  невиновности (до суда) в финансовых преступлениях и др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/>
          </p:nvPr>
        </p:nvSpPr>
        <p:spPr>
          <a:xfrm>
            <a:off x="456840" y="620640"/>
            <a:ext cx="843588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Государственный финансовый контроль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–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контроль со стороны государства за формированием и использованием денежных средств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Объект финансового контроля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денежные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распределительные процесс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и формировании и использовании финансовых ресурсов на всех уровнях бюджетной системы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3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330033"/>
                </a:solidFill>
                <a:latin typeface="Times New Roman"/>
              </a:rPr>
              <a:t>Органы государственного или муниципального финансового контроля</a:t>
            </a:r>
            <a:endParaRPr b="0" lang="en-US" sz="3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четная палата РФ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- контрольные и финансовые органы исполнительной власти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- контрольные органы законодательных (представительных) органов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/>
          </p:nvPr>
        </p:nvSpPr>
        <p:spPr>
          <a:xfrm>
            <a:off x="539280" y="1413000"/>
            <a:ext cx="8425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онтрольное управление президента РФ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 структурное подразделение Администрации Президента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еятельность регулируется  Указом президента РФ от 8.06.2004г. №729 «Об утверждении положения о контрольном управлении Президента РФ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50752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нтрольное управление президента РФ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КУ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6840" y="980640"/>
            <a:ext cx="843588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 u="sng">
                <a:solidFill>
                  <a:srgbClr val="000000"/>
                </a:solidFill>
                <a:uFillTx/>
                <a:latin typeface="Arial"/>
              </a:rPr>
              <a:t>Подчиняется непосредственно президенту РФ</a:t>
            </a: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, но взаимодействует со всеми органами исполнительной власти.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чальник Контрольного Управле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является помощником Президента РФ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назначается и освобождается от должности Президентом Р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7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адачи Контрольного управл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24000" y="1125000"/>
            <a:ext cx="864072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нтроль и проверка исполнения государственными органами исполнительной власти, а также организациями федеральных законов, указов, распоряжений и иных решений Президента РФ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нтроль за реализацией общенациональных проекто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нтроль и проверка исполнения поручений Президента РФ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нтроль за реализацией ежегодных посланий Президента РФ Федеральному Собранию РФ, бюджетных посланий и иных программных документов Президента Р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4360" y="274680"/>
            <a:ext cx="8208720" cy="120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300"/>
            </a:br>
            <a:r>
              <a:rPr b="1" lang="ru-RU" sz="3000" spc="-1" strike="noStrike">
                <a:solidFill>
                  <a:srgbClr val="330033"/>
                </a:solidFill>
                <a:latin typeface="Times New Roman"/>
              </a:rPr>
              <a:t>Финансовый контроль, осуществляемый Счетной палатой РФ</a:t>
            </a:r>
            <a:br>
              <a:rPr sz="3000"/>
            </a:br>
            <a:endParaRPr b="0" lang="en-US" sz="3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еятельность счетной палаты регулируется ФЗ  №4-ФЗ «О счетной палате РФ», в котором определено, что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четная палата образована Федеральным Собранием РФ и подотчетна ему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9T06:09:24Z</dcterms:created>
  <dc:creator>Riabova Elena</dc:creator>
  <dc:description/>
  <dc:language>en-US</dc:language>
  <cp:lastModifiedBy>LEGION</cp:lastModifiedBy>
  <dcterms:modified xsi:type="dcterms:W3CDTF">2014-11-10T10:51:49Z</dcterms:modified>
  <cp:revision>33</cp:revision>
  <dc:subject/>
  <dc:title>Финансовый контроль</dc:title>
</cp:coreProperties>
</file>