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3EC0-6F9B-422D-B51D-ED50B67B283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4717-7B9A-4753-80FF-6FB983CD64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став Счетной пала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едседатель Счетной палат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й назначается на должность Государственной Думой по представлению Президента РФ сроком на шесть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меститель Председател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Счетной палаты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. назначается Советом Федерации по представлению Президента РФ сроком на шесть лет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удиторы Счетной палат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2 человек, кот. назначаются Советом Федерации и Государственной Думой по шесть аудиторов сроком на шесть л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ппарат Счетной палат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т. состоит из инспекторов и иных штатных сотрудник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1FC5-06FF-4788-A357-31AA59C5FF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Финансовый контроль, осуществляемый Счетной палатой РФ 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(продолжение)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ная палата осуществ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о-ревизион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но-аналитическую, информационную и иные виды деятельно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 единую систему контроля за исполнением федерального бюджета и бюджетов федеральных внебюджетных фондов,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.е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23E1-35B5-45B8-ABF7-D7D6FE7A69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ывает и проводи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перативный контроль за исполнением федерального бюдж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отчетном год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води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ны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визий и тематические провер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отдельным разделам и статьям федерального бюджета, бюджетов федеральных внебюджетных фон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троль з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ударственны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нутренним и внешним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лг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6D44-E94F-429A-9346-6D1C4FFA74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федеральными внебюджетными фондами, за банковской систем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 экспертизу: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к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иных нормативных правовых актов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ждународных договоров РФ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едеральных програм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иных документов, затрагивающих вопросы финансо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ит анализ и исследование нарушений и отклонений в бюджетном проце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F1AB-47A1-4BED-9154-667B9BF223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Финансовый контроль, осуществляемый Министерством финансов Р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МинФина регулируе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тановлением от 30 июня 2004 г. №329 «О министерстве финансов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тановлением от 7 апреля 2004 г. №185 «Вопросы Министерства Финансов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6B72-3DE8-4CE2-A27A-E77A639FA6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инистерство финансов Российской Федерации (Минфин России)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едеральный орган исполнительной власти, осуществляющий функции по выработке государственной политики и нормативно-правовому регулированию в сфере бюджетной, налоговой, страховой, валютной, банковской деятельности, государственного долга, аудиторской деятельности, бухгалтерского учета и бухгалтерской отчетности, производства, переработки и обращения драгоценных металлов и драгоценных камне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8EFB-AD6A-4F6A-B16E-9888775AED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Фин России возглавляет Министр, назначаемый и освобождаемый от должности Президентом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р имеет заместителей назначаемых на должность и освобождаемых от должности Правительством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заместителей Министра устанавливается Правительством РФ (дв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B386-0EE0-40CC-B814-AF568EA961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Задачи Минфина в фин.контрол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ерство финансов РФ осуществляет внутренний контроль з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спользованием бюджетных средст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лавными распорядителями, распорядителями и получателями бюджет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ерство финансов РФ организует финансовый контроль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рки и ревиз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юридических лиц - получателей гарантий Правительства РФ, бюджетных кредитов, бюджетных ссуд и бюджетных инвестиций, а также осуществ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0929-12EE-46AC-94D2-CFA7E7DE8D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нансовый контроль, осуществляемый Министерством финансов РФ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цию и контроль деятельности находящихся в его ведении  служб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ой налоговой службы, Федеральной службы страхового надзора, Федеральной службы финансово-бюджетного надзора, Федеральной службы по финансовому мониторингу и Федерального казначейства, а также Федеральной таможенной службы)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оответствии с ФЗ "О драгоценных металлах и драгоценных камнях" организует государственный контроль за качеством сортировки и оценки драгоценных камней и федерального пробирного надзор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91F4-4A85-4781-A4B2-4F2DCDED67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Финансовый контроль, осуществляемый Федеральным казначейство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федерального Казначейства регулирует: Постановление Правительства РФ от 1 декабря 2004 г. № 703 «О федеральном казначейств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ое казначейство возглавляет руководитель, назначаемый и освобождаемый от должности Правительством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8019-A185-48E6-A6B3-2247AD82F8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сударственный финансовый контрол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ная и целенаправленная система экономико – правовых действий конкретных органов власти и управления, базирующихся на положениях основных законов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1A1D-BE61-4161-8B5F-4319EF8E8B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Федеральное казначейств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 предварительный и текущий контроль з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едением операций с бюджетными средств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еятельностью кредитных организаций и других участников бюджетного процесса по исполняемым бюджетам и бюджетам государственных внебюджетных фон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существления указанного контроля и координирует  работу федеральных органов исполнительной вла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D1EB-C4F7-4291-8386-A04DD1ED82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финансового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времени прове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варите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текущий контро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оследующий 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форме  (регламенту) прове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й (внешн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ициативный (внутренн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BF5F-BF49-4C16-BBB1-C42084ADFA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лассификация финансового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нтроля (продолжение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субъектам контрол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идентский финансов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представительных органов вла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исполнительных органов власти (Министерство Финансов РФ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финансово – кредитных органов (Федеральная служба по налогам и сборам, Центральный банк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омственный финансов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ифирменный финансов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диторс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80D8-C06F-4F4E-8B45-5FC19AC168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финансовог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я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сфере финансовой деятель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н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ой контр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1509-0EC8-46BC-B606-31619B57E6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нципы организации финансового контрол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независимость,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объективность,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компетентность,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гласность.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6ACA-D073-43D7-9314-1C90FFB4B3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нципы организации финансового контроля (продолжение) 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Из базовых принципов вытекают другие, носящие прикладной характер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ивн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к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ность требова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дкупность субъектов контроля, презумпция  невиновности (до суда) в финансовых преступлениях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BE00-CB60-4AAB-BAAF-0F1B81BC04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сударственный финансовый контро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со стороны государства за формированием и использованием денеж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77DE-76FB-4536-8671-1780C684FF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финансового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нежны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пределитель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формировании и использовании финансовых ресурсов на всех уровнях бюджет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967D-F918-41F7-80B9-9EE643E777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рганы государственного или муниципального финансового контрол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четная палата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нтрольные и финансовые органы исполнительной вла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нтрольные органы законодательных (представительных) орг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F70C-3D33-40D6-88E6-B01507C9B1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нтрольное управление президента РФ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структурное подразделение Администрации Президен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регулируется  Указом президента РФ от 8.06.2004г. №729 «Об утверждении положения о контрольном управлении Президента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61AD-3B02-48BF-A5FA-6BC49DDF09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Контрольное управление президента РФ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Подчиняется непосредственно президенту РФ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но взаимодействует со всеми органами исполнительной власт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ик Контрольного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вляется помощником Президента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начается и освобождается от должности Президентом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9C0A-E440-4B1C-BC50-F5299BFEB7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дачи Контрольного управл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и проверка исполнения государственными органами исполнительной власти, а также организациями федеральных законов, указов, распоряжений и иных решений Президента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реализацией общенациональных прое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и проверка исполнения поручений Президента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реализацией ежегодных посланий Президента РФ Федеральному Собранию РФ, бюджетных посланий и иных программных документов Президент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D6C0-8686-4484-8BA9-DC841F2A0A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Финансовый контроль, осуществляемый Счетной палатой РФ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счетной палаты регулируется ФЗ  №4-ФЗ «О счетной палате РФ», в котором определено, чт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четная палата образована Федеральным Собранием РФ и подотчетна ем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C931-835E-44A9-A395-72AD35D10C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9677B-DFE7-4F80-BCDE-0FDE55C2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92D30-BBA3-4009-80C3-F61819FD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C9824-773B-4F63-85B6-605E97BC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B2F98-F57C-4C16-94C5-75049991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4D47-B564-479A-B389-96DACAD85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2E17-CF2A-490B-9D64-F2E26078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AAD2-1967-474C-A351-8629A563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5E95-2ECD-4CA8-99E7-A0F9FA9E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CE5C-7A37-4A1E-9665-64AE2758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F133-7908-4A36-B52D-8F1E0D81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83E9-B2B7-4FCF-9E77-182E3D2B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C0EED-3A56-4638-8532-95C767B3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64F2-30D8-41B9-B021-8F52D76C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3F2B-614E-410F-8F52-14EB11E6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FF03-9C94-44A7-9675-16C32685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841A-8A0E-437D-81DD-352BEF0C5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2CDF-6470-4107-9A35-69B6F01B9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1257D-C566-49C6-BBBF-1EEAF005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F5F34-45B8-4870-A41F-0CDBE866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16544-F283-4254-AC5A-B1BC9128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CB558-46D9-4547-984E-723A4C68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9C0C2-A914-4BC0-8E8B-B01109F3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F735E-EBCB-42AD-9F06-8D5C7D69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C4445-1410-48F4-9C81-F508169D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8CD52-D1E3-453B-8916-0AC04D15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99BD3-B611-4679-AAF2-2239D217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343C0-1809-4B05-8D94-3DF44D8F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DFCEA-1AE7-491E-8790-3FF07177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BE245-EA40-4550-877A-1C14E865D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111A9-2823-4D5D-9395-67691BF5D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D88F2-9898-447A-B28C-555E617DD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67216-4CB1-4C3A-A672-FF08DF32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ECE6B-A227-448B-9DC1-F2B5998A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A5409-BC40-424B-B480-ACD20FB2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17499-8F02-4E73-836A-44BE0882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DF6B0-64C6-4AB3-998A-7DCE7A76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4659C-02B2-4F4D-97C1-FBBC716F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AA4D3-5C10-4A5D-92CE-DA0FCEF1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8BDBD-429E-48BA-BD8B-80153E4E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341DC-ECC6-4D35-A59D-A51D6C6D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5EB3B-3B51-4CBD-9842-59BD8D10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226AA-1956-43F8-864E-69462661C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2FBBA-ED38-44D1-A851-89E22477F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FC9C1-6041-4888-955B-1225E7B1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3AFAA-A2D2-4E85-A54B-5575C254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A12FC-F0AF-47BF-96F8-4B2F5D8D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EB81F-6284-4DA2-961D-A49432ED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822D9-663B-4892-BDA1-03C68B5E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7D01E-4FDF-4422-AB40-B7D3F015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AF7C0-8688-4A0E-BF6E-2F151E62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DF22E-853E-4487-B8F5-117AED72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5ECE6-8CA4-4018-B219-1E53E7A3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C5B07-00CB-4C0A-A008-52F62CB6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5EE7C-6BE4-46E4-B372-83310E6A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EBE31-278B-48C7-AE4C-D672CDE18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6A361-8440-45F1-AB9C-9A7A669C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BEB37-7567-4471-854A-996FC8C2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E5D0C-C1A9-4E5D-A5F6-E12AFB823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D47B9-03D4-4ECC-BCDC-1AA26163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CF023-E250-48D5-B259-54129F7B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30370-34B1-4518-B4A7-3ED357EA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6269B-927E-4A38-AD75-2A5F410C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B8B81-8155-4479-A77A-F640C110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D7AB5-A8AE-4217-B80F-DDD5F543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E8BC3-E2AD-4588-9840-3B2F3F40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86301-E851-4445-A675-7A97BCF7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21944-1352-430F-B795-F9202B86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96173-D625-4687-9B6A-BC5BBFF3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A9D71-FD2A-4305-8F74-1130E5C80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B220C-BD06-4A17-935D-398F6B983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31678-5A54-4E7F-B09D-B1C72A6F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46BFD-4E2E-4E0E-B52A-4ED6006F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B975-9D90-4FF0-82F3-61AEB0AA091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Группа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Прямоуг.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Прямоуг.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Прямоуг.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Прямоуг.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Прямоуг.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Прямоуг.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Прямоуг.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Прямоуг.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Прямоуг.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2371-0958-401D-A406-997A51C9B8E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Группа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57" name="Линия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Прямоуг.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Прямоуг.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Прямоуг.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Прямоуг.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Группа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9" name="Прямоуг.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Группа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01" name="Прямоуг.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Линия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5F7F-5694-4E82-A1A0-E30E85110C8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Линия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Группа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6" name="Прямоуг.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Прямоуг.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Группа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49" name="Прямоуг.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Прямоуг.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Прямоуг.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Прямоуг.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Прямоуг.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Прямоуг.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Прямоуг.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Прямоуг.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Прямоуг.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Прямоуг.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A4AA-45EB-4C85-BAC0-110F7BCF531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.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Группа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202" name="Прямоуг.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Прямоуг.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Прямоуг.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Прямоуг.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Линия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Прямоуг.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AE65-EACF-4FF0-B40C-AFD70EC8FCA8}" type="slidenum"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Группа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50" name="Прямоуг.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Группа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52" name="Прямоуг.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Прямоуг.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Линия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Группа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56" name="Прямоуг.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Линия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9856-0A2A-4ED1-B675-E66DADFD27C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Финансовый контроль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ав Счетной пал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5075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едседатель Счетной пала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назначается на должность Государственной Думой по представлению Президента РФ сроком на шесть л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меститель Председа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четной палаты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. назначается Советом Федерации по представлению Президента РФ сроком на шесть лет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удиторы Счетной пала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 человек, кот. назначаются Советом Федерации и Государственной Думой по шесть аудиторов сроком на шесть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ппарат Счетной палаты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. состоит из инспекторов и иных штатных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Финансовый контроль, осуществляемый Счетной палатой РФ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5075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четная палата осуществляет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онтрольно-ревизионную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экспертно-аналитическую, информационную и иные виды деятельности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еспечивает единую систему контроля за исполнением федерального бюджета и бюджетов федеральных внебюджетных фондов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569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рганизовывает и проводит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оперативный контроль за исполнением федерального бюджета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в отчетном году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роводит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омплексные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ревизий и тематические проверки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по отдельным разделам и статьям федерального бюджета, бюджетов федеральных внебюджетных фондов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существляет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контроль за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г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осударственным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внутренним и внешним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долгом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РФ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онтроль за федеральными внебюджетными фондами, за банковской системой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существляет экспертизу: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законов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и иных нормативных правовых актов,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международных договоров РФ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федеральных программ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и иных документов, затрагивающих вопросы финансов РФ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роводит анализ и исследование нарушений и отклонений в бюджетном процесс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4360" y="277560"/>
            <a:ext cx="820872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33"/>
                </a:solidFill>
                <a:latin typeface="Times New Roman"/>
              </a:rPr>
              <a:t>Финансовый контроль, осуществляемый Министерством финансов РФ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еятельность МинФина регулируется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- Постановлением от 30 июня 2004 г. №329 «О министерстве финансов РФ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- Постановлением от 7 апреля 2004 г. №185 «Вопросы Министерства Финансов РФ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стерство финансов Российской Федерац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Минфин Росси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федеральный орган исполнительной власти, осуществляющий функции по выработке государственной политики и нормативно-правовому регулированию в сфере бюджетной, налоговой, страховой, валютной, банковской деятельности, государственного долга, аудиторской деятельности, бухгалтерского учета и бухгалтерской отчетности, производства, переработки и обращения драгоценных металлов и драгоценных камней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Фин России возглавляет Министр, назначаемый и освобождаемый от должности Президентом Р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истр имеет заместителей назначаемых на должность и освобождаемых от должности Правительством Р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о заместителей Министра устанавливается Правительством РФ (дв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и Минфина в фин.контр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истерство финансов РФ осуществляет внутренний контроль за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спользованием бюджетных средст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лавными распорядителями, распорядителями и получателями бюджетных сред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истерство финансов РФ организует финансовый контроль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верки и ревиз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юридических лиц - получателей гарантий Правительства РФ, бюджетных кредитов, бюджетных ссуд и бюджетных инвестиций, а также осуществля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овый контроль, осуществляемый Министерством финансов РФ 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ординацию и контроль деятельности находящихся в его ведении  служб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деральной налоговой службы, Федеральной службы страхового надзора, Федеральной службы финансово-бюджетного надзора, Федеральной службы по финансовому мониторингу и Федерального казначейства, а также Федеральной таможенной службы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ответствии с ФЗ "О драгоценных металлах и драгоценных камнях" организует государственный контроль за качеством сортировки и оценки драгоценных камней и федерального пробирного надз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33"/>
                </a:solidFill>
                <a:latin typeface="Times New Roman"/>
              </a:rPr>
              <a:t>Финансовый контроль, осуществляемый Федеральным казначейством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еятельность федерального Казначейства регулирует: Постановление Правительства РФ от 1 декабря 2004 г. № 703 «О федеральном казначействе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Федеральное казначейство возглавляет руководитель, назначаемый и освобождаемый от должности Правительством РФ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осударственный финансовый контроль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мплексная и целенаправленная система экономико – правовых действий конкретных органов власти и управления, базирующихся на положениях основных законов государств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едеральное казначей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507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уществляет предварительный и текущий контроль з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едением операций с бюджетными средств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еятельностью кредитных организаций и других участников бюджетного процесса по исполняемым бюджетам и бюджетам государственных внебюджетных фонд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существления указанного контроля и координирует  работу федеральных органов исполнительной вла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Классификация финансового контроля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о времени проведения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1) предварительны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2) текущий контроль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3) последующий контрол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о форме  (регламенту) проведения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язательный (внешний)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инициативный (внутренний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280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лассификация финансового </a:t>
            </a:r>
            <a:br>
              <a:rPr sz="3400"/>
            </a:b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онтроля (продолжение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субъектам контроля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идентский финансовый контро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представительных органов вла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исполнительных органов власти (Министерство Финансов РФ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финансово – кредитных органов (Федеральная служба по налогам и сборам, Центральный банк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омственный финансовый контро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ифирменный финансовый контро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удитор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4360" y="274680"/>
            <a:ext cx="820872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лассификация финансового </a:t>
            </a:r>
            <a:br>
              <a:rPr sz="3400"/>
            </a:b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онтроля (продолжение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4358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о сфере финансовой деятельности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бюджетный контроль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алоговый контроль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алютный контроль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редитный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траховой контроль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351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лассификация финансового </a:t>
            </a:r>
            <a:br>
              <a:rPr sz="3400"/>
            </a:b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онтроля (продолжение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0755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о методам проведения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роверки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следование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адзор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анализ финансовой деятельност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аблюдение (мониторинг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евизи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нципы организации финансового контрол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8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езависимость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8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ъективность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8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омпетентность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8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гласность.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8208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Принципы организации финансового контроля (продолжение) 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8137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базовых принципов вытекают другие, носящие прикладной характер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зультативнос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тк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огичность требовани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подкупность субъектов контроля, презумпция  невиновности (до суда) в финансовых преступлениях и д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6840" y="62064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осударственный финансовый контрол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нтроль со стороны государства за формированием и использованием денежных средст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ъект финансового контрол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нежны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пределительные процес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 формировании и использовании финансовых ресурсов на всех уровнях бюджетной систе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Times New Roman"/>
              </a:rPr>
              <a:t>Органы государственного или муниципального финансового контроля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четная палата РФ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контрольные и финансовые органы исполнительной власт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контрольные органы законодательных (представительных) орган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539280" y="1413000"/>
            <a:ext cx="8425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трольное управление президента РФ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структурное подразделение Администрации Президент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ь регулируется  Указом президента РФ от 8.06.2004г. №729 «Об утверждении положения о контрольном управлении Президента РФ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ное управление президента РФ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84358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000000"/>
                </a:solidFill>
                <a:uFillTx/>
                <a:latin typeface="Arial"/>
              </a:rPr>
              <a:t>Подчиняется непосредственно президенту РФ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, но взаимодействует со всеми органами исполнительной власти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альник Контрольного Управ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является помощником Президента РФ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назначается и освобождается от должности Президентом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и Контрольного у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и проверка исполнения государственными органами исполнительной власти, а также организациями федеральных законов, указов, распоряжений и иных решений Президента РФ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за реализацией общенациональных проек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и проверка исполнения поручений Президента РФ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за реализацией ежегодных посланий Президента РФ Федеральному Собранию РФ, бюджетных посланий и иных программных документов Президента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4360" y="274680"/>
            <a:ext cx="820872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1" lang="ru-RU" sz="3000" spc="-1" strike="noStrike">
                <a:solidFill>
                  <a:srgbClr val="330033"/>
                </a:solidFill>
                <a:latin typeface="Times New Roman"/>
              </a:rPr>
              <a:t>Финансовый контроль, осуществляемый Счетной палатой РФ</a:t>
            </a:r>
            <a:br>
              <a:rPr sz="3000"/>
            </a:b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ь счетной палаты регулируется ФЗ  №4-ФЗ «О счетной палате РФ», в котором определено, чт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четная палата образована Федеральным Собранием РФ и подотчетна ем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6:09:24Z</dcterms:created>
  <dc:creator>Riabova Elena</dc:creator>
  <dc:description/>
  <dc:language>en-US</dc:language>
  <cp:lastModifiedBy>LEGION</cp:lastModifiedBy>
  <dcterms:modified xsi:type="dcterms:W3CDTF">2014-11-10T10:51:49Z</dcterms:modified>
  <cp:revision>33</cp:revision>
  <dc:subject/>
  <dc:title>Финансовый контроль</dc:title>
</cp:coreProperties>
</file>