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7.wmf" ContentType="image/x-wmf"/>
  <Override PartName="/ppt/media/image6.wmf" ContentType="image/x-wmf"/>
  <Override PartName="/ppt/media/image19.jpeg" ContentType="image/jpeg"/>
  <Override PartName="/ppt/media/image4.wmf" ContentType="image/x-wmf"/>
  <Override PartName="/ppt/media/image3.wmf" ContentType="image/x-wmf"/>
  <Override PartName="/ppt/media/image2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5.png" ContentType="image/png"/>
  <Override PartName="/ppt/media/image14.wmf" ContentType="image/x-wmf"/>
  <Override PartName="/ppt/media/image13.jpeg" ContentType="image/jpeg"/>
  <Override PartName="/ppt/media/image24.png" ContentType="image/png"/>
  <Override PartName="/ppt/media/image1.png" ContentType="image/png"/>
  <Override PartName="/ppt/media/image16.png" ContentType="image/png"/>
  <Override PartName="/ppt/media/wind.wav" ContentType="audio/x-wav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BB47-9D00-4F69-B9F4-49202D25B0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Мбоу Полх-Майданская сош  учитель физики и математики КозинаТ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62D2-4849-4C0F-BB32-286C01DEBB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Задачи на прогрес – сии,дошедшие до нас из древности,  были связаны с запросами хозяйственной жизни: распределение продуктов,деление наследства,строи-  тельство,размеже- вание земельных наде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FE44-341E-4312-A5B9-45EDDDC1B4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Задача из египетского папируса Ахмеса: «Пусть тебе сказано: раздели 10 мер ячменя между 10 человеками,разность же между каждым человеком и его соседом равна одной восьмой м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C8F7-70D7-4410-AEC6-8DB997CE0E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Карл Гаусс(1777-185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шёл моменталь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умму всех натураль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ых чисел от 1 д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будучи ещё ученик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чальной шко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Решение:1+2+3+4+….+99+100=(1+100)+(2+99)+ (3+98)+…..=101*50=50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A1D9-A588-43E5-AC47-C71640CCEE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Индийский царь Шерам позвал к себе изобрета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ля шахматной игры,своего подданного Сету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чтобы наградить его за остроумную выдум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ета,издеваясь над царём,по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ребовал за первую клетку шах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матной доски 1 зерно,за втору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2 зерна,за третью 4 зерна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Обрадованный царь посмеял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д Сетой,и приказал выда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ему такую награду.Решение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Геометрическая прогре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  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1;2;4;8;….  b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=1;q=2;n=64.S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64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=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                   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67A6-3D95-4C43-9863-766072E6FA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Прогрессии в наше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B8CD-AD6A-4728-A1B0-DDE468686F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А.С Пушкин «Евгений Онеги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…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.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Как мы не бились отличить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Ямб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чётных слогах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2;4;6;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Хорей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нечётных слогах сти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: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1;3;5;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CE06-8DC7-472A-A691-0C289E7F8F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Ямб: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«Мой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дя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дя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са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мых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чест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ых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пра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вил…»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Арифметическая прогрессия: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2;4;6;8;……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Хорей: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«Я про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пал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как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зверь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в за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го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е .» Б.Л.Пастернак. 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Арифметическая прогрессия:</a:t>
            </a:r>
            <a:br>
              <a:rPr sz="1200"/>
            </a:b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;3;5;7;…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FA8C-F350-4FC4-BA40-330D91D459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При хранение брёвен строевого леса,их укладывают так,как показано на рису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колько брёвен находится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одной кладке,если в её ос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вании положить 12 брёвен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Решение:а</a:t>
            </a:r>
            <a:r>
              <a:rPr b="0" lang="ru-RU" sz="9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=12;а</a:t>
            </a:r>
            <a:r>
              <a:rPr b="0" lang="ru-RU" sz="9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=11;а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d=1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a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+(n-1)d;n=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;S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78.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F465-5057-47FC-B18D-CB28805411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В благоприятных условиях бактерии размножаются так,что на протяжении одной минуты одна из них делится на две.Указать количество бактерий,рождённых одной бактерией за 7 минут.  Решение:Геометрич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кая прогрессия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b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1;q=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n=7.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12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5F25-AD61-446E-BB9A-DEB9C55A6A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Бесконечно убывающая  геометрическая прогре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Геометрическая прогрессия называется бесконечно убывающей,если модуль её знаменателя меньше еди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уммой бесконечно убывающей геометрической прогрессии называют  число,к которому стремится сумма её первых 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членов при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 n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  <a:ea typeface="Arial"/>
              </a:rPr>
              <a:t>→</a:t>
            </a:r>
            <a:r>
              <a:rPr b="1" i="1" lang="en-US" sz="1200" spc="-1" strike="noStrike">
                <a:solidFill>
                  <a:srgbClr val="ff33cc"/>
                </a:solidFill>
                <a:latin typeface="Century Schoolbook"/>
                <a:ea typeface="Arial"/>
              </a:rPr>
              <a:t>∞</a:t>
            </a:r>
            <a:r>
              <a:rPr b="1" i="1" lang="ru-RU" sz="1200" spc="-1" strike="noStrike">
                <a:solidFill>
                  <a:srgbClr val="ff33cc"/>
                </a:solidFill>
                <a:latin typeface="Century Schoolbook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74B6-8E65-470B-9AEA-F797C3812C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Закончился двадцатый 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Куда стремится челове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Изучен космос и мор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Строенье звёзд и вся зем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Но математиков зовё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Известный лозун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«Прогрессия-движение вперёд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2089-B468-4F28-ABA9-2FDD197783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Формирование: понятий последовательность, арифметическая и геометрическая прогрессии, бесконечно убывающая геометрическая прогрессия,  умений работать с формулами.  Формирование умений видеть связь математики с жизн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Развитие у учащихся познавательного интереса, памяти,речи,мышления,внимания,навыков самостоятельной работы,умения проводить аналогию,сравни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Воспитание у учащихся ответственности,   добросовестности,дисциплины,самостоятельности,навыков общения со сверстниками,интерес к истории математики,инициативу и творч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FC65-816C-4222-A95B-3FDD2EE1A0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знать:определение арифметической,геометрической, бесконечно  убывающей геометрической прогрессий, 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 прогрессий,знать,что такое числовая последовательность и способы её зад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уметь:распознавать арифметическую и геометрическую прогрессии,применять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 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прогрессий к решению задач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86F2-F7CE-4472-9034-8BB2D494BF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Числовая последовательность-одно  из основных понятий матема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В математике изучаются бесконеч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ые числовые последова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а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4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5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…а</a:t>
            </a:r>
            <a:r>
              <a:rPr b="1" i="1" lang="en-US" sz="1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Число а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называют первым членом  последовательности,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2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зывают вторым членом последовательнос- ти и т.д. а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зывают 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-м членом последова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2766-D2A4-406D-80A0-6F56DAF0C9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Прогрессии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частные виды после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довательност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встречаются в древ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них египетских папи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русах и в клинопис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ных табличках вавилоня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CA30-9EA3-44BD-AE68-A863D102A6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Арифметическая и геометрическая прогре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4B9D-74F0-4B2E-8964-9B31189972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Зная эти формулы, можно решить много интересных задач  исторического,  литературного и   практического содерж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CABC-EB19-42EF-AD4A-27FBE93BE9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таринные  задачи через   века 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E282-06E1-4DD6-839E-710E72A83B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8DF8-1CBE-4B56-A73F-675FD792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397B-CF56-4276-8830-401C0BCB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ACF-2435-4065-91F6-13B4CE81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F120-B8CC-4BE3-8CEB-5A2568E4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FE86-7AEB-40C7-A0A5-51BE2211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88B7-E049-4356-A0F5-430FAEE7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F4C3-C160-440D-89A3-AB3C87D7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E4FE-282F-48F3-9F2E-CEB66A01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C3FB-663C-4258-95E3-9FB61AAA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E6B4-AADB-4163-9289-A8A41FEE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64FF-3B2F-4B01-850E-5E715023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FFD-BCCF-4F5A-B2B3-A810DE6C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8D8C-2532-47CA-9C14-EF3C7268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4161-B375-406D-9998-FA7E2AB7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FD52-796C-4A78-83FE-B14BC08B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AF7E-CBAF-4DB4-9F64-3DDBB37A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E954-D70F-4A93-A031-40DAA400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7374-5C11-4E3B-8B57-842C343B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D6E4-1A02-4FD2-AA08-7E5D3B60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EB25-C73D-4618-97F4-B213F8A7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567-65BE-489D-8560-BA09C50D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00C-DE7C-4A82-8E1D-0ECE63A7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AD17-81C9-4612-836F-035ECA49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2091-D6E9-4C55-98EC-B8E762C6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3CAD-510E-4F91-B69D-51663EA8C0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62CB-5650-44FC-B6CF-CC9D1F0A33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1116000" y="1557360"/>
            <a:ext cx="7586640" cy="29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2f"/>
                    </a:gs>
                    <a:gs pos="100000">
                      <a:srgbClr val="ff0066"/>
                    </a:gs>
                  </a:gsLst>
                  <a:lin ang="2700000"/>
                </a:gradFill>
                <a:latin typeface="Impact"/>
              </a:rPr>
              <a:t>прогре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2f"/>
                  </a:gs>
                  <a:gs pos="100000">
                    <a:srgbClr val="ff0066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619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Мбоу Полх-Майданская сош  учитель физики и математики КозинаТ.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35640" y="1653840"/>
            <a:ext cx="40370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Задачи на прогрес – сии,дошедшие до нас из древности,  были связаны с запросами хозяйственной жизни: распределение продуктов,деление наследства,строи-  тельство,размеже- вание земельных наде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2400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468360" y="1628640"/>
            <a:ext cx="822960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108000" y="2205000"/>
            <a:ext cx="4209840" cy="3254400"/>
          </a:xfrm>
          <a:prstGeom prst="rect">
            <a:avLst/>
          </a:prstGeom>
          <a:ln w="0">
            <a:noFill/>
          </a:ln>
        </p:spPr>
      </p:pic>
      <p:sp>
        <p:nvSpPr>
          <p:cNvPr id="263" name="WordArt 7"/>
          <p:cNvSpPr txBox="1"/>
          <p:nvPr/>
        </p:nvSpPr>
        <p:spPr>
          <a:xfrm>
            <a:off x="826920" y="0"/>
            <a:ext cx="713592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 в древности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Задача из египетского папируса Ахмеса: «Пусть тебе сказано: раздели 10 мер ячменя между 10 человеками,разность же между каждым человеком и его соседом равна одной восьмой ме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WordArt 4"/>
          <p:cNvSpPr txBox="1"/>
          <p:nvPr/>
        </p:nvSpPr>
        <p:spPr>
          <a:xfrm>
            <a:off x="1835280" y="-243000"/>
            <a:ext cx="4868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Древний Егип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3809880" cy="25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Object 6"/>
          <p:cNvGraphicFramePr/>
          <p:nvPr/>
        </p:nvGraphicFramePr>
        <p:xfrm>
          <a:off x="4430880" y="4127400"/>
          <a:ext cx="2990520" cy="125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30880" y="4127400"/>
                    <a:ext cx="2990520" cy="1251000"/>
                  </a:xfrm>
                  <a:prstGeom prst="rect">
                    <a:avLst/>
                  </a:prstGeom>
                  <a:ln w="38160">
                    <a:solidFill>
                      <a:srgbClr val="ff0066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71" name="Picture 7" descr=""/>
          <p:cNvPicPr/>
          <p:nvPr/>
        </p:nvPicPr>
        <p:blipFill>
          <a:blip r:embed="rId4"/>
          <a:stretch/>
        </p:blipFill>
        <p:spPr>
          <a:xfrm>
            <a:off x="4500720" y="5589720"/>
            <a:ext cx="3036600" cy="9158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5" name="wind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016160" y="1630080"/>
            <a:ext cx="407988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Карл Гаусс(1777-185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ашёл моменталь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сумму всех натураль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ых чисел от 1 до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будучи ещё ученик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ачальной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Решение: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1+2+3+4+….+99+100=(1+100)+(2+99)+ (3+98)+…..=101*50=50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24000" y="1700280"/>
            <a:ext cx="3771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1077840" y="1884240"/>
            <a:ext cx="2282760" cy="3407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"/>
          <p:cNvPicPr/>
          <p:nvPr/>
        </p:nvPicPr>
        <p:blipFill>
          <a:blip r:embed="rId3"/>
          <a:stretch/>
        </p:blipFill>
        <p:spPr>
          <a:xfrm>
            <a:off x="684360" y="1773360"/>
            <a:ext cx="2979720" cy="3819240"/>
          </a:xfrm>
          <a:prstGeom prst="rect">
            <a:avLst/>
          </a:prstGeom>
          <a:ln w="0">
            <a:noFill/>
          </a:ln>
        </p:spPr>
      </p:pic>
      <p:sp>
        <p:nvSpPr>
          <p:cNvPr id="279" name="WordArt 8"/>
          <p:cNvSpPr txBox="1"/>
          <p:nvPr/>
        </p:nvSpPr>
        <p:spPr>
          <a:xfrm>
            <a:off x="2195640" y="0"/>
            <a:ext cx="422100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Герм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4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Индийский царь Шерам позвал к себе изобретат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ля шахматной игры,своего подданного Сету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чтобы наградить его за остроумную выдум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Сета,издеваясь над царём,по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ребовал за первую клетку шах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матной доски 1 зерно,за втору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2 зерна,за третью 4 зерна и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Обрадованный царь посмеял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ад Сетой,и приказал выд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ему такую награду.Решение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Геометрическая прогре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 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1;2;4;8;….  b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=1;q=2;n=64.S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64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=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                   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WordArt 4"/>
          <p:cNvSpPr txBox="1"/>
          <p:nvPr/>
        </p:nvSpPr>
        <p:spPr>
          <a:xfrm>
            <a:off x="1979640" y="0"/>
            <a:ext cx="496584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Задача-леген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4500720" y="6093000"/>
            <a:ext cx="1539720" cy="67932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332000" cy="1185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2922480" cy="364644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4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cc"/>
                </a:solidFill>
                <a:latin typeface="Arial"/>
              </a:rPr>
              <a:t>Прогрессии в нашей жизни.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2916360" y="3645000"/>
            <a:ext cx="2903400" cy="2870280"/>
          </a:xfrm>
          <a:prstGeom prst="rect">
            <a:avLst/>
          </a:prstGeom>
          <a:ln w="0">
            <a:noFill/>
          </a:ln>
        </p:spPr>
      </p:pic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А.С Пушкин «Евгений Онегин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…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.Не мог он ямба от хоре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Как мы не бились отличить…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Ямб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чётных слогах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2;4;6;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Хорей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нечётных слогах сти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: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1;3;5;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WordArt 4"/>
          <p:cNvSpPr txBox="1"/>
          <p:nvPr/>
        </p:nvSpPr>
        <p:spPr>
          <a:xfrm>
            <a:off x="1042920" y="115920"/>
            <a:ext cx="748512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 в литератур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71280" y="2924280"/>
            <a:ext cx="845964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Ямб: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«Мой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дя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дя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а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мых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чест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ных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ра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вил…»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Арифметическая прогрессия: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2;4;6;8;……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Хорей: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«Я про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ал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как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зверь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в за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го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не .» Б.Л.Пастернак. 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Арифметическая прогрессия: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;3;5;7;…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936800" cy="2259000"/>
          </a:xfrm>
          <a:prstGeom prst="rect">
            <a:avLst/>
          </a:prstGeom>
          <a:ln w="0">
            <a:noFill/>
          </a:ln>
        </p:spPr>
      </p:pic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При хранение брёвен строевого леса,их укладывают так,как показано на рисун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Сколько брёвен находится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одной кладке,если в её осн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вании положить 12 брёвен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Решение:а</a:t>
            </a: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=12;а</a:t>
            </a: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=11;а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d=1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a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+(n-1)d;n=1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;S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78.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WordArt 4"/>
          <p:cNvSpPr txBox="1"/>
          <p:nvPr/>
        </p:nvSpPr>
        <p:spPr>
          <a:xfrm>
            <a:off x="1979640" y="0"/>
            <a:ext cx="515304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Строитель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301" name="Picture 5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3127320" cy="2251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"/>
          <p:cNvPicPr/>
          <p:nvPr/>
        </p:nvPicPr>
        <p:blipFill>
          <a:blip r:embed="rId2"/>
          <a:stretch/>
        </p:blipFill>
        <p:spPr>
          <a:xfrm>
            <a:off x="3995640" y="5157720"/>
            <a:ext cx="2178000" cy="65880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3" name="win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В благоприятных условиях бактерии размножаются так,что на протяжении одной минуты одна из них делится на две.Указать количество бактерий,рождённых одной бактерией за 7 минут.  Решение:Геометриче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ская прогрессия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1;q=2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n=7.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12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WordArt 4"/>
          <p:cNvSpPr txBox="1"/>
          <p:nvPr/>
        </p:nvSpPr>
        <p:spPr>
          <a:xfrm>
            <a:off x="1042920" y="260280"/>
            <a:ext cx="6402600" cy="130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 в биолог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250920" y="3867120"/>
            <a:ext cx="2952720" cy="2990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1828800" cy="80820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3" name="wind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18840" y="430200"/>
            <a:ext cx="7956360" cy="98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cc"/>
                </a:solidFill>
                <a:latin typeface="Arial"/>
              </a:rPr>
              <a:t>Бесконечно убывающая  геометрическая прогрессия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Геометрическая прогрессия называется бесконечно убывающей,если модуль её знаменателя меньше един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Суммой бесконечно убывающей геометрической прогрессии называют  число,к которому стремится сумма её первых </a:t>
            </a:r>
            <a:r>
              <a:rPr b="1" i="1" lang="en-US" sz="28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 членов при</a:t>
            </a:r>
            <a:r>
              <a:rPr b="1" i="1" lang="en-US" sz="2800" spc="-1" strike="noStrike">
                <a:solidFill>
                  <a:srgbClr val="ff33cc"/>
                </a:solidFill>
                <a:latin typeface="Arial"/>
              </a:rPr>
              <a:t> n</a:t>
            </a:r>
            <a:r>
              <a:rPr b="1" i="1" lang="en-US" sz="2800" spc="-1" strike="noStrike">
                <a:solidFill>
                  <a:srgbClr val="ff33cc"/>
                </a:solidFill>
                <a:latin typeface="Arial"/>
                <a:ea typeface="Arial"/>
              </a:rPr>
              <a:t>→</a:t>
            </a:r>
            <a:r>
              <a:rPr b="1" i="1" lang="en-US" sz="2800" spc="-1" strike="noStrike">
                <a:solidFill>
                  <a:srgbClr val="ff33cc"/>
                </a:solidFill>
                <a:latin typeface="Century Schoolbook"/>
                <a:ea typeface="Arial"/>
              </a:rPr>
              <a:t>∞</a:t>
            </a:r>
            <a:r>
              <a:rPr b="1" i="1" lang="ru-RU" sz="2800" spc="-1" strike="noStrike">
                <a:solidFill>
                  <a:srgbClr val="ff33cc"/>
                </a:solidFill>
                <a:latin typeface="Century Schoolbook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2771640" y="5373720"/>
            <a:ext cx="3440160" cy="11937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Закончился двадцатый в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Куда стремится челове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Изучен космос и мор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Строенье звёзд и вся зем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Но математиков зовё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Известный лозунг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«Прогрессия-движение вперёд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WordArt 3"/>
          <p:cNvSpPr txBox="1"/>
          <p:nvPr/>
        </p:nvSpPr>
        <p:spPr>
          <a:xfrm>
            <a:off x="1042920" y="836640"/>
            <a:ext cx="6265800" cy="20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  <p:sp>
        <p:nvSpPr>
          <p:cNvPr id="316" name="WordArt 4"/>
          <p:cNvSpPr txBox="1"/>
          <p:nvPr/>
        </p:nvSpPr>
        <p:spPr>
          <a:xfrm>
            <a:off x="1476360" y="3429000"/>
            <a:ext cx="6916680" cy="25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Формирование: понятий последовательность, арифметическая и геометрическая прогрессии, бесконечно убывающая геометрическая прогрессия,  умений работать с формулами.  Формирование умений видеть связь математики с жизн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Развитие у учащихся познавательного интереса, памяти,речи,мышления,внимания,навыков самостоятельной работы,умения проводить аналогию,сравнив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Воспитание у учащихся ответственности,   добросовестности,дисциплины,самостоятельности,навыков общения со сверстниками,интерес к истории математики,инициативу и творч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WordArt 4"/>
          <p:cNvSpPr txBox="1"/>
          <p:nvPr/>
        </p:nvSpPr>
        <p:spPr>
          <a:xfrm>
            <a:off x="1476360" y="189000"/>
            <a:ext cx="5423040" cy="14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Основные це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знать:определение арифметической,геометрической, бесконечно  убывающей геометрической прогрессий, 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 прогрессий,знать,что такое числовая последовательность и способы её зада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уметь:распознавать арифметическую и геометрическую прогрессии,применять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 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прогрессий к решению задач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WordArt 4"/>
          <p:cNvSpPr txBox="1"/>
          <p:nvPr/>
        </p:nvSpPr>
        <p:spPr>
          <a:xfrm>
            <a:off x="324000" y="0"/>
            <a:ext cx="8691480" cy="15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Требования к математической подготов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Числовая последовательность-одно  из основных понятий математ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В математике изучаются бесконеч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ные числовые последовательно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4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5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…а</a:t>
            </a:r>
            <a:r>
              <a:rPr b="1" i="1" lang="en-US" sz="2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…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Число а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 называют первым членом  последовательности,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2 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называют вторым членом последовательнос- ти и т.д. а</a:t>
            </a: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называют </a:t>
            </a:r>
            <a:r>
              <a:rPr b="1" i="1" lang="en-US" sz="3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-м членом последова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250920" y="0"/>
            <a:ext cx="8572320" cy="17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Числовая последователь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Прогрессии ка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частные виды после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довательност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встречаются в древ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них египетских папи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русах и в клинопис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ных табличках вавилоня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WordArt 4"/>
          <p:cNvSpPr txBox="1"/>
          <p:nvPr/>
        </p:nvSpPr>
        <p:spPr>
          <a:xfrm>
            <a:off x="1403280" y="189000"/>
            <a:ext cx="511344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971640" y="1701720"/>
            <a:ext cx="2985840" cy="433224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Арифметическая и геометрическая прогресси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24000" y="1844640"/>
          <a:ext cx="8662680" cy="4753080"/>
        </p:xfrm>
        <a:graphic>
          <a:graphicData uri="http://schemas.openxmlformats.org/drawingml/2006/table">
            <a:tbl>
              <a:tblPr/>
              <a:tblGrid>
                <a:gridCol w="2867040"/>
                <a:gridCol w="2952720"/>
                <a:gridCol w="2842920"/>
              </a:tblGrid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Прогресс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Арифметическ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Геометрическ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+1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=a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+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+1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=b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Формула </a:t>
                      </a:r>
                      <a:r>
                        <a:rPr b="1" i="1" lang="en-US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-го  член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Сумма </a:t>
                      </a:r>
                      <a:r>
                        <a:rPr b="1" i="1" lang="en-US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-первых член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Свой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Picture 29" descr="Рисунок1"/>
          <p:cNvPicPr/>
          <p:nvPr/>
        </p:nvPicPr>
        <p:blipFill>
          <a:blip r:embed="rId1"/>
          <a:stretch/>
        </p:blipFill>
        <p:spPr>
          <a:xfrm>
            <a:off x="3780000" y="5805360"/>
            <a:ext cx="1871640" cy="776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0" descr="Рисунок2"/>
          <p:cNvPicPr/>
          <p:nvPr/>
        </p:nvPicPr>
        <p:blipFill>
          <a:blip r:embed="rId2"/>
          <a:stretch/>
        </p:blipFill>
        <p:spPr>
          <a:xfrm>
            <a:off x="6372360" y="5805360"/>
            <a:ext cx="2382840" cy="639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1" descr=""/>
          <p:cNvPicPr/>
          <p:nvPr/>
        </p:nvPicPr>
        <p:blipFill>
          <a:blip r:embed="rId3"/>
          <a:stretch/>
        </p:blipFill>
        <p:spPr>
          <a:xfrm>
            <a:off x="6443640" y="4508640"/>
            <a:ext cx="2300400" cy="101412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247" name="Picture 32" descr="Рисунок1"/>
          <p:cNvPicPr/>
          <p:nvPr/>
        </p:nvPicPr>
        <p:blipFill>
          <a:blip r:embed="rId4"/>
          <a:stretch/>
        </p:blipFill>
        <p:spPr>
          <a:xfrm>
            <a:off x="3203640" y="3573360"/>
            <a:ext cx="2817720" cy="60984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248" name="Picture 33" descr="Рисунок2"/>
          <p:cNvPicPr/>
          <p:nvPr/>
        </p:nvPicPr>
        <p:blipFill>
          <a:blip r:embed="rId5"/>
          <a:stretch/>
        </p:blipFill>
        <p:spPr>
          <a:xfrm>
            <a:off x="6516720" y="3500280"/>
            <a:ext cx="2162160" cy="67320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249" name="Picture 34" descr=""/>
          <p:cNvPicPr/>
          <p:nvPr/>
        </p:nvPicPr>
        <p:blipFill>
          <a:blip r:embed="rId6"/>
          <a:stretch/>
        </p:blipFill>
        <p:spPr>
          <a:xfrm>
            <a:off x="3276720" y="4797360"/>
            <a:ext cx="2854080" cy="55404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7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cc"/>
                </a:solidFill>
                <a:latin typeface="Arial"/>
              </a:rPr>
              <a:t>Зная эти формулы, можно решить много интересных задач  исторического,  литературного и   практического содержания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0" y="4653000"/>
            <a:ext cx="1940040" cy="210348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6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cc"/>
                </a:solidFill>
                <a:latin typeface="Arial"/>
              </a:rPr>
              <a:t>Старинные  задачи через   века и страны.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585120" y="0"/>
            <a:ext cx="2558880" cy="1790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>
            <a:off x="0" y="4960800"/>
            <a:ext cx="2371680" cy="18972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3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7:12:37Z</dcterms:created>
  <dc:creator>Admin</dc:creator>
  <dc:description/>
  <dc:language>en-US</dc:language>
  <cp:lastModifiedBy>LEGION</cp:lastModifiedBy>
  <dcterms:modified xsi:type="dcterms:W3CDTF">2015-03-30T08:27:48Z</dcterms:modified>
  <cp:revision>93</cp:revision>
  <dc:subject/>
  <dc:title>Слайд 1</dc:title>
</cp:coreProperties>
</file>