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a2500"/>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569"/>
                </a:solidFill>
                <a:latin typeface="Tahoma"/>
              </a:rPr>
              <a:t>Click to move the slide</a:t>
            </a:r>
            <a:endParaRPr b="1" lang="en-US" sz="4400" spc="-1" strike="noStrike">
              <a:solidFill>
                <a:srgbClr val="788569"/>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0668-F39C-4C3F-8023-34CF08F7ABB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РЕНТГЕНОВСКИЕ ЛУ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0E7D-7477-42D0-A8C6-182688731924}"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Открытие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 конце XIX века всеобщее внимание физиков привлек газовый разряд при малом давлении. При этих условиях в газоразрядной трубке создавались потоки очень быстрых электронов. В то время их называли катодными лучами. Природа этих лучей еще не была с достоверностью установлена. Известно было лишь, что эти лучи берут начало на катоде трубк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4FAD-1737-443F-80F1-0FDAD7B5C020}"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Открытие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Занявшись исследованием катодных лучей, Рентген заметил, что фотопластинка вблизи разрядной трубки оказывалась засвеченной даже в том случае, когда она была завернута в черную бумагу. После этого ему удалось наблюдать еще одно очень поразившее его явление. Бумажный экран, смоченный раствором платиносинеродистого бария, начинал светиться, если им обертывалась разрядная трубка. Причем когда Рентген держал руку между трубкой и экраном, то на экране были видны темные тени костей на фоне более светлых очертаний всей кисти ру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Ученый понял, что при работе разрядной трубки возникает какое-то неизвестное ранее сильно проникающее излучение. Он назвал его Х-лучами. Впоследствии за этим излучением прочно укрепился термин «рентгеновские луч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Рентген обнаружил, что новое излучение появлялось в том месте, где катодные лучи (потоки быстрых электронов) сталкивались со стеклянной стенкой трубки. В этом месте стекло светилось зеленоватым свет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Последующие опыты показали, что Х-лучи возникают при торможении быстрых электронов любым препятствием, в частности металлическими электрод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9355-98C4-4945-B68F-8D3E7643B1FA}"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Свойства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Лучи, открытые Рентгеном, действовали на фотопластинку, вызывали ионизацию воздуха, но заметным образом не отражались от каких-либо веществ и не испытывали преломления. Электромагнитное поле не оказывало никакого влияния на направление их распростран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Сразу же возникло предположение, что рентгеновские лучи – это электромагнитные волны, которые излучаются при резком торможении электронов. В отличие от световых лучей видимого участка спектра и ультрафиолетовых лучей рентгеновские лучи имеют гораздо меньшую длину волны. Их длина волны тем меньше, чем больше энергия электронов, сталкивающихся с препятствием. Большая проникающая способность рентгеновских лучей и прочие их особенности связывались именно с малой длиной волны. Но эта гипотеза нуждалась в доказательствах, и доказательства были получены спустя 15 лет после смерти Рентген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FEE2A-B253-4802-AC9F-3C68FED8BC96}"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Дифракция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a0a06"/>
                </a:solidFill>
                <a:latin typeface="Times New Roman"/>
              </a:rPr>
              <a:t>     </a:t>
            </a:r>
            <a:r>
              <a:rPr b="0" lang="ru-RU" sz="1200" spc="-1" strike="noStrike">
                <a:solidFill>
                  <a:srgbClr val="0a0a06"/>
                </a:solidFill>
                <a:latin typeface="Times New Roman"/>
              </a:rPr>
              <a:t>Если рентгеновское излучение представляет собой электромагнитные волны, то оно должно обнаруживать дифракцию – явление, присущее всем видам волн. Сначала пропускали рентгеновские лучи через очень узкие щели в свинцовых пластинках, но ничего похожего на дифракцию обнаружить не удавалось. Немецкий физик Макс Лауэ предположил, что длина волны рентгеновских лучей слишком мала для того, чтобы можно было обнаружить дифракцию этих волн на искусственно созданных препятствиях. Ведь нельзя сделать щели размером 10-8 см, поскольку таков размер самих атомов. А что если рентгеновские лучи имеют примерно такую же длину волны? Тогда остается единственная возможность - использовать кристаллы. Они представляют собой упорядоченные структуры, в которых расстояния между отдельными атомами по порядку величины равны размеру самих атомов, т. е. 10-8 см. Кристалл с его периодической структурой и есть то естественное устройство, которое неизбежно должно вызвать заметную дифракцию волн, если длина их близка к размерам атомов.</a:t>
            </a: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D5EA8-6657-4726-93CF-11D326E49262}"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Дифракция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Узкий пучок рентгеновских лучей был направлен на кристалл, за которым была расположена фотопластинка. Результат полностью согласовался с самыми оптимистическими ожиданиями. Наряду с большим центральным пятном, которое давали лучи, распространяющиеся по прямой, возникли регулярно расположенные небольшие пятнышки вокруг центрального пятна (рис.1). Появление этих пятнышек можно было объяснить только дифракцией рентгеновских лучей на упорядоченной структуре кристалл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Исследование дифракционной картины позволило определить длину волны рентгеновских лучей. Она оказалась меньше длины волны ультрафиолетового излучения и по порядку величины была равна размерам атома (10</a:t>
            </a:r>
            <a:r>
              <a:rPr b="0" lang="ru-RU" sz="1200" spc="-1" strike="noStrike" baseline="30000">
                <a:solidFill>
                  <a:srgbClr val="0a0a06"/>
                </a:solidFill>
                <a:latin typeface="Times New Roman"/>
              </a:rPr>
              <a:t>-8</a:t>
            </a:r>
            <a:r>
              <a:rPr b="0" lang="ru-RU" sz="1200" spc="-1" strike="noStrike">
                <a:solidFill>
                  <a:srgbClr val="0a0a06"/>
                </a:solidFill>
                <a:latin typeface="Times New Roman"/>
              </a:rPr>
              <a:t> см). </a:t>
            </a: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5F69-6A80-4041-8755-A0D0092C9699}"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Применение рентгеновских лучей</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Рентгеновские лучи нашли себе много очень важных практических применен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 медицине они применяются для постановки правильного диагноза заболевания, а также для лечения раковых заболеван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есьма обширны применения рентгеновских лучей в научных исследованиях. По дифракционной картине, даваемой рентгеновскими лучами при их прохождении сквозь кристаллы, удается установить порядок расположения атомов в пространстве - структуру кристаллов. С помощью рентгеноструктурного анализа удается расшифровать строение сложнейших органических соединений, включая белки. В частности, была определена структура молекулы гемоглобина, содержащей десятки тысяч атом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Эти достижения стали возможными благодаря тому, что длина волны рентгеновских лучей очень мала, - именно поэтому удалось «увидеть» молекулярные структур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Из других применений рентгеновских лучей отметим рентгеновскую дефектоскопию — метод обнаружения раковин в отливках, трещин в рельсах, проверки качества сварных швов и т. д. Рентгеновская дефектоскопия, основана на изменении поглощения рентгеновских лучей в изделии при наличии в нем полости или инородных включе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C9B4-7F94-41DB-A259-573C981BAF1B}"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Устройство рентгеновской трубк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a0a06"/>
                </a:solidFill>
                <a:latin typeface="Times New Roman"/>
              </a:rPr>
              <a:t>В настоящее время для получения рентгеновских лучей разработаны весьма совершенные устройства, называемые рентгеновскими трубк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На рис. 2 изображена упрощенная схема электронной рентгеновской трубки. Катод </a:t>
            </a:r>
            <a:r>
              <a:rPr b="0" i="1" lang="ru-RU" sz="1200" spc="-1" strike="noStrike">
                <a:solidFill>
                  <a:srgbClr val="0a0a06"/>
                </a:solidFill>
                <a:latin typeface="Times New Roman"/>
              </a:rPr>
              <a:t>1</a:t>
            </a:r>
            <a:r>
              <a:rPr b="0" lang="ru-RU" sz="1200" spc="-1" strike="noStrike">
                <a:solidFill>
                  <a:srgbClr val="0a0a06"/>
                </a:solidFill>
                <a:latin typeface="Times New Roman"/>
              </a:rPr>
              <a:t>  представляет собой вольфрамовую спираль, испускающую электроны за счет термоэлектронной эмиссии. Цилиндр </a:t>
            </a:r>
            <a:r>
              <a:rPr b="0" i="1" lang="ru-RU" sz="1200" spc="-1" strike="noStrike">
                <a:solidFill>
                  <a:srgbClr val="0a0a06"/>
                </a:solidFill>
                <a:latin typeface="Times New Roman"/>
              </a:rPr>
              <a:t>3</a:t>
            </a:r>
            <a:r>
              <a:rPr b="0" lang="ru-RU" sz="1200" spc="-1" strike="noStrike">
                <a:solidFill>
                  <a:srgbClr val="0a0a06"/>
                </a:solidFill>
                <a:latin typeface="Times New Roman"/>
              </a:rPr>
              <a:t> фокусирует поток электронов, которые затем соударяются с металлическим электродом (анодом) </a:t>
            </a:r>
            <a:r>
              <a:rPr b="0" i="1" lang="ru-RU" sz="1200" spc="-1" strike="noStrike">
                <a:solidFill>
                  <a:srgbClr val="0a0a06"/>
                </a:solidFill>
                <a:latin typeface="Times New Roman"/>
              </a:rPr>
              <a:t>2</a:t>
            </a:r>
            <a:r>
              <a:rPr b="0" lang="ru-RU" sz="1200" spc="-1" strike="noStrike">
                <a:solidFill>
                  <a:srgbClr val="0a0a06"/>
                </a:solidFill>
                <a:latin typeface="Times New Roman"/>
              </a:rPr>
              <a:t>. При этом рождаются рентгеновские лучи. Напряжение между анодом и катодом достигает нескольких десятков киловольт. В трубке создается глубокий вакуум; давление газа в ней не превышает 10</a:t>
            </a:r>
            <a:r>
              <a:rPr b="0" lang="ru-RU" sz="1200" spc="-1" strike="noStrike" baseline="30000">
                <a:solidFill>
                  <a:srgbClr val="0a0a06"/>
                </a:solidFill>
                <a:latin typeface="Times New Roman"/>
              </a:rPr>
              <a:t>-5</a:t>
            </a:r>
            <a:r>
              <a:rPr b="0" lang="ru-RU" sz="1200" spc="-1" strike="noStrike">
                <a:solidFill>
                  <a:srgbClr val="0a0a06"/>
                </a:solidFill>
                <a:latin typeface="Times New Roman"/>
              </a:rPr>
              <a:t> мм рт. с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 мощных рентгеновских трубках анод охлаждается проточной водой, так как при торможении электронов выделяется большое количество теплоты. В полезное излучение превращается лишь около 3% энергии электрон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79D2-D903-4A8B-BE00-220D0DA39AFE}"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1FCAD-839D-4BFE-844E-83B277C31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BEA1F-8C6B-46BF-AA52-C66A64C37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F571A-3524-413D-8B44-BEEEA43EE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BFA2D-EE0D-40BD-B273-BAD1A58DC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571B9B-3BA9-43C6-869A-9273F0902E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13814-70D6-439A-A8B4-47C4CB14C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15296-93D0-492F-9C7A-3830730EE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98AF6-65BC-49CA-B331-8CD36BC7E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13214-7E4F-4103-8781-AEFD0FCAC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DED3A-A0A7-43B5-9FEE-A4635DC93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EB27F-7D50-4E4B-98A8-4C51E57EC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C468D-BDBF-401D-9B04-FCFB8030C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93E92-06DA-4EEE-8671-434150B8B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53137-F4CF-474E-B3F1-9A9FD63C5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07E02-280C-49F0-93B7-11F83535D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999D76-C694-46EA-9A5F-2D3AC2090D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6C83B3-C18D-4C43-BE92-584F8FE82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C061E-33A8-425F-9989-051F95BF8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B8671-A432-481F-BB62-53A928294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83ED4-BA4E-45E1-A830-8DC2EBA02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8CA3B-4E2B-45CE-803D-B48B3EF67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B5998-27F8-4345-A37B-FB52AB027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761E0-42E0-44AF-BFB5-D893BE7A5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80903-1C31-45F0-A561-03D1AA40C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0ba"/>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c2c0ba"/>
                </a:gs>
                <a:gs pos="100000">
                  <a:srgbClr val="f4f4e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f4f4ec"/>
                  </a:gs>
                  <a:gs pos="100000">
                    <a:srgbClr val="c2c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f4f4ec"/>
                  </a:gs>
                  <a:gs pos="100000">
                    <a:srgbClr val="c2c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a5a7af"/>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f4f4ec"/>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a5a7af"/>
                  </a:gs>
                  <a:gs pos="50000">
                    <a:srgbClr val="9c9800"/>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f4f4ec"/>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a5a7af"/>
                  </a:gs>
                  <a:gs pos="100000">
                    <a:srgbClr val="f4f4e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a5a7af"/>
                  </a:gs>
                  <a:gs pos="50000">
                    <a:srgbClr val="9c9800"/>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569"/>
                </a:solidFill>
                <a:latin typeface="Tahoma"/>
              </a:rPr>
              <a:t>Click to edit the title text format</a:t>
            </a:r>
            <a:endParaRPr b="1" lang="en-US" sz="4400" spc="-1" strike="noStrike">
              <a:solidFill>
                <a:srgbClr val="788569"/>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Click to edit the outline text format</a:t>
            </a:r>
            <a:endParaRPr b="0" lang="en-US" sz="3200" spc="-1" strike="noStrike">
              <a:solidFill>
                <a:srgbClr val="4a2500"/>
              </a:solidFill>
              <a:latin typeface="Tahoma"/>
            </a:endParaRPr>
          </a:p>
          <a:p>
            <a:pPr lvl="1" marL="735480" indent="-28296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cond Outline Level</a:t>
            </a:r>
            <a:endParaRPr b="0" lang="en-US" sz="3200" spc="-1" strike="noStrike">
              <a:solidFill>
                <a:srgbClr val="4a2500"/>
              </a:solidFill>
              <a:latin typeface="Tahoma"/>
            </a:endParaRPr>
          </a:p>
          <a:p>
            <a:pPr lvl="2" marL="113148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Third Outline Level</a:t>
            </a:r>
            <a:endParaRPr b="0" lang="en-US" sz="3200" spc="-1" strike="noStrike">
              <a:solidFill>
                <a:srgbClr val="4a2500"/>
              </a:solidFill>
              <a:latin typeface="Tahoma"/>
            </a:endParaRPr>
          </a:p>
          <a:p>
            <a:pPr lvl="3" marL="1584000" indent="-22608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ourth Outline Level</a:t>
            </a:r>
            <a:endParaRPr b="0" lang="en-US" sz="3200" spc="-1" strike="noStrike">
              <a:solidFill>
                <a:srgbClr val="4a2500"/>
              </a:solidFill>
              <a:latin typeface="Tahoma"/>
            </a:endParaRPr>
          </a:p>
          <a:p>
            <a:pPr lvl="4" marL="203652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ifth Outline Level</a:t>
            </a:r>
            <a:endParaRPr b="0" lang="en-US" sz="3200" spc="-1" strike="noStrike">
              <a:solidFill>
                <a:srgbClr val="4a2500"/>
              </a:solidFill>
              <a:latin typeface="Tahoma"/>
            </a:endParaRPr>
          </a:p>
          <a:p>
            <a:pPr lvl="5"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ixth Outline Level</a:t>
            </a:r>
            <a:endParaRPr b="0" lang="en-US" sz="3200" spc="-1" strike="noStrike">
              <a:solidFill>
                <a:srgbClr val="4a2500"/>
              </a:solidFill>
              <a:latin typeface="Tahoma"/>
            </a:endParaRPr>
          </a:p>
          <a:p>
            <a:pPr lvl="6"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venth Outline Level</a:t>
            </a:r>
            <a:endParaRPr b="0" lang="en-US" sz="3200" spc="-1" strike="noStrike">
              <a:solidFill>
                <a:srgbClr val="4a2500"/>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EF22-0AB7-4B7F-AE61-454B5483CF4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0ba"/>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c2c0ba"/>
                  </a:gs>
                  <a:gs pos="100000">
                    <a:srgbClr val="f4f4e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a5a7af"/>
                </a:gs>
                <a:gs pos="50000">
                  <a:srgbClr val="9c9800"/>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a5a7af"/>
                </a:gs>
                <a:gs pos="100000">
                  <a:srgbClr val="f4f4e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f4f4ec"/>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f4f4ec"/>
                  </a:gs>
                  <a:gs pos="100000">
                    <a:srgbClr val="c2c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f4f4ec"/>
                  </a:gs>
                  <a:gs pos="100000">
                    <a:srgbClr val="c2c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a5a7af"/>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f4f4ec"/>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a5a7af"/>
                  </a:gs>
                  <a:gs pos="50000">
                    <a:srgbClr val="9c9800"/>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569"/>
                </a:solidFill>
                <a:latin typeface="Tahoma"/>
              </a:rPr>
              <a:t>Click to edit the title text format</a:t>
            </a:r>
            <a:endParaRPr b="1" lang="en-US" sz="4400" spc="-1" strike="noStrike">
              <a:solidFill>
                <a:srgbClr val="788569"/>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Click to edit the outline text format</a:t>
            </a:r>
            <a:endParaRPr b="0" lang="en-US" sz="3200" spc="-1" strike="noStrike">
              <a:solidFill>
                <a:srgbClr val="4a2500"/>
              </a:solidFill>
              <a:latin typeface="Tahoma"/>
            </a:endParaRPr>
          </a:p>
          <a:p>
            <a:pPr lvl="1" marL="735480" indent="-28296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cond Outline Level</a:t>
            </a:r>
            <a:endParaRPr b="0" lang="en-US" sz="3200" spc="-1" strike="noStrike">
              <a:solidFill>
                <a:srgbClr val="4a2500"/>
              </a:solidFill>
              <a:latin typeface="Tahoma"/>
            </a:endParaRPr>
          </a:p>
          <a:p>
            <a:pPr lvl="2" marL="113148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Third Outline Level</a:t>
            </a:r>
            <a:endParaRPr b="0" lang="en-US" sz="3200" spc="-1" strike="noStrike">
              <a:solidFill>
                <a:srgbClr val="4a2500"/>
              </a:solidFill>
              <a:latin typeface="Tahoma"/>
            </a:endParaRPr>
          </a:p>
          <a:p>
            <a:pPr lvl="3" marL="1584000" indent="-22608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ourth Outline Level</a:t>
            </a:r>
            <a:endParaRPr b="0" lang="en-US" sz="3200" spc="-1" strike="noStrike">
              <a:solidFill>
                <a:srgbClr val="4a2500"/>
              </a:solidFill>
              <a:latin typeface="Tahoma"/>
            </a:endParaRPr>
          </a:p>
          <a:p>
            <a:pPr lvl="4" marL="203652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ifth Outline Level</a:t>
            </a:r>
            <a:endParaRPr b="0" lang="en-US" sz="3200" spc="-1" strike="noStrike">
              <a:solidFill>
                <a:srgbClr val="4a2500"/>
              </a:solidFill>
              <a:latin typeface="Tahoma"/>
            </a:endParaRPr>
          </a:p>
          <a:p>
            <a:pPr lvl="5"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ixth Outline Level</a:t>
            </a:r>
            <a:endParaRPr b="0" lang="en-US" sz="3200" spc="-1" strike="noStrike">
              <a:solidFill>
                <a:srgbClr val="4a2500"/>
              </a:solidFill>
              <a:latin typeface="Tahoma"/>
            </a:endParaRPr>
          </a:p>
          <a:p>
            <a:pPr lvl="6"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venth Outline Level</a:t>
            </a:r>
            <a:endParaRPr b="0" lang="en-US" sz="3200" spc="-1" strike="noStrike">
              <a:solidFill>
                <a:srgbClr val="4a2500"/>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4a25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imes New Roman"/>
              </a:rPr>
              <a:t>www.sliderpoint.org</a:t>
            </a:r>
            <a:endParaRPr b="0" lang="en-US" sz="1000" spc="-1" strike="noStrike">
              <a:solidFill>
                <a:srgbClr val="000000"/>
              </a:solidFill>
              <a:latin typeface="Times New Roman"/>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4a25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BA9B-C0C5-4B5F-AB85-972E173BC10E}" type="slidenum">
              <a:rPr b="0" lang="ru-RU" sz="1000" spc="-1" strike="noStrike">
                <a:solidFill>
                  <a:srgbClr val="4a25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oxlabs.users.photofile.ru/photo/coxlabs/150432922/xlarge/159987128.jpg"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31640" y="475920"/>
            <a:ext cx="7086600" cy="1431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a0a06"/>
                </a:solidFill>
                <a:latin typeface="Times New Roman"/>
              </a:rPr>
              <a:t>РЕНТГЕНОВСКИЕ ЛУЧИ</a:t>
            </a:r>
            <a:r>
              <a:rPr b="1" lang="ru-RU" sz="4400" spc="-1" strike="noStrike">
                <a:solidFill>
                  <a:srgbClr val="788569"/>
                </a:solidFill>
                <a:latin typeface="Tahoma"/>
              </a:rPr>
              <a:t> </a:t>
            </a:r>
            <a:endParaRPr b="1" lang="en-US" sz="4400" spc="-1" strike="noStrike">
              <a:solidFill>
                <a:srgbClr val="788569"/>
              </a:solidFill>
              <a:latin typeface="Tahoma"/>
            </a:endParaRPr>
          </a:p>
        </p:txBody>
      </p:sp>
      <p:pic>
        <p:nvPicPr>
          <p:cNvPr id="117" name="Picture 5" descr="159987128">
            <a:hlinkClick r:id="rId1"/>
          </p:cNvPr>
          <p:cNvPicPr/>
          <p:nvPr/>
        </p:nvPicPr>
        <p:blipFill>
          <a:blip r:embed="rId2"/>
          <a:stretch/>
        </p:blipFill>
        <p:spPr>
          <a:xfrm>
            <a:off x="900000" y="1844640"/>
            <a:ext cx="8244000" cy="5013360"/>
          </a:xfrm>
          <a:prstGeom prst="rect">
            <a:avLst/>
          </a:prstGeom>
          <a:ln w="0">
            <a:noFill/>
          </a:ln>
        </p:spPr>
      </p:pic>
      <p:sp>
        <p:nvSpPr>
          <p:cNvPr id="118" name="Text Box 6"/>
          <p:cNvSpPr/>
          <p:nvPr/>
        </p:nvSpPr>
        <p:spPr>
          <a:xfrm>
            <a:off x="3744000" y="60480"/>
            <a:ext cx="545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a2500"/>
                </a:solidFill>
                <a:latin typeface="Tahoma"/>
              </a:rPr>
              <a:t>Учитель физики Трифоева Наталия Борисовна</a:t>
            </a:r>
            <a:endParaRPr b="0" lang="en-US" sz="1800" spc="-1" strike="noStrike">
              <a:solidFill>
                <a:srgbClr val="4a2500"/>
              </a:solidFill>
              <a:latin typeface="Tahoma"/>
            </a:endParaRPr>
          </a:p>
        </p:txBody>
      </p:sp>
      <p:sp>
        <p:nvSpPr>
          <p:cNvPr id="119" name="Text Box 7"/>
          <p:cNvSpPr/>
          <p:nvPr/>
        </p:nvSpPr>
        <p:spPr>
          <a:xfrm>
            <a:off x="3452400" y="476280"/>
            <a:ext cx="581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a2500"/>
                </a:solidFill>
                <a:latin typeface="Tahoma"/>
              </a:rPr>
              <a:t>Школа № 489 Московского р-на Санкт-Петербурга</a:t>
            </a:r>
            <a:endParaRPr b="0" lang="en-US" sz="1800" spc="-1" strike="noStrike">
              <a:solidFill>
                <a:srgbClr val="4a2500"/>
              </a:solidFill>
              <a:latin typeface="Tahoma"/>
            </a:endParaRPr>
          </a:p>
        </p:txBody>
      </p:sp>
      <p:sp>
        <p:nvSpPr>
          <p:cNvPr id="120" name="Місце для нижнього колонтитула 1"/>
          <p:cNvSpPr/>
          <p:nvPr/>
        </p:nvSpPr>
        <p:spPr>
          <a:xfrm>
            <a:off x="33526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Открытие рентгеновских лучей</a:t>
            </a:r>
            <a:endParaRPr b="1" lang="en-US" sz="3200" spc="-1" strike="noStrike">
              <a:solidFill>
                <a:srgbClr val="788569"/>
              </a:solidFill>
              <a:latin typeface="Tahoma"/>
            </a:endParaRPr>
          </a:p>
        </p:txBody>
      </p:sp>
      <p:sp>
        <p:nvSpPr>
          <p:cNvPr id="122" name="PlaceHolder 2"/>
          <p:cNvSpPr>
            <a:spLocks noGrp="1"/>
          </p:cNvSpPr>
          <p:nvPr>
            <p:ph/>
          </p:nvPr>
        </p:nvSpPr>
        <p:spPr>
          <a:xfrm>
            <a:off x="1116000" y="2743200"/>
            <a:ext cx="369576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 конце XIX века всеобщее внимание физиков привлек газовый разряд при малом давлении. При этих условиях в газоразрядной трубке создавались потоки очень быстрых электронов. В то время их называли катодными лучами. Природа этих лучей еще не была с достоверностью установлена. Известно было лишь, что эти лучи берут начало на катоде трубки.</a:t>
            </a:r>
            <a:endParaRPr b="0" lang="en-US" sz="1800" spc="-1" strike="noStrike">
              <a:solidFill>
                <a:srgbClr val="4a2500"/>
              </a:solidFill>
              <a:latin typeface="Tahoma"/>
            </a:endParaRPr>
          </a:p>
        </p:txBody>
      </p:sp>
      <p:pic>
        <p:nvPicPr>
          <p:cNvPr id="123" name="Picture 5" descr="рентген"/>
          <p:cNvPicPr/>
          <p:nvPr/>
        </p:nvPicPr>
        <p:blipFill>
          <a:blip r:embed="rId1"/>
          <a:stretch/>
        </p:blipFill>
        <p:spPr>
          <a:xfrm>
            <a:off x="6084720" y="2492280"/>
            <a:ext cx="2714760" cy="3219480"/>
          </a:xfrm>
          <a:prstGeom prst="rect">
            <a:avLst/>
          </a:prstGeom>
          <a:ln w="0">
            <a:noFill/>
          </a:ln>
        </p:spPr>
      </p:pic>
      <p:sp>
        <p:nvSpPr>
          <p:cNvPr id="124" name="Text Box 7"/>
          <p:cNvSpPr/>
          <p:nvPr/>
        </p:nvSpPr>
        <p:spPr>
          <a:xfrm>
            <a:off x="755640" y="6035760"/>
            <a:ext cx="7345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125" name="Text Box 8"/>
          <p:cNvSpPr/>
          <p:nvPr/>
        </p:nvSpPr>
        <p:spPr>
          <a:xfrm>
            <a:off x="900000" y="1844640"/>
            <a:ext cx="655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6"/>
                </a:solidFill>
                <a:latin typeface="Times New Roman"/>
              </a:rPr>
              <a:t>Рентген Вильгельм (1845—1923) — немецкий физик, отрывший в 1895 г. коротковолновое электромагнитное излучение — рентгеновские лучи. </a:t>
            </a:r>
            <a:endParaRPr b="0" lang="en-US" sz="1600" spc="-1" strike="noStrike">
              <a:solidFill>
                <a:srgbClr val="4a2500"/>
              </a:solidFill>
              <a:latin typeface="Tahoma"/>
            </a:endParaRPr>
          </a:p>
        </p:txBody>
      </p:sp>
      <p:sp>
        <p:nvSpPr>
          <p:cNvPr id="126"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25"/>
                                        </p:tgtEl>
                                        <p:attrNameLst>
                                          <p:attrName>style.visibility</p:attrName>
                                        </p:attrNameLst>
                                      </p:cBhvr>
                                      <p:to>
                                        <p:strVal val="visible"/>
                                      </p:to>
                                    </p:set>
                                    <p:anim calcmode="discrete" valueType="clr">
                                      <p:cBhvr additive="repl">
                                        <p:cTn id="7" dur="80"/>
                                        <p:tgtEl>
                                          <p:spTgt spid="125"/>
                                        </p:tgtEl>
                                        <p:attrNameLst>
                                          <p:attrName>style.color</p:attrName>
                                        </p:attrNameLst>
                                      </p:cBhvr>
                                      <p:tavLst>
                                        <p:tav tm="0">
                                          <p:val>
                                            <p:strVal val="rgb(-81,-89,-91)"/>
                                          </p:val>
                                        </p:tav>
                                        <p:tav tm="50000">
                                          <p:val>
                                            <p:strVal val="rgb(0,-104,-100)"/>
                                          </p:val>
                                        </p:tav>
                                      </p:tavLst>
                                    </p:anim>
                                    <p:anim calcmode="discrete" valueType="clr">
                                      <p:cBhvr additive="repl">
                                        <p:cTn id="8" dur="80"/>
                                        <p:tgtEl>
                                          <p:spTgt spid="125"/>
                                        </p:tgtEl>
                                        <p:attrNameLst>
                                          <p:attrName>fillcolor</p:attrName>
                                        </p:attrNameLst>
                                      </p:cBhvr>
                                      <p:tavLst>
                                        <p:tav tm="0">
                                          <p:val>
                                            <p:strVal val="rgb(-81,-89,-91)"/>
                                          </p:val>
                                        </p:tav>
                                        <p:tav tm="50000">
                                          <p:val>
                                            <p:strVal val="rgb(0,-104,-100)"/>
                                          </p:val>
                                        </p:tav>
                                      </p:tavLst>
                                    </p:anim>
                                    <p:set>
                                      <p:cBhvr>
                                        <p:cTn id="9" dur="80"/>
                                        <p:tgtEl>
                                          <p:spTgt spid="1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Открытие рентгеновских лучей</a:t>
            </a:r>
            <a:endParaRPr b="1" lang="en-US" sz="3200" spc="-1" strike="noStrike">
              <a:solidFill>
                <a:srgbClr val="788569"/>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fontScale="96000"/>
          </a:bodyPr>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Занявшись исследованием катодных лучей, Рентген заметил, что фотопластинка вблизи разрядной трубки оказывалась засвеченной даже в том случае, когда она была завернута в черную бумагу. После этого ему удалось наблюдать еще одно очень поразившее его явление. Бумажный экран, смоченный раствором платиносинеродистого бария, начинал светиться, если им обертывалась разрядная трубка. Причем когда Рентген держал руку между трубкой и экраном, то на экране были видны темные тени костей на фоне более светлых очертаний всей кисти руки.</a:t>
            </a:r>
            <a:endParaRPr b="0" lang="en-US" sz="1800" spc="-1" strike="noStrike">
              <a:solidFill>
                <a:srgbClr val="4a2500"/>
              </a:solidFill>
              <a:latin typeface="Tahoma"/>
            </a:endParaRPr>
          </a:p>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Ученый понял, что при работе разрядной трубки возникает какое-то неизвестное ранее сильно проникающее излучение. Он назвал его Х-лучами. Впоследствии за этим излучением прочно укрепился термин «рентгеновские лучи».</a:t>
            </a:r>
            <a:endParaRPr b="0" lang="en-US" sz="1800" spc="-1" strike="noStrike">
              <a:solidFill>
                <a:srgbClr val="4a2500"/>
              </a:solidFill>
              <a:latin typeface="Tahoma"/>
            </a:endParaRPr>
          </a:p>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Рентген обнаружил, что новое излучение появлялось в том месте, где катодные лучи (потоки быстрых электронов) сталкивались со стеклянной стенкой трубки. В этом месте стекло светилось зеленоватым светом.</a:t>
            </a:r>
            <a:endParaRPr b="0" lang="en-US" sz="1800" spc="-1" strike="noStrike">
              <a:solidFill>
                <a:srgbClr val="4a2500"/>
              </a:solidFill>
              <a:latin typeface="Tahoma"/>
            </a:endParaRPr>
          </a:p>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Последующие опыты показали, что Х-лучи возникают при торможении быстрых электронов любым препятствием, в частности металлическими электродами.</a:t>
            </a:r>
            <a:endParaRPr b="0" lang="en-US" sz="1800" spc="-1" strike="noStrike">
              <a:solidFill>
                <a:srgbClr val="4a25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12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Свойства рентгеновских лучей</a:t>
            </a:r>
            <a:endParaRPr b="1" lang="en-US" sz="3200" spc="-1" strike="noStrike">
              <a:solidFill>
                <a:srgbClr val="788569"/>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Лучи, открытые Рентгеном, действовали на фотопластинку, вызывали ионизацию воздуха, но заметным образом не отражались от каких-либо веществ и не испытывали преломления. Электромагнитное поле не оказывало никакого влияния на направление их распространения.</a:t>
            </a:r>
            <a:endParaRPr b="0" lang="en-US" sz="1800" spc="-1" strike="noStrike">
              <a:solidFill>
                <a:srgbClr val="4a2500"/>
              </a:solidFill>
              <a:latin typeface="Tahoma"/>
            </a:endParaRPr>
          </a:p>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Сразу же возникло предположение, что рентгеновские лучи – это электромагнитные волны, которые излучаются при резком торможении электронов. В отличие от световых лучей видимого участка спектра и ультрафиолетовых лучей рентгеновские лучи имеют гораздо меньшую длину волны. Их длина волны тем меньше, чем больше энергия электронов, сталкивающихся с препятствием. Большая проникающая способность рентгеновских лучей и прочие их особенности связывались именно с малой длиной волны. Но эта гипотеза нуждалась в доказательствах, и доказательства были получены спустя 15 лет после смерти Рентгена.</a:t>
            </a:r>
            <a:endParaRPr b="0" lang="en-US" sz="1800" spc="-1" strike="noStrike">
              <a:solidFill>
                <a:srgbClr val="4a2500"/>
              </a:solidFill>
              <a:latin typeface="Tahoma"/>
            </a:endParaRPr>
          </a:p>
        </p:txBody>
      </p:sp>
      <p:sp>
        <p:nvSpPr>
          <p:cNvPr id="132"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Дифракция рентгеновских лучей</a:t>
            </a:r>
            <a:endParaRPr b="1" lang="en-US" sz="3200" spc="-1" strike="noStrike">
              <a:solidFill>
                <a:srgbClr val="788569"/>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6"/>
                </a:solidFill>
                <a:latin typeface="Times New Roman"/>
              </a:rPr>
              <a:t>     </a:t>
            </a:r>
            <a:r>
              <a:rPr b="0" lang="ru-RU" sz="1800" spc="-1" strike="noStrike">
                <a:solidFill>
                  <a:srgbClr val="0a0a06"/>
                </a:solidFill>
                <a:latin typeface="Times New Roman"/>
              </a:rPr>
              <a:t>Если рентгеновское излучение представляет собой электромагнитные волны, то оно должно обнаруживать дифракцию – явление, присущее всем видам волн. Сначала пропускали рентгеновские лучи через очень узкие щели в свинцовых пластинках, но ничего похожего на дифракцию обнаружить не удавалось. Немецкий физик Макс Лауэ предположил, что длина волны рентгеновских лучей слишком мала для того, чтобы можно было обнаружить дифракцию этих волн на искусственно созданных препятствиях. Ведь нельзя сделать щели размером 10-8 см, поскольку таков размер самих атомов. А что если рентгеновские лучи имеют примерно такую же длину волны? Тогда остается единственная возможность - использовать кристаллы. Они представляют собой упорядоченные структуры, в которых расстояния между отдельными атомами по порядку величины равны размеру самих атомов, т. е. 10-8 см. Кристалл с его периодической структурой и есть то естественное устройство, которое неизбежно должно вызвать заметную дифракцию волн, если длина их близка к размерам атомов.</a:t>
            </a:r>
            <a:endParaRPr b="0" lang="en-US" sz="1800" spc="-1" strike="noStrike">
              <a:solidFill>
                <a:srgbClr val="4a2500"/>
              </a:solidFill>
              <a:latin typeface="Tahoma"/>
            </a:endParaRPr>
          </a:p>
        </p:txBody>
      </p:sp>
      <p:sp>
        <p:nvSpPr>
          <p:cNvPr id="13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Дифракция рентгеновских лучей</a:t>
            </a:r>
            <a:endParaRPr b="1" lang="en-US" sz="3200" spc="-1" strike="noStrike">
              <a:solidFill>
                <a:srgbClr val="788569"/>
              </a:solidFill>
              <a:latin typeface="Tahoma"/>
            </a:endParaRPr>
          </a:p>
        </p:txBody>
      </p:sp>
      <p:sp>
        <p:nvSpPr>
          <p:cNvPr id="137" name="PlaceHolder 2"/>
          <p:cNvSpPr>
            <a:spLocks noGrp="1"/>
          </p:cNvSpPr>
          <p:nvPr>
            <p:ph/>
          </p:nvPr>
        </p:nvSpPr>
        <p:spPr>
          <a:xfrm>
            <a:off x="539280" y="1981080"/>
            <a:ext cx="4537080" cy="4114800"/>
          </a:xfrm>
          <a:prstGeom prst="rect">
            <a:avLst/>
          </a:prstGeom>
          <a:noFill/>
          <a:ln w="0">
            <a:noFill/>
          </a:ln>
        </p:spPr>
        <p:txBody>
          <a:bodyPr anchor="t">
            <a:normAutofit fontScale="91000"/>
          </a:bodyPr>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Узкий пучок рентгеновских лучей был направлен на кристалл, за которым была расположена фотопластинка. Результат полностью согласовался с самыми оптимистическими ожиданиями. Наряду с большим центральным пятном, которое давали лучи, распространяющиеся по прямой, возникли регулярно расположенные небольшие пятнышки вокруг центрального пятна (рис.1). Появление этих пятнышек можно было объяснить только дифракцией рентгеновских лучей на упорядоченной структуре кристалла. </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Исследование дифракционной картины позволило определить длину волны рентгеновских лучей. Она оказалась меньше длины волны ультрафиолетового излучения и по порядку величины была равна размерам атома (10</a:t>
            </a:r>
            <a:r>
              <a:rPr b="0" lang="ru-RU" sz="1800" spc="-1" strike="noStrike" baseline="30000">
                <a:solidFill>
                  <a:srgbClr val="0a0a06"/>
                </a:solidFill>
                <a:latin typeface="Times New Roman"/>
              </a:rPr>
              <a:t>-8</a:t>
            </a:r>
            <a:r>
              <a:rPr b="0" lang="ru-RU" sz="1800" spc="-1" strike="noStrike">
                <a:solidFill>
                  <a:srgbClr val="0a0a06"/>
                </a:solidFill>
                <a:latin typeface="Times New Roman"/>
              </a:rPr>
              <a:t> см). </a:t>
            </a:r>
            <a:endParaRPr b="0" lang="en-US" sz="1800" spc="-1" strike="noStrike">
              <a:solidFill>
                <a:srgbClr val="4a2500"/>
              </a:solidFill>
              <a:latin typeface="Tahoma"/>
            </a:endParaRPr>
          </a:p>
        </p:txBody>
      </p:sp>
      <p:pic>
        <p:nvPicPr>
          <p:cNvPr id="138" name="Picture 5" descr="ris50"/>
          <p:cNvPicPr/>
          <p:nvPr/>
        </p:nvPicPr>
        <p:blipFill>
          <a:blip r:embed="rId1"/>
          <a:stretch/>
        </p:blipFill>
        <p:spPr>
          <a:xfrm>
            <a:off x="5219640" y="2276640"/>
            <a:ext cx="3924360" cy="3746160"/>
          </a:xfrm>
          <a:prstGeom prst="rect">
            <a:avLst/>
          </a:prstGeom>
          <a:ln w="0">
            <a:noFill/>
          </a:ln>
        </p:spPr>
      </p:pic>
      <p:sp>
        <p:nvSpPr>
          <p:cNvPr id="139" name="Text Box 7"/>
          <p:cNvSpPr/>
          <p:nvPr/>
        </p:nvSpPr>
        <p:spPr>
          <a:xfrm>
            <a:off x="7994520" y="618012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ahoma"/>
              </a:rPr>
              <a:t>Рис.1</a:t>
            </a:r>
            <a:endParaRPr b="0" lang="en-US" sz="1800" spc="-1" strike="noStrike">
              <a:solidFill>
                <a:srgbClr val="4a2500"/>
              </a:solidFill>
              <a:latin typeface="Tahoma"/>
            </a:endParaRPr>
          </a:p>
        </p:txBody>
      </p:sp>
      <p:sp>
        <p:nvSpPr>
          <p:cNvPr id="14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Применение рентгеновских лучей</a:t>
            </a:r>
            <a:r>
              <a:rPr b="1" lang="ru-RU" sz="4400" spc="-1" strike="noStrike">
                <a:solidFill>
                  <a:srgbClr val="788569"/>
                </a:solidFill>
                <a:latin typeface="Tahoma"/>
              </a:rPr>
              <a:t> </a:t>
            </a:r>
            <a:endParaRPr b="1" lang="en-US" sz="4400" spc="-1" strike="noStrike">
              <a:solidFill>
                <a:srgbClr val="788569"/>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fontScale="91000"/>
          </a:bodyPr>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Рентгеновские лучи нашли себе много очень важных практических применений.</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 медицине они применяются для постановки правильного диагноза заболевания, а также для лечения раковых заболеваний.</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есьма обширны применения рентгеновских лучей в научных исследованиях. По дифракционной картине, даваемой рентгеновскими лучами при их прохождении сквозь кристаллы, удается установить порядок расположения атомов в пространстве - структуру кристаллов. С помощью рентгеноструктурного анализа удается расшифровать строение сложнейших органических соединений, включая белки. В частности, была определена структура молекулы гемоглобина, содержащей десятки тысяч атомов.</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Эти достижения стали возможными благодаря тому, что длина волны рентгеновских лучей очень мала, - именно поэтому удалось «увидеть» молекулярные структуры. </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Из других применений рентгеновских лучей отметим рентгеновскую дефектоскопию — метод обнаружения раковин в отливках, трещин в рельсах, проверки качества сварных швов и т. д. Рентгеновская дефектоскопия, основана на изменении поглощения рентгеновских лучей в изделии при наличии в нем полости или инородных включений.</a:t>
            </a:r>
            <a:endParaRPr b="0" lang="en-US" sz="1800" spc="-1" strike="noStrike">
              <a:solidFill>
                <a:srgbClr val="4a2500"/>
              </a:solidFill>
              <a:latin typeface="Tahoma"/>
            </a:endParaRPr>
          </a:p>
        </p:txBody>
      </p:sp>
      <p:sp>
        <p:nvSpPr>
          <p:cNvPr id="143"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Устройство рентгеновской трубки</a:t>
            </a:r>
            <a:r>
              <a:rPr b="1" lang="ru-RU" sz="4400" spc="-1" strike="noStrike">
                <a:solidFill>
                  <a:srgbClr val="788569"/>
                </a:solidFill>
                <a:latin typeface="Tahoma"/>
              </a:rPr>
              <a:t> </a:t>
            </a:r>
            <a:endParaRPr b="1" lang="en-US" sz="4400" spc="-1" strike="noStrike">
              <a:solidFill>
                <a:srgbClr val="788569"/>
              </a:solidFill>
              <a:latin typeface="Tahoma"/>
            </a:endParaRPr>
          </a:p>
        </p:txBody>
      </p:sp>
      <p:sp>
        <p:nvSpPr>
          <p:cNvPr id="145" name="PlaceHolder 2"/>
          <p:cNvSpPr>
            <a:spLocks noGrp="1"/>
          </p:cNvSpPr>
          <p:nvPr>
            <p:ph/>
          </p:nvPr>
        </p:nvSpPr>
        <p:spPr>
          <a:xfrm>
            <a:off x="1042560" y="1844280"/>
            <a:ext cx="7921800" cy="1981080"/>
          </a:xfrm>
          <a:prstGeom prst="rect">
            <a:avLst/>
          </a:prstGeom>
          <a:noFill/>
          <a:ln w="0">
            <a:noFill/>
          </a:ln>
        </p:spPr>
        <p:txBody>
          <a:bodyPr anchor="t">
            <a:normAutofit fontScale="74000"/>
          </a:bodyPr>
          <a:p>
            <a:pPr marL="253800" indent="-25380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a0a06"/>
                </a:solidFill>
                <a:latin typeface="Times New Roman"/>
              </a:rPr>
              <a:t>В настоящее время для получения рентгеновских лучей разработаны весьма совершенные устройства, называемые рентгеновскими трубками.</a:t>
            </a:r>
            <a:endParaRPr b="0" lang="en-US" sz="1800" spc="-1" strike="noStrike">
              <a:solidFill>
                <a:srgbClr val="4a2500"/>
              </a:solidFill>
              <a:latin typeface="Tahoma"/>
            </a:endParaRPr>
          </a:p>
          <a:p>
            <a:pPr marL="253800" indent="-25380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На рис. 2 изображена упрощенная схема электронной рентгеновской трубки. Катод </a:t>
            </a:r>
            <a:r>
              <a:rPr b="0" i="1" lang="ru-RU" sz="1800" spc="-1" strike="noStrike">
                <a:solidFill>
                  <a:srgbClr val="0a0a06"/>
                </a:solidFill>
                <a:latin typeface="Times New Roman"/>
              </a:rPr>
              <a:t>1</a:t>
            </a:r>
            <a:r>
              <a:rPr b="0" lang="ru-RU" sz="1800" spc="-1" strike="noStrike">
                <a:solidFill>
                  <a:srgbClr val="0a0a06"/>
                </a:solidFill>
                <a:latin typeface="Times New Roman"/>
              </a:rPr>
              <a:t>  представляет собой вольфрамовую спираль, испускающую электроны за счет термоэлектронной эмиссии. Цилиндр </a:t>
            </a:r>
            <a:r>
              <a:rPr b="0" i="1" lang="ru-RU" sz="1800" spc="-1" strike="noStrike">
                <a:solidFill>
                  <a:srgbClr val="0a0a06"/>
                </a:solidFill>
                <a:latin typeface="Times New Roman"/>
              </a:rPr>
              <a:t>3</a:t>
            </a:r>
            <a:r>
              <a:rPr b="0" lang="ru-RU" sz="1800" spc="-1" strike="noStrike">
                <a:solidFill>
                  <a:srgbClr val="0a0a06"/>
                </a:solidFill>
                <a:latin typeface="Times New Roman"/>
              </a:rPr>
              <a:t> фокусирует поток электронов, которые затем соударяются с металлическим электродом (анодом) </a:t>
            </a:r>
            <a:r>
              <a:rPr b="0" i="1" lang="ru-RU" sz="1800" spc="-1" strike="noStrike">
                <a:solidFill>
                  <a:srgbClr val="0a0a06"/>
                </a:solidFill>
                <a:latin typeface="Times New Roman"/>
              </a:rPr>
              <a:t>2</a:t>
            </a:r>
            <a:r>
              <a:rPr b="0" lang="ru-RU" sz="1800" spc="-1" strike="noStrike">
                <a:solidFill>
                  <a:srgbClr val="0a0a06"/>
                </a:solidFill>
                <a:latin typeface="Times New Roman"/>
              </a:rPr>
              <a:t>. При этом рождаются рентгеновские лучи. Напряжение между анодом и катодом достигает нескольких десятков киловольт. В трубке создается глубокий вакуум; давление газа в ней не превышает 10</a:t>
            </a:r>
            <a:r>
              <a:rPr b="0" lang="ru-RU" sz="1800" spc="-1" strike="noStrike" baseline="30000">
                <a:solidFill>
                  <a:srgbClr val="0a0a06"/>
                </a:solidFill>
                <a:latin typeface="Times New Roman"/>
              </a:rPr>
              <a:t>-5</a:t>
            </a:r>
            <a:r>
              <a:rPr b="0" lang="ru-RU" sz="1800" spc="-1" strike="noStrike">
                <a:solidFill>
                  <a:srgbClr val="0a0a06"/>
                </a:solidFill>
                <a:latin typeface="Times New Roman"/>
              </a:rPr>
              <a:t> мм рт. ст.</a:t>
            </a:r>
            <a:endParaRPr b="0" lang="en-US" sz="1800" spc="-1" strike="noStrike">
              <a:solidFill>
                <a:srgbClr val="4a2500"/>
              </a:solidFill>
              <a:latin typeface="Tahoma"/>
            </a:endParaRPr>
          </a:p>
          <a:p>
            <a:pPr marL="253800" indent="-25380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 мощных рентгеновских трубках анод охлаждается проточной водой, так как при торможении электронов выделяется большое количество теплоты. В полезное излучение превращается лишь около 3% энергии электронов.</a:t>
            </a:r>
            <a:endParaRPr b="0" lang="en-US" sz="1800" spc="-1" strike="noStrike">
              <a:solidFill>
                <a:srgbClr val="4a2500"/>
              </a:solidFill>
              <a:latin typeface="Tahoma"/>
            </a:endParaRPr>
          </a:p>
        </p:txBody>
      </p:sp>
      <p:pic>
        <p:nvPicPr>
          <p:cNvPr id="146" name="Picture 18" descr="ris51"/>
          <p:cNvPicPr/>
          <p:nvPr/>
        </p:nvPicPr>
        <p:blipFill>
          <a:blip r:embed="rId1"/>
          <a:stretch/>
        </p:blipFill>
        <p:spPr>
          <a:xfrm>
            <a:off x="900000" y="1844640"/>
            <a:ext cx="8244000" cy="5013360"/>
          </a:xfrm>
          <a:prstGeom prst="rect">
            <a:avLst/>
          </a:prstGeom>
          <a:ln w="0">
            <a:noFill/>
          </a:ln>
        </p:spPr>
      </p:pic>
      <p:sp>
        <p:nvSpPr>
          <p:cNvPr id="147" name="Text Box 20"/>
          <p:cNvSpPr/>
          <p:nvPr/>
        </p:nvSpPr>
        <p:spPr>
          <a:xfrm>
            <a:off x="7705440" y="639612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ahoma"/>
              </a:rPr>
              <a:t>Рис.2</a:t>
            </a:r>
            <a:endParaRPr b="0" lang="en-US" sz="1800" spc="-1" strike="noStrike">
              <a:solidFill>
                <a:srgbClr val="4a2500"/>
              </a:solidFill>
              <a:latin typeface="Tahoma"/>
            </a:endParaRPr>
          </a:p>
        </p:txBody>
      </p:sp>
      <p:sp>
        <p:nvSpPr>
          <p:cNvPr id="14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8" presetSubtype="16">
                                  <p:stCondLst>
                                    <p:cond delay="0"/>
                                  </p:stCondLst>
                                  <p:childTnLst>
                                    <p:set>
                                      <p:cBhvr>
                                        <p:cTn id="15" dur="1" fill="hold">
                                          <p:stCondLst>
                                            <p:cond delay="0"/>
                                          </p:stCondLst>
                                        </p:cTn>
                                        <p:tgtEl>
                                          <p:spTgt spid="146"/>
                                        </p:tgtEl>
                                        <p:attrNameLst>
                                          <p:attrName>style.visibility</p:attrName>
                                        </p:attrNameLst>
                                      </p:cBhvr>
                                      <p:to>
                                        <p:strVal val="visible"/>
                                      </p:to>
                                    </p:set>
                                    <p:animEffect filter="diamond(in)" transition="in">
                                      <p:cBhvr additive="repl">
                                        <p:cTn id="16" dur="2000"/>
                                        <p:tgtEl>
                                          <p:spTgt spid="146"/>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xit" presetID="9">
                                  <p:stCondLst>
                                    <p:cond delay="0"/>
                                  </p:stCondLst>
                                  <p:childTnLst>
                                    <p:animEffect filter="dissolve" transition="out">
                                      <p:cBhvr additive="repl">
                                        <p:cTn id="20" dur="500"/>
                                        <p:tgtEl>
                                          <p:spTgt spid="146"/>
                                        </p:tgtEl>
                                      </p:cBhvr>
                                    </p:animEffect>
                                    <p:set>
                                      <p:cBhvr>
                                        <p:cTn id="21" dur="1" fill="hold">
                                          <p:stCondLst>
                                            <p:cond delay="4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22:22:41Z</dcterms:created>
  <dc:creator>Admin</dc:creator>
  <dc:description/>
  <dc:language>en-US</dc:language>
  <cp:lastModifiedBy>LEGION</cp:lastModifiedBy>
  <dcterms:modified xsi:type="dcterms:W3CDTF">2015-03-30T08:28:10Z</dcterms:modified>
  <cp:revision>6</cp:revision>
  <dc:subject/>
  <dc:title>РЕНТГЕНОВСКИЕ ЛУЧИ </dc:title>
</cp:coreProperties>
</file>