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FB2A-127C-4EC2-8E8B-C5F6C189729E}" type="slidenum">
              <a:rPr b="1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Фирмы в эконом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фир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и бухгалтерские 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издержки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уплачиваемые 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E320-64C5-4AF8-AF5A-185D19D8C9C2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Верны ли суждения о прибыли фирм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номическая прибыль учитывает внутренние и внешни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оба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а суждения невер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B4EB-AA3A-4354-B755-E916A1AE7733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значит эффективный бизне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 (в экономике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ив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ентабель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51DA-F4AF-4323-8C84-90A7B42754EB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логи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 физических и юридических лиц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1FC9-077D-4270-9328-0096B5A481C2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4, задания 3, 4 на странице 54 - выполнить письменно, текст лекции - 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0333-C455-4517-AEDE-C581543B38B6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7F3F-74C3-4DE6-BE54-0B90FEC27E8A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условиях рыночной экономики производитель формирует предложение товаров и услу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ыручка (или валовый доход)  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производителя от реализуемой им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ибыль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ица между доходами и издерж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Цель производителя в рыночной экономике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лучить максимальную прибыль при минимальных затр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08AB-D31B-43DB-88CC-5EA7CBB1084A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ыберите правильный ответ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ход производителя от реализуемой им продукции наз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уч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0286-DA26-4B30-BD04-75748F429787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утренние (неявны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ешние (бухгалтерски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денежных выплат, которые фирма осуществляет для оплаты необходимых ресурс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B3B4-3F36-4D41-86D7-C933FF4FCF94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ортиза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4918-DB28-4D8B-9277-BAA75FCEA4CA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телье производит закупку тканей, ниток и фурнитуры для пошива одежды. Затраты фирм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остоя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ка кор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воль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7D38-E1F5-455F-BB00-F750D804129D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79C-CB40-4667-8158-9A535E10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D96-596D-431F-A11F-192E7923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7BF-F765-49F6-9288-28F16845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3FE-BB52-4E5A-ACB0-65750618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84AD-191D-4BF5-9A52-02986766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3298-144B-404F-83AD-C6664DAF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E7E9-4467-4EF8-BAAE-74B6D1F8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BC00-20D0-46EF-802F-215828CF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B5DC-F319-4FB7-B5F3-1EED0DB3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AB81-8A6D-459B-98D7-4B872654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2B8D-F79E-470B-BECD-551D03C8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040-174F-4740-8616-8952DB4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1518-97CA-454D-BBD1-91B7178A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9A31-90FF-4698-BBB4-B1855D5C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C0EC-414B-4AF1-A0E2-827069D7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03AE-D53B-4A0D-B24C-25E1401C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1071-3E33-49FA-B26E-1DC631E9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6D0-904F-4CC6-9D77-8246043F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21A-0A2A-419D-9589-3FEF2214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95C-B4A6-4B15-8CE9-C1D1E7D5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87F-0C99-4DEC-8630-5FA1D525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061-62A8-4ABC-B9D2-23031D7A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B3F-942D-4A58-8632-D7C27CC7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679-6C0C-4509-88AD-24B6EFD9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6484-370E-407A-AF02-D84EA126B0B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7606-B3C4-46A3-9E28-4F282A8F393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Фирмы в экономи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фирм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кторы производства и фактор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ческие и бухгалтерские из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оянные и переменные издержки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и, уплачиваемые предприят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MH900412568"/>
          <p:cNvPicPr/>
          <p:nvPr/>
        </p:nvPicPr>
        <p:blipFill>
          <a:blip r:embed="rId1"/>
          <a:stretch/>
        </p:blipFill>
        <p:spPr>
          <a:xfrm>
            <a:off x="6048360" y="35812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915640" y="762120"/>
            <a:ext cx="2631240" cy="70344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1523520" y="1600200"/>
            <a:ext cx="1295640" cy="3808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5562720" y="1600200"/>
            <a:ext cx="1371600" cy="4572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2209680"/>
            <a:ext cx="335268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фирмы и экономическими 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419720" y="2209680"/>
            <a:ext cx="344484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ухгалтер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и бухгалтерски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ерны ли суждения о прибыли фирмы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кономическая прибыль учитывает внутренние и внешние издержки фир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ы оба су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а су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Что значит эффективный бизнес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 (в экономике)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ив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нтабель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38080" y="4800600"/>
            <a:ext cx="778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Рентабельность =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затраты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4419720" y="5867280"/>
            <a:ext cx="16761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алоги -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тельные платежи физических и юридических лиц государству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971800" y="1752480"/>
            <a:ext cx="33526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ри систем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ообложени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371600" y="2666880"/>
            <a:ext cx="236232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4495680" y="2666880"/>
            <a:ext cx="0" cy="7621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791320" y="2666880"/>
            <a:ext cx="213336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04920" y="3429000"/>
            <a:ext cx="28191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порциональ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00800" y="342900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429000" y="350532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е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3960" y="4724280"/>
            <a:ext cx="268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умма налога пр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рциональна д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одам работников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09888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ниж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22296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выш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895480" y="457200"/>
            <a:ext cx="38862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Налог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5"/>
          <p:cNvSpPr/>
          <p:nvPr/>
        </p:nvSpPr>
        <p:spPr>
          <a:xfrm flipH="1">
            <a:off x="1295280" y="1371600"/>
            <a:ext cx="2895840" cy="5335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5105520" y="1371600"/>
            <a:ext cx="2438280" cy="6094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04920" y="2057400"/>
            <a:ext cx="32763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638680" y="2057400"/>
            <a:ext cx="32767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127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63800" y="3206880"/>
            <a:ext cx="55926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язательные платежи, взимаем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сударством с доходов или имуществ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ридических и физических лиц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доходный налог с насел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прибыль с фирм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имущество, недвижимость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арение, наследство, финансов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ерации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693400" y="3098880"/>
            <a:ext cx="3518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станавливаются в вид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бавок к цене товар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услуг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цизные сбор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с продаж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ично НДС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моженные пошлин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экспор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752480" y="685800"/>
            <a:ext cx="495324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и, уплачиваемы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едприятиям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1904760" y="1600200"/>
            <a:ext cx="160020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4952880" y="1600200"/>
            <a:ext cx="152424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685800" y="228600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о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419720" y="2286000"/>
            <a:ext cx="373356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228600" y="3657600"/>
            <a:ext cx="3657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419720" y="3657600"/>
            <a:ext cx="40384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добавленную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тоимость (НД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4, задания 3, 4 на странице 54 - выполнить письменно, текст лекции - 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5"/>
          <p:cNvSpPr/>
          <p:nvPr/>
        </p:nvSpPr>
        <p:spPr>
          <a:xfrm>
            <a:off x="1828800" y="228600"/>
            <a:ext cx="5943600" cy="33526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Фирма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-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коммерческая  организация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уществляющая затрат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ономических ресурсов дл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готовления товаров и услуг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ализуемых на рын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514600" y="3505320"/>
            <a:ext cx="4572000" cy="3352680"/>
          </a:xfrm>
          <a:prstGeom prst="upArrowCallout">
            <a:avLst>
              <a:gd name="adj1" fmla="val 34095"/>
              <a:gd name="adj2" fmla="val 34092"/>
              <a:gd name="adj3" fmla="val 16667"/>
              <a:gd name="adj4" fmla="val 66660"/>
            </a:avLst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Цель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лучение дохода с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мощью рациональ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спользования  основных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есурсов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2057400" y="152280"/>
            <a:ext cx="5181480" cy="137160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ы производства 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ные доход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5"/>
          <p:cNvSpPr/>
          <p:nvPr/>
        </p:nvSpPr>
        <p:spPr>
          <a:xfrm rot="2744400">
            <a:off x="1224000" y="132372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97180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952880" y="1523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8"/>
          <p:cNvSpPr/>
          <p:nvPr/>
        </p:nvSpPr>
        <p:spPr>
          <a:xfrm rot="18910800">
            <a:off x="7313760" y="1387080"/>
            <a:ext cx="485640" cy="1089000"/>
          </a:xfrm>
          <a:prstGeom prst="downArrow">
            <a:avLst>
              <a:gd name="adj1" fmla="val 50000"/>
              <a:gd name="adj2" fmla="val 5606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2590920"/>
            <a:ext cx="190512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руд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1981080" y="2590920"/>
            <a:ext cx="2057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Земл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2590920"/>
            <a:ext cx="221004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Капитал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6781680" y="2438280"/>
            <a:ext cx="2362320" cy="121932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Предприним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ельск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способн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33"/>
          <p:cNvSpPr/>
          <p:nvPr/>
        </p:nvSpPr>
        <p:spPr>
          <a:xfrm flipH="1">
            <a:off x="3657600" y="3581280"/>
            <a:ext cx="4572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5715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6172200" y="3505320"/>
            <a:ext cx="45720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2133720" y="3962520"/>
            <a:ext cx="15238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зически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38098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нансов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1"/>
          <p:cNvSpPr/>
          <p:nvPr/>
        </p:nvSpPr>
        <p:spPr>
          <a:xfrm>
            <a:off x="51814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Инвестици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42"/>
          <p:cNvSpPr/>
          <p:nvPr/>
        </p:nvSpPr>
        <p:spPr>
          <a:xfrm>
            <a:off x="6705720" y="3962520"/>
            <a:ext cx="12189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судн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7"/>
          <p:cNvSpPr/>
          <p:nvPr/>
        </p:nvSpPr>
        <p:spPr>
          <a:xfrm>
            <a:off x="2193840" y="513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990720" y="3505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50"/>
          <p:cNvSpPr/>
          <p:nvPr/>
        </p:nvSpPr>
        <p:spPr>
          <a:xfrm>
            <a:off x="1981080" y="3505320"/>
            <a:ext cx="15264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1"/>
          <p:cNvSpPr/>
          <p:nvPr/>
        </p:nvSpPr>
        <p:spPr>
          <a:xfrm>
            <a:off x="8305920" y="36576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52"/>
          <p:cNvSpPr/>
          <p:nvPr/>
        </p:nvSpPr>
        <p:spPr>
          <a:xfrm>
            <a:off x="5791320" y="457200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53"/>
          <p:cNvSpPr/>
          <p:nvPr/>
        </p:nvSpPr>
        <p:spPr>
          <a:xfrm>
            <a:off x="0" y="518148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работна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т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54"/>
          <p:cNvSpPr/>
          <p:nvPr/>
        </p:nvSpPr>
        <p:spPr>
          <a:xfrm>
            <a:off x="2133720" y="51055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55"/>
          <p:cNvSpPr/>
          <p:nvPr/>
        </p:nvSpPr>
        <p:spPr>
          <a:xfrm>
            <a:off x="4648320" y="53341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цен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56"/>
          <p:cNvSpPr/>
          <p:nvPr/>
        </p:nvSpPr>
        <p:spPr>
          <a:xfrm>
            <a:off x="6934320" y="525780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 условиях рыночной экономики производитель формирует предложение товаров и услуг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ыручка (или валовый доход)  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ход производителя от реализуемой им проду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рибыль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ица между доходами и издерж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Цель производителя в рыночной экономике 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лучить максимальную прибыль при минимальных затрат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ыберите правильный ответ.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ход производителя от реализуемой им продукции называетс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ы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уч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л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3402000" y="152280"/>
            <a:ext cx="2125440" cy="5205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здержк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H="1">
            <a:off x="2590920" y="762120"/>
            <a:ext cx="76176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562720" y="762120"/>
            <a:ext cx="68580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0" y="1600200"/>
            <a:ext cx="4125960" cy="1648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держки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затраты производителя 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обретение и использовани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кторов производств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381560" y="1371600"/>
            <a:ext cx="4472280" cy="18313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и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те выплаты, которая фирм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лжна произвести поставщикам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ых ресурсов, чтоб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влечь эти ресурсы от использо-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ния в других производства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2057400" y="3276720"/>
            <a:ext cx="3581280" cy="76176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6019920" y="3276720"/>
            <a:ext cx="2361960" cy="8380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64400" y="4267080"/>
            <a:ext cx="315720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оимость собственного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479840" y="4191120"/>
            <a:ext cx="434016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латы поставщикам трудовы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ов, сырья, топлива, услуг и т.д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 (неявны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умма денежных выплат, которые фирма осуществляет для оплаты необходимых ресурсов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1828800" y="4114800"/>
            <a:ext cx="1371600" cy="5335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334120" y="4114800"/>
            <a:ext cx="1371600" cy="38088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860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остоя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95288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ереме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Амортизация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телье производит закупку тканей, ниток и фурнитуры для пошива одежды. Затраты фирмы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остоя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остоя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упка кор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оительство воль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рудование д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11:15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