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7CAD-9621-43A9-9596-9DBDF3F7E3FD}" type="slidenum">
              <a:rPr b="1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Фирмы в экономик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фир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и факторные до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и бухгалтерские из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е и переменные издержки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уплачиваемые предприят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895D-7F49-42F8-9DBA-4620FDDF1063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Верны ли суждения о прибыли фирмы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кономическая прибыль учитывает внутренние и внешние издержк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ухгалтерская прибыль получается путем вычитания суммы внешних издержек фирмы из выручки от прод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о только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о только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ы оба 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а суждения невер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E6B1-DF54-4A6B-9524-97D2652E223A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то значит эффективный бизнес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ффект (в экономике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ый положительный результат какой-либо деятельности (например, прирост прибыли, полученной фирмой по сравнению с прошлы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ффективность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ость процесса, определяемая как отношение эффекта, результата к затра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ентабельность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е прибыли, полученной предприятием за определенный период, к сделанным за тот же период затра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2CDC-AF3F-4F4D-90F4-219473C95C06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логи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латежи физических и юридических лиц государ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8C25-6674-43D4-A24F-F4E604C6E656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4, задания 3, 4 на странице 54 - выполнить письменно, текст лекции - у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4C71-C7E6-4385-9562-D1E94134EE6F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0709-76DA-4AF4-A7CC-2333AEDA9E93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условиях рыночной экономики производитель формирует предложение товаров и услу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ыручка (или валовый доход)  -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производителя от реализуемой им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ибыль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ица между доходами и издерж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Цель производителя в рыночной экономике 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лучить максимальную прибыль при минимальных затра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64E4-E1A2-45A6-8860-E28652D74B5A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ыберите правильный ответ.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ход производителя от реализуемой им продукции наз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уч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2665-8746-4C85-967B-531D76F464CB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нутренние (неявные) издержки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ы денежным выплатам, которые могли бы быть получены за самостоятельно используемый ресурс, если бы его собственник вложил его в чужое дело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нешние (бухгалтерские) издержки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умма денежных выплат, которые фирма осуществляет для оплаты необходимых ресурс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95C6-2796-4F5C-A28F-D75B5FC5AFE7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мортизация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стоимости капитальных ресурсов по мере их износа в процессе производственного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21BD-F6BA-4915-86F4-10372E9B7318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телье производит закупку тканей, ниток и фурнитуры для пошива одежды. Затраты фирмы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е,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е, постоя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е,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е, постоя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ражданин организовал на принадлежащем ему загородном участке гостиницу для собак и кошек: построил дом и открытые вольеры, закупил корма. Сам гражданин и его семья работают в гостинице. Что относится к внутренним затрат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упка кор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 воль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4BD1-E649-48B6-9D4F-B7621BD9FAEF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78C5-1343-4BAB-919A-88AC393C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1717-C551-40B8-ABF3-4F2E9F6A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3B51-EA17-4DE5-924B-15B04C49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009-FC20-49C5-9F4C-95A40F5E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098E-CF46-4E49-A6AF-571F1F2A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835C-986B-4CDC-A1B0-C74F91E0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ECD7-0FBA-4104-B2B1-9BED881F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6A6F-8BE9-452E-99B7-6C8C3366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ABED-29ED-4035-8857-3DEBCD4B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CD64-BA8B-44E3-AB1C-74F612C7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2568-F4E7-4645-96E3-7ABFABC5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5744-3F87-48DB-8DDC-2CB29EAD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FEA1-DD1F-4FF0-AAAF-DD0D9055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D8D0-C437-4940-990A-44F0266E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52F1-B5D5-4CC7-A39C-81CA1913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7C0C-4602-439B-8D56-8B235B1F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667D-158A-4B44-955C-2D806211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515D-CD5E-4A68-9F32-E01A634A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B2FE-BD28-430B-AE2E-47CDC87A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7FD-F9AB-4022-9E87-776E101A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B38-E961-446A-8362-D22B4DA1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08E2-9DD3-4D41-8CEB-86525E13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94F-395F-4F8F-BA18-2A8D2C8E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EAFB-C9D8-46AA-A36D-DFB80C9B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AA1F-AA13-4106-B820-F471C775FC1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A64B-E685-4E85-871C-EF9077EF00B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Фирмы в экономик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495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фирм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акторы производства и факторные до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кономические и бухгалтерские издерж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тоянные и переменные издержки произво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и, уплачиваемые предприяти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6" descr="MH900412568"/>
          <p:cNvPicPr/>
          <p:nvPr/>
        </p:nvPicPr>
        <p:blipFill>
          <a:blip r:embed="rId1"/>
          <a:stretch/>
        </p:blipFill>
        <p:spPr>
          <a:xfrm>
            <a:off x="6048360" y="358128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2915640" y="762120"/>
            <a:ext cx="2631240" cy="70344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Прибыль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6"/>
          <p:cNvSpPr/>
          <p:nvPr/>
        </p:nvSpPr>
        <p:spPr>
          <a:xfrm flipH="1">
            <a:off x="1523520" y="1600200"/>
            <a:ext cx="1295640" cy="38088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5562720" y="1600200"/>
            <a:ext cx="1371600" cy="45720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228600" y="2209680"/>
            <a:ext cx="3352680" cy="265428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кономическая прибы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разница между совокупно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ручкой фирмы и экономическими издержка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419720" y="2209680"/>
            <a:ext cx="3444840" cy="265428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Бухгалтерская прибы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разница между совокупно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ручкой и бухгалтерски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держка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ерны ли суждения о прибыли фирмы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Экономическая прибыль учитывает внутренние и внешние издержки фир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ухгалтерская прибыль получается путем вычитания суммы внешних издержек фирмы из выручки от продаж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о только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о только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ы оба су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а суждения невер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Что значит эффективный бизнес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ффект (в экономике)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ретный положительный результат какой-либо деятельности (например, прирост прибыли, полученной фирмой по сравнению с прошлым годо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ффективность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зультативность процесса, определяемая как отношение эффекта, результата к затра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ентабельность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ношение прибыли, полученной предприятием за определенный период, к сделанным за тот же период затра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38080" y="4800600"/>
            <a:ext cx="77882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Рентабельность =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прибыль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     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затраты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4419720" y="5867280"/>
            <a:ext cx="16761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алоги -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то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язательные платежи физических и юридических лиц государству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2971800" y="1752480"/>
            <a:ext cx="335268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Три системы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алогообложения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Line 8"/>
          <p:cNvSpPr/>
          <p:nvPr/>
        </p:nvSpPr>
        <p:spPr>
          <a:xfrm flipH="1">
            <a:off x="1371600" y="2666880"/>
            <a:ext cx="2362320" cy="5335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4495680" y="2666880"/>
            <a:ext cx="0" cy="7621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5791320" y="2666880"/>
            <a:ext cx="2133360" cy="5335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304920" y="3429000"/>
            <a:ext cx="281916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Пропорциональны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00800" y="3429000"/>
            <a:ext cx="25146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Прогрессивны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3429000" y="3505320"/>
            <a:ext cx="25146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Регрессивны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3960" y="4724280"/>
            <a:ext cx="268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умма налога про-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рциональна до-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ходам работников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098880" y="4730760"/>
            <a:ext cx="24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тем выше,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ем ниже доход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6222960" y="4730760"/>
            <a:ext cx="24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тем выше,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ем выше доход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895480" y="457200"/>
            <a:ext cx="38862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Налог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Line 5"/>
          <p:cNvSpPr/>
          <p:nvPr/>
        </p:nvSpPr>
        <p:spPr>
          <a:xfrm flipH="1">
            <a:off x="1295280" y="1371600"/>
            <a:ext cx="2895840" cy="53352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5105520" y="1371600"/>
            <a:ext cx="2438280" cy="60948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304920" y="2057400"/>
            <a:ext cx="327636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рямы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638680" y="2057400"/>
            <a:ext cx="32767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Косвенны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1276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63800" y="3206880"/>
            <a:ext cx="55926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язательные платежи, взимаемы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осударством с доходов или имущества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юридических и физических лиц: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доходный налог с населения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на прибыль с фирм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на имущество, недвижимость,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арение, наследство, финансовы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ерации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5693400" y="3098880"/>
            <a:ext cx="3518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станавливаются в вид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дбавок к цене товара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услуг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цизные сборы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с продаж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ично НДС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аможенные пошлины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на экспорт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1752480" y="685800"/>
            <a:ext cx="495324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алоги, уплачиваемы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редприятиями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6"/>
          <p:cNvSpPr/>
          <p:nvPr/>
        </p:nvSpPr>
        <p:spPr>
          <a:xfrm flipH="1">
            <a:off x="1904760" y="1600200"/>
            <a:ext cx="160020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4952880" y="1600200"/>
            <a:ext cx="1524240" cy="5335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685800" y="2286000"/>
            <a:ext cx="29718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рямой налог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с фирм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4419720" y="2286000"/>
            <a:ext cx="373356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Косвенный налог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с фирм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1981080" y="32004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228600" y="3657600"/>
            <a:ext cx="36576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Налог на прибы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419720" y="3657600"/>
            <a:ext cx="403848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Налог на добавленную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стоимость (НДС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4, задания 3, 4 на странице 54 - выполнить письменно, текст лекции - уч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Oval 5"/>
          <p:cNvSpPr/>
          <p:nvPr/>
        </p:nvSpPr>
        <p:spPr>
          <a:xfrm>
            <a:off x="1828800" y="228600"/>
            <a:ext cx="5943600" cy="33526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Фирма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-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то коммерческая  организация,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уществляющая затраты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кономических ресурсов для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зготовления товаров и услуг,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ализуемых на рынк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2514600" y="3505320"/>
            <a:ext cx="4572000" cy="3352680"/>
          </a:xfrm>
          <a:prstGeom prst="upArrowCallout">
            <a:avLst>
              <a:gd name="adj1" fmla="val 34095"/>
              <a:gd name="adj2" fmla="val 34092"/>
              <a:gd name="adj3" fmla="val 16667"/>
              <a:gd name="adj4" fmla="val 66660"/>
            </a:avLst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Цель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олучение дохода с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омощью рациональног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использования  основных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ресурсов производ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2057400" y="152280"/>
            <a:ext cx="5181480" cy="137160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Факторы производства и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факторные доход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5"/>
          <p:cNvSpPr/>
          <p:nvPr/>
        </p:nvSpPr>
        <p:spPr>
          <a:xfrm rot="2744400">
            <a:off x="1224000" y="1323720"/>
            <a:ext cx="485640" cy="1371600"/>
          </a:xfrm>
          <a:prstGeom prst="downArrow">
            <a:avLst>
              <a:gd name="adj1" fmla="val 50000"/>
              <a:gd name="adj2" fmla="val 70608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2971800" y="1600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952880" y="15238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8"/>
          <p:cNvSpPr/>
          <p:nvPr/>
        </p:nvSpPr>
        <p:spPr>
          <a:xfrm rot="18910800">
            <a:off x="7313760" y="1387080"/>
            <a:ext cx="485640" cy="1089000"/>
          </a:xfrm>
          <a:prstGeom prst="downArrow">
            <a:avLst>
              <a:gd name="adj1" fmla="val 50000"/>
              <a:gd name="adj2" fmla="val 5606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0" y="2590920"/>
            <a:ext cx="1905120" cy="91440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Труд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1981080" y="2590920"/>
            <a:ext cx="2057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Земл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267080" y="2590920"/>
            <a:ext cx="2210040" cy="91440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Капитал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6781680" y="2438280"/>
            <a:ext cx="2362320" cy="121932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Предприним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тельск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способн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33"/>
          <p:cNvSpPr/>
          <p:nvPr/>
        </p:nvSpPr>
        <p:spPr>
          <a:xfrm flipH="1">
            <a:off x="3657600" y="3581280"/>
            <a:ext cx="45720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34"/>
          <p:cNvSpPr/>
          <p:nvPr/>
        </p:nvSpPr>
        <p:spPr>
          <a:xfrm>
            <a:off x="4572000" y="350532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35"/>
          <p:cNvSpPr/>
          <p:nvPr/>
        </p:nvSpPr>
        <p:spPr>
          <a:xfrm>
            <a:off x="5715000" y="350532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38"/>
          <p:cNvSpPr/>
          <p:nvPr/>
        </p:nvSpPr>
        <p:spPr>
          <a:xfrm>
            <a:off x="6172200" y="3505320"/>
            <a:ext cx="45720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39"/>
          <p:cNvSpPr/>
          <p:nvPr/>
        </p:nvSpPr>
        <p:spPr>
          <a:xfrm>
            <a:off x="2133720" y="3962520"/>
            <a:ext cx="152388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Физически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40"/>
          <p:cNvSpPr/>
          <p:nvPr/>
        </p:nvSpPr>
        <p:spPr>
          <a:xfrm>
            <a:off x="3809880" y="3962520"/>
            <a:ext cx="129564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Финансовы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41"/>
          <p:cNvSpPr/>
          <p:nvPr/>
        </p:nvSpPr>
        <p:spPr>
          <a:xfrm>
            <a:off x="5181480" y="3962520"/>
            <a:ext cx="129564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Инвестиции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42"/>
          <p:cNvSpPr/>
          <p:nvPr/>
        </p:nvSpPr>
        <p:spPr>
          <a:xfrm>
            <a:off x="6705720" y="3962520"/>
            <a:ext cx="121896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Ссудны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7"/>
          <p:cNvSpPr/>
          <p:nvPr/>
        </p:nvSpPr>
        <p:spPr>
          <a:xfrm>
            <a:off x="2193840" y="513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49"/>
          <p:cNvSpPr/>
          <p:nvPr/>
        </p:nvSpPr>
        <p:spPr>
          <a:xfrm>
            <a:off x="990720" y="3505320"/>
            <a:ext cx="0" cy="167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50"/>
          <p:cNvSpPr/>
          <p:nvPr/>
        </p:nvSpPr>
        <p:spPr>
          <a:xfrm>
            <a:off x="1981080" y="3505320"/>
            <a:ext cx="152640" cy="167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51"/>
          <p:cNvSpPr/>
          <p:nvPr/>
        </p:nvSpPr>
        <p:spPr>
          <a:xfrm>
            <a:off x="8305920" y="3657600"/>
            <a:ext cx="0" cy="1600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52"/>
          <p:cNvSpPr/>
          <p:nvPr/>
        </p:nvSpPr>
        <p:spPr>
          <a:xfrm>
            <a:off x="5791320" y="4572000"/>
            <a:ext cx="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Oval 53"/>
          <p:cNvSpPr/>
          <p:nvPr/>
        </p:nvSpPr>
        <p:spPr>
          <a:xfrm>
            <a:off x="0" y="518148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работная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лат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Oval 54"/>
          <p:cNvSpPr/>
          <p:nvPr/>
        </p:nvSpPr>
        <p:spPr>
          <a:xfrm>
            <a:off x="2133720" y="510552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нт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Oval 55"/>
          <p:cNvSpPr/>
          <p:nvPr/>
        </p:nvSpPr>
        <p:spPr>
          <a:xfrm>
            <a:off x="4648320" y="533412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цент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Oval 56"/>
          <p:cNvSpPr/>
          <p:nvPr/>
        </p:nvSpPr>
        <p:spPr>
          <a:xfrm>
            <a:off x="6934320" y="525780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быль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В условиях рыночной экономики производитель формирует предложение товаров и услуг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ыручка (или валовый доход)  -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ход производителя от реализуемой им продук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Прибыль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ица между доходами и издерж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Цель производителя в рыночной экономике 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получить максимальную прибыль при минимальных затрат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ыберите правильный ответ.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Доход производителя от реализуемой им продукции называется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был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руч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держ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ребл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3402000" y="152280"/>
            <a:ext cx="2125440" cy="52056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Издержк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6"/>
          <p:cNvSpPr/>
          <p:nvPr/>
        </p:nvSpPr>
        <p:spPr>
          <a:xfrm flipH="1">
            <a:off x="2590920" y="762120"/>
            <a:ext cx="761760" cy="5331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562720" y="762120"/>
            <a:ext cx="685800" cy="5331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0" y="1600200"/>
            <a:ext cx="4125960" cy="1648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здержки производ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о затраты производителя н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обретение и использование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акторов производства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4381560" y="1371600"/>
            <a:ext cx="4472280" cy="183132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кономические издержк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о те выплаты, которая фирм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олжна произвести поставщикам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обходимых ресурсов, чтобы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твлечь эти ресурсы от использо-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ания в других производствах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10"/>
          <p:cNvSpPr/>
          <p:nvPr/>
        </p:nvSpPr>
        <p:spPr>
          <a:xfrm flipH="1">
            <a:off x="2057400" y="3276720"/>
            <a:ext cx="3581280" cy="76176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6019920" y="3276720"/>
            <a:ext cx="2361960" cy="83808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64400" y="4267080"/>
            <a:ext cx="3157200" cy="155700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утрен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тоимость собственного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сурс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4479840" y="4191120"/>
            <a:ext cx="4340160" cy="155700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ешние (бухгалтерские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платы поставщикам трудовых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сурсов, сырья, топлива, услуг и т.д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утренние (неявные) издержки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вны денежным выплатам, которые могли бы быть получены за самостоятельно используемый ресурс, если бы его собственник вложил его в чужое дело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ешние (бухгалтерские) издержки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сумма денежных выплат, которые фирма осуществляет для оплаты необходимых ресурсов.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Line 6"/>
          <p:cNvSpPr/>
          <p:nvPr/>
        </p:nvSpPr>
        <p:spPr>
          <a:xfrm flipH="1">
            <a:off x="1828800" y="4114800"/>
            <a:ext cx="1371600" cy="5335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5334120" y="4114800"/>
            <a:ext cx="1371600" cy="38088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28600" y="4724280"/>
            <a:ext cx="39625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остоянные издержк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952880" y="4724280"/>
            <a:ext cx="39625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еременные издержк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Амортизация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еньшение стоимости капитальных ресурсов по мере их износа в процессе производственного использован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телье производит закупку тканей, ниток и фурнитуры для пошива одежды. Затраты фирмы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утренние, перем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утренние, постоя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шние, перем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шние, постоян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Гражданин организовал на принадлежащем ему загородном участке гостиницу для собак и кошек: построил дом и открытые вольеры, закупил корма. Сам гражданин и его семья работают в гостинице. Что относится к внутренним затрата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упка корм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оительство волье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рудование д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ование зем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11:15:2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