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4B4C-0E4C-4E29-953C-C150F1FC6B8C}" type="slidenum">
              <a:rPr b="1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Фирмы в экономик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фирм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 и факторные дох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и бухгалтерские издерж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ые и переменные издержки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, уплачиваемые предприят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D131-8B0C-4439-859D-EACEE8E8A1D4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Верны ли суждения о прибыли фирмы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кономическая прибыль учитывает внутренние и внешние издержки 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Б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ухгалтерская прибыль получается путем вычитания суммы внешних издержек фирмы из выручки от прода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но только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но только 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ны оба су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а суждения невер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EA11-2555-433F-89AF-2AEC5CB6260A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Что значит эффективный бизнес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Эффект (в экономике)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ретный положительный результат какой-либо деятельности (например, прирост прибыли, полученной фирмой по сравнению с прошлым год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Эффективность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ивность процесса, определяемая как отношение эффекта, результата к затрат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ентабельность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е прибыли, полученной предприятием за определенный период, к сделанным за тот же период затрат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7D50-98FF-4FDA-9E7B-31A6B787E8E4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алоги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платежи физических и юридических лиц государ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A282-7BE3-416B-9BAA-2BE0819A23D0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граф 4, задания 3, 4 на странице 54 - выполнить письменно, текст лекции - уч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1379-71A9-4784-AD41-560F330D900E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1FBC-EC1F-45BD-A2A8-2D62F91A66B6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условиях рыночной экономики производитель формирует предложение товаров и услуг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ыручка (или валовый доход)  -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 производителя от реализуемой им проду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рибыль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ица между доходами и издерж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Цель производителя в рыночной экономике -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олучить максимальную прибыль при минимальных затрат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9181-3EEB-4735-9C5B-02492BD07293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ыберите правильный ответ. 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оход производителя от реализуемой им продукции назыв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уч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ерж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л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4D57-40F7-49AA-8B9C-C2101D1881B6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нутренние (неявные) издержки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ы денежным выплатам, которые могли бы быть получены за самостоятельно используемый ресурс, если бы его собственник вложил его в чужое дело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нешние (бухгалтерские) издержки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умма денежных выплат, которые фирма осуществляет для оплаты необходимых ресурс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2F87-6557-42AF-88E6-D276DB9D9D87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мортизация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ьшение стоимости капитальных ресурсов по мере их износа в процессе производственного ис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0B55-B39D-48E6-847D-C0B7EB215BBB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телье производит закупку тканей, ниток и фурнитуры для пошива одежды. Затраты фирмы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ие, перем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ие, постоя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е, перем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е, постоян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Гражданин организовал на принадлежащем ему загородном участке гостиницу для собак и кошек: построил дом и открытые вольеры, закупил корма. Сам гражданин и его семья работают в гостинице. Что относится к внутренним затрата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упка кор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тельство воль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удование д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7747-6202-4513-9EF2-B9FE4E1980DC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87F4-6EEA-4FFB-9792-F871B194B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AE71-8E7D-43B6-B1E4-7ACBEAEA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FE4F-1651-401A-B0B5-E71E77AB2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8874-F837-4087-9CBD-A75149C1A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919B-F253-40EE-972E-6980DEC13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B8EA-1DDC-4C8A-BC8E-EF19DC40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A14A-83E4-4FA5-914B-B2ABF19F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F8C6-FDF4-4D12-886B-6F7FF77E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DD70-DE0C-4BFD-9D36-C01C2EE7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4F5F-5109-421F-82A4-36EB6DB3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EB61-9B1D-433A-9EFB-F61ABF18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4F76-806A-4306-BC7E-F3E1EA26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D9BA-6CC4-41E6-833F-63F36A50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B2D16-B98E-41C2-B5DE-277699EC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F08E-8B63-4742-96B8-19904F53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5D66-0BAD-4CA4-9870-862E2B518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FF2B-0F92-4516-B769-5DBE2597E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1DB9-885C-4B5D-8D18-E97DF21A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201F-1696-4F2A-9189-7461FDD8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18E3-402A-434D-9208-00F03EA8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FCE0-3EF0-403A-A9BA-157F6509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92DC-BDB5-4AEB-ABE8-2C646CEC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C659-1A5A-4EB1-B8F6-A414E6CE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199C-EC11-4248-A470-E932110F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A909-74B9-433E-9FA0-E286144C65C7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EF53-1EF5-4DB5-8526-2F2ED0B413C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Фирмы в экономике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4952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о такое фирм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акторы производства и факторные дохо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кономические и бухгалтерские издерж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стоянные и переменные издержки производ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оги, уплачиваемые предприятия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6" descr="MH900412568"/>
          <p:cNvPicPr/>
          <p:nvPr/>
        </p:nvPicPr>
        <p:blipFill>
          <a:blip r:embed="rId1"/>
          <a:stretch/>
        </p:blipFill>
        <p:spPr>
          <a:xfrm>
            <a:off x="6048360" y="3581280"/>
            <a:ext cx="3095640" cy="30956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2915640" y="762120"/>
            <a:ext cx="2631240" cy="703440"/>
          </a:xfrm>
          <a:prstGeom prst="rect">
            <a:avLst/>
          </a:prstGeom>
          <a:noFill/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Прибыль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Line 6"/>
          <p:cNvSpPr/>
          <p:nvPr/>
        </p:nvSpPr>
        <p:spPr>
          <a:xfrm flipH="1">
            <a:off x="1523520" y="1600200"/>
            <a:ext cx="1295640" cy="38088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Line 7"/>
          <p:cNvSpPr/>
          <p:nvPr/>
        </p:nvSpPr>
        <p:spPr>
          <a:xfrm>
            <a:off x="5562720" y="1600200"/>
            <a:ext cx="1371600" cy="45720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228600" y="2209680"/>
            <a:ext cx="3352680" cy="265428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Экономическая прибыль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 разница между совокупной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ручкой фирмы и экономическими издержкам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4419720" y="2209680"/>
            <a:ext cx="3444840" cy="265428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Бухгалтерская прибыль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 разница между совокупной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ручкой и бухгалтерским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держкам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Верны ли суждения о прибыли фирмы?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А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Экономическая прибыль учитывает внутренние и внешние издержки фирм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Б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Бухгалтерская прибыль получается путем вычитания суммы внешних издержек фирмы из выручки от продаж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рно только 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рно только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рны оба сужд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а суждения невер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Что значит эффективный бизнес?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Эффект (в экономике)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кретный положительный результат какой-либо деятельности (например, прирост прибыли, полученной фирмой по сравнению с прошлым годом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Эффективность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зультативность процесса, определяемая как отношение эффекта, результата к затрат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Рентабельность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ношение прибыли, полученной предприятием за определенный период, к сделанным за тот же период затрат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38080" y="4800600"/>
            <a:ext cx="778824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Рентабельность =</a:t>
            </a: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ru-RU" sz="4000" spc="-1" strike="noStrike" baseline="30000">
                <a:solidFill>
                  <a:srgbClr val="ff0066"/>
                </a:solidFill>
                <a:latin typeface="Tahoma"/>
              </a:rPr>
              <a:t>прибыль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baseline="30000">
                <a:solidFill>
                  <a:srgbClr val="ff0066"/>
                </a:solidFill>
                <a:latin typeface="Tahoma"/>
              </a:rPr>
              <a:t>	</a:t>
            </a:r>
            <a:r>
              <a:rPr b="1" lang="ru-RU" sz="4000" spc="-1" strike="noStrike" baseline="30000">
                <a:solidFill>
                  <a:srgbClr val="ff0066"/>
                </a:solidFill>
                <a:latin typeface="Tahoma"/>
              </a:rPr>
              <a:t>	</a:t>
            </a:r>
            <a:r>
              <a:rPr b="1" lang="ru-RU" sz="4000" spc="-1" strike="noStrike" baseline="30000">
                <a:solidFill>
                  <a:srgbClr val="ff0066"/>
                </a:solidFill>
                <a:latin typeface="Tahoma"/>
              </a:rPr>
              <a:t>	</a:t>
            </a:r>
            <a:r>
              <a:rPr b="1" lang="ru-RU" sz="4000" spc="-1" strike="noStrike">
                <a:solidFill>
                  <a:srgbClr val="ff0066"/>
                </a:solidFill>
                <a:latin typeface="Tahoma"/>
              </a:rPr>
              <a:t>     </a:t>
            </a:r>
            <a:r>
              <a:rPr b="1" lang="ru-RU" sz="4000" spc="-1" strike="noStrike" baseline="30000">
                <a:solidFill>
                  <a:srgbClr val="ff0066"/>
                </a:solidFill>
                <a:latin typeface="Tahoma"/>
              </a:rPr>
              <a:t>затраты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4419720" y="5867280"/>
            <a:ext cx="16761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алоги -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это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бязательные платежи физических и юридических лиц государству.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2971800" y="1752480"/>
            <a:ext cx="3352680" cy="9144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Три системы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налогообложения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Line 8"/>
          <p:cNvSpPr/>
          <p:nvPr/>
        </p:nvSpPr>
        <p:spPr>
          <a:xfrm flipH="1">
            <a:off x="1371600" y="2666880"/>
            <a:ext cx="2362320" cy="53352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Line 9"/>
          <p:cNvSpPr/>
          <p:nvPr/>
        </p:nvSpPr>
        <p:spPr>
          <a:xfrm>
            <a:off x="4495680" y="2666880"/>
            <a:ext cx="0" cy="76212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Line 10"/>
          <p:cNvSpPr/>
          <p:nvPr/>
        </p:nvSpPr>
        <p:spPr>
          <a:xfrm>
            <a:off x="5791320" y="2666880"/>
            <a:ext cx="2133360" cy="53352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Rectangle 11"/>
          <p:cNvSpPr/>
          <p:nvPr/>
        </p:nvSpPr>
        <p:spPr>
          <a:xfrm>
            <a:off x="304920" y="3429000"/>
            <a:ext cx="281916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Пропорциональный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налог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6400800" y="3429000"/>
            <a:ext cx="251460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Прогрессивный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налог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13"/>
          <p:cNvSpPr/>
          <p:nvPr/>
        </p:nvSpPr>
        <p:spPr>
          <a:xfrm>
            <a:off x="3429000" y="3505320"/>
            <a:ext cx="251460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Регрессивный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налог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3960" y="4724280"/>
            <a:ext cx="268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умма налога про-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рциональна до-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ходам работников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3098880" y="4730760"/>
            <a:ext cx="245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лог тем выше,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чем ниже доход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Text Box 17"/>
          <p:cNvSpPr/>
          <p:nvPr/>
        </p:nvSpPr>
        <p:spPr>
          <a:xfrm>
            <a:off x="6222960" y="4730760"/>
            <a:ext cx="245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лог тем выше,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чем выше доход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2895480" y="457200"/>
            <a:ext cx="3886200" cy="9144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Налоги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Line 5"/>
          <p:cNvSpPr/>
          <p:nvPr/>
        </p:nvSpPr>
        <p:spPr>
          <a:xfrm flipH="1">
            <a:off x="1295280" y="1371600"/>
            <a:ext cx="2895840" cy="53352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Line 6"/>
          <p:cNvSpPr/>
          <p:nvPr/>
        </p:nvSpPr>
        <p:spPr>
          <a:xfrm>
            <a:off x="5105520" y="1371600"/>
            <a:ext cx="2438280" cy="60948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304920" y="2057400"/>
            <a:ext cx="327636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Прямы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5638680" y="2057400"/>
            <a:ext cx="327672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Косвенны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21276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163800" y="3206880"/>
            <a:ext cx="5592600" cy="28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бязательные платежи, взимаемые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государством с доходов или имущества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юридических и физических лиц: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доходный налог с населения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лог на прибыль с фирм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лог на имущество, недвижимость,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арение, наследство, финансовые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перации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5693400" y="3098880"/>
            <a:ext cx="3518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станавливаются в виде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дбавок к цене товара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 услуг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кцизные сборы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лог с продаж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частично НДС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аможенные пошлины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лог на экспорт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1752480" y="685800"/>
            <a:ext cx="4953240" cy="9144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Налоги, уплачиваемые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предприятиями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Line 6"/>
          <p:cNvSpPr/>
          <p:nvPr/>
        </p:nvSpPr>
        <p:spPr>
          <a:xfrm flipH="1">
            <a:off x="1904760" y="1600200"/>
            <a:ext cx="1600200" cy="6094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Line 7"/>
          <p:cNvSpPr/>
          <p:nvPr/>
        </p:nvSpPr>
        <p:spPr>
          <a:xfrm>
            <a:off x="4952880" y="1600200"/>
            <a:ext cx="1524240" cy="5335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685800" y="2286000"/>
            <a:ext cx="2971800" cy="9144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Прямой налог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с фирмы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4419720" y="2286000"/>
            <a:ext cx="3733560" cy="9144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Косвенный налог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с фирмы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1981080" y="320040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Line 11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Rectangle 12"/>
          <p:cNvSpPr/>
          <p:nvPr/>
        </p:nvSpPr>
        <p:spPr>
          <a:xfrm>
            <a:off x="228600" y="3657600"/>
            <a:ext cx="36576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Налог на прибыль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4419720" y="3657600"/>
            <a:ext cx="4038480" cy="12193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Налог на добавленную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стоимость (НДС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Домашнее задание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араграф 4, задания 3, 4 на странице 54 - выполнить письменно, текст лекции - учи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Oval 5"/>
          <p:cNvSpPr/>
          <p:nvPr/>
        </p:nvSpPr>
        <p:spPr>
          <a:xfrm>
            <a:off x="1828800" y="228600"/>
            <a:ext cx="5943600" cy="33526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Фирма</a:t>
            </a: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 - 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это коммерческая  организация,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существляющая затраты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экономических ресурсов для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зготовления товаров и услуг,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еализуемых на рынк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2514600" y="3505320"/>
            <a:ext cx="4572000" cy="3352680"/>
          </a:xfrm>
          <a:prstGeom prst="upArrowCallout">
            <a:avLst>
              <a:gd name="adj1" fmla="val 34095"/>
              <a:gd name="adj2" fmla="val 34092"/>
              <a:gd name="adj3" fmla="val 16667"/>
              <a:gd name="adj4" fmla="val 66660"/>
            </a:avLst>
          </a:prstGeom>
          <a:solidFill>
            <a:srgbClr val="eaeaea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Цель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получение дохода с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помощью рационального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использования  основных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ресурсов производства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4"/>
          <p:cNvSpPr/>
          <p:nvPr/>
        </p:nvSpPr>
        <p:spPr>
          <a:xfrm>
            <a:off x="2057400" y="152280"/>
            <a:ext cx="5181480" cy="1371600"/>
          </a:xfrm>
          <a:prstGeom prst="bevel">
            <a:avLst>
              <a:gd name="adj" fmla="val 125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Факторы производства и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факторные доходы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AutoShape 5"/>
          <p:cNvSpPr/>
          <p:nvPr/>
        </p:nvSpPr>
        <p:spPr>
          <a:xfrm rot="2744400">
            <a:off x="1224000" y="1323720"/>
            <a:ext cx="485640" cy="1371600"/>
          </a:xfrm>
          <a:prstGeom prst="downArrow">
            <a:avLst>
              <a:gd name="adj1" fmla="val 50000"/>
              <a:gd name="adj2" fmla="val 70608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2971800" y="16002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4952880" y="15238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AutoShape 8"/>
          <p:cNvSpPr/>
          <p:nvPr/>
        </p:nvSpPr>
        <p:spPr>
          <a:xfrm rot="18910800">
            <a:off x="7313760" y="1387080"/>
            <a:ext cx="485640" cy="1089000"/>
          </a:xfrm>
          <a:prstGeom prst="downArrow">
            <a:avLst>
              <a:gd name="adj1" fmla="val 50000"/>
              <a:gd name="adj2" fmla="val 56060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0" y="2590920"/>
            <a:ext cx="1905120" cy="914400"/>
          </a:xfrm>
          <a:prstGeom prst="rect">
            <a:avLst/>
          </a:prstGeom>
          <a:solidFill>
            <a:srgbClr val="eaeaea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ff"/>
                </a:solidFill>
                <a:latin typeface="Tahoma"/>
              </a:rPr>
              <a:t>Труд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Rectangle 24"/>
          <p:cNvSpPr/>
          <p:nvPr/>
        </p:nvSpPr>
        <p:spPr>
          <a:xfrm>
            <a:off x="1981080" y="2590920"/>
            <a:ext cx="205740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ff"/>
                </a:solidFill>
                <a:latin typeface="Tahoma"/>
              </a:rPr>
              <a:t>Земля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25"/>
          <p:cNvSpPr/>
          <p:nvPr/>
        </p:nvSpPr>
        <p:spPr>
          <a:xfrm>
            <a:off x="4267080" y="2590920"/>
            <a:ext cx="2210040" cy="914400"/>
          </a:xfrm>
          <a:prstGeom prst="rect">
            <a:avLst/>
          </a:prstGeom>
          <a:solidFill>
            <a:srgbClr val="eaeaea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ff"/>
                </a:solidFill>
                <a:latin typeface="Tahoma"/>
              </a:rPr>
              <a:t>Капитал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Rectangle 26"/>
          <p:cNvSpPr/>
          <p:nvPr/>
        </p:nvSpPr>
        <p:spPr>
          <a:xfrm>
            <a:off x="6781680" y="2438280"/>
            <a:ext cx="2362320" cy="1219320"/>
          </a:xfrm>
          <a:prstGeom prst="rect">
            <a:avLst/>
          </a:prstGeom>
          <a:solidFill>
            <a:srgbClr val="eaeaea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ff"/>
                </a:solidFill>
                <a:latin typeface="Tahoma"/>
              </a:rPr>
              <a:t>Предпринима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ff"/>
                </a:solidFill>
                <a:latin typeface="Tahoma"/>
              </a:rPr>
              <a:t>тельски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ff"/>
                </a:solidFill>
                <a:latin typeface="Tahoma"/>
              </a:rPr>
              <a:t>способност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Line 33"/>
          <p:cNvSpPr/>
          <p:nvPr/>
        </p:nvSpPr>
        <p:spPr>
          <a:xfrm flipH="1">
            <a:off x="3657600" y="3581280"/>
            <a:ext cx="457200" cy="3812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Line 34"/>
          <p:cNvSpPr/>
          <p:nvPr/>
        </p:nvSpPr>
        <p:spPr>
          <a:xfrm>
            <a:off x="4572000" y="350532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Line 35"/>
          <p:cNvSpPr/>
          <p:nvPr/>
        </p:nvSpPr>
        <p:spPr>
          <a:xfrm>
            <a:off x="5715000" y="350532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Line 38"/>
          <p:cNvSpPr/>
          <p:nvPr/>
        </p:nvSpPr>
        <p:spPr>
          <a:xfrm>
            <a:off x="6172200" y="3505320"/>
            <a:ext cx="457200" cy="3808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ectangle 39"/>
          <p:cNvSpPr/>
          <p:nvPr/>
        </p:nvSpPr>
        <p:spPr>
          <a:xfrm>
            <a:off x="2133720" y="3962520"/>
            <a:ext cx="152388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Физический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капитал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Rectangle 40"/>
          <p:cNvSpPr/>
          <p:nvPr/>
        </p:nvSpPr>
        <p:spPr>
          <a:xfrm>
            <a:off x="3809880" y="3962520"/>
            <a:ext cx="129564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Финансовый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капитал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Rectangle 41"/>
          <p:cNvSpPr/>
          <p:nvPr/>
        </p:nvSpPr>
        <p:spPr>
          <a:xfrm>
            <a:off x="5181480" y="3962520"/>
            <a:ext cx="129564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Инвестиции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Rectangle 42"/>
          <p:cNvSpPr/>
          <p:nvPr/>
        </p:nvSpPr>
        <p:spPr>
          <a:xfrm>
            <a:off x="6705720" y="3962520"/>
            <a:ext cx="121896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Ссудный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капитал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47"/>
          <p:cNvSpPr/>
          <p:nvPr/>
        </p:nvSpPr>
        <p:spPr>
          <a:xfrm>
            <a:off x="2193840" y="5137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Line 49"/>
          <p:cNvSpPr/>
          <p:nvPr/>
        </p:nvSpPr>
        <p:spPr>
          <a:xfrm>
            <a:off x="990720" y="3505320"/>
            <a:ext cx="0" cy="16761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Line 50"/>
          <p:cNvSpPr/>
          <p:nvPr/>
        </p:nvSpPr>
        <p:spPr>
          <a:xfrm>
            <a:off x="1981080" y="3505320"/>
            <a:ext cx="152640" cy="16761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Line 51"/>
          <p:cNvSpPr/>
          <p:nvPr/>
        </p:nvSpPr>
        <p:spPr>
          <a:xfrm>
            <a:off x="8305920" y="3657600"/>
            <a:ext cx="0" cy="1600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Line 52"/>
          <p:cNvSpPr/>
          <p:nvPr/>
        </p:nvSpPr>
        <p:spPr>
          <a:xfrm>
            <a:off x="5791320" y="4572000"/>
            <a:ext cx="0" cy="685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Oval 53"/>
          <p:cNvSpPr/>
          <p:nvPr/>
        </p:nvSpPr>
        <p:spPr>
          <a:xfrm>
            <a:off x="0" y="5181480"/>
            <a:ext cx="198108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работная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лата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Oval 54"/>
          <p:cNvSpPr/>
          <p:nvPr/>
        </p:nvSpPr>
        <p:spPr>
          <a:xfrm>
            <a:off x="2133720" y="5105520"/>
            <a:ext cx="198108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ента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Oval 55"/>
          <p:cNvSpPr/>
          <p:nvPr/>
        </p:nvSpPr>
        <p:spPr>
          <a:xfrm>
            <a:off x="4648320" y="5334120"/>
            <a:ext cx="198108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оцент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Oval 56"/>
          <p:cNvSpPr/>
          <p:nvPr/>
        </p:nvSpPr>
        <p:spPr>
          <a:xfrm>
            <a:off x="6934320" y="5257800"/>
            <a:ext cx="198108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ибыль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В условиях рыночной экономики производитель формирует предложение товаров и услуг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Выручка (или валовый доход)  -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ход производителя от реализуемой им продук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Прибыль 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ница между доходами и издержк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Цель производителя в рыночной экономике -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получить максимальную прибыль при минимальных затрата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Выберите правильный ответ.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Доход производителя от реализуемой им продукции называется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быль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ручк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держк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треблени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5"/>
          <p:cNvSpPr/>
          <p:nvPr/>
        </p:nvSpPr>
        <p:spPr>
          <a:xfrm>
            <a:off x="3402000" y="152280"/>
            <a:ext cx="2125440" cy="52056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Издержки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Line 6"/>
          <p:cNvSpPr/>
          <p:nvPr/>
        </p:nvSpPr>
        <p:spPr>
          <a:xfrm flipH="1">
            <a:off x="2590920" y="762120"/>
            <a:ext cx="761760" cy="53316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5562720" y="762120"/>
            <a:ext cx="685800" cy="53316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0" y="1600200"/>
            <a:ext cx="4125960" cy="164844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Издержки производства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то затраты производителя на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иобретение и использование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факторов производства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4381560" y="1371600"/>
            <a:ext cx="4472280" cy="183132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Экономические издержк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то те выплаты, которая фирма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олжна произвести поставщикам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еобходимых ресурсов, чтобы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твлечь эти ресурсы от использо-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ания в других производствах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Line 10"/>
          <p:cNvSpPr/>
          <p:nvPr/>
        </p:nvSpPr>
        <p:spPr>
          <a:xfrm flipH="1">
            <a:off x="2057400" y="3276720"/>
            <a:ext cx="3581280" cy="761760"/>
          </a:xfrm>
          <a:prstGeom prst="line">
            <a:avLst/>
          </a:prstGeom>
          <a:ln w="5724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Line 11"/>
          <p:cNvSpPr/>
          <p:nvPr/>
        </p:nvSpPr>
        <p:spPr>
          <a:xfrm>
            <a:off x="6019920" y="3276720"/>
            <a:ext cx="2361960" cy="838080"/>
          </a:xfrm>
          <a:prstGeom prst="line">
            <a:avLst/>
          </a:prstGeom>
          <a:ln w="5724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464400" y="4267080"/>
            <a:ext cx="3157200" cy="155700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Внутренни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тоимость собственного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есурса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4479840" y="4191120"/>
            <a:ext cx="4340160" cy="155700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Внешние (бухгалтерские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ыплаты поставщикам трудовых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есурсов, сырья, топлива, услуг и т.д.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Внутренние (неявные) издержки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вны денежным выплатам, которые могли бы быть получены за самостоятельно используемый ресурс, если бы его собственник вложил его в чужое дело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Внешние (бухгалтерские) издержки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 сумма денежных выплат, которые фирма осуществляет для оплаты необходимых ресурсов.</a:t>
            </a:r>
            <a:br>
              <a:rPr sz="2400"/>
            </a:b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Line 6"/>
          <p:cNvSpPr/>
          <p:nvPr/>
        </p:nvSpPr>
        <p:spPr>
          <a:xfrm flipH="1">
            <a:off x="1828800" y="4114800"/>
            <a:ext cx="1371600" cy="53352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Line 7"/>
          <p:cNvSpPr/>
          <p:nvPr/>
        </p:nvSpPr>
        <p:spPr>
          <a:xfrm>
            <a:off x="5334120" y="4114800"/>
            <a:ext cx="1371600" cy="38088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228600" y="4724280"/>
            <a:ext cx="396252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Постоянные издержк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4952880" y="4724280"/>
            <a:ext cx="396252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Переменные издержк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Амортизация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меньшение стоимости капитальных ресурсов по мере их износа в процессе производственного использования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3818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Ателье производит закупку тканей, ниток и фурнитуры для пошива одежды. Затраты фирмы -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нутренние, перемен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нутренние, постоян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нешние, перемен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нешние, постоянны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Гражданин организовал на принадлежащем ему загородном участке гостиницу для собак и кошек: построил дом и открытые вольеры, закупил корма. Сам гражданин и его семья работают в гостинице. Что относится к внутренним затратам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купка корм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роительство волье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орудование до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пользование зем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0T11:15:21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