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82A1-F9F3-45AA-8BD6-80BED3096EBC}" type="slidenum">
              <a:rPr b="1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Фирмы в экономик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фир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и факторные до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и бухгалтерские из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е и переменные издержки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уплачиваемые предприят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1F76-282D-4886-B4D2-DE08FD694AF8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Верны ли суждения о прибыли фирмы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ономическая прибыль учитывает внутренние и внешние издержк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ухгалтерская прибыль получается путем вычитания суммы внешних издержек фирмы из выручки от прод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только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только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ы оба 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а суждения невер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1FB1-BF13-4651-9A7F-200FFE3F92CF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 значит эффективный бизнес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ффект (в экономике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ый положительный результат какой-либо деятельности (например, прирост прибыли, полученной фирмой по сравнению с прошлы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ффективность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 процесса, определяемая как отношение эффекта, результата к затр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ентабельность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прибыли, полученной предприятием за определенный период, к сделанным за тот же период затр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9208-F3B3-41D8-90F6-2F1E49EDEE6A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логи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 физических и юридических лиц государ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26DF-069F-4258-805F-BDF9A724AADA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4, задания 3, 4 на странице 54 - выполнить письменно, текст лекции - у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4BF6-0006-4DEA-9F4D-F6CB8CED8DCB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E875-759F-4C81-8CF2-D80E8B5A7EB0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условиях рыночной экономики производитель формирует предложение товаров и услу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ыручка (или валовый доход)  -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производителя от реализуемой им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ибыль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ица между доходами и издерж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Цель производителя в рыночной экономике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лучить максимальную прибыль при минимальных затра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D4B7-31EF-46E2-A63A-7D5C3519E2F4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ыберите правильный ответ.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ход производителя от реализуемой им продукции наз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уч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A462-F815-4E52-8F20-500C45FA7421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нутренние (неявные) издержки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 денежным выплатам, которые могли бы быть получены за самостоятельно используемый ресурс, если бы его собственник вложил его в чужое дело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нешние (бухгалтерские) издержки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умма денежных выплат, которые фирма осуществляет для оплаты необходимых ресурс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A9D0-1862-4831-88C6-6A58F689E698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мортизация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стоимости капитальных ресурсов по мере их износа в процессе производственного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1AD9-8B4B-458A-B657-ACB892AC163E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телье производит закупку тканей, ниток и фурнитуры для пошива одежды. Затраты фирмы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е,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е, постоя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,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, постоя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ражданин организовал на принадлежащем ему загородном участке гостиницу для собак и кошек: построил дом и открытые вольеры, закупил корма. Сам гражданин и его семья работают в гостинице. Что относится к внутренним затрат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ка кор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воль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BF51-E67B-4804-ABD1-B6C67628701D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B46-3E66-4482-B15F-12F9F2DB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13E-8844-4735-BA38-F8CCAD1E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B93-78C7-4067-87C2-D6281CD3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C2C-C698-4EEA-8E90-3E542844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0207-A481-428B-B47E-CEAA1521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4955-15FE-4441-A199-8F2FBB49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DE35-8C54-4AC7-83C7-E22226A6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C1A5-CB39-4ACE-92F4-6EADDCD4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76F2-B9DE-4F74-876B-47BBC59B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4090-40D3-455F-847A-FECF05EC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6945-6FE4-4692-8465-B261C79C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30B-8643-486D-A0BF-3B1BDE49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FE35-DEE2-4421-867F-C033AC03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4670-B7B9-4159-B0B0-91F1CAC5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A0F4-19A4-4849-A6A5-FD32FFD9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5058-49E8-4A50-8C11-31EFBB75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029F-CFE0-44CC-BE51-E774A5A4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F15-D004-4D2B-B9C0-EE0B6BE1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A92-15E1-4525-87B2-8434E5FB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CF4-EF1B-4DF9-864C-A26E1A5C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00A-745B-4A55-9084-8897B4E7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355-99B3-4D55-B8CF-C75A8050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D87-3A25-4D1E-A493-45B455E0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177-E3EE-45A3-8775-CC2A8A35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60E8-1075-4622-8277-31629D51914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05A0-EA08-44DB-A71E-09F2DA87DBD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Фирмы в экономик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фирм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акторы производства и факторные д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кономические и бухгалтерские издер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тоянные и переменные издержки произ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и, уплачиваемые предприят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MH900412568"/>
          <p:cNvPicPr/>
          <p:nvPr/>
        </p:nvPicPr>
        <p:blipFill>
          <a:blip r:embed="rId1"/>
          <a:stretch/>
        </p:blipFill>
        <p:spPr>
          <a:xfrm>
            <a:off x="6048360" y="358128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2915640" y="762120"/>
            <a:ext cx="2631240" cy="70344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рибыль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6"/>
          <p:cNvSpPr/>
          <p:nvPr/>
        </p:nvSpPr>
        <p:spPr>
          <a:xfrm flipH="1">
            <a:off x="1523520" y="1600200"/>
            <a:ext cx="1295640" cy="38088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5562720" y="1600200"/>
            <a:ext cx="1371600" cy="45720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28600" y="2209680"/>
            <a:ext cx="3352680" cy="265428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кономическая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разница между совокупно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учкой фирмы и экономическими издержка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419720" y="2209680"/>
            <a:ext cx="3444840" cy="265428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Бухгалтерская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разница между совокупно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учкой и бухгалтерски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держка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ерны ли суждения о прибыли фирмы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Экономическая прибыль учитывает внутренние и внешние издержки фир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ухгалтерская прибыль получается путем вычитания суммы внешних издержек фирмы из выручки от продаж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ы оба су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а суждения невер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Что значит эффективный бизнес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ффект (в экономике)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ретный положительный результат какой-либо деятельности (например, прирост прибыли, полученной фирмой по сравнению с прошлым годо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ффективность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ультативность процесса, определяемая как отношение эффекта, результата к затр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ентабельность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ошение прибыли, полученной предприятием за определенный период, к сделанным за тот же период затр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38080" y="4800600"/>
            <a:ext cx="77882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Рентабельность =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прибыль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затраты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4419720" y="5867280"/>
            <a:ext cx="16761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алоги -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то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язательные платежи физических и юридических лиц государству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2971800" y="1752480"/>
            <a:ext cx="335268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Три систем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алогообложения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Line 8"/>
          <p:cNvSpPr/>
          <p:nvPr/>
        </p:nvSpPr>
        <p:spPr>
          <a:xfrm flipH="1">
            <a:off x="1371600" y="2666880"/>
            <a:ext cx="2362320" cy="5335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4495680" y="2666880"/>
            <a:ext cx="0" cy="7621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5791320" y="2666880"/>
            <a:ext cx="2133360" cy="5335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304920" y="3429000"/>
            <a:ext cx="281916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ропорциональ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00800" y="3429000"/>
            <a:ext cx="25146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рогрессив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3429000" y="3505320"/>
            <a:ext cx="25146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Регрессив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3960" y="4724280"/>
            <a:ext cx="268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умма налога про-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рциональна до-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ходам работников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098880" y="473076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тем выше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ем ниже доход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6222960" y="473076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тем выше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ем выше доход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895480" y="457200"/>
            <a:ext cx="38862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Налог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Line 5"/>
          <p:cNvSpPr/>
          <p:nvPr/>
        </p:nvSpPr>
        <p:spPr>
          <a:xfrm flipH="1">
            <a:off x="1295280" y="1371600"/>
            <a:ext cx="2895840" cy="5335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5105520" y="1371600"/>
            <a:ext cx="2438280" cy="60948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304920" y="2057400"/>
            <a:ext cx="327636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ям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638680" y="2057400"/>
            <a:ext cx="32767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Косвенн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1276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63800" y="3206880"/>
            <a:ext cx="55926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язательные платежи, взимаемы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осударством с доходов или имущества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юридических и физических лиц: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доходный налог с населения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прибыль с фирм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имущество, недвижимость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арение, наследство, финансовы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ерации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5693400" y="3098880"/>
            <a:ext cx="3518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станавливаются в вид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дбавок к цене товара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услуг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цизные сборы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с продаж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ично НДС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аможенные пошлины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экспор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752480" y="685800"/>
            <a:ext cx="495324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алоги, уплачиваемы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едприятиям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1904760" y="1600200"/>
            <a:ext cx="160020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4952880" y="1600200"/>
            <a:ext cx="152424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685800" y="2286000"/>
            <a:ext cx="29718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ямой налог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с фирм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4419720" y="2286000"/>
            <a:ext cx="373356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Косвенный налог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с фирм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981080" y="32004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228600" y="3657600"/>
            <a:ext cx="36576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алог на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419720" y="3657600"/>
            <a:ext cx="403848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алог на добавленную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стоимость (НДС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4, задания 3, 4 на странице 54 - выполнить письменно, текст лекции - уч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Oval 5"/>
          <p:cNvSpPr/>
          <p:nvPr/>
        </p:nvSpPr>
        <p:spPr>
          <a:xfrm>
            <a:off x="1828800" y="228600"/>
            <a:ext cx="5943600" cy="33526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Фирма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-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то коммерческая  организация,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уществляющая затрат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кономических ресурсов для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готовления товаров и услуг,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ализуемых на рын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514600" y="3505320"/>
            <a:ext cx="4572000" cy="3352680"/>
          </a:xfrm>
          <a:prstGeom prst="upArrowCallout">
            <a:avLst>
              <a:gd name="adj1" fmla="val 34095"/>
              <a:gd name="adj2" fmla="val 34092"/>
              <a:gd name="adj3" fmla="val 16667"/>
              <a:gd name="adj4" fmla="val 66660"/>
            </a:avLst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Цель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олучение дохода с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омощью рациональног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использования  основных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ресурсов производ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2057400" y="152280"/>
            <a:ext cx="5181480" cy="137160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Факторы производства 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факторные доход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5"/>
          <p:cNvSpPr/>
          <p:nvPr/>
        </p:nvSpPr>
        <p:spPr>
          <a:xfrm rot="2744400">
            <a:off x="1224000" y="1323720"/>
            <a:ext cx="485640" cy="1371600"/>
          </a:xfrm>
          <a:prstGeom prst="downArrow">
            <a:avLst>
              <a:gd name="adj1" fmla="val 50000"/>
              <a:gd name="adj2" fmla="val 70608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2971800" y="1600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952880" y="15238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8"/>
          <p:cNvSpPr/>
          <p:nvPr/>
        </p:nvSpPr>
        <p:spPr>
          <a:xfrm rot="18910800">
            <a:off x="7313760" y="1387080"/>
            <a:ext cx="485640" cy="1089000"/>
          </a:xfrm>
          <a:prstGeom prst="downArrow">
            <a:avLst>
              <a:gd name="adj1" fmla="val 50000"/>
              <a:gd name="adj2" fmla="val 5606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0" y="2590920"/>
            <a:ext cx="190512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Труд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1981080" y="2590920"/>
            <a:ext cx="2057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Земл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267080" y="2590920"/>
            <a:ext cx="221004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Капитал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6781680" y="2438280"/>
            <a:ext cx="2362320" cy="121932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Предприним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тельск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способн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33"/>
          <p:cNvSpPr/>
          <p:nvPr/>
        </p:nvSpPr>
        <p:spPr>
          <a:xfrm flipH="1">
            <a:off x="3657600" y="3581280"/>
            <a:ext cx="45720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34"/>
          <p:cNvSpPr/>
          <p:nvPr/>
        </p:nvSpPr>
        <p:spPr>
          <a:xfrm>
            <a:off x="4572000" y="350532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35"/>
          <p:cNvSpPr/>
          <p:nvPr/>
        </p:nvSpPr>
        <p:spPr>
          <a:xfrm>
            <a:off x="5715000" y="350532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38"/>
          <p:cNvSpPr/>
          <p:nvPr/>
        </p:nvSpPr>
        <p:spPr>
          <a:xfrm>
            <a:off x="6172200" y="3505320"/>
            <a:ext cx="45720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39"/>
          <p:cNvSpPr/>
          <p:nvPr/>
        </p:nvSpPr>
        <p:spPr>
          <a:xfrm>
            <a:off x="2133720" y="3962520"/>
            <a:ext cx="152388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Физически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40"/>
          <p:cNvSpPr/>
          <p:nvPr/>
        </p:nvSpPr>
        <p:spPr>
          <a:xfrm>
            <a:off x="3809880" y="3962520"/>
            <a:ext cx="129564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Финансовы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41"/>
          <p:cNvSpPr/>
          <p:nvPr/>
        </p:nvSpPr>
        <p:spPr>
          <a:xfrm>
            <a:off x="5181480" y="3962520"/>
            <a:ext cx="129564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Инвестиции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42"/>
          <p:cNvSpPr/>
          <p:nvPr/>
        </p:nvSpPr>
        <p:spPr>
          <a:xfrm>
            <a:off x="6705720" y="3962520"/>
            <a:ext cx="121896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Ссудны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7"/>
          <p:cNvSpPr/>
          <p:nvPr/>
        </p:nvSpPr>
        <p:spPr>
          <a:xfrm>
            <a:off x="2193840" y="513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49"/>
          <p:cNvSpPr/>
          <p:nvPr/>
        </p:nvSpPr>
        <p:spPr>
          <a:xfrm>
            <a:off x="990720" y="3505320"/>
            <a:ext cx="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50"/>
          <p:cNvSpPr/>
          <p:nvPr/>
        </p:nvSpPr>
        <p:spPr>
          <a:xfrm>
            <a:off x="1981080" y="3505320"/>
            <a:ext cx="15264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51"/>
          <p:cNvSpPr/>
          <p:nvPr/>
        </p:nvSpPr>
        <p:spPr>
          <a:xfrm>
            <a:off x="8305920" y="365760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52"/>
          <p:cNvSpPr/>
          <p:nvPr/>
        </p:nvSpPr>
        <p:spPr>
          <a:xfrm>
            <a:off x="5791320" y="457200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53"/>
          <p:cNvSpPr/>
          <p:nvPr/>
        </p:nvSpPr>
        <p:spPr>
          <a:xfrm>
            <a:off x="0" y="518148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работная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лат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Oval 54"/>
          <p:cNvSpPr/>
          <p:nvPr/>
        </p:nvSpPr>
        <p:spPr>
          <a:xfrm>
            <a:off x="2133720" y="510552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н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Oval 55"/>
          <p:cNvSpPr/>
          <p:nvPr/>
        </p:nvSpPr>
        <p:spPr>
          <a:xfrm>
            <a:off x="4648320" y="533412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цен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Oval 56"/>
          <p:cNvSpPr/>
          <p:nvPr/>
        </p:nvSpPr>
        <p:spPr>
          <a:xfrm>
            <a:off x="6934320" y="525780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быль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В условиях рыночной экономики производитель формирует предложение товаров и услуг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ыручка (или валовый доход)  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ход производителя от реализуемой им проду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Прибыль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ица между доходами и издерж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Цель производителя в рыночной экономике 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олучить максимальную прибыль при минимальных затрат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ыберите правильный ответ.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Доход производителя от реализуемой им продукции называетс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был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уч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держ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ребл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3402000" y="152280"/>
            <a:ext cx="2125440" cy="52056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Издержк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 flipH="1">
            <a:off x="2590920" y="762120"/>
            <a:ext cx="76176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562720" y="762120"/>
            <a:ext cx="68580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0" y="1600200"/>
            <a:ext cx="4125960" cy="1648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здержки производ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затраты производителя н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обретение и использование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акторов производства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381560" y="1371600"/>
            <a:ext cx="4472280" cy="183132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кономически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те выплаты, которая фирм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олжна произвести поставщикам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обходимых ресурсов, чтобы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твлечь эти ресурсы от использо-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ания в других производствах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10"/>
          <p:cNvSpPr/>
          <p:nvPr/>
        </p:nvSpPr>
        <p:spPr>
          <a:xfrm flipH="1">
            <a:off x="2057400" y="3276720"/>
            <a:ext cx="3581280" cy="76176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6019920" y="3276720"/>
            <a:ext cx="2361960" cy="83808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64400" y="4267080"/>
            <a:ext cx="3157200" cy="155700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утрен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тоимость собственного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сурс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4479840" y="4191120"/>
            <a:ext cx="4340160" cy="155700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ешние (бухгалтерские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платы поставщикам трудовых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сурсов, сырья, топлива, услуг и т.д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утренние (неявные) издержки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ы денежным выплатам, которые могли бы быть получены за самостоятельно используемый ресурс, если бы его собственник вложил его в чужое дело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ешние (бухгалтерские) издержки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умма денежных выплат, которые фирма осуществляет для оплаты необходимых ресурсов.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Line 6"/>
          <p:cNvSpPr/>
          <p:nvPr/>
        </p:nvSpPr>
        <p:spPr>
          <a:xfrm flipH="1">
            <a:off x="1828800" y="4114800"/>
            <a:ext cx="1371600" cy="5335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334120" y="4114800"/>
            <a:ext cx="1371600" cy="38088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28600" y="4724280"/>
            <a:ext cx="39625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остоянны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952880" y="4724280"/>
            <a:ext cx="39625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еременны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Амортизация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еньшение стоимости капитальных ресурсов по мере их износа в процессе производственного использова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телье производит закупку тканей, ниток и фурнитуры для пошива одежды. Затраты фирмы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енние, перем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енние, постоя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шние, перем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шние, постоя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Гражданин организовал на принадлежащем ему загородном участке гостиницу для собак и кошек: построил дом и открытые вольеры, закупил корма. Сам гражданин и его семья работают в гостинице. Что относится к внутренним затрата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упка корм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оительство воль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рудование д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11:15:2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