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FB10-35CC-40FD-BD08-961571FDE0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нов Юрий Дмитри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физ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ОШ п. Опытный Цивильского района Чувашской Республ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C7CC-E080-4CB0-84EF-41CE39E62F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проводника сопротивлением 20 Ом, если сила тока в проводнике 0,4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стального проводника длиной 140 см и площадью поперечного сечения 0,2 мм2, в котором сила тока 250 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0,15 Омхмм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читайте силу тока, проходящего по медному проводу длиной 100 м и площадью поперечного сечения 0,5 мм2 при напряжении 6,8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0,017 Омхмм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FE31-4CF5-48D6-9A0A-12B9551136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BA57-B9EA-42A4-8E4B-A85C2C6167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88C8-A5CA-45AD-92BB-9156509F81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ФОРМУЛИРУЙТЕ ЗАКОН 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ИЗМЕНИТСЯ СИЛА ТОКА НА УЧАСТКЕ ЦЕПИ, ЕСЛИ ПРИ НЕИЗМЕННОМ СОПРОТИВЛЕНИИ УВЕЛИЧИВАТЬ НАПРЯЖЕНИЕ НА ЕГО КОНЦ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ИЗМЕНИТСЯ СИЛА ТОКА, ЕСЛИ ПРИ НЕИЗМЕННОМ НАПРЯЖЕНИИУВЕЛИЧИТЬ СОПРОТИВЛЕНИЕ УЧАСТКА УЕП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С ПОМОЩЬЮ АМПЕРМЕТРА И ВОЛЬТМЕТРА МОЖНО ИЗМЕРИТЬ СОПРОТИВЛЕНИЕ ПРОВОДН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НАЗЫВАЮТ КОРОТКИМ ЗАМЫКАНИЕМ? ПОЧЕМУ ПРИ ЭТОМ УВЕЛИЧИВАЕТСЯ СИЛА ТО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68C4-34E2-4130-8DE3-D0F3E77707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ТМЕТР - …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 ДЛЯ ОПРЕДЕЛЕНИЯ СИЛЫ ТОКА?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СТОР - …</a:t>
            </a:r>
            <a:br>
              <a:rPr sz="1200"/>
            </a:b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ЛЕКТРИЧЕСКОЕ СОПРОТИВЛЕНИЕ - …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 ДЛЯ ОПРЕДЕЛЕНИЯ СОПРОТИ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ECBA-2DDD-4ACA-9D5B-786E11A816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Calibri"/>
              </a:rPr>
              <a:t>Закон 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Как связаны между собой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</a:rPr>
              <a:t>U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3514-A2BC-4AB0-A57A-6343EB8153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Ом (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Ohm) </a:t>
            </a: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Георг Симон (16.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III.1787–7.VII.185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мецкий физ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я серию точных экспериментов, установил (1826) основной закон электрической цепи (закон Ома) и дал (1827) его теоретическое обосн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881 именем Ома названа единица электросопротивления (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лен Лондонского королевского общества (184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80AB-6143-4A2B-90F3-1E073595AE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~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58ed5"/>
                </a:solidFill>
                <a:latin typeface="Calibri"/>
              </a:rPr>
              <a:t>ЗАКОН ОМА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ла тока на участке цепи равна отношению напряжения на этом участке к его сопротив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3F17-F0D6-47C4-B92D-C0223EF120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ДЕМОН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5781-B792-42A6-805D-2B927642DD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5796-4BC9-4DE7-B3E2-0E7E37F644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826A-456F-481E-BE15-72DFA32B65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ТОКА В СПИРАЛИ ЭЛЕКТРИЧЕСКОЙ ЛАМПЫ 700 мА, СОПРОТИВЛЕНИЕ ЛАМПЫ 310 Ом. ПОД КАКИМ НАПРЯЖЕНИЕМ РАБОТАЕТ ЛАМП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им сопротивлением обладает резистор, если при напряжении 10 В сила тока в нем равна 10 м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0BC0-D074-4D5F-9F9D-0D8028D858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5FB-C455-49E1-BD78-836C8180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82E-CB12-4619-8650-6F6C949A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FCB-B121-40D9-8F34-6119C0D5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D4F-997B-42FA-9FC5-A38BD1EF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E6FD-1C2D-405F-A133-F0194091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B731-A822-44EF-A84B-208E2B22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E13-D5E0-435B-948B-C785F7E5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6EC-3CC4-44C4-A4FF-4FBD0151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2F22-4188-4C32-8906-5E0D2F91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3CD4-F3BD-46D5-A9EE-ABED4405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F1C-04C3-48B6-8F10-5AA7A3E5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BF6C-7121-4A04-9921-F45D983F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CE67-E7BC-4084-AAD5-7C59898C3DB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9E2D-A3A8-4048-B8D7-C597DF7FEA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714240" y="114300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нов Юрий Дмитри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п. Опытный Цивильского района Чувашской Республ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проводника сопротивлением 20 Ом, если сила тока в проводнике 0,4 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6"/>
          <p:cNvSpPr/>
          <p:nvPr/>
        </p:nvSpPr>
        <p:spPr>
          <a:xfrm>
            <a:off x="428760" y="1928880"/>
            <a:ext cx="82296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стального проводника длиной 140 см и площадью поперечного сечения 0,2 мм2, в котором сила тока 250 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=0,1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хмм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Заголовок 6"/>
          <p:cNvSpPr/>
          <p:nvPr/>
        </p:nvSpPr>
        <p:spPr>
          <a:xfrm>
            <a:off x="357120" y="4357800"/>
            <a:ext cx="8229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считайте силу тока, проходящего по медному проводу длиной 100 м и площадью поперечного сечения 0,5 мм2 при напряжении 6,8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=0,017 Омхмм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ОЦЕН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Заголовок 8"/>
          <p:cNvSpPr/>
          <p:nvPr/>
        </p:nvSpPr>
        <p:spPr>
          <a:xfrm>
            <a:off x="609480" y="2786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§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50, 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Управляющая кнопка: настраиваемая 10">
            <a:hlinkClick r:id="rId1" action="ppaction://hlinksldjump"/>
          </p:cNvPr>
          <p:cNvSpPr/>
          <p:nvPr/>
        </p:nvSpPr>
        <p:spPr>
          <a:xfrm>
            <a:off x="7358040" y="6286680"/>
            <a:ext cx="1428840" cy="285480"/>
          </a:xfrm>
          <a:custGeom>
            <a:avLst/>
            <a:gdLst>
              <a:gd name="textAreaLeft" fmla="*/ 18360 w 1428840"/>
              <a:gd name="textAreaRight" fmla="*/ 1410480 w 1428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 ДЛЯ ЗАКРЕП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85840" y="1500120"/>
            <a:ext cx="8572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ФОРМУЛИРУЙТЕ ЗАКОН 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ИЗМЕНИТСЯ СИЛА ТОКА НА УЧАСТКЕ ЦЕПИ, ЕСЛИ ПРИ НЕИЗМЕННОМ СОПРОТИВЛЕНИИ УВЕЛИЧИВАТЬ НАПРЯЖЕНИЕ НА ЕГО КОНЦ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ИЗМЕНИТСЯ СИЛА ТОКА, ЕСЛИ ПРИ НЕИЗМЕННОМ НАПРЯЖЕНИИУВЕЛИЧИТЬ СОПРОТИВЛЕНИЕ УЧАСТКА УЕП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С ПОМОЩЬЮ АМПЕРМЕТРА И ВОЛЬТМЕТРА МОЖНО ИЗМЕРИТЬ СОПРОТИВЛЕНИЕ ПРОВОД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ЧТО НАЗЫВАЮТ КОРОТКИМ ЗАМЫКАНИЕМ? ПОЧЕМУ ПРИ ЭТОМ УВЕЛИЧИВАЕТСЯ СИЛА ТО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785520"/>
            <a:ext cx="435780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ЛЬТМЕТР - …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СИЛЫ ТОКА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ИСТОР - …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ЛЕКТРИЧЕСКОЕ СОПРОТИВЛЕНИЕ - …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СОПРОТИВЛЕ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714920" y="928800"/>
            <a:ext cx="4071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МПЕРМЕТР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НАПРЯ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ОСТАТ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ДЕЛЬНОЕ СОПРОТИВЛЕНИЕ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ДИНИЦ А ИЗМЕРЕНИЯ УДЕЛЬНОГО СОПРОТИВЛЕН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5"/>
          <p:cNvSpPr/>
          <p:nvPr/>
        </p:nvSpPr>
        <p:spPr>
          <a:xfrm flipH="1">
            <a:off x="4714920" y="285840"/>
            <a:ext cx="1440" cy="614520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b0f0"/>
                </a:solidFill>
                <a:latin typeface="Calibri"/>
              </a:rPr>
              <a:t>Закон Ом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5000760"/>
            <a:ext cx="6400800" cy="63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Как связаны между собой </a:t>
            </a: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I </a:t>
            </a: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U</a:t>
            </a: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461484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Ом (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Ohm) </a:t>
            </a: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Георг Симон (16.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III.1787–7.VII.185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Program Files\Physicon\Open Physics 2.5 part 2\content\scientist\images\ohm.jpg"/>
          <p:cNvPicPr/>
          <p:nvPr/>
        </p:nvPicPr>
        <p:blipFill>
          <a:blip r:embed="rId1"/>
          <a:stretch/>
        </p:blipFill>
        <p:spPr>
          <a:xfrm>
            <a:off x="5929200" y="428760"/>
            <a:ext cx="2928960" cy="3905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4200" y="1857240"/>
            <a:ext cx="55720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мецкий физ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едя серию точных экспериментов, установил (1826) основной закон электрической цепи (закон Ома) и дал (1827) его теоретическое обоснов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881 именем Ома названа единица электросопротивления (О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лен Лондонского королевского общества (1842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7680" y="356760"/>
            <a:ext cx="39290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~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3214800" y="1643040"/>
            <a:ext cx="3286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=U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428760" y="3571920"/>
            <a:ext cx="828648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66760" indent="-2066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ЗАКОН ОМА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ла тока на участке цепи равна отношению напряжения на этом участке к его сопротивл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ДЕМОНСТРАЦ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24"/>
          <p:cNvSpPr/>
          <p:nvPr/>
        </p:nvSpPr>
        <p:spPr>
          <a:xfrm flipV="1">
            <a:off x="2286000" y="3428640"/>
            <a:ext cx="500040" cy="428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5"/>
          <p:cNvSpPr/>
          <p:nvPr/>
        </p:nvSpPr>
        <p:spPr>
          <a:xfrm flipV="1">
            <a:off x="2786040" y="2999880"/>
            <a:ext cx="500040" cy="428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6"/>
          <p:cNvSpPr/>
          <p:nvPr/>
        </p:nvSpPr>
        <p:spPr>
          <a:xfrm flipV="1">
            <a:off x="3286080" y="2571840"/>
            <a:ext cx="500040" cy="4284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30"/>
          <p:cNvGrpSpPr/>
          <p:nvPr/>
        </p:nvGrpSpPr>
        <p:grpSpPr>
          <a:xfrm>
            <a:off x="1143000" y="1143000"/>
            <a:ext cx="7286760" cy="4832640"/>
            <a:chOff x="1143000" y="1143000"/>
            <a:chExt cx="7286760" cy="4832640"/>
          </a:xfrm>
        </p:grpSpPr>
        <p:grpSp>
          <p:nvGrpSpPr>
            <p:cNvPr id="72" name="Группа 28"/>
            <p:cNvGrpSpPr/>
            <p:nvPr/>
          </p:nvGrpSpPr>
          <p:grpSpPr>
            <a:xfrm>
              <a:off x="1143000" y="1143000"/>
              <a:ext cx="7286760" cy="4832640"/>
              <a:chOff x="1143000" y="1143000"/>
              <a:chExt cx="7286760" cy="4832640"/>
            </a:xfrm>
          </p:grpSpPr>
          <p:grpSp>
            <p:nvGrpSpPr>
              <p:cNvPr id="73" name="Группа 22"/>
              <p:cNvGrpSpPr/>
              <p:nvPr/>
            </p:nvGrpSpPr>
            <p:grpSpPr>
              <a:xfrm>
                <a:off x="1143000" y="1143000"/>
                <a:ext cx="7286760" cy="4832640"/>
                <a:chOff x="1143000" y="1143000"/>
                <a:chExt cx="7286760" cy="4832640"/>
              </a:xfrm>
            </p:grpSpPr>
            <p:grpSp>
              <p:nvGrpSpPr>
                <p:cNvPr id="74" name="Группа 16"/>
                <p:cNvGrpSpPr/>
                <p:nvPr/>
              </p:nvGrpSpPr>
              <p:grpSpPr>
                <a:xfrm>
                  <a:off x="1143000" y="1143000"/>
                  <a:ext cx="7286760" cy="4832640"/>
                  <a:chOff x="1143000" y="1143000"/>
                  <a:chExt cx="7286760" cy="4832640"/>
                </a:xfrm>
              </p:grpSpPr>
              <p:grpSp>
                <p:nvGrpSpPr>
                  <p:cNvPr id="75" name="Группа 8"/>
                  <p:cNvGrpSpPr/>
                  <p:nvPr/>
                </p:nvGrpSpPr>
                <p:grpSpPr>
                  <a:xfrm>
                    <a:off x="1143000" y="1143000"/>
                    <a:ext cx="7286760" cy="4832640"/>
                    <a:chOff x="1143000" y="1143000"/>
                    <a:chExt cx="7286760" cy="4832640"/>
                  </a:xfrm>
                </p:grpSpPr>
                <p:cxnSp>
                  <p:nvCxnSpPr>
                    <p:cNvPr id="76" name="Прямая со стрелкой 3"/>
                    <p:cNvCxnSpPr/>
                    <p:nvPr/>
                  </p:nvCxnSpPr>
                  <p:spPr>
                    <a:xfrm>
                      <a:off x="1831680" y="5504040"/>
                      <a:ext cx="5909760" cy="2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77" name="Прямая со стрелкой 5"/>
                    <p:cNvCxnSpPr/>
                    <p:nvPr/>
                  </p:nvCxnSpPr>
                  <p:spPr>
                    <a:xfrm flipV="1">
                      <a:off x="1830240" y="1352160"/>
                      <a:ext cx="3600" cy="41522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78" name="TextBox 6"/>
                    <p:cNvSpPr/>
                    <p:nvPr/>
                  </p:nvSpPr>
                  <p:spPr>
                    <a:xfrm>
                      <a:off x="7543800" y="5607360"/>
                      <a:ext cx="8859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TextBox 7"/>
                    <p:cNvSpPr/>
                    <p:nvPr/>
                  </p:nvSpPr>
                  <p:spPr>
                    <a:xfrm>
                      <a:off x="1143000" y="1143000"/>
                      <a:ext cx="7876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" name="Прямая соединительная линия 10"/>
                  <p:cNvSpPr/>
                  <p:nvPr/>
                </p:nvSpPr>
                <p:spPr>
                  <a:xfrm>
                    <a:off x="2520720" y="5399280"/>
                    <a:ext cx="288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Прямая соединительная линия 12"/>
                  <p:cNvSpPr/>
                  <p:nvPr/>
                </p:nvSpPr>
                <p:spPr>
                  <a:xfrm>
                    <a:off x="321156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Прямая соединительная линия 13"/>
                  <p:cNvSpPr/>
                  <p:nvPr/>
                </p:nvSpPr>
                <p:spPr>
                  <a:xfrm>
                    <a:off x="390060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Прямая соединительная линия 14"/>
                  <p:cNvSpPr/>
                  <p:nvPr/>
                </p:nvSpPr>
                <p:spPr>
                  <a:xfrm>
                    <a:off x="468792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Прямая соединительная линия 15"/>
                  <p:cNvSpPr/>
                  <p:nvPr/>
                </p:nvSpPr>
                <p:spPr>
                  <a:xfrm>
                    <a:off x="5475240" y="5399280"/>
                    <a:ext cx="288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" name="Прямая соединительная линия 18"/>
                <p:cNvSpPr/>
                <p:nvPr/>
              </p:nvSpPr>
              <p:spPr>
                <a:xfrm>
                  <a:off x="1733400" y="47768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Прямая соединительная линия 19"/>
                <p:cNvSpPr/>
                <p:nvPr/>
              </p:nvSpPr>
              <p:spPr>
                <a:xfrm>
                  <a:off x="1733400" y="332280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Прямая соединительная линия 20"/>
                <p:cNvSpPr/>
                <p:nvPr/>
              </p:nvSpPr>
              <p:spPr>
                <a:xfrm>
                  <a:off x="1733400" y="25970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Прямая соединительная линия 21"/>
                <p:cNvSpPr/>
                <p:nvPr/>
              </p:nvSpPr>
              <p:spPr>
                <a:xfrm>
                  <a:off x="1733400" y="40496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TextBox 27"/>
              <p:cNvSpPr/>
              <p:nvPr/>
            </p:nvSpPr>
            <p:spPr>
              <a:xfrm>
                <a:off x="6165000" y="1765800"/>
                <a:ext cx="216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Calibri"/>
                  </a:rPr>
                  <a:t>при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Calibri"/>
                  </a:rPr>
                  <a:t>R=con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Box 29"/>
            <p:cNvSpPr/>
            <p:nvPr/>
          </p:nvSpPr>
          <p:spPr>
            <a:xfrm>
              <a:off x="6657480" y="2388600"/>
              <a:ext cx="177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=U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Группа 21"/>
          <p:cNvGrpSpPr/>
          <p:nvPr/>
        </p:nvGrpSpPr>
        <p:grpSpPr>
          <a:xfrm>
            <a:off x="714240" y="1571760"/>
            <a:ext cx="7572600" cy="4513320"/>
            <a:chOff x="714240" y="1571760"/>
            <a:chExt cx="7572600" cy="4513320"/>
          </a:xfrm>
        </p:grpSpPr>
        <p:grpSp>
          <p:nvGrpSpPr>
            <p:cNvPr id="94" name="Группа 2"/>
            <p:cNvGrpSpPr/>
            <p:nvPr/>
          </p:nvGrpSpPr>
          <p:grpSpPr>
            <a:xfrm>
              <a:off x="714240" y="1571760"/>
              <a:ext cx="7572600" cy="4513320"/>
              <a:chOff x="714240" y="1571760"/>
              <a:chExt cx="7572600" cy="4513320"/>
            </a:xfrm>
          </p:grpSpPr>
          <p:grpSp>
            <p:nvGrpSpPr>
              <p:cNvPr id="95" name="Группа 22"/>
              <p:cNvGrpSpPr/>
              <p:nvPr/>
            </p:nvGrpSpPr>
            <p:grpSpPr>
              <a:xfrm>
                <a:off x="714240" y="1571760"/>
                <a:ext cx="7572600" cy="4513320"/>
                <a:chOff x="714240" y="1571760"/>
                <a:chExt cx="7572600" cy="4513320"/>
              </a:xfrm>
            </p:grpSpPr>
            <p:grpSp>
              <p:nvGrpSpPr>
                <p:cNvPr id="96" name="Группа 16"/>
                <p:cNvGrpSpPr/>
                <p:nvPr/>
              </p:nvGrpSpPr>
              <p:grpSpPr>
                <a:xfrm>
                  <a:off x="714240" y="1571760"/>
                  <a:ext cx="7572600" cy="4513320"/>
                  <a:chOff x="714240" y="1571760"/>
                  <a:chExt cx="7572600" cy="4513320"/>
                </a:xfrm>
              </p:grpSpPr>
              <p:grpSp>
                <p:nvGrpSpPr>
                  <p:cNvPr id="97" name="Группа 8"/>
                  <p:cNvGrpSpPr/>
                  <p:nvPr/>
                </p:nvGrpSpPr>
                <p:grpSpPr>
                  <a:xfrm>
                    <a:off x="714240" y="1571760"/>
                    <a:ext cx="7572600" cy="4513320"/>
                    <a:chOff x="714240" y="1571760"/>
                    <a:chExt cx="7572600" cy="4513320"/>
                  </a:xfrm>
                </p:grpSpPr>
                <p:cxnSp>
                  <p:nvCxnSpPr>
                    <p:cNvPr id="98" name="Прямая со стрелкой 16"/>
                    <p:cNvCxnSpPr/>
                    <p:nvPr/>
                  </p:nvCxnSpPr>
                  <p:spPr>
                    <a:xfrm>
                      <a:off x="1402920" y="5619960"/>
                      <a:ext cx="5901840" cy="36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99" name="Прямая со стрелкой 17"/>
                    <p:cNvCxnSpPr/>
                    <p:nvPr/>
                  </p:nvCxnSpPr>
                  <p:spPr>
                    <a:xfrm flipV="1">
                      <a:off x="1401480" y="1764720"/>
                      <a:ext cx="2160" cy="3856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00" name="TextBox 18"/>
                    <p:cNvSpPr/>
                    <p:nvPr/>
                  </p:nvSpPr>
                  <p:spPr>
                    <a:xfrm>
                      <a:off x="7106760" y="5716800"/>
                      <a:ext cx="1180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TextBox 19"/>
                    <p:cNvSpPr/>
                    <p:nvPr/>
                  </p:nvSpPr>
                  <p:spPr>
                    <a:xfrm>
                      <a:off x="714240" y="1571760"/>
                      <a:ext cx="7866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" name="Прямая соединительная линия 11"/>
                  <p:cNvSpPr/>
                  <p:nvPr/>
                </p:nvSpPr>
                <p:spPr>
                  <a:xfrm>
                    <a:off x="2090520" y="5524560"/>
                    <a:ext cx="288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Прямая соединительная линия 12"/>
                  <p:cNvSpPr/>
                  <p:nvPr/>
                </p:nvSpPr>
                <p:spPr>
                  <a:xfrm>
                    <a:off x="277956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Прямая соединительная линия 13"/>
                  <p:cNvSpPr/>
                  <p:nvPr/>
                </p:nvSpPr>
                <p:spPr>
                  <a:xfrm>
                    <a:off x="346860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Прямая соединительная линия 14"/>
                  <p:cNvSpPr/>
                  <p:nvPr/>
                </p:nvSpPr>
                <p:spPr>
                  <a:xfrm>
                    <a:off x="4254480" y="5524560"/>
                    <a:ext cx="288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Прямая соединительная линия 15"/>
                  <p:cNvSpPr/>
                  <p:nvPr/>
                </p:nvSpPr>
                <p:spPr>
                  <a:xfrm>
                    <a:off x="504180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Прямая соединительная линия 6"/>
                <p:cNvSpPr/>
                <p:nvPr/>
              </p:nvSpPr>
              <p:spPr>
                <a:xfrm>
                  <a:off x="1304640" y="494532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Прямая соединительная линия 7"/>
                <p:cNvSpPr/>
                <p:nvPr/>
              </p:nvSpPr>
              <p:spPr>
                <a:xfrm>
                  <a:off x="1304640" y="359568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Прямая соединительная линия 8"/>
                <p:cNvSpPr/>
                <p:nvPr/>
              </p:nvSpPr>
              <p:spPr>
                <a:xfrm>
                  <a:off x="1304640" y="29210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Прямая соединительная линия 9"/>
                <p:cNvSpPr/>
                <p:nvPr/>
              </p:nvSpPr>
              <p:spPr>
                <a:xfrm>
                  <a:off x="1304640" y="427032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TextBox 4"/>
              <p:cNvSpPr/>
              <p:nvPr/>
            </p:nvSpPr>
            <p:spPr>
              <a:xfrm>
                <a:off x="5729760" y="2149920"/>
                <a:ext cx="216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Calibri"/>
                  </a:rPr>
                  <a:t>при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Calibri"/>
                  </a:rPr>
                  <a:t>U=con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Box 20"/>
            <p:cNvSpPr/>
            <p:nvPr/>
          </p:nvSpPr>
          <p:spPr>
            <a:xfrm>
              <a:off x="6123240" y="2631960"/>
              <a:ext cx="17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=U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Овальная выноска 25"/>
          <p:cNvSpPr/>
          <p:nvPr/>
        </p:nvSpPr>
        <p:spPr>
          <a:xfrm>
            <a:off x="1500120" y="785880"/>
            <a:ext cx="1500120" cy="1143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РОТКОЕ ЗАМЫК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 28"/>
          <p:cNvSpPr/>
          <p:nvPr/>
        </p:nvSpPr>
        <p:spPr>
          <a:xfrm>
            <a:off x="1927080" y="2340000"/>
            <a:ext cx="3189600" cy="2819520"/>
          </a:xfrm>
          <a:custGeom>
            <a:avLst/>
            <a:gdLst/>
            <a:ahLst/>
            <a:rect l="l" t="t" r="r" b="b"/>
            <a:pathLst>
              <a:path w="3189515" h="2819400">
                <a:moveTo>
                  <a:pt x="0" y="0"/>
                </a:moveTo>
                <a:cubicBezTo>
                  <a:pt x="120650" y="886278"/>
                  <a:pt x="241300" y="1772557"/>
                  <a:pt x="772886" y="2242457"/>
                </a:cubicBezTo>
                <a:cubicBezTo>
                  <a:pt x="1304472" y="2712357"/>
                  <a:pt x="2246993" y="2765878"/>
                  <a:pt x="3189515" y="28194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1151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ЛА ТОКА В СПИРАЛИ ЭЛЕКТРИЧЕСКОЙ ЛАМПЫ 700 мА, СОПРОТИВЛЕНИЕ ЛАМПЫ 310 Ом. ПОД КАКИМ НАПРЯЖЕНИЕМ РАБОТАЕТ ЛАМП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6760" y="3429000"/>
            <a:ext cx="81154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м сопротивлением обладает резистор, если при напряжении 10 В сила тока в нем равна 10 м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835812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2:35:52Z</dcterms:created>
  <dc:creator>Юрий </dc:creator>
  <dc:description/>
  <dc:language>en-US</dc:language>
  <cp:lastModifiedBy>LEGION</cp:lastModifiedBy>
  <dcterms:modified xsi:type="dcterms:W3CDTF">2015-03-30T08:45:07Z</dcterms:modified>
  <cp:revision>38</cp:revision>
  <dc:subject/>
  <dc:title>Закон Ома</dc:title>
</cp:coreProperties>
</file>