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88B3-54B8-4129-BFA8-7D23D57B6F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нов Юрий Дмитри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физ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п. Опытный Цивильского района Чувашской Респуб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F8D-9FA7-4BD7-9F15-6FD7E07F8E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15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B2EC-C3BC-42F6-8DBF-6090174C52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D7D-DCA4-4066-BD73-F2CE8D37E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913F-3187-4523-A53B-C19CF6ABC6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6B82-0D81-4206-99BA-1E380191B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1200"/>
            </a:b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6F52-529D-412A-82EB-2C93794F2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A2A-6D1F-424D-887F-491826B63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0" lang="ru-RU" sz="16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E2C6-4805-4507-BDD4-6C22C82C9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6C0B-833E-4631-9E75-9F9B4FB99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C924-895E-48FA-8932-63407525E0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5873-2187-41AD-8994-3740E953D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30A-B55A-4F2F-B96F-267E9D45B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707-17E7-401F-AF00-C465BABE7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D94-C40C-4EBC-97A3-90163DFD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410-18C1-4A68-BE78-4A09E291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55E-F44B-4F8C-9FAA-6D3844E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526-DE81-40E9-8E85-914A83ED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744-96EE-45D0-8536-7BA13234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839-1344-4B7F-8343-A80D746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C16-D32F-4437-BDB0-7E45D50B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D92-1039-4A7C-A78D-BA4A4D28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F55-B4F2-40D0-933A-982F7600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427-BF87-4E98-9E7B-A209D8C5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BAC-D599-4FAD-B068-740A4BBF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E11-66E4-42A2-B9E3-0DEBD7F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8B14-BCEB-470E-B366-91877306C5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406-D8D8-4044-9F01-B1893509F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14240" y="11430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нов Юрий Дмитр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п. Опытный Цивильского района Чувашской Респуб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проводника сопротивлением 20 Ом, если сила тока в проводнике 0,4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6"/>
          <p:cNvSpPr/>
          <p:nvPr/>
        </p:nvSpPr>
        <p:spPr>
          <a:xfrm>
            <a:off x="428760" y="1928880"/>
            <a:ext cx="82296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напряжение на концах стального проводника длиной 140 см и площадью поперечного сечения 0,2 мм2, в котором сила тока 250 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1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хмм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6"/>
          <p:cNvSpPr/>
          <p:nvPr/>
        </p:nvSpPr>
        <p:spPr>
          <a:xfrm>
            <a:off x="357120" y="4357800"/>
            <a:ext cx="8229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считайте силу тока, проходящего по медному проводу длиной 100 м и площадью поперечного сечения 0,5 мм2 при напряжении 6,8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=0,017 Омхмм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ОЦЕН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Заголовок 8"/>
          <p:cNvSpPr/>
          <p:nvPr/>
        </p:nvSpPr>
        <p:spPr>
          <a:xfrm>
            <a:off x="609480" y="278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§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50, 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7358040" y="6286680"/>
            <a:ext cx="1428840" cy="285480"/>
          </a:xfrm>
          <a:custGeom>
            <a:avLst/>
            <a:gdLst>
              <a:gd name="textAreaLeft" fmla="*/ 18360 w 1428840"/>
              <a:gd name="textAreaRight" fmla="*/ 1410480 w 14288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85840" y="1500120"/>
            <a:ext cx="8572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ФОРМУЛИРУЙТЕ ЗАКОН 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 НА УЧАСТКЕ ЦЕПИ, ЕСЛИ ПРИ НЕИЗМЕННОМ СОПРОТИВЛЕНИИ УВЕЛИЧИВАТЬ НАПРЯЖЕНИЕ НА ЕГО КОНЦ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ИЗМЕНИТСЯ СИЛА ТОКА, ЕСЛИ ПРИ НЕИЗМЕННОМ НАПРЯЖЕНИИУВЕЛИЧИТЬ СОПРОТИВЛЕНИЕ УЧАСТКА УЕП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 С ПОМОЩЬЮ АМПЕРМЕТРА И ВОЛЬТМЕТРА МОЖНО ИЗМЕРИТЬ СОПРОТИВЛЕНИЕ ПРОВО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ТО НАЗЫВАЮТ КОРОТКИМ ЗАМЫКАНИЕМ? ПОЧЕМУ ПРИ ЭТОМ УВЕЛИЧИВАЕТСЯ СИЛА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ЬТМЕТР - …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ИЛЫ ТОКА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ИСТОР - …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ЛЕКТРИЧЕСКОЕ СОПРОТИВЛЕНИЕ - …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СОПРОТИ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714920" y="928800"/>
            <a:ext cx="407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риант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МПЕРМЕТР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А ДЛЯ ОПРЕДЕЛЕНИЯ НАПРЯ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ОСТАТ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ЕЛЬНОЕ СОПРОТИВЛЕНИЕ -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ИЦ А ИЗМЕРЕНИЯ УДЕЛЬНОГО СОПРОТИВЛ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 flipH="1">
            <a:off x="4714920" y="285840"/>
            <a:ext cx="1440" cy="6145200"/>
          </a:xfrm>
          <a:prstGeom prst="line">
            <a:avLst/>
          </a:prstGeom>
          <a:ln w="381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b0f0"/>
                </a:solidFill>
                <a:latin typeface="Calibri"/>
              </a:rPr>
              <a:t>Закон Ом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Как связаны между собой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I 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U</a:t>
            </a:r>
            <a:r>
              <a:rPr b="0" lang="ru-RU" sz="3200" spc="-1" strike="noStrike">
                <a:solidFill>
                  <a:srgbClr val="948a5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461484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Ом (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Ohm) </a:t>
            </a: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Георг Симон (16.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III.1787–7.VII.185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Program Files\Physicon\Open Physics 2.5 part 2\content\scientist\images\ohm.jpg"/>
          <p:cNvPicPr/>
          <p:nvPr/>
        </p:nvPicPr>
        <p:blipFill>
          <a:blip r:embed="rId1"/>
          <a:stretch/>
        </p:blipFill>
        <p:spPr>
          <a:xfrm>
            <a:off x="5929200" y="428760"/>
            <a:ext cx="2928960" cy="3905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55720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мецкий физ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я серию точных экспериментов, установил (1826) основной закон электрической цепи (закон Ома) и дал (1827) его теоретическое обосн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81 именем Ома названа единица электросопротивления (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лен Лондонского королевского общества (1842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7680" y="356760"/>
            <a:ext cx="3929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~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214800" y="1643040"/>
            <a:ext cx="3286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=U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428760" y="3571920"/>
            <a:ext cx="82864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66760" indent="-2066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ЗАКОН ОМА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тока на участке цепи равна отношению напряжения на этом участке к его сопротивл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ДЕМОНСТР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V="1">
            <a:off x="2286000" y="342864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V="1">
            <a:off x="2786040" y="2999880"/>
            <a:ext cx="500040" cy="428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V="1">
            <a:off x="3286080" y="2571840"/>
            <a:ext cx="500040" cy="428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30"/>
          <p:cNvGrpSpPr/>
          <p:nvPr/>
        </p:nvGrpSpPr>
        <p:grpSpPr>
          <a:xfrm>
            <a:off x="1143000" y="1143000"/>
            <a:ext cx="7286760" cy="4832640"/>
            <a:chOff x="1143000" y="1143000"/>
            <a:chExt cx="7286760" cy="4832640"/>
          </a:xfrm>
        </p:grpSpPr>
        <p:grpSp>
          <p:nvGrpSpPr>
            <p:cNvPr id="72" name="Группа 28"/>
            <p:cNvGrpSpPr/>
            <p:nvPr/>
          </p:nvGrpSpPr>
          <p:grpSpPr>
            <a:xfrm>
              <a:off x="1143000" y="1143000"/>
              <a:ext cx="7286760" cy="4832640"/>
              <a:chOff x="1143000" y="1143000"/>
              <a:chExt cx="7286760" cy="4832640"/>
            </a:xfrm>
          </p:grpSpPr>
          <p:grpSp>
            <p:nvGrpSpPr>
              <p:cNvPr id="73" name="Группа 22"/>
              <p:cNvGrpSpPr/>
              <p:nvPr/>
            </p:nvGrpSpPr>
            <p:grpSpPr>
              <a:xfrm>
                <a:off x="1143000" y="1143000"/>
                <a:ext cx="7286760" cy="4832640"/>
                <a:chOff x="1143000" y="1143000"/>
                <a:chExt cx="7286760" cy="4832640"/>
              </a:xfrm>
            </p:grpSpPr>
            <p:grpSp>
              <p:nvGrpSpPr>
                <p:cNvPr id="74" name="Группа 16"/>
                <p:cNvGrpSpPr/>
                <p:nvPr/>
              </p:nvGrpSpPr>
              <p:grpSpPr>
                <a:xfrm>
                  <a:off x="1143000" y="1143000"/>
                  <a:ext cx="7286760" cy="4832640"/>
                  <a:chOff x="1143000" y="1143000"/>
                  <a:chExt cx="7286760" cy="4832640"/>
                </a:xfrm>
              </p:grpSpPr>
              <p:grpSp>
                <p:nvGrpSpPr>
                  <p:cNvPr id="75" name="Группа 8"/>
                  <p:cNvGrpSpPr/>
                  <p:nvPr/>
                </p:nvGrpSpPr>
                <p:grpSpPr>
                  <a:xfrm>
                    <a:off x="1143000" y="1143000"/>
                    <a:ext cx="7286760" cy="4832640"/>
                    <a:chOff x="1143000" y="1143000"/>
                    <a:chExt cx="7286760" cy="4832640"/>
                  </a:xfrm>
                </p:grpSpPr>
                <p:cxnSp>
                  <p:nvCxnSpPr>
                    <p:cNvPr id="76" name="Прямая со стрелкой 3"/>
                    <p:cNvCxnSpPr/>
                    <p:nvPr/>
                  </p:nvCxnSpPr>
                  <p:spPr>
                    <a:xfrm>
                      <a:off x="1831680" y="5504040"/>
                      <a:ext cx="5909760" cy="2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77" name="Прямая со стрелкой 5"/>
                    <p:cNvCxnSpPr/>
                    <p:nvPr/>
                  </p:nvCxnSpPr>
                  <p:spPr>
                    <a:xfrm flipV="1">
                      <a:off x="1830240" y="1352160"/>
                      <a:ext cx="3600" cy="415224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8" name="TextBox 6"/>
                    <p:cNvSpPr/>
                    <p:nvPr/>
                  </p:nvSpPr>
                  <p:spPr>
                    <a:xfrm>
                      <a:off x="7543800" y="5607360"/>
                      <a:ext cx="8859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TextBox 7"/>
                    <p:cNvSpPr/>
                    <p:nvPr/>
                  </p:nvSpPr>
                  <p:spPr>
                    <a:xfrm>
                      <a:off x="1143000" y="1143000"/>
                      <a:ext cx="7876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" name="Прямая соединительная линия 10"/>
                  <p:cNvSpPr/>
                  <p:nvPr/>
                </p:nvSpPr>
                <p:spPr>
                  <a:xfrm>
                    <a:off x="252072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Прямая соединительная линия 12"/>
                  <p:cNvSpPr/>
                  <p:nvPr/>
                </p:nvSpPr>
                <p:spPr>
                  <a:xfrm>
                    <a:off x="321156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Прямая соединительная линия 13"/>
                  <p:cNvSpPr/>
                  <p:nvPr/>
                </p:nvSpPr>
                <p:spPr>
                  <a:xfrm>
                    <a:off x="390060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Прямая соединительная линия 14"/>
                  <p:cNvSpPr/>
                  <p:nvPr/>
                </p:nvSpPr>
                <p:spPr>
                  <a:xfrm>
                    <a:off x="4687920" y="539928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Прямая соединительная линия 15"/>
                  <p:cNvSpPr/>
                  <p:nvPr/>
                </p:nvSpPr>
                <p:spPr>
                  <a:xfrm>
                    <a:off x="5475240" y="5399280"/>
                    <a:ext cx="2880" cy="207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" name="Прямая соединительная линия 18"/>
                <p:cNvSpPr/>
                <p:nvPr/>
              </p:nvSpPr>
              <p:spPr>
                <a:xfrm>
                  <a:off x="1733400" y="47768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Прямая соединительная линия 19"/>
                <p:cNvSpPr/>
                <p:nvPr/>
              </p:nvSpPr>
              <p:spPr>
                <a:xfrm>
                  <a:off x="1733400" y="332280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Прямая соединительная линия 20"/>
                <p:cNvSpPr/>
                <p:nvPr/>
              </p:nvSpPr>
              <p:spPr>
                <a:xfrm>
                  <a:off x="1733400" y="2597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Прямая соединительная линия 21"/>
                <p:cNvSpPr/>
                <p:nvPr/>
              </p:nvSpPr>
              <p:spPr>
                <a:xfrm>
                  <a:off x="1733400" y="40496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27"/>
              <p:cNvSpPr/>
              <p:nvPr/>
            </p:nvSpPr>
            <p:spPr>
              <a:xfrm>
                <a:off x="6165000" y="1765800"/>
                <a:ext cx="216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R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9"/>
            <p:cNvSpPr/>
            <p:nvPr/>
          </p:nvSpPr>
          <p:spPr>
            <a:xfrm>
              <a:off x="6657480" y="2388600"/>
              <a:ext cx="177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21"/>
          <p:cNvGrpSpPr/>
          <p:nvPr/>
        </p:nvGrpSpPr>
        <p:grpSpPr>
          <a:xfrm>
            <a:off x="714240" y="1571760"/>
            <a:ext cx="7572600" cy="4513320"/>
            <a:chOff x="714240" y="1571760"/>
            <a:chExt cx="7572600" cy="4513320"/>
          </a:xfrm>
        </p:grpSpPr>
        <p:grpSp>
          <p:nvGrpSpPr>
            <p:cNvPr id="94" name="Группа 2"/>
            <p:cNvGrpSpPr/>
            <p:nvPr/>
          </p:nvGrpSpPr>
          <p:grpSpPr>
            <a:xfrm>
              <a:off x="714240" y="1571760"/>
              <a:ext cx="7572600" cy="4513320"/>
              <a:chOff x="714240" y="1571760"/>
              <a:chExt cx="7572600" cy="4513320"/>
            </a:xfrm>
          </p:grpSpPr>
          <p:grpSp>
            <p:nvGrpSpPr>
              <p:cNvPr id="95" name="Группа 22"/>
              <p:cNvGrpSpPr/>
              <p:nvPr/>
            </p:nvGrpSpPr>
            <p:grpSpPr>
              <a:xfrm>
                <a:off x="714240" y="1571760"/>
                <a:ext cx="7572600" cy="4513320"/>
                <a:chOff x="714240" y="1571760"/>
                <a:chExt cx="7572600" cy="4513320"/>
              </a:xfrm>
            </p:grpSpPr>
            <p:grpSp>
              <p:nvGrpSpPr>
                <p:cNvPr id="96" name="Группа 16"/>
                <p:cNvGrpSpPr/>
                <p:nvPr/>
              </p:nvGrpSpPr>
              <p:grpSpPr>
                <a:xfrm>
                  <a:off x="714240" y="1571760"/>
                  <a:ext cx="7572600" cy="4513320"/>
                  <a:chOff x="714240" y="1571760"/>
                  <a:chExt cx="7572600" cy="4513320"/>
                </a:xfrm>
              </p:grpSpPr>
              <p:grpSp>
                <p:nvGrpSpPr>
                  <p:cNvPr id="97" name="Группа 8"/>
                  <p:cNvGrpSpPr/>
                  <p:nvPr/>
                </p:nvGrpSpPr>
                <p:grpSpPr>
                  <a:xfrm>
                    <a:off x="714240" y="1571760"/>
                    <a:ext cx="7572600" cy="4513320"/>
                    <a:chOff x="714240" y="1571760"/>
                    <a:chExt cx="7572600" cy="4513320"/>
                  </a:xfrm>
                </p:grpSpPr>
                <p:cxnSp>
                  <p:nvCxnSpPr>
                    <p:cNvPr id="98" name="Прямая со стрелкой 16"/>
                    <p:cNvCxnSpPr/>
                    <p:nvPr/>
                  </p:nvCxnSpPr>
                  <p:spPr>
                    <a:xfrm>
                      <a:off x="1402920" y="5619960"/>
                      <a:ext cx="5901840" cy="360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99" name="Прямая со стрелкой 17"/>
                    <p:cNvCxnSpPr/>
                    <p:nvPr/>
                  </p:nvCxnSpPr>
                  <p:spPr>
                    <a:xfrm flipV="1">
                      <a:off x="1401480" y="1764720"/>
                      <a:ext cx="2160" cy="38566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00" name="TextBox 18"/>
                    <p:cNvSpPr/>
                    <p:nvPr/>
                  </p:nvSpPr>
                  <p:spPr>
                    <a:xfrm>
                      <a:off x="7106760" y="5716800"/>
                      <a:ext cx="1180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Box 19"/>
                    <p:cNvSpPr/>
                    <p:nvPr/>
                  </p:nvSpPr>
                  <p:spPr>
                    <a:xfrm>
                      <a:off x="714240" y="1571760"/>
                      <a:ext cx="7866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" name="Прямая соединительная линия 11"/>
                  <p:cNvSpPr/>
                  <p:nvPr/>
                </p:nvSpPr>
                <p:spPr>
                  <a:xfrm>
                    <a:off x="209052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2"/>
                  <p:cNvSpPr/>
                  <p:nvPr/>
                </p:nvSpPr>
                <p:spPr>
                  <a:xfrm>
                    <a:off x="277956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3"/>
                  <p:cNvSpPr/>
                  <p:nvPr/>
                </p:nvSpPr>
                <p:spPr>
                  <a:xfrm>
                    <a:off x="34686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4"/>
                  <p:cNvSpPr/>
                  <p:nvPr/>
                </p:nvSpPr>
                <p:spPr>
                  <a:xfrm>
                    <a:off x="4254480" y="5524560"/>
                    <a:ext cx="288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5"/>
                  <p:cNvSpPr/>
                  <p:nvPr/>
                </p:nvSpPr>
                <p:spPr>
                  <a:xfrm>
                    <a:off x="5041800" y="5524560"/>
                    <a:ext cx="1440" cy="19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Прямая соединительная линия 6"/>
                <p:cNvSpPr/>
                <p:nvPr/>
              </p:nvSpPr>
              <p:spPr>
                <a:xfrm>
                  <a:off x="1304640" y="4945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рямая соединительная линия 7"/>
                <p:cNvSpPr/>
                <p:nvPr/>
              </p:nvSpPr>
              <p:spPr>
                <a:xfrm>
                  <a:off x="1304640" y="359568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рямая соединительная линия 8"/>
                <p:cNvSpPr/>
                <p:nvPr/>
              </p:nvSpPr>
              <p:spPr>
                <a:xfrm>
                  <a:off x="1304640" y="2921040"/>
                  <a:ext cx="1965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рямая соединительная линия 9"/>
                <p:cNvSpPr/>
                <p:nvPr/>
              </p:nvSpPr>
              <p:spPr>
                <a:xfrm>
                  <a:off x="1304640" y="4270320"/>
                  <a:ext cx="1965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Box 4"/>
              <p:cNvSpPr/>
              <p:nvPr/>
            </p:nvSpPr>
            <p:spPr>
              <a:xfrm>
                <a:off x="5729760" y="2149920"/>
                <a:ext cx="216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Calibri"/>
                  </a:rPr>
                  <a:t>при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Calibri"/>
                  </a:rPr>
                  <a:t>U=con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0"/>
            <p:cNvSpPr/>
            <p:nvPr/>
          </p:nvSpPr>
          <p:spPr>
            <a:xfrm>
              <a:off x="6123240" y="2631960"/>
              <a:ext cx="17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=U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Овальная выноска 25"/>
          <p:cNvSpPr/>
          <p:nvPr/>
        </p:nvSpPr>
        <p:spPr>
          <a:xfrm>
            <a:off x="1500120" y="785880"/>
            <a:ext cx="1500120" cy="1143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РОТКОЕ ЗАМЫК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8"/>
          <p:cNvSpPr/>
          <p:nvPr/>
        </p:nvSpPr>
        <p:spPr>
          <a:xfrm>
            <a:off x="1927080" y="2340000"/>
            <a:ext cx="3189600" cy="2819520"/>
          </a:xfrm>
          <a:custGeom>
            <a:avLst/>
            <a:gdLst/>
            <a:ahLst/>
            <a:rect l="l" t="t" r="r" b="b"/>
            <a:pathLst>
              <a:path w="3189515" h="2819400">
                <a:moveTo>
                  <a:pt x="0" y="0"/>
                </a:moveTo>
                <a:cubicBezTo>
                  <a:pt x="120650" y="886278"/>
                  <a:pt x="241300" y="1772557"/>
                  <a:pt x="772886" y="2242457"/>
                </a:cubicBezTo>
                <a:cubicBezTo>
                  <a:pt x="1304472" y="2712357"/>
                  <a:pt x="2246993" y="2765878"/>
                  <a:pt x="3189515" y="28194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1151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ЛА ТОКА В СПИРАЛИ ЭЛЕКТРИЧЕСКОЙ ЛАМПЫ 700 мА, СОПРОТИВЛЕНИЕ ЛАМПЫ 310 Ом. ПОД КАКИМ НАПРЯЖЕНИЕМ РАБОТАЕТ ЛАМП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6760" y="3429000"/>
            <a:ext cx="81154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сопротивлением обладает резистор, если при напряжении 10 В сила тока в нем равна 10 м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настраиваемая 4">
            <a:hlinkClick r:id="rId1" action="ppaction://hlinksldjump"/>
          </p:cNvPr>
          <p:cNvSpPr/>
          <p:nvPr/>
        </p:nvSpPr>
        <p:spPr>
          <a:xfrm>
            <a:off x="8358120" y="621504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2:35:52Z</dcterms:created>
  <dc:creator>Юрий </dc:creator>
  <dc:description/>
  <dc:language>en-US</dc:language>
  <cp:lastModifiedBy>LEGION</cp:lastModifiedBy>
  <dcterms:modified xsi:type="dcterms:W3CDTF">2015-03-30T08:45:07Z</dcterms:modified>
  <cp:revision>38</cp:revision>
  <dc:subject/>
  <dc:title>Закон Ома</dc:title>
</cp:coreProperties>
</file>