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875DB-5B41-4E9B-8DB4-1C0DAEA9C1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нов Юрий Дмитрие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физ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У «СОШ п. Опытный Цивильского района Чувашской Республи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BF9C-640D-4184-A18E-BE4059DA148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пределите напряжение на концах проводника сопротивлением 20 Ом, если сила тока в проводнике 0,4 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пределите напряжение на концах стального проводника длиной 140 см и площадью поперечного сечения 0,2 мм2, в котором сила тока 250 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l-GR" sz="1200" spc="-1" strike="noStrike">
                <a:solidFill>
                  <a:srgbClr val="000000"/>
                </a:solidFill>
                <a:latin typeface="Calibri"/>
              </a:rPr>
              <a:t>ρ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=0,15 Омхмм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ссчитайте силу тока, проходящего по медному проводу длиной 100 м и площадью поперечного сечения 0,5 мм2 при напряжении 6,8 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l-GR" sz="1200" spc="-1" strike="noStrike">
                <a:solidFill>
                  <a:srgbClr val="000000"/>
                </a:solidFill>
                <a:latin typeface="Calibri"/>
              </a:rPr>
              <a:t>ρ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=0,017 Омхмм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8567-4108-4D82-A123-C8354FA919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58ed5"/>
                </a:solidFill>
                <a:latin typeface="Calibri"/>
              </a:rPr>
              <a:t>ОЦЕ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2DF99-CD5D-4F18-9C97-9A051E53E1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58ed5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CC89B-D3CD-4C08-AF0D-2C4163A0272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ДЛЯ ЗАКРЕП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ФОРМУЛИРУЙТЕ ЗАКОН О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АК ИЗМЕНИТСЯ СИЛА ТОКА НА УЧАСТКЕ ЦЕПИ, ЕСЛИ ПРИ НЕИЗМЕННОМ СОПРОТИВЛЕНИИ УВЕЛИЧИВАТЬ НАПРЯЖЕНИЕ НА ЕГО КОНЦ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АК ИЗМЕНИТСЯ СИЛА ТОКА, ЕСЛИ ПРИ НЕИЗМЕННОМ НАПРЯЖЕНИИУВЕЛИЧИТЬ СОПРОТИВЛЕНИЕ УЧАСТКА УЕП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АК С ПОМОЩЬЮ АМПЕРМЕТРА И ВОЛЬТМЕТРА МОЖНО ИЗМЕРИТЬ СОПРОТИВЛЕНИЕ ПРОВОДНИ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ЧТО НАЗЫВАЮТ КОРОТКИМ ЗАМЫКАНИЕМ? ПОЧЕМУ ПРИ ЭТОМ УВЕЛИЧИВАЕТСЯ СИЛА ТО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89F80-8BD5-4E0A-9AEC-41C33F2B4E1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ЛЬТМЕТР - …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УЛА ДЛЯ ОПРЕДЕЛЕНИЯ СИЛЫ ТОКА?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ИСТОР - …</a:t>
            </a:r>
            <a:br>
              <a:rPr sz="1200"/>
            </a:br>
            <a:br>
              <a:rPr sz="12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ЭЛЕКТРИЧЕСКОЕ СОПРОТИВЛЕНИЕ - …</a:t>
            </a:r>
            <a:br>
              <a:rPr sz="1100"/>
            </a:br>
            <a:br>
              <a:rPr sz="11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УЛА ДЛЯ ОПРЕДЕЛЕНИЯ СОПРОТИВЛ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1D477-F8B7-4936-A85B-0529E29E8F2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f0"/>
                </a:solidFill>
                <a:latin typeface="Calibri"/>
              </a:rPr>
              <a:t>Закон О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48a54"/>
                </a:solidFill>
                <a:latin typeface="Calibri"/>
              </a:rPr>
              <a:t>Как связаны между собой </a:t>
            </a:r>
            <a:r>
              <a:rPr b="0" lang="en-US" sz="1200" spc="-1" strike="noStrike">
                <a:solidFill>
                  <a:srgbClr val="948a54"/>
                </a:solidFill>
                <a:latin typeface="Calibri"/>
              </a:rPr>
              <a:t>I </a:t>
            </a:r>
            <a:r>
              <a:rPr b="0" lang="ru-RU" sz="1200" spc="-1" strike="noStrike">
                <a:solidFill>
                  <a:srgbClr val="948a54"/>
                </a:solidFill>
                <a:latin typeface="Calibri"/>
              </a:rPr>
              <a:t>и </a:t>
            </a:r>
            <a:r>
              <a:rPr b="0" lang="en-US" sz="1200" spc="-1" strike="noStrike">
                <a:solidFill>
                  <a:srgbClr val="948a54"/>
                </a:solidFill>
                <a:latin typeface="Calibri"/>
              </a:rPr>
              <a:t>U</a:t>
            </a:r>
            <a:r>
              <a:rPr b="0" lang="ru-RU" sz="1200" spc="-1" strike="noStrike">
                <a:solidFill>
                  <a:srgbClr val="948a54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70DA0-B2BE-4A38-9CAE-3E467380F0A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58ed5"/>
                </a:solidFill>
                <a:latin typeface="Calibri"/>
              </a:rPr>
              <a:t>Ом (</a:t>
            </a: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Ohm) </a:t>
            </a:r>
            <a:r>
              <a:rPr b="0" lang="ru-RU" sz="1600" spc="-1" strike="noStrike">
                <a:solidFill>
                  <a:srgbClr val="558ed5"/>
                </a:solidFill>
                <a:latin typeface="Calibri"/>
              </a:rPr>
              <a:t>Георг Симон (16.</a:t>
            </a: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III.1787–7.VII.1854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мецкий физ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ведя серию точных экспериментов, установил (1826) основной закон электрической цепи (закон Ома) и дал (1827) его теоретическое обосн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1881 именем Ома названа единица электросопротивления (О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лен Лондонского королевского общества (1842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9D485-E132-4ED3-8B64-DFAF372B46C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~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558ed5"/>
                </a:solidFill>
                <a:latin typeface="Calibri"/>
              </a:rPr>
              <a:t>ЗАКОН ОМА: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ла тока на участке цепи равна отношению напряжения на этом участке к его сопротивл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38331-2130-49C1-AE48-287920CF0E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58ed5"/>
                </a:solidFill>
                <a:latin typeface="Calibri"/>
              </a:rPr>
              <a:t>ДЕМОНСТР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1AFA8-7640-4048-9638-39CCBB16D5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58ed5"/>
                </a:solidFill>
                <a:latin typeface="Calibri"/>
              </a:rPr>
              <a:t>ВЫВ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66498-23C7-43B0-BE38-388CCBAC574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58ed5"/>
                </a:solidFill>
                <a:latin typeface="Calibri"/>
              </a:rPr>
              <a:t>ВЫВ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2AC55-C4D1-4A4E-9A67-064B4C6E897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А ТОКА В СПИРАЛИ ЭЛЕКТРИЧЕСКОЙ ЛАМПЫ 700 мА, СОПРОТИВЛЕНИЕ ЛАМПЫ 310 Ом. ПОД КАКИМ НАПРЯЖЕНИЕМ РАБОТАЕТ ЛАМП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аким сопротивлением обладает резистор, если при напряжении 10 В сила тока в нем равна 10 мА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B4DAC-F398-4A54-AA56-55B46F11A15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4AF6-657D-4EE4-BCC1-13A990686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872B-734A-4E10-BF51-3B26080D5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714E-18A0-44E0-A028-404202834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2BF8-10CB-4FBD-84D9-295697159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E6D2-7763-47B5-98EB-B25D2CD94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2258-1B4B-4E23-8123-18FC5A088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9F04-DB15-4BF5-81F0-478F9B370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AEFC-5B81-4706-A842-F9A5FECDC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6FF0-FC53-4984-9BA0-B3F604BB0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CA58-C0A0-4C36-A177-E2B61AC8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4F1B-2F17-4FD5-87CD-0BBD5304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3C78-095F-468F-A28B-81615656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65FFB-E3BD-45AE-9E2F-E0A07D7F59B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E6D9F-9CC6-43B6-939D-74CBEBE059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714240" y="114300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конов Юрий Дмитри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физ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СОШ п. Опытный Цивильского района Чувашской Республи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2152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пределите напряжение на концах проводника сопротивлением 20 Ом, если сила тока в проводнике 0,4 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Заголовок 6"/>
          <p:cNvSpPr/>
          <p:nvPr/>
        </p:nvSpPr>
        <p:spPr>
          <a:xfrm>
            <a:off x="428760" y="1928880"/>
            <a:ext cx="822960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пределите напряжение на концах стального проводника длиной 140 см и площадью поперечного сечения 0,2 мм2, в котором сила тока 250 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l-GR" sz="2800" spc="-1" strike="noStrike">
                <a:solidFill>
                  <a:srgbClr val="000000"/>
                </a:solidFill>
                <a:latin typeface="Calibri"/>
              </a:rPr>
              <a:t>ρ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=0,15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мхмм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Заголовок 6"/>
          <p:cNvSpPr/>
          <p:nvPr/>
        </p:nvSpPr>
        <p:spPr>
          <a:xfrm>
            <a:off x="357120" y="4357800"/>
            <a:ext cx="82296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ссчитайте силу тока, проходящего по медному проводу длиной 100 м и площадью поперечного сечения 0,5 мм2 при напряжении 6,8 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l-GR" sz="2800" spc="-1" strike="noStrike">
                <a:solidFill>
                  <a:srgbClr val="000000"/>
                </a:solidFill>
                <a:latin typeface="Calibri"/>
              </a:rPr>
              <a:t>ρ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=0,017 Омхмм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004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58ed5"/>
                </a:solidFill>
                <a:latin typeface="Calibri"/>
              </a:rPr>
              <a:t>ОЦЕНК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58ed5"/>
                </a:solidFill>
                <a:latin typeface="Calibri"/>
              </a:rPr>
              <a:t>ДОМАШНЕЕ ЗАДАНИ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Заголовок 8"/>
          <p:cNvSpPr/>
          <p:nvPr/>
        </p:nvSpPr>
        <p:spPr>
          <a:xfrm>
            <a:off x="609480" y="27860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§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№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50, 5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Управляющая кнопка: настраиваемая 10">
            <a:hlinkClick r:id="rId1" action="ppaction://hlinksldjump"/>
          </p:cNvPr>
          <p:cNvSpPr/>
          <p:nvPr/>
        </p:nvSpPr>
        <p:spPr>
          <a:xfrm>
            <a:off x="7358040" y="6286680"/>
            <a:ext cx="1428840" cy="285480"/>
          </a:xfrm>
          <a:custGeom>
            <a:avLst/>
            <a:gdLst>
              <a:gd name="textAreaLeft" fmla="*/ 18360 w 1428840"/>
              <a:gd name="textAreaRight" fmla="*/ 1410480 w 142884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108000" h="21600">
                <a:moveTo>
                  <a:pt x="0" y="0"/>
                </a:moveTo>
                <a:lnTo>
                  <a:pt x="108000" y="0"/>
                </a:lnTo>
                <a:lnTo>
                  <a:pt x="108000" y="21600"/>
                </a:lnTo>
                <a:lnTo>
                  <a:pt x="0" y="21600"/>
                </a:lnTo>
                <a:close/>
              </a:path>
              <a:path fill="lightenLess" w="108000" h="21600">
                <a:moveTo>
                  <a:pt x="0" y="0"/>
                </a:moveTo>
                <a:lnTo>
                  <a:pt x="108000" y="0"/>
                </a:lnTo>
                <a:lnTo>
                  <a:pt x="106600" y="1400"/>
                </a:lnTo>
                <a:lnTo>
                  <a:pt x="1400" y="1400"/>
                </a:lnTo>
                <a:close/>
              </a:path>
              <a:path fill="darken" w="108000" h="21600">
                <a:moveTo>
                  <a:pt x="108000" y="0"/>
                </a:moveTo>
                <a:lnTo>
                  <a:pt x="108000" y="21600"/>
                </a:lnTo>
                <a:lnTo>
                  <a:pt x="106600" y="20200"/>
                </a:lnTo>
                <a:lnTo>
                  <a:pt x="106600" y="1400"/>
                </a:lnTo>
                <a:close/>
              </a:path>
              <a:path fill="darkenLess" w="108000" h="21600">
                <a:moveTo>
                  <a:pt x="108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600" y="20200"/>
                </a:lnTo>
                <a:close/>
              </a:path>
              <a:path fill="lighten" w="108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ОПРО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Ы ДЛЯ ЗАКРЕП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2"/>
          <p:cNvSpPr/>
          <p:nvPr/>
        </p:nvSpPr>
        <p:spPr>
          <a:xfrm>
            <a:off x="285840" y="1500120"/>
            <a:ext cx="8572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СФОРМУЛИРУЙТЕ ЗАКОН О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КАК ИЗМЕНИТСЯ СИЛА ТОКА НА УЧАСТКЕ ЦЕПИ, ЕСЛИ ПРИ НЕИЗМЕННОМ СОПРОТИВЛЕНИИ УВЕЛИЧИВАТЬ НАПРЯЖЕНИЕ НА ЕГО КОНЦА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КАК ИЗМЕНИТСЯ СИЛА ТОКА, ЕСЛИ ПРИ НЕИЗМЕННОМ НАПРЯЖЕНИИУВЕЛИЧИТЬ СОПРОТИВЛЕНИЕ УЧАСТКА УЕП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КАК С ПОМОЩЬЮ АМПЕРМЕТРА И ВОЛЬТМЕТРА МОЖНО ИЗМЕРИТЬ СОПРОТИВЛЕНИЕ ПРОВОДНИ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ЧТО НАЗЫВАЮТ КОРОТКИМ ЗАМЫКАНИЕМ? ПОЧЕМУ ПРИ ЭТОМ УВЕЛИЧИВАЕТСЯ СИЛА ТО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56760" y="785520"/>
            <a:ext cx="4357800" cy="471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ариант –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ОЛЬТМЕТР - …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ОРМУЛА ДЛЯ ОПРЕДЕЛЕНИЯ СИЛЫ ТОКА?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ЗИСТОР - …</a:t>
            </a:r>
            <a:br>
              <a:rPr sz="2000"/>
            </a:br>
            <a:br>
              <a:rPr sz="20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ЭЛЕКТРИЧЕСКОЕ СОПРОТИВЛЕНИЕ - …</a:t>
            </a:r>
            <a:br>
              <a:rPr sz="18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ОРМУЛА ДЛЯ ОПРЕДЕЛЕНИЯ СОПРОТИВЛЕНИЯ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Заголовок 1"/>
          <p:cNvSpPr/>
          <p:nvPr/>
        </p:nvSpPr>
        <p:spPr>
          <a:xfrm>
            <a:off x="4714920" y="928800"/>
            <a:ext cx="40719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ариант –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МПЕРМЕТР -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ОРМУЛА ДЛЯ ОПРЕДЕЛЕНИЯ НАПРЯЖЕ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ОСТАТ -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ДЕЛЬНОЕ СОПРОТИВЛЕНИЕ -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ЕДИНИЦ А ИЗМЕРЕНИЯ УДЕЛЬНОГО СОПРОТИВЛЕНИЯ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5"/>
          <p:cNvSpPr/>
          <p:nvPr/>
        </p:nvSpPr>
        <p:spPr>
          <a:xfrm flipH="1">
            <a:off x="4714920" y="285840"/>
            <a:ext cx="1440" cy="6145200"/>
          </a:xfrm>
          <a:prstGeom prst="line">
            <a:avLst/>
          </a:prstGeom>
          <a:ln w="381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b0f0"/>
                </a:solidFill>
                <a:latin typeface="Calibri"/>
              </a:rPr>
              <a:t>Закон Ома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5000760"/>
            <a:ext cx="6400800" cy="63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48a54"/>
                </a:solidFill>
                <a:latin typeface="Calibri"/>
              </a:rPr>
              <a:t>Как связаны между собой </a:t>
            </a:r>
            <a:r>
              <a:rPr b="0" lang="en-US" sz="3200" spc="-1" strike="noStrike">
                <a:solidFill>
                  <a:srgbClr val="948a54"/>
                </a:solidFill>
                <a:latin typeface="Calibri"/>
              </a:rPr>
              <a:t>I </a:t>
            </a:r>
            <a:r>
              <a:rPr b="0" lang="ru-RU" sz="3200" spc="-1" strike="noStrike">
                <a:solidFill>
                  <a:srgbClr val="948a54"/>
                </a:solidFill>
                <a:latin typeface="Calibri"/>
              </a:rPr>
              <a:t>и </a:t>
            </a:r>
            <a:r>
              <a:rPr b="0" lang="en-US" sz="3200" spc="-1" strike="noStrike">
                <a:solidFill>
                  <a:srgbClr val="948a54"/>
                </a:solidFill>
                <a:latin typeface="Calibri"/>
              </a:rPr>
              <a:t>U</a:t>
            </a:r>
            <a:r>
              <a:rPr b="0" lang="ru-RU" sz="3200" spc="-1" strike="noStrike">
                <a:solidFill>
                  <a:srgbClr val="948a54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500040"/>
            <a:ext cx="461484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58ed5"/>
                </a:solidFill>
                <a:latin typeface="Calibri"/>
              </a:rPr>
              <a:t>Ом (</a:t>
            </a:r>
            <a:r>
              <a:rPr b="1" lang="en-US" sz="3200" spc="-1" strike="noStrike">
                <a:solidFill>
                  <a:srgbClr val="558ed5"/>
                </a:solidFill>
                <a:latin typeface="Calibri"/>
              </a:rPr>
              <a:t>Ohm) </a:t>
            </a:r>
            <a:r>
              <a:rPr b="1" lang="ru-RU" sz="3200" spc="-1" strike="noStrike">
                <a:solidFill>
                  <a:srgbClr val="558ed5"/>
                </a:solidFill>
                <a:latin typeface="Calibri"/>
              </a:rPr>
              <a:t>Георг Симон (16.</a:t>
            </a:r>
            <a:r>
              <a:rPr b="1" lang="en-US" sz="3200" spc="-1" strike="noStrike">
                <a:solidFill>
                  <a:srgbClr val="558ed5"/>
                </a:solidFill>
                <a:latin typeface="Calibri"/>
              </a:rPr>
              <a:t>III.1787–7.VII.185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Program Files\Physicon\Open Physics 2.5 part 2\content\scientist\images\ohm.jpg"/>
          <p:cNvPicPr/>
          <p:nvPr/>
        </p:nvPicPr>
        <p:blipFill>
          <a:blip r:embed="rId1"/>
          <a:stretch/>
        </p:blipFill>
        <p:spPr>
          <a:xfrm>
            <a:off x="5929200" y="428760"/>
            <a:ext cx="2928960" cy="39052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4200" y="1857240"/>
            <a:ext cx="55720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мецкий физи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ведя серию точных экспериментов, установил (1826) основной закон электрической цепи (закон Ома) и дал (1827) его теоретическое обоснова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1881 именем Ома названа единица электросопротивления (Ом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лен Лондонского королевского общества (1842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57680" y="356760"/>
            <a:ext cx="392904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I~U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Заголовок 1"/>
          <p:cNvSpPr/>
          <p:nvPr/>
        </p:nvSpPr>
        <p:spPr>
          <a:xfrm>
            <a:off x="3214800" y="1643040"/>
            <a:ext cx="328608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I=U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R</a:t>
            </a:r>
            <a:br>
              <a:rPr sz="2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Заголовок 1"/>
          <p:cNvSpPr/>
          <p:nvPr/>
        </p:nvSpPr>
        <p:spPr>
          <a:xfrm>
            <a:off x="428760" y="3571920"/>
            <a:ext cx="8286480" cy="23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66760" indent="-20667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58ed5"/>
                </a:solidFill>
                <a:latin typeface="Calibri"/>
              </a:rPr>
              <a:t>ЗАКОН ОМА: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ила тока на участке цепи равна отношению напряжения на этом участке к его сопротивле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876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58ed5"/>
                </a:solidFill>
                <a:latin typeface="Calibri"/>
              </a:rPr>
              <a:t>ДЕМОНСТРАЦИ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58ed5"/>
                </a:solidFill>
                <a:latin typeface="Calibri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ая соединительная линия 24"/>
          <p:cNvSpPr/>
          <p:nvPr/>
        </p:nvSpPr>
        <p:spPr>
          <a:xfrm flipV="1">
            <a:off x="2286000" y="3428640"/>
            <a:ext cx="500040" cy="4287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ая соединительная линия 25"/>
          <p:cNvSpPr/>
          <p:nvPr/>
        </p:nvSpPr>
        <p:spPr>
          <a:xfrm flipV="1">
            <a:off x="2786040" y="2999880"/>
            <a:ext cx="500040" cy="4287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26"/>
          <p:cNvSpPr/>
          <p:nvPr/>
        </p:nvSpPr>
        <p:spPr>
          <a:xfrm flipV="1">
            <a:off x="3286080" y="2571840"/>
            <a:ext cx="500040" cy="42840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Группа 30"/>
          <p:cNvGrpSpPr/>
          <p:nvPr/>
        </p:nvGrpSpPr>
        <p:grpSpPr>
          <a:xfrm>
            <a:off x="1143000" y="1143000"/>
            <a:ext cx="7286760" cy="4832640"/>
            <a:chOff x="1143000" y="1143000"/>
            <a:chExt cx="7286760" cy="4832640"/>
          </a:xfrm>
        </p:grpSpPr>
        <p:grpSp>
          <p:nvGrpSpPr>
            <p:cNvPr id="72" name="Группа 28"/>
            <p:cNvGrpSpPr/>
            <p:nvPr/>
          </p:nvGrpSpPr>
          <p:grpSpPr>
            <a:xfrm>
              <a:off x="1143000" y="1143000"/>
              <a:ext cx="7286760" cy="4832640"/>
              <a:chOff x="1143000" y="1143000"/>
              <a:chExt cx="7286760" cy="4832640"/>
            </a:xfrm>
          </p:grpSpPr>
          <p:grpSp>
            <p:nvGrpSpPr>
              <p:cNvPr id="73" name="Группа 22"/>
              <p:cNvGrpSpPr/>
              <p:nvPr/>
            </p:nvGrpSpPr>
            <p:grpSpPr>
              <a:xfrm>
                <a:off x="1143000" y="1143000"/>
                <a:ext cx="7286760" cy="4832640"/>
                <a:chOff x="1143000" y="1143000"/>
                <a:chExt cx="7286760" cy="4832640"/>
              </a:xfrm>
            </p:grpSpPr>
            <p:grpSp>
              <p:nvGrpSpPr>
                <p:cNvPr id="74" name="Группа 16"/>
                <p:cNvGrpSpPr/>
                <p:nvPr/>
              </p:nvGrpSpPr>
              <p:grpSpPr>
                <a:xfrm>
                  <a:off x="1143000" y="1143000"/>
                  <a:ext cx="7286760" cy="4832640"/>
                  <a:chOff x="1143000" y="1143000"/>
                  <a:chExt cx="7286760" cy="4832640"/>
                </a:xfrm>
              </p:grpSpPr>
              <p:grpSp>
                <p:nvGrpSpPr>
                  <p:cNvPr id="75" name="Группа 8"/>
                  <p:cNvGrpSpPr/>
                  <p:nvPr/>
                </p:nvGrpSpPr>
                <p:grpSpPr>
                  <a:xfrm>
                    <a:off x="1143000" y="1143000"/>
                    <a:ext cx="7286760" cy="4832640"/>
                    <a:chOff x="1143000" y="1143000"/>
                    <a:chExt cx="7286760" cy="4832640"/>
                  </a:xfrm>
                </p:grpSpPr>
                <p:cxnSp>
                  <p:nvCxnSpPr>
                    <p:cNvPr id="76" name="Прямая со стрелкой 3"/>
                    <p:cNvCxnSpPr/>
                    <p:nvPr/>
                  </p:nvCxnSpPr>
                  <p:spPr>
                    <a:xfrm>
                      <a:off x="1831680" y="5504040"/>
                      <a:ext cx="5909760" cy="21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arrow" w="med"/>
                    </a:ln>
                  </p:spPr>
                </p:cxnSp>
                <p:cxnSp>
                  <p:nvCxnSpPr>
                    <p:cNvPr id="77" name="Прямая со стрелкой 5"/>
                    <p:cNvCxnSpPr/>
                    <p:nvPr/>
                  </p:nvCxnSpPr>
                  <p:spPr>
                    <a:xfrm flipV="1">
                      <a:off x="1830240" y="1352160"/>
                      <a:ext cx="3600" cy="415224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arrow" w="med"/>
                    </a:ln>
                  </p:spPr>
                </p:cxnSp>
                <p:sp>
                  <p:nvSpPr>
                    <p:cNvPr id="78" name="TextBox 6"/>
                    <p:cNvSpPr/>
                    <p:nvPr/>
                  </p:nvSpPr>
                  <p:spPr>
                    <a:xfrm>
                      <a:off x="7543800" y="5607360"/>
                      <a:ext cx="88596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" name="TextBox 7"/>
                    <p:cNvSpPr/>
                    <p:nvPr/>
                  </p:nvSpPr>
                  <p:spPr>
                    <a:xfrm>
                      <a:off x="1143000" y="1143000"/>
                      <a:ext cx="78768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" name="Прямая соединительная линия 10"/>
                  <p:cNvSpPr/>
                  <p:nvPr/>
                </p:nvSpPr>
                <p:spPr>
                  <a:xfrm>
                    <a:off x="2520720" y="5399280"/>
                    <a:ext cx="2880" cy="207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Прямая соединительная линия 12"/>
                  <p:cNvSpPr/>
                  <p:nvPr/>
                </p:nvSpPr>
                <p:spPr>
                  <a:xfrm>
                    <a:off x="3211560" y="5399280"/>
                    <a:ext cx="1440" cy="207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Прямая соединительная линия 13"/>
                  <p:cNvSpPr/>
                  <p:nvPr/>
                </p:nvSpPr>
                <p:spPr>
                  <a:xfrm>
                    <a:off x="3900600" y="5399280"/>
                    <a:ext cx="1440" cy="207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Прямая соединительная линия 14"/>
                  <p:cNvSpPr/>
                  <p:nvPr/>
                </p:nvSpPr>
                <p:spPr>
                  <a:xfrm>
                    <a:off x="4687920" y="5399280"/>
                    <a:ext cx="1440" cy="207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Прямая соединительная линия 15"/>
                  <p:cNvSpPr/>
                  <p:nvPr/>
                </p:nvSpPr>
                <p:spPr>
                  <a:xfrm>
                    <a:off x="5475240" y="5399280"/>
                    <a:ext cx="2880" cy="207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" name="Прямая соединительная линия 18"/>
                <p:cNvSpPr/>
                <p:nvPr/>
              </p:nvSpPr>
              <p:spPr>
                <a:xfrm>
                  <a:off x="1733400" y="4776840"/>
                  <a:ext cx="19656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Прямая соединительная линия 19"/>
                <p:cNvSpPr/>
                <p:nvPr/>
              </p:nvSpPr>
              <p:spPr>
                <a:xfrm>
                  <a:off x="1733400" y="3322800"/>
                  <a:ext cx="19656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Прямая соединительная линия 20"/>
                <p:cNvSpPr/>
                <p:nvPr/>
              </p:nvSpPr>
              <p:spPr>
                <a:xfrm>
                  <a:off x="1733400" y="2597040"/>
                  <a:ext cx="19656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Прямая соединительная линия 21"/>
                <p:cNvSpPr/>
                <p:nvPr/>
              </p:nvSpPr>
              <p:spPr>
                <a:xfrm>
                  <a:off x="1733400" y="4049640"/>
                  <a:ext cx="19656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" name="TextBox 27"/>
              <p:cNvSpPr/>
              <p:nvPr/>
            </p:nvSpPr>
            <p:spPr>
              <a:xfrm>
                <a:off x="6165000" y="1765800"/>
                <a:ext cx="2166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800" spc="-1" strike="noStrike">
                    <a:solidFill>
                      <a:srgbClr val="000000"/>
                    </a:solidFill>
                    <a:latin typeface="Calibri"/>
                  </a:rPr>
                  <a:t>при 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Calibri"/>
                  </a:rPr>
                  <a:t>R=cons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" name="TextBox 29"/>
            <p:cNvSpPr/>
            <p:nvPr/>
          </p:nvSpPr>
          <p:spPr>
            <a:xfrm>
              <a:off x="6657480" y="2388600"/>
              <a:ext cx="177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I=U</a:t>
              </a: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/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58ed5"/>
                </a:solidFill>
                <a:latin typeface="Calibri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" name="Группа 21"/>
          <p:cNvGrpSpPr/>
          <p:nvPr/>
        </p:nvGrpSpPr>
        <p:grpSpPr>
          <a:xfrm>
            <a:off x="714240" y="1571760"/>
            <a:ext cx="7572600" cy="4513320"/>
            <a:chOff x="714240" y="1571760"/>
            <a:chExt cx="7572600" cy="4513320"/>
          </a:xfrm>
        </p:grpSpPr>
        <p:grpSp>
          <p:nvGrpSpPr>
            <p:cNvPr id="94" name="Группа 2"/>
            <p:cNvGrpSpPr/>
            <p:nvPr/>
          </p:nvGrpSpPr>
          <p:grpSpPr>
            <a:xfrm>
              <a:off x="714240" y="1571760"/>
              <a:ext cx="7572600" cy="4513320"/>
              <a:chOff x="714240" y="1571760"/>
              <a:chExt cx="7572600" cy="4513320"/>
            </a:xfrm>
          </p:grpSpPr>
          <p:grpSp>
            <p:nvGrpSpPr>
              <p:cNvPr id="95" name="Группа 22"/>
              <p:cNvGrpSpPr/>
              <p:nvPr/>
            </p:nvGrpSpPr>
            <p:grpSpPr>
              <a:xfrm>
                <a:off x="714240" y="1571760"/>
                <a:ext cx="7572600" cy="4513320"/>
                <a:chOff x="714240" y="1571760"/>
                <a:chExt cx="7572600" cy="4513320"/>
              </a:xfrm>
            </p:grpSpPr>
            <p:grpSp>
              <p:nvGrpSpPr>
                <p:cNvPr id="96" name="Группа 16"/>
                <p:cNvGrpSpPr/>
                <p:nvPr/>
              </p:nvGrpSpPr>
              <p:grpSpPr>
                <a:xfrm>
                  <a:off x="714240" y="1571760"/>
                  <a:ext cx="7572600" cy="4513320"/>
                  <a:chOff x="714240" y="1571760"/>
                  <a:chExt cx="7572600" cy="4513320"/>
                </a:xfrm>
              </p:grpSpPr>
              <p:grpSp>
                <p:nvGrpSpPr>
                  <p:cNvPr id="97" name="Группа 8"/>
                  <p:cNvGrpSpPr/>
                  <p:nvPr/>
                </p:nvGrpSpPr>
                <p:grpSpPr>
                  <a:xfrm>
                    <a:off x="714240" y="1571760"/>
                    <a:ext cx="7572600" cy="4513320"/>
                    <a:chOff x="714240" y="1571760"/>
                    <a:chExt cx="7572600" cy="4513320"/>
                  </a:xfrm>
                </p:grpSpPr>
                <p:cxnSp>
                  <p:nvCxnSpPr>
                    <p:cNvPr id="98" name="Прямая со стрелкой 16"/>
                    <p:cNvCxnSpPr/>
                    <p:nvPr/>
                  </p:nvCxnSpPr>
                  <p:spPr>
                    <a:xfrm>
                      <a:off x="1402920" y="5619960"/>
                      <a:ext cx="5901840" cy="36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arrow" w="med"/>
                    </a:ln>
                  </p:spPr>
                </p:cxnSp>
                <p:cxnSp>
                  <p:nvCxnSpPr>
                    <p:cNvPr id="99" name="Прямая со стрелкой 17"/>
                    <p:cNvCxnSpPr/>
                    <p:nvPr/>
                  </p:nvCxnSpPr>
                  <p:spPr>
                    <a:xfrm flipV="1">
                      <a:off x="1401480" y="1764720"/>
                      <a:ext cx="2160" cy="385668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arrow" w="med"/>
                    </a:ln>
                  </p:spPr>
                </p:cxnSp>
                <p:sp>
                  <p:nvSpPr>
                    <p:cNvPr id="100" name="TextBox 18"/>
                    <p:cNvSpPr/>
                    <p:nvPr/>
                  </p:nvSpPr>
                  <p:spPr>
                    <a:xfrm>
                      <a:off x="7106760" y="5716800"/>
                      <a:ext cx="118008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" name="TextBox 19"/>
                    <p:cNvSpPr/>
                    <p:nvPr/>
                  </p:nvSpPr>
                  <p:spPr>
                    <a:xfrm>
                      <a:off x="714240" y="1571760"/>
                      <a:ext cx="78660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2" name="Прямая соединительная линия 11"/>
                  <p:cNvSpPr/>
                  <p:nvPr/>
                </p:nvSpPr>
                <p:spPr>
                  <a:xfrm>
                    <a:off x="2090520" y="5524560"/>
                    <a:ext cx="2880" cy="191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Прямая соединительная линия 12"/>
                  <p:cNvSpPr/>
                  <p:nvPr/>
                </p:nvSpPr>
                <p:spPr>
                  <a:xfrm>
                    <a:off x="2779560" y="5524560"/>
                    <a:ext cx="1440" cy="191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Прямая соединительная линия 13"/>
                  <p:cNvSpPr/>
                  <p:nvPr/>
                </p:nvSpPr>
                <p:spPr>
                  <a:xfrm>
                    <a:off x="3468600" y="5524560"/>
                    <a:ext cx="1440" cy="191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Прямая соединительная линия 14"/>
                  <p:cNvSpPr/>
                  <p:nvPr/>
                </p:nvSpPr>
                <p:spPr>
                  <a:xfrm>
                    <a:off x="4254480" y="5524560"/>
                    <a:ext cx="2880" cy="191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Прямая соединительная линия 15"/>
                  <p:cNvSpPr/>
                  <p:nvPr/>
                </p:nvSpPr>
                <p:spPr>
                  <a:xfrm>
                    <a:off x="5041800" y="5524560"/>
                    <a:ext cx="1440" cy="191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" name="Прямая соединительная линия 6"/>
                <p:cNvSpPr/>
                <p:nvPr/>
              </p:nvSpPr>
              <p:spPr>
                <a:xfrm>
                  <a:off x="1304640" y="4945320"/>
                  <a:ext cx="19656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Прямая соединительная линия 7"/>
                <p:cNvSpPr/>
                <p:nvPr/>
              </p:nvSpPr>
              <p:spPr>
                <a:xfrm>
                  <a:off x="1304640" y="3595680"/>
                  <a:ext cx="19656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Прямая соединительная линия 8"/>
                <p:cNvSpPr/>
                <p:nvPr/>
              </p:nvSpPr>
              <p:spPr>
                <a:xfrm>
                  <a:off x="1304640" y="2921040"/>
                  <a:ext cx="19656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Прямая соединительная линия 9"/>
                <p:cNvSpPr/>
                <p:nvPr/>
              </p:nvSpPr>
              <p:spPr>
                <a:xfrm>
                  <a:off x="1304640" y="4270320"/>
                  <a:ext cx="19656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" name="TextBox 4"/>
              <p:cNvSpPr/>
              <p:nvPr/>
            </p:nvSpPr>
            <p:spPr>
              <a:xfrm>
                <a:off x="5729760" y="2149920"/>
                <a:ext cx="2163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800" spc="-1" strike="noStrike">
                    <a:solidFill>
                      <a:srgbClr val="000000"/>
                    </a:solidFill>
                    <a:latin typeface="Calibri"/>
                  </a:rPr>
                  <a:t>при 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Calibri"/>
                  </a:rPr>
                  <a:t>U=cons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" name="TextBox 20"/>
            <p:cNvSpPr/>
            <p:nvPr/>
          </p:nvSpPr>
          <p:spPr>
            <a:xfrm>
              <a:off x="6123240" y="2631960"/>
              <a:ext cx="177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I=U</a:t>
              </a: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/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Овальная выноска 25"/>
          <p:cNvSpPr/>
          <p:nvPr/>
        </p:nvSpPr>
        <p:spPr>
          <a:xfrm>
            <a:off x="1500120" y="785880"/>
            <a:ext cx="1500120" cy="1143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ОРОТКОЕ ЗАМЫК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олилиния 28"/>
          <p:cNvSpPr/>
          <p:nvPr/>
        </p:nvSpPr>
        <p:spPr>
          <a:xfrm>
            <a:off x="1927080" y="2340000"/>
            <a:ext cx="3189600" cy="2819520"/>
          </a:xfrm>
          <a:custGeom>
            <a:avLst/>
            <a:gdLst/>
            <a:ahLst/>
            <a:rect l="l" t="t" r="r" b="b"/>
            <a:pathLst>
              <a:path w="3189515" h="2819400">
                <a:moveTo>
                  <a:pt x="0" y="0"/>
                </a:moveTo>
                <a:cubicBezTo>
                  <a:pt x="120650" y="886278"/>
                  <a:pt x="241300" y="1772557"/>
                  <a:pt x="772886" y="2242457"/>
                </a:cubicBezTo>
                <a:cubicBezTo>
                  <a:pt x="1304472" y="2712357"/>
                  <a:pt x="2246993" y="2765878"/>
                  <a:pt x="3189515" y="2819400"/>
                </a:cubicBezTo>
              </a:path>
            </a:pathLst>
          </a:custGeom>
          <a:noFill/>
          <a:ln w="25560">
            <a:solidFill>
              <a:srgbClr val="4f81bd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8760" y="856800"/>
            <a:ext cx="8115120" cy="207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ЛА ТОКА В СПИРАЛИ ЭЛЕКТРИЧЕСКОЙ ЛАМПЫ 700 мА, СОПРОТИВЛЕНИЕ ЛАМПЫ 310 Ом. ПОД КАКИМ НАПРЯЖЕНИЕМ РАБОТАЕТ ЛАМП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56760" y="3429000"/>
            <a:ext cx="811548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им сопротивлением обладает резистор, если при напряжении 10 В сила тока в нем равна 10 м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Управляющая кнопка: настраиваемая 4">
            <a:hlinkClick r:id="rId1" action="ppaction://hlinksldjump"/>
          </p:cNvPr>
          <p:cNvSpPr/>
          <p:nvPr/>
        </p:nvSpPr>
        <p:spPr>
          <a:xfrm>
            <a:off x="8358120" y="6215040"/>
            <a:ext cx="428760" cy="35712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29" h="21600">
                <a:moveTo>
                  <a:pt x="0" y="0"/>
                </a:moveTo>
                <a:lnTo>
                  <a:pt x="25929" y="0"/>
                </a:lnTo>
                <a:lnTo>
                  <a:pt x="25929" y="21600"/>
                </a:lnTo>
                <a:lnTo>
                  <a:pt x="0" y="21600"/>
                </a:lnTo>
                <a:close/>
              </a:path>
              <a:path fill="lightenLess" w="25929" h="21600">
                <a:moveTo>
                  <a:pt x="0" y="0"/>
                </a:moveTo>
                <a:lnTo>
                  <a:pt x="25929" y="0"/>
                </a:lnTo>
                <a:lnTo>
                  <a:pt x="24529" y="1400"/>
                </a:lnTo>
                <a:lnTo>
                  <a:pt x="1400" y="1400"/>
                </a:lnTo>
                <a:close/>
              </a:path>
              <a:path fill="darken" w="25929" h="21600">
                <a:moveTo>
                  <a:pt x="25929" y="0"/>
                </a:moveTo>
                <a:lnTo>
                  <a:pt x="25929" y="21600"/>
                </a:lnTo>
                <a:lnTo>
                  <a:pt x="24529" y="20200"/>
                </a:lnTo>
                <a:lnTo>
                  <a:pt x="24529" y="1400"/>
                </a:lnTo>
                <a:close/>
              </a:path>
              <a:path fill="darkenLess" w="25929" h="21600">
                <a:moveTo>
                  <a:pt x="25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9" y="20200"/>
                </a:lnTo>
                <a:close/>
              </a:path>
              <a:path fill="lighten" w="25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8T12:35:52Z</dcterms:created>
  <dc:creator>Юрий </dc:creator>
  <dc:description/>
  <dc:language>en-US</dc:language>
  <cp:lastModifiedBy>LEGION</cp:lastModifiedBy>
  <dcterms:modified xsi:type="dcterms:W3CDTF">2015-03-30T08:45:07Z</dcterms:modified>
  <cp:revision>38</cp:revision>
  <dc:subject/>
  <dc:title>Закон Ома</dc:title>
</cp:coreProperties>
</file>