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2.gif" ContentType="image/gif"/>
  <Override PartName="/ppt/media/image11.gif" ContentType="image/gif"/>
  <Override PartName="/ppt/media/image13.png" ContentType="image/png"/>
  <Override PartName="/ppt/media/image10.gif" ContentType="image/gif"/>
  <Override PartName="/ppt/media/image37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17.jpeg" ContentType="image/jpeg"/>
  <Override PartName="/ppt/media/image12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29.jpeg" ContentType="image/jpeg"/>
  <Override PartName="/ppt/media/image14.jpeg" ContentType="image/jpeg"/>
  <Override PartName="/ppt/media/image28.gif" ContentType="image/gif"/>
  <Override PartName="/ppt/media/image8.gif" ContentType="image/gif"/>
  <Override PartName="/ppt/media/image18.jpeg" ContentType="image/jpeg"/>
  <Override PartName="/ppt/media/image3.gif" ContentType="image/gif"/>
  <Override PartName="/ppt/media/image7.jpeg" ContentType="image/jpeg"/>
  <Override PartName="/ppt/media/image5.gif" ContentType="image/gif"/>
  <Override PartName="/ppt/media/image38.jpeg" ContentType="image/jpeg"/>
  <Override PartName="/ppt/media/image1.gif" ContentType="image/gif"/>
  <Override PartName="/ppt/media/image15.jpeg" ContentType="image/jpeg"/>
  <Override PartName="/ppt/media/image39.gif" ContentType="image/gi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9C5B-955F-4951-85FD-0E10FC9E7E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Monotype Corsiva"/>
              </a:rPr>
              <a:t> </a:t>
            </a:r>
            <a:br>
              <a:rPr sz="2000"/>
            </a:br>
            <a:br>
              <a:rPr sz="2000"/>
            </a:br>
            <a:r>
              <a:rPr b="1" i="1" lang="ru-RU" sz="1200" spc="-1" strike="noStrike">
                <a:solidFill>
                  <a:srgbClr val="0000ff"/>
                </a:solidFill>
                <a:latin typeface="Monotype Corsiva"/>
              </a:rPr>
              <a:t>ДОБРОЕ  УТРО! </a:t>
            </a:r>
            <a:br>
              <a:rPr sz="1200"/>
            </a:br>
            <a:r>
              <a:rPr b="1" lang="ru-RU" sz="1200" spc="-1" strike="noStrike">
                <a:solidFill>
                  <a:srgbClr val="990099"/>
                </a:solidFill>
                <a:latin typeface="Monotype Corsiva"/>
                <a:ea typeface="Times New Roman"/>
              </a:rPr>
              <a:t>Вас приветствует</a:t>
            </a:r>
            <a:br>
              <a:rPr sz="1000"/>
            </a:br>
            <a:r>
              <a:rPr b="1" i="1" lang="ru-RU" sz="12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Онькова  Ольга  Владимировна –</a:t>
            </a:r>
            <a:br>
              <a:rPr sz="1200"/>
            </a:br>
            <a:r>
              <a:rPr b="1" i="1" lang="ru-RU" sz="11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читель  физики РМОУ Сокурская СОШ</a:t>
            </a:r>
            <a:br>
              <a:rPr sz="1100"/>
            </a:br>
            <a:r>
              <a:rPr b="1" i="1" lang="ru-RU" sz="12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BF80-6E65-44CE-B580-50EB3C2D6A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2  (с полиэтиленовым пакетом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ть в полиэтиленовый пакет немного воды, завязать и поставить сверху стак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ось ли сжать вод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и несжимаемы: надавливаем на одну часть жидкости, это давление передается всем другим частям,   так как 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лекулы жидкости подвиж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ом шарике средних размеров, если его сначала  бессовестно надуть, а потом, воспользовавшись его наивностью и доверием, очень крепко прижать  к груд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ся ли давление в шинах вашего велосипеда, если вместо вас в седло сядет бабушка, да еще прокатит на раме дедуш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AF87-055C-4979-96E3-355E15F47D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Отрывок из рассказа Н.Н.Носова  «Незнайка на Луне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»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знайка и Пончик почувствовали, что комбинезоны, которые прежде плотно прилегали к телу, вдруг стали становиться просторнее, словно раздувались. Это объяснялось тем, что давление наружного воздуха исчезло  и стенки скафандров стали испытывать лишь давление воздуха изнутр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какой точке скафандра д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: в средней, нижней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оловы  коротыш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9123-690A-4B0E-B436-0B461EDB62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Дополнительн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дуваем мыльные пузыр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и приобретают форму ша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чему взрыв снаряда под водой губителен для живущих в воде организм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872D-228A-433B-B830-7B2CAAE216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себя!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бный джин, находящийся в газообразном состоянии внутри закупоренной бутылки, оказывает сильное давление на её стенки, дно и пробку. Чем же джин лупит во все стороны, если в газообразном состоянии не имеет ни рук, ни ног?  Какой закон разрешает ему это дел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олекулы, закон Паска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смонавтов пищу изготавливают в полужидком виде и помещают в тюбики с эластичными стенками. Что помогает космонавтам выдавливать пищу из тюби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Закон Паска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ще удалить вмятину с мячика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ого теннис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Нагреть, например, бросить в горячую в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85EC-A75D-4521-957A-4E1A598574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§36, ответить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пражнение 14 на стр. 88. Задачи №1,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периментально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оковой стенке высокой банки из-под кофе пробейте гвоздем отверстия на высотах 3см, 6см, 9см. поместите банку в раковину под водопроводный кран, открытый так, чтобы объем воды поступающий в банку и вытекающий из неё был одинаков. Проследите за струйками воды, вытекающими из отверстий банки, и сделайте вы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F819-5C97-4AB1-90F5-78B63B1A1A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дводим итог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спомним,  что сегодня делали на уроке, что узна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редают давления жидкости и газ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закон объясняет передачу давления жидкостями и газ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итается закон Паскал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?  А где на практике используется процесс передачи давления жидкостями и газ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1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осмотрим?            ==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C7A5-AF4E-47B4-8D31-612571CA42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фовальные машины</a:t>
            </a:r>
            <a:br>
              <a:rPr sz="12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тиски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тор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измер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коструйные маши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FA69-F683-4886-9CA9-0D28F90AAE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знания мы сегодня  получали в соответствии с методом научного позн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блюдения =&gt; гипотеза  =&gt; эксперимент =&gt; вывод.</a:t>
            </a: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ы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E1E1-000C-4784-B12D-74D3EF2FB7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Передача давления жидкостями и газами.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Паскал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no Pro Smbd"/>
              </a:rPr>
              <a:t>Перышкин  А.В.,.</a:t>
            </a:r>
            <a:r>
              <a:rPr b="1" lang="ru-RU" sz="1200" spc="-1" strike="noStrike">
                <a:solidFill>
                  <a:srgbClr val="000000"/>
                </a:solidFill>
                <a:latin typeface="Arno Pro Smbd"/>
              </a:rPr>
              <a:t> Физика 7 кл. Учебник для общеобразовательных учреждений. §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DFA7-F5E8-46C4-8952-B73B9CF689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закон Паскаля, объясняющий процесс передачи давления жидкостями и га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FC67-2B57-4709-AFD2-B7AE0C3CF8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тем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вление твердых тел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зическую величину определяют по формул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/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) работу; У) давление; Е) скорость; О) п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перечисленных единиц является основной единицей измерения да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) Ватт (Вт);            В) Джоуль (Дж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В) Ньютон (Н);       Р) Паскаль (Па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два кирпича одинаковой массы и размеро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из кирпичей оказывает меньшее давление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) 1;     С) 2;       Ж) давление одинак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3A04-86F0-4CA3-96C3-6BC32661AE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 к тес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9992-C593-4FFE-9C4B-E63CF9855C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поговори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ются  твердые тела от жидкостей и газов с точки зрений физ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оложением молеку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особенность поведения молекул газа и жидк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</a:t>
            </a:r>
            <a:r>
              <a:rPr b="1" i="1" lang="ru-RU" sz="1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и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создается давление га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дарами молекул газа о стенки сосуд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газ давит  на стенки сосуда  -  на примере воздушного шар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всем направлениям одинаково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A92B-A949-44C7-B018-482EE78123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ющий  эксперимент:</a:t>
            </a:r>
            <a:br>
              <a:rPr sz="1000"/>
            </a:br>
            <a:br>
              <a:rPr sz="9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людаем правила техники безопасности при работе со стеклянным оборудовани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7A0B-D16E-4B9C-905E-027935CBCF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   Почему столбик воды в трубочке  поднимается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по экспери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дяной столбик в трубочке поднимается  под действием давления, передаваемого га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7E79-7541-4C07-885C-78FEFBDB90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B75-346A-42D1-89F0-9944EB18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394-706D-4A48-BDA6-C1FF4B27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7E26-DA0D-4B75-9FAE-E4CDC69B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18D7-E8B8-4A36-9A68-E23D5529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DB9C-A57E-4630-A189-011C25F2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DB8-DFEF-47EB-9D23-DE7EA73F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484-AFA6-468B-9557-2250AF9A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ECB-B9A1-4D9D-BB13-A9163E6D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5C3-1992-4652-B68F-1146C661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FF3-AE6A-4E53-A75B-E723D3D8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A9D-3E4A-44C0-A349-31A6CFAC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A67-9A84-4859-A07A-5681EBE0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E176-15F8-49CE-9B80-44C582984A6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B534-B511-4B11-B5DF-0CF6B5E0E4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1&amp;ed=1&amp;text=&#1074;&#1086;&#1079;&#1076;&#1091;&#1096;&#1085;&#1099;&#1081;%20&#1096;&#1072;&#1088;&#1080;&#1082;&amp;spsite=fake-031-313283.ru&amp;img_url=forum.materinstvo.ru/uploads/1248474579/post-65700-1248515210.jpg&amp;rpt=simage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&amp;ed=1&amp;text=&#1074;&#1086;&#1079;&#1076;&#1091;&#1096;&#1085;&#1099;&#1081;%20&#1096;&#1072;&#1088;&#1080;&#1082;&amp;spsite=fake-018-2870643.ru&amp;img_url=www.proza.ru/pics/2009/05/19/135.jpg&amp;rpt=simage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search?p=12&amp;ed=1&amp;text=&#1074;&#1077;&#1083;&#1086;&#1089;&#1080;&#1087;&#1077;&#1076;&amp;spsite=fake-026-1898921.ru&amp;img_url=www.sportlend.ru/images/Image/velo_5.jpg&amp;rpt=simage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85;&#1077;&#1079;&#1085;&#1072;&#1081;&#1082;&#1072;%20&#1085;&#1072;%20&#1083;&#1091;&#1085;&#1077;&amp;spsite=fake-005-1089736.ru&amp;img_url=www.avalon.ru/_images/OpenLessons/Illustrator/Lessons/Intro/vid.jpg&amp;rpt=simage&amp;nl=1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84;&#1099;&#1083;&#1100;&#1085;&#1099;&#1077;%20&#1087;&#1091;&#1079;&#1099;&#1088;&#1080;%20&#1082;&#1072;&#1088;&#1090;&#1080;&#1085;&#1082;&#1080;&amp;spsite=fake-020-491188.ru&amp;img_url=s54.radikal.ru/i146/0904/f6/1da9e9900975.jpg&amp;rpt=simage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yandex.ru/search?p=16&amp;ed=1&amp;text=&#1084;&#1099;&#1083;&#1100;&#1085;&#1099;&#1077;%20&#1087;&#1091;&#1079;&#1099;&#1088;&#1080;%20&#1082;&#1072;&#1088;&#1090;&#1080;&#1085;&#1082;&#1080;&amp;spsite=fake-021-4734236.ru&amp;img_url=m.vgorode.ru/media_image/2579651/2842752/6.jpeg&amp;rpt=simage" TargetMode="External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4&amp;ed=1&amp;text=&#1090;&#1102;&#1073;&#1080;&#1082;%20&#1079;&#1091;&#1073;&#1085;&#1086;&#1081;%20&#1087;&#1072;&#1089;&#1090;&#1099;&amp;spsite=fake-030-139481.ru&amp;img_url=dobrochan.ru/src/jpg/0910/125636580318268.jpg&amp;rpt=simage&amp;nl=1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4&amp;ed=1&amp;text=&#1096;&#1083;&#1080;&#1092;&#1086;&#1074;&#1072;&#1083;&#1100;&#1085;&#1072;&#1103;%20&#1084;&#1072;&#1096;&#1080;&#1085;&#1072;&amp;spsite=fake-002-2012321.ru&amp;img_url=i037.radikal.ru/0908/97/b9ee2f14c503.jpg&amp;rpt=simage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search?p=16&amp;ed=1&amp;text=&#1096;&#1083;&#1080;&#1092;&#1086;&#1074;&#1072;&#1083;&#1100;&#1085;&#1072;&#1103;%20&#1084;&#1072;&#1096;&#1080;&#1085;&#1072;&amp;spsite=fake-002-573764.ru&amp;img_url=instrument.isolux.ru/img_out/143351_9558NB(1).jpg&amp;rpt=simage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search?p=11&amp;text=&#1087;&#1085;&#1077;&#1074;&#1084;&#1072;&#1090;&#1080;&#1095;&#1077;&#1089;&#1082;&#1080;&#1077;%20&#1090;&#1080;&#1089;&#1082;&#1080;&amp;spsite=www.termoplast.udm.ru&amp;img_url=www.termoplast.udm.ru/eng/devices/tisky_top.jpg&amp;rpt=simage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images.yandex.ru/search?p=18&amp;ed=1&amp;text=&#1074;&#1080;&#1073;&#1088;&#1072;&#1090;&#1086;&#1088;&#1099;%20&#1087;&#1085;&#1077;&#1074;&#1084;&#1072;&#1090;&#1080;&#1095;&#1077;&#1089;&#1082;&#1080;&#1077;%20&#1092;&#1086;&#1090;&#1086;&amp;spsite=www.vibrostroy-m.ru&amp;img_url=www.vibrostroy-m.ru/pictures/ru/shtepselniesoed/ploschadochnii.jpg&amp;rpt=simage" TargetMode="External"/><Relationship Id="rId8" Type="http://schemas.openxmlformats.org/officeDocument/2006/relationships/image" Target="../media/image34.jpeg"/><Relationship Id="rId9" Type="http://schemas.openxmlformats.org/officeDocument/2006/relationships/hyperlink" Target="http://images.yandex.ru/search?p=2&amp;ed=1&amp;text=%20%20&#1087;&#1085;&#1077;&#1074;&#1084;&#1072;&#1090;&#1080;&#1095;&#1077;&#1089;&#1082;&#1080;&#1077;%20&#1080;&#1079;&#1084;&#1077;&#1088;&#1080;&#1090;&#1077;&#1083;&#1100;&#1085;&#1099;&#1077;%20&#1087;&#1088;&#1080;&#1073;&#1086;&#1088;&#1099;&amp;spsite=community.livejournal.com&amp;img_url=i128.photobucket.com/albums/p195/dn2a/photos/things/CRW_2864.jpg&amp;rpt=simage" TargetMode="External"/><Relationship Id="rId10" Type="http://schemas.openxmlformats.org/officeDocument/2006/relationships/image" Target="../media/image35.jpeg"/><Relationship Id="rId11" Type="http://schemas.openxmlformats.org/officeDocument/2006/relationships/hyperlink" Target="http://images.yandex.ru/search?p=15&amp;ed=1&amp;text=%20%20&#1087;&#1077;&#1089;&#1082;&#1086;&#1089;&#1090;&#1088;&#1091;&#1081;&#1085;&#1072;&#1103;%20&#1084;&#1072;&#1096;&#1080;&#1085;&#1072;&amp;spsite=www.9410029.ru&amp;img_url=www.9410029.ru/images/sblast/sblast_071.jpg&amp;rpt=simage" TargetMode="External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3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101;&#1082;&#1089;&#1087;&#1077;&#1088;&#1080;&#1084;&#1077;&#1085;&#1090;%20&#1082;%20&#1079;&#1072;&#1082;&#1086;&#1085;&#1091;%20&#1055;&#1040;&#1057;&#1050;&#1040;&#1051;&#1071;.%20doc.doc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92;&#1086;&#1090;&#1086;%20&#1055;&#1072;&#1089;&#1082;&#1072;&#1083;&#1103;&amp;spsite=fake-021-174771.ru&amp;img_url=img.encyc.yandex.net/illustrations/krugosvet/pictures/a/a5/1010475-PH07395.jpg&amp;rpt=simage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search?p=7&amp;ed=1&amp;text=&#1096;&#1072;&#1088;%20&#1055;&#1072;&#1089;&#1082;&#1072;&#1083;&#1103;&amp;spsite=lab-plus.com.ua&amp;img_url=cs.getfrag.ru/np_8_9/2008/equipment/olma_ph/images/fullsize/1.35.jpg.jpg&amp;rpt=simage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yandex.ru/search?p=13&amp;ed=1&amp;text=&#1096;&#1072;&#1088;%20&#1055;&#1072;&#1089;&#1082;&#1072;&#1083;&#1103;&amp;spsite=vpl54.narod.ru&amp;img_url=vpl54.narod.ru/images/Shar_Paskalja.gif&amp;rpt=simage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yandex.ru/search?p=5&amp;ed=1&amp;text=%20&#1086;&#1087;&#1099;&#1090;%20&#1089;%20&#1096;&#1072;&#1088;&#1086;&#1084;%20%20&#1055;&#1072;&#1089;&#1082;&#1072;&#1083;&#1103;&amp;spsite=www.hde.kurganobl.ru&amp;img_url=www.hde.kurganobl.ru/dist/disk/Shcool/Book/Sprav_material/Mech/pic/0051r1.jpg&amp;rpt=simage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60093"/>
                </a:solidFill>
                <a:latin typeface="Monotype Corsiva"/>
              </a:rPr>
              <a:t>        </a:t>
            </a:r>
            <a:br>
              <a:rPr sz="5400"/>
            </a:br>
            <a:br>
              <a:rPr sz="5400"/>
            </a:br>
            <a:r>
              <a:rPr b="1" i="1" lang="ru-RU" sz="3600" spc="-1" strike="noStrike">
                <a:solidFill>
                  <a:srgbClr val="0000ff"/>
                </a:solidFill>
                <a:latin typeface="Monotype Corsiva"/>
              </a:rPr>
              <a:t>ДОБРОЕ  УТРО! </a:t>
            </a:r>
            <a:br>
              <a:rPr sz="3600"/>
            </a:br>
            <a:r>
              <a:rPr b="1" lang="ru-RU" sz="3600" spc="-1" strike="noStrike">
                <a:solidFill>
                  <a:srgbClr val="990099"/>
                </a:solidFill>
                <a:latin typeface="Monotype Corsiva"/>
                <a:ea typeface="Times New Roman"/>
              </a:rPr>
              <a:t>Вас приветствует</a:t>
            </a:r>
            <a:br>
              <a:rPr sz="2400"/>
            </a:br>
            <a:r>
              <a:rPr b="1" i="1" lang="ru-RU" sz="36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Онькова  Ольга  Владимировна –</a:t>
            </a:r>
            <a:br>
              <a:rPr sz="3600"/>
            </a:br>
            <a:r>
              <a:rPr b="1" i="1" lang="ru-RU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читель  физики РМОУ Сокурская СОШ</a:t>
            </a:r>
            <a:br>
              <a:rPr sz="3600"/>
            </a:br>
            <a:r>
              <a:rPr b="1" i="1" lang="ru-RU" sz="36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F:\Documents and Settings\МАМИК\Рабочий стол\Мои рисунки\вся ерунда\цветы\Shamrock.gif"/>
          <p:cNvPicPr/>
          <p:nvPr/>
        </p:nvPicPr>
        <p:blipFill>
          <a:blip r:embed="rId1"/>
          <a:stretch/>
        </p:blipFill>
        <p:spPr>
          <a:xfrm>
            <a:off x="7000920" y="35712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:\Documents and Settings\МАМИК\Мои документы\Мои рисунки\экология\165.gif"/>
          <p:cNvPicPr/>
          <p:nvPr/>
        </p:nvPicPr>
        <p:blipFill>
          <a:blip r:embed="rId2"/>
          <a:stretch/>
        </p:blipFill>
        <p:spPr>
          <a:xfrm>
            <a:off x="4786200" y="3786120"/>
            <a:ext cx="3071880" cy="250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:\Documents and Settings\МАМИК\Мои документы\Мои рисунки\экология\Солнце.gif"/>
          <p:cNvPicPr/>
          <p:nvPr/>
        </p:nvPicPr>
        <p:blipFill>
          <a:blip r:embed="rId3"/>
          <a:stretch/>
        </p:blipFill>
        <p:spPr>
          <a:xfrm>
            <a:off x="428760" y="285840"/>
            <a:ext cx="1428480" cy="15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785880" y="3625920"/>
            <a:ext cx="2795400" cy="24462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 теперь порешаем зада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Загад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ий, круглый, но не мяч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прыгает он вскач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еревочке вис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еваюсь – улетит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прос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сли нажать на шарик, то можно ли сказать, в каком месте он лопне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http://im4-tub.yandex.net/i?id=50929958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571680"/>
            <a:ext cx="257148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358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Задачи от Григория Ост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040" y="856800"/>
            <a:ext cx="82296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менится давление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http://im0-tub.yandex.net/i?id=24086059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http://im4-tub.yandex.net/i?id=9979033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00680" y="3429000"/>
            <a:ext cx="1928520" cy="1085760"/>
          </a:xfrm>
          <a:prstGeom prst="rect">
            <a:avLst/>
          </a:prstGeom>
          <a:ln w="0">
            <a:noFill/>
          </a:ln>
        </p:spPr>
      </p:pic>
      <p:pic>
        <p:nvPicPr>
          <p:cNvPr id="103" name="ipfLO9sC6CqhNNlnM:" descr="http://t0.gstatic.com/images?q=tbn:LO9sC6CqhNNlnM:http://modernlib.ru/books/oster_grigoriy_bencionovich/photo.jpg"/>
          <p:cNvPicPr/>
          <p:nvPr/>
        </p:nvPicPr>
        <p:blipFill>
          <a:blip r:embed="rId5"/>
          <a:stretch/>
        </p:blipFill>
        <p:spPr>
          <a:xfrm>
            <a:off x="214200" y="0"/>
            <a:ext cx="1428840" cy="16430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2  (с полиэтиленовым пакет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ть в полиэтиленовый пакет немного воды, завязать и поставить сверху стака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ось ли сжать вод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и несжимаемы: надавливаем на одну часть жидкости, это давление передается всем другим частям,   так как 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лекулы жидкости подвиж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ом шарике средних размеров, если его сначала  бессовестно надуть, а потом, воспользовавшись его наивностью и доверием, очень крепко прижать  к груд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ся ли давление в шинах вашего велосипеда, если вместо вас в седло сядет бабушка, да еще прокатит на раме дедуш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Отрывок из рассказа Н.Н.Носова  «Незнайка на Луне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»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знайка и Пончик почувствовали, что комбинезоны, которые прежде плотно прилегали к телу, вдруг стали становиться просторнее, словно раздувались. Это объяснялось тем, что давление наружного воздуха исчезло  и стенки скафандров стали испытывать лишь давление воздуха изнутри…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какой точке скафандра давл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: в средней, нижней ил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оловы  коротышек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http://im0-tub.yandex.net/i?id=5507666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4000680"/>
            <a:ext cx="2714760" cy="23572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Дополнитель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дуваем мыльные пузыр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и приобретают форму ша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чему взрыв снаряда под водой губителен для живущих в воде организм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http://im4-tub.yandex.net/i?id=68569577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5120" y="214200"/>
            <a:ext cx="164304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http://im6-tub.yandex.net/i?id=111043861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57680" y="2357280"/>
            <a:ext cx="1214280" cy="1357560"/>
          </a:xfrm>
          <a:prstGeom prst="rect">
            <a:avLst/>
          </a:prstGeom>
          <a:ln w="0">
            <a:noFill/>
          </a:ln>
        </p:spPr>
      </p:pic>
      <p:pic>
        <p:nvPicPr>
          <p:cNvPr id="116" name="ipfVu5uH-0Y1vMCGM:" descr="http://t2.gstatic.com/images?q=tbn:Vu5uH-0Y1vMCGM:http://gdb.rferl.org/3CD9594F-C6F7-4164-A660-CB9978628965_mw800_s.jpg"/>
          <p:cNvPicPr/>
          <p:nvPr/>
        </p:nvPicPr>
        <p:blipFill>
          <a:blip r:embed="rId5"/>
          <a:stretch/>
        </p:blipFill>
        <p:spPr>
          <a:xfrm>
            <a:off x="928800" y="4929120"/>
            <a:ext cx="1790640" cy="12859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6" descr="http://t0.gstatic.com/images?q=tbn:Mf80dTOLUrBlsM:http://byaki.net/uploads/posts/2008-07/1216963344_01.jpg"/>
          <p:cNvPicPr/>
          <p:nvPr/>
        </p:nvPicPr>
        <p:blipFill>
          <a:blip r:embed="rId6"/>
          <a:stretch/>
        </p:blipFill>
        <p:spPr>
          <a:xfrm>
            <a:off x="6357960" y="4786200"/>
            <a:ext cx="1643040" cy="1357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F:\Documents and Settings\МАМИК\Рабочий стол\Мои рисунки\вся ерунда\драконы и водоплавающие\дельфи.gif"/>
          <p:cNvPicPr/>
          <p:nvPr/>
        </p:nvPicPr>
        <p:blipFill>
          <a:blip r:embed="rId7"/>
          <a:stretch/>
        </p:blipFill>
        <p:spPr>
          <a:xfrm>
            <a:off x="3286080" y="4786200"/>
            <a:ext cx="2643120" cy="1562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себя!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бный джин, находящийся в газообразном состоянии внутри закупоренной бутылки, оказывает сильное давление на её стенки, дно и пробку. Чем же джин лупит во все стороны, если в газообразном состоянии не имеет ни рук, ни ног?  Какой закон разрешает ему это делать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олекулы, закон Паскал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смонавтов пищу изготавливают в полужидком виде и помещают в тюбики с эластичными стенками. Что помогает космонавтам выдавливать пищу из тюбиков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Закон Паскал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ще удалить вмятину с мячика дл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ого тенниса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Нагреть, например, бросить в горячую вод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3" descr="http://im6-tub.yandex.net/i?id=209261207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286160"/>
            <a:ext cx="1428840" cy="866880"/>
          </a:xfrm>
          <a:prstGeom prst="rect">
            <a:avLst/>
          </a:prstGeom>
          <a:ln w="0">
            <a:noFill/>
          </a:ln>
        </p:spPr>
      </p:pic>
      <p:pic>
        <p:nvPicPr>
          <p:cNvPr id="123" name="ipfGHNLkN8RbALh8M:" descr="http://t3.gstatic.com/images?q=tbn:GHNLkN8RbALh8M:http://xmages.net/out.php/i74555_255.jpg"/>
          <p:cNvPicPr/>
          <p:nvPr/>
        </p:nvPicPr>
        <p:blipFill>
          <a:blip r:embed="rId3"/>
          <a:stretch/>
        </p:blipFill>
        <p:spPr>
          <a:xfrm>
            <a:off x="7286760" y="5357880"/>
            <a:ext cx="1428480" cy="1143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§36, ответить на вопрос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пражнение 14 на стр. 88. Задачи №1,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периментальное задание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оковой стенке высокой банки из-под кофе пробейте гвоздем отверстия на высотах 3см, 6см, 9см. поместите банку в раковину под водопроводный кран, открытый так, чтобы объем воды поступающий в банку и вытекающий из неё был одинаков. Проследите за струйками воды, вытекающими из отверстий банки, и сделайте выво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дводим итог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спомним,  что сегодня делали на уроке, что узна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редают давления жидкости и газ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закон объясняет передачу давления жидкостями и газ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итается закон Паскал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?  А где на практике используется процесс передачи давления жидкостями и газ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осмотрим?            ==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фовальные машины</a:t>
            </a:r>
            <a:br>
              <a:rPr sz="24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тиски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тор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2999880"/>
            <a:ext cx="86868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измерительные приб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коструйные машин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3" descr="http://im8-tub.yandex.net/i?id=10633246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142920"/>
            <a:ext cx="1733760" cy="1071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http://im6-tub.yandex.net/i?id=7810590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29680" y="2142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http://im7-tub.yandex.net/i?id=3413374&amp;tov=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00680" y="785880"/>
            <a:ext cx="1571400" cy="12142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im8-tub.yandex.net/i?id=29091887&amp;tov=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0200" y="1500120"/>
            <a:ext cx="1428840" cy="12477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http://im2-tub.yandex.net/i?id=217377207&amp;tov=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00880" y="1785960"/>
            <a:ext cx="2071800" cy="13572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http://im0-tub.yandex.net/i?id=78438675&amp;tov=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714680" y="4214880"/>
            <a:ext cx="1785600" cy="12906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9" descr="http://im0-tub.yandex.net/i?id=129326398&amp;tov=0"/>
          <p:cNvPicPr/>
          <p:nvPr/>
        </p:nvPicPr>
        <p:blipFill>
          <a:blip r:embed="rId13"/>
          <a:stretch/>
        </p:blipFill>
        <p:spPr>
          <a:xfrm>
            <a:off x="5643720" y="42148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0" descr="http://im5-tub.yandex.net/i?id=8420856&amp;tov=5"/>
          <p:cNvPicPr/>
          <p:nvPr/>
        </p:nvPicPr>
        <p:blipFill>
          <a:blip r:embed="rId14"/>
          <a:stretch/>
        </p:blipFill>
        <p:spPr>
          <a:xfrm>
            <a:off x="2857680" y="1643040"/>
            <a:ext cx="3071520" cy="3429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знания мы сегодня  получали в соответствии с методом научного позн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блюдения =&gt; гипотеза  =&gt; эксперимент =&gt; вывод.</a:t>
            </a: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ы молодц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F:\Documents and Settings\МАМИК\Рабочий стол\Мои рисунки\вся ерунда\цветы\14.gif"/>
          <p:cNvPicPr/>
          <p:nvPr/>
        </p:nvPicPr>
        <p:blipFill>
          <a:blip r:embed="rId1"/>
          <a:stretch/>
        </p:blipFill>
        <p:spPr>
          <a:xfrm>
            <a:off x="5715000" y="3071880"/>
            <a:ext cx="2928960" cy="30718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1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Передача давления жидкостями и газами.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Закон Паскаля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240" y="4429080"/>
            <a:ext cx="720108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no Pro Smbd"/>
              </a:rPr>
              <a:t>Перышкин  А.В.,.</a:t>
            </a:r>
            <a:r>
              <a:rPr b="1" lang="ru-RU" sz="3000" spc="-1" strike="noStrike">
                <a:solidFill>
                  <a:srgbClr val="000000"/>
                </a:solidFill>
                <a:latin typeface="Arno Pro Smbd"/>
              </a:rPr>
              <a:t> Физика 7 кл. Учебник для общеобразовательных учреждений. §3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F:\Documents and Settings\МАМИК\Рабочий стол\Мои рисунки\вся ерунда\смайлики\39.gif"/>
          <p:cNvPicPr/>
          <p:nvPr/>
        </p:nvPicPr>
        <p:blipFill>
          <a:blip r:embed="rId1"/>
          <a:stretch/>
        </p:blipFill>
        <p:spPr>
          <a:xfrm>
            <a:off x="785880" y="2500200"/>
            <a:ext cx="485640" cy="428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Documents and Settings\МАМИК\Рабочий стол\Мои рисунки\вся ерунда\смайлики\01.gif"/>
          <p:cNvPicPr/>
          <p:nvPr/>
        </p:nvPicPr>
        <p:blipFill>
          <a:blip r:embed="rId2"/>
          <a:stretch/>
        </p:blipFill>
        <p:spPr>
          <a:xfrm>
            <a:off x="8001000" y="2357280"/>
            <a:ext cx="476280" cy="438480"/>
          </a:xfrm>
          <a:prstGeom prst="rect">
            <a:avLst/>
          </a:prstGeom>
          <a:ln w="0">
            <a:noFill/>
          </a:ln>
        </p:spPr>
      </p:pic>
      <p:pic>
        <p:nvPicPr>
          <p:cNvPr id="58" name="ipf9gww05d9Lhp-uM:" descr="http://t0.gstatic.com/images?q=tbn:9gww05d9Lhp-uM:http://festival.1september.ru/articles/515901/img4.jpg"/>
          <p:cNvPicPr/>
          <p:nvPr/>
        </p:nvPicPr>
        <p:blipFill>
          <a:blip r:embed="rId3"/>
          <a:stretch/>
        </p:blipFill>
        <p:spPr>
          <a:xfrm>
            <a:off x="4000680" y="3071880"/>
            <a:ext cx="1714320" cy="13287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закон Паскаля, объясняющий процесс передачи давления жидкостями и газ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F:\Documents and Settings\МАМИК\Рабочий стол\Мои рисунки\вся ерунда\смайлики\05.gif"/>
          <p:cNvPicPr/>
          <p:nvPr/>
        </p:nvPicPr>
        <p:blipFill>
          <a:blip r:embed="rId1"/>
          <a:stretch/>
        </p:blipFill>
        <p:spPr>
          <a:xfrm>
            <a:off x="1500120" y="642960"/>
            <a:ext cx="685800" cy="399960"/>
          </a:xfrm>
          <a:prstGeom prst="rect">
            <a:avLst/>
          </a:prstGeom>
          <a:ln w="0">
            <a:noFill/>
          </a:ln>
        </p:spPr>
      </p:pic>
      <p:pic>
        <p:nvPicPr>
          <p:cNvPr id="63" name="ipfRE3h9iGjetn_wM:" descr="http://t1.gstatic.com/images?q=tbn:RE3h9iGjetn_wM:http://festival.1september.ru/articles/314864/img2.jpg"/>
          <p:cNvPicPr/>
          <p:nvPr/>
        </p:nvPicPr>
        <p:blipFill>
          <a:blip r:embed="rId2"/>
          <a:stretch/>
        </p:blipFill>
        <p:spPr>
          <a:xfrm>
            <a:off x="4143240" y="3714840"/>
            <a:ext cx="1428840" cy="25002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тем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вление твердых тел»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7138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зическую величину определяют по формул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) работу; У) давление; Е) скорость; О)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перечисленных единиц является основной единицей измерения давл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) Ватт (Вт);            В) Джоуль (Дж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В) Ньютон (Н);       Р) Паскаль (Па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два кирпича одинаковой массы и размеров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               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из кирпичей оказывает меньшее давление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) 1;     С) 2;       Ж) давление одинак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4"/>
          <p:cNvSpPr/>
          <p:nvPr/>
        </p:nvSpPr>
        <p:spPr>
          <a:xfrm>
            <a:off x="2500200" y="4786200"/>
            <a:ext cx="2714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2786040" y="4500720"/>
            <a:ext cx="7142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4286160" y="4214880"/>
            <a:ext cx="285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F:\Documents and Settings\МАМИК\Рабочий стол\Мои рисунки\вся ерунда\знаки\2h3.gif"/>
          <p:cNvPicPr/>
          <p:nvPr/>
        </p:nvPicPr>
        <p:blipFill>
          <a:blip r:embed="rId1"/>
          <a:stretch/>
        </p:blipFill>
        <p:spPr>
          <a:xfrm>
            <a:off x="8072280" y="114300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 к тес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928880" y="1571760"/>
          <a:ext cx="5357880" cy="1131840"/>
        </p:xfrm>
        <a:graphic>
          <a:graphicData uri="http://schemas.openxmlformats.org/drawingml/2006/table">
            <a:tbl>
              <a:tblPr/>
              <a:tblGrid>
                <a:gridCol w="1297080"/>
                <a:gridCol w="1382400"/>
                <a:gridCol w="1338480"/>
                <a:gridCol w="1339920"/>
              </a:tblGrid>
              <a:tr h="807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4" name="Picture 3" descr="F:\Documents and Settings\МАМИК\Рабочий стол\Мои рисунки\вся ерунда\знаки\penciler.gif"/>
          <p:cNvPicPr/>
          <p:nvPr/>
        </p:nvPicPr>
        <p:blipFill>
          <a:blip r:embed="rId1"/>
          <a:stretch/>
        </p:blipFill>
        <p:spPr>
          <a:xfrm>
            <a:off x="1643040" y="3357720"/>
            <a:ext cx="2000160" cy="952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F:\Documents and Settings\МАМИК\Мои документы\Мои рисунки\экология\164.gif"/>
          <p:cNvPicPr/>
          <p:nvPr/>
        </p:nvPicPr>
        <p:blipFill>
          <a:blip r:embed="rId2"/>
          <a:stretch/>
        </p:blipFill>
        <p:spPr>
          <a:xfrm>
            <a:off x="5500800" y="3857760"/>
            <a:ext cx="2786040" cy="25002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поговори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ются  твердые тела от жидкостей и газов с точки зрений физик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оложением молеку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особенность поведения молекул газа и жидко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</a:t>
            </a:r>
            <a:r>
              <a:rPr b="1" i="1" lang="ru-RU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иж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создается давление газ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дарами молекул газа о стенки сосу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газ давит  на стенки сосуда  -  на примере воздушного шари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всем направлениям одинако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ющий 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эксперимент:_x000b_</a:t>
            </a: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760" y="1499760"/>
            <a:ext cx="82296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людаем правила техники безопасности при работе со стеклянным оборудование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F:\Documents and Settings\МАМИК\Рабочий стол\Мои рисунки\вся ерунда\Рисунки\Копия forum.gif"/>
          <p:cNvPicPr/>
          <p:nvPr/>
        </p:nvPicPr>
        <p:blipFill>
          <a:blip r:embed="rId2"/>
          <a:stretch/>
        </p:blipFill>
        <p:spPr>
          <a:xfrm>
            <a:off x="7000920" y="357120"/>
            <a:ext cx="1324080" cy="11905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6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   Почему столбик воды в трубочке  поднимаетс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по эксперимент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дяной столбик в трубочке поднимается  под действием давления, передаваемого газ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pfTrq6kUClJyeSqM:" descr="http://t2.gstatic.com/images?q=tbn:Trq6kUClJyeSqM:http://dic.academic.ru/pictures/ntes/104-2.jpg"/>
          <p:cNvPicPr/>
          <p:nvPr/>
        </p:nvPicPr>
        <p:blipFill>
          <a:blip r:embed="rId1"/>
          <a:stretch/>
        </p:blipFill>
        <p:spPr>
          <a:xfrm>
            <a:off x="5214960" y="928800"/>
            <a:ext cx="1500120" cy="1600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КОН  ПАСКАЛ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Давление , производимое на жидкость или газ, передается  в каждую точку жидкости или газа одинаково  по всем направлениям</a:t>
            </a:r>
            <a:r>
              <a:rPr b="0" lang="ru-RU" sz="3200" spc="-1" strike="noStrike">
                <a:solidFill>
                  <a:srgbClr val="6600cc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http://im8-tub.yandex.net/i?id=144376778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214200"/>
            <a:ext cx="221472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http://im4-tub.yandex.net/i?id=35770728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7720" y="4500720"/>
            <a:ext cx="2071440" cy="10522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://im4-tub.yandex.net/i?id=106980757&amp;tov=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5880" y="4214880"/>
            <a:ext cx="1433520" cy="18572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http://im3-tub.yandex.net/i?id=33399056&amp;tov=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72160" y="4214880"/>
            <a:ext cx="1500120" cy="19288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5:25:41Z</dcterms:created>
  <dc:creator>МАМИК</dc:creator>
  <dc:description/>
  <dc:language>en-US</dc:language>
  <cp:lastModifiedBy>LEGION</cp:lastModifiedBy>
  <dcterms:modified xsi:type="dcterms:W3CDTF">2015-03-30T08:45:38Z</dcterms:modified>
  <cp:revision>110</cp:revision>
  <dc:subject/>
  <dc:title>ТЕМА УРОКА «Передача давления жидкостями и газами.  Закон Паскаля» </dc:title>
</cp:coreProperties>
</file>