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0.gif" ContentType="image/gif"/>
  <Override PartName="/ppt/media/image21.gif" ContentType="image/gif"/>
  <Override PartName="/ppt/media/image10.jpeg" ContentType="image/jpeg"/>
  <Override PartName="/ppt/media/image19.gif" ContentType="image/gif"/>
  <Override PartName="/ppt/media/image14.jpeg" ContentType="image/jpeg"/>
  <Override PartName="/ppt/media/image17.png" ContentType="image/png"/>
  <Override PartName="/ppt/media/image24.gif" ContentType="image/gif"/>
  <Override PartName="/ppt/media/image32.jpeg" ContentType="image/jpeg"/>
  <Override PartName="/ppt/media/image16.gif" ContentType="image/gif"/>
  <Override PartName="/ppt/media/image15.jpeg" ContentType="image/jpeg"/>
  <Override PartName="/ppt/media/image27.gif" ContentType="image/gif"/>
  <Override PartName="/ppt/media/image28.jpeg" ContentType="image/jpeg"/>
  <Override PartName="/ppt/media/image1.jpeg" ContentType="image/jpeg"/>
  <Override PartName="/ppt/media/image35.jpeg" ContentType="image/jpeg"/>
  <Override PartName="/ppt/media/image8.png" ContentType="image/png"/>
  <Override PartName="/ppt/media/image11.jpeg" ContentType="image/jpeg"/>
  <Override PartName="/ppt/media/image36.jpeg" ContentType="image/jpeg"/>
  <Override PartName="/ppt/media/image9.jpeg" ContentType="image/jpeg"/>
  <Override PartName="/ppt/media/image13.gif" ContentType="image/gif"/>
  <Override PartName="/ppt/media/image33.jpeg" ContentType="image/jpeg"/>
  <Override PartName="/ppt/media/image42.gif" ContentType="image/gif"/>
  <Override PartName="/ppt/media/image34.jpeg" ContentType="image/jpeg"/>
  <Override PartName="/ppt/media/image7.jpeg" ContentType="image/jpeg"/>
  <Override PartName="/ppt/media/image31.jpeg" ContentType="image/jpeg"/>
  <Override PartName="/ppt/media/image2.png" ContentType="image/png"/>
  <Override PartName="/ppt/media/image22.gif" ContentType="image/gif"/>
  <Override PartName="/ppt/media/image38.gif" ContentType="image/gif"/>
  <Override PartName="/ppt/media/image43.png" ContentType="image/png"/>
  <Override PartName="/ppt/media/image39.png" ContentType="image/png"/>
  <Override PartName="/ppt/media/image30.jpeg" ContentType="image/jpeg"/>
  <Override PartName="/ppt/media/image6.png" ContentType="image/png"/>
  <Override PartName="/ppt/media/image26.gif" ContentType="image/gif"/>
  <Override PartName="/ppt/media/image18.png" ContentType="image/png"/>
  <Override PartName="/ppt/media/image25.gif" ContentType="image/gif"/>
  <Override PartName="/ppt/media/image29.jpeg" ContentType="image/jpeg"/>
  <Override PartName="/ppt/media/image37.gif" ContentType="image/gif"/>
  <Override PartName="/ppt/media/image5.jpeg" ContentType="image/jpeg"/>
  <Override PartName="/ppt/media/image41.gif" ContentType="image/gif"/>
  <Override PartName="/ppt/media/image12.jpeg" ContentType="image/jpeg"/>
  <Override PartName="/ppt/media/image4.png" ContentType="image/png"/>
  <Override PartName="/ppt/media/image40.gif" ContentType="image/gif"/>
  <Override PartName="/ppt/media/image3.png" ContentType="image/png"/>
  <Override PartName="/ppt/media/image23.gif" ContentType="image/gi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4256-B45C-4EA8-8929-678851FEBB2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по теме: « Звуковые волны»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яснительная запис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E715-77C8-4A56-95EE-7A5E53BB64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2ADF-0A24-4964-AE6D-0E55434EDB3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D5AC-0887-4981-B0F6-A189231572B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вуковое эхо – волна, отражённая от различных препятств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BB37-D4EA-4CD4-B1B3-4E4E23A114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звуков часто слышны звучание гитар, скрипок , балала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AB7B-E46D-4491-9BAF-818C70126A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CB66-2340-4ADD-8EA8-5838F1EEF9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46074-0E3D-4968-BC00-B3CAF73A26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B6DA-7E3D-4270-AC5D-9201C17A72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C1FC-3F40-4066-9422-7BB62A2B85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6AA9-7F34-4B84-A08F-11A7D288C3A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мощью ультразвука обследуют больных, ставят диагноз, разрушают камни в по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нендоскоп позволяет услышать звуки сердца, хрипы в лёг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27F5-E105-43B9-A9F7-6519D5DEBC3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Цели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орудование урока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,  мультимедийный проектор, слай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орудование для демонстраций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од ур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Организация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Изучение нового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CABD-B719-42B6-9EEF-1668B7F4EC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2607C-1B87-4E4A-AE53-0AFB1108A09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II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Закрепление изученного материал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и подошла к концу наша сказка. Сказка ложь, да в ней намёк добрым молодцам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1DB6-AD56-4E2E-AE6A-05F4E18E34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упп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7B0FC-655C-4143-B6CF-8BEF8A320E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4AE1-E56F-429E-A34C-7D26FD17C0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488b"/>
                </a:solidFill>
                <a:latin typeface="Calibri"/>
              </a:rPr>
              <a:t>IV</a:t>
            </a:r>
            <a:r>
              <a:rPr b="0" lang="ru-RU" sz="1600" spc="-1" strike="noStrike">
                <a:solidFill>
                  <a:srgbClr val="11488b"/>
                </a:solidFill>
                <a:latin typeface="Calibri"/>
              </a:rPr>
              <a:t>.Самостоятельная работ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айте,  теперь применим свои знания в работе с тестами. Они перед вами на пар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58D9-5BF3-4248-ACB8-6EF73B6FE6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с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1. Какой диапазон частот имеют звуковые волны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16 – 20Гц                        б) 20 – 30кГц                       в)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2. Что является источником звук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любое тело     б) любое колеблющиеся тело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любое колеблющиеся тело с частотой 16Гц – 20кГц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3. 2 космонавта находятся в космическом пространстве. Услышат ли они друг друга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услышат, так как голосовые связки издают звук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не услышат, так как звуковые волны могут распространяться только в упругой среде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4. Почему комар пищит, а шмель жужжит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я крыльев комара большая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шмеля меньш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одинакова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5. Почему бабочки летают беззвучн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крылья покрыты звукопоглощающим веществом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крыльев меньше частоты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6. Когда возникает акустический резонанс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частота колебаний тела равна частоте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частота колебаний тела меньше частоты колебаний звуковой волн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частота колебаний тела больше частоты колебаний звуковой волны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7. Когда возникает эхо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 звуковые волны поглощаются телам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б) звуковые волны проходят сквозь тел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в) звуковые волны отражаются от тел, находящихся на их пути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8. Какие волны применяют в дефектоскопии?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а)поперечные        б)световые            в) звуковые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520A3-FF06-42C3-91DE-938B06BD2A8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Итог урок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за урок с учётом всех видов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очень плодотворно работали с вами на уроке, спасибо за урок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663CE-1E99-41D9-A2FD-3BA332DEB7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. Домашнее задани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 написать сочинение на тему «Звуковые волн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рок окончен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AC7C-5ECD-4B42-BED2-E693F1717A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488b"/>
                </a:solidFill>
                <a:latin typeface="Calibri"/>
              </a:rPr>
              <a:t>VII.</a:t>
            </a: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Литератур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 Уроки физики в современной школе.  В. Г. Разумовский;    Москва «Просвещение» 199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 Физика 8 – 9 классы. В. А. Попов;  Волгоград  200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 Как подготовить и провести открытый ур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Поташник, М. В. Левит;  Педагогическое общество России  Москва  200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 Уроки физики в 10 классе.  С. Л. Вольштейн, А. М. Качинский,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М. Круглей, М. С. Кузей;  Минск «Народная  Асвета» 19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 Физические викторины.   Б. Ф. Билимович;   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освещение» 1977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 Мир физики в художественной литератур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А. Тихомирова; Москва 1988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      Игровые ситуации на уроках физики.  И.Я.Ланин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нинград 19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  Уроки физики 7 – 11 классы.  Серия «Современная школа»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ва  Издательство «Глобус» 200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69E6-F13B-4A11-B9A5-59D6E203F0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Эпиграф нашего урока: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   «Во всём мне хочется дойти </a:t>
            </a:r>
            <a:br>
              <a:rPr sz="1400"/>
            </a:br>
            <a:r>
              <a:rPr b="0" lang="ru-RU" sz="1400" spc="-1" strike="noStrike">
                <a:solidFill>
                  <a:srgbClr val="11488b"/>
                </a:solidFill>
                <a:latin typeface="Calibri"/>
              </a:rPr>
              <a:t>                       до самой сути…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103F-D916-4B43-BF70-416902F7BA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волны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ение колебаний в пространстве с течение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и являются звуковые волны - продольные или поперечны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продоль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вы так дум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распространяются в воздух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волны называют продольны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колебания происходят вдоль направления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их ещё средах могут распространяться звуковые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в газах, жидкостях, твёрдых т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24E5-7D9D-438F-9495-6023FFB723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могут ли распространяться  звуковые волны в вакуум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затрудняетесь ответить на этот вопрос, давайте обратимся к опы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CC91-87A9-4C73-AFEE-34C0B761C1C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является источником вол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любое колеблющееся тел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источники звук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музыкальные инструменты, писк комара, шелест листьев, дрожание стёк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792BB-6858-4B87-BF98-BC4DA399B63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03A1-93E7-4857-8294-02737E03CF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 слышите звучание музыкальных инструментов. От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962A-5987-447B-8489-AC5B049E31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нстр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вуковые сигналы. Угадай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звуков окружают нас в повседневной жизни. Приведите прим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ывание ветра, крики, звуки работающего транспорта, шум текущей воды, скрип сне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2978-FF46-474F-A0BA-F19DB07CBC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C19F-9862-4DEF-8925-1E093EEA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C700-D809-433D-BB20-E3AE1A765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0CE-FB2A-4753-AF86-4A4D6B26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010-47EA-4DCC-811F-A85BE8B43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140B-893E-4AD1-A620-E26CE733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069EE-E514-418F-9FC4-F8642FA73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EB12C-DB6C-4155-B92C-B831FA218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D249-A6A8-450B-89A4-8621F69A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2B772-5C57-42F9-8D0C-229263DC5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92F6-E397-4549-9339-54B5DE3DE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BB94-5E38-4334-86A4-69F3F374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060-C3DF-4D54-8244-FC6D99AF1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899A-3D6F-49CE-ABE4-299B4C77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83812-9EE3-4B52-9827-31F2D6E69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2401A-18EE-4CE7-8C1E-BA00050A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3E64-DF62-4E58-9037-02996EA67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5784-281A-467A-860C-74C99C3DC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C3424-95AE-4A35-AB67-0ABFD9687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970A7-3D3A-4EF0-98B6-64A5DFAA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6893B-A781-4501-9C34-0FFB8C0E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07700-A729-4252-8210-03FFB9C60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098EA-846F-4615-8F7C-29F58A2C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38A-16B9-433B-9E23-BF5C03C8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9510EA-7122-4AF7-B95B-E8FD47DF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CC8F8-484F-4B39-A564-1CD32D38F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0200B-28C7-499E-8E18-5917191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205592-4187-4F43-AA49-E922AB79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ACD1-100C-4DBC-98E9-B4FB0298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AA96-4EC7-4D4E-AB36-DEC9CD9EB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8EC31-0B0F-4F7D-9F86-5F032235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637875-7BAC-4617-B948-DB1673E2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91999-DFCE-46C8-94A6-C53C0D65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1EBDA-EDC7-4489-A294-FAF57048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45D7-5796-4921-8DEA-D80E0029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ABCD-CE5F-405A-981C-080D12A6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8B7D5-A0AE-492E-9E6D-8B469DB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6F1EB-17AB-408A-B399-DA050336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08A1F-B94D-4ECE-AB14-A707125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C11AA-F23E-42D6-BBB7-F135DD14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90BA6-65C6-449A-946E-A65933BB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AF4CA-5731-415B-A22D-B56D9A39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C818E-B36B-49C2-A220-4E6373FB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F8948-C491-4CD6-B6BE-6E2A03E2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5C359-EF40-493E-B992-3A211FADB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83F9-28E1-4E83-B5A5-53625709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2A7D-F5E3-4C8E-99EA-5852B716E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F0361-A5D9-4394-80B8-89045BB2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1AE32-68A1-45FC-8EC0-0766A77D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02C148-AD3F-4704-A95F-6CE9EC6CE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34316-46FD-4F0B-9608-501E83CE0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978377-4C2C-4994-A3DE-3FBC07780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A0EE-B5D1-443D-B8E4-B847435B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62F5E-FAB9-467D-90AF-5B6B395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6DE9A-AFB1-4748-BD8D-BA520E139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129709-0038-4510-AB64-A9A30853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9F2-A5E4-4058-890F-6DDD675E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666DA-5CCC-45AD-B77E-13F3F586C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929C8-C2A7-4611-9666-C6CF8967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C1243-8291-41FF-8921-9AA0C89A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F7E38-4228-480E-99F3-C56FF9B4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AC53-58C9-446C-8320-F857BB0E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6D92D-D015-4673-B0D8-10512A5CE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DB3FC4-E62E-40AC-B744-9C80AB17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35473-8612-49E0-B8AC-C2C18563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14E6A-C945-4238-9AFC-96E9304A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A7864-2565-45E4-B137-24186E9B3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2B60-C04C-4E81-B0CC-B5E25159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08294-16C7-449C-ABA2-7A99E33E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2683A-7A3A-4D59-9144-AF18C5A0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AB0D1-44BC-4D3D-B3C9-0BD1FCF9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914E-4BA9-4A33-85B4-A3CE6391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959-AD8E-497E-AFE4-75B2B37E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A6F8-412D-4EA7-821D-791D70CD6F6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ECA6-1A48-4768-80AC-C4B13D0991A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7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7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8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3231-F369-48BE-8753-BD67BC9ECF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27E9-C5A1-454E-9021-F26B4CF98310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7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7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7366-053E-4ECA-BBD9-9E8701EEBF8E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7DBFA-E81B-4989-85D1-231C45D532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B773-F0C4-4084-AC3F-9876AAE3CD8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9B0-8D2B-4F99-A97A-6FCC22E058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598E-A992-4149-AD57-CD2DF6C4ABD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D0AF-2344-4988-B49B-0BFB5A8EF8B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Прямоугольник 7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3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Блок-схема: процесс 8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Блок-схема: процесс 9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757B-C0B8-433B-A2A5-E093F1AB8407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062D-A049-4B2A-8DED-D4F44342039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londontrip.narod.ru/Library1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guitartime.ru/images/af/guitar_instr/acoustic_guitar_notes.gif" TargetMode="External"/><Relationship Id="rId4" Type="http://schemas.openxmlformats.org/officeDocument/2006/relationships/image" Target="../media/image13.gif"/><Relationship Id="rId5" Type="http://schemas.openxmlformats.org/officeDocument/2006/relationships/hyperlink" Target="http://england-london.narod.ru/icon/048.jpg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050.radikal.ru/0801/46/a1cb8f2041bd.jpg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lesha-01.narod.ru/files/notes.gif" TargetMode="External"/><Relationship Id="rId10" Type="http://schemas.openxmlformats.org/officeDocument/2006/relationships/image" Target="../media/image16.gif"/><Relationship Id="rId11" Type="http://schemas.openxmlformats.org/officeDocument/2006/relationships/hyperlink" Target="http://photodizayn.narod.ru/images/fig/f66.gif" TargetMode="External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cit.vvsu.ru/MIRROR/www.fizika.ru/theory/tema-16/16f-i6.gif" TargetMode="Externa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oksanavorobieva.ucoz.ru/_si/0/96640.gif" TargetMode="External"/><Relationship Id="rId2" Type="http://schemas.openxmlformats.org/officeDocument/2006/relationships/image" Target="../media/image19.gif"/><Relationship Id="rId3" Type="http://schemas.openxmlformats.org/officeDocument/2006/relationships/hyperlink" Target="http://www.nivagold.ru/raznoe/dogi6/chien68.gif" TargetMode="External"/><Relationship Id="rId4" Type="http://schemas.openxmlformats.org/officeDocument/2006/relationships/image" Target="../media/image20.gif"/><Relationship Id="rId5" Type="http://schemas.openxmlformats.org/officeDocument/2006/relationships/hyperlink" Target="http://son75196.narod.ru/an1/05.gif" TargetMode="External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iggif.ru/images/jivotnie/jivotnie009.gif" TargetMode="External"/><Relationship Id="rId2" Type="http://schemas.openxmlformats.org/officeDocument/2006/relationships/image" Target="../media/image22.gif"/><Relationship Id="rId3" Type="http://schemas.openxmlformats.org/officeDocument/2006/relationships/hyperlink" Target="http://s58.radikal.ru/i160/0907/66/672a7e6fd001.gif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artgif.ru/JIVOTNIE/animals079.gif" TargetMode="External"/><Relationship Id="rId2" Type="http://schemas.openxmlformats.org/officeDocument/2006/relationships/image" Target="../media/image24.gif"/><Relationship Id="rId3" Type="http://schemas.openxmlformats.org/officeDocument/2006/relationships/hyperlink" Target="http://img.liveinternet.ru/images/attach/4/10646/10646145_lyutiki.gif" TargetMode="External"/><Relationship Id="rId4" Type="http://schemas.openxmlformats.org/officeDocument/2006/relationships/image" Target="../media/image25.gif"/><Relationship Id="rId5" Type="http://schemas.openxmlformats.org/officeDocument/2006/relationships/hyperlink" Target="http://wap.wapuk.ru/download/anim/128x128/52.gif" TargetMode="External"/><Relationship Id="rId6" Type="http://schemas.openxmlformats.org/officeDocument/2006/relationships/image" Target="../media/image26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/211/2211718_1190220976_dozhdik.gif" TargetMode="External"/><Relationship Id="rId2" Type="http://schemas.openxmlformats.org/officeDocument/2006/relationships/image" Target="../media/image27.gif"/><Relationship Id="rId3" Type="http://schemas.openxmlformats.org/officeDocument/2006/relationships/hyperlink" Target="http://gorod.tomsk.ru/uploads/25037/1238639496/40n.jpg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img.rutube.ru/thumbs/f0/e2/f0e2eb3e0389418c35cd0a97bacafbea-1.jpg" TargetMode="External"/><Relationship Id="rId6" Type="http://schemas.openxmlformats.org/officeDocument/2006/relationships/image" Target="../media/image29.jpeg"/><Relationship Id="rId7" Type="http://schemas.openxmlformats.org/officeDocument/2006/relationships/hyperlink" Target="http://s49.radikal.ru/i124/0907/38/1246d8887cae.jpg" TargetMode="External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preview.unian.net/160/156/156865.jpg" TargetMode="External"/><Relationship Id="rId2" Type="http://schemas.openxmlformats.org/officeDocument/2006/relationships/image" Target="../media/image31.jpeg"/><Relationship Id="rId3" Type="http://schemas.openxmlformats.org/officeDocument/2006/relationships/hyperlink" Target="http://www.fmcenter.ru/images/pm/IMG_8781.jpg" TargetMode="External"/><Relationship Id="rId4" Type="http://schemas.openxmlformats.org/officeDocument/2006/relationships/image" Target="../media/image32.jpeg"/><Relationship Id="rId5" Type="http://schemas.openxmlformats.org/officeDocument/2006/relationships/hyperlink" Target="http://cs262.vkontakte.ru/u7189329/24835154/x_85fd2599.jpg" TargetMode="External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9.png"/><Relationship Id="rId3" Type="http://schemas.openxmlformats.org/officeDocument/2006/relationships/image" Target="../media/image40.gif"/><Relationship Id="rId4" Type="http://schemas.openxmlformats.org/officeDocument/2006/relationships/image" Target="../media/image41.gif"/><Relationship Id="rId5" Type="http://schemas.openxmlformats.org/officeDocument/2006/relationships/image" Target="../media/image42.gif"/><Relationship Id="rId6" Type="http://schemas.openxmlformats.org/officeDocument/2006/relationships/image" Target="../media/image4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rosv.informika.ru/metod/mansurov/Images/image080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allgoodfree.ucoz.ru/Pictures/Zvuki/veter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yellowchel.ucoz.ru/_nw/1/66080644.gif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img-fotki.yandex.ru/get/36/anatchurin.2/0_17cce_9b3c0937_XL" TargetMode="External"/><Relationship Id="rId6" Type="http://schemas.openxmlformats.org/officeDocument/2006/relationships/image" Target="../media/image9.jpeg"/><Relationship Id="rId7" Type="http://schemas.openxmlformats.org/officeDocument/2006/relationships/hyperlink" Target="http://art5.karelia.ru/photo/1/4/5565_mini.jpg" TargetMode="External"/><Relationship Id="rId8" Type="http://schemas.openxmlformats.org/officeDocument/2006/relationships/image" Target="../media/image10.jpeg"/><Relationship Id="rId9" Type="http://schemas.openxmlformats.org/officeDocument/2006/relationships/hyperlink" Target="http://content.foto.mail.ru/mail/azamova-nika/dog1/i-98.jpg" TargetMode="External"/><Relationship Id="rId10" Type="http://schemas.openxmlformats.org/officeDocument/2006/relationships/image" Target="../media/image11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Урок по теме: « Звуковые волны».</a:t>
            </a:r>
            <a:br>
              <a:rPr sz="3900"/>
            </a:b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43657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Пояснительная записка.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рок проводится в 8 – ом классе . Начинается урок с эпиграфа, который определяет тему урока. Эпиграф раскрывает с неожиданной стороны содержание учебного материала . Урок изучения нового материала проводится в форме физической сказки. Сказка  делает материал для учеников ближе и понятнее: ведь в детстве каждый из них любил сказки. Сказка используется как средство связать физику с жизнью, как возможность задать в интересной форме физические вопросы, как способ углубить межпредметную связь физика – литератур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При закреплении нового материала используется групповая работа учащихся. Рассматривается влияние звуковых волн на организм челове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2848680" y="6216480"/>
            <a:ext cx="40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Щетинина Татьяна Владими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У СОШ № 6 г. Мар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428480" y="1714680"/>
            <a:ext cx="749772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Царство звуков помогает нам выражать свои эмоции и чувства. Изобразите звуки: выиграла ваша любимая хоккейная команда, отменили любимый урок, вы долго были на морозе и зашли в тёплое помещени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Если внимательно прислушаться к царству звуковых волн, то можно услышать какие они разные: кричат, пищат, шепчут, басят, спокойно разговаривают. Одни звуки вызывают у нас раздражение, другие звуки успокаивают, третьи ласкают слух. Причиной такого разного поведения звуковых волн является тембр голоса, благодаря ему мы различаем голоса, отличаем музыкальные инструмен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1428840" y="1785600"/>
            <a:ext cx="721512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о в царстве звуковых волн бывает и ураган. Волны начинают шуметь. Шум – звуки разных частот, имеют разную продолжительность и интенсивность, в пространстве накладываются друг на друга. Например: школьная перемена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Побороть шум можно по - разному, но лучший способ – убрать источник шума. Шум воздействует на организм человека: раздражает,  утомляет, вызывает головную боль, действует на нервную систем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356840" y="1928520"/>
            <a:ext cx="7497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средние века существовала казнь «под колоколом». Гул колокольного звона мучил и медленно убивал человека. С шумом,  поэтому нужно бороться. В царстве можно услышать, о чём шепчутся волны – это эхо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Звуковое эхо – волна, отражённая от различных препятстви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8" descr="Картинка 17 из 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1643040" cy="16430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1428480" y="1571400"/>
            <a:ext cx="749772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Галерее шёпота в Соборе Св. Павла в Лондоне эхо такое, что, стоя у одной стены собора, вы можете услышать, о чём шепчутся люди у другой стены собора, находящейся от вас в 36м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звуков часто слышны звучание гитар, скрипок , балалае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ами по себе струны этих инструментов создают слабый звук, их укрепляют на деревянном ящике и звук получается громкий. Почему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9" name="Picture 8" descr="Картинка 91 из 84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001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0" descr="Картинка 20 из 2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1857240"/>
            <a:ext cx="1662120" cy="2500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2" descr="Картинка 1 из 25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4572000"/>
            <a:ext cx="1714680" cy="2286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6" descr="Картинка 117 из 4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715160" y="357120"/>
            <a:ext cx="1000080" cy="10954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Картинка 1 из 402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7720" y="5214960"/>
            <a:ext cx="1571400" cy="917640"/>
          </a:xfrm>
          <a:prstGeom prst="rect">
            <a:avLst/>
          </a:prstGeom>
          <a:ln w="0">
            <a:noFill/>
          </a:ln>
        </p:spPr>
      </p:pic>
      <p:sp>
        <p:nvSpPr>
          <p:cNvPr id="32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6" descr="Картинка 9 из 1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58040" y="2643120"/>
            <a:ext cx="1379520" cy="112896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357200" y="285480"/>
            <a:ext cx="7407360" cy="6357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орпуса инструментов (резонаторы) устроены так, что частота звуковой волны в корпусе равна частоте колебания струны. При этом звук усиливается, возникает звуковой резонанс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320e04"/>
                </a:solidFill>
                <a:latin typeface="Corbel"/>
              </a:rPr>
              <a:t>          </a:t>
            </a: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родолжаем путешествовать по царству звуков,  и замечаем,  что звуковые волны всё время работают.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но замечено, многие прибрежные животные и морские точно определяют приближение шторма. Зарождающийся шторм создаёт инфразвуки, их называют «голос моря», животные их хорошо слышат. При землетрясениях возникают колебания земной коры,  образуются инфразвуки, они сообщают об опасности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Прямоугольник 3"/>
          <p:cNvSpPr/>
          <p:nvPr/>
        </p:nvSpPr>
        <p:spPr>
          <a:xfrm>
            <a:off x="1428840" y="1714680"/>
            <a:ext cx="7286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2 камертона, ударить молоточком по одному камертону, второй начинает зв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обаки слышат ультразвуки, этим пользуется дрессировщик, чтобы подавать команды, неслышимые человеком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0" name="Picture 10" descr="Картинка 97 из 3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29240" y="4857840"/>
            <a:ext cx="2121120" cy="1566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2" descr="Картинка 107 из 33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71720" y="4838760"/>
            <a:ext cx="1928520" cy="20192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Картинка 535 из 103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00240" y="2143080"/>
            <a:ext cx="3403800" cy="3710160"/>
          </a:xfrm>
          <a:prstGeom prst="rect">
            <a:avLst/>
          </a:prstGeom>
          <a:ln w="0">
            <a:noFill/>
          </a:ln>
        </p:spPr>
      </p:pic>
      <p:sp>
        <p:nvSpPr>
          <p:cNvPr id="33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0" descr="Картинка 1 из 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6200" y="3595680"/>
            <a:ext cx="4357800" cy="3262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Картинка 9 из 71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643120" cy="244008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1434960" y="1447920"/>
            <a:ext cx="749952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Летучие мыши испускают  ультразвук и хорошо ориентируются в пространстве ночью, улавливая отразившуюся от препятствия волну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ельфины тоже испускают и принимают ультразвук. Дельфины могут лечить. Ультразвуки, которые они издают, как бы просвечивают организм человека, если внутри есть очаг воспаления, то ультразвук воздействует на нег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Ультразвук, обрабатывая растворы, уничтожает в них микробы (они погибают от вибрации), так можно дезинфицировать воду без хлор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434960" y="1447560"/>
            <a:ext cx="749952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влияют на рост и развитие растений, оказывают влияние на животных (увеличивают надои молока у коров)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9" name="Picture 4" descr="Картинка 21 из 5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57760" y="2643120"/>
            <a:ext cx="3946320" cy="37148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http://img.liveinternet.ru/images/attach/4/10646/10646145_lyutiki.gif">
            <a:hlinkClick r:id="rId3"/>
          </p:cNvPr>
          <p:cNvPicPr/>
          <p:nvPr/>
        </p:nvPicPr>
        <p:blipFill>
          <a:blip r:embed="rId4"/>
          <a:stretch/>
        </p:blipFill>
        <p:spPr>
          <a:xfrm flipH="1">
            <a:off x="7643880" y="5286240"/>
            <a:ext cx="952560" cy="1019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0" descr="Картинка 56 из 165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00080" y="4071960"/>
            <a:ext cx="2214720" cy="2214720"/>
          </a:xfrm>
          <a:prstGeom prst="rect">
            <a:avLst/>
          </a:prstGeom>
          <a:ln w="0">
            <a:noFill/>
          </a:ln>
        </p:spPr>
      </p:pic>
      <p:sp>
        <p:nvSpPr>
          <p:cNvPr id="34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Картинка 3 из 4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571760"/>
            <a:ext cx="2092320" cy="14284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1434960" y="1447920"/>
            <a:ext cx="749952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и природного происхождения: морской прибой, дождь, шелест листвы, журчание ручья – благоприятно влияют на организм, расслабляют, успокаиваю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5" name="Picture 2" descr="Картинка 37 из 66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0"/>
            <a:ext cx="2138400" cy="1428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Картинка 100 из 1172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307188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2" descr="Картинка 14 из 153717">
            <a:hlinkClick r:id="rId7"/>
          </p:cNvPr>
          <p:cNvPicPr/>
          <p:nvPr/>
        </p:nvPicPr>
        <p:blipFill>
          <a:blip r:embed="rId8"/>
          <a:srcRect l="0" t="23947" r="0" b="0"/>
          <a:stretch/>
        </p:blipFill>
        <p:spPr>
          <a:xfrm>
            <a:off x="0" y="4757760"/>
            <a:ext cx="2071800" cy="2100240"/>
          </a:xfrm>
          <a:prstGeom prst="rect">
            <a:avLst/>
          </a:prstGeom>
          <a:ln w="0">
            <a:noFill/>
          </a:ln>
        </p:spPr>
      </p:pic>
      <p:sp>
        <p:nvSpPr>
          <p:cNvPr id="34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8" descr="Картинка 477 из 57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43120"/>
            <a:ext cx="2341440" cy="17859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Картинка 165 из 5448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-85680"/>
            <a:ext cx="2357280" cy="25858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1434960" y="1447560"/>
            <a:ext cx="749952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 помощью ультразвука обследуют больных, ставят диагноз, разрушают камни в почк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Фонендоскоп позволяет услышать звуки сердца, хрипы в лёгк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Picture 2" descr="Картинка 96 из 663">
            <a:hlinkClick r:id="rId5"/>
          </p:cNvPr>
          <p:cNvPicPr/>
          <p:nvPr/>
        </p:nvPicPr>
        <p:blipFill>
          <a:blip r:embed="rId6"/>
          <a:srcRect l="0" t="0" r="34688" b="0"/>
          <a:stretch/>
        </p:blipFill>
        <p:spPr>
          <a:xfrm>
            <a:off x="7072200" y="3048120"/>
            <a:ext cx="2071800" cy="38098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Картинка 108 из 663"/>
          <p:cNvPicPr/>
          <p:nvPr/>
        </p:nvPicPr>
        <p:blipFill>
          <a:blip r:embed="rId7"/>
          <a:stretch/>
        </p:blipFill>
        <p:spPr>
          <a:xfrm>
            <a:off x="1428840" y="4929120"/>
            <a:ext cx="2786040" cy="1592280"/>
          </a:xfrm>
          <a:prstGeom prst="rect">
            <a:avLst/>
          </a:prstGeom>
          <a:ln w="0">
            <a:noFill/>
          </a:ln>
        </p:spPr>
      </p:pic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28840" y="785520"/>
            <a:ext cx="7407360" cy="53578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Цели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формировать понятие о звуковой волне, шуме, эхе, звуковом резонансе; раскрыть физическую суть звуковых явлений; уметь объяснять наблюдаемые явления на основе законов физик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20e04"/>
                </a:solidFill>
                <a:latin typeface="Corbel"/>
              </a:rPr>
              <a:t>Оборудование урока: </a:t>
            </a:r>
            <a:endParaRPr b="0" lang="en-US" sz="29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омпьютер,  мультимедийный проектор, слайд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Оборудование для демонстраций: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камертон, музыкальные инструменты, насос Комовского, электрический звонок, колокол, магнитофон, мини – тесты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20e04"/>
                </a:solidFill>
                <a:latin typeface="Corbel"/>
              </a:rPr>
              <a:t>Ход урока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Организация класс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.Изучение нового материал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434960" y="1447920"/>
            <a:ext cx="7499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вуковые волны используют в дефектоскопии, акустоэлектронике, работы звуковым волнам хватает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6" name="Picture 2" descr="Картинка 9 из 1816"/>
          <p:cNvPicPr/>
          <p:nvPr/>
        </p:nvPicPr>
        <p:blipFill>
          <a:blip r:embed="rId1"/>
          <a:stretch/>
        </p:blipFill>
        <p:spPr>
          <a:xfrm>
            <a:off x="1785960" y="2714760"/>
            <a:ext cx="3171960" cy="238104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4" descr="Картинка 38 из 1816"/>
          <p:cNvPicPr/>
          <p:nvPr/>
        </p:nvPicPr>
        <p:blipFill>
          <a:blip r:embed="rId2"/>
          <a:stretch/>
        </p:blipFill>
        <p:spPr>
          <a:xfrm>
            <a:off x="5286240" y="2786040"/>
            <a:ext cx="3051360" cy="2286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42720" y="1071720"/>
            <a:ext cx="5643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Закрепление изученного материал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428480" y="2428920"/>
            <a:ext cx="7497720" cy="21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от и подошла к концу наша сказка. Сказка ложь, да в ней намёк добрым молодцам урок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Сказка дала намёк для ответов на вопросы. Разделимся на 2 группы. Отвечать будем по очереди, но право на ответ имеет тот участник, который быстрее всех знает ответ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1428840" y="285840"/>
            <a:ext cx="7407360" cy="7142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опросы для групп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                                               </a:t>
            </a:r>
            <a:r>
              <a:rPr b="0" lang="en-US" sz="2200" spc="-1" strike="noStrike">
                <a:solidFill>
                  <a:srgbClr val="320e04"/>
                </a:solidFill>
                <a:latin typeface="Gill Sans MT"/>
              </a:rPr>
              <a:t>II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групп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1285920" y="1000080"/>
          <a:ext cx="7500960" cy="5643720"/>
        </p:xfrm>
        <a:graphic>
          <a:graphicData uri="http://schemas.openxmlformats.org/drawingml/2006/table">
            <a:tbl>
              <a:tblPr/>
              <a:tblGrid>
                <a:gridCol w="3749760"/>
                <a:gridCol w="3751200"/>
              </a:tblGrid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Никто его не видыва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 слышать – всякий слыхивал, Без тела, а живёт он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 языка – кричи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о каком явлении идёт речь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длинялись причудливо тени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казалось, внимая словам, Неотступно гудели ступен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пустой резонировал 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пустое помещение резониру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Что вы знаете об ультразвуковой локации в мире живой природы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 . Приведите примеры использования инфразвука в мире живой природ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64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Лев остановился и, опустившись на колени, припал ухом к земле. Рёв повторился. Вопрос: почему лев припал ухом к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 В тихий безветренный день на одно единственное слово эхо отвечало целых пятнадцать мину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286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опрос: почему безветренный день наиболее удобен для наблюдения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вук – это волна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ичём кака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 бежит она везде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какой среде бежит звуковая вол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огут ли космонавты разговаривать в открытом космос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 .   Почему в пустыне нет эх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360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чему не издаёт звук колеблющаяся линейк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marL="4572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Доставляет ли комфорт человеку абсолютная тишина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45360" rIns="453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акой прибор был изобретён для настройки музыкальных инструментов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При полёте большинство насекомых издают звук. Чем это вызывае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431720" y="1849320"/>
            <a:ext cx="7407000" cy="8654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Итак, работа в группах показала, что вы творческие люди. Вы не просто отвечали на вопросы, а пытались дойти до самой сути. Молодцы!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66" name="Picture 4" descr=" "/>
          <p:cNvPicPr/>
          <p:nvPr/>
        </p:nvPicPr>
        <p:blipFill>
          <a:blip r:embed="rId1"/>
          <a:stretch/>
        </p:blipFill>
        <p:spPr>
          <a:xfrm>
            <a:off x="6715080" y="4500720"/>
            <a:ext cx="1809720" cy="1809720"/>
          </a:xfrm>
          <a:prstGeom prst="rect">
            <a:avLst/>
          </a:prstGeom>
          <a:ln w="0">
            <a:noFill/>
          </a:ln>
        </p:spPr>
      </p:pic>
      <p:sp>
        <p:nvSpPr>
          <p:cNvPr id="367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143080" y="1285920"/>
            <a:ext cx="585792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I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Самостоятельная работ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1428840" y="2786040"/>
            <a:ext cx="7407360" cy="6429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Давайте,  теперь применим свои знания в работе с тестами. Они перед вами на парт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1434960" y="285840"/>
            <a:ext cx="749952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rbel"/>
              </a:rPr>
              <a:t>Тест.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1. Какой диапазон частот имеют звуковые волны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16 – 20Гц                        б) 20 – 30кГц                       в)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2. Что является источником звук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любое тело     б) любое колеблющиеся тело  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любое колеблющиеся тело с частотой 16Гц – 20кГц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3. 2 космонавта находятся в космическом пространстве. Услышат ли они друг друга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услышат, так как голосовые связки издают звук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не услышат, так как звуковые волны могут распространяться только в упругой среде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4. Почему комар пищит, а шмель жужжит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я крыльев комара большая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шмеля меньш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одинаковая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5. Почему бабочки летают беззвучн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крылья покрыты звукопоглощающим веществом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крыльев меньше частоты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6. Когда возникает акустический резонанс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частота колебаний тела равна частоте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частота колебаний тела меньше частоты колебаний звуковой волны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частота колебаний тела больше частоты колебаний звуковой волны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7. Когда возникает эхо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 звуковые волны поглощаются телами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б) звуковые волны проходят сквозь тела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в) звуковые волны отражаются от тел, находящихся на их пути.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8. Какие волны применяют в дефектоскопии?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Corbel"/>
              </a:rPr>
              <a:t>а)поперечные        б)световые            в) звуковые</a:t>
            </a: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14" descr="Картинка 138 из 1568"/>
          <p:cNvPicPr/>
          <p:nvPr/>
        </p:nvPicPr>
        <p:blipFill>
          <a:blip r:embed="rId1"/>
          <a:stretch/>
        </p:blipFill>
        <p:spPr>
          <a:xfrm>
            <a:off x="1143000" y="2143080"/>
            <a:ext cx="1725480" cy="1500120"/>
          </a:xfrm>
          <a:prstGeom prst="rect">
            <a:avLst/>
          </a:prstGeom>
          <a:ln w="0">
            <a:noFill/>
          </a:ln>
        </p:spPr>
      </p:pic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571560" y="285840"/>
            <a:ext cx="313668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Итог урок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28480" y="999720"/>
            <a:ext cx="7497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 заключении нашего урока свяжем звуковые волны с процессами, протекающими в нашем организме. На низких частотах от 3Гц до 12Гц работают сердце, лёгкие, циркулирует кровь, движутся суставы. При заболевании организма у звуков внутри его изменяются громкость, тембр, высота тона, длительность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Если сердце работает нормально, то слышны звуки  2 тонов: низкий и высокий, при сердечных заболеваниях, при сбоях в работе сердца звук меняется, прослушиваются шумы, возникает аритмия. Сердце надо лечить. Из -  за чего могут появиться сбои в работе организма? Причины могут быть разные: расстройство, обиды, нервничает человек. Проблемы экологические, медицинские, нравственные связаны друг с другом, чтобы излечить одну,  не надо отвергать другие. Давайте же стараться быть безопасными друг для друга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сё в мире взаимосвязано, чтобы понять эту взаимосвязь, надо дойти до основания, до корней, такова диалектик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Выставление оценок за урок с учётом всех видов деятельности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ы очень плодотворно работали с вами на уроке, спасибо за урок!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2653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6" name="Picture 2" descr="Картинка 20 из 4965"/>
          <p:cNvPicPr/>
          <p:nvPr/>
        </p:nvPicPr>
        <p:blipFill>
          <a:blip r:embed="rId2"/>
          <a:stretch/>
        </p:blipFill>
        <p:spPr>
          <a:xfrm>
            <a:off x="7500960" y="0"/>
            <a:ext cx="1643040" cy="10825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Картинка 43 из 56"/>
          <p:cNvPicPr/>
          <p:nvPr/>
        </p:nvPicPr>
        <p:blipFill>
          <a:blip r:embed="rId3"/>
          <a:stretch/>
        </p:blipFill>
        <p:spPr>
          <a:xfrm>
            <a:off x="0" y="0"/>
            <a:ext cx="1789200" cy="1000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6" descr="Картинка 72 из 1568"/>
          <p:cNvPicPr/>
          <p:nvPr/>
        </p:nvPicPr>
        <p:blipFill>
          <a:blip r:embed="rId4"/>
          <a:stretch/>
        </p:blipFill>
        <p:spPr>
          <a:xfrm>
            <a:off x="142920" y="1071720"/>
            <a:ext cx="1743120" cy="1004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Картинка 114 из 1568"/>
          <p:cNvPicPr/>
          <p:nvPr/>
        </p:nvPicPr>
        <p:blipFill>
          <a:blip r:embed="rId5"/>
          <a:stretch/>
        </p:blipFill>
        <p:spPr>
          <a:xfrm>
            <a:off x="285840" y="2214720"/>
            <a:ext cx="834840" cy="15001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Картинка 313 из 1568"/>
          <p:cNvPicPr/>
          <p:nvPr/>
        </p:nvPicPr>
        <p:blipFill>
          <a:blip r:embed="rId6"/>
          <a:stretch/>
        </p:blipFill>
        <p:spPr>
          <a:xfrm>
            <a:off x="357120" y="5443560"/>
            <a:ext cx="1428840" cy="12002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714400" y="1071720"/>
            <a:ext cx="47797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. Домашнее задание: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428480" y="2643120"/>
            <a:ext cx="749772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Домашнее задание: написать сочинение на тему «Звуковые волны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рок оконче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43080" y="357120"/>
            <a:ext cx="37800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2314"/>
                </a:solidFill>
                <a:latin typeface="Gill Sans MT"/>
              </a:rPr>
              <a:t>VII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Литература.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34960" y="1285920"/>
            <a:ext cx="74995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1.       Уроки физики в современной школе.  В. Г. Разумовский;    Москва «Просвещение» 199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2.       Физика 8 – 9 классы. В. А. Попов;  Волгоград  200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3.       Как подготовить и провести открытый урок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Поташник, М. В. Левит;  Педагогическое общество России  Москва  2003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4.       Уроки физики в 10 классе.  С. Л. Вольштейн, А. М. Качинский,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. М. Круглей, М. С. Кузей;  Минск «Народная  Асвета» 1980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5.       Физические викторины.   Б. Ф. Билимович;   Москва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«Просвещение» 1977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6.       Мир физики в художественной литературе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С. А. Тихомирова; Москва 1988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7.        Игровые ситуации на уроках физики.  И.Я.Ланина;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Ленинград 198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8.       Уроки физики 7 – 11 классы.  Серия «Современная школа»; 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3192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rbel"/>
              </a:rPr>
              <a:t>Москва  Издательство «Глобус» 2009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356760"/>
            <a:ext cx="735804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пиграф нашего урока: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   «Во всём мне хочется дойти </a:t>
            </a:r>
            <a:br>
              <a:rPr sz="3200"/>
            </a:b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                      до самой сути…»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428840" y="2357280"/>
            <a:ext cx="7407360" cy="41436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Эпиграф нашего урока: «Во всём мне хочется дойти до самой сути…»- строки из стихотворения Бориса Пастернака, казалось бы, как эти строки связаны с темой нашего урока? Но смысл этих строк и определяет цель уро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пределить суть,  узнать истину – это издавна привлекало человека, но эта черта характерна для человека творческого. Давайте попробуем применить свои творческие способности, а они есть у каждого из вас я уверен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Я расскажу вам сказку. В некотором царстве, в некотором государстве живут волны световые, механические. Одной из разновидностей механических волн  являются звуковые или акустические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1356840" y="499680"/>
            <a:ext cx="7410600" cy="6072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Что представляют собой волны?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ение колебаний в пространстве с течением времен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ми являются звуковые волны - продольные или поперечны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продольны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Почему вы так думает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распространяются в воздухе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Какие волны называют продольными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колебания происходят вдоль направления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Звуковые волны образуются так: в проходящей струе неравномерно нагретого воздуха образуются чередующиеся участки сжатия и растяжения; в результате, возникают продольные колебания частиц воздух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 каких ещё средах могут распространяться звуковые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Ответ: в газах, жидкостях, твёрдых тела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1285920" y="500040"/>
            <a:ext cx="7572240" cy="58579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А могут ли распространяться  звуковые волны в вакууме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Вы затрудняетесь ответить на этот вопрос, давайте обратимся к опыту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        </a:t>
            </a:r>
            <a:r>
              <a:rPr b="0" lang="ru-RU" sz="2200" spc="-1" strike="noStrike">
                <a:solidFill>
                  <a:srgbClr val="320e04"/>
                </a:solidFill>
                <a:latin typeface="Corbel"/>
              </a:rPr>
              <a:t>Уследить за волнами сложно. Скорость распространения звуковой волны  зависит от взаимодействия частиц среды: чем сильнее взаимодействие, тем больше скорость волн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27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Rectangle 1"/>
          <p:cNvSpPr/>
          <p:nvPr/>
        </p:nvSpPr>
        <p:spPr>
          <a:xfrm>
            <a:off x="1500120" y="1941120"/>
            <a:ext cx="728676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Демонстрац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д колокол поместить электрический звонок, откачивая воздух из – под колокола, звук становится всё ти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Выво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Звуковые волны распространяются только в упругих средах, в вакууме они не распространяю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2" descr="Картинка 18 из 7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4960" y="1276200"/>
            <a:ext cx="3362400" cy="1243080"/>
          </a:xfrm>
          <a:prstGeom prst="rect">
            <a:avLst/>
          </a:prstGeom>
          <a:ln w="0">
            <a:noFill/>
          </a:ln>
        </p:spPr>
      </p:pic>
      <p:sp>
        <p:nvSpPr>
          <p:cNvPr id="29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214280" y="1285560"/>
            <a:ext cx="75693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Что же является источником волны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любое колеблющееся тело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зовите источники звуковых волн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твет: музыкальные инструменты, писк комара, шелест листьев, дрожание стёкол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Голосовые связки вместе с проходящим воздухом позволяют нам общаться. Мы слышим звуки благодаря органам слуха. Главная часть слухового аппарата человека – барабанная перепонка, способная колебаться под действием звуковых волн. Эти колебания по слуховому нерву передаются в мозг и там обрабатываютс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амертон – прибор, создающий звук одной частоты, получается чистый тон. Ветви камертона создают слабый звук, для усиления звука камертон укрепляют на деревянном ящике, с большей площадью поверхностью, - усилителе, резонаторе.    У музыкальных  инструментах резонаторами являются дек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0" name="Picture 2" descr="http://cit.vvsu.ru/MIRROR/www.fizika.ru/theory/tema-16/16f-i4.gif"/>
          <p:cNvPicPr/>
          <p:nvPr/>
        </p:nvPicPr>
        <p:blipFill>
          <a:blip r:embed="rId1"/>
          <a:stretch/>
        </p:blipFill>
        <p:spPr>
          <a:xfrm>
            <a:off x="6786720" y="4929120"/>
            <a:ext cx="1618920" cy="16430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428480" y="785880"/>
            <a:ext cx="7497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 слышите звучание музыкальных инструментов. Отгадайте их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царстве механических волн звуковыми  считаются волны, которые вызывают слуховые ощущения, а это волны,  диапазон которых находиться в интервале от 16Гц  до 20000Гц. У пожилых людей  этот интервал меньше, так как с возрастом утрачивается способность слышать звуки большой частоты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 нашем царстве звуковые волны очень гордые, так    как с помощью этих волн человек, животные, птицы, насекомые получают информацию об окружающем мире. Информация поступает не только с помощью звуковых волн, но и ультразвуковых волн. Информация поступает не только через речь, но и с помощью звуковых сигналов: свисток, гудок, различные сирены, колокольный звон, звучание будильника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3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1428480" y="1285560"/>
            <a:ext cx="74977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Демонстрация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вуковые сигналы. Угадайте и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Царство звуков окружают нас в повседневной жизни. Приведите приме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твет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Завывание ветра, крики, звуки работающего транспорта, шум текущей воды, скрип снег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5" name="Picture 2" descr="Картинка 1 из 6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2286000" cy="1557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Картинка 1 из 6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214800"/>
            <a:ext cx="2274840" cy="1785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6" descr="Картинка 6 из 19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0" y="5160960"/>
            <a:ext cx="2260440" cy="16970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8" descr="http://art5.karelia.ru/photo/1/4/5565_mini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0" y="1571760"/>
            <a:ext cx="1571760" cy="15714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0" descr="Картинка 136 из 733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500200" y="5195880"/>
            <a:ext cx="2214720" cy="166212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13:50:52Z</dcterms:created>
  <dc:creator>Вольный</dc:creator>
  <dc:description/>
  <dc:language>en-US</dc:language>
  <cp:lastModifiedBy>LEGION</cp:lastModifiedBy>
  <dcterms:modified xsi:type="dcterms:W3CDTF">2015-03-30T08:46:46Z</dcterms:modified>
  <cp:revision>74</cp:revision>
  <dc:subject/>
  <dc:title>Урок по теме: « Звуковые волны». </dc:title>
</cp:coreProperties>
</file>