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0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17.png" ContentType="image/png"/>
  <Override PartName="/ppt/media/image24.gif" ContentType="image/gif"/>
  <Override PartName="/ppt/media/image32.jpeg" ContentType="image/jpeg"/>
  <Override PartName="/ppt/media/image16.gif" ContentType="image/gif"/>
  <Override PartName="/ppt/media/image15.jpeg" ContentType="image/jpeg"/>
  <Override PartName="/ppt/media/image27.gif" ContentType="image/gif"/>
  <Override PartName="/ppt/media/image28.jpeg" ContentType="image/jpeg"/>
  <Override PartName="/ppt/media/image1.jpeg" ContentType="image/jpeg"/>
  <Override PartName="/ppt/media/image35.jpeg" ContentType="image/jpeg"/>
  <Override PartName="/ppt/media/image8.png" ContentType="image/png"/>
  <Override PartName="/ppt/media/image11.jpeg" ContentType="image/jpeg"/>
  <Override PartName="/ppt/media/image36.jpeg" ContentType="image/jpeg"/>
  <Override PartName="/ppt/media/image9.jpeg" ContentType="image/jpeg"/>
  <Override PartName="/ppt/media/image13.gif" ContentType="image/gif"/>
  <Override PartName="/ppt/media/image33.jpeg" ContentType="image/jpeg"/>
  <Override PartName="/ppt/media/image42.gif" ContentType="image/gif"/>
  <Override PartName="/ppt/media/image34.jpeg" ContentType="image/jpeg"/>
  <Override PartName="/ppt/media/image7.jpeg" ContentType="image/jpeg"/>
  <Override PartName="/ppt/media/image31.jpeg" ContentType="image/jpeg"/>
  <Override PartName="/ppt/media/image2.png" ContentType="image/png"/>
  <Override PartName="/ppt/media/image22.gif" ContentType="image/gif"/>
  <Override PartName="/ppt/media/image38.gif" ContentType="image/gif"/>
  <Override PartName="/ppt/media/image43.png" ContentType="image/png"/>
  <Override PartName="/ppt/media/image39.png" ContentType="image/png"/>
  <Override PartName="/ppt/media/image30.jpeg" ContentType="image/jpeg"/>
  <Override PartName="/ppt/media/image6.png" ContentType="image/png"/>
  <Override PartName="/ppt/media/image26.gif" ContentType="image/gif"/>
  <Override PartName="/ppt/media/image18.png" ContentType="image/png"/>
  <Override PartName="/ppt/media/image25.gif" ContentType="image/gif"/>
  <Override PartName="/ppt/media/image29.jpeg" ContentType="image/jpeg"/>
  <Override PartName="/ppt/media/image37.gif" ContentType="image/gif"/>
  <Override PartName="/ppt/media/image5.jpeg" ContentType="image/jpeg"/>
  <Override PartName="/ppt/media/image41.gif" ContentType="image/gif"/>
  <Override PartName="/ppt/media/image12.jpeg" ContentType="image/jpeg"/>
  <Override PartName="/ppt/media/image4.png" ContentType="image/png"/>
  <Override PartName="/ppt/media/image40.gif" ContentType="image/gif"/>
  <Override PartName="/ppt/media/image3.png" ContentType="image/png"/>
  <Override PartName="/ppt/media/image23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169F-4105-47FA-A4F3-7B3456F57B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по теме: « Звуковые волны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оводится в 8 – ом классе . Начинается урок с эпиграфа, который определяет тему урока. Эпиграф раскрывает с неожиданной стороны содержание учебного материала . Урок изучения нового материала проводится в форме физической сказки. Сказка  делает материал для учеников ближе и понятнее: ведь в детстве каждый из них любил сказки. Сказка используется как средство связать физику с жизнью, как возможность задать в интересной форме физические вопросы, как способ углубить межпредметную связь физика – 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креплении нового материала используется групповая работа учащихся. Рассматривается влияние звуковых волн на организ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7002-097E-4649-A2A7-F5C14A6707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звуков помогает нам выражать свои эмоции и чувства. Изобразите звуки: выиграла ваша любимая хоккейная команда, отменили любимый урок, вы долго были на морозе и зашли в тёплое по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нимательно прислушаться к царству звуковых волн, то можно услышать какие они разные: кричат, пищат, шепчут, басят, спокойно разговаривают. Одни звуки вызывают у нас раздражение, другие звуки успокаивают, третьи ласкают слух. Причиной такого разного поведения звуковых волн является тембр голоса, благодаря ему мы различаем голоса, отличаем музыкальные инстр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486B-2F01-49F0-9741-E157BD9AA2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царстве звуковых волн бывает и ураган. Волны начинают шуметь. Шум – звуки разных частот, имеют разную продолжительность и интенсивность, в пространстве накладываются друг на друга. Например: школьная пере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ороть шум можно по - разному, но лучший способ – убрать источник шума. Шум воздействует на организм человека: раздражает,  утомляет, вызывает головную боль, действует на нервную сист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F820-DEE4-4D54-A748-B10CC622B2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редние века существовала казнь «под колоколом». Гул колокольного звона мучил и медленно убивал человека. С шумом,  поэтому нужно бороться. В царстве можно услышать, о чём шепчутся волны – это эх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вуковое эхо – волна, отражённая от различных препятст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43B2-0BC2-438A-AF22-E68C4B5CCF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алерее шёпота в Соборе Св. Павла в Лондоне эхо такое, что, стоя у одной стены собора, вы можете услышать, о чём шепчутся люди у другой стены собора, находящейся от вас в 36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арстве звуков часто слышны звучание гитар, скрипок , балала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 по себе струны этих инструментов создают слабый звук, их укрепляют на деревянном ящике и звук получается громкий.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6CEB-B874-4230-ABE8-34DD0E8522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а инструментов (резонаторы) устроены так, что частота звуковой волны в корпусе равна частоте колебания струны. При этом звук усиливается, возникает звуковой резон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ем путешествовать по царству звуков,  и замечаем,  что звуковые волны всё время работают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но замечено, многие прибрежные животные и морские точно определяют приближение шторма. Зарождающийся шторм создаёт инфразвуки, их называют «голос моря», животные их хорошо слышат. При землетрясениях возникают колебания земной коры,  образуются инфразвуки, они сообщают об опас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0A4E-256A-417F-B105-CC49EFA2B3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аки слышат ультразвуки, этим пользуется дрессировщик, чтобы подавать команды, неслышимые челове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6C74-C399-4285-ACCF-3544CF9BFD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учие мыши испускают  ультразвук и хорошо ориентируются в пространстве ночью, улавливая отразившуюся от препятствия вол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ьфины тоже испускают и принимают ультразвук. Дельфины могут лечить. Ультразвуки, которые они издают, как бы просвечивают организм человека, если внутри есть очаг воспаления, то ультразвук воздействует на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ьтразвук, обрабатывая растворы, уничтожает в них микробы (они погибают от вибрации), так можно дезинфицировать воду без хл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2FB4-B847-4717-93A5-6157A1FFB0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и влияют на рост и развитие растений, оказывают влияние на животных (увеличивают надои молока у кор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813B-10B2-47BD-B38A-4D96E2F53E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и природного происхождения: морской прибой, дождь, шелест листвы, журчание ручья – благоприятно влияют на организм, расслабляют, успока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C1B7-C603-4BA6-8C20-160570F4B5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ю ультразвука обследуют больных, ставят диагноз, разрушают камни в п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ендоскоп позволяет услышать звуки сердца, хрипы в лёг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9435-7A02-4409-983C-66F0DCA085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понятие о звуковой волне, шуме, эхе, звуковом резонансе; раскрыть физическую суть звуковых явлений; уметь объяснять наблюдаемые явления на основе законов физ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орудование урок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,  мультимедийный проектор, слай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орудование для демонстраци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тон, музыкальные инструменты, насос Комовского, электрический звонок, колокол, магнитофон, мини – тес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д ур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Организация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Изучение нового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A560-FC7D-4EF2-AA07-FCF70A7C80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волны используют в дефектоскопии, акустоэлектронике, работы звуковым волнам хва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B1D1-31E2-4E66-AEFC-1D1FFCCC05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III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Закрепление изученного материа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и подошла к концу наша сказка. Сказка ложь, да в ней намёк добрым молодцам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зка дала намёк для ответов на вопросы. Разделимся на 2 группы. Отвечать будем по очереди, но право на ответ имеет тот участник, который быстрее всех знает от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EAD7-ED19-4E4D-8E47-E618C2CA15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груп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уппа.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уп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6759-8391-42A1-8E45-E58814CC7F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работа в группах показала, что вы творческие люди. Вы не просто отвечали на вопросы, а пытались дойти до самой сути.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374C-9742-4C55-BF1B-29CC80A2A7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488b"/>
                </a:solidFill>
                <a:latin typeface="Calibri"/>
              </a:rPr>
              <a:t>IV</a:t>
            </a:r>
            <a:r>
              <a:rPr b="0" lang="ru-RU" sz="1600" spc="-1" strike="noStrike">
                <a:solidFill>
                  <a:srgbClr val="11488b"/>
                </a:solidFill>
                <a:latin typeface="Calibri"/>
              </a:rPr>
              <a:t>.Самостоятельная рабо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,  теперь применим свои знания в работе с тестами. Они перед вами на пар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2A21-FBB2-4E58-9F19-D6EB263AA7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с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. Какой диапазон частот имеют звуковые волны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16 – 20Гц                        б) 20 – 30кГц                       в) 16Гц – 20кГ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. Что является источником звука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любое тело     б) любое колеблющиеся тело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любое колеблющиеся тело с частотой 16Гц – 20кГ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. 2 космонавта находятся в космическом пространстве. Услышат ли они друг друга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услышат, так как голосовые связки издают зву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не услышат, так как звуковые волны могут распространяться только в упругой сред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4. Почему комар пищит, а шмель жужжит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частота колебания крыльев комара больша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крыльев шмеля меньш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частота колебаний одинакова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5. Почему бабочки летают беззвучно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крылья покрыты звукопоглощающим вещество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крыльев меньше частоты звуковой вол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6. Когда возникает акустический резонанс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частота колебаний тела равна частоте колебаний звуковой волн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тела меньше частоты колебаний звуковой волн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частота колебаний тела больше частоты колебаний звуковой вол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7. Когда возникает эхо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звуковые волны поглощаются телам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звуковые волны проходят сквозь тел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звуковые волны отражаются от тел, находящихся на их пут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8. Какие волны применяют в дефектоскопии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поперечные        б)световые            в) звуковы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168B-12DB-43CD-8329-183B953FC3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 Итог ур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лючении нашего урока свяжем звуковые волны с процессами, протекающими в нашем организме. На низких частотах от 3Гц до 12Гц работают сердце, лёгкие, циркулирует кровь, движутся суставы. При заболевании организма у звуков внутри его изменяются громкость, тембр, высота тона, дли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ердце работает нормально, то слышны звуки  2 тонов: низкий и высокий, при сердечных заболеваниях, при сбоях в работе сердца звук меняется, прослушиваются шумы, возникает аритмия. Сердце надо лечить. Из -  за чего могут появиться сбои в работе организма? Причины могут быть разные: расстройство, обиды, нервничает человек. Проблемы экологические, медицинские, нравственные связаны друг с другом, чтобы излечить одну,  не надо отвергать другие. Давайте же стараться быть безопасными друг для друг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 в мире взаимосвязано, чтобы понять эту взаимосвязь, надо дойти до основания, до корней, такова диалек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ление оценок за урок с учётом все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очень плодотворно работали с вами на уроке, спасибо за ур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4C95-A04C-4CFC-A0BE-00EC4FCB9A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I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 Домашнее зад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написать сочинение на тему «Звуковые волн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к оконч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C52C-CC2B-4FDD-9AED-B56E9394F2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II.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Литерату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 Уроки физики в современной школе.  В. Г. Разумовский;    Москва «Просвещение»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 Физика 8 – 9 классы. В. А. Попов;  Волгоград 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 Как подготовить и провести открытый у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М. Поташник, М. В. Левит;  Педагогическое общество России  Москва  20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 Уроки физики в 10 классе.  С. Л. Вольштейн, А. М. Качинский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М. Круглей, М. С. Кузей;  Минск «Народная  Асвета» 19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 Физические викторины.   Б. Ф. Билимович;  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свещение» 197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 Мир физики в художественной литератур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А. Тихомирова; Москва 198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       Игровые ситуации на уроках физики.  И.Я.Ланин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нинград 19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      Уроки физики 7 – 11 классы.  Серия «Современная школа»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 Издательство «Глобус» 200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DBB5-D86C-4574-B01E-540B161103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Эпиграф нашего урока: </a:t>
            </a:r>
            <a:br>
              <a:rPr sz="1400"/>
            </a:b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                         «Во всём мне хочется дойти </a:t>
            </a:r>
            <a:br>
              <a:rPr sz="1400"/>
            </a:b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                      до самой сути…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нашего урока: «Во всём мне хочется дойти до самой сути…»- строки из стихотворения Бориса Пастернака, казалось бы, как эти строки связаны с темой нашего урока? Но смысл этих строк и определяет цель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суть,  узнать истину – это издавна привлекало человека, но эта черта характерна для человека творческого. Давайте попробуем применить свои творческие способности, а они есть у каждого из вас я увер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расскажу вам сказку. В некотором царстве, в некотором государстве живут волны световые, механические. Одной из разновидностей механических волн  являются звуковые или акустические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63E4-2D8A-434F-A03F-EA704F680E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едставляют собой вол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распространение колебаний в пространстве с течением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являются звуковые волны - продольные или поперечны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продоль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ы так дум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распространяются в воздух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олны называют продоль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колебания происходят вдоль направления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волны образуются так: в проходящей струе неравномерно нагретого воздуха образуются чередующиеся участки сжатия и растяжения; в результате, возникают продольные колебания частиц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их ещё средах могут распространяться звуковые вол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газах, жидкостях, твёрдых т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D83A-3CDC-445B-919B-F893C02B0B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могут ли распространяться  звуковые волны в вакуу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затрудняетесь ответить на этот вопрос, давайте обратимся к опы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едить за волнами сложно. Скорость распространения звуковой волны  зависит от взаимодействия частиц среды: чем сильнее взаимодействие, тем больше скорость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7D0F-901E-41D2-82FB-A49B3B2105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же является источником вол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любое колеблющееся те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сточники звуковых вол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музыкальные инструменты, писк комара, шелест листьев, дрожание стёк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совые связки вместе с проходящим воздухом позволяют нам общаться. Мы слышим звуки благодаря органам слуха. Главная часть слухового аппарата человека – барабанная перепонка, способная колебаться под действием звуковых волн. Эти колебания по слуховому нерву передаются в мозг и там обрабат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DD02-D61F-4FBC-96D8-5AE94E2ED2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ац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тон – прибор, создающий звук одной частоты, получается чистый тон. Ветви камертона создают слабый звук, для усиления звука камертон укрепляют на деревянном ящике, с большей площадью поверхностью, - усилителе, резонаторе.    У музыкальных  инструментах резонаторами являются де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E678-E1D9-4280-BB3C-74BE35E35A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слышите звучание музыкальных инструментов. Отгадай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арстве механических волн звуковыми  считаются волны, которые вызывают слуховые ощущения, а это волны,  диапазон которых находиться в интервале от 16Гц  до 20000Гц. У пожилых людей  этот интервал меньше, так как с возрастом утрачивается способность слышать звуки большой част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царстве звуковые волны очень гордые, так    как с помощью этих волн человек, животные, птицы, насекомые получают информацию об окружающем мире. Информация поступает не только с помощью звуковых волн, но и ультразвуковых волн. Информация поступает не только через речь, но и с помощью звуковых сигналов: свисток, гудок, различные сирены, колокольный звон, звучание буди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1F1D-B38E-425A-BCE3-CB2DD767CA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сигналы. Угадай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звуков окружают нас в повседневной жизни. Приведите при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ывание ветра, крики, звуки работающего транспорта, шум текущей воды, скрип сн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B4FA-E4CA-4F62-B730-9E9700A527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C705-D07B-4EDF-849B-B2C2EE19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F58-93BF-44C4-85EA-EA95BD53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FC61-A280-49F8-B681-D1331A54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3AD-7985-4753-98B9-85850D7F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0AAD-1DE8-4995-BEB4-B785F9F4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1A67-9FE6-471E-889D-2B556D72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43D5-6C83-4787-BC42-4135F919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1BD2-5E2E-4F18-8A90-14007CC3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6F71-3484-46AE-8EBE-9FF7DF44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C0FD-F7C6-40A2-BDBD-0E464667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0F52-5E7C-4F5D-99DE-44FE5900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007-C0C5-435B-91FD-D433DA8D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07B7-FCC0-4D21-992C-04F0586E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2947-2CD9-4E0C-8571-92A395E1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DF2E-253C-4378-8E10-EA0CB08A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1AD1-B85C-4520-A612-3C02B7F7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5A67-6C98-4BE6-9BAF-BC1A309A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71C76-BB27-474D-A9E5-DE8DECB3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A039C-49FA-4F06-A6F5-EEB013B6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279AC-DF81-42EE-A6CB-14F6BBF1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6E318-3D48-48CD-B78D-4C181C5D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6C87F-34EB-4817-A505-F823F440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BDB-69ED-433D-948A-F3D45A8F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6DEC8-2C85-4A98-BAC6-A7641B78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F58C8-DA04-4287-8C2C-D6845EB6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ECE34-A0FE-49CE-B190-F4807D4C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9B1C4-9199-413E-A29C-C97844AB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6D428-1C33-45F6-961A-CF6C1457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2030F-57E0-4318-BF53-A0EE75A4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540C4-7468-40D0-BE27-676A6F30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2E370-F54D-4DBA-8A67-D2F3ED99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A4C1C-5C0F-4285-9218-CC52CAC0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02623-C0FF-428B-99C3-A7C0448E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BF01-0D74-41FE-8549-ED5BAEE8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0752F-9B5E-41DF-A113-C61D2EA5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7D4AB-E44A-4125-95F8-B7B0CC5D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DA1B1-2D0A-450B-A2EB-557FC6E3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46C5D-2A3F-43C5-8009-D5A22CD2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A6026-3C8E-4BAB-A998-8614B89E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E1248-A15E-4E5E-8F65-CAE63800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AB614-C3DA-4D3C-9F38-DDC45B8B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243E3-624E-497B-A38D-2F249A5B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F4D86-145C-4702-A970-32F3FDF2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A1CF6-F186-4F81-A24B-8474325A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600-C713-4D50-9C3A-9A8BD79F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CC5A7-0D15-48D2-AD74-5C04E95E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FC459-9E3B-427A-AE8B-5882F7A9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B444B-0767-45EE-8523-BF21CD24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C18E4-4F20-44BE-9E5E-B1B6195A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FB383-2198-400E-9C98-D6764CCF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43513-DC12-453E-AB28-08F4E09C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FBF39-C825-4532-971C-DEC8AC00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D2D34-5AB5-407B-BCC1-6DDF4697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967D2-513A-4D71-B125-34E1C408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189A0-3E21-4C09-A4E8-1861D80D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3FD4-934A-43E1-94CF-47851ABC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6E187-78FC-492E-804A-EF59E92C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6219E-8540-4913-8492-50A64AE1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87836-0D50-4077-8F98-52E1F264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540B0-A112-4B99-95BF-432FA35E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A35FB-3545-4440-8D4B-8A619D47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9E567-B5CE-402F-AEA3-52702630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E929B-0B4B-486A-B879-97C40A6A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4A0DD-5EA5-45F4-ABB1-426A3935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63CC5-14F6-4A04-8689-123BD6FF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B0FE5-79A5-4C4F-84D9-D1EB3C96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86D-96A6-4976-B7F7-1914B7A6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0DB4C-8ABD-4F59-B98B-EB744922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18177-4176-45E9-A566-DA51929F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1AA36-5563-4217-8C36-2D27246D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BC2-DF9D-4272-9636-BAFB07F7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CAF-7874-4C87-A5D7-E83A12D5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DA47-5E4F-4D88-9FDB-920B805A184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EAF1-2BD0-4C6F-AA4C-ED37517EEC6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B562-E7D9-4F4B-A335-DFC4AA3FD23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9A3E-737C-4E21-8B13-CFFA376FC5F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7482-EC1F-403A-9404-E89F42E8D0D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DAAA-EB37-44E9-A33A-869A18EB9B7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3912-97A6-415B-918F-D76076FCDE9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CDEB-874A-475A-BC61-639017DCD75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A8C0-B0B1-48CC-AEAF-2CC14F82EBC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E4D9-1925-4292-A85D-C076E13A0BF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оугольник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3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FB2A-11F5-4A95-902F-5FFD6E3FBDB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2378-E538-4BF8-A13E-4529E62ABD0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ondontrip.narod.ru/Library1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guitartime.ru/images/af/guitar_instr/acoustic_guitar_notes.gif" TargetMode="External"/><Relationship Id="rId4" Type="http://schemas.openxmlformats.org/officeDocument/2006/relationships/image" Target="../media/image13.gif"/><Relationship Id="rId5" Type="http://schemas.openxmlformats.org/officeDocument/2006/relationships/hyperlink" Target="http://england-london.narod.ru/icon/048.jp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050.radikal.ru/0801/46/a1cb8f2041bd.jpg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lesha-01.narod.ru/files/notes.gif" TargetMode="External"/><Relationship Id="rId10" Type="http://schemas.openxmlformats.org/officeDocument/2006/relationships/image" Target="../media/image16.gif"/><Relationship Id="rId11" Type="http://schemas.openxmlformats.org/officeDocument/2006/relationships/hyperlink" Target="http://photodizayn.narod.ru/images/fig/f66.gif" TargetMode="External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it.vvsu.ru/MIRROR/www.fizika.ru/theory/tema-16/16f-i6.gif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ksanavorobieva.ucoz.ru/_si/0/96640.gif" TargetMode="External"/><Relationship Id="rId2" Type="http://schemas.openxmlformats.org/officeDocument/2006/relationships/image" Target="../media/image19.gif"/><Relationship Id="rId3" Type="http://schemas.openxmlformats.org/officeDocument/2006/relationships/hyperlink" Target="http://www.nivagold.ru/raznoe/dogi6/chien68.gif" TargetMode="External"/><Relationship Id="rId4" Type="http://schemas.openxmlformats.org/officeDocument/2006/relationships/image" Target="../media/image20.gif"/><Relationship Id="rId5" Type="http://schemas.openxmlformats.org/officeDocument/2006/relationships/hyperlink" Target="http://son75196.narod.ru/an1/05.gif" TargetMode="External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iggif.ru/images/jivotnie/jivotnie009.gif" TargetMode="External"/><Relationship Id="rId2" Type="http://schemas.openxmlformats.org/officeDocument/2006/relationships/image" Target="../media/image22.gif"/><Relationship Id="rId3" Type="http://schemas.openxmlformats.org/officeDocument/2006/relationships/hyperlink" Target="http://s58.radikal.ru/i160/0907/66/672a7e6fd001.gif" TargetMode="Externa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rtgif.ru/JIVOTNIE/animals079.gif" TargetMode="External"/><Relationship Id="rId2" Type="http://schemas.openxmlformats.org/officeDocument/2006/relationships/image" Target="../media/image24.gif"/><Relationship Id="rId3" Type="http://schemas.openxmlformats.org/officeDocument/2006/relationships/hyperlink" Target="http://img.liveinternet.ru/images/attach/4/10646/10646145_lyutiki.gif" TargetMode="External"/><Relationship Id="rId4" Type="http://schemas.openxmlformats.org/officeDocument/2006/relationships/image" Target="../media/image25.gif"/><Relationship Id="rId5" Type="http://schemas.openxmlformats.org/officeDocument/2006/relationships/hyperlink" Target="http://wap.wapuk.ru/download/anim/128x128/52.gif" TargetMode="External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2/2/211/2211718_1190220976_dozhdik.gif" TargetMode="External"/><Relationship Id="rId2" Type="http://schemas.openxmlformats.org/officeDocument/2006/relationships/image" Target="../media/image27.gif"/><Relationship Id="rId3" Type="http://schemas.openxmlformats.org/officeDocument/2006/relationships/hyperlink" Target="http://gorod.tomsk.ru/uploads/25037/1238639496/40n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img.rutube.ru/thumbs/f0/e2/f0e2eb3e0389418c35cd0a97bacafbea-1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s49.radikal.ru/i124/0907/38/1246d8887cae.jpg" TargetMode="External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review.unian.net/160/156/156865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fmcenter.ru/images/pm/IMG_8781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cs262.vkontakte.ru/u7189329/24835154/x_85fd2599.jpg" TargetMode="External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png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rosv.informika.ru/metod/mansurov/Images/image080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llgoodfree.ucoz.ru/Pictures/Zvuki/veter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yellowchel.ucoz.ru/_nw/1/66080644.gif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img-fotki.yandex.ru/get/36/anatchurin.2/0_17cce_9b3c0937_XL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art5.karelia.ru/photo/1/4/5565_mini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content.foto.mail.ru/mail/azamova-nika/dog1/i-98.jpg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Урок по теме: « Звуковые волны»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Пояснительная записка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рок проводится в 8 – ом классе . Начинается урок с эпиграфа, который определяет тему урока. Эпиграф раскрывает с неожиданной стороны содержание учебного материала . Урок изучения нового материала проводится в форме физической сказки. Сказка  делает материал для учеников ближе и понятнее: ведь в детстве каждый из них любил сказки. Сказка используется как средство связать физику с жизнью, как возможность задать в интересной форме физические вопросы, как способ углубить межпредметную связь физика – литерату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При закреплении нового материала используется групповая работа учащихся. Рассматривается влияние звуковых волн на организм челове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2848680" y="6216480"/>
            <a:ext cx="40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Щетинина Татья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СОШ № 6 г.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428480" y="1714680"/>
            <a:ext cx="74977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Царство звуков помогает нам выражать свои эмоции и чувства. Изобразите звуки: выиграла ваша любимая хоккейная команда, отменили любимый урок, вы долго были на морозе и зашли в тёплое помещени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сли внимательно прислушаться к царству звуковых волн, то можно услышать какие они разные: кричат, пищат, шепчут, басят, спокойно разговаривают. Одни звуки вызывают у нас раздражение, другие звуки успокаивают, третьи ласкают слух. Причиной такого разного поведения звуковых волн является тембр голоса, благодаря ему мы различаем голоса, отличаем музыкальные инструмен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1428840" y="1785600"/>
            <a:ext cx="72151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о в царстве звуковых волн бывает и ураган. Волны начинают шуметь. Шум – звуки разных частот, имеют разную продолжительность и интенсивность, в пространстве накладываются друг на друга. Например: школьная перемена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бороть шум можно по - разному, но лучший способ – убрать источник шума. Шум воздействует на организм человека: раздражает,  утомляет, вызывает головную боль, действует на нервную систему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356840" y="1928520"/>
            <a:ext cx="749772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средние века существовала казнь «под колоколом». Гул колокольного звона мучил и медленно убивал человека. С шумом,  поэтому нужно бороться. В царстве можно услышать, о чём шепчутся волны – это эхо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вуковое эхо – волна, отражённая от различных препятств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8" descr="Картинка 17 из 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1428480" y="1571400"/>
            <a:ext cx="749772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Галерее шёпота в Соборе Св. Павла в Лондоне эхо такое, что, стоя у одной стены собора, вы можете услышать, о чём шепчутся люди у другой стены собора, находящейся от вас в 36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царстве звуков часто слышны звучание гитар, скрипок , балалае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ами по себе струны этих инструментов создают слабый звук, их укрепляют на деревянном ящике и звук получается громкий. Почему?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8" descr="Картинка 91 из 8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012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0" descr="Картинка 20 из 2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857240"/>
            <a:ext cx="1662120" cy="2500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2" descr="Картинка 1 из 2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57200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6" descr="Картинка 117 из 40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715160" y="357120"/>
            <a:ext cx="1000080" cy="1095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Картинка 1 из 4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357720" y="5214960"/>
            <a:ext cx="1571400" cy="91764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Картинка 9 из 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58040" y="2643120"/>
            <a:ext cx="1379520" cy="11289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357200" y="285480"/>
            <a:ext cx="7407360" cy="6357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орпуса инструментов (резонаторы) устроены так, что частота звуковой волны в корпусе равна частоте колебания струны. При этом звук усиливается, возникает звуковой резонанс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20e04"/>
                </a:solidFill>
                <a:latin typeface="Corbel"/>
              </a:rPr>
              <a:t>          </a:t>
            </a: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Продолжаем путешествовать по царству звуков,  и замечаем,  что звуковые волны всё время работают.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Давно замечено, многие прибрежные животные и морские точно определяют приближение шторма. Зарождающийся шторм создаёт инфразвуки, их называют «голос моря», животные их хорошо слышат. При землетрясениях возникают колебания земной коры,  образуются инфразвуки, они сообщают об опасност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1428840" y="1714680"/>
            <a:ext cx="7286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монстрац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 камертона, ударить молоточком по одному камертону, второй начинает зву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434960" y="14475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обаки слышат ультразвуки, этим пользуется дрессировщик, чтобы подавать команды, неслышимые человеком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10" descr="Картинка 97 из 3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4857840"/>
            <a:ext cx="2121120" cy="1566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Картинка 107 из 3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71720" y="4838760"/>
            <a:ext cx="1928520" cy="2019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Картинка 535 из 103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00240" y="2143080"/>
            <a:ext cx="3403800" cy="371016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0" descr="Картинка 1 из 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3595680"/>
            <a:ext cx="4357800" cy="3262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Картинка 9 из 71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643120" cy="24400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1434960" y="1447920"/>
            <a:ext cx="749952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Летучие мыши испускают  ультразвук и хорошо ориентируются в пространстве ночью, улавливая отразившуюся от препятствия волн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ельфины тоже испускают и принимают ультразвук. Дельфины могут лечить. Ультразвуки, которые они издают, как бы просвечивают организм человека, если внутри есть очаг воспаления, то ультразвук воздействует на нег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Ультразвук, обрабатывая растворы, уничтожает в них микробы (они погибают от вибрации), так можно дезинфицировать воду без хло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14475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и влияют на рост и развитие растений, оказывают влияние на животных (увеличивают надои молока у коров)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4" descr="Картинка 21 из 5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7760" y="2643120"/>
            <a:ext cx="3946320" cy="3714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http://img.liveinternet.ru/images/attach/4/10646/10646145_lyutiki.gif">
            <a:hlinkClick r:id="rId3"/>
          </p:cNvPr>
          <p:cNvPicPr/>
          <p:nvPr/>
        </p:nvPicPr>
        <p:blipFill>
          <a:blip r:embed="rId4"/>
          <a:stretch/>
        </p:blipFill>
        <p:spPr>
          <a:xfrm flipH="1">
            <a:off x="7643880" y="528624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Картинка 56 из 16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00080" y="4071960"/>
            <a:ext cx="2214720" cy="22147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Картинка 3 из 4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71760"/>
            <a:ext cx="2092320" cy="1428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и природного происхождения: морской прибой, дождь, шелест листвы, журчание ручья – благоприятно влияют на организм, расслабляют, успокаиваю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" descr="Картинка 37 из 66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38400" cy="1428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Картинка 100 из 11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07188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Картинка 14 из 153717">
            <a:hlinkClick r:id="rId7"/>
          </p:cNvPr>
          <p:cNvPicPr/>
          <p:nvPr/>
        </p:nvPicPr>
        <p:blipFill>
          <a:blip r:embed="rId8"/>
          <a:srcRect l="0" t="23947" r="0" b="0"/>
          <a:stretch/>
        </p:blipFill>
        <p:spPr>
          <a:xfrm>
            <a:off x="0" y="4757760"/>
            <a:ext cx="2071800" cy="210024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8" descr="Картинка 477 из 5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43120"/>
            <a:ext cx="2341440" cy="17859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Картинка 165 из 5448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-85680"/>
            <a:ext cx="2357280" cy="2585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1434960" y="1447560"/>
            <a:ext cx="749952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 помощью ультразвука обследуют больных, ставят диагноз, разрушают камни в почк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Фонендоскоп позволяет услышать звуки сердца, хрипы в лёгки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2" descr="Картинка 96 из 663">
            <a:hlinkClick r:id="rId5"/>
          </p:cNvPr>
          <p:cNvPicPr/>
          <p:nvPr/>
        </p:nvPicPr>
        <p:blipFill>
          <a:blip r:embed="rId6"/>
          <a:srcRect l="0" t="0" r="34688" b="0"/>
          <a:stretch/>
        </p:blipFill>
        <p:spPr>
          <a:xfrm>
            <a:off x="7072200" y="3048120"/>
            <a:ext cx="2071800" cy="3809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Картинка 108 из 663"/>
          <p:cNvPicPr/>
          <p:nvPr/>
        </p:nvPicPr>
        <p:blipFill>
          <a:blip r:embed="rId7"/>
          <a:stretch/>
        </p:blipFill>
        <p:spPr>
          <a:xfrm>
            <a:off x="1428840" y="4929120"/>
            <a:ext cx="2786040" cy="159228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28840" y="785520"/>
            <a:ext cx="7407360" cy="5357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Цели урока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сформировать понятие о звуковой волне, шуме, эхе, звуковом резонансе; раскрыть физическую суть звуковых явлений; уметь объяснять наблюдаемые явления на основе законов физи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Оборудование урока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компьютер,  мультимедийный проектор, слайд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Оборудование для демонстраций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камертон, музыкальные инструменты, насос Комовского, электрический звонок, колокол, магнитофон, мини – тест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Ход уро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I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.Организация класс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II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.Изучение нового материал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434960" y="1447920"/>
            <a:ext cx="7499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овые волны используют в дефектоскопии, акустоэлектронике, работы звуковым волнам хватает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2" descr="Картинка 9 из 1816"/>
          <p:cNvPicPr/>
          <p:nvPr/>
        </p:nvPicPr>
        <p:blipFill>
          <a:blip r:embed="rId1"/>
          <a:stretch/>
        </p:blipFill>
        <p:spPr>
          <a:xfrm>
            <a:off x="1785960" y="2714760"/>
            <a:ext cx="3171960" cy="2381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Картинка 38 из 1816"/>
          <p:cNvPicPr/>
          <p:nvPr/>
        </p:nvPicPr>
        <p:blipFill>
          <a:blip r:embed="rId2"/>
          <a:stretch/>
        </p:blipFill>
        <p:spPr>
          <a:xfrm>
            <a:off x="5286240" y="2786040"/>
            <a:ext cx="3051360" cy="228600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42720" y="1071720"/>
            <a:ext cx="5643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III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Закрепление изученного материал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28480" y="2428920"/>
            <a:ext cx="749772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от и подошла к концу наша сказка. Сказка ложь, да в ней намёк добрым молодцам уро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казка дала намёк для ответов на вопросы. Разделимся на 2 группы. Отвечать будем по очереди, но право на ответ имеет тот участник, который быстрее всех знает отве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428840" y="285840"/>
            <a:ext cx="7407360" cy="714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опросы для групп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</a:t>
            </a:r>
            <a:r>
              <a:rPr b="0" lang="en-US" sz="2200" spc="-1" strike="noStrike">
                <a:solidFill>
                  <a:srgbClr val="320e04"/>
                </a:solidFill>
                <a:latin typeface="Gill Sans MT"/>
              </a:rPr>
              <a:t>I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группа.                                               </a:t>
            </a:r>
            <a:r>
              <a:rPr b="0" lang="en-US" sz="2200" spc="-1" strike="noStrike">
                <a:solidFill>
                  <a:srgbClr val="320e04"/>
                </a:solidFill>
                <a:latin typeface="Gill Sans MT"/>
              </a:rPr>
              <a:t>II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групп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285920" y="1000080"/>
          <a:ext cx="7500960" cy="5643720"/>
        </p:xfrm>
        <a:graphic>
          <a:graphicData uri="http://schemas.openxmlformats.org/drawingml/2006/table">
            <a:tbl>
              <a:tblPr/>
              <a:tblGrid>
                <a:gridCol w="3749760"/>
                <a:gridCol w="3751200"/>
              </a:tblGrid>
              <a:tr h="13064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Никто его не видыва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 слышать – всякий слыхивал, Без тела, а живёт оно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 языка – кричи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о каком явлении идёт речь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длинялись причудливо тени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казалось, внимая словам, Неотступно гудели ступен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пустой резонировал хр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почему пустое помещение резонирует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вы знаете об ультразвуковой локации в мире живой природы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. Приведите примеры использования инфразвука в мире живой приро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ев остановился и, опустившись на колени, припал ухом к земле. Рёв повторился. Вопрос: почему лев припал ухом к земл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2286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В тихий безветренный день на одно единственное слово эхо отвечало целых пятнадцать мину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почему безветренный день наиболее удобен для наблюдения э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вук – это вол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чём кака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бежит она везде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какой среде бежит звуковая вол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гут ли космонавты разговаривать в открытом космос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.   Почему в пустыне нет э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чему не издаёт звук колеблющаяся линейк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Доставляет ли комфорт человеку абсолютная тиши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 прибор был изобретён для настройки музыкальных инструментов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При полёте большинство насекомых издают звук. Чем это вызываетс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865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Итак, работа в группах показала, что вы творческие люди. Вы не просто отвечали на вопросы, а пытались дойти до самой сути. Молодцы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4" descr=" "/>
          <p:cNvPicPr/>
          <p:nvPr/>
        </p:nvPicPr>
        <p:blipFill>
          <a:blip r:embed="rId1"/>
          <a:stretch/>
        </p:blipFill>
        <p:spPr>
          <a:xfrm>
            <a:off x="6715080" y="4500720"/>
            <a:ext cx="1809720" cy="1809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43080" y="1285920"/>
            <a:ext cx="5857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IV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Самостоятельная работ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428840" y="2786040"/>
            <a:ext cx="7407360" cy="642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Давайте,  теперь применим свои знания в работе с тестами. Они перед вами на парт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434960" y="285840"/>
            <a:ext cx="74995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Тес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1. Какой диапазон частот имеют звуковые волны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16 – 20Гц                        б) 20 – 30кГц                       в) 16Гц – 20кГц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2. Что является источником звука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любое тело     б) любое колеблющиеся тело  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любое колеблющиеся тело с частотой 16Гц – 20кГц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3. 2 космонавта находятся в космическом пространстве. Услышат ли они друг друга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услышат, так как голосовые связки издают звук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не услышат, так как звуковые волны могут распространяться только в упругой среде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4. Почему комар пищит, а шмель жужжит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частота колебания крыльев комара большая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крыльев шмеля меньше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частота колебаний одинаковая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5. Почему бабочки летают беззвучно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крылья покрыты звукопоглощающим веществом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крыльев меньше частоты звуковой волн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6. Когда возникает акустический резонанс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частота колебаний тела равна частоте колебаний звуковой волны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тела меньше частоты колебаний звуковой волны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частота колебаний тела больше частоты колебаний звуковой волн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7. Когда возникает эхо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звуковые волны поглощаются телами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звуковые волны проходят сквозь тела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звуковые волны отражаются от тел, находящихся на их пути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8. Какие волны применяют в дефектоскопии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поперечные        б)световые            в) звуковые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4" descr="Картинка 138 из 1568"/>
          <p:cNvPicPr/>
          <p:nvPr/>
        </p:nvPicPr>
        <p:blipFill>
          <a:blip r:embed="rId1"/>
          <a:stretch/>
        </p:blipFill>
        <p:spPr>
          <a:xfrm>
            <a:off x="1143000" y="2143080"/>
            <a:ext cx="1725480" cy="15001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571560" y="285840"/>
            <a:ext cx="31366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 Итог урок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28480" y="999720"/>
            <a:ext cx="7497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заключении нашего урока свяжем звуковые волны с процессами, протекающими в нашем организме. На низких частотах от 3Гц до 12Гц работают сердце, лёгкие, циркулирует кровь, движутся суставы. При заболевании организма у звуков внутри его изменяются громкость, тембр, высота тона, длительнос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Если сердце работает нормально, то слышны звуки  2 тонов: низкий и высокий, при сердечных заболеваниях, при сбоях в работе сердца звук меняется, прослушиваются шумы, возникает аритмия. Сердце надо лечить. Из -  за чего могут появиться сбои в работе организма? Причины могут быть разные: расстройство, обиды, нервничает человек. Проблемы экологические, медицинские, нравственные связаны друг с другом, чтобы излечить одну,  не надо отвергать другие. Давайте же стараться быть безопасными друг для друга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ё в мире взаимосвязано, чтобы понять эту взаимосвязь, надо дойти до основания, до корней, такова диалекти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ставление оценок за урок с учётом всех видов деятель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ы очень плодотворно работали с вами на уроке, спасибо за урок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2" descr="Картинка 20 из 4965"/>
          <p:cNvPicPr/>
          <p:nvPr/>
        </p:nvPicPr>
        <p:blipFill>
          <a:blip r:embed="rId2"/>
          <a:stretch/>
        </p:blipFill>
        <p:spPr>
          <a:xfrm>
            <a:off x="7500960" y="0"/>
            <a:ext cx="1643040" cy="10825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Картинка 43 из 56"/>
          <p:cNvPicPr/>
          <p:nvPr/>
        </p:nvPicPr>
        <p:blipFill>
          <a:blip r:embed="rId3"/>
          <a:stretch/>
        </p:blipFill>
        <p:spPr>
          <a:xfrm>
            <a:off x="0" y="0"/>
            <a:ext cx="1789200" cy="1000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Картинка 72 из 1568"/>
          <p:cNvPicPr/>
          <p:nvPr/>
        </p:nvPicPr>
        <p:blipFill>
          <a:blip r:embed="rId4"/>
          <a:stretch/>
        </p:blipFill>
        <p:spPr>
          <a:xfrm>
            <a:off x="142920" y="1071720"/>
            <a:ext cx="1743120" cy="10047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Картинка 114 из 1568"/>
          <p:cNvPicPr/>
          <p:nvPr/>
        </p:nvPicPr>
        <p:blipFill>
          <a:blip r:embed="rId5"/>
          <a:stretch/>
        </p:blipFill>
        <p:spPr>
          <a:xfrm>
            <a:off x="285840" y="2214720"/>
            <a:ext cx="834840" cy="150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6" descr="Картинка 313 из 1568"/>
          <p:cNvPicPr/>
          <p:nvPr/>
        </p:nvPicPr>
        <p:blipFill>
          <a:blip r:embed="rId6"/>
          <a:stretch/>
        </p:blipFill>
        <p:spPr>
          <a:xfrm>
            <a:off x="357120" y="5443560"/>
            <a:ext cx="1428840" cy="120024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714400" y="1071720"/>
            <a:ext cx="4779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I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 Домашнее задание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28480" y="2643120"/>
            <a:ext cx="74977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омашнее задание: написать сочинение на тему «Звуковые волны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рок окончен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43080" y="357120"/>
            <a:ext cx="378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II.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Литератур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285920"/>
            <a:ext cx="749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.       Уроки физики в современной школе.  В. Г. Разумовский;    Москва «Просвещение» 199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.       Физика 8 – 9 классы. В. А. Попов;  Волгоград  2008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.       Как подготовить и провести открытый урок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. М. Поташник, М. В. Левит;  Педагогическое общество России  Москва  200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.       Уроки физики в 10 классе.  С. Л. Вольштейн, А. М. Качинский,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. М. Круглей, М. С. Кузей;  Минск «Народная  Асвета» 1980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.       Физические викторины.   Б. Ф. Билимович;   Моск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Просвещение» 1977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.       Мир физики в художественной литературе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. А. Тихомирова; Москва 1988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7.        Игровые ситуации на уроках физики.  И.Я.Ланина;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нинград 198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8.       Уроки физики 7 – 11 классы.  Серия «Современная школа»;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осква  Издательство «Глобус» 200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35804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Эпиграф нашего урока: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                      «Во всём мне хочется дойти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                   до самой сути…»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28840" y="2357280"/>
            <a:ext cx="7407360" cy="4143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Эпиграф нашего урока: «Во всём мне хочется дойти до самой сути…»- строки из стихотворения Бориса Пастернака, казалось бы, как эти строки связаны с темой нашего урока? Но смысл этих строк и определяет цель уро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пределить суть,  узнать истину – это издавна привлекало человека, но эта черта характерна для человека творческого. Давайте попробуем применить свои творческие способности, а они есть у каждого из вас я уверен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Я расскажу вам сказку. В некотором царстве, в некотором государстве живут волны световые, механические. Одной из разновидностей механических волн  являются звуковые или акустические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356840" y="499680"/>
            <a:ext cx="7410600" cy="6072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Что представляют собой волны?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распространение колебаний в пространстве с течением времен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акими являются звуковые волны - продольные или поперечны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продольны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Почему вы так думает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распространяются в воздух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акие волны называют продольными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колебания происходят вдоль направления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Звуковые волны образуются так: в проходящей струе неравномерно нагретого воздуха образуются чередующиеся участки сжатия и растяжения; в результате, возникают продольные колебания частиц воздух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 каких ещё средах могут распространяться звуковые волны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в газах, жидкостях, твёрдых тел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285920" y="500040"/>
            <a:ext cx="7572240" cy="5857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А могут ли распространяться  звуковые волны в вакуум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ы затрудняетесь ответить на этот вопрос, давайте обратимся к опыту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Уследить за волнами сложно. Скорость распространения звуковой волны  зависит от взаимодействия частиц среды: чем сильнее взаимодействие, тем больше скорость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1500120" y="1941120"/>
            <a:ext cx="72867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емонстрац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 колокол поместить электрический звонок, откачивая воздух из – под колокола, звук становится всё ти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вуковые волны распространяются только в упругих средах, в вакууме они не распростран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Картинка 18 из 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4960" y="1276200"/>
            <a:ext cx="3362400" cy="124308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214280" y="1285560"/>
            <a:ext cx="75693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Что же является источником волны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вет: любое колеблющееся тел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азовите источники звуковых волн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вет: музыкальные инструменты, писк комара, шелест листьев, дрожание стёко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Голосовые связки вместе с проходящим воздухом позволяют нам общаться. Мы слышим звуки благодаря органам слуха. Главная часть слухового аппарата человека – барабанная перепонка, способная колебаться под действием звуковых волн. Эти колебания по слуховому нерву передаются в мозг и там обрабатываютс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нстрация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мертон – прибор, создающий звук одной частоты, получается чистый тон. Ветви камертона создают слабый звук, для усиления звука камертон укрепляют на деревянном ящике, с большей площадью поверхностью, - усилителе, резонаторе.    У музыкальных  инструментах резонаторами являются дек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0" name="Picture 2" descr="http://cit.vvsu.ru/MIRROR/www.fizika.ru/theory/tema-16/16f-i4.gif"/>
          <p:cNvPicPr/>
          <p:nvPr/>
        </p:nvPicPr>
        <p:blipFill>
          <a:blip r:embed="rId1"/>
          <a:stretch/>
        </p:blipFill>
        <p:spPr>
          <a:xfrm>
            <a:off x="6786720" y="4929120"/>
            <a:ext cx="1618920" cy="16430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428480" y="785880"/>
            <a:ext cx="7497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ы слышите звучание музыкальных инструментов. Отгадайте и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царстве механических волн звуковыми  считаются волны, которые вызывают слуховые ощущения, а это волны,  диапазон которых находиться в интервале от 16Гц  до 20000Гц. У пожилых людей  этот интервал меньше, так как с возрастом утрачивается способность слышать звуки большой часто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нашем царстве звуковые волны очень гордые, так    как с помощью этих волн человек, животные, птицы, насекомые получают информацию об окружающем мире. Информация поступает не только с помощью звуковых волн, но и ультразвуковых волн. Информация поступает не только через речь, но и с помощью звуковых сигналов: свисток, гудок, различные сирены, колокольный звон, звучание будильни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428480" y="1285560"/>
            <a:ext cx="7497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нстраци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вуковые сигналы. Угадайте и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Царство звуков окружают нас в повседневной жизни. Приведите пример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вывание ветра, крики, звуки работающего транспорта, шум текущей воды, скрип снег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Picture 2" descr="Картинка 1 из 6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557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Картинка 1 из 6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214800"/>
            <a:ext cx="2274840" cy="1785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Картинка 6 из 19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160960"/>
            <a:ext cx="2260440" cy="1697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http://art5.karelia.ru/photo/1/4/5565_mini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5717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Картинка 136 из 733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0200" y="5195880"/>
            <a:ext cx="2214720" cy="166212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3:50:52Z</dcterms:created>
  <dc:creator>Вольный</dc:creator>
  <dc:description/>
  <dc:language>en-US</dc:language>
  <cp:lastModifiedBy>LEGION</cp:lastModifiedBy>
  <dcterms:modified xsi:type="dcterms:W3CDTF">2015-03-30T08:46:46Z</dcterms:modified>
  <cp:revision>74</cp:revision>
  <dc:subject/>
  <dc:title>Урок по теме: « Звуковые волны». </dc:title>
</cp:coreProperties>
</file>