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7.png" ContentType="image/png"/>
  <Override PartName="/ppt/media/image24.gif" ContentType="image/gif"/>
  <Override PartName="/ppt/media/image32.jpeg" ContentType="image/jpeg"/>
  <Override PartName="/ppt/media/image16.gif" ContentType="image/gif"/>
  <Override PartName="/ppt/media/image15.jpeg" ContentType="image/jpeg"/>
  <Override PartName="/ppt/media/image27.gif" ContentType="image/gif"/>
  <Override PartName="/ppt/media/image28.jpeg" ContentType="image/jpeg"/>
  <Override PartName="/ppt/media/image1.jpeg" ContentType="image/jpeg"/>
  <Override PartName="/ppt/media/image35.jpeg" ContentType="image/jpeg"/>
  <Override PartName="/ppt/media/image8.png" ContentType="image/png"/>
  <Override PartName="/ppt/media/image11.jpeg" ContentType="image/jpeg"/>
  <Override PartName="/ppt/media/image36.jpeg" ContentType="image/jpeg"/>
  <Override PartName="/ppt/media/image9.jpeg" ContentType="image/jpeg"/>
  <Override PartName="/ppt/media/image13.gif" ContentType="image/gif"/>
  <Override PartName="/ppt/media/image33.jpeg" ContentType="image/jpeg"/>
  <Override PartName="/ppt/media/image42.gif" ContentType="image/gif"/>
  <Override PartName="/ppt/media/image34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2.gif" ContentType="image/gif"/>
  <Override PartName="/ppt/media/image38.gif" ContentType="image/gif"/>
  <Override PartName="/ppt/media/image43.png" ContentType="image/png"/>
  <Override PartName="/ppt/media/image39.png" ContentType="image/png"/>
  <Override PartName="/ppt/media/image30.jpeg" ContentType="image/jpeg"/>
  <Override PartName="/ppt/media/image6.png" ContentType="image/png"/>
  <Override PartName="/ppt/media/image26.gif" ContentType="image/gif"/>
  <Override PartName="/ppt/media/image18.png" ContentType="image/png"/>
  <Override PartName="/ppt/media/image25.gif" ContentType="image/gif"/>
  <Override PartName="/ppt/media/image29.jpeg" ContentType="image/jpeg"/>
  <Override PartName="/ppt/media/image37.gif" ContentType="image/gif"/>
  <Override PartName="/ppt/media/image5.jpeg" ContentType="image/jpeg"/>
  <Override PartName="/ppt/media/image41.gif" ContentType="image/gif"/>
  <Override PartName="/ppt/media/image12.jpeg" ContentType="image/jpeg"/>
  <Override PartName="/ppt/media/image4.png" ContentType="image/png"/>
  <Override PartName="/ppt/media/image40.gif" ContentType="image/gif"/>
  <Override PartName="/ppt/media/image3.png" ContentType="image/png"/>
  <Override PartName="/ppt/media/image2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8C8D-7B2D-4542-A09F-6652850384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по теме: « Звуковые волны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77AE-096E-42C1-8E9C-CDAF885585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4584-B122-43B4-A411-3B3865D579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D5ED-4770-4CC1-BBDC-AC7EF0A2BD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вуковое эхо – волна, отражённая от различных препятст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9D3C-B8C2-43DA-8929-D95ED1DDDE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звуков часто слышны звучание гитар, скрипок , балала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7F4B-8EB5-4F29-A3E7-F06296209B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0C07-F535-47FB-A54B-119C89A80E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9E67-DBA1-4EB3-BBA4-CFC791EBD2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1F03-3180-4BDD-99A0-CDFFB935E4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DB04-B3FD-46D6-ADC2-FF13C422D7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5EA5-9ABF-4DEE-975A-45E557CEF2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ультразвука обследуют больных, ставят диагноз, разрушают камни в п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ендоскоп позволяет услышать звуки сердца, хрипы в лёг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BFBC-C516-4EAC-BB4C-BE890ECF80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рудование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,  мультимедийный проектор, слай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орудование для демонстрац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д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Организация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Изучение нового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3BEC-5093-4686-B84C-E8941EDA2B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DE8E-E6EF-459B-BEC8-7134149870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II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Закрепление изученного матери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и подошла к концу наша сказка. Сказка ложь, да в ней намёк добрым молодцам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8C09-9156-4956-A652-9FB9F115CA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BF68-70E9-4A66-8B28-719B64D1F0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8F0E-7A97-45CD-8562-748AE8AF55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488b"/>
                </a:solidFill>
                <a:latin typeface="Calibri"/>
              </a:rPr>
              <a:t>IV</a:t>
            </a:r>
            <a:r>
              <a:rPr b="0" lang="ru-RU" sz="1600" spc="-1" strike="noStrike">
                <a:solidFill>
                  <a:srgbClr val="11488b"/>
                </a:solidFill>
                <a:latin typeface="Calibri"/>
              </a:rPr>
              <a:t>.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,  теперь применим свои знания в работе с тестами. Они перед вами на пар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509D-4141-49C2-9860-84D62B1882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. Какой диапазон частот имеют звуковые волны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16 – 20Гц                        б) 20 – 30кГц                       в)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. Что является источником звук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любое тело     б) любое колеблющиеся тело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любое колеблющиеся тело с частотой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. 2 космонавта находятся в космическом пространстве. Услышат ли они друг друг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услышат, так как голосовые связки издают зву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не услышат, так как звуковые волны могут распространяться только в упругой сред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4. Почему комар пищит, а шмель жужжит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я крыльев комара больш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шмеля меньш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одинакова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5. Почему бабочки летают беззвучн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крылья покрыты звукопоглощающим вещество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меньше частоты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. Когда возникает акустический резонанс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й тела равна частоте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тела меньше частоты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тела больше частоты колебаний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7. Когда возникает эх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звуковые волны поглощаются телам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звуковые волны проходят сквозь тел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звуковые волны отражаются от тел, находящихся на их пут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8. Какие волны применяют в дефектоскопии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поперечные        б)световые            в) звуковы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34A9-919A-4ABE-B79F-9A81F2FDD7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Итог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за урок с учётом все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очень плодотворно работали с вами на уроке, 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BE57-D7A4-4CB2-84C9-26B8666ED0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написать сочинение на тему «Звуковые волн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к оконч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A9AF-A56C-42BD-94C0-BAD61D235A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I.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Литерату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Уроки физики в современной школе.  В. Г. Разумовский;    Москва «Просвещение»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Физика 8 – 9 классы. В. А. Попов;  Волгоград 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Как подготовить и провести открытый у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Поташник, М. В. Левит;  Педагогическое общество России  Москва 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 Уроки физики в 10 классе.  С. Л. Вольштейн, А. М. Качинский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Круглей, М. С. Кузей;  Минск «Народная  Асвета» 19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 Физические викторины.   Б. Ф. Билимович;  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свещение» 197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 Мир физики в художественной литерату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А. Тихомирова; Москва 198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      Игровые ситуации на уроках физики.  И.Я.Ланин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нинград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  Уроки физики 7 – 11 классы.  Серия «Современная школа»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 Издательство «Глобус» 20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6A4B-6C15-4623-BC4D-DC3B7DDD8B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Эпиграф нашего урока: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   «Во всём мне хочется дойти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до самой сути…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C158-C6AA-48B4-AC33-90F3A63168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вол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ение колебаний в пространстве с течение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являются звуковые волны - продольные или попереч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продоль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яются в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олны называют продоль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колебания происходят вдоль направления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ещё средах могут распространяться звуковые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газах, жидкостях, твёрдых т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91DD-DAF1-4909-82A7-D5F69FD05A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огут ли распространяться  звуковые волны в вакуу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затрудняетесь ответить на этот вопрос, давайте обратимся к опы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D043-9143-43B4-A41B-B5B6ED82E2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является источником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любое колеблющееся те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сточники звук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музыкальные инструменты, писк комара, шелест листьев, дрожание стё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8FE0-AB26-47C1-A1F7-F1D7FF7D39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D0FB-BC3C-421A-BA03-D334E33084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лышите звучание музыкальных инструментов. От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986B-57F0-4F32-83D7-D2894E40B5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сигналы. У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окружают нас в повседневной жизни. Приведите при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вание ветра, крики, звуки работающего транспорта, шум текущей воды, скрип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FCA5-8AB3-49FE-BD7E-59AB1D2C27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948-7963-403D-AC67-92048FA2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A9F-0DF0-4522-98DB-8A8C271E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35D-71BA-4E9F-8AA7-32CF9754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933-4849-498A-9559-90EFC119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B241-8E04-4328-8D73-91AE46C8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C0AD-9B63-44B0-B135-8A8FEBD9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50B9-DAC3-47C0-AA8B-28EDF478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DB85-2DA9-40D1-A6E5-FA190E3C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D271-2F9D-41EB-9428-D71F6D3F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1558-4C12-40BD-9EE8-D1D1172E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4BC6-653B-436A-A868-D0B1EE44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BF4-A366-41A9-842A-8C6DE582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2D1A-116C-464B-9E55-5A5B123B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3F25-0EBE-45B1-B424-4D18F3B8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CC2E-0534-4B67-8388-CB78D1F6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A3AD-461C-4F9C-A5A6-50F4C20C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7411-8E26-402D-934E-6B708E19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730A1-2F8A-410D-B885-EAB4B705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3116-2F9C-4BB6-8027-2B9039E7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755E6-13B1-4870-BE9E-3CA41149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8550-01BF-46DE-B7D1-FEBEF7BB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05B45-26B0-4490-8013-C9925AB1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A6C-C6FD-43C6-99ED-4DE5E4CC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04D25-B8BA-450A-88A4-FC4D4287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ADCB0-5DBC-41FA-8616-E4472B66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7687-6CDA-4C62-A3E2-BA828254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F2F6D-8D2D-4283-B0DD-7845C773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C4118-C6B3-4680-AD1B-12DC34AA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3C54-BA5B-4CE4-9F96-FFAE3A32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ED5CF-8A1B-4826-8032-DB871E35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51D76-F35E-46EC-A121-0B0FB854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C3637-4F3F-4854-BF30-461CC145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B0919-E208-4ABB-9DCA-ACC67B6D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825-FAB0-483C-BBB9-34834D53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ED917-B90C-44E7-A944-81804DC1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D297A-6D93-48DD-80C3-287D6912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D5588-3C52-4CDE-9569-EE1659C3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01AD2-9111-485F-B0EC-11249705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03242-CA87-4BAD-A2AA-A361399C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5BD2D-199F-4731-A620-D9AFA1DF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8CD69-1499-4835-820A-C0373253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945B-3F33-4AC2-AB56-2F2502DB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DB0F8-7993-4B6A-8832-C5A07955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118A9-29D2-47B6-9D8D-9A47702F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6D5-21DA-4CD8-BA55-22E7C34B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62229-823D-4786-B428-3C828C27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378DE-2173-4BB0-9EA2-73DC95FB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DC0CC-26E7-4DED-97B0-FCAB99F0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A8CD2-B5C9-424E-BFF9-5D19D937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5681B-A508-420A-9579-E4C1FEE1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110FB-411B-463C-9E25-E758BDE5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BC4FA-F1B1-4A90-80DF-9B70E4D2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1179C-5B2A-4914-BA5A-C3477783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17746-CE67-4DC3-8043-734C060A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6A2C8-8D3A-4087-9DED-B7AEF113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1B7-26C1-477F-8CBB-BB5C4186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4C6E2-90DB-48BA-964F-832BCF85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505C8-E086-4D7A-9C29-94EF482C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1BAD7-EAEF-4BBD-8CF6-6BFA43B3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C9733-7F6F-4F09-BAE5-5A1740C5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3165F-901A-4339-9BD5-356FE85A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CB169-233C-4E02-82D8-969AD8A9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CFB32-0DEF-4736-84A2-23CE0963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F945F-72C1-4B95-9841-FCC1ABF8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6463A-1F89-4BC3-8B88-34F53AFE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6C1EC-04F5-4E3E-B959-5E264496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6E4-23F2-4E96-8D7F-687D50D1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A5E7C-9BAD-4373-B410-E4498027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82BBB-E550-499E-94E8-0B52D319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29295-1614-4AEC-990D-0D81D9F6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51C-F7A8-4AED-B35F-0B5C08D3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664-7D70-4E2E-A2AC-1E36EF06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62DB-A0A6-4CCC-A956-AD0F0866C60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AAFF-F787-496D-9643-60DBFB85C0F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2A74-4840-44BD-89A3-37577098C31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470C-743F-461D-8092-348DA0EC826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51EF-5697-4C66-BBE2-70FFAB6F1C7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F39C-7835-49AC-8C5C-16E9C8BA8E2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CF70-6F47-45DB-9754-DCE3CB0CEEC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1693-8D20-42A1-B992-C7D92F05DC9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6E2C-555A-4894-B9A8-B05AE10D13B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32A6-E0D6-442B-90E5-0551C6D8DCE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3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F38E-7ED7-4FBC-80D9-7318D734132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69BA-A63F-43FB-A462-7D2E1F0FF73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ondontrip.narod.ru/Library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guitartime.ru/images/af/guitar_instr/acoustic_guitar_notes.gif" TargetMode="External"/><Relationship Id="rId4" Type="http://schemas.openxmlformats.org/officeDocument/2006/relationships/image" Target="../media/image13.gif"/><Relationship Id="rId5" Type="http://schemas.openxmlformats.org/officeDocument/2006/relationships/hyperlink" Target="http://england-london.narod.ru/icon/048.jp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050.radikal.ru/0801/46/a1cb8f2041bd.jpg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lesha-01.narod.ru/files/notes.gif" TargetMode="External"/><Relationship Id="rId10" Type="http://schemas.openxmlformats.org/officeDocument/2006/relationships/image" Target="../media/image16.gif"/><Relationship Id="rId11" Type="http://schemas.openxmlformats.org/officeDocument/2006/relationships/hyperlink" Target="http://photodizayn.narod.ru/images/fig/f66.gif" TargetMode="External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it.vvsu.ru/MIRROR/www.fizika.ru/theory/tema-16/16f-i6.gif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ksanavorobieva.ucoz.ru/_si/0/96640.gif" TargetMode="External"/><Relationship Id="rId2" Type="http://schemas.openxmlformats.org/officeDocument/2006/relationships/image" Target="../media/image19.gif"/><Relationship Id="rId3" Type="http://schemas.openxmlformats.org/officeDocument/2006/relationships/hyperlink" Target="http://www.nivagold.ru/raznoe/dogi6/chien68.gif" TargetMode="External"/><Relationship Id="rId4" Type="http://schemas.openxmlformats.org/officeDocument/2006/relationships/image" Target="../media/image20.gif"/><Relationship Id="rId5" Type="http://schemas.openxmlformats.org/officeDocument/2006/relationships/hyperlink" Target="http://son75196.narod.ru/an1/05.gif" TargetMode="External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iggif.ru/images/jivotnie/jivotnie009.gif" TargetMode="External"/><Relationship Id="rId2" Type="http://schemas.openxmlformats.org/officeDocument/2006/relationships/image" Target="../media/image22.gif"/><Relationship Id="rId3" Type="http://schemas.openxmlformats.org/officeDocument/2006/relationships/hyperlink" Target="http://s58.radikal.ru/i160/0907/66/672a7e6fd001.gif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rtgif.ru/JIVOTNIE/animals079.gif" TargetMode="External"/><Relationship Id="rId2" Type="http://schemas.openxmlformats.org/officeDocument/2006/relationships/image" Target="../media/image24.gif"/><Relationship Id="rId3" Type="http://schemas.openxmlformats.org/officeDocument/2006/relationships/hyperlink" Target="http://img.liveinternet.ru/images/attach/4/10646/10646145_lyutiki.gif" TargetMode="External"/><Relationship Id="rId4" Type="http://schemas.openxmlformats.org/officeDocument/2006/relationships/image" Target="../media/image25.gif"/><Relationship Id="rId5" Type="http://schemas.openxmlformats.org/officeDocument/2006/relationships/hyperlink" Target="http://wap.wapuk.ru/download/anim/128x128/52.gif" TargetMode="External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2/2/211/2211718_1190220976_dozhdik.gif" TargetMode="External"/><Relationship Id="rId2" Type="http://schemas.openxmlformats.org/officeDocument/2006/relationships/image" Target="../media/image27.gif"/><Relationship Id="rId3" Type="http://schemas.openxmlformats.org/officeDocument/2006/relationships/hyperlink" Target="http://gorod.tomsk.ru/uploads/25037/1238639496/40n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img.rutube.ru/thumbs/f0/e2/f0e2eb3e0389418c35cd0a97bacafbea-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49.radikal.ru/i124/0907/38/1246d8887cae.jpg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review.unian.net/160/156/156865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fmcenter.ru/images/pm/IMG_8781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cs262.vkontakte.ru/u7189329/24835154/x_85fd2599.jpg" TargetMode="External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rosv.informika.ru/metod/mansurov/Images/image08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llgoodfree.ucoz.ru/Pictures/Zvuki/veter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yellowchel.ucoz.ru/_nw/1/66080644.gif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img-fotki.yandex.ru/get/36/anatchurin.2/0_17cce_9b3c0937_XL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art5.karelia.ru/photo/1/4/5565_mini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content.foto.mail.ru/mail/azamova-nika/dog1/i-98.jpg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рок по теме: « Звуковые волны»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Пояснительная записка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848680" y="621648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Щетинин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СОШ № 6 г.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428480" y="1714680"/>
            <a:ext cx="74977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428840" y="1785600"/>
            <a:ext cx="72151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356840" y="1928520"/>
            <a:ext cx="749772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вуковое эхо – волна, отражённая от различных препятств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8" descr="Картинка 17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428480" y="1571400"/>
            <a:ext cx="749772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звуков часто слышны звучание гитар, скрипок , балалае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8" descr="Картинка 91 из 8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01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Картинка 20 из 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857240"/>
            <a:ext cx="1662120" cy="2500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2" descr="Картинка 1 из 2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5720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6" descr="Картинка 117 из 40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15160" y="357120"/>
            <a:ext cx="1000080" cy="1095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Картинка 1 из 4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7720" y="5214960"/>
            <a:ext cx="1571400" cy="91764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Картинка 9 из 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58040" y="2643120"/>
            <a:ext cx="1379520" cy="11289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357200" y="285480"/>
            <a:ext cx="7407360" cy="6357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20e04"/>
                </a:solidFill>
                <a:latin typeface="Corbel"/>
              </a:rPr>
              <a:t>          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1428840" y="1714680"/>
            <a:ext cx="7286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 камертона, ударить молоточком по одному камертону, второй начинает зв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10" descr="Картинка 97 из 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857840"/>
            <a:ext cx="2121120" cy="1566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Картинка 107 из 3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1720" y="4838760"/>
            <a:ext cx="1928520" cy="20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Картинка 535 из 10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00240" y="2143080"/>
            <a:ext cx="3403800" cy="37101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0" descr="Картинка 1 из 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3595680"/>
            <a:ext cx="4357800" cy="3262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Картинка 9 из 71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643120" cy="24400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1434960" y="1447920"/>
            <a:ext cx="74995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4" descr="Картинка 21 из 5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2643120"/>
            <a:ext cx="3946320" cy="3714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http://img.liveinternet.ru/images/attach/4/10646/10646145_lyutiki.gif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643880" y="528624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Картинка 56 из 1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00080" y="4071960"/>
            <a:ext cx="2214720" cy="22147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Картинка 3 из 4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71760"/>
            <a:ext cx="2092320" cy="1428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Картинка 37 из 66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38400" cy="1428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Картинка 100 из 11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0718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Картинка 14 из 153717">
            <a:hlinkClick r:id="rId7"/>
          </p:cNvPr>
          <p:cNvPicPr/>
          <p:nvPr/>
        </p:nvPicPr>
        <p:blipFill>
          <a:blip r:embed="rId8"/>
          <a:srcRect l="0" t="23947" r="0" b="0"/>
          <a:stretch/>
        </p:blipFill>
        <p:spPr>
          <a:xfrm>
            <a:off x="0" y="4757760"/>
            <a:ext cx="2071800" cy="210024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8" descr="Картинка 477 из 5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43120"/>
            <a:ext cx="2341440" cy="1785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Картинка 165 из 5448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-85680"/>
            <a:ext cx="2357280" cy="2585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1434960" y="1447560"/>
            <a:ext cx="749952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 помощью ультразвука обследуют больных, ставят диагноз, разрушают камни в почк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Фонендоскоп позволяет услышать звуки сердца, хрипы в лёгк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2" descr="Картинка 96 из 663">
            <a:hlinkClick r:id="rId5"/>
          </p:cNvPr>
          <p:cNvPicPr/>
          <p:nvPr/>
        </p:nvPicPr>
        <p:blipFill>
          <a:blip r:embed="rId6"/>
          <a:srcRect l="0" t="0" r="34688" b="0"/>
          <a:stretch/>
        </p:blipFill>
        <p:spPr>
          <a:xfrm>
            <a:off x="7072200" y="3048120"/>
            <a:ext cx="2071800" cy="3809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Картинка 108 из 663"/>
          <p:cNvPicPr/>
          <p:nvPr/>
        </p:nvPicPr>
        <p:blipFill>
          <a:blip r:embed="rId7"/>
          <a:stretch/>
        </p:blipFill>
        <p:spPr>
          <a:xfrm>
            <a:off x="1428840" y="4929120"/>
            <a:ext cx="2786040" cy="159228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28840" y="785520"/>
            <a:ext cx="7407360" cy="5357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Цели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Оборудование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омпьютер,  мультимедийный проектор, слайд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Оборудование для демонстраций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Ход уро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Организация класс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14479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Картинка 9 из 1816"/>
          <p:cNvPicPr/>
          <p:nvPr/>
        </p:nvPicPr>
        <p:blipFill>
          <a:blip r:embed="rId1"/>
          <a:stretch/>
        </p:blipFill>
        <p:spPr>
          <a:xfrm>
            <a:off x="1785960" y="2714760"/>
            <a:ext cx="3171960" cy="2381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Картинка 38 из 1816"/>
          <p:cNvPicPr/>
          <p:nvPr/>
        </p:nvPicPr>
        <p:blipFill>
          <a:blip r:embed="rId2"/>
          <a:stretch/>
        </p:blipFill>
        <p:spPr>
          <a:xfrm>
            <a:off x="5286240" y="2786040"/>
            <a:ext cx="305136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42720" y="1071720"/>
            <a:ext cx="5643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I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Закрепление изученного материал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28480" y="2428920"/>
            <a:ext cx="749772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от и подошла к концу наша сказка. Сказка ложь, да в ней намёк добрым молодцам уро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407360" cy="714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опросы для групп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                                            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285920" y="1000080"/>
          <a:ext cx="7500960" cy="5643720"/>
        </p:xfrm>
        <a:graphic>
          <a:graphicData uri="http://schemas.openxmlformats.org/drawingml/2006/table">
            <a:tbl>
              <a:tblPr/>
              <a:tblGrid>
                <a:gridCol w="3749760"/>
                <a:gridCol w="3751200"/>
              </a:tblGrid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Никто его не видыва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 слышать – всякий слыхивал, Без тела, а живёт он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 языка – кричи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о каком явлении идёт реч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длинялись причудливо тен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казалось, внимая словам, Неотступно гудели ступен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пустой резонировал хр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пустое помещение резонируе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вы знаете об ультразвуковой локации в мире живой природы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. Приведите примеры использования инфразвука в мире живой прир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ев остановился и, опустившись на колени, припал ухом к земле. Рёв повторился. Вопрос: почему лев припал ухом к земл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В тихий безветренный день на одно единственное слово эхо отвечало целых пятнадцать мин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безветренный день наиболее удобен для наблюдения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вук – это вол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чём кака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бежит она везде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какой среде бежит звуковая вол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гут ли космонавты разговаривать в открытом космос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.   Почему в пустыне нет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чему не издаёт звук колеблющаяся линейк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Доставляет ли комфорт человеку абсолютная тиши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 прибор был изобретён для настройки музыкальных инструменто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При полёте большинство насекомых издают звук. Чем это вызываетс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865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4" descr=" "/>
          <p:cNvPicPr/>
          <p:nvPr/>
        </p:nvPicPr>
        <p:blipFill>
          <a:blip r:embed="rId1"/>
          <a:stretch/>
        </p:blipFill>
        <p:spPr>
          <a:xfrm>
            <a:off x="6715080" y="450072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43080" y="1285920"/>
            <a:ext cx="5857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Самостоятельная работ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428840" y="2786040"/>
            <a:ext cx="7407360" cy="642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айте,  теперь применим свои знания в работе с тестами. Они перед вами на парт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434960" y="285840"/>
            <a:ext cx="74995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Те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1. Какой диапазон частот имеют звуковые волны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16 – 20Гц                        б) 20 – 30кГц                       в)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2. Что является источником звук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любое тело     б) любое колеблющиеся тело 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любое колеблющиеся тело с частотой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3. 2 космонавта находятся в космическом пространстве. Услышат ли они друг друг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услышат, так как голосовые связки издают звук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не услышат, так как звуковые волны могут распространяться только в упругой среде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4. Почему комар пищит, а шмель жужжит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я крыльев комара большая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шмеля меньш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одинаковая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5. Почему бабочки летают беззвучн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крылья покрыты звукопоглощающим веществом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меньше частоты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6. Когда возникает акустический резонанс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й тела равна частоте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тела меньше частоты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тела больше частоты колебаний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7. Когда возникает эх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звуковые волны поглощаются телами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звуковые волны проходят сквозь тел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звуковые волны отражаются от тел, находящихся на их пути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8. Какие волны применяют в дефектоскопии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поперечные        б)световые            в) звуковы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4" descr="Картинка 138 из 1568"/>
          <p:cNvPicPr/>
          <p:nvPr/>
        </p:nvPicPr>
        <p:blipFill>
          <a:blip r:embed="rId1"/>
          <a:stretch/>
        </p:blipFill>
        <p:spPr>
          <a:xfrm>
            <a:off x="1143000" y="2143080"/>
            <a:ext cx="1725480" cy="15001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571560" y="285840"/>
            <a:ext cx="31366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Итог урок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28480" y="999720"/>
            <a:ext cx="7497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ставление оценок за урок с учётом всех видов дея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ы очень плодотворно работали с вами на уроке, спасибо за урок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Картинка 20 из 4965"/>
          <p:cNvPicPr/>
          <p:nvPr/>
        </p:nvPicPr>
        <p:blipFill>
          <a:blip r:embed="rId2"/>
          <a:stretch/>
        </p:blipFill>
        <p:spPr>
          <a:xfrm>
            <a:off x="7500960" y="0"/>
            <a:ext cx="1643040" cy="1082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Картинка 43 из 56"/>
          <p:cNvPicPr/>
          <p:nvPr/>
        </p:nvPicPr>
        <p:blipFill>
          <a:blip r:embed="rId3"/>
          <a:stretch/>
        </p:blipFill>
        <p:spPr>
          <a:xfrm>
            <a:off x="0" y="0"/>
            <a:ext cx="1789200" cy="1000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Картинка 72 из 1568"/>
          <p:cNvPicPr/>
          <p:nvPr/>
        </p:nvPicPr>
        <p:blipFill>
          <a:blip r:embed="rId4"/>
          <a:stretch/>
        </p:blipFill>
        <p:spPr>
          <a:xfrm>
            <a:off x="142920" y="1071720"/>
            <a:ext cx="1743120" cy="1004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Картинка 114 из 1568"/>
          <p:cNvPicPr/>
          <p:nvPr/>
        </p:nvPicPr>
        <p:blipFill>
          <a:blip r:embed="rId5"/>
          <a:stretch/>
        </p:blipFill>
        <p:spPr>
          <a:xfrm>
            <a:off x="285840" y="2214720"/>
            <a:ext cx="834840" cy="150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Картинка 313 из 1568"/>
          <p:cNvPicPr/>
          <p:nvPr/>
        </p:nvPicPr>
        <p:blipFill>
          <a:blip r:embed="rId6"/>
          <a:stretch/>
        </p:blipFill>
        <p:spPr>
          <a:xfrm>
            <a:off x="357120" y="5443560"/>
            <a:ext cx="1428840" cy="12002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714400" y="1071720"/>
            <a:ext cx="4779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Домашнее задани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28480" y="2643120"/>
            <a:ext cx="74977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омашнее задание: написать сочинение на тему «Звуковые волны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рок оконче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43080" y="357120"/>
            <a:ext cx="378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I.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Литератур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285920"/>
            <a:ext cx="749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       Уроки физики в современной школе.  В. Г. Разумовский;    Москва «Просвещение» 199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      Физика 8 – 9 классы. В. А. Попов;  Волгоград  200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       Как подготовить и провести открытый урок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Поташник, М. В. Левит;  Педагогическое общество России  Москва  200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.       Уроки физики в 10 классе.  С. Л. Вольштейн, А. М. Качинский,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Круглей, М. С. Кузей;  Минск «Народная  Асвета» 1980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.       Физические викторины.   Б. Ф. Билимович;   Моск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Просвещение» 197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.       Мир физики в художественной литературе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. А. Тихомирова; Москва 198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.        Игровые ситуации на уроках физики.  И.Я.Ланина;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нинград 198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8.       Уроки физики 7 – 11 классы.  Серия «Современная школа»;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осква  Издательство «Глобус» 200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35804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Эпиграф нашего урока: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   «Во всём мне хочется дойти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до самой сути…»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28840" y="2357280"/>
            <a:ext cx="7407360" cy="4143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356840" y="499680"/>
            <a:ext cx="7410600" cy="607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Что представляют собой волны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ение колебаний в пространстве с течением време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ми являются звуковые волны - продольные или поперечны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продольны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очему вы так думает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яются в воздух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е волны называют продольными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колебания происходят вдоль направления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 каких ещё средах могут распространяться звуковые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в газах, жидкостях, твёрдых тел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285920" y="500040"/>
            <a:ext cx="7572240" cy="5857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А могут ли распространяться  звуковые волны в вакуум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ы затрудняетесь ответить на этот вопрос, давайте обратимся к опыт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1500120" y="1941120"/>
            <a:ext cx="72867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 колокол поместить электрический звонок, откачивая воздух из – под колокола, звук становится всё ти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вуковые волны распространяются только в упругих средах, в вакууме они не распростран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Картинка 18 из 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1276200"/>
            <a:ext cx="3362400" cy="124308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214280" y="1285560"/>
            <a:ext cx="75693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Что же является источником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любое колеблющееся тел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зовите источники звуковых волн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музыкальные инструменты, писк комара, шелест листьев, дрожание стёко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0" name="Picture 2" descr="http://cit.vvsu.ru/MIRROR/www.fizika.ru/theory/tema-16/16f-i4.gif"/>
          <p:cNvPicPr/>
          <p:nvPr/>
        </p:nvPicPr>
        <p:blipFill>
          <a:blip r:embed="rId1"/>
          <a:stretch/>
        </p:blipFill>
        <p:spPr>
          <a:xfrm>
            <a:off x="6786720" y="4929120"/>
            <a:ext cx="1618920" cy="16430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428480" y="785880"/>
            <a:ext cx="7497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ы слышите звучание музыкальных инструментов. Отгадайте 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428480" y="1285560"/>
            <a:ext cx="7497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вуковые сигналы. Угадайте и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арство звуков окружают нас в повседневной жизни. Приведите приме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вывание ветра, крики, звуки работающего транспорта, шум текущей воды, скрип снег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2" descr="Картинка 1 из 6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557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Картинка 1 из 6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14800"/>
            <a:ext cx="2274840" cy="1785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Картинка 6 из 19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160960"/>
            <a:ext cx="2260440" cy="1697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http://art5.karelia.ru/photo/1/4/5565_mini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5717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Картинка 136 из 73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0200" y="5195880"/>
            <a:ext cx="2214720" cy="166212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3:50:52Z</dcterms:created>
  <dc:creator>Вольный</dc:creator>
  <dc:description/>
  <dc:language>en-US</dc:language>
  <cp:lastModifiedBy>LEGION</cp:lastModifiedBy>
  <dcterms:modified xsi:type="dcterms:W3CDTF">2015-03-30T08:46:46Z</dcterms:modified>
  <cp:revision>74</cp:revision>
  <dc:subject/>
  <dc:title>Урок по теме: « Звуковые волны». </dc:title>
</cp:coreProperties>
</file>