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E129-9811-42BD-86C6-1086AE4814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Авторы: Дедух Галина Васильевна,</a:t>
            </a:r>
            <a:r>
              <a:rPr b="0" lang="ru-RU" sz="1200" spc="-1" strike="noStrike">
                <a:solidFill>
                  <a:srgbClr val="0d038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учитель географии,</a:t>
            </a:r>
            <a:r>
              <a:rPr b="1" i="1" lang="en-US" sz="1200" spc="-1" strike="noStrike">
                <a:solidFill>
                  <a:srgbClr val="0d038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Хворостьяная Наталья Васильевна, учитель английского язы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МОУ «Гимназия №5 г. Белгорода»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7262-076C-4170-AF4D-2169A4EEDB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2CFD-FE7C-4485-B264-29A40F3E67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уникальная удивите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живет дышит в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амая лучшая из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уперпланета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AA96-93BE-467A-BD53-D100D3DBF2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анасьева О.В., Баранова К.М. Книга для чтения для 6 класса.- М.: Просвещение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15.nnm.ru/9/3/7/4/d/6dee4ea945c11067118066a44e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ixelbrush.ru/uploads/posts/2008-12/1230621404_earth_life_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hotoshopia.ru/forum/imagehosting/2008/08/05/14897dc60ebff9.jpg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acroid.ru/_data/medium/38/DSC03958.jpg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ngolia.com.ua/themes/mongolia_theme/images/gallery/DSC_0002.jpg - атмо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embrana.ru/print.html?1224084360 –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cio.pnzgu.ru/personal/41/3/3/krugovorot.htm -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quacrystal.ru/files/images/157.gif -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awaterinfo.net/all_about_water/wpcontent/uploads/2009/08/water_drop.jpg -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.i.ua/oboi/pic/7/0/91107_0.jpg - поч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oaa.gov/earthday/images/boywithglobe.jpg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sign-warez.ru/pictures/beautiful/33500-krasivye-kartinki-cvety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302F-9780-4CD9-8C68-E00A80DF48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416-063B-4813-AEE5-D1186B8B21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543-69FA-440D-9244-F79E52EFCE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Давайте подумаем, почему же возможна жизнь на Земле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AE47-119F-4054-B21F-857B9AD532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ервая особенность, благодаря которой на Земле возможна жизнь – это </a:t>
            </a: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оптимальный температурный режим</a:t>
            </a: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.</a:t>
            </a:r>
            <a:br>
              <a:rPr sz="1200"/>
            </a:b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243D-4C31-4E23-978C-A6EFDE53A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Только Земля обладает </a:t>
            </a:r>
            <a:r>
              <a:rPr b="0" i="1" lang="ru-RU" sz="1200" spc="-1" strike="noStrike">
                <a:solidFill>
                  <a:srgbClr val="cc00cc"/>
                </a:solidFill>
                <a:latin typeface="Calibri"/>
              </a:rPr>
              <a:t>огромными запасами воды</a:t>
            </a: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4A8-794A-4066-BC1D-AB1E99304D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для жизни вода перемещается в результате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стоянного круговоро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живительную влаг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08F6-41FF-42CC-A6BA-0722131468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лько наша планета имеет </a:t>
            </a: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почв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этот верхний плодородный слой земли.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чва содержит вещества, необходимые для роста и развития растени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3C97-9FE4-420B-8DAA-D53EE9C762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9CB7-9DDD-4FA3-BB7D-8BE9E9FD05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0B5-96DD-42B0-8784-0B40768C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700-761D-4676-8C33-AFC51BFA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75E-FB26-434B-92C9-CDF5DCAF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B51-5DDA-4F5F-B408-F97B5F85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9DF-BC7A-406E-85B5-AA5BCDC6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31D-9491-4733-8E76-3591999B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3D8-CBDF-44C6-A3AE-980849ED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4CA-97F6-4639-9E60-E674DA61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AAD-A120-4A3E-B89B-4F5BA72F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EF6-3A10-4953-8D01-051ACC69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944-FE2A-4B29-9171-82EB153F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49C-6506-4617-B35D-012D031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6A50-E91B-471F-A10E-99B4ED7B9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hyperlink" Target="http://photoshopia.ru/forum/imagehosting/2008/08/05/14897dc60ebff9.jpg" TargetMode="External"/><Relationship Id="rId4" Type="http://schemas.openxmlformats.org/officeDocument/2006/relationships/hyperlink" Target="http://macroid.ru/_data/medium/38/DSC03958.jpg" TargetMode="External"/><Relationship Id="rId5" Type="http://schemas.openxmlformats.org/officeDocument/2006/relationships/hyperlink" Target="http://mongolia.com.ua/themes/mongolia_theme/images/gallery/DSC_0002.jpg" TargetMode="External"/><Relationship Id="rId6" Type="http://schemas.openxmlformats.org/officeDocument/2006/relationships/hyperlink" Target="http://www.membrana.ru/print.html?1224084360" TargetMode="External"/><Relationship Id="rId7" Type="http://schemas.openxmlformats.org/officeDocument/2006/relationships/hyperlink" Target="http://rcio.pnzgu.ru/personal/41/3/3/krugovorot.htm" TargetMode="External"/><Relationship Id="rId8" Type="http://schemas.openxmlformats.org/officeDocument/2006/relationships/hyperlink" Target="http://www.aquacrystal.ru/files/images/157.gif" TargetMode="External"/><Relationship Id="rId9" Type="http://schemas.openxmlformats.org/officeDocument/2006/relationships/hyperlink" Target="http://www.cawaterinfo.net/all_about_water/wpcontent/uploads/2009/08/water_drop.jpg" TargetMode="External"/><Relationship Id="rId10" Type="http://schemas.openxmlformats.org/officeDocument/2006/relationships/hyperlink" Target="http://i.i.ua/oboi/pic/7/0/91107_0.jpg" TargetMode="External"/><Relationship Id="rId11" Type="http://schemas.openxmlformats.org/officeDocument/2006/relationships/hyperlink" Target="http://www.noaa.gov/earthday/images/boywithglobe.jpg" TargetMode="External"/><Relationship Id="rId12" Type="http://schemas.openxmlformats.org/officeDocument/2006/relationships/hyperlink" Target="http://www.design-warez.ru/pictures/beautiful/33500-krasivye-kartinki-cvety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Авторы: Дедух Галина Васильевна,</a:t>
            </a:r>
            <a:r>
              <a:rPr b="0" lang="ru-RU" sz="1800" spc="-1" strike="noStrike">
                <a:solidFill>
                  <a:srgbClr val="0d038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учитель географии,</a:t>
            </a:r>
            <a:r>
              <a:rPr b="1" i="1" lang="en-US" sz="1800" spc="-1" strike="noStrike">
                <a:solidFill>
                  <a:srgbClr val="0d0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Хворостьяная Наталья Васильевна, учитель англий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МОУ «Гимназия №5 г. Белгорода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0"/>
            <a:ext cx="7619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144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91440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8098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876920" y="3200400"/>
            <a:ext cx="3504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320040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43200" y="601992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никальная удив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ивет дышит 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ая лучшая из пла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перплане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13228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фанасьева О.В., Баранова К.М. Книга для чтения для 6 класса.- М.: Просвещение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5.nnm.ru/9/3/7/4/d/6dee4ea945c11067118066a44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xelbrush.ru/uploads/posts/2008-12/1230621404_earth_life_vecto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shopia.ru/forum/imagehosting/2008/08/05/14897dc60ebff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croid.ru/_data/medium/38/DSC0395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ongolia.com.ua/themes/mongolia_theme/images/gallery/DSC_00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mbrana.ru/print.html?12240843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cio.pnzgu.ru/personal/41/3/3/krugovoro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quacrystal.ru/files/images/157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cawaterinfo.net/all_about_water/wpcontent/uploads/2009/08/water_drop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oboi/pic/7/0/91107_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ч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noaa.gov/earthday/images/boywithglob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design-warez.ru/pictures/beautiful/33500-krasivye-kartinki-cve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авайте подумаем, почему же возможна жизнь на Зем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99125"/>
          <p:cNvPicPr/>
          <p:nvPr/>
        </p:nvPicPr>
        <p:blipFill>
          <a:blip r:embed="rId1"/>
          <a:stretch/>
        </p:blipFill>
        <p:spPr>
          <a:xfrm>
            <a:off x="228600" y="48006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858000" cy="4586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57200" y="467028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32004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6668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0"/>
          <p:cNvSpPr/>
          <p:nvPr/>
        </p:nvSpPr>
        <p:spPr>
          <a:xfrm>
            <a:off x="4648320" y="52578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724280" y="32004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4572000" y="1523880"/>
            <a:ext cx="3733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47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