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4.wmf" ContentType="image/x-wmf"/>
  <Override PartName="/ppt/media/image10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F2FE-DEB3-4D3B-AB3D-370565B3FE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img15.nnm.ru/9/3/7/4/d/6dee4ea945c11067118066a44e2.jpg" TargetMode="External"/><Relationship Id="rId2" Type="http://schemas.openxmlformats.org/officeDocument/2006/relationships/hyperlink" Target="http://pixelbrush.ru/uploads/posts/2008-12/1230621404_earth_life_vector.jpg" TargetMode="External"/><Relationship Id="rId3" Type="http://schemas.openxmlformats.org/officeDocument/2006/relationships/slide" Target="../slides/slide12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Авторы: Дедух Галина Васильевна,</a:t>
            </a:r>
            <a:r>
              <a:rPr b="0" lang="ru-RU" sz="1200" spc="-1" strike="noStrike">
                <a:solidFill>
                  <a:srgbClr val="0d038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учитель географии,</a:t>
            </a:r>
            <a:r>
              <a:rPr b="1" i="1" lang="en-US" sz="1200" spc="-1" strike="noStrike">
                <a:solidFill>
                  <a:srgbClr val="0d038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Хворостьяная Наталья Васильевна, учитель английского язы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38f"/>
                </a:solidFill>
                <a:latin typeface="Calibri"/>
              </a:rPr>
              <a:t>МОУ «Гимназия №5 г. Белгорода»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9963-1DFA-4FA5-90B8-7A8B66F3CA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424D-B05B-4014-B75A-5D86055AF7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уникальная удивитель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живет дышит в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амая лучшая из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уперпланета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A403-388C-4A53-8B35-D992512423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анасьева О.В., Баранова К.М. Книга для чтения для 6 класса.- М.: Просвещение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ва Т.М., Кичапова Е.В., Чхиквишвили Н.А.  Англо-русский тематический словарь с иллюстрациями.- Изд-во: Прин-ди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mg15.nnm.ru/9/3/7/4/d/6dee4ea945c11067118066a44e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ixelbrush.ru/uploads/posts/2008-12/1230621404_earth_life_vector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hotoshopia.ru/forum/imagehosting/2008/08/05/14897dc60ebff9.jpg 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acroid.ru/_data/medium/38/DSC03958.jpg- жизнь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ongolia.com.ua/themes/mongolia_theme/images/gallery/DSC_0002.jpg - атмосф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membrana.ru/print.html?1224084360 – в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rcio.pnzgu.ru/personal/41/3/3/krugovorot.htm - круговорот воды в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quacrystal.ru/files/images/157.gif -круговорот воды в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awaterinfo.net/all_about_water/wpcontent/uploads/2009/08/water_drop.jpg - в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i.i.ua/oboi/pic/7/0/91107_0.jpg - поч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noaa.gov/earthday/images/boywithglobe.jpg -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design-warez.ru/pictures/beautiful/33500-krasivye-kartinki-cvety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7A4B-ACA4-4FC2-84D0-17C7756FCB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ша Земля прекрасна. Космонавты говорят, что из космоса она выглядит как драгоценный камень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725D-01A9-461A-AF1C-68F21A8CC5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никальность  Земли состоит в том, что только на ней из всех планет Солнечной системы есть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6C47-E8AE-4B11-9ABF-6AB40FC921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Давайте подумаем, почему же возможна жизнь на Земле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D3FD-F1E4-4012-8240-51E571599F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ервая особенность, благодаря которой на Земле возможна жизнь – это </a:t>
            </a: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оптимальный температурный режим</a:t>
            </a: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.</a:t>
            </a:r>
            <a:br>
              <a:rPr sz="1200"/>
            </a:b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Наша планета обладает атмосферой, которая отличается от атмосферы других планет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48F1-5B19-44D8-8500-55549EE918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cc"/>
                </a:solidFill>
                <a:latin typeface="Calibri"/>
              </a:rPr>
              <a:t>Только Земля обладает </a:t>
            </a:r>
            <a:r>
              <a:rPr b="0" i="1" lang="ru-RU" sz="1200" spc="-1" strike="noStrike">
                <a:solidFill>
                  <a:srgbClr val="cc00cc"/>
                </a:solidFill>
                <a:latin typeface="Calibri"/>
              </a:rPr>
              <a:t>огромными запасами воды</a:t>
            </a:r>
            <a:r>
              <a:rPr b="0" i="1" lang="ru-RU" sz="1200" spc="-1" strike="noStrike">
                <a:solidFill>
                  <a:srgbClr val="0033cc"/>
                </a:solidFill>
                <a:latin typeface="Calibri"/>
              </a:rPr>
              <a:t>. А ведь это удивительное вещество. Оно входит в состав всех живых организмов, выполняя самую разнообразную работу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344F-639F-49E9-A169-AC9274ED82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я для жизни вода перемещается в результате </a:t>
            </a: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постоянного круговоро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аждую секунду миллионы кубометров воды превращаются в пар. Поднимаясь в воздух, они образуют облака, которые вместе с воздушными потоками перемешаются на сотни километров, перенося с собой </a:t>
            </a: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живительную влаг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13E7-E467-44F1-9569-C286416E5E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лько наша планета имеет </a:t>
            </a:r>
            <a:r>
              <a:rPr b="0" lang="ru-RU" sz="1200" spc="-1" strike="noStrike">
                <a:solidFill>
                  <a:srgbClr val="996633"/>
                </a:solidFill>
                <a:latin typeface="Calibri"/>
              </a:rPr>
              <a:t>почву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этот верхний плодородный слой земли. </a:t>
            </a: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Почва содержит вещества, необходимые для роста и развития растени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Зеленые растения соединяют питательные вещества и воду из почвы с углекислым газом из воз­духа и при участии солнечного света образуют вещества, необходимые для и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F9DD-8BEA-45CF-BE41-C38489A90B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B061-496D-4087-A302-5597DE599D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DFD-B69E-42A7-9C6B-90C48086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6F7-0E62-4773-A7CB-8D62DC41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6E6A-0D89-4EAF-B614-585B6DBA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666-994B-483B-B6A8-FABA5B8F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25CC-2D42-4D2F-82C1-A353EBC9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A543-1A5F-4861-9DC9-BF64C592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1F0-7E73-4A1D-A067-639CF095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E6D-9B4E-480A-9C67-BE715EAE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457A-A366-4BB7-AA3C-7D8B775E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FD3-892C-4164-9AFD-6E2F588B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7CD-F430-4333-AA6A-152F9FDA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FCB-5A02-4589-A078-D23530C1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7B8C-594F-4017-98EB-06F962D56C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esign-warez.ru/uploads/posts/2009-06/1244564340_3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design-warez.ru/pictures/beautiful/33500-krasivye-kartinki-cvety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design-warez.ru/pictures/beautiful/33500-krasivye-kartinki-cvety.html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5.nnm.ru/9/3/7/4/d/6dee4ea945c11067118066a44e2.jpg" TargetMode="External"/><Relationship Id="rId2" Type="http://schemas.openxmlformats.org/officeDocument/2006/relationships/hyperlink" Target="http://pixelbrush.ru/uploads/posts/2008-12/1230621404_earth_life_vector.jpg" TargetMode="External"/><Relationship Id="rId3" Type="http://schemas.openxmlformats.org/officeDocument/2006/relationships/hyperlink" Target="http://photoshopia.ru/forum/imagehosting/2008/08/05/14897dc60ebff9.jpg" TargetMode="External"/><Relationship Id="rId4" Type="http://schemas.openxmlformats.org/officeDocument/2006/relationships/hyperlink" Target="http://macroid.ru/_data/medium/38/DSC03958.jpg" TargetMode="External"/><Relationship Id="rId5" Type="http://schemas.openxmlformats.org/officeDocument/2006/relationships/hyperlink" Target="http://mongolia.com.ua/themes/mongolia_theme/images/gallery/DSC_0002.jpg" TargetMode="External"/><Relationship Id="rId6" Type="http://schemas.openxmlformats.org/officeDocument/2006/relationships/hyperlink" Target="http://www.membrana.ru/print.html?1224084360" TargetMode="External"/><Relationship Id="rId7" Type="http://schemas.openxmlformats.org/officeDocument/2006/relationships/hyperlink" Target="http://rcio.pnzgu.ru/personal/41/3/3/krugovorot.htm" TargetMode="External"/><Relationship Id="rId8" Type="http://schemas.openxmlformats.org/officeDocument/2006/relationships/hyperlink" Target="http://www.aquacrystal.ru/files/images/157.gif" TargetMode="External"/><Relationship Id="rId9" Type="http://schemas.openxmlformats.org/officeDocument/2006/relationships/hyperlink" Target="http://www.cawaterinfo.net/all_about_water/wpcontent/uploads/2009/08/water_drop.jpg" TargetMode="External"/><Relationship Id="rId10" Type="http://schemas.openxmlformats.org/officeDocument/2006/relationships/hyperlink" Target="http://i.i.ua/oboi/pic/7/0/91107_0.jpg" TargetMode="External"/><Relationship Id="rId11" Type="http://schemas.openxmlformats.org/officeDocument/2006/relationships/hyperlink" Target="http://www.noaa.gov/earthday/images/boywithglobe.jpg" TargetMode="External"/><Relationship Id="rId12" Type="http://schemas.openxmlformats.org/officeDocument/2006/relationships/hyperlink" Target="http://www.design-warez.ru/pictures/beautiful/33500-krasivye-kartinki-cvety.html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esign-warez.ru/uploads/posts/2009-06/1244564340_3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design-warez.ru/pictures/beautiful/33500-krasivye-kartinki-cvety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design-warez.ru/pictures/beautiful/33500-krasivye-kartinki-cvety.html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4876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Авторы: Дедух Галина Васильевна,</a:t>
            </a:r>
            <a:r>
              <a:rPr b="0" lang="ru-RU" sz="1800" spc="-1" strike="noStrike">
                <a:solidFill>
                  <a:srgbClr val="0d038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учитель географии,</a:t>
            </a:r>
            <a:r>
              <a:rPr b="1" i="1" lang="en-US" sz="1800" spc="-1" strike="noStrike">
                <a:solidFill>
                  <a:srgbClr val="0d038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Хворостьяная Наталья Васильевна, учитель английского язы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38f"/>
                </a:solidFill>
                <a:latin typeface="Arial"/>
              </a:rPr>
              <a:t>МОУ «Гимназия №5 г. Белгорода»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762120" y="0"/>
            <a:ext cx="76197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ем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arth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590920" y="525780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Красивые картинки цвет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914400"/>
            <a:ext cx="36576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1244564268_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91440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1244564328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3809880"/>
            <a:ext cx="3276360" cy="1981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4876920" y="3200400"/>
            <a:ext cx="3504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28600" y="3200400"/>
            <a:ext cx="3352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43200" y="6019920"/>
            <a:ext cx="3352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никальная удиви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ивет дышит вращ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амая лучшая из пла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уперпланета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2132280" cy="3178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5486400" y="228600"/>
            <a:ext cx="34574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down)" transition="out">
                                      <p:cBhvr additive="repl">
                                        <p:cTn id="4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фанасьева О.В., Баранова К.М. Книга для чтения для 6 класса.- М.: Просвещение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ева Т.М., Кичапова Е.В., Чхиквишвили Н.А.  Англо-русский тематический словарь с иллюстрациями.- Изд-во: Прин-ди, 199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g15.nnm.ru/9/3/7/4/d/6dee4ea945c11067118066a44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ixelbrush.ru/uploads/posts/2008-12/1230621404_earth_life_vecto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hotoshopia.ru/forum/imagehosting/2008/08/05/14897dc60ebff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acroid.ru/_data/medium/38/DSC03958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жизнь на Зем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ongolia.com.ua/themes/mongolia_theme/images/gallery/DSC_00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атмосф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embrana.ru/print.html?122408436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rcio.pnzgu.ru/personal/41/3/3/krugovorot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руговорот воды в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aquacrystal.ru/files/images/157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круговорот воды в прир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cawaterinfo.net/all_about_water/wpcontent/uploads/2009/08/water_drop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.i.ua/oboi/pic/7/0/91107_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оч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noaa.gov/earthday/images/boywithglob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Зем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design-warez.ru/pictures/beautiful/33500-krasivye-kartinki-cvety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Наша Земля прекрасна. Космонавты говорят, что из космоса она выглядит как драгоценный камень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Уникальность  Земли состоит в том, что только на ней из всех планет Солнечной системы есть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Давайте подумаем, почему же возможна жизнь на Земл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299125"/>
          <p:cNvPicPr/>
          <p:nvPr/>
        </p:nvPicPr>
        <p:blipFill>
          <a:blip r:embed="rId1"/>
          <a:stretch/>
        </p:blipFill>
        <p:spPr>
          <a:xfrm>
            <a:off x="228600" y="480060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6858000" cy="45864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ервая особенность, благодаря которой на Земле возможна жизнь – это 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оптимальный температурный режим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.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Наша планета обладает атмосферой, которая отличается от атмосферы других плане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Только Земля обладает </a:t>
            </a: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огромными запасами воды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. А ведь это удивительное вещество. Оно входит в состав всех живых организмов, выполняя самую разнообразную работу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ая для жизни вода перемещается в результате 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постоянного круговор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Каждую секунду миллионы кубометров воды превращаются в пар. Поднимаясь в воздух, они образуют облака, которые вместе с воздушными потоками перемешаются на сотни километров, перенося с собой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живительную влаг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591000" cy="3568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3581640" cy="27255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Только наша планета имеет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чву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, этот верхний плодородный слой земли. </a:t>
            </a: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Почва содержит вещества, необходимые для роста и развития растений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. Зеленые растения соединяют питательные вещества и воду из почвы с углекислым газом из воз­духа и при участии солнечного света образуют вещества, необходимые для их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457200" y="4670280"/>
            <a:ext cx="403848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Красивые картинки цвет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3200400" cy="18874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4"/>
          <p:cNvSpPr/>
          <p:nvPr/>
        </p:nvSpPr>
        <p:spPr>
          <a:xfrm>
            <a:off x="4648320" y="152388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0" descr="1244564268_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266688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1244564328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4724280"/>
            <a:ext cx="312408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0"/>
          <p:cNvSpPr/>
          <p:nvPr/>
        </p:nvSpPr>
        <p:spPr>
          <a:xfrm>
            <a:off x="4648320" y="525780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1"/>
          <p:cNvSpPr/>
          <p:nvPr/>
        </p:nvSpPr>
        <p:spPr>
          <a:xfrm>
            <a:off x="4724280" y="3200400"/>
            <a:ext cx="3657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3"/>
          <p:cNvSpPr/>
          <p:nvPr/>
        </p:nvSpPr>
        <p:spPr>
          <a:xfrm>
            <a:off x="4572000" y="1523880"/>
            <a:ext cx="3733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47:09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