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5.jpeg" ContentType="image/jpeg"/>
  <Override PartName="/ppt/media/image4.wmf" ContentType="image/x-wmf"/>
  <Override PartName="/ppt/media/image10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B31C8-79F6-48DD-A65D-1657A538DAD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hyperlink" Target="http://img15.nnm.ru/9/3/7/4/d/6dee4ea945c11067118066a44e2.jpg" TargetMode="External"/><Relationship Id="rId2" Type="http://schemas.openxmlformats.org/officeDocument/2006/relationships/hyperlink" Target="http://pixelbrush.ru/uploads/posts/2008-12/1230621404_earth_life_vector.jpg" TargetMode="External"/><Relationship Id="rId3" Type="http://schemas.openxmlformats.org/officeDocument/2006/relationships/slide" Target="../slides/slide12.xml"/><Relationship Id="rId4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d038f"/>
                </a:solidFill>
                <a:latin typeface="Calibri"/>
              </a:rPr>
              <a:t>Авторы: Дедух Галина Васильевна,</a:t>
            </a:r>
            <a:r>
              <a:rPr b="0" lang="ru-RU" sz="1200" spc="-1" strike="noStrike">
                <a:solidFill>
                  <a:srgbClr val="0d038f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d038f"/>
                </a:solidFill>
                <a:latin typeface="Calibri"/>
              </a:rPr>
              <a:t>учитель географии,</a:t>
            </a:r>
            <a:r>
              <a:rPr b="1" i="1" lang="en-US" sz="1200" spc="-1" strike="noStrike">
                <a:solidFill>
                  <a:srgbClr val="0d038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d038f"/>
                </a:solidFill>
                <a:latin typeface="Calibri"/>
              </a:rPr>
              <a:t>Хворостьяная Наталья Васильевна, учитель английского язык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d038f"/>
                </a:solidFill>
                <a:latin typeface="Calibri"/>
              </a:rPr>
              <a:t>МОУ «Гимназия №5 г. Белгорода»,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091F4-E6E3-4DB4-8A34-496AA3D23B9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ck yoursel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BE580-8987-4764-90B1-57F5F886004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инквей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Calibri"/>
              </a:rPr>
              <a:t>Зем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Calibri"/>
              </a:rPr>
              <a:t>уникальная удивительна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Calibri"/>
              </a:rPr>
              <a:t>живет дышит вращае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Calibri"/>
              </a:rPr>
              <a:t>самая лучшая из план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Calibri"/>
              </a:rPr>
              <a:t>суперпланета</a:t>
            </a:r>
            <a:r>
              <a:rPr b="0" lang="ru-RU" sz="1200" spc="-1" strike="noStrike">
                <a:solidFill>
                  <a:srgbClr val="ff0066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9B50E-A7BC-4683-9D05-8F4C62559A2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Calibri"/>
              </a:rPr>
              <a:t>Список литерату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фанасьева О.В., Баранова К.М. Книга для чтения для 6 класса.- М.: Просвещение, 200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ева Т.М., Кичапова Е.В., Чхиквишвили Н.А.  Англо-русский тематический словарь с иллюстрациями.- Изд-во: Прин-ди, 199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img15.nnm.ru/9/3/7/4/d/6dee4ea945c11067118066a44e2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Земл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pixelbrush.ru/uploads/posts/2008-12/1230621404_earth_life_vector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жизнь на Земл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photoshopia.ru/forum/imagehosting/2008/08/05/14897dc60ebff9.jpg - жизнь на Земл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macroid.ru/_data/medium/38/DSC03958.jpg- жизнь на Земл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mongolia.com.ua/themes/mongolia_theme/images/gallery/DSC_0002.jpg - атмосфе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membrana.ru/print.html?1224084360 – в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rcio.pnzgu.ru/personal/41/3/3/krugovorot.htm - круговорот воды в природ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aquacrystal.ru/files/images/157.gif -круговорот воды в природ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cawaterinfo.net/all_about_water/wpcontent/uploads/2009/08/water_drop.jpg - в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i.i.ua/oboi/pic/7/0/91107_0.jpg - поч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noaa.gov/earthday/images/boywithglobe.jpg - Земл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design-warez.ru/pictures/beautiful/33500-krasivye-kartinki-cvety.html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ве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609DB-5447-4868-8A31-DDFC31D55A4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Calibri"/>
              </a:rPr>
              <a:t>Наша Земля прекрасна. Космонавты говорят, что из космоса она выглядит как драгоценный камень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18DED-B29B-43EA-A0B6-ED9FB62D553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Уникальность  Земли состоит в том, что только на ней из всех планет Солнечной системы есть жизн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0D8C5-B727-4F9B-99BC-168E4AB8403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66"/>
                </a:solidFill>
                <a:latin typeface="Calibri"/>
              </a:rPr>
              <a:t>Давайте подумаем, почему же возможна жизнь на Земле?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A8036-D48F-4811-BD93-8B084C6D05E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33cc"/>
                </a:solidFill>
                <a:latin typeface="Calibri"/>
              </a:rPr>
              <a:t>Первая особенность, благодаря которой на Земле возможна жизнь – это </a:t>
            </a:r>
            <a:r>
              <a:rPr b="1" i="1" lang="ru-RU" sz="1200" spc="-1" strike="noStrike">
                <a:solidFill>
                  <a:srgbClr val="ff0066"/>
                </a:solidFill>
                <a:latin typeface="Calibri"/>
              </a:rPr>
              <a:t>оптимальный температурный режим</a:t>
            </a:r>
            <a:r>
              <a:rPr b="1" i="1" lang="ru-RU" sz="1200" spc="-1" strike="noStrike">
                <a:solidFill>
                  <a:srgbClr val="0033cc"/>
                </a:solidFill>
                <a:latin typeface="Calibri"/>
              </a:rPr>
              <a:t>.</a:t>
            </a:r>
            <a:br>
              <a:rPr sz="1200"/>
            </a:br>
            <a:r>
              <a:rPr b="1" lang="ru-RU" sz="1200" spc="-1" strike="noStrike">
                <a:solidFill>
                  <a:srgbClr val="0033cc"/>
                </a:solidFill>
                <a:latin typeface="Calibri"/>
              </a:rPr>
              <a:t>Наша планета обладает атмосферой, которая отличается от атмосферы других планет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6674E-66C9-4866-B3A4-391E58D42A8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33cc"/>
                </a:solidFill>
                <a:latin typeface="Calibri"/>
              </a:rPr>
              <a:t>Только Земля обладает </a:t>
            </a:r>
            <a:r>
              <a:rPr b="0" i="1" lang="ru-RU" sz="1200" spc="-1" strike="noStrike">
                <a:solidFill>
                  <a:srgbClr val="cc00cc"/>
                </a:solidFill>
                <a:latin typeface="Calibri"/>
              </a:rPr>
              <a:t>огромными запасами воды</a:t>
            </a:r>
            <a:r>
              <a:rPr b="0" i="1" lang="ru-RU" sz="1200" spc="-1" strike="noStrike">
                <a:solidFill>
                  <a:srgbClr val="0033cc"/>
                </a:solidFill>
                <a:latin typeface="Calibri"/>
              </a:rPr>
              <a:t>. А ведь это удивительное вещество. Оно входит в состав всех живых организмов, выполняя самую разнообразную работу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9219C-3D53-451F-ABE8-84E9F48A105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ая для жизни вода перемещается в результате </a:t>
            </a:r>
            <a:r>
              <a:rPr b="0" i="1" lang="ru-RU" sz="1200" spc="-1" strike="noStrike">
                <a:solidFill>
                  <a:srgbClr val="ff0066"/>
                </a:solidFill>
                <a:latin typeface="Calibri"/>
              </a:rPr>
              <a:t>постоянного круговорот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Каждую секунду миллионы кубометров воды превращаются в пар. Поднимаясь в воздух, они образуют облака, которые вместе с воздушными потоками перемешаются на сотни километров, перенося с собой </a:t>
            </a:r>
            <a:r>
              <a:rPr b="0" lang="ru-RU" sz="1200" spc="-1" strike="noStrike">
                <a:solidFill>
                  <a:srgbClr val="0033cc"/>
                </a:solidFill>
                <a:latin typeface="Calibri"/>
              </a:rPr>
              <a:t>живительную влагу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10033-854E-47D4-BEB5-927E103BCA3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Только наша планета имеет </a:t>
            </a:r>
            <a:r>
              <a:rPr b="0" lang="ru-RU" sz="1200" spc="-1" strike="noStrike">
                <a:solidFill>
                  <a:srgbClr val="996633"/>
                </a:solidFill>
                <a:latin typeface="Calibri"/>
              </a:rPr>
              <a:t>почву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, этот верхний плодородный слой земли. </a:t>
            </a:r>
            <a:r>
              <a:rPr b="0" i="1" lang="ru-RU" sz="1200" spc="-1" strike="noStrike">
                <a:solidFill>
                  <a:srgbClr val="ff0066"/>
                </a:solidFill>
                <a:latin typeface="Calibri"/>
              </a:rPr>
              <a:t>Почва содержит вещества, необходимые для роста и развития растений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. Зеленые растения соединяют питательные вещества и воду из почвы с углекислым газом из воз­духа и при участии солнечного света образуют вещества, необходимые для их жиз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4FF09-0591-4EE6-8265-C5ED321A4DA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u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FA881-C104-408D-B19F-620DDC563BB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DB9F-F9D7-47AB-BDEF-B627CDDF4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9903-7256-4558-B720-8A46A2A3B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3FD9-C8E9-49C7-9127-2BCDF3175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7477-DA7C-49C0-BF0D-700DE6EEA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DA83-93A2-4D4A-A6DD-EFB5D5D3F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6EA5-618E-4ECD-82CA-D0DA39790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DB2B-3221-40F9-BAEC-44FE4D51F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9CD2-C559-4127-B962-4BE618240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E8FD-FE59-4C73-A096-EE68298A2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47FB-031E-4E71-BC9F-15F898B39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B5E4-75FD-4C84-8061-FA1ACDFB3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09F1-53CC-4C2D-B2A6-A00B57433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ccffff"/>
            </a:gs>
            <a:gs pos="100000">
              <a:srgbClr val="ff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FAA6A-6D6C-49DA-AFA8-A5AFC4CFEE5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design-warez.ru/uploads/posts/2009-06/1244564340_31.jpg" TargetMode="External"/><Relationship Id="rId2" Type="http://schemas.openxmlformats.org/officeDocument/2006/relationships/image" Target="../media/image11.jpeg"/><Relationship Id="rId3" Type="http://schemas.openxmlformats.org/officeDocument/2006/relationships/hyperlink" Target="http://www.design-warez.ru/pictures/beautiful/33500-krasivye-kartinki-cvety.html" TargetMode="External"/><Relationship Id="rId4" Type="http://schemas.openxmlformats.org/officeDocument/2006/relationships/image" Target="../media/image12.jpeg"/><Relationship Id="rId5" Type="http://schemas.openxmlformats.org/officeDocument/2006/relationships/hyperlink" Target="http://www.design-warez.ru/pictures/beautiful/33500-krasivye-kartinki-cvety.html" TargetMode="External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g15.nnm.ru/9/3/7/4/d/6dee4ea945c11067118066a44e2.jpg" TargetMode="External"/><Relationship Id="rId2" Type="http://schemas.openxmlformats.org/officeDocument/2006/relationships/hyperlink" Target="http://pixelbrush.ru/uploads/posts/2008-12/1230621404_earth_life_vector.jpg" TargetMode="External"/><Relationship Id="rId3" Type="http://schemas.openxmlformats.org/officeDocument/2006/relationships/hyperlink" Target="http://photoshopia.ru/forum/imagehosting/2008/08/05/14897dc60ebff9.jpg" TargetMode="External"/><Relationship Id="rId4" Type="http://schemas.openxmlformats.org/officeDocument/2006/relationships/hyperlink" Target="http://macroid.ru/_data/medium/38/DSC03958.jpg" TargetMode="External"/><Relationship Id="rId5" Type="http://schemas.openxmlformats.org/officeDocument/2006/relationships/hyperlink" Target="http://mongolia.com.ua/themes/mongolia_theme/images/gallery/DSC_0002.jpg" TargetMode="External"/><Relationship Id="rId6" Type="http://schemas.openxmlformats.org/officeDocument/2006/relationships/hyperlink" Target="http://www.membrana.ru/print.html?1224084360" TargetMode="External"/><Relationship Id="rId7" Type="http://schemas.openxmlformats.org/officeDocument/2006/relationships/hyperlink" Target="http://rcio.pnzgu.ru/personal/41/3/3/krugovorot.htm" TargetMode="External"/><Relationship Id="rId8" Type="http://schemas.openxmlformats.org/officeDocument/2006/relationships/hyperlink" Target="http://www.aquacrystal.ru/files/images/157.gif" TargetMode="External"/><Relationship Id="rId9" Type="http://schemas.openxmlformats.org/officeDocument/2006/relationships/hyperlink" Target="http://www.cawaterinfo.net/all_about_water/wpcontent/uploads/2009/08/water_drop.jpg" TargetMode="External"/><Relationship Id="rId10" Type="http://schemas.openxmlformats.org/officeDocument/2006/relationships/hyperlink" Target="http://i.i.ua/oboi/pic/7/0/91107_0.jpg" TargetMode="External"/><Relationship Id="rId11" Type="http://schemas.openxmlformats.org/officeDocument/2006/relationships/hyperlink" Target="http://www.noaa.gov/earthday/images/boywithglobe.jpg" TargetMode="External"/><Relationship Id="rId12" Type="http://schemas.openxmlformats.org/officeDocument/2006/relationships/hyperlink" Target="http://www.design-warez.ru/pictures/beautiful/33500-krasivye-kartinki-cvety.html" TargetMode="External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design-warez.ru/uploads/posts/2009-06/1244564340_31.jpg" TargetMode="External"/><Relationship Id="rId2" Type="http://schemas.openxmlformats.org/officeDocument/2006/relationships/image" Target="../media/image11.jpeg"/><Relationship Id="rId3" Type="http://schemas.openxmlformats.org/officeDocument/2006/relationships/hyperlink" Target="http://www.design-warez.ru/pictures/beautiful/33500-krasivye-kartinki-cvety.html" TargetMode="External"/><Relationship Id="rId4" Type="http://schemas.openxmlformats.org/officeDocument/2006/relationships/image" Target="../media/image12.jpeg"/><Relationship Id="rId5" Type="http://schemas.openxmlformats.org/officeDocument/2006/relationships/hyperlink" Target="http://www.design-warez.ru/pictures/beautiful/33500-krasivye-kartinki-cvety.html" TargetMode="External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0" y="4876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d038f"/>
                </a:solidFill>
                <a:latin typeface="Arial"/>
              </a:rPr>
              <a:t>Авторы: Дедух Галина Васильевна,</a:t>
            </a:r>
            <a:r>
              <a:rPr b="0" lang="ru-RU" sz="1800" spc="-1" strike="noStrike">
                <a:solidFill>
                  <a:srgbClr val="0d038f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d038f"/>
                </a:solidFill>
                <a:latin typeface="Arial"/>
              </a:rPr>
              <a:t>учитель географии,</a:t>
            </a:r>
            <a:r>
              <a:rPr b="1" i="1" lang="en-US" sz="1800" spc="-1" strike="noStrike">
                <a:solidFill>
                  <a:srgbClr val="0d038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d038f"/>
                </a:solidFill>
                <a:latin typeface="Arial"/>
              </a:rPr>
              <a:t>Хворостьяная Наталья Васильевна, учитель английского язык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d038f"/>
                </a:solidFill>
                <a:latin typeface="Arial"/>
              </a:rPr>
              <a:t>МОУ «Гимназия №5 г. Белгорода»,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WordArt 4"/>
          <p:cNvSpPr txBox="1"/>
          <p:nvPr/>
        </p:nvSpPr>
        <p:spPr>
          <a:xfrm>
            <a:off x="762120" y="0"/>
            <a:ext cx="7619760" cy="464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Земля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Earth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2590920" y="5257800"/>
            <a:ext cx="6095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ck yoursel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Красивые картинки цветы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00600" y="914400"/>
            <a:ext cx="3657600" cy="22096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1244564268_2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28600" y="914400"/>
            <a:ext cx="3352680" cy="21337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1244564328_2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819520" y="3809880"/>
            <a:ext cx="3276360" cy="198144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9"/>
          <p:cNvSpPr/>
          <p:nvPr/>
        </p:nvSpPr>
        <p:spPr>
          <a:xfrm>
            <a:off x="4876920" y="3200400"/>
            <a:ext cx="350496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l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0"/>
          <p:cNvSpPr/>
          <p:nvPr/>
        </p:nvSpPr>
        <p:spPr>
          <a:xfrm>
            <a:off x="228600" y="3200400"/>
            <a:ext cx="33526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1"/>
          <p:cNvSpPr/>
          <p:nvPr/>
        </p:nvSpPr>
        <p:spPr>
          <a:xfrm>
            <a:off x="2743200" y="6019920"/>
            <a:ext cx="33526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инквей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Зем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уникальная удивительн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живет дышит вращае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самая лучшая из план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суперпланета</a:t>
            </a: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6" descr=""/>
          <p:cNvPicPr/>
          <p:nvPr/>
        </p:nvPicPr>
        <p:blipFill>
          <a:blip r:embed="rId1"/>
          <a:stretch/>
        </p:blipFill>
        <p:spPr>
          <a:xfrm>
            <a:off x="4495680" y="3429000"/>
            <a:ext cx="2132280" cy="31780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8" descr=""/>
          <p:cNvPicPr/>
          <p:nvPr/>
        </p:nvPicPr>
        <p:blipFill>
          <a:blip r:embed="rId2"/>
          <a:stretch/>
        </p:blipFill>
        <p:spPr>
          <a:xfrm>
            <a:off x="5486400" y="228600"/>
            <a:ext cx="3457440" cy="2895480"/>
          </a:xfrm>
          <a:prstGeom prst="rect">
            <a:avLst/>
          </a:prstGeom>
          <a:ln w="0">
            <a:noFill/>
          </a:ln>
        </p:spPr>
      </p:pic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wipe(down)" transition="out">
                                      <p:cBhvr additive="repl">
                                        <p:cTn id="41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cc"/>
                </a:solidFill>
                <a:latin typeface="Arial"/>
              </a:rPr>
              <a:t>Список литерату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фанасьева О.В., Баранова К.М. Книга для чтения для 6 класса.- М.: Просвещение, 200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еева Т.М., Кичапова Е.В., Чхиквишвили Н.А.  Англо-русский тематический словарь с иллюстрациями.- Изд-во: Прин-ди, 1993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img15.nnm.ru/9/3/7/4/d/6dee4ea945c11067118066a44e2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Земл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pixelbrush.ru/uploads/posts/2008-12/1230621404_earth_life_vector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жизнь на Земл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photoshopia.ru/forum/imagehosting/2008/08/05/14897dc60ebff9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жизнь на Земл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macroid.ru/_data/medium/38/DSC03958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жизнь на Земл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mongolia.com.ua/themes/mongolia_theme/images/gallery/DSC_0002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атмосфер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www.membrana.ru/print.html?1224084360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– вод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rcio.pnzgu.ru/personal/41/3/3/krugovorot.htm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круговорот воды в природ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://www.aquacrystal.ru/files/images/157.gif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круговорот воды в природ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http://www.cawaterinfo.net/all_about_water/wpcontent/uploads/2009/08/water_drop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вод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http://i.i.ua/oboi/pic/7/0/91107_0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почв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http://www.noaa.gov/earthday/images/boywithglobe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Земл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http://www.design-warez.ru/pictures/beautiful/33500-krasivye-kartinki-cvety.htm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цвет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Arial"/>
              </a:rPr>
              <a:t>Наша Земля прекрасна. Космонавты говорят, что из космоса она выглядит как драгоценный камень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8229600" cy="525780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99"/>
                </a:solidFill>
                <a:latin typeface="Arial"/>
              </a:rPr>
              <a:t>Уникальность  Земли состоит в том, что только на ней из всех планет Солнечной системы есть жиз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7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66"/>
                </a:solidFill>
                <a:latin typeface="Arial"/>
              </a:rPr>
              <a:t>Давайте подумаем, почему же возможна жизнь на Земле?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j0299125"/>
          <p:cNvPicPr/>
          <p:nvPr/>
        </p:nvPicPr>
        <p:blipFill>
          <a:blip r:embed="rId1"/>
          <a:stretch/>
        </p:blipFill>
        <p:spPr>
          <a:xfrm>
            <a:off x="228600" y="4800600"/>
            <a:ext cx="1100160" cy="18050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9" descr=""/>
          <p:cNvPicPr/>
          <p:nvPr/>
        </p:nvPicPr>
        <p:blipFill>
          <a:blip r:embed="rId2"/>
          <a:stretch/>
        </p:blipFill>
        <p:spPr>
          <a:xfrm>
            <a:off x="2057400" y="1523880"/>
            <a:ext cx="6858000" cy="4586400"/>
          </a:xfrm>
          <a:prstGeom prst="rect">
            <a:avLst/>
          </a:prstGeom>
          <a:ln w="0">
            <a:noFill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cc"/>
                </a:solidFill>
                <a:latin typeface="Arial"/>
              </a:rPr>
              <a:t>Первая особенность, благодаря которой на Земле возможна жизнь – это </a:t>
            </a:r>
            <a:r>
              <a:rPr b="1" i="1" lang="ru-RU" sz="2000" spc="-1" strike="noStrike">
                <a:solidFill>
                  <a:srgbClr val="ff0066"/>
                </a:solidFill>
                <a:latin typeface="Arial"/>
              </a:rPr>
              <a:t>оптимальный температурный режим</a:t>
            </a:r>
            <a:r>
              <a:rPr b="1" i="1" lang="ru-RU" sz="2000" spc="-1" strike="noStrike">
                <a:solidFill>
                  <a:srgbClr val="0033cc"/>
                </a:solidFill>
                <a:latin typeface="Arial"/>
              </a:rPr>
              <a:t>.</a:t>
            </a:r>
            <a:br>
              <a:rPr sz="2000"/>
            </a:b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Наша планета обладает атмосферой, которая отличается от атмосферы других планет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457200" y="1828800"/>
            <a:ext cx="8229600" cy="4724280"/>
          </a:xfrm>
          <a:prstGeom prst="rect">
            <a:avLst/>
          </a:prstGeom>
          <a:ln w="0">
            <a:noFill/>
          </a:ln>
        </p:spPr>
      </p:pic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33cc"/>
                </a:solidFill>
                <a:latin typeface="Arial"/>
              </a:rPr>
              <a:t>Только Земля обладает </a:t>
            </a:r>
            <a:r>
              <a:rPr b="0" i="1" lang="ru-RU" sz="2400" spc="-1" strike="noStrike">
                <a:solidFill>
                  <a:srgbClr val="cc00cc"/>
                </a:solidFill>
                <a:latin typeface="Arial"/>
              </a:rPr>
              <a:t>огромными запасами воды</a:t>
            </a:r>
            <a:r>
              <a:rPr b="0" i="1" lang="ru-RU" sz="2400" spc="-1" strike="noStrike">
                <a:solidFill>
                  <a:srgbClr val="0033cc"/>
                </a:solidFill>
                <a:latin typeface="Arial"/>
              </a:rPr>
              <a:t>. А ведь это удивительное вещество. Оно входит в состав всех живых организмов, выполняя самую разнообразную работу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8" descr=""/>
          <p:cNvPicPr/>
          <p:nvPr/>
        </p:nvPicPr>
        <p:blipFill>
          <a:blip r:embed="rId1"/>
          <a:stretch/>
        </p:blipFill>
        <p:spPr>
          <a:xfrm>
            <a:off x="457200" y="18288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39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обходимая для жизни вода перемещается в результате </a:t>
            </a:r>
            <a:r>
              <a:rPr b="0" i="1" lang="ru-RU" sz="2400" spc="-1" strike="noStrike">
                <a:solidFill>
                  <a:srgbClr val="ff0066"/>
                </a:solidFill>
                <a:latin typeface="Arial"/>
              </a:rPr>
              <a:t>постоянного круговорот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Каждую секунду миллионы кубометров воды превращаются в пар. Поднимаясь в воздух, они образуют облака, которые вместе с воздушными потоками перемешаются на сотни километров, перенося с собой </a:t>
            </a:r>
            <a:r>
              <a:rPr b="0" lang="ru-RU" sz="2400" spc="-1" strike="noStrike">
                <a:solidFill>
                  <a:srgbClr val="0033cc"/>
                </a:solidFill>
                <a:latin typeface="Arial"/>
              </a:rPr>
              <a:t>живительную влагу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7" descr=""/>
          <p:cNvPicPr/>
          <p:nvPr/>
        </p:nvPicPr>
        <p:blipFill>
          <a:blip r:embed="rId1"/>
          <a:stretch/>
        </p:blipFill>
        <p:spPr>
          <a:xfrm>
            <a:off x="380880" y="2590920"/>
            <a:ext cx="3591000" cy="3568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"/>
          <p:cNvPicPr/>
          <p:nvPr/>
        </p:nvPicPr>
        <p:blipFill>
          <a:blip r:embed="rId2"/>
          <a:stretch/>
        </p:blipFill>
        <p:spPr>
          <a:xfrm>
            <a:off x="5181480" y="2590920"/>
            <a:ext cx="3581640" cy="2725560"/>
          </a:xfrm>
          <a:prstGeom prst="rect">
            <a:avLst/>
          </a:prstGeom>
          <a:ln w="0">
            <a:noFill/>
          </a:ln>
        </p:spPr>
      </p:pic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Только наша планета имеет </a:t>
            </a:r>
            <a:r>
              <a:rPr b="0" lang="ru-RU" sz="2000" spc="-1" strike="noStrike">
                <a:solidFill>
                  <a:srgbClr val="996633"/>
                </a:solidFill>
                <a:latin typeface="Arial"/>
              </a:rPr>
              <a:t>почву</a:t>
            </a: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, этот верхний плодородный слой земли. </a:t>
            </a:r>
            <a:r>
              <a:rPr b="0" i="1" lang="ru-RU" sz="2000" spc="-1" strike="noStrike">
                <a:solidFill>
                  <a:srgbClr val="ff0066"/>
                </a:solidFill>
                <a:latin typeface="Arial"/>
              </a:rPr>
              <a:t>Почва содержит вещества, необходимые для роста и развития растений</a:t>
            </a: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. Зеленые растения соединяют питательные вещества и воду из почвы с углекислым газом из воз­духа и при участии солнечного света образуют вещества, необходимые для их жиз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57200" y="2057400"/>
            <a:ext cx="8229600" cy="449568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u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1"/>
          <p:cNvSpPr/>
          <p:nvPr/>
        </p:nvSpPr>
        <p:spPr>
          <a:xfrm>
            <a:off x="457200" y="4670280"/>
            <a:ext cx="4038480" cy="21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0" descr="Красивые картинки цветы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609480"/>
            <a:ext cx="3200400" cy="188748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14"/>
          <p:cNvSpPr/>
          <p:nvPr/>
        </p:nvSpPr>
        <p:spPr>
          <a:xfrm>
            <a:off x="4648320" y="1523880"/>
            <a:ext cx="365760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вет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30" descr="1244564268_2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33520" y="2666880"/>
            <a:ext cx="3124080" cy="19051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9" descr="1244564328_2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57200" y="4724280"/>
            <a:ext cx="3124080" cy="190512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40"/>
          <p:cNvSpPr/>
          <p:nvPr/>
        </p:nvSpPr>
        <p:spPr>
          <a:xfrm>
            <a:off x="4648320" y="5257800"/>
            <a:ext cx="365760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41"/>
          <p:cNvSpPr/>
          <p:nvPr/>
        </p:nvSpPr>
        <p:spPr>
          <a:xfrm>
            <a:off x="4724280" y="3200400"/>
            <a:ext cx="365760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l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43"/>
          <p:cNvSpPr/>
          <p:nvPr/>
        </p:nvSpPr>
        <p:spPr>
          <a:xfrm>
            <a:off x="4572000" y="1523880"/>
            <a:ext cx="37339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3-30T08:47:09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