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5.jpeg" ContentType="image/jpeg"/>
  <Override PartName="/ppt/media/image4.wmf" ContentType="image/x-wmf"/>
  <Override PartName="/ppt/media/image10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BAE65-74F1-49D0-BCB2-D7B7D242262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hyperlink" Target="http://img15.nnm.ru/9/3/7/4/d/6dee4ea945c11067118066a44e2.jpg" TargetMode="External"/><Relationship Id="rId2" Type="http://schemas.openxmlformats.org/officeDocument/2006/relationships/hyperlink" Target="http://pixelbrush.ru/uploads/posts/2008-12/1230621404_earth_life_vector.jpg" TargetMode="External"/><Relationship Id="rId3" Type="http://schemas.openxmlformats.org/officeDocument/2006/relationships/slide" Target="../slides/slide12.xml"/><Relationship Id="rId4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d038f"/>
                </a:solidFill>
                <a:latin typeface="Calibri"/>
              </a:rPr>
              <a:t>Авторы: Дедух Галина Васильевна,</a:t>
            </a:r>
            <a:r>
              <a:rPr b="0" lang="ru-RU" sz="1200" spc="-1" strike="noStrike">
                <a:solidFill>
                  <a:srgbClr val="0d038f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d038f"/>
                </a:solidFill>
                <a:latin typeface="Calibri"/>
              </a:rPr>
              <a:t>учитель географии,</a:t>
            </a:r>
            <a:r>
              <a:rPr b="1" i="1" lang="en-US" sz="1200" spc="-1" strike="noStrike">
                <a:solidFill>
                  <a:srgbClr val="0d038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d038f"/>
                </a:solidFill>
                <a:latin typeface="Calibri"/>
              </a:rPr>
              <a:t>Хворостьяная Наталья Васильевна, учитель английского язык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d038f"/>
                </a:solidFill>
                <a:latin typeface="Calibri"/>
              </a:rPr>
              <a:t>МОУ «Гимназия №5 г. Белгорода»,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D8912-998F-49C6-B73E-9DE3C8DBB18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ck yoursel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BB464-528E-48EE-BDFA-66BB61F6354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инквей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Calibri"/>
              </a:rPr>
              <a:t>Зем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Calibri"/>
              </a:rPr>
              <a:t>уникальная удивительна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Calibri"/>
              </a:rPr>
              <a:t>живет дышит вращае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Calibri"/>
              </a:rPr>
              <a:t>самая лучшая из план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Calibri"/>
              </a:rPr>
              <a:t>суперпланета</a:t>
            </a:r>
            <a:r>
              <a:rPr b="0" lang="ru-RU" sz="1200" spc="-1" strike="noStrike">
                <a:solidFill>
                  <a:srgbClr val="ff0066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15945-465B-4D7C-8329-BCC6B3AEB47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Calibri"/>
              </a:rPr>
              <a:t>Список литерату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фанасьева О.В., Баранова К.М. Книга для чтения для 6 класса.- М.: Просвещение, 200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ева Т.М., Кичапова Е.В., Чхиквишвили Н.А.  Англо-русский тематический словарь с иллюстрациями.- Изд-во: Прин-ди, 199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img15.nnm.ru/9/3/7/4/d/6dee4ea945c11067118066a44e2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Земл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pixelbrush.ru/uploads/posts/2008-12/1230621404_earth_life_vector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жизнь на Земл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photoshopia.ru/forum/imagehosting/2008/08/05/14897dc60ebff9.jpg - жизнь на Земл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macroid.ru/_data/medium/38/DSC03958.jpg- жизнь на Земл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mongolia.com.ua/themes/mongolia_theme/images/gallery/DSC_0002.jpg - атмосфе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membrana.ru/print.html?1224084360 – в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rcio.pnzgu.ru/personal/41/3/3/krugovorot.htm - круговорот воды в природ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aquacrystal.ru/files/images/157.gif -круговорот воды в природ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cawaterinfo.net/all_about_water/wpcontent/uploads/2009/08/water_drop.jpg - в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i.i.ua/oboi/pic/7/0/91107_0.jpg - поч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noaa.gov/earthday/images/boywithglobe.jpg - Земл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design-warez.ru/pictures/beautiful/33500-krasivye-kartinki-cvety.html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ве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04EAC-800B-4C56-83AF-D0ED6463526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Calibri"/>
              </a:rPr>
              <a:t>Наша Земля прекрасна. Космонавты говорят, что из космоса она выглядит как драгоценный камень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55B72-669B-46A0-81A4-36C6C1D26B3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Уникальность  Земли состоит в том, что только на ней из всех планет Солнечной системы есть жизн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00EFC-0D7B-4E1E-A86A-019BD577AD5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66"/>
                </a:solidFill>
                <a:latin typeface="Calibri"/>
              </a:rPr>
              <a:t>Давайте подумаем, почему же возможна жизнь на Земле?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FE93D-EBFF-4B0F-A939-2D4F3A43843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33cc"/>
                </a:solidFill>
                <a:latin typeface="Calibri"/>
              </a:rPr>
              <a:t>Первая особенность, благодаря которой на Земле возможна жизнь – это </a:t>
            </a:r>
            <a:r>
              <a:rPr b="1" i="1" lang="ru-RU" sz="1200" spc="-1" strike="noStrike">
                <a:solidFill>
                  <a:srgbClr val="ff0066"/>
                </a:solidFill>
                <a:latin typeface="Calibri"/>
              </a:rPr>
              <a:t>оптимальный температурный режим</a:t>
            </a:r>
            <a:r>
              <a:rPr b="1" i="1" lang="ru-RU" sz="1200" spc="-1" strike="noStrike">
                <a:solidFill>
                  <a:srgbClr val="0033cc"/>
                </a:solidFill>
                <a:latin typeface="Calibri"/>
              </a:rPr>
              <a:t>.</a:t>
            </a:r>
            <a:br>
              <a:rPr sz="1200"/>
            </a:br>
            <a:r>
              <a:rPr b="1" lang="ru-RU" sz="1200" spc="-1" strike="noStrike">
                <a:solidFill>
                  <a:srgbClr val="0033cc"/>
                </a:solidFill>
                <a:latin typeface="Calibri"/>
              </a:rPr>
              <a:t>Наша планета обладает атмосферой, которая отличается от атмосферы других планет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682ED-E2E0-4AE8-823A-E3D61FBBD1F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33cc"/>
                </a:solidFill>
                <a:latin typeface="Calibri"/>
              </a:rPr>
              <a:t>Только Земля обладает </a:t>
            </a:r>
            <a:r>
              <a:rPr b="0" i="1" lang="ru-RU" sz="1200" spc="-1" strike="noStrike">
                <a:solidFill>
                  <a:srgbClr val="cc00cc"/>
                </a:solidFill>
                <a:latin typeface="Calibri"/>
              </a:rPr>
              <a:t>огромными запасами воды</a:t>
            </a:r>
            <a:r>
              <a:rPr b="0" i="1" lang="ru-RU" sz="1200" spc="-1" strike="noStrike">
                <a:solidFill>
                  <a:srgbClr val="0033cc"/>
                </a:solidFill>
                <a:latin typeface="Calibri"/>
              </a:rPr>
              <a:t>. А ведь это удивительное вещество. Оно входит в состав всех живых организмов, выполняя самую разнообразную работу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16494-8DCD-4440-A2EE-94EDB551B20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ая для жизни вода перемещается в результате </a:t>
            </a:r>
            <a:r>
              <a:rPr b="0" i="1" lang="ru-RU" sz="1200" spc="-1" strike="noStrike">
                <a:solidFill>
                  <a:srgbClr val="ff0066"/>
                </a:solidFill>
                <a:latin typeface="Calibri"/>
              </a:rPr>
              <a:t>постоянного круговорот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Каждую секунду миллионы кубометров воды превращаются в пар. Поднимаясь в воздух, они образуют облака, которые вместе с воздушными потоками перемешаются на сотни километров, перенося с собой </a:t>
            </a:r>
            <a:r>
              <a:rPr b="0" lang="ru-RU" sz="1200" spc="-1" strike="noStrike">
                <a:solidFill>
                  <a:srgbClr val="0033cc"/>
                </a:solidFill>
                <a:latin typeface="Calibri"/>
              </a:rPr>
              <a:t>живительную влагу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E1430-3975-4544-99E6-75D2524EBF0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Только наша планета имеет </a:t>
            </a:r>
            <a:r>
              <a:rPr b="0" lang="ru-RU" sz="1200" spc="-1" strike="noStrike">
                <a:solidFill>
                  <a:srgbClr val="996633"/>
                </a:solidFill>
                <a:latin typeface="Calibri"/>
              </a:rPr>
              <a:t>почву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, этот верхний плодородный слой земли. </a:t>
            </a:r>
            <a:r>
              <a:rPr b="0" i="1" lang="ru-RU" sz="1200" spc="-1" strike="noStrike">
                <a:solidFill>
                  <a:srgbClr val="ff0066"/>
                </a:solidFill>
                <a:latin typeface="Calibri"/>
              </a:rPr>
              <a:t>Почва содержит вещества, необходимые для роста и развития растений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. Зеленые растения соединяют питательные вещества и воду из почвы с углекислым газом из воз­духа и при участии солнечного света образуют вещества, необходимые для их жиз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183E0-4CAE-4533-93A3-DBDB1E23B99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u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6D803-E55A-4798-A727-8540089B0AC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21BC-7756-43FC-AD4A-5E5AA4F0A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EE9A-07B6-4848-9908-BFAE5960A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55E1-1DB4-4C87-BC83-BBDF74BF5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65CE-F3A4-47AC-9DEA-8192848BD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BB0C-8675-4E32-B7F6-A7D4E79EF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7960-1D30-45BE-A383-B9AFC979B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C593-9095-4FA9-9771-92D8D8CC9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B9A6-5244-4FEB-AADA-3EE31CC6B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D71E-52C9-44C6-810B-F9A4F0646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5ED1-ED74-49D3-9948-F16ABC038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0ED0-040D-4175-A6BC-C656AB450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3804-549B-44E5-8220-B465E7423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ccffff"/>
            </a:gs>
            <a:gs pos="100000">
              <a:srgbClr val="ff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E433A-B755-49AC-BD8B-37EA5AD51F4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design-warez.ru/uploads/posts/2009-06/1244564340_31.jpg" TargetMode="External"/><Relationship Id="rId2" Type="http://schemas.openxmlformats.org/officeDocument/2006/relationships/image" Target="../media/image11.jpeg"/><Relationship Id="rId3" Type="http://schemas.openxmlformats.org/officeDocument/2006/relationships/hyperlink" Target="http://www.design-warez.ru/pictures/beautiful/33500-krasivye-kartinki-cvety.html" TargetMode="External"/><Relationship Id="rId4" Type="http://schemas.openxmlformats.org/officeDocument/2006/relationships/image" Target="../media/image12.jpeg"/><Relationship Id="rId5" Type="http://schemas.openxmlformats.org/officeDocument/2006/relationships/hyperlink" Target="http://www.design-warez.ru/pictures/beautiful/33500-krasivye-kartinki-cvety.html" TargetMode="External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g15.nnm.ru/9/3/7/4/d/6dee4ea945c11067118066a44e2.jpg" TargetMode="External"/><Relationship Id="rId2" Type="http://schemas.openxmlformats.org/officeDocument/2006/relationships/hyperlink" Target="http://pixelbrush.ru/uploads/posts/2008-12/1230621404_earth_life_vector.jpg" TargetMode="External"/><Relationship Id="rId3" Type="http://schemas.openxmlformats.org/officeDocument/2006/relationships/hyperlink" Target="http://photoshopia.ru/forum/imagehosting/2008/08/05/14897dc60ebff9.jpg" TargetMode="External"/><Relationship Id="rId4" Type="http://schemas.openxmlformats.org/officeDocument/2006/relationships/hyperlink" Target="http://macroid.ru/_data/medium/38/DSC03958.jpg" TargetMode="External"/><Relationship Id="rId5" Type="http://schemas.openxmlformats.org/officeDocument/2006/relationships/hyperlink" Target="http://mongolia.com.ua/themes/mongolia_theme/images/gallery/DSC_0002.jpg" TargetMode="External"/><Relationship Id="rId6" Type="http://schemas.openxmlformats.org/officeDocument/2006/relationships/hyperlink" Target="http://www.membrana.ru/print.html?1224084360" TargetMode="External"/><Relationship Id="rId7" Type="http://schemas.openxmlformats.org/officeDocument/2006/relationships/hyperlink" Target="http://rcio.pnzgu.ru/personal/41/3/3/krugovorot.htm" TargetMode="External"/><Relationship Id="rId8" Type="http://schemas.openxmlformats.org/officeDocument/2006/relationships/hyperlink" Target="http://www.aquacrystal.ru/files/images/157.gif" TargetMode="External"/><Relationship Id="rId9" Type="http://schemas.openxmlformats.org/officeDocument/2006/relationships/hyperlink" Target="http://www.cawaterinfo.net/all_about_water/wpcontent/uploads/2009/08/water_drop.jpg" TargetMode="External"/><Relationship Id="rId10" Type="http://schemas.openxmlformats.org/officeDocument/2006/relationships/hyperlink" Target="http://i.i.ua/oboi/pic/7/0/91107_0.jpg" TargetMode="External"/><Relationship Id="rId11" Type="http://schemas.openxmlformats.org/officeDocument/2006/relationships/hyperlink" Target="http://www.noaa.gov/earthday/images/boywithglobe.jpg" TargetMode="External"/><Relationship Id="rId12" Type="http://schemas.openxmlformats.org/officeDocument/2006/relationships/hyperlink" Target="http://www.design-warez.ru/pictures/beautiful/33500-krasivye-kartinki-cvety.html" TargetMode="External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design-warez.ru/uploads/posts/2009-06/1244564340_31.jpg" TargetMode="External"/><Relationship Id="rId2" Type="http://schemas.openxmlformats.org/officeDocument/2006/relationships/image" Target="../media/image11.jpeg"/><Relationship Id="rId3" Type="http://schemas.openxmlformats.org/officeDocument/2006/relationships/hyperlink" Target="http://www.design-warez.ru/pictures/beautiful/33500-krasivye-kartinki-cvety.html" TargetMode="External"/><Relationship Id="rId4" Type="http://schemas.openxmlformats.org/officeDocument/2006/relationships/image" Target="../media/image12.jpeg"/><Relationship Id="rId5" Type="http://schemas.openxmlformats.org/officeDocument/2006/relationships/hyperlink" Target="http://www.design-warez.ru/pictures/beautiful/33500-krasivye-kartinki-cvety.html" TargetMode="External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0" y="4876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d038f"/>
                </a:solidFill>
                <a:latin typeface="Arial"/>
              </a:rPr>
              <a:t>Авторы: Дедух Галина Васильевна,</a:t>
            </a:r>
            <a:r>
              <a:rPr b="0" lang="ru-RU" sz="1800" spc="-1" strike="noStrike">
                <a:solidFill>
                  <a:srgbClr val="0d038f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d038f"/>
                </a:solidFill>
                <a:latin typeface="Arial"/>
              </a:rPr>
              <a:t>учитель географии,</a:t>
            </a:r>
            <a:r>
              <a:rPr b="1" i="1" lang="en-US" sz="1800" spc="-1" strike="noStrike">
                <a:solidFill>
                  <a:srgbClr val="0d038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d038f"/>
                </a:solidFill>
                <a:latin typeface="Arial"/>
              </a:rPr>
              <a:t>Хворостьяная Наталья Васильевна, учитель английского язык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d038f"/>
                </a:solidFill>
                <a:latin typeface="Arial"/>
              </a:rPr>
              <a:t>МОУ «Гимназия №5 г. Белгорода»,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WordArt 4"/>
          <p:cNvSpPr txBox="1"/>
          <p:nvPr/>
        </p:nvSpPr>
        <p:spPr>
          <a:xfrm>
            <a:off x="762120" y="0"/>
            <a:ext cx="7619760" cy="464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Земля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Earth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2590920" y="5257800"/>
            <a:ext cx="6095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ck yoursel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Красивые картинки цветы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00600" y="914400"/>
            <a:ext cx="3657600" cy="22096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1244564268_2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28600" y="914400"/>
            <a:ext cx="3352680" cy="21337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1244564328_2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819520" y="3809880"/>
            <a:ext cx="3276360" cy="198144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9"/>
          <p:cNvSpPr/>
          <p:nvPr/>
        </p:nvSpPr>
        <p:spPr>
          <a:xfrm>
            <a:off x="4876920" y="3200400"/>
            <a:ext cx="350496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l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0"/>
          <p:cNvSpPr/>
          <p:nvPr/>
        </p:nvSpPr>
        <p:spPr>
          <a:xfrm>
            <a:off x="228600" y="3200400"/>
            <a:ext cx="33526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1"/>
          <p:cNvSpPr/>
          <p:nvPr/>
        </p:nvSpPr>
        <p:spPr>
          <a:xfrm>
            <a:off x="2743200" y="6019920"/>
            <a:ext cx="33526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инквей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Зем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уникальная удивительн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живет дышит вращае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самая лучшая из план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суперпланета</a:t>
            </a: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6" descr=""/>
          <p:cNvPicPr/>
          <p:nvPr/>
        </p:nvPicPr>
        <p:blipFill>
          <a:blip r:embed="rId1"/>
          <a:stretch/>
        </p:blipFill>
        <p:spPr>
          <a:xfrm>
            <a:off x="4495680" y="3429000"/>
            <a:ext cx="2132280" cy="31780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8" descr=""/>
          <p:cNvPicPr/>
          <p:nvPr/>
        </p:nvPicPr>
        <p:blipFill>
          <a:blip r:embed="rId2"/>
          <a:stretch/>
        </p:blipFill>
        <p:spPr>
          <a:xfrm>
            <a:off x="5486400" y="228600"/>
            <a:ext cx="3457440" cy="2895480"/>
          </a:xfrm>
          <a:prstGeom prst="rect">
            <a:avLst/>
          </a:prstGeom>
          <a:ln w="0">
            <a:noFill/>
          </a:ln>
        </p:spPr>
      </p:pic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wipe(down)" transition="out">
                                      <p:cBhvr additive="repl">
                                        <p:cTn id="41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cc"/>
                </a:solidFill>
                <a:latin typeface="Arial"/>
              </a:rPr>
              <a:t>Список литерату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фанасьева О.В., Баранова К.М. Книга для чтения для 6 класса.- М.: Просвещение, 200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еева Т.М., Кичапова Е.В., Чхиквишвили Н.А.  Англо-русский тематический словарь с иллюстрациями.- Изд-во: Прин-ди, 1993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img15.nnm.ru/9/3/7/4/d/6dee4ea945c11067118066a44e2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Земл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pixelbrush.ru/uploads/posts/2008-12/1230621404_earth_life_vector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жизнь на Земл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photoshopia.ru/forum/imagehosting/2008/08/05/14897dc60ebff9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жизнь на Земл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macroid.ru/_data/medium/38/DSC03958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жизнь на Земл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mongolia.com.ua/themes/mongolia_theme/images/gallery/DSC_0002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атмосфер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www.membrana.ru/print.html?1224084360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– вод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rcio.pnzgu.ru/personal/41/3/3/krugovorot.htm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круговорот воды в природ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://www.aquacrystal.ru/files/images/157.gif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круговорот воды в природ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http://www.cawaterinfo.net/all_about_water/wpcontent/uploads/2009/08/water_drop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вод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http://i.i.ua/oboi/pic/7/0/91107_0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почв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http://www.noaa.gov/earthday/images/boywithglobe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Земл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http://www.design-warez.ru/pictures/beautiful/33500-krasivye-kartinki-cvety.htm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цвет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Arial"/>
              </a:rPr>
              <a:t>Наша Земля прекрасна. Космонавты говорят, что из космоса она выглядит как драгоценный камень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8229600" cy="525780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99"/>
                </a:solidFill>
                <a:latin typeface="Arial"/>
              </a:rPr>
              <a:t>Уникальность  Земли состоит в том, что только на ней из всех планет Солнечной системы есть жиз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7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66"/>
                </a:solidFill>
                <a:latin typeface="Arial"/>
              </a:rPr>
              <a:t>Давайте подумаем, почему же возможна жизнь на Земле?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j0299125"/>
          <p:cNvPicPr/>
          <p:nvPr/>
        </p:nvPicPr>
        <p:blipFill>
          <a:blip r:embed="rId1"/>
          <a:stretch/>
        </p:blipFill>
        <p:spPr>
          <a:xfrm>
            <a:off x="228600" y="4800600"/>
            <a:ext cx="1100160" cy="18050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9" descr=""/>
          <p:cNvPicPr/>
          <p:nvPr/>
        </p:nvPicPr>
        <p:blipFill>
          <a:blip r:embed="rId2"/>
          <a:stretch/>
        </p:blipFill>
        <p:spPr>
          <a:xfrm>
            <a:off x="2057400" y="1523880"/>
            <a:ext cx="6858000" cy="4586400"/>
          </a:xfrm>
          <a:prstGeom prst="rect">
            <a:avLst/>
          </a:prstGeom>
          <a:ln w="0">
            <a:noFill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cc"/>
                </a:solidFill>
                <a:latin typeface="Arial"/>
              </a:rPr>
              <a:t>Первая особенность, благодаря которой на Земле возможна жизнь – это </a:t>
            </a:r>
            <a:r>
              <a:rPr b="1" i="1" lang="ru-RU" sz="2000" spc="-1" strike="noStrike">
                <a:solidFill>
                  <a:srgbClr val="ff0066"/>
                </a:solidFill>
                <a:latin typeface="Arial"/>
              </a:rPr>
              <a:t>оптимальный температурный режим</a:t>
            </a:r>
            <a:r>
              <a:rPr b="1" i="1" lang="ru-RU" sz="2000" spc="-1" strike="noStrike">
                <a:solidFill>
                  <a:srgbClr val="0033cc"/>
                </a:solidFill>
                <a:latin typeface="Arial"/>
              </a:rPr>
              <a:t>.</a:t>
            </a:r>
            <a:br>
              <a:rPr sz="2000"/>
            </a:b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Наша планета обладает атмосферой, которая отличается от атмосферы других планет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457200" y="1828800"/>
            <a:ext cx="8229600" cy="4724280"/>
          </a:xfrm>
          <a:prstGeom prst="rect">
            <a:avLst/>
          </a:prstGeom>
          <a:ln w="0">
            <a:noFill/>
          </a:ln>
        </p:spPr>
      </p:pic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33cc"/>
                </a:solidFill>
                <a:latin typeface="Arial"/>
              </a:rPr>
              <a:t>Только Земля обладает </a:t>
            </a:r>
            <a:r>
              <a:rPr b="0" i="1" lang="ru-RU" sz="2400" spc="-1" strike="noStrike">
                <a:solidFill>
                  <a:srgbClr val="cc00cc"/>
                </a:solidFill>
                <a:latin typeface="Arial"/>
              </a:rPr>
              <a:t>огромными запасами воды</a:t>
            </a:r>
            <a:r>
              <a:rPr b="0" i="1" lang="ru-RU" sz="2400" spc="-1" strike="noStrike">
                <a:solidFill>
                  <a:srgbClr val="0033cc"/>
                </a:solidFill>
                <a:latin typeface="Arial"/>
              </a:rPr>
              <a:t>. А ведь это удивительное вещество. Оно входит в состав всех живых организмов, выполняя самую разнообразную работу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8" descr=""/>
          <p:cNvPicPr/>
          <p:nvPr/>
        </p:nvPicPr>
        <p:blipFill>
          <a:blip r:embed="rId1"/>
          <a:stretch/>
        </p:blipFill>
        <p:spPr>
          <a:xfrm>
            <a:off x="457200" y="18288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39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обходимая для жизни вода перемещается в результате </a:t>
            </a:r>
            <a:r>
              <a:rPr b="0" i="1" lang="ru-RU" sz="2400" spc="-1" strike="noStrike">
                <a:solidFill>
                  <a:srgbClr val="ff0066"/>
                </a:solidFill>
                <a:latin typeface="Arial"/>
              </a:rPr>
              <a:t>постоянного круговорот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Каждую секунду миллионы кубометров воды превращаются в пар. Поднимаясь в воздух, они образуют облака, которые вместе с воздушными потоками перемешаются на сотни километров, перенося с собой </a:t>
            </a:r>
            <a:r>
              <a:rPr b="0" lang="ru-RU" sz="2400" spc="-1" strike="noStrike">
                <a:solidFill>
                  <a:srgbClr val="0033cc"/>
                </a:solidFill>
                <a:latin typeface="Arial"/>
              </a:rPr>
              <a:t>живительную влагу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7" descr=""/>
          <p:cNvPicPr/>
          <p:nvPr/>
        </p:nvPicPr>
        <p:blipFill>
          <a:blip r:embed="rId1"/>
          <a:stretch/>
        </p:blipFill>
        <p:spPr>
          <a:xfrm>
            <a:off x="380880" y="2590920"/>
            <a:ext cx="3591000" cy="3568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"/>
          <p:cNvPicPr/>
          <p:nvPr/>
        </p:nvPicPr>
        <p:blipFill>
          <a:blip r:embed="rId2"/>
          <a:stretch/>
        </p:blipFill>
        <p:spPr>
          <a:xfrm>
            <a:off x="5181480" y="2590920"/>
            <a:ext cx="3581640" cy="2725560"/>
          </a:xfrm>
          <a:prstGeom prst="rect">
            <a:avLst/>
          </a:prstGeom>
          <a:ln w="0">
            <a:noFill/>
          </a:ln>
        </p:spPr>
      </p:pic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Только наша планета имеет </a:t>
            </a:r>
            <a:r>
              <a:rPr b="0" lang="ru-RU" sz="2000" spc="-1" strike="noStrike">
                <a:solidFill>
                  <a:srgbClr val="996633"/>
                </a:solidFill>
                <a:latin typeface="Arial"/>
              </a:rPr>
              <a:t>почву</a:t>
            </a: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, этот верхний плодородный слой земли. </a:t>
            </a:r>
            <a:r>
              <a:rPr b="0" i="1" lang="ru-RU" sz="2000" spc="-1" strike="noStrike">
                <a:solidFill>
                  <a:srgbClr val="ff0066"/>
                </a:solidFill>
                <a:latin typeface="Arial"/>
              </a:rPr>
              <a:t>Почва содержит вещества, необходимые для роста и развития растений</a:t>
            </a: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. Зеленые растения соединяют питательные вещества и воду из почвы с углекислым газом из воз­духа и при участии солнечного света образуют вещества, необходимые для их жиз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57200" y="2057400"/>
            <a:ext cx="8229600" cy="449568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u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1"/>
          <p:cNvSpPr/>
          <p:nvPr/>
        </p:nvSpPr>
        <p:spPr>
          <a:xfrm>
            <a:off x="457200" y="4670280"/>
            <a:ext cx="4038480" cy="21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0" descr="Красивые картинки цветы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609480"/>
            <a:ext cx="3200400" cy="188748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14"/>
          <p:cNvSpPr/>
          <p:nvPr/>
        </p:nvSpPr>
        <p:spPr>
          <a:xfrm>
            <a:off x="4648320" y="1523880"/>
            <a:ext cx="365760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вет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30" descr="1244564268_2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33520" y="2666880"/>
            <a:ext cx="3124080" cy="19051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9" descr="1244564328_2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57200" y="4724280"/>
            <a:ext cx="3124080" cy="190512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40"/>
          <p:cNvSpPr/>
          <p:nvPr/>
        </p:nvSpPr>
        <p:spPr>
          <a:xfrm>
            <a:off x="4648320" y="5257800"/>
            <a:ext cx="365760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41"/>
          <p:cNvSpPr/>
          <p:nvPr/>
        </p:nvSpPr>
        <p:spPr>
          <a:xfrm>
            <a:off x="4724280" y="3200400"/>
            <a:ext cx="365760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l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43"/>
          <p:cNvSpPr/>
          <p:nvPr/>
        </p:nvSpPr>
        <p:spPr>
          <a:xfrm>
            <a:off x="4572000" y="1523880"/>
            <a:ext cx="37339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3-30T08:47:09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