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4.wmf" ContentType="image/x-wmf"/>
  <Override PartName="/ppt/media/image10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4376C-825C-40F2-8FF7-972EED149CB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hyperlink" Target="http://img15.nnm.ru/9/3/7/4/d/6dee4ea945c11067118066a44e2.jpg" TargetMode="External"/><Relationship Id="rId2" Type="http://schemas.openxmlformats.org/officeDocument/2006/relationships/hyperlink" Target="http://pixelbrush.ru/uploads/posts/2008-12/1230621404_earth_life_vector.jpg" TargetMode="External"/><Relationship Id="rId3" Type="http://schemas.openxmlformats.org/officeDocument/2006/relationships/slide" Target="../slides/slide12.xml"/><Relationship Id="rId4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d038f"/>
                </a:solidFill>
                <a:latin typeface="Calibri"/>
              </a:rPr>
              <a:t>Авторы: Дедух Галина Васильевна,</a:t>
            </a:r>
            <a:r>
              <a:rPr b="0" lang="ru-RU" sz="1200" spc="-1" strike="noStrike">
                <a:solidFill>
                  <a:srgbClr val="0d038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d038f"/>
                </a:solidFill>
                <a:latin typeface="Calibri"/>
              </a:rPr>
              <a:t>учитель географии,</a:t>
            </a:r>
            <a:r>
              <a:rPr b="1" i="1" lang="en-US" sz="1200" spc="-1" strike="noStrike">
                <a:solidFill>
                  <a:srgbClr val="0d038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d038f"/>
                </a:solidFill>
                <a:latin typeface="Calibri"/>
              </a:rPr>
              <a:t>Хворостьяная Наталья Васильевна, учитель английского язы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d038f"/>
                </a:solidFill>
                <a:latin typeface="Calibri"/>
              </a:rPr>
              <a:t>МОУ «Гимназия №5 г. Белгорода»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B4987-2F79-4905-BFA7-544188E505E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ck yourse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F3133-EFED-438F-B1E6-B087100521C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нквей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Зем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уникальная удивитель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живет дышит вращ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самая лучшая из план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суперпланета</a:t>
            </a: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00A68-BB3F-46AD-989D-DF890DC3F6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Список 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фанасьева О.В., Баранова К.М. Книга для чтения для 6 класса.- М.: Просвещение, 200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ева Т.М., Кичапова Е.В., Чхиквишвили Н.А.  Англо-русский тематический словарь с иллюстрациями.- Изд-во: Прин-ди, 199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img15.nnm.ru/9/3/7/4/d/6dee4ea945c11067118066a44e2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Зем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pixelbrush.ru/uploads/posts/2008-12/1230621404_earth_life_vector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жизнь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photoshopia.ru/forum/imagehosting/2008/08/05/14897dc60ebff9.jpg - жизнь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macroid.ru/_data/medium/38/DSC03958.jpg- жизнь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mongolia.com.ua/themes/mongolia_theme/images/gallery/DSC_0002.jpg - атмосф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membrana.ru/print.html?1224084360 – в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rcio.pnzgu.ru/personal/41/3/3/krugovorot.htm - круговорот воды в прир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aquacrystal.ru/files/images/157.gif -круговорот воды в прир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cawaterinfo.net/all_about_water/wpcontent/uploads/2009/08/water_drop.jpg - в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i.i.ua/oboi/pic/7/0/91107_0.jpg - поч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noaa.gov/earthday/images/boywithglobe.jpg - Зем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design-warez.ru/pictures/beautiful/33500-krasivye-kartinki-cvety.htm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58F5C-37BF-4975-A6C0-3EB2C4BF76A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Наша Земля прекрасна. Космонавты говорят, что из космоса она выглядит как драгоценный камень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520F3-0B63-4699-ACD3-B885FA773C8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Уникальность  Земли состоит в том, что только на ней из всех планет Солнечной системы есть жиз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EA6EA-A2FE-4723-B9AB-28CF564EFD8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Calibri"/>
              </a:rPr>
              <a:t>Давайте подумаем, почему же возможна жизнь на Земле?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D5619-5A4F-4004-92DF-72F1B0DD48B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Первая особенность, благодаря которой на Земле возможна жизнь – это </a:t>
            </a:r>
            <a:r>
              <a:rPr b="1" i="1" lang="ru-RU" sz="1200" spc="-1" strike="noStrike">
                <a:solidFill>
                  <a:srgbClr val="ff0066"/>
                </a:solidFill>
                <a:latin typeface="Calibri"/>
              </a:rPr>
              <a:t>оптимальный температурный режим</a:t>
            </a: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.</a:t>
            </a:r>
            <a:br>
              <a:rPr sz="1200"/>
            </a:br>
            <a:r>
              <a:rPr b="1" lang="ru-RU" sz="1200" spc="-1" strike="noStrike">
                <a:solidFill>
                  <a:srgbClr val="0033cc"/>
                </a:solidFill>
                <a:latin typeface="Calibri"/>
              </a:rPr>
              <a:t>Наша планета обладает атмосферой, которая отличается от атмосферы других планет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088CC-4DE8-4BAE-86F1-876AF8C2D5E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33cc"/>
                </a:solidFill>
                <a:latin typeface="Calibri"/>
              </a:rPr>
              <a:t>Только Земля обладает </a:t>
            </a:r>
            <a:r>
              <a:rPr b="0" i="1" lang="ru-RU" sz="1200" spc="-1" strike="noStrike">
                <a:solidFill>
                  <a:srgbClr val="cc00cc"/>
                </a:solidFill>
                <a:latin typeface="Calibri"/>
              </a:rPr>
              <a:t>огромными запасами воды</a:t>
            </a:r>
            <a:r>
              <a:rPr b="0" i="1" lang="ru-RU" sz="1200" spc="-1" strike="noStrike">
                <a:solidFill>
                  <a:srgbClr val="0033cc"/>
                </a:solidFill>
                <a:latin typeface="Calibri"/>
              </a:rPr>
              <a:t>. А ведь это удивительное вещество. Оно входит в состав всех живых организмов, выполняя самую разнообразную работу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FDDC5-2E7B-49E3-9233-2C4F2AD3CB1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ая для жизни вода перемещается в результате </a:t>
            </a:r>
            <a:r>
              <a:rPr b="0" i="1" lang="ru-RU" sz="1200" spc="-1" strike="noStrike">
                <a:solidFill>
                  <a:srgbClr val="ff0066"/>
                </a:solidFill>
                <a:latin typeface="Calibri"/>
              </a:rPr>
              <a:t>постоянного круговоро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Каждую секунду миллионы кубометров воды превращаются в пар. Поднимаясь в воздух, они образуют облака, которые вместе с воздушными потоками перемешаются на сотни километров, перенося с собой </a:t>
            </a: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живительную влаг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E31BA-0508-4F60-94A1-7095303989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Только наша планета имеет </a:t>
            </a:r>
            <a:r>
              <a:rPr b="0" lang="ru-RU" sz="1200" spc="-1" strike="noStrike">
                <a:solidFill>
                  <a:srgbClr val="996633"/>
                </a:solidFill>
                <a:latin typeface="Calibri"/>
              </a:rPr>
              <a:t>почву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, этот верхний плодородный слой земли. </a:t>
            </a:r>
            <a:r>
              <a:rPr b="0" i="1" lang="ru-RU" sz="1200" spc="-1" strike="noStrike">
                <a:solidFill>
                  <a:srgbClr val="ff0066"/>
                </a:solidFill>
                <a:latin typeface="Calibri"/>
              </a:rPr>
              <a:t>Почва содержит вещества, необходимые для роста и развития растений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. Зеленые растения соединяют питательные вещества и воду из почвы с углекислым газом из воз­духа и при участии солнечного света образуют вещества, необходимые для их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0E0A6-B654-4A5A-8EAD-092FF0A3F88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u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39F56-DC58-4CB7-8C3D-7695231869A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2429-4275-4D2D-A9D6-8D6000177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40A0-9CF8-419C-9204-F526C801C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F2A5-AA51-4318-A8CD-165A94A21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125B-6B84-4BAF-ACB8-B57D669D6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DD69-5AC7-4754-90FC-E2C38E9AC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3D22-D517-42F2-B34B-94F728246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7FE9-491D-4E4C-9674-BFFA9AA67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49F2-D7C2-4589-96E1-1C7AB757D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A4D1-7650-4825-B12C-41627BB02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0AD7-9F4A-4B85-A099-74C42ABB3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0C0D-B75F-4E59-9305-204E1F98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EF36-A14E-41B4-B4CD-BDF7BF01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ccffff"/>
            </a:gs>
            <a:gs pos="100000">
              <a:srgbClr val="ff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375E5-D01C-4BAC-95C3-D32100036D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design-warez.ru/uploads/posts/2009-06/1244564340_31.jpg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design-warez.ru/pictures/beautiful/33500-krasivye-kartinki-cvety.html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www.design-warez.ru/pictures/beautiful/33500-krasivye-kartinki-cvety.html" TargetMode="External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g15.nnm.ru/9/3/7/4/d/6dee4ea945c11067118066a44e2.jpg" TargetMode="External"/><Relationship Id="rId2" Type="http://schemas.openxmlformats.org/officeDocument/2006/relationships/hyperlink" Target="http://pixelbrush.ru/uploads/posts/2008-12/1230621404_earth_life_vector.jpg" TargetMode="External"/><Relationship Id="rId3" Type="http://schemas.openxmlformats.org/officeDocument/2006/relationships/hyperlink" Target="http://photoshopia.ru/forum/imagehosting/2008/08/05/14897dc60ebff9.jpg" TargetMode="External"/><Relationship Id="rId4" Type="http://schemas.openxmlformats.org/officeDocument/2006/relationships/hyperlink" Target="http://macroid.ru/_data/medium/38/DSC03958.jpg" TargetMode="External"/><Relationship Id="rId5" Type="http://schemas.openxmlformats.org/officeDocument/2006/relationships/hyperlink" Target="http://mongolia.com.ua/themes/mongolia_theme/images/gallery/DSC_0002.jpg" TargetMode="External"/><Relationship Id="rId6" Type="http://schemas.openxmlformats.org/officeDocument/2006/relationships/hyperlink" Target="http://www.membrana.ru/print.html?1224084360" TargetMode="External"/><Relationship Id="rId7" Type="http://schemas.openxmlformats.org/officeDocument/2006/relationships/hyperlink" Target="http://rcio.pnzgu.ru/personal/41/3/3/krugovorot.htm" TargetMode="External"/><Relationship Id="rId8" Type="http://schemas.openxmlformats.org/officeDocument/2006/relationships/hyperlink" Target="http://www.aquacrystal.ru/files/images/157.gif" TargetMode="External"/><Relationship Id="rId9" Type="http://schemas.openxmlformats.org/officeDocument/2006/relationships/hyperlink" Target="http://www.cawaterinfo.net/all_about_water/wpcontent/uploads/2009/08/water_drop.jpg" TargetMode="External"/><Relationship Id="rId10" Type="http://schemas.openxmlformats.org/officeDocument/2006/relationships/hyperlink" Target="http://i.i.ua/oboi/pic/7/0/91107_0.jpg" TargetMode="External"/><Relationship Id="rId11" Type="http://schemas.openxmlformats.org/officeDocument/2006/relationships/hyperlink" Target="http://www.noaa.gov/earthday/images/boywithglobe.jpg" TargetMode="External"/><Relationship Id="rId12" Type="http://schemas.openxmlformats.org/officeDocument/2006/relationships/hyperlink" Target="http://www.design-warez.ru/pictures/beautiful/33500-krasivye-kartinki-cvety.html" TargetMode="External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design-warez.ru/uploads/posts/2009-06/1244564340_31.jpg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design-warez.ru/pictures/beautiful/33500-krasivye-kartinki-cvety.html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www.design-warez.ru/pictures/beautiful/33500-krasivye-kartinki-cvety.html" TargetMode="External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0" y="4876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d038f"/>
                </a:solidFill>
                <a:latin typeface="Arial"/>
              </a:rPr>
              <a:t>Авторы: Дедух Галина Васильевна,</a:t>
            </a:r>
            <a:r>
              <a:rPr b="0" lang="ru-RU" sz="1800" spc="-1" strike="noStrike">
                <a:solidFill>
                  <a:srgbClr val="0d038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d038f"/>
                </a:solidFill>
                <a:latin typeface="Arial"/>
              </a:rPr>
              <a:t>учитель географии,</a:t>
            </a:r>
            <a:r>
              <a:rPr b="1" i="1" lang="en-US" sz="1800" spc="-1" strike="noStrike">
                <a:solidFill>
                  <a:srgbClr val="0d038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d038f"/>
                </a:solidFill>
                <a:latin typeface="Arial"/>
              </a:rPr>
              <a:t>Хворостьяная Наталья Васильевна, учитель английского язы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d038f"/>
                </a:solidFill>
                <a:latin typeface="Arial"/>
              </a:rPr>
              <a:t>МОУ «Гимназия №5 г. Белгорода»,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4"/>
          <p:cNvSpPr txBox="1"/>
          <p:nvPr/>
        </p:nvSpPr>
        <p:spPr>
          <a:xfrm>
            <a:off x="762120" y="0"/>
            <a:ext cx="761976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емл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Earth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2590920" y="5257800"/>
            <a:ext cx="6095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 yourse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Красивые картинки цветы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0600" y="914400"/>
            <a:ext cx="3657600" cy="2209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1244564268_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914400"/>
            <a:ext cx="3352680" cy="2133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1244564328_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19520" y="3809880"/>
            <a:ext cx="3276360" cy="19814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9"/>
          <p:cNvSpPr/>
          <p:nvPr/>
        </p:nvSpPr>
        <p:spPr>
          <a:xfrm>
            <a:off x="4876920" y="3200400"/>
            <a:ext cx="35049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l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228600" y="3200400"/>
            <a:ext cx="33526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2743200" y="6019920"/>
            <a:ext cx="33526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инквей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Зем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уникальная удивитель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живет дышит враща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самая лучшая из пла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суперпланета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4495680" y="3429000"/>
            <a:ext cx="2132280" cy="3178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"/>
          <p:cNvPicPr/>
          <p:nvPr/>
        </p:nvPicPr>
        <p:blipFill>
          <a:blip r:embed="rId2"/>
          <a:stretch/>
        </p:blipFill>
        <p:spPr>
          <a:xfrm>
            <a:off x="5486400" y="228600"/>
            <a:ext cx="3457440" cy="289548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wipe(down)" transition="out">
                                      <p:cBhvr additive="repl">
                                        <p:cTn id="4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Arial"/>
              </a:rPr>
              <a:t>Список литера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фанасьева О.В., Баранова К.М. Книга для чтения для 6 класса.- М.: Просвещение, 200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ева Т.М., Кичапова Е.В., Чхиквишвили Н.А.  Англо-русский тематический словарь с иллюстрациями.- Изд-во: Прин-ди, 199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img15.nnm.ru/9/3/7/4/d/6dee4ea945c11067118066a44e2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Земл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pixelbrush.ru/uploads/posts/2008-12/1230621404_earth_life_vector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жизнь на Земл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photoshopia.ru/forum/imagehosting/2008/08/05/14897dc60ebff9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жизнь на Земл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macroid.ru/_data/medium/38/DSC03958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жизнь на Земл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mongolia.com.ua/themes/mongolia_theme/images/gallery/DSC_0002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атмосфе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membrana.ru/print.html?122408436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во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rcio.pnzgu.ru/personal/41/3/3/krugovorot.ht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круговорот воды в природ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aquacrystal.ru/files/images/157.gif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круговорот воды в природ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www.cawaterinfo.net/all_about_water/wpcontent/uploads/2009/08/water_drop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во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i.i.ua/oboi/pic/7/0/91107_0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поч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www.noaa.gov/earthday/images/boywithglobe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Земл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www.design-warez.ru/pictures/beautiful/33500-krasivye-kartinki-cvety.htm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ве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Наша Земля прекрасна. Космонавты говорят, что из космоса она выглядит как драгоценный камень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Уникальность  Земли состоит в том, что только на ней из всех планет Солнечной системы есть жиз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66"/>
                </a:solidFill>
                <a:latin typeface="Arial"/>
              </a:rPr>
              <a:t>Давайте подумаем, почему же возможна жизнь на Земле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j0299125"/>
          <p:cNvPicPr/>
          <p:nvPr/>
        </p:nvPicPr>
        <p:blipFill>
          <a:blip r:embed="rId1"/>
          <a:stretch/>
        </p:blipFill>
        <p:spPr>
          <a:xfrm>
            <a:off x="228600" y="4800600"/>
            <a:ext cx="1100160" cy="1805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"/>
          <p:cNvPicPr/>
          <p:nvPr/>
        </p:nvPicPr>
        <p:blipFill>
          <a:blip r:embed="rId2"/>
          <a:stretch/>
        </p:blipFill>
        <p:spPr>
          <a:xfrm>
            <a:off x="2057400" y="1523880"/>
            <a:ext cx="6858000" cy="458640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Arial"/>
              </a:rPr>
              <a:t>Первая особенность, благодаря которой на Земле возможна жизнь – это </a:t>
            </a:r>
            <a:r>
              <a:rPr b="1" i="1" lang="ru-RU" sz="2000" spc="-1" strike="noStrike">
                <a:solidFill>
                  <a:srgbClr val="ff0066"/>
                </a:solidFill>
                <a:latin typeface="Arial"/>
              </a:rPr>
              <a:t>оптимальный температурный режим</a:t>
            </a:r>
            <a:r>
              <a:rPr b="1" i="1" lang="ru-RU" sz="2000" spc="-1" strike="noStrike">
                <a:solidFill>
                  <a:srgbClr val="0033cc"/>
                </a:solidFill>
                <a:latin typeface="Arial"/>
              </a:rPr>
              <a:t>.</a:t>
            </a:r>
            <a:br>
              <a:rPr sz="2000"/>
            </a:b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Наша планета обладает атмосферой, которая отличается от атмосферы других планет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cc"/>
                </a:solidFill>
                <a:latin typeface="Arial"/>
              </a:rPr>
              <a:t>Только Земля обладает </a:t>
            </a:r>
            <a:r>
              <a:rPr b="0" i="1" lang="ru-RU" sz="2400" spc="-1" strike="noStrike">
                <a:solidFill>
                  <a:srgbClr val="cc00cc"/>
                </a:solidFill>
                <a:latin typeface="Arial"/>
              </a:rPr>
              <a:t>огромными запасами воды</a:t>
            </a:r>
            <a:r>
              <a:rPr b="0" i="1" lang="ru-RU" sz="2400" spc="-1" strike="noStrike">
                <a:solidFill>
                  <a:srgbClr val="0033cc"/>
                </a:solidFill>
                <a:latin typeface="Arial"/>
              </a:rPr>
              <a:t>. А ведь это удивительное вещество. Оно входит в состав всех живых организмов, выполняя самую разнообразную работу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ходимая для жизни вода перемещается в результате </a:t>
            </a:r>
            <a:r>
              <a:rPr b="0" i="1" lang="ru-RU" sz="2400" spc="-1" strike="noStrike">
                <a:solidFill>
                  <a:srgbClr val="ff0066"/>
                </a:solidFill>
                <a:latin typeface="Arial"/>
              </a:rPr>
              <a:t>постоянного круговоро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Каждую секунду миллионы кубометров воды превращаются в пар. Поднимаясь в воздух, они образуют облака, которые вместе с воздушными потоками перемешаются на сотни километров, перенося с собой </a:t>
            </a: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живительную влаг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3591000" cy="3568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2"/>
          <a:stretch/>
        </p:blipFill>
        <p:spPr>
          <a:xfrm>
            <a:off x="5181480" y="2590920"/>
            <a:ext cx="3581640" cy="272556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Только наша планета имеет </a:t>
            </a: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почву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, этот верхний плодородный слой земли. </a:t>
            </a:r>
            <a:r>
              <a:rPr b="0" i="1" lang="ru-RU" sz="2000" spc="-1" strike="noStrike">
                <a:solidFill>
                  <a:srgbClr val="ff0066"/>
                </a:solidFill>
                <a:latin typeface="Arial"/>
              </a:rPr>
              <a:t>Почва содержит вещества, необходимые для роста и развития растений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. Зеленые растения соединяют питательные вещества и воду из почвы с углекислым газом из воз­духа и при участии солнечного света образуют вещества, необходимые для их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8229600" cy="449568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u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1"/>
          <p:cNvSpPr/>
          <p:nvPr/>
        </p:nvSpPr>
        <p:spPr>
          <a:xfrm>
            <a:off x="457200" y="4670280"/>
            <a:ext cx="4038480" cy="21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0" descr="Красивые картинки цветы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609480"/>
            <a:ext cx="3200400" cy="188748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4"/>
          <p:cNvSpPr/>
          <p:nvPr/>
        </p:nvSpPr>
        <p:spPr>
          <a:xfrm>
            <a:off x="4648320" y="1523880"/>
            <a:ext cx="36576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0" descr="1244564268_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3520" y="2666880"/>
            <a:ext cx="3124080" cy="1905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9" descr="1244564328_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7200" y="4724280"/>
            <a:ext cx="3124080" cy="190512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40"/>
          <p:cNvSpPr/>
          <p:nvPr/>
        </p:nvSpPr>
        <p:spPr>
          <a:xfrm>
            <a:off x="4648320" y="5257800"/>
            <a:ext cx="36576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1"/>
          <p:cNvSpPr/>
          <p:nvPr/>
        </p:nvSpPr>
        <p:spPr>
          <a:xfrm>
            <a:off x="4724280" y="3200400"/>
            <a:ext cx="36576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l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3"/>
          <p:cNvSpPr/>
          <p:nvPr/>
        </p:nvSpPr>
        <p:spPr>
          <a:xfrm>
            <a:off x="4572000" y="1523880"/>
            <a:ext cx="3733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3-30T08:47:09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