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25D3-7533-44E2-A9B5-AB224CC9AB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Механическая энер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3AEA-B877-4FC5-9A1A-2300B08A789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8F5E-96ED-4B34-88FC-ADFAFFBD325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 какой начальной скоростью надо бросить вниз мяч с высоты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чтобы он подпрыгнул на высоту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? Считать удар абсолютно упруг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4B52-DE15-4241-940B-86A629703FF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иды уд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упругий 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8A31-4AA8-4B2F-A76A-8A74FAA8363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еханическая энергия не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большая часть механической энергии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очти 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DA31-4775-41C8-8E23-DA7EEBD31D9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D44D-9045-4ABE-BAEB-15FA98E14F7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5B04-982D-4E62-8E33-737D6072C84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решения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2E8C-A054-4241-943D-11AF235A197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B421-E643-40EF-8EFE-6550D16E559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БОЗНАЧ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9D6F-64C9-483A-9FAA-A7E9ECDCFA3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Кинетическ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движущегос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F459-9D87-4884-8237-6B5EF479C5C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7206-C93C-49A0-9DA9-0D15B462340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 упругой де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BF2D-4236-40D1-A885-B5014FD4F45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Закон сохранен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я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переход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 одного вид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62AA-F0A8-4477-9D93-222D8934657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97D-CDB1-4924-A83B-E4B7BD0E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2E9-EBFF-4F0D-99F9-939072DC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D35-DFC8-423F-B8BD-D6C61153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35A-0EBC-4BBA-BDE2-D688CC01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3315-FCB6-4FBD-B1D3-325DE18A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0A85-D4DB-4B91-B242-90366D24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CDED-9659-42AB-9BA7-CF47AA67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B9FF-D258-41BC-9069-5D4D295C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9AA3-AF9F-443D-94C6-C13B671A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C70C-CE5A-4891-84CD-55778ED6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B1E7-623E-4F44-8487-5DDB741D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6E3-CF49-4229-A64A-5959ED4D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DCC3-D919-4D99-9688-58CFF34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CE2D-5FE6-4E3E-848A-9B181B5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AC8A-D692-42FB-B2BC-C803BDF9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A004-2210-43A7-A4C4-496FC461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4F6D-FCB1-4629-A1AA-369497B0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3CC-116E-4728-BEEC-130A8DCF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DFA-C139-4E63-8426-F73AB9E7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51C-916B-4BAB-874A-4E3D7ACB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1CB-B43F-41CF-B5AC-B19BE42A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66B-1C33-481A-ADF8-685081B9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524-58B6-4AEA-BCC1-C934244B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029-3BA3-4DBB-9C94-7127C5ED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0C8C-7FB6-4753-A3BA-7D2E5B9573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71FC-326B-4010-A2B7-2E107929ED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Механическая энерг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omic Sans MS"/>
              </a:rPr>
              <a:t>Закон сохранения энер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543564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невская О.Ю. 83 школа г.Санкт-Петербу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108000" y="1413000"/>
            <a:ext cx="856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8237"/>
                </a:moveTo>
                <a:lnTo>
                  <a:pt x="7301" y="8237"/>
                </a:lnTo>
                <a:lnTo>
                  <a:pt x="7301" y="13572"/>
                </a:lnTo>
                <a:cubicBezTo>
                  <a:pt x="7301" y="14495"/>
                  <a:pt x="8102" y="15226"/>
                  <a:pt x="9138" y="15226"/>
                </a:cubicBezTo>
                <a:lnTo>
                  <a:pt x="10800" y="15226"/>
                </a:lnTo>
                <a:cubicBezTo>
                  <a:pt x="11836" y="15226"/>
                  <a:pt x="12636" y="14495"/>
                  <a:pt x="12636" y="13572"/>
                </a:cubicBezTo>
                <a:lnTo>
                  <a:pt x="12636" y="8237"/>
                </a:lnTo>
                <a:lnTo>
                  <a:pt x="10800" y="8237"/>
                </a:lnTo>
                <a:lnTo>
                  <a:pt x="14308" y="4729"/>
                </a:lnTo>
                <a:lnTo>
                  <a:pt x="17981" y="8237"/>
                </a:lnTo>
                <a:lnTo>
                  <a:pt x="16144" y="8237"/>
                </a:lnTo>
                <a:lnTo>
                  <a:pt x="16144" y="13572"/>
                </a:lnTo>
                <a:cubicBezTo>
                  <a:pt x="16144" y="16340"/>
                  <a:pt x="13568" y="18899"/>
                  <a:pt x="10800" y="18899"/>
                </a:cubicBezTo>
                <a:lnTo>
                  <a:pt x="9138" y="18899"/>
                </a:lnTo>
                <a:cubicBezTo>
                  <a:pt x="6370" y="18899"/>
                  <a:pt x="3794" y="16340"/>
                  <a:pt x="3794" y="13572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836640"/>
            <a:ext cx="7850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читать удар абсолютно уп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Виды уд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бсолютно упругий 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Абсолютно 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620640"/>
            <a:ext cx="8137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еханическая энергия не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большая часть механической энергии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чти 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7940520" y="5950080"/>
            <a:ext cx="1224000" cy="907920"/>
          </a:xfrm>
          <a:custGeom>
            <a:avLst/>
            <a:gdLst>
              <a:gd name="textAreaLeft" fmla="*/ 58680 w 1224000"/>
              <a:gd name="textAreaRight" fmla="*/ 1165320 w 1224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17" h="21600">
                <a:moveTo>
                  <a:pt x="7552" y="7493"/>
                </a:moveTo>
                <a:lnTo>
                  <a:pt x="11059" y="7493"/>
                </a:lnTo>
                <a:lnTo>
                  <a:pt x="11059" y="12828"/>
                </a:lnTo>
                <a:cubicBezTo>
                  <a:pt x="11059" y="13751"/>
                  <a:pt x="11860" y="14482"/>
                  <a:pt x="12896" y="14482"/>
                </a:cubicBezTo>
                <a:lnTo>
                  <a:pt x="14558" y="14482"/>
                </a:lnTo>
                <a:cubicBezTo>
                  <a:pt x="15594" y="14482"/>
                  <a:pt x="16395" y="13751"/>
                  <a:pt x="16395" y="12828"/>
                </a:cubicBezTo>
                <a:lnTo>
                  <a:pt x="16395" y="7493"/>
                </a:lnTo>
                <a:lnTo>
                  <a:pt x="14558" y="7493"/>
                </a:lnTo>
                <a:lnTo>
                  <a:pt x="18066" y="3985"/>
                </a:lnTo>
                <a:lnTo>
                  <a:pt x="21739" y="7493"/>
                </a:lnTo>
                <a:lnTo>
                  <a:pt x="19902" y="7493"/>
                </a:lnTo>
                <a:lnTo>
                  <a:pt x="19902" y="12828"/>
                </a:lnTo>
                <a:cubicBezTo>
                  <a:pt x="19902" y="15596"/>
                  <a:pt x="17326" y="18155"/>
                  <a:pt x="14558" y="18155"/>
                </a:cubicBezTo>
                <a:lnTo>
                  <a:pt x="12896" y="18155"/>
                </a:lnTo>
                <a:cubicBezTo>
                  <a:pt x="10128" y="18155"/>
                  <a:pt x="7552" y="15596"/>
                  <a:pt x="7552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Управляющая кнопка: домой 1">
            <a:hlinkClick r:id="rId2" action="ppaction://hlinksldjump"/>
          </p:cNvPr>
          <p:cNvSpPr/>
          <p:nvPr/>
        </p:nvSpPr>
        <p:spPr>
          <a:xfrm>
            <a:off x="6875640" y="5950080"/>
            <a:ext cx="1009440" cy="907920"/>
          </a:xfrm>
          <a:custGeom>
            <a:avLst/>
            <a:gdLst>
              <a:gd name="textAreaLeft" fmla="*/ 58680 w 1009440"/>
              <a:gd name="textAreaRight" fmla="*/ 950760 w 10094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014" h="21600">
                <a:moveTo>
                  <a:pt x="0" y="0"/>
                </a:moveTo>
                <a:lnTo>
                  <a:pt x="24014" y="0"/>
                </a:lnTo>
                <a:lnTo>
                  <a:pt x="24014" y="21600"/>
                </a:lnTo>
                <a:lnTo>
                  <a:pt x="0" y="21600"/>
                </a:lnTo>
                <a:close/>
              </a:path>
              <a:path fill="lightenLess" w="24014" h="21600">
                <a:moveTo>
                  <a:pt x="0" y="0"/>
                </a:moveTo>
                <a:lnTo>
                  <a:pt x="24014" y="0"/>
                </a:lnTo>
                <a:lnTo>
                  <a:pt x="22614" y="1400"/>
                </a:lnTo>
                <a:lnTo>
                  <a:pt x="1400" y="1400"/>
                </a:lnTo>
                <a:close/>
              </a:path>
              <a:path fill="darken" w="24014" h="21600">
                <a:moveTo>
                  <a:pt x="24014" y="0"/>
                </a:moveTo>
                <a:lnTo>
                  <a:pt x="24014" y="21600"/>
                </a:lnTo>
                <a:lnTo>
                  <a:pt x="22614" y="20200"/>
                </a:lnTo>
                <a:lnTo>
                  <a:pt x="22614" y="1400"/>
                </a:lnTo>
                <a:close/>
              </a:path>
              <a:path fill="darkenLess" w="24014" h="21600">
                <a:moveTo>
                  <a:pt x="2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4" y="20200"/>
                </a:lnTo>
                <a:close/>
              </a:path>
              <a:path fill="lighten" w="2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4" h="21600">
                <a:moveTo>
                  <a:pt x="12007" y="3837"/>
                </a:moveTo>
                <a:lnTo>
                  <a:pt x="14583" y="6448"/>
                </a:ln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lnTo>
                  <a:pt x="18970" y="10800"/>
                </a:lnTo>
                <a:lnTo>
                  <a:pt x="17316" y="10800"/>
                </a:lnTo>
                <a:lnTo>
                  <a:pt x="17316" y="17989"/>
                </a:lnTo>
                <a:lnTo>
                  <a:pt x="6698" y="17989"/>
                </a:lnTo>
                <a:lnTo>
                  <a:pt x="6698" y="10800"/>
                </a:lnTo>
                <a:lnTo>
                  <a:pt x="5044" y="10800"/>
                </a:lnTo>
                <a:close/>
              </a:path>
              <a:path fill="darkenLess" w="24014" h="21600">
                <a:moveTo>
                  <a:pt x="14583" y="6448"/>
                </a:move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close/>
              </a:path>
              <a:path fill="darkenLess" w="24014" h="21600">
                <a:moveTo>
                  <a:pt x="11085" y="14299"/>
                </a:moveTo>
                <a:lnTo>
                  <a:pt x="12930" y="14299"/>
                </a:lnTo>
                <a:lnTo>
                  <a:pt x="12930" y="17989"/>
                </a:lnTo>
                <a:lnTo>
                  <a:pt x="17316" y="17989"/>
                </a:lnTo>
                <a:lnTo>
                  <a:pt x="17316" y="10800"/>
                </a:lnTo>
                <a:lnTo>
                  <a:pt x="6698" y="10800"/>
                </a:lnTo>
                <a:lnTo>
                  <a:pt x="6698" y="17989"/>
                </a:lnTo>
                <a:lnTo>
                  <a:pt x="11085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Управляющая кнопка: возврат 1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3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24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 47-53  Упр9 (9) стр. 1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Управляющая кнопка: домой 3"/>
          <p:cNvSpPr/>
          <p:nvPr/>
        </p:nvSpPr>
        <p:spPr>
          <a:xfrm>
            <a:off x="802800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Виды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 сохранения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римеры решения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ОБОЗНАЧАЕ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домой 1">
            <a:hlinkClick r:id="rId1" action="ppaction://hlinksldjump"/>
          </p:cNvPr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Кинетическ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2050920" y="2190600"/>
                <a:ext cx="4897440" cy="299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1547640" y="3357720"/>
                <a:ext cx="5977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268360" y="1901880"/>
                <a:ext cx="421992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4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домой 1">
            <a:hlinkClick r:id="rId2" action="ppaction://hlinksldjump"/>
          </p:cNvPr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кон сохранен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я 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энерги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989000"/>
            <a:ext cx="8066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 замкнутой системе, в которой действуют 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консервативные силы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из одного вида в друг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Управляющая кнопка: домой 1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4"/>
          <p:cNvSpPr/>
          <p:nvPr/>
        </p:nvSpPr>
        <p:spPr>
          <a:xfrm>
            <a:off x="755640" y="1125360"/>
            <a:ext cx="237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132000" y="1125000"/>
            <a:ext cx="0" cy="446436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79640" y="5589720"/>
            <a:ext cx="61214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348000" y="476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348000" y="4941720"/>
            <a:ext cx="649440" cy="64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340000" y="270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140360" y="47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x  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=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3348000" y="2708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211640" y="4869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0  Ек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14036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140360" y="1700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500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43564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6372360" y="177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3276720" y="40464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7052E-006 L 6.94444E-006 0.18868 E"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18868 L 3.05556E-006 0.34613 E">
                                      <p:cBhvr>
                                        <p:cTn id="1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4613 L 3.05556E-006 0.66081 E">
                                      <p:cBhvr>
                                        <p:cTn id="19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LEGION</cp:lastModifiedBy>
  <dcterms:modified xsi:type="dcterms:W3CDTF">2015-03-30T08:52:11Z</dcterms:modified>
  <cp:revision>20</cp:revision>
  <dc:subject/>
  <dc:title>Механическая энергия</dc:title>
</cp:coreProperties>
</file>