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821A-1EEE-4817-B280-E6A926B5464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Механическая энерг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Calibri"/>
              </a:rPr>
              <a:t>Закон сохранен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33EE-940A-4BE6-B32D-1E841E859C3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изике консервати́вные си́лы (потенциальные силы) — силы, работа которых не зависит от формы траектории (зависит только от начальной и конечной точки приложения сил). Отсюда следует следующее определение: консервативные силы — такие силы, работа по любой замкнутой траектории которых равна 0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E7CB-9434-4B3A-BCF1-C42B164D8AF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№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 какой начальной скоростью надо бросить вниз мяч с высоты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чтобы он подпрыгнул на высоту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? Считать удар абсолютно упруг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62EA-62BF-4244-B3D5-7DAFCC009D1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Виды уд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Абсолютно упругий 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Абсолютно не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FAFF-8293-4CBF-AECB-8A362F33906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Механическая энергия не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ся механическая энергия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большая часть механической энергии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очти вся механическая энергия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E66C-B8D7-46F1-B299-0B45CD84229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№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анки с седоком общей массой 100 кг съезжают с горы высотой 8 м и длиной 100 м.Какова средняя сила сопротивления движению, если в конце горы сани достигли скорости 10м/с, начальная скорость равна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28F6-4EA4-4ED2-8342-F2EE83BC62F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F776-8990-4789-A182-A4DD9AF9CE7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Calibri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охранен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ы решения за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2761-0021-4780-A247-E4194917D4C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ело или система тел могут совершить работу, то говорят, что они обладают энер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69B5-1543-4599-9C69-8FFDCECAB36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НЕРГИЯ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ОБОЗНАЧ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81A1-CCA4-42C8-BA1C-C77BD4C3157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Кинетическая энерг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нергия движущегося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1E54-143A-41F7-8165-2B3F00B9BA1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тенциальная энерг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нергия взаимо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67CB-891E-40F9-9895-EAC1215C131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тенциальная энергия упругой де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D288-36EF-4FF4-B264-A2C19CC363E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Закон сохранени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я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нергии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замкнутой системе, в которой действуют консервативные силы, энергия ни от куда не возникает и ни куда не исчезает, а лишь 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переходи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 одного вида в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E069-D361-4163-BECA-771A7328DB6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2D22-C611-4D5B-9FF5-97895611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354-6DF4-4645-9140-54AEE5EC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9C19-9C2F-4198-A348-27B0D365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6FF-7A7C-4FF6-86F7-9DA2C117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B1D4-2A41-40F0-8438-AFB772BF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DC1A-59EF-45D2-9D02-A3FAA335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58B4-A664-455E-93D8-227A276A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0F95-908A-41DA-A082-CB9D080D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FA18-6A01-498E-BAE3-3C1E0340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BB02-FC83-45BF-B9EC-E21E8521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6F99-A71D-48F4-8397-4FDF0940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53B7-2457-447C-9D0F-0C5E263D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C8F5-99D1-4BD7-B6F4-9D771053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3571-B7DC-40AE-A71F-67131A3B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0E58-F9F7-4919-8464-F0012D76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CCEE-F77B-4713-B72D-88AAE4E3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AF11-AB79-4164-8D3F-41376748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BEF9-AD77-4B69-871C-635E8D1D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19AA-C4B4-4639-BAD1-AE79E69E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4693-8F06-4EC1-99D1-673B765C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BE3F-9B14-4778-93A3-EADBBFBC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3D6-B378-4F88-ACF1-E1AC718F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5D3-EB54-481E-8E8F-79A74CC8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FAA5-C534-4833-AA55-7C934200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13AE-4ED2-468B-8480-E622AA0838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99E6-1F0F-44E6-952B-FF8A6B4176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12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66"/>
                </a:solidFill>
                <a:latin typeface="Comic Sans MS"/>
              </a:rPr>
              <a:t>Механическая энерг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Comic Sans MS"/>
              </a:rPr>
              <a:t>Закон сохранения энерг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543564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невская О.Ю. 83 школа г.Санкт-Петербур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падение.avi" descr=""/>
          <p:cNvPicPr/>
          <p:nvPr/>
        </p:nvPicPr>
        <p:blipFill>
          <a:blip r:embed="rId1"/>
          <a:stretch/>
        </p:blipFill>
        <p:spPr>
          <a:xfrm>
            <a:off x="1143000" y="357120"/>
            <a:ext cx="6858000" cy="621504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"/>
          <p:cNvSpPr/>
          <p:nvPr/>
        </p:nvSpPr>
        <p:spPr>
          <a:xfrm>
            <a:off x="108000" y="1413000"/>
            <a:ext cx="8567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физике консервати́вные си́лы (потенциальные силы) — силы, работа которых не зависит от формы траектории (зависит только от начальной и конечной точки приложения сил). Отсюда следует следующее определение: консервативные силы — такие силы, работа по любой замкнутой траектории которых равна 0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Управляющая кнопка: возврат 3">
            <a:hlinkClick r:id="" action="ppaction://hlinkshowjump?jump=previousslide"/>
          </p:cNvPr>
          <p:cNvSpPr/>
          <p:nvPr/>
        </p:nvSpPr>
        <p:spPr>
          <a:xfrm>
            <a:off x="8028000" y="61657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3794" y="8237"/>
                </a:moveTo>
                <a:lnTo>
                  <a:pt x="7301" y="8237"/>
                </a:lnTo>
                <a:lnTo>
                  <a:pt x="7301" y="13572"/>
                </a:lnTo>
                <a:cubicBezTo>
                  <a:pt x="7301" y="14495"/>
                  <a:pt x="8102" y="15226"/>
                  <a:pt x="9138" y="15226"/>
                </a:cubicBezTo>
                <a:lnTo>
                  <a:pt x="10800" y="15226"/>
                </a:lnTo>
                <a:cubicBezTo>
                  <a:pt x="11836" y="15226"/>
                  <a:pt x="12636" y="14495"/>
                  <a:pt x="12636" y="13572"/>
                </a:cubicBezTo>
                <a:lnTo>
                  <a:pt x="12636" y="8237"/>
                </a:lnTo>
                <a:lnTo>
                  <a:pt x="10800" y="8237"/>
                </a:lnTo>
                <a:lnTo>
                  <a:pt x="14308" y="4729"/>
                </a:lnTo>
                <a:lnTo>
                  <a:pt x="17981" y="8237"/>
                </a:lnTo>
                <a:lnTo>
                  <a:pt x="16144" y="8237"/>
                </a:lnTo>
                <a:lnTo>
                  <a:pt x="16144" y="13572"/>
                </a:lnTo>
                <a:cubicBezTo>
                  <a:pt x="16144" y="16340"/>
                  <a:pt x="13568" y="18899"/>
                  <a:pt x="10800" y="18899"/>
                </a:cubicBezTo>
                <a:lnTo>
                  <a:pt x="9138" y="18899"/>
                </a:lnTo>
                <a:cubicBezTo>
                  <a:pt x="6370" y="18899"/>
                  <a:pt x="3794" y="16340"/>
                  <a:pt x="3794" y="13572"/>
                </a:cubicBez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250920" y="836640"/>
            <a:ext cx="7850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а № 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 какой начальной скоростью надо бросить вниз мяч с высоты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, чтобы он подпрыгнул на высоту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2h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Считать удар абсолютно упруги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900000" y="3068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042920" y="3500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900000" y="422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8"/>
              <p:cNvSpPr txBox="1"/>
              <p:nvPr/>
            </p:nvSpPr>
            <p:spPr>
              <a:xfrm>
                <a:off x="874800" y="4653000"/>
                <a:ext cx="1562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Line 9"/>
          <p:cNvSpPr/>
          <p:nvPr/>
        </p:nvSpPr>
        <p:spPr>
          <a:xfrm>
            <a:off x="2411280" y="2997360"/>
            <a:ext cx="0" cy="29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611280" y="414972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492360" y="292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12"/>
          <p:cNvSpPr/>
          <p:nvPr/>
        </p:nvSpPr>
        <p:spPr>
          <a:xfrm>
            <a:off x="3059280" y="6308640"/>
            <a:ext cx="525780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3"/>
          <p:cNvSpPr/>
          <p:nvPr/>
        </p:nvSpPr>
        <p:spPr>
          <a:xfrm>
            <a:off x="3132000" y="4869000"/>
            <a:ext cx="86364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6732720" y="3357720"/>
            <a:ext cx="151128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3995640" y="4869000"/>
            <a:ext cx="0" cy="143964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6732720" y="3357720"/>
            <a:ext cx="0" cy="295092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492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6732720" y="465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20"/>
          <p:cNvSpPr/>
          <p:nvPr/>
        </p:nvSpPr>
        <p:spPr>
          <a:xfrm>
            <a:off x="4140360" y="4653000"/>
            <a:ext cx="431640" cy="431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21"/>
          <p:cNvSpPr/>
          <p:nvPr/>
        </p:nvSpPr>
        <p:spPr>
          <a:xfrm>
            <a:off x="5003640" y="5877000"/>
            <a:ext cx="432000" cy="431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22"/>
          <p:cNvSpPr/>
          <p:nvPr/>
        </p:nvSpPr>
        <p:spPr>
          <a:xfrm>
            <a:off x="6156360" y="3213000"/>
            <a:ext cx="431640" cy="432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3635280" y="4221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по+Ек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5651640" y="321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50872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9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Виды удар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бсолютно упругий 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Абсолютно не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Не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3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250920" y="620640"/>
            <a:ext cx="81374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Механическая энергия не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Вся механическая энергия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ебольшая часть механической энергии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Почти вся механическая энергия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AutoShape 6">
            <a:hlinkClick r:id="rId1" action="ppaction://hlinksldjump"/>
          </p:cNvPr>
          <p:cNvSpPr/>
          <p:nvPr/>
        </p:nvSpPr>
        <p:spPr>
          <a:xfrm>
            <a:off x="7940520" y="5950080"/>
            <a:ext cx="1224000" cy="907920"/>
          </a:xfrm>
          <a:custGeom>
            <a:avLst/>
            <a:gdLst>
              <a:gd name="textAreaLeft" fmla="*/ 58680 w 1224000"/>
              <a:gd name="textAreaRight" fmla="*/ 1165320 w 1224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9117" h="21600">
                <a:moveTo>
                  <a:pt x="0" y="0"/>
                </a:moveTo>
                <a:lnTo>
                  <a:pt x="29117" y="0"/>
                </a:lnTo>
                <a:lnTo>
                  <a:pt x="29117" y="21600"/>
                </a:lnTo>
                <a:lnTo>
                  <a:pt x="0" y="21600"/>
                </a:lnTo>
                <a:close/>
              </a:path>
              <a:path fill="lightenLess" w="29117" h="21600">
                <a:moveTo>
                  <a:pt x="0" y="0"/>
                </a:moveTo>
                <a:lnTo>
                  <a:pt x="29117" y="0"/>
                </a:lnTo>
                <a:lnTo>
                  <a:pt x="27717" y="1400"/>
                </a:lnTo>
                <a:lnTo>
                  <a:pt x="1400" y="1400"/>
                </a:lnTo>
                <a:close/>
              </a:path>
              <a:path fill="darken" w="29117" h="21600">
                <a:moveTo>
                  <a:pt x="29117" y="0"/>
                </a:moveTo>
                <a:lnTo>
                  <a:pt x="29117" y="21600"/>
                </a:lnTo>
                <a:lnTo>
                  <a:pt x="27717" y="20200"/>
                </a:lnTo>
                <a:lnTo>
                  <a:pt x="27717" y="1400"/>
                </a:lnTo>
                <a:close/>
              </a:path>
              <a:path fill="darkenLess" w="29117" h="21600">
                <a:moveTo>
                  <a:pt x="29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7" y="20200"/>
                </a:lnTo>
                <a:close/>
              </a:path>
              <a:path fill="lighten" w="29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17" h="21600">
                <a:moveTo>
                  <a:pt x="7552" y="7493"/>
                </a:moveTo>
                <a:lnTo>
                  <a:pt x="11059" y="7493"/>
                </a:lnTo>
                <a:lnTo>
                  <a:pt x="11059" y="12828"/>
                </a:lnTo>
                <a:cubicBezTo>
                  <a:pt x="11059" y="13751"/>
                  <a:pt x="11860" y="14482"/>
                  <a:pt x="12896" y="14482"/>
                </a:cubicBezTo>
                <a:lnTo>
                  <a:pt x="14558" y="14482"/>
                </a:lnTo>
                <a:cubicBezTo>
                  <a:pt x="15594" y="14482"/>
                  <a:pt x="16395" y="13751"/>
                  <a:pt x="16395" y="12828"/>
                </a:cubicBezTo>
                <a:lnTo>
                  <a:pt x="16395" y="7493"/>
                </a:lnTo>
                <a:lnTo>
                  <a:pt x="14558" y="7493"/>
                </a:lnTo>
                <a:lnTo>
                  <a:pt x="18066" y="3985"/>
                </a:lnTo>
                <a:lnTo>
                  <a:pt x="21739" y="7493"/>
                </a:lnTo>
                <a:lnTo>
                  <a:pt x="19902" y="7493"/>
                </a:lnTo>
                <a:lnTo>
                  <a:pt x="19902" y="12828"/>
                </a:lnTo>
                <a:cubicBezTo>
                  <a:pt x="19902" y="15596"/>
                  <a:pt x="17326" y="18155"/>
                  <a:pt x="14558" y="18155"/>
                </a:cubicBezTo>
                <a:lnTo>
                  <a:pt x="12896" y="18155"/>
                </a:lnTo>
                <a:cubicBezTo>
                  <a:pt x="10128" y="18155"/>
                  <a:pt x="7552" y="15596"/>
                  <a:pt x="7552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Управляющая кнопка: домой 1">
            <a:hlinkClick r:id="rId2" action="ppaction://hlinksldjump"/>
          </p:cNvPr>
          <p:cNvSpPr/>
          <p:nvPr/>
        </p:nvSpPr>
        <p:spPr>
          <a:xfrm>
            <a:off x="6875640" y="5950080"/>
            <a:ext cx="1009440" cy="907920"/>
          </a:xfrm>
          <a:custGeom>
            <a:avLst/>
            <a:gdLst>
              <a:gd name="textAreaLeft" fmla="*/ 58680 w 1009440"/>
              <a:gd name="textAreaRight" fmla="*/ 950760 w 10094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014" h="21600">
                <a:moveTo>
                  <a:pt x="0" y="0"/>
                </a:moveTo>
                <a:lnTo>
                  <a:pt x="24014" y="0"/>
                </a:lnTo>
                <a:lnTo>
                  <a:pt x="24014" y="21600"/>
                </a:lnTo>
                <a:lnTo>
                  <a:pt x="0" y="21600"/>
                </a:lnTo>
                <a:close/>
              </a:path>
              <a:path fill="lightenLess" w="24014" h="21600">
                <a:moveTo>
                  <a:pt x="0" y="0"/>
                </a:moveTo>
                <a:lnTo>
                  <a:pt x="24014" y="0"/>
                </a:lnTo>
                <a:lnTo>
                  <a:pt x="22614" y="1400"/>
                </a:lnTo>
                <a:lnTo>
                  <a:pt x="1400" y="1400"/>
                </a:lnTo>
                <a:close/>
              </a:path>
              <a:path fill="darken" w="24014" h="21600">
                <a:moveTo>
                  <a:pt x="24014" y="0"/>
                </a:moveTo>
                <a:lnTo>
                  <a:pt x="24014" y="21600"/>
                </a:lnTo>
                <a:lnTo>
                  <a:pt x="22614" y="20200"/>
                </a:lnTo>
                <a:lnTo>
                  <a:pt x="22614" y="1400"/>
                </a:lnTo>
                <a:close/>
              </a:path>
              <a:path fill="darkenLess" w="24014" h="21600">
                <a:moveTo>
                  <a:pt x="2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14" y="20200"/>
                </a:lnTo>
                <a:close/>
              </a:path>
              <a:path fill="lighten" w="2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14" h="21600">
                <a:moveTo>
                  <a:pt x="12007" y="3837"/>
                </a:moveTo>
                <a:lnTo>
                  <a:pt x="14583" y="6448"/>
                </a:lnTo>
                <a:lnTo>
                  <a:pt x="14583" y="4707"/>
                </a:lnTo>
                <a:lnTo>
                  <a:pt x="16359" y="4707"/>
                </a:lnTo>
                <a:lnTo>
                  <a:pt x="16359" y="8224"/>
                </a:lnTo>
                <a:lnTo>
                  <a:pt x="18970" y="10800"/>
                </a:lnTo>
                <a:lnTo>
                  <a:pt x="17316" y="10800"/>
                </a:lnTo>
                <a:lnTo>
                  <a:pt x="17316" y="17989"/>
                </a:lnTo>
                <a:lnTo>
                  <a:pt x="6698" y="17989"/>
                </a:lnTo>
                <a:lnTo>
                  <a:pt x="6698" y="10800"/>
                </a:lnTo>
                <a:lnTo>
                  <a:pt x="5044" y="10800"/>
                </a:lnTo>
                <a:close/>
              </a:path>
              <a:path fill="darkenLess" w="24014" h="21600">
                <a:moveTo>
                  <a:pt x="14583" y="6448"/>
                </a:moveTo>
                <a:lnTo>
                  <a:pt x="14583" y="4707"/>
                </a:lnTo>
                <a:lnTo>
                  <a:pt x="16359" y="4707"/>
                </a:lnTo>
                <a:lnTo>
                  <a:pt x="16359" y="8224"/>
                </a:lnTo>
                <a:close/>
              </a:path>
              <a:path fill="darkenLess" w="24014" h="21600">
                <a:moveTo>
                  <a:pt x="11085" y="14299"/>
                </a:moveTo>
                <a:lnTo>
                  <a:pt x="12930" y="14299"/>
                </a:lnTo>
                <a:lnTo>
                  <a:pt x="12930" y="17989"/>
                </a:lnTo>
                <a:lnTo>
                  <a:pt x="17316" y="17989"/>
                </a:lnTo>
                <a:lnTo>
                  <a:pt x="17316" y="10800"/>
                </a:lnTo>
                <a:lnTo>
                  <a:pt x="6698" y="10800"/>
                </a:lnTo>
                <a:lnTo>
                  <a:pt x="6698" y="17989"/>
                </a:lnTo>
                <a:lnTo>
                  <a:pt x="11085" y="17989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1476360" y="76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о +Ек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3995640" y="1052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643280" y="765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5580000" y="1052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6084720" y="765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326880" y="1700280"/>
                <a:ext cx="834552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2"/>
              <p:cNvSpPr txBox="1"/>
              <p:nvPr/>
            </p:nvSpPr>
            <p:spPr>
              <a:xfrm>
                <a:off x="1496880" y="3219480"/>
                <a:ext cx="55738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9" name="Line 13"/>
          <p:cNvSpPr/>
          <p:nvPr/>
        </p:nvSpPr>
        <p:spPr>
          <a:xfrm>
            <a:off x="4427640" y="45086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Управляющая кнопка: возврат 1">
            <a:hlinkClick r:id="rId1" action="ppaction://hlinksldjump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7493"/>
                </a:moveTo>
                <a:lnTo>
                  <a:pt x="8409" y="7493"/>
                </a:lnTo>
                <a:lnTo>
                  <a:pt x="8409" y="12828"/>
                </a:lnTo>
                <a:cubicBezTo>
                  <a:pt x="8409" y="13751"/>
                  <a:pt x="9210" y="14482"/>
                  <a:pt x="10246" y="14482"/>
                </a:cubicBezTo>
                <a:lnTo>
                  <a:pt x="11908" y="14482"/>
                </a:lnTo>
                <a:cubicBezTo>
                  <a:pt x="12944" y="14482"/>
                  <a:pt x="13745" y="13751"/>
                  <a:pt x="13745" y="12828"/>
                </a:cubicBezTo>
                <a:lnTo>
                  <a:pt x="13745" y="7493"/>
                </a:lnTo>
                <a:lnTo>
                  <a:pt x="11908" y="7493"/>
                </a:lnTo>
                <a:lnTo>
                  <a:pt x="15416" y="3985"/>
                </a:lnTo>
                <a:lnTo>
                  <a:pt x="19089" y="7493"/>
                </a:lnTo>
                <a:lnTo>
                  <a:pt x="17252" y="7493"/>
                </a:lnTo>
                <a:lnTo>
                  <a:pt x="17252" y="12828"/>
                </a:lnTo>
                <a:cubicBezTo>
                  <a:pt x="17252" y="15596"/>
                  <a:pt x="14676" y="18155"/>
                  <a:pt x="11908" y="18155"/>
                </a:cubicBezTo>
                <a:lnTo>
                  <a:pt x="10246" y="18155"/>
                </a:lnTo>
                <a:cubicBezTo>
                  <a:pt x="7478" y="18155"/>
                  <a:pt x="4902" y="15596"/>
                  <a:pt x="4902" y="12828"/>
                </a:cubicBezTo>
                <a:close/>
              </a:path>
            </a:pathLst>
          </a:custGeom>
          <a:solidFill>
            <a:srgbClr val="915121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0 E">
                                      <p:cBhvr>
                                        <p:cTn id="375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трение и Е.avi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5810400" cy="476892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92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5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250920" y="765000"/>
            <a:ext cx="7850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а №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анки с седоком общей массой 100 кг съезжают с горы высотой 8 м и длиной 100 м.Какова средняя сила сопротивления движению, если в конце горы сани достигли скорости 10м/с, начальная скорость равна 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2916360" y="4221000"/>
            <a:ext cx="4608360" cy="208764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6"/>
          <p:cNvSpPr/>
          <p:nvPr/>
        </p:nvSpPr>
        <p:spPr>
          <a:xfrm rot="1420200">
            <a:off x="2987280" y="3933360"/>
            <a:ext cx="790560" cy="50508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7"/>
          <p:cNvSpPr/>
          <p:nvPr/>
        </p:nvSpPr>
        <p:spPr>
          <a:xfrm rot="1420200">
            <a:off x="6732720" y="5589360"/>
            <a:ext cx="790560" cy="50472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34000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572000" y="522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348000" y="3213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п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7093080" y="5013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6948360" y="4869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395280" y="62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395280" y="1052640"/>
            <a:ext cx="165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=100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=8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=100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6"/>
              <p:cNvSpPr txBox="1"/>
              <p:nvPr/>
            </p:nvSpPr>
            <p:spPr>
              <a:xfrm>
                <a:off x="378000" y="2565360"/>
                <a:ext cx="1981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м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7"/>
              <p:cNvSpPr txBox="1"/>
              <p:nvPr/>
            </p:nvSpPr>
            <p:spPr>
              <a:xfrm>
                <a:off x="452520" y="2997360"/>
                <a:ext cx="11127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Text Box 9"/>
          <p:cNvSpPr/>
          <p:nvPr/>
        </p:nvSpPr>
        <p:spPr>
          <a:xfrm>
            <a:off x="468360" y="36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468360" y="414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c-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2411280" y="549360"/>
            <a:ext cx="0" cy="43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2"/>
          <p:cNvSpPr/>
          <p:nvPr/>
        </p:nvSpPr>
        <p:spPr>
          <a:xfrm>
            <a:off x="324000" y="364500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3419640" y="476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2484360" y="1268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3780000" y="16286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4500720" y="126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к+А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7"/>
              <p:cNvSpPr txBox="1"/>
              <p:nvPr/>
            </p:nvSpPr>
            <p:spPr>
              <a:xfrm>
                <a:off x="2413080" y="2060640"/>
                <a:ext cx="68022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sSup>
                      <m:e>
                        <m:f>
                          <m:num>
                            <m:r>
                              <m:t xml:space="preserve">mυ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gh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8"/>
              <p:cNvSpPr txBox="1"/>
              <p:nvPr/>
            </p:nvSpPr>
            <p:spPr>
              <a:xfrm>
                <a:off x="3400560" y="3297240"/>
                <a:ext cx="33512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9"/>
              <p:cNvSpPr txBox="1"/>
              <p:nvPr/>
            </p:nvSpPr>
            <p:spPr>
              <a:xfrm>
                <a:off x="1920960" y="5013360"/>
                <a:ext cx="65595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Line 20"/>
          <p:cNvSpPr/>
          <p:nvPr/>
        </p:nvSpPr>
        <p:spPr>
          <a:xfrm>
            <a:off x="7667640" y="595008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AutoShape 22"/>
          <p:cNvSpPr/>
          <p:nvPr/>
        </p:nvSpPr>
        <p:spPr>
          <a:xfrm>
            <a:off x="8366040" y="6237360"/>
            <a:ext cx="720720" cy="620640"/>
          </a:xfrm>
          <a:custGeom>
            <a:avLst/>
            <a:gdLst>
              <a:gd name="textAreaLeft" fmla="*/ 39960 w 720720"/>
              <a:gd name="textAreaRight" fmla="*/ 680760 w 720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81" h="21600">
                <a:moveTo>
                  <a:pt x="0" y="0"/>
                </a:moveTo>
                <a:lnTo>
                  <a:pt x="25081" y="0"/>
                </a:lnTo>
                <a:lnTo>
                  <a:pt x="25081" y="21600"/>
                </a:lnTo>
                <a:lnTo>
                  <a:pt x="0" y="21600"/>
                </a:lnTo>
                <a:close/>
              </a:path>
              <a:path fill="lightenLess" w="25081" h="21600">
                <a:moveTo>
                  <a:pt x="0" y="0"/>
                </a:moveTo>
                <a:lnTo>
                  <a:pt x="25081" y="0"/>
                </a:lnTo>
                <a:lnTo>
                  <a:pt x="23681" y="1400"/>
                </a:lnTo>
                <a:lnTo>
                  <a:pt x="1400" y="1400"/>
                </a:lnTo>
                <a:close/>
              </a:path>
              <a:path fill="darken" w="25081" h="21600">
                <a:moveTo>
                  <a:pt x="25081" y="0"/>
                </a:moveTo>
                <a:lnTo>
                  <a:pt x="25081" y="21600"/>
                </a:lnTo>
                <a:lnTo>
                  <a:pt x="23681" y="20200"/>
                </a:lnTo>
                <a:lnTo>
                  <a:pt x="23681" y="1400"/>
                </a:lnTo>
                <a:close/>
              </a:path>
              <a:path fill="darkenLess" w="25081" h="21600">
                <a:moveTo>
                  <a:pt x="25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1" y="20200"/>
                </a:lnTo>
                <a:close/>
              </a:path>
              <a:path fill="lighten" w="25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1" h="21600">
                <a:moveTo>
                  <a:pt x="5534" y="7493"/>
                </a:moveTo>
                <a:lnTo>
                  <a:pt x="9042" y="7493"/>
                </a:lnTo>
                <a:lnTo>
                  <a:pt x="9042" y="12828"/>
                </a:lnTo>
                <a:cubicBezTo>
                  <a:pt x="9042" y="13751"/>
                  <a:pt x="9842" y="14482"/>
                  <a:pt x="10878" y="14482"/>
                </a:cubicBezTo>
                <a:lnTo>
                  <a:pt x="12541" y="14482"/>
                </a:lnTo>
                <a:cubicBezTo>
                  <a:pt x="13576" y="14482"/>
                  <a:pt x="14377" y="13751"/>
                  <a:pt x="14377" y="12828"/>
                </a:cubicBezTo>
                <a:lnTo>
                  <a:pt x="14377" y="7493"/>
                </a:lnTo>
                <a:lnTo>
                  <a:pt x="12541" y="7493"/>
                </a:lnTo>
                <a:lnTo>
                  <a:pt x="16048" y="3985"/>
                </a:lnTo>
                <a:lnTo>
                  <a:pt x="19721" y="7493"/>
                </a:lnTo>
                <a:lnTo>
                  <a:pt x="17885" y="7493"/>
                </a:lnTo>
                <a:lnTo>
                  <a:pt x="17885" y="12828"/>
                </a:lnTo>
                <a:cubicBezTo>
                  <a:pt x="17885" y="15596"/>
                  <a:pt x="15308" y="18155"/>
                  <a:pt x="12541" y="18155"/>
                </a:cubicBezTo>
                <a:lnTo>
                  <a:pt x="10878" y="18155"/>
                </a:lnTo>
                <a:cubicBezTo>
                  <a:pt x="8110" y="18155"/>
                  <a:pt x="5534" y="15596"/>
                  <a:pt x="5534" y="12828"/>
                </a:cubicBezTo>
                <a:close/>
              </a:path>
            </a:pathLst>
          </a:custGeom>
          <a:solidFill>
            <a:srgbClr val="915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Управляющая кнопка: домой 1"/>
          <p:cNvSpPr/>
          <p:nvPr/>
        </p:nvSpPr>
        <p:spPr>
          <a:xfrm>
            <a:off x="34920" y="6237360"/>
            <a:ext cx="649440" cy="620640"/>
          </a:xfrm>
          <a:custGeom>
            <a:avLst/>
            <a:gdLst>
              <a:gd name="textAreaLeft" fmla="*/ 39960 w 649440"/>
              <a:gd name="textAreaRight" fmla="*/ 609480 w 6494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602" h="21600">
                <a:moveTo>
                  <a:pt x="0" y="0"/>
                </a:moveTo>
                <a:lnTo>
                  <a:pt x="22602" y="0"/>
                </a:lnTo>
                <a:lnTo>
                  <a:pt x="22602" y="21600"/>
                </a:lnTo>
                <a:lnTo>
                  <a:pt x="0" y="21600"/>
                </a:lnTo>
                <a:close/>
              </a:path>
              <a:path fill="lightenLess" w="22602" h="21600">
                <a:moveTo>
                  <a:pt x="0" y="0"/>
                </a:moveTo>
                <a:lnTo>
                  <a:pt x="22602" y="0"/>
                </a:lnTo>
                <a:lnTo>
                  <a:pt x="21202" y="1400"/>
                </a:lnTo>
                <a:lnTo>
                  <a:pt x="1400" y="1400"/>
                </a:lnTo>
                <a:close/>
              </a:path>
              <a:path fill="darken" w="22602" h="21600">
                <a:moveTo>
                  <a:pt x="22602" y="0"/>
                </a:moveTo>
                <a:lnTo>
                  <a:pt x="22602" y="21600"/>
                </a:lnTo>
                <a:lnTo>
                  <a:pt x="21202" y="20200"/>
                </a:lnTo>
                <a:lnTo>
                  <a:pt x="21202" y="1400"/>
                </a:lnTo>
                <a:close/>
              </a:path>
              <a:path fill="darkenLess" w="22602" h="21600">
                <a:moveTo>
                  <a:pt x="22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2" y="20200"/>
                </a:lnTo>
                <a:close/>
              </a:path>
              <a:path fill="lighten" w="22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2" h="21600">
                <a:moveTo>
                  <a:pt x="11301" y="3837"/>
                </a:moveTo>
                <a:lnTo>
                  <a:pt x="13877" y="6448"/>
                </a:lnTo>
                <a:lnTo>
                  <a:pt x="13877" y="4707"/>
                </a:lnTo>
                <a:lnTo>
                  <a:pt x="15653" y="4707"/>
                </a:lnTo>
                <a:lnTo>
                  <a:pt x="15653" y="8224"/>
                </a:lnTo>
                <a:lnTo>
                  <a:pt x="18264" y="10800"/>
                </a:lnTo>
                <a:lnTo>
                  <a:pt x="16610" y="10800"/>
                </a:lnTo>
                <a:lnTo>
                  <a:pt x="16610" y="17989"/>
                </a:lnTo>
                <a:lnTo>
                  <a:pt x="5992" y="17989"/>
                </a:lnTo>
                <a:lnTo>
                  <a:pt x="5992" y="10800"/>
                </a:lnTo>
                <a:lnTo>
                  <a:pt x="4338" y="10800"/>
                </a:lnTo>
                <a:close/>
              </a:path>
              <a:path fill="darkenLess" w="22602" h="21600">
                <a:moveTo>
                  <a:pt x="13877" y="6448"/>
                </a:moveTo>
                <a:lnTo>
                  <a:pt x="13877" y="4707"/>
                </a:lnTo>
                <a:lnTo>
                  <a:pt x="15653" y="4707"/>
                </a:lnTo>
                <a:lnTo>
                  <a:pt x="15653" y="8224"/>
                </a:lnTo>
                <a:close/>
              </a:path>
              <a:path fill="darkenLess" w="22602" h="21600">
                <a:moveTo>
                  <a:pt x="10378" y="14299"/>
                </a:moveTo>
                <a:lnTo>
                  <a:pt x="12223" y="14299"/>
                </a:lnTo>
                <a:lnTo>
                  <a:pt x="12223" y="17989"/>
                </a:lnTo>
                <a:lnTo>
                  <a:pt x="16610" y="17989"/>
                </a:lnTo>
                <a:lnTo>
                  <a:pt x="16610" y="10800"/>
                </a:lnTo>
                <a:lnTo>
                  <a:pt x="5992" y="10800"/>
                </a:lnTo>
                <a:lnTo>
                  <a:pt x="5992" y="17989"/>
                </a:lnTo>
                <a:lnTo>
                  <a:pt x="10378" y="17989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9" dur="5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1116000" y="242100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. 47-53  Упр9 (9) стр. 12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Управляющая кнопка: домой 3"/>
          <p:cNvSpPr/>
          <p:nvPr/>
        </p:nvSpPr>
        <p:spPr>
          <a:xfrm>
            <a:off x="8028000" y="6021360"/>
            <a:ext cx="720720" cy="836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072">
                <a:moveTo>
                  <a:pt x="0" y="0"/>
                </a:moveTo>
                <a:lnTo>
                  <a:pt x="21600" y="0"/>
                </a:lnTo>
                <a:lnTo>
                  <a:pt x="21600" y="25072"/>
                </a:lnTo>
                <a:lnTo>
                  <a:pt x="0" y="25072"/>
                </a:lnTo>
                <a:close/>
              </a:path>
              <a:path fill="lightenLess" w="21600" h="25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2">
                <a:moveTo>
                  <a:pt x="21600" y="0"/>
                </a:moveTo>
                <a:lnTo>
                  <a:pt x="21600" y="25072"/>
                </a:lnTo>
                <a:lnTo>
                  <a:pt x="20200" y="23672"/>
                </a:lnTo>
                <a:lnTo>
                  <a:pt x="20200" y="1400"/>
                </a:lnTo>
                <a:close/>
              </a:path>
              <a:path fill="darkenLess" w="21600" h="25072">
                <a:moveTo>
                  <a:pt x="21600" y="25072"/>
                </a:moveTo>
                <a:lnTo>
                  <a:pt x="0" y="25072"/>
                </a:lnTo>
                <a:lnTo>
                  <a:pt x="1400" y="23672"/>
                </a:lnTo>
                <a:lnTo>
                  <a:pt x="20200" y="23672"/>
                </a:lnTo>
                <a:close/>
              </a:path>
              <a:path fill="lighten" w="21600" h="25072">
                <a:moveTo>
                  <a:pt x="0" y="25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2"/>
                </a:lnTo>
                <a:close/>
              </a:path>
              <a:path fill="darken" w="21600" h="25072">
                <a:moveTo>
                  <a:pt x="10800" y="5573"/>
                </a:moveTo>
                <a:lnTo>
                  <a:pt x="13376" y="8184"/>
                </a:lnTo>
                <a:lnTo>
                  <a:pt x="13376" y="6444"/>
                </a:lnTo>
                <a:lnTo>
                  <a:pt x="15152" y="6444"/>
                </a:lnTo>
                <a:lnTo>
                  <a:pt x="15152" y="9960"/>
                </a:lnTo>
                <a:lnTo>
                  <a:pt x="17763" y="12536"/>
                </a:lnTo>
                <a:lnTo>
                  <a:pt x="16109" y="12536"/>
                </a:lnTo>
                <a:lnTo>
                  <a:pt x="16109" y="19725"/>
                </a:lnTo>
                <a:lnTo>
                  <a:pt x="5491" y="19725"/>
                </a:lnTo>
                <a:lnTo>
                  <a:pt x="5491" y="12536"/>
                </a:lnTo>
                <a:lnTo>
                  <a:pt x="3837" y="12536"/>
                </a:lnTo>
                <a:close/>
              </a:path>
              <a:path fill="darkenLess" w="21600" h="25072">
                <a:moveTo>
                  <a:pt x="13376" y="8184"/>
                </a:moveTo>
                <a:lnTo>
                  <a:pt x="13376" y="6444"/>
                </a:lnTo>
                <a:lnTo>
                  <a:pt x="15152" y="6444"/>
                </a:lnTo>
                <a:lnTo>
                  <a:pt x="15152" y="9960"/>
                </a:lnTo>
                <a:close/>
              </a:path>
              <a:path fill="darkenLess" w="21600" h="25072">
                <a:moveTo>
                  <a:pt x="9877" y="16035"/>
                </a:moveTo>
                <a:lnTo>
                  <a:pt x="11723" y="16035"/>
                </a:lnTo>
                <a:lnTo>
                  <a:pt x="11723" y="19725"/>
                </a:lnTo>
                <a:lnTo>
                  <a:pt x="16109" y="19725"/>
                </a:lnTo>
                <a:lnTo>
                  <a:pt x="16109" y="12536"/>
                </a:lnTo>
                <a:lnTo>
                  <a:pt x="5491" y="12536"/>
                </a:lnTo>
                <a:lnTo>
                  <a:pt x="5491" y="19725"/>
                </a:lnTo>
                <a:lnTo>
                  <a:pt x="9877" y="19725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66"/>
                </a:solidFill>
                <a:latin typeface="Comic Sans MS"/>
              </a:rPr>
              <a:t>содержани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Виды энерг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кон сохранения энерг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Примеры решения зада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684360" y="765000"/>
            <a:ext cx="7272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Если тело или система тел могут совершить работу, то говорят, что они обладают энергией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127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ЭНЕРГИЯ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ОБОЗНАЧАЕТС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348000" y="2205000"/>
            <a:ext cx="33116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95640" y="198900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ritannic Bold"/>
              </a:rPr>
              <a:t>E</a:t>
            </a:r>
            <a:r>
              <a:rPr b="0" lang="en-US" sz="80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1640" y="3789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ЭНЕРГИЯ</a:t>
            </a:r>
            <a:r>
              <a:rPr b="0" lang="ru-RU" sz="40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ИЗМЕРЯЕТСЯ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564000" y="472428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Britannic Bold"/>
              </a:rPr>
              <a:t>Дж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Управляющая кнопка: домой 1">
            <a:hlinkClick r:id="rId1" action="ppaction://hlinksldjump"/>
          </p:cNvPr>
          <p:cNvSpPr/>
          <p:nvPr/>
        </p:nvSpPr>
        <p:spPr>
          <a:xfrm>
            <a:off x="8317080" y="6237360"/>
            <a:ext cx="576000" cy="620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73">
                <a:moveTo>
                  <a:pt x="0" y="0"/>
                </a:moveTo>
                <a:lnTo>
                  <a:pt x="21600" y="0"/>
                </a:lnTo>
                <a:lnTo>
                  <a:pt x="21600" y="23273"/>
                </a:lnTo>
                <a:lnTo>
                  <a:pt x="0" y="23273"/>
                </a:lnTo>
                <a:close/>
              </a:path>
              <a:path fill="lightenLess" w="21600" h="232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3">
                <a:moveTo>
                  <a:pt x="21600" y="0"/>
                </a:moveTo>
                <a:lnTo>
                  <a:pt x="21600" y="23273"/>
                </a:lnTo>
                <a:lnTo>
                  <a:pt x="20200" y="21873"/>
                </a:lnTo>
                <a:lnTo>
                  <a:pt x="20200" y="1400"/>
                </a:lnTo>
                <a:close/>
              </a:path>
              <a:path fill="darkenLess" w="21600" h="23273">
                <a:moveTo>
                  <a:pt x="21600" y="23273"/>
                </a:moveTo>
                <a:lnTo>
                  <a:pt x="0" y="23273"/>
                </a:lnTo>
                <a:lnTo>
                  <a:pt x="1400" y="21873"/>
                </a:lnTo>
                <a:lnTo>
                  <a:pt x="20200" y="21873"/>
                </a:lnTo>
                <a:close/>
              </a:path>
              <a:path fill="lighten" w="21600" h="23273">
                <a:moveTo>
                  <a:pt x="0" y="232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3"/>
                </a:lnTo>
                <a:close/>
              </a:path>
              <a:path fill="darken" w="21600" h="23273">
                <a:moveTo>
                  <a:pt x="10800" y="4674"/>
                </a:moveTo>
                <a:lnTo>
                  <a:pt x="13376" y="7285"/>
                </a:ln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lnTo>
                  <a:pt x="17763" y="11636"/>
                </a:lnTo>
                <a:lnTo>
                  <a:pt x="16109" y="11636"/>
                </a:lnTo>
                <a:lnTo>
                  <a:pt x="16109" y="18826"/>
                </a:lnTo>
                <a:lnTo>
                  <a:pt x="5491" y="18826"/>
                </a:lnTo>
                <a:lnTo>
                  <a:pt x="5491" y="11636"/>
                </a:lnTo>
                <a:lnTo>
                  <a:pt x="3837" y="11636"/>
                </a:lnTo>
                <a:close/>
              </a:path>
              <a:path fill="darkenLess" w="21600" h="23273">
                <a:moveTo>
                  <a:pt x="13376" y="7285"/>
                </a:move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close/>
              </a:path>
              <a:path fill="darkenLess" w="21600" h="23273">
                <a:moveTo>
                  <a:pt x="9877" y="15135"/>
                </a:moveTo>
                <a:lnTo>
                  <a:pt x="11723" y="15135"/>
                </a:lnTo>
                <a:lnTo>
                  <a:pt x="11723" y="18826"/>
                </a:lnTo>
                <a:lnTo>
                  <a:pt x="16109" y="18826"/>
                </a:lnTo>
                <a:lnTo>
                  <a:pt x="16109" y="11636"/>
                </a:lnTo>
                <a:lnTo>
                  <a:pt x="5491" y="11636"/>
                </a:lnTo>
                <a:lnTo>
                  <a:pt x="5491" y="18826"/>
                </a:lnTo>
                <a:lnTo>
                  <a:pt x="9877" y="1882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mph" presetID="2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72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73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8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85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86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Кинетическая энергия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79280" y="170028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о энергия движущегося тел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2"/>
              <p:cNvSpPr txBox="1"/>
              <p:nvPr/>
            </p:nvSpPr>
            <p:spPr>
              <a:xfrm>
                <a:off x="2050920" y="2190600"/>
                <a:ext cx="4897440" cy="299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Потенциальная энергия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95280" y="17733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о энергия взаимодействи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1547640" y="3357720"/>
                <a:ext cx="59770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Потенциальная энергия упругой деформаци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2268360" y="1901880"/>
                <a:ext cx="4219920" cy="29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4" name="пружина.avi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185" name="Управляющая кнопка: домой 1">
            <a:hlinkClick r:id="rId2" action="ppaction://hlinksldjump"/>
          </p:cNvPr>
          <p:cNvSpPr/>
          <p:nvPr/>
        </p:nvSpPr>
        <p:spPr>
          <a:xfrm>
            <a:off x="8317080" y="6165720"/>
            <a:ext cx="576000" cy="69228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58">
                <a:moveTo>
                  <a:pt x="0" y="0"/>
                </a:moveTo>
                <a:lnTo>
                  <a:pt x="21600" y="0"/>
                </a:lnTo>
                <a:lnTo>
                  <a:pt x="21600" y="25958"/>
                </a:lnTo>
                <a:lnTo>
                  <a:pt x="0" y="25958"/>
                </a:lnTo>
                <a:close/>
              </a:path>
              <a:path fill="lightenLess" w="21600" h="259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58">
                <a:moveTo>
                  <a:pt x="21600" y="0"/>
                </a:moveTo>
                <a:lnTo>
                  <a:pt x="21600" y="25958"/>
                </a:lnTo>
                <a:lnTo>
                  <a:pt x="20200" y="24558"/>
                </a:lnTo>
                <a:lnTo>
                  <a:pt x="20200" y="1400"/>
                </a:lnTo>
                <a:close/>
              </a:path>
              <a:path fill="darkenLess" w="21600" h="25958">
                <a:moveTo>
                  <a:pt x="21600" y="25958"/>
                </a:moveTo>
                <a:lnTo>
                  <a:pt x="0" y="25958"/>
                </a:lnTo>
                <a:lnTo>
                  <a:pt x="1400" y="24558"/>
                </a:lnTo>
                <a:lnTo>
                  <a:pt x="20200" y="24558"/>
                </a:lnTo>
                <a:close/>
              </a:path>
              <a:path fill="lighten" w="21600" h="25958">
                <a:moveTo>
                  <a:pt x="0" y="259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58"/>
                </a:lnTo>
                <a:close/>
              </a:path>
              <a:path fill="darken" w="21600" h="25958">
                <a:moveTo>
                  <a:pt x="10800" y="6016"/>
                </a:moveTo>
                <a:lnTo>
                  <a:pt x="13376" y="8627"/>
                </a:lnTo>
                <a:lnTo>
                  <a:pt x="13376" y="6886"/>
                </a:lnTo>
                <a:lnTo>
                  <a:pt x="15152" y="6886"/>
                </a:lnTo>
                <a:lnTo>
                  <a:pt x="15152" y="10403"/>
                </a:lnTo>
                <a:lnTo>
                  <a:pt x="17763" y="12979"/>
                </a:lnTo>
                <a:lnTo>
                  <a:pt x="16109" y="12979"/>
                </a:lnTo>
                <a:lnTo>
                  <a:pt x="16109" y="20168"/>
                </a:lnTo>
                <a:lnTo>
                  <a:pt x="5491" y="20168"/>
                </a:lnTo>
                <a:lnTo>
                  <a:pt x="5491" y="12979"/>
                </a:lnTo>
                <a:lnTo>
                  <a:pt x="3837" y="12979"/>
                </a:lnTo>
                <a:close/>
              </a:path>
              <a:path fill="darkenLess" w="21600" h="25958">
                <a:moveTo>
                  <a:pt x="13376" y="8627"/>
                </a:moveTo>
                <a:lnTo>
                  <a:pt x="13376" y="6886"/>
                </a:lnTo>
                <a:lnTo>
                  <a:pt x="15152" y="6886"/>
                </a:lnTo>
                <a:lnTo>
                  <a:pt x="15152" y="10403"/>
                </a:lnTo>
                <a:close/>
              </a:path>
              <a:path fill="darkenLess" w="21600" h="25958">
                <a:moveTo>
                  <a:pt x="9877" y="16478"/>
                </a:moveTo>
                <a:lnTo>
                  <a:pt x="11723" y="16478"/>
                </a:lnTo>
                <a:lnTo>
                  <a:pt x="11723" y="20168"/>
                </a:lnTo>
                <a:lnTo>
                  <a:pt x="16109" y="20168"/>
                </a:lnTo>
                <a:lnTo>
                  <a:pt x="16109" y="12979"/>
                </a:lnTo>
                <a:lnTo>
                  <a:pt x="5491" y="12979"/>
                </a:lnTo>
                <a:lnTo>
                  <a:pt x="5491" y="20168"/>
                </a:lnTo>
                <a:lnTo>
                  <a:pt x="9877" y="20168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Закон сохранени</a:t>
            </a:r>
            <a:r>
              <a:rPr b="0" lang="ru-RU" sz="4400" spc="-1" strike="noStrike">
                <a:solidFill>
                  <a:srgbClr val="cc0066"/>
                </a:solidFill>
                <a:latin typeface="Comic Sans MS"/>
              </a:rPr>
              <a:t>я </a:t>
            </a: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энергии</a:t>
            </a:r>
            <a:r>
              <a:rPr b="0" lang="ru-RU" sz="4400" spc="-1" strike="noStrike">
                <a:solidFill>
                  <a:srgbClr val="cc0066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50920" y="1989000"/>
            <a:ext cx="806616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 замкнутой системе, в которой действуют </a:t>
            </a:r>
            <a:r>
              <a:rPr b="0" lang="ru-RU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консервативные силы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, энергия ни от куда не возникает и ни куда не исчезает, а лишь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ереходит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 из одного вида в друго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Управляющая кнопка: домой 1">
            <a:hlinkClick r:id="rId2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4"/>
          <p:cNvSpPr/>
          <p:nvPr/>
        </p:nvSpPr>
        <p:spPr>
          <a:xfrm>
            <a:off x="755640" y="1125360"/>
            <a:ext cx="237636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6"/>
          <p:cNvSpPr/>
          <p:nvPr/>
        </p:nvSpPr>
        <p:spPr>
          <a:xfrm flipV="1">
            <a:off x="3132000" y="1125000"/>
            <a:ext cx="0" cy="446436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1979640" y="5589720"/>
            <a:ext cx="612144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3348000" y="476280"/>
            <a:ext cx="6494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3348000" y="4941720"/>
            <a:ext cx="649440" cy="648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340000" y="2708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140360" y="4762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=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x  E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=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14"/>
          <p:cNvSpPr/>
          <p:nvPr/>
        </p:nvSpPr>
        <p:spPr>
          <a:xfrm>
            <a:off x="3348000" y="2708280"/>
            <a:ext cx="6494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4211640" y="486900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=0  Ек=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140360" y="263700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=Е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140360" y="170028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5003640" y="177336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435640" y="1700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20"/>
          <p:cNvSpPr/>
          <p:nvPr/>
        </p:nvSpPr>
        <p:spPr>
          <a:xfrm flipV="1">
            <a:off x="6372360" y="177336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21"/>
          <p:cNvSpPr/>
          <p:nvPr/>
        </p:nvSpPr>
        <p:spPr>
          <a:xfrm>
            <a:off x="3276720" y="404640"/>
            <a:ext cx="720720" cy="72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6.7052E-006 L 6.94444E-006 0.18868 E">
                                      <p:cBhvr>
                                        <p:cTn id="157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18868 L 3.05556E-006 0.34613 E">
                                      <p:cBhvr>
                                        <p:cTn id="182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34613 L 3.05556E-006 0.66081 E">
                                      <p:cBhvr>
                                        <p:cTn id="19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20:34:41Z</dcterms:created>
  <dc:creator>JURA</dc:creator>
  <dc:description/>
  <dc:language>en-US</dc:language>
  <cp:lastModifiedBy>LEGION</cp:lastModifiedBy>
  <dcterms:modified xsi:type="dcterms:W3CDTF">2015-03-30T08:52:11Z</dcterms:modified>
  <cp:revision>20</cp:revision>
  <dc:subject/>
  <dc:title>Механическая энергия</dc:title>
</cp:coreProperties>
</file>