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D6AB-FF33-405C-A710-21E30BF78B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Механическая энер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E8ED-4216-4139-A1FB-A8D102D5F65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9435-5F85-48FD-AA62-479E1A35669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 какой начальной скоростью надо бросить вниз мяч с высоты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чтобы он подпрыгнул на высоту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? Считать удар абсолютно упруг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C8F4-533C-41D9-B19A-2F30BBE1C3A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иды уд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упругий 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A1B3-1A93-4069-8125-BC2D7F8A34E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еханическая энергия не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большая часть механической энергии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очти 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FAF2-EEC3-4FC1-BCBA-C22BDB0CBD6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9607-40D2-4A34-BFA6-835400FECAD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0289-7366-4C8A-9691-B71084EC1C9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решения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A3EA-5027-465A-92A5-FBF7BFB1B74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8006-668E-4DC9-BAD6-6123B974153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БОЗНАЧ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48FD-2467-4C2D-9C82-F71DB0A6C1F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Кинетическ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движущегос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1E0B-9DB2-405C-8ACC-B5DF1958E49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2AFA-249B-4AE4-813C-7F1E87A7386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 упругой де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9791-E27F-472A-BBDF-56E83507665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Закон сохранен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я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переход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 одного вид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5240-A059-4BD3-B3A5-0AEFA2D8103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38B-6F3B-4CEB-AF10-B49D720E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21D-9DCF-403A-8CC7-B6D4FA29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E32-A7E2-48E2-8F8A-F37679E1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6A8-E22C-4C1B-A6D6-FBA809FB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E7D4-535B-4C0C-856E-3D12E0BF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03AB-48B4-48E6-81D0-8C778F43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69C7-8DDB-4FC4-82FD-F624C75E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311C-9528-4ECD-BBA4-A7CC81EF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7510-9D4E-4E78-AED1-FC55F2C8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C1DA-74C2-45C4-B1FC-6C20E21C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4D28-38D1-44E0-BABF-BBBF50DE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279-8748-40CA-AAD7-FC59A556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F38D-CA28-4879-8C72-B55CA57E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7D1F-0A06-4C29-A37C-D98B2979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E07B-C937-4CC9-8246-75F46D6D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E854-0395-423A-B22F-B6D1AFF3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8BF9-12C0-4F99-B618-D697E915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1C1-86BB-4EAC-ABC6-77A493CA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5F5-E0C4-41E5-83E6-B0BF5EFE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CCF-1B13-4DD5-AC44-A22084D5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A2F-0052-4478-813F-31E931C1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5AB-5ED5-4895-8519-4E50A3B9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56F-9BEA-4EFA-BC5A-D340857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3BF-F676-4C7A-A28F-D716B62B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5EC6-CACD-45E3-A4CF-425B0B8EEA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705F-8965-407A-B620-F65E9BFF11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Механическая энерг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omic Sans MS"/>
              </a:rPr>
              <a:t>Закон сохранения энер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543564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невская О.Ю. 83 школа г.Санкт-Петербу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108000" y="1413000"/>
            <a:ext cx="856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8237"/>
                </a:moveTo>
                <a:lnTo>
                  <a:pt x="7301" y="8237"/>
                </a:lnTo>
                <a:lnTo>
                  <a:pt x="7301" y="13572"/>
                </a:lnTo>
                <a:cubicBezTo>
                  <a:pt x="7301" y="14495"/>
                  <a:pt x="8102" y="15226"/>
                  <a:pt x="9138" y="15226"/>
                </a:cubicBezTo>
                <a:lnTo>
                  <a:pt x="10800" y="15226"/>
                </a:lnTo>
                <a:cubicBezTo>
                  <a:pt x="11836" y="15226"/>
                  <a:pt x="12636" y="14495"/>
                  <a:pt x="12636" y="13572"/>
                </a:cubicBezTo>
                <a:lnTo>
                  <a:pt x="12636" y="8237"/>
                </a:lnTo>
                <a:lnTo>
                  <a:pt x="10800" y="8237"/>
                </a:lnTo>
                <a:lnTo>
                  <a:pt x="14308" y="4729"/>
                </a:lnTo>
                <a:lnTo>
                  <a:pt x="17981" y="8237"/>
                </a:lnTo>
                <a:lnTo>
                  <a:pt x="16144" y="8237"/>
                </a:lnTo>
                <a:lnTo>
                  <a:pt x="16144" y="13572"/>
                </a:lnTo>
                <a:cubicBezTo>
                  <a:pt x="16144" y="16340"/>
                  <a:pt x="13568" y="18899"/>
                  <a:pt x="10800" y="18899"/>
                </a:cubicBezTo>
                <a:lnTo>
                  <a:pt x="9138" y="18899"/>
                </a:lnTo>
                <a:cubicBezTo>
                  <a:pt x="6370" y="18899"/>
                  <a:pt x="3794" y="16340"/>
                  <a:pt x="3794" y="13572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836640"/>
            <a:ext cx="7850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читать удар абсолютно уп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Виды уд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бсолютно упругий 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Абсолютно 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620640"/>
            <a:ext cx="8137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еханическая энергия не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большая часть механической энергии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чти 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7940520" y="5950080"/>
            <a:ext cx="1224000" cy="907920"/>
          </a:xfrm>
          <a:custGeom>
            <a:avLst/>
            <a:gdLst>
              <a:gd name="textAreaLeft" fmla="*/ 58680 w 1224000"/>
              <a:gd name="textAreaRight" fmla="*/ 1165320 w 1224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17" h="21600">
                <a:moveTo>
                  <a:pt x="7552" y="7493"/>
                </a:moveTo>
                <a:lnTo>
                  <a:pt x="11059" y="7493"/>
                </a:lnTo>
                <a:lnTo>
                  <a:pt x="11059" y="12828"/>
                </a:lnTo>
                <a:cubicBezTo>
                  <a:pt x="11059" y="13751"/>
                  <a:pt x="11860" y="14482"/>
                  <a:pt x="12896" y="14482"/>
                </a:cubicBezTo>
                <a:lnTo>
                  <a:pt x="14558" y="14482"/>
                </a:lnTo>
                <a:cubicBezTo>
                  <a:pt x="15594" y="14482"/>
                  <a:pt x="16395" y="13751"/>
                  <a:pt x="16395" y="12828"/>
                </a:cubicBezTo>
                <a:lnTo>
                  <a:pt x="16395" y="7493"/>
                </a:lnTo>
                <a:lnTo>
                  <a:pt x="14558" y="7493"/>
                </a:lnTo>
                <a:lnTo>
                  <a:pt x="18066" y="3985"/>
                </a:lnTo>
                <a:lnTo>
                  <a:pt x="21739" y="7493"/>
                </a:lnTo>
                <a:lnTo>
                  <a:pt x="19902" y="7493"/>
                </a:lnTo>
                <a:lnTo>
                  <a:pt x="19902" y="12828"/>
                </a:lnTo>
                <a:cubicBezTo>
                  <a:pt x="19902" y="15596"/>
                  <a:pt x="17326" y="18155"/>
                  <a:pt x="14558" y="18155"/>
                </a:cubicBezTo>
                <a:lnTo>
                  <a:pt x="12896" y="18155"/>
                </a:lnTo>
                <a:cubicBezTo>
                  <a:pt x="10128" y="18155"/>
                  <a:pt x="7552" y="15596"/>
                  <a:pt x="7552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Управляющая кнопка: домой 1">
            <a:hlinkClick r:id="rId2" action="ppaction://hlinksldjump"/>
          </p:cNvPr>
          <p:cNvSpPr/>
          <p:nvPr/>
        </p:nvSpPr>
        <p:spPr>
          <a:xfrm>
            <a:off x="6875640" y="5950080"/>
            <a:ext cx="1009440" cy="907920"/>
          </a:xfrm>
          <a:custGeom>
            <a:avLst/>
            <a:gdLst>
              <a:gd name="textAreaLeft" fmla="*/ 58680 w 1009440"/>
              <a:gd name="textAreaRight" fmla="*/ 950760 w 10094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014" h="21600">
                <a:moveTo>
                  <a:pt x="0" y="0"/>
                </a:moveTo>
                <a:lnTo>
                  <a:pt x="24014" y="0"/>
                </a:lnTo>
                <a:lnTo>
                  <a:pt x="24014" y="21600"/>
                </a:lnTo>
                <a:lnTo>
                  <a:pt x="0" y="21600"/>
                </a:lnTo>
                <a:close/>
              </a:path>
              <a:path fill="lightenLess" w="24014" h="21600">
                <a:moveTo>
                  <a:pt x="0" y="0"/>
                </a:moveTo>
                <a:lnTo>
                  <a:pt x="24014" y="0"/>
                </a:lnTo>
                <a:lnTo>
                  <a:pt x="22614" y="1400"/>
                </a:lnTo>
                <a:lnTo>
                  <a:pt x="1400" y="1400"/>
                </a:lnTo>
                <a:close/>
              </a:path>
              <a:path fill="darken" w="24014" h="21600">
                <a:moveTo>
                  <a:pt x="24014" y="0"/>
                </a:moveTo>
                <a:lnTo>
                  <a:pt x="24014" y="21600"/>
                </a:lnTo>
                <a:lnTo>
                  <a:pt x="22614" y="20200"/>
                </a:lnTo>
                <a:lnTo>
                  <a:pt x="22614" y="1400"/>
                </a:lnTo>
                <a:close/>
              </a:path>
              <a:path fill="darkenLess" w="24014" h="21600">
                <a:moveTo>
                  <a:pt x="2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4" y="20200"/>
                </a:lnTo>
                <a:close/>
              </a:path>
              <a:path fill="lighten" w="2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4" h="21600">
                <a:moveTo>
                  <a:pt x="12007" y="3837"/>
                </a:moveTo>
                <a:lnTo>
                  <a:pt x="14583" y="6448"/>
                </a:ln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lnTo>
                  <a:pt x="18970" y="10800"/>
                </a:lnTo>
                <a:lnTo>
                  <a:pt x="17316" y="10800"/>
                </a:lnTo>
                <a:lnTo>
                  <a:pt x="17316" y="17989"/>
                </a:lnTo>
                <a:lnTo>
                  <a:pt x="6698" y="17989"/>
                </a:lnTo>
                <a:lnTo>
                  <a:pt x="6698" y="10800"/>
                </a:lnTo>
                <a:lnTo>
                  <a:pt x="5044" y="10800"/>
                </a:lnTo>
                <a:close/>
              </a:path>
              <a:path fill="darkenLess" w="24014" h="21600">
                <a:moveTo>
                  <a:pt x="14583" y="6448"/>
                </a:move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close/>
              </a:path>
              <a:path fill="darkenLess" w="24014" h="21600">
                <a:moveTo>
                  <a:pt x="11085" y="14299"/>
                </a:moveTo>
                <a:lnTo>
                  <a:pt x="12930" y="14299"/>
                </a:lnTo>
                <a:lnTo>
                  <a:pt x="12930" y="17989"/>
                </a:lnTo>
                <a:lnTo>
                  <a:pt x="17316" y="17989"/>
                </a:lnTo>
                <a:lnTo>
                  <a:pt x="17316" y="10800"/>
                </a:lnTo>
                <a:lnTo>
                  <a:pt x="6698" y="10800"/>
                </a:lnTo>
                <a:lnTo>
                  <a:pt x="6698" y="17989"/>
                </a:lnTo>
                <a:lnTo>
                  <a:pt x="11085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Управляющая кнопка: возврат 1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3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24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 47-53  Упр9 (9) стр. 1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Управляющая кнопка: домой 3"/>
          <p:cNvSpPr/>
          <p:nvPr/>
        </p:nvSpPr>
        <p:spPr>
          <a:xfrm>
            <a:off x="802800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Виды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 сохранения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римеры решения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ОБОЗНАЧАЕ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домой 1">
            <a:hlinkClick r:id="rId1" action="ppaction://hlinksldjump"/>
          </p:cNvPr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Кинетическ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2050920" y="2190600"/>
                <a:ext cx="4897440" cy="299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1547640" y="3357720"/>
                <a:ext cx="5977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268360" y="1901880"/>
                <a:ext cx="421992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4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домой 1">
            <a:hlinkClick r:id="rId2" action="ppaction://hlinksldjump"/>
          </p:cNvPr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кон сохранен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я 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энерги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989000"/>
            <a:ext cx="8066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 замкнутой системе, в которой действуют 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консервативные силы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из одного вида в друг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Управляющая кнопка: домой 1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4"/>
          <p:cNvSpPr/>
          <p:nvPr/>
        </p:nvSpPr>
        <p:spPr>
          <a:xfrm>
            <a:off x="755640" y="1125360"/>
            <a:ext cx="237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132000" y="1125000"/>
            <a:ext cx="0" cy="446436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79640" y="5589720"/>
            <a:ext cx="61214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348000" y="476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348000" y="4941720"/>
            <a:ext cx="649440" cy="64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340000" y="270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140360" y="47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x  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=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3348000" y="2708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211640" y="4869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0  Ек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14036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140360" y="1700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500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43564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6372360" y="177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3276720" y="40464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7052E-006 L 6.94444E-006 0.18868 E"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18868 L 3.05556E-006 0.34613 E">
                                      <p:cBhvr>
                                        <p:cTn id="1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4613 L 3.05556E-006 0.66081 E">
                                      <p:cBhvr>
                                        <p:cTn id="19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LEGION</cp:lastModifiedBy>
  <dcterms:modified xsi:type="dcterms:W3CDTF">2015-03-30T08:52:11Z</dcterms:modified>
  <cp:revision>20</cp:revision>
  <dc:subject/>
  <dc:title>Механическая энергия</dc:title>
</cp:coreProperties>
</file>