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0598-16BD-453E-AB6E-F5A4024C19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Механическая энер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B7E5-1A0A-46AB-B519-B0A2010F1DF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0903-9F31-4B85-875B-B049A497F7A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 какой начальной скоростью надо бросить вниз мяч с высоты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чтобы он подпрыгнул на высоту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? Считать удар абсолютно упруг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B9C4-5C2E-4676-9EB5-475B4C39BB6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иды уд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упругий 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FB08-CA95-4774-BD77-82BBF87BA53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еханическая энергия не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большая часть механической энергии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очти 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F584-9C22-4052-B52E-14261E810A8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DF4D-CCD5-4149-9854-CD2BE2094D1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C480-C567-4018-8D7F-BA50BD72E8B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решения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EC4D-AB87-4787-9B24-48DE0A28F38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068E-F967-4149-9681-58693847BF9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БОЗНАЧ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2136-6A5E-428C-BB06-F0D65253E08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Кинетическ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движущегос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79DB-25E0-4685-9E5B-6F21C85FA35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EB4D-666E-4A8C-8182-2240783B8FB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 упругой де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D3FE-6AA9-42B7-AE3C-E4E5396F03C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Закон сохранен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я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замкнутой системе, в которой действуют консервативные силы, энергия ни от куда не возникает и ни куда не исчезает, а лишь 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переход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 одного вид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E294-DED6-4F0A-8E5F-E5BB462FB10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0B2-A18C-4F84-83F4-111DA7CD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4DA-2EA7-4642-B8D1-1387016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918-84B7-47E7-9574-6F209527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854-44B5-4777-9B87-4650E850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721F-032D-44D3-A14F-B49BD696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670F-1807-49C0-8CF3-E3B12BAE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D69E-584B-411C-80E4-E3ABF3FD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2C8A-5DDE-47E1-8918-32F6C9AA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0FE2-BFCE-4C59-ADA2-0609C16D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3EB7-0FF8-480A-B2FD-744C2479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1715-3D6A-41B1-88FD-131CABB1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5C6-7BA4-4B51-86A3-F721EAD9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05D4-7E11-45CB-98A5-C924DA66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71DA-71E7-43EF-BC81-9E423434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3470-57C9-45FE-9279-6B189343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3701-A648-4587-BCD6-1D4286B6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3A8B-9B65-4F1F-8E7A-D5E92B5A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08F-2911-4552-B55A-87119B43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D5F-EB8E-4138-9EB5-CEFC5128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D47-9BD1-4E60-A400-895707CF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1AB-1140-4C13-B574-9BE04D36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90C-EC91-4BF3-99FE-0CD55654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780-139F-4D06-848F-E20DEB84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CAC-7B28-4C91-A559-07FA451D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F129-E102-4CA3-A99A-B2A091D3CF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60DC-A846-41A0-A570-AC8F576DF8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Механическая энерг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Comic Sans MS"/>
              </a:rPr>
              <a:t>Закон сохранения энер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543564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невская О.Ю. 83 школа г.Санкт-Петербу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адение.avi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858000" cy="621504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108000" y="1413000"/>
            <a:ext cx="8567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8237"/>
                </a:moveTo>
                <a:lnTo>
                  <a:pt x="7301" y="8237"/>
                </a:lnTo>
                <a:lnTo>
                  <a:pt x="7301" y="13572"/>
                </a:lnTo>
                <a:cubicBezTo>
                  <a:pt x="7301" y="14495"/>
                  <a:pt x="8102" y="15226"/>
                  <a:pt x="9138" y="15226"/>
                </a:cubicBezTo>
                <a:lnTo>
                  <a:pt x="10800" y="15226"/>
                </a:lnTo>
                <a:cubicBezTo>
                  <a:pt x="11836" y="15226"/>
                  <a:pt x="12636" y="14495"/>
                  <a:pt x="12636" y="13572"/>
                </a:cubicBezTo>
                <a:lnTo>
                  <a:pt x="12636" y="8237"/>
                </a:lnTo>
                <a:lnTo>
                  <a:pt x="10800" y="8237"/>
                </a:lnTo>
                <a:lnTo>
                  <a:pt x="14308" y="4729"/>
                </a:lnTo>
                <a:lnTo>
                  <a:pt x="17981" y="8237"/>
                </a:lnTo>
                <a:lnTo>
                  <a:pt x="16144" y="8237"/>
                </a:lnTo>
                <a:lnTo>
                  <a:pt x="16144" y="13572"/>
                </a:lnTo>
                <a:cubicBezTo>
                  <a:pt x="16144" y="16340"/>
                  <a:pt x="13568" y="18899"/>
                  <a:pt x="10800" y="18899"/>
                </a:cubicBezTo>
                <a:lnTo>
                  <a:pt x="9138" y="18899"/>
                </a:lnTo>
                <a:cubicBezTo>
                  <a:pt x="6370" y="18899"/>
                  <a:pt x="3794" y="16340"/>
                  <a:pt x="3794" y="13572"/>
                </a:cubicBez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50920" y="836640"/>
            <a:ext cx="7850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какой начальной скоростью надо бросить вниз мяч с высоты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, чтобы он подпрыгнул на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читать удар абсолютно упруг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90000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042920" y="3500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90000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874800" y="4653000"/>
                <a:ext cx="1562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Line 9"/>
          <p:cNvSpPr/>
          <p:nvPr/>
        </p:nvSpPr>
        <p:spPr>
          <a:xfrm>
            <a:off x="2411280" y="299736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11280" y="4149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49236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3059280" y="6308640"/>
            <a:ext cx="525780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3132000" y="4869000"/>
            <a:ext cx="8636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6732720" y="3357720"/>
            <a:ext cx="151128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3995640" y="4869000"/>
            <a:ext cx="0" cy="143964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732720" y="3357720"/>
            <a:ext cx="0" cy="2950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492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73272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4140360" y="4653000"/>
            <a:ext cx="43164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5003640" y="5877000"/>
            <a:ext cx="43200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6156360" y="3213000"/>
            <a:ext cx="431640" cy="43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635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о+Е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5651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50872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Виды уд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бсолютно упругий 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Абсолютно 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620640"/>
            <a:ext cx="81374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Механическая энергия не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большая часть механической энергии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очти 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7940520" y="5950080"/>
            <a:ext cx="1224000" cy="907920"/>
          </a:xfrm>
          <a:custGeom>
            <a:avLst/>
            <a:gdLst>
              <a:gd name="textAreaLeft" fmla="*/ 58680 w 1224000"/>
              <a:gd name="textAreaRight" fmla="*/ 1165320 w 1224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9117" h="21600">
                <a:moveTo>
                  <a:pt x="0" y="0"/>
                </a:moveTo>
                <a:lnTo>
                  <a:pt x="29117" y="0"/>
                </a:lnTo>
                <a:lnTo>
                  <a:pt x="29117" y="21600"/>
                </a:lnTo>
                <a:lnTo>
                  <a:pt x="0" y="21600"/>
                </a:lnTo>
                <a:close/>
              </a:path>
              <a:path fill="lightenLess" w="29117" h="21600">
                <a:moveTo>
                  <a:pt x="0" y="0"/>
                </a:moveTo>
                <a:lnTo>
                  <a:pt x="29117" y="0"/>
                </a:lnTo>
                <a:lnTo>
                  <a:pt x="27717" y="1400"/>
                </a:lnTo>
                <a:lnTo>
                  <a:pt x="1400" y="1400"/>
                </a:lnTo>
                <a:close/>
              </a:path>
              <a:path fill="darken" w="29117" h="21600">
                <a:moveTo>
                  <a:pt x="29117" y="0"/>
                </a:moveTo>
                <a:lnTo>
                  <a:pt x="29117" y="21600"/>
                </a:lnTo>
                <a:lnTo>
                  <a:pt x="27717" y="20200"/>
                </a:lnTo>
                <a:lnTo>
                  <a:pt x="27717" y="1400"/>
                </a:lnTo>
                <a:close/>
              </a:path>
              <a:path fill="darkenLess" w="29117" h="21600">
                <a:moveTo>
                  <a:pt x="29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7" y="20200"/>
                </a:lnTo>
                <a:close/>
              </a:path>
              <a:path fill="lighten" w="29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17" h="21600">
                <a:moveTo>
                  <a:pt x="7552" y="7493"/>
                </a:moveTo>
                <a:lnTo>
                  <a:pt x="11059" y="7493"/>
                </a:lnTo>
                <a:lnTo>
                  <a:pt x="11059" y="12828"/>
                </a:lnTo>
                <a:cubicBezTo>
                  <a:pt x="11059" y="13751"/>
                  <a:pt x="11860" y="14482"/>
                  <a:pt x="12896" y="14482"/>
                </a:cubicBezTo>
                <a:lnTo>
                  <a:pt x="14558" y="14482"/>
                </a:lnTo>
                <a:cubicBezTo>
                  <a:pt x="15594" y="14482"/>
                  <a:pt x="16395" y="13751"/>
                  <a:pt x="16395" y="12828"/>
                </a:cubicBezTo>
                <a:lnTo>
                  <a:pt x="16395" y="7493"/>
                </a:lnTo>
                <a:lnTo>
                  <a:pt x="14558" y="7493"/>
                </a:lnTo>
                <a:lnTo>
                  <a:pt x="18066" y="3985"/>
                </a:lnTo>
                <a:lnTo>
                  <a:pt x="21739" y="7493"/>
                </a:lnTo>
                <a:lnTo>
                  <a:pt x="19902" y="7493"/>
                </a:lnTo>
                <a:lnTo>
                  <a:pt x="19902" y="12828"/>
                </a:lnTo>
                <a:cubicBezTo>
                  <a:pt x="19902" y="15596"/>
                  <a:pt x="17326" y="18155"/>
                  <a:pt x="14558" y="18155"/>
                </a:cubicBezTo>
                <a:lnTo>
                  <a:pt x="12896" y="18155"/>
                </a:lnTo>
                <a:cubicBezTo>
                  <a:pt x="10128" y="18155"/>
                  <a:pt x="7552" y="15596"/>
                  <a:pt x="7552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Управляющая кнопка: домой 1">
            <a:hlinkClick r:id="rId2" action="ppaction://hlinksldjump"/>
          </p:cNvPr>
          <p:cNvSpPr/>
          <p:nvPr/>
        </p:nvSpPr>
        <p:spPr>
          <a:xfrm>
            <a:off x="6875640" y="5950080"/>
            <a:ext cx="1009440" cy="907920"/>
          </a:xfrm>
          <a:custGeom>
            <a:avLst/>
            <a:gdLst>
              <a:gd name="textAreaLeft" fmla="*/ 58680 w 1009440"/>
              <a:gd name="textAreaRight" fmla="*/ 950760 w 10094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014" h="21600">
                <a:moveTo>
                  <a:pt x="0" y="0"/>
                </a:moveTo>
                <a:lnTo>
                  <a:pt x="24014" y="0"/>
                </a:lnTo>
                <a:lnTo>
                  <a:pt x="24014" y="21600"/>
                </a:lnTo>
                <a:lnTo>
                  <a:pt x="0" y="21600"/>
                </a:lnTo>
                <a:close/>
              </a:path>
              <a:path fill="lightenLess" w="24014" h="21600">
                <a:moveTo>
                  <a:pt x="0" y="0"/>
                </a:moveTo>
                <a:lnTo>
                  <a:pt x="24014" y="0"/>
                </a:lnTo>
                <a:lnTo>
                  <a:pt x="22614" y="1400"/>
                </a:lnTo>
                <a:lnTo>
                  <a:pt x="1400" y="1400"/>
                </a:lnTo>
                <a:close/>
              </a:path>
              <a:path fill="darken" w="24014" h="21600">
                <a:moveTo>
                  <a:pt x="24014" y="0"/>
                </a:moveTo>
                <a:lnTo>
                  <a:pt x="24014" y="21600"/>
                </a:lnTo>
                <a:lnTo>
                  <a:pt x="22614" y="20200"/>
                </a:lnTo>
                <a:lnTo>
                  <a:pt x="22614" y="1400"/>
                </a:lnTo>
                <a:close/>
              </a:path>
              <a:path fill="darkenLess" w="24014" h="21600">
                <a:moveTo>
                  <a:pt x="2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4" y="20200"/>
                </a:lnTo>
                <a:close/>
              </a:path>
              <a:path fill="lighten" w="2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4" h="21600">
                <a:moveTo>
                  <a:pt x="12007" y="3837"/>
                </a:moveTo>
                <a:lnTo>
                  <a:pt x="14583" y="6448"/>
                </a:ln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lnTo>
                  <a:pt x="18970" y="10800"/>
                </a:lnTo>
                <a:lnTo>
                  <a:pt x="17316" y="10800"/>
                </a:lnTo>
                <a:lnTo>
                  <a:pt x="17316" y="17989"/>
                </a:lnTo>
                <a:lnTo>
                  <a:pt x="6698" y="17989"/>
                </a:lnTo>
                <a:lnTo>
                  <a:pt x="6698" y="10800"/>
                </a:lnTo>
                <a:lnTo>
                  <a:pt x="5044" y="10800"/>
                </a:lnTo>
                <a:close/>
              </a:path>
              <a:path fill="darkenLess" w="24014" h="21600">
                <a:moveTo>
                  <a:pt x="14583" y="6448"/>
                </a:move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close/>
              </a:path>
              <a:path fill="darkenLess" w="24014" h="21600">
                <a:moveTo>
                  <a:pt x="11085" y="14299"/>
                </a:moveTo>
                <a:lnTo>
                  <a:pt x="12930" y="14299"/>
                </a:lnTo>
                <a:lnTo>
                  <a:pt x="12930" y="17989"/>
                </a:lnTo>
                <a:lnTo>
                  <a:pt x="17316" y="17989"/>
                </a:lnTo>
                <a:lnTo>
                  <a:pt x="17316" y="10800"/>
                </a:lnTo>
                <a:lnTo>
                  <a:pt x="6698" y="10800"/>
                </a:lnTo>
                <a:lnTo>
                  <a:pt x="6698" y="17989"/>
                </a:lnTo>
                <a:lnTo>
                  <a:pt x="11085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476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 +Ек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3995640" y="1052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64328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580000" y="1052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08472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26880" y="1700280"/>
                <a:ext cx="83455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1496880" y="3219480"/>
                <a:ext cx="55738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9" name="Line 13"/>
          <p:cNvSpPr/>
          <p:nvPr/>
        </p:nvSpPr>
        <p:spPr>
          <a:xfrm>
            <a:off x="4427640" y="450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Управляющая кнопка: возврат 1">
            <a:hlinkClick r:id="rId1" action="ppaction://hlinksldjump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151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 E">
                                      <p:cBhvr>
                                        <p:cTn id="37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трение и Е.avi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810400" cy="4768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50920" y="765000"/>
            <a:ext cx="78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2916360" y="4221000"/>
            <a:ext cx="4608360" cy="208764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 rot="1420200">
            <a:off x="2987280" y="3933360"/>
            <a:ext cx="790560" cy="50508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7"/>
          <p:cNvSpPr/>
          <p:nvPr/>
        </p:nvSpPr>
        <p:spPr>
          <a:xfrm rot="1420200">
            <a:off x="6732720" y="5589360"/>
            <a:ext cx="790560" cy="5047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34000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72000" y="522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34800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7093080" y="501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948360" y="486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395280" y="1052640"/>
            <a:ext cx="165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=10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=8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10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378000" y="256536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452520" y="2997360"/>
                <a:ext cx="1112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Text Box 9"/>
          <p:cNvSpPr/>
          <p:nvPr/>
        </p:nvSpPr>
        <p:spPr>
          <a:xfrm>
            <a:off x="468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68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c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2411280" y="549360"/>
            <a:ext cx="0" cy="43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24000" y="364500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19640" y="47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248436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3780000" y="1628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500720" y="126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+А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7"/>
              <p:cNvSpPr txBox="1"/>
              <p:nvPr/>
            </p:nvSpPr>
            <p:spPr>
              <a:xfrm>
                <a:off x="2413080" y="2060640"/>
                <a:ext cx="6802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mυ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8"/>
              <p:cNvSpPr txBox="1"/>
              <p:nvPr/>
            </p:nvSpPr>
            <p:spPr>
              <a:xfrm>
                <a:off x="3400560" y="3297240"/>
                <a:ext cx="33512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9"/>
              <p:cNvSpPr txBox="1"/>
              <p:nvPr/>
            </p:nvSpPr>
            <p:spPr>
              <a:xfrm>
                <a:off x="1920960" y="5013360"/>
                <a:ext cx="6559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Line 20"/>
          <p:cNvSpPr/>
          <p:nvPr/>
        </p:nvSpPr>
        <p:spPr>
          <a:xfrm>
            <a:off x="7667640" y="595008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22"/>
          <p:cNvSpPr/>
          <p:nvPr/>
        </p:nvSpPr>
        <p:spPr>
          <a:xfrm>
            <a:off x="836604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5534" y="7493"/>
                </a:moveTo>
                <a:lnTo>
                  <a:pt x="9042" y="7493"/>
                </a:lnTo>
                <a:lnTo>
                  <a:pt x="9042" y="12828"/>
                </a:lnTo>
                <a:cubicBezTo>
                  <a:pt x="9042" y="13751"/>
                  <a:pt x="9842" y="14482"/>
                  <a:pt x="10878" y="14482"/>
                </a:cubicBezTo>
                <a:lnTo>
                  <a:pt x="12541" y="14482"/>
                </a:lnTo>
                <a:cubicBezTo>
                  <a:pt x="13576" y="14482"/>
                  <a:pt x="14377" y="13751"/>
                  <a:pt x="14377" y="12828"/>
                </a:cubicBezTo>
                <a:lnTo>
                  <a:pt x="14377" y="7493"/>
                </a:lnTo>
                <a:lnTo>
                  <a:pt x="12541" y="7493"/>
                </a:lnTo>
                <a:lnTo>
                  <a:pt x="16048" y="3985"/>
                </a:lnTo>
                <a:lnTo>
                  <a:pt x="19721" y="7493"/>
                </a:lnTo>
                <a:lnTo>
                  <a:pt x="17885" y="7493"/>
                </a:lnTo>
                <a:lnTo>
                  <a:pt x="17885" y="12828"/>
                </a:lnTo>
                <a:cubicBezTo>
                  <a:pt x="17885" y="15596"/>
                  <a:pt x="15308" y="18155"/>
                  <a:pt x="12541" y="18155"/>
                </a:cubicBezTo>
                <a:lnTo>
                  <a:pt x="10878" y="18155"/>
                </a:lnTo>
                <a:cubicBezTo>
                  <a:pt x="8110" y="18155"/>
                  <a:pt x="5534" y="15596"/>
                  <a:pt x="5534" y="12828"/>
                </a:cubicBezTo>
                <a:close/>
              </a:path>
            </a:pathLst>
          </a:custGeom>
          <a:solidFill>
            <a:srgbClr val="915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Управляющая кнопка: домой 1"/>
          <p:cNvSpPr/>
          <p:nvPr/>
        </p:nvSpPr>
        <p:spPr>
          <a:xfrm>
            <a:off x="34920" y="6237360"/>
            <a:ext cx="649440" cy="620640"/>
          </a:xfrm>
          <a:custGeom>
            <a:avLst/>
            <a:gdLst>
              <a:gd name="textAreaLeft" fmla="*/ 39960 w 649440"/>
              <a:gd name="textAreaRight" fmla="*/ 609480 w 649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602" h="21600">
                <a:moveTo>
                  <a:pt x="0" y="0"/>
                </a:moveTo>
                <a:lnTo>
                  <a:pt x="22602" y="0"/>
                </a:lnTo>
                <a:lnTo>
                  <a:pt x="22602" y="21600"/>
                </a:lnTo>
                <a:lnTo>
                  <a:pt x="0" y="21600"/>
                </a:lnTo>
                <a:close/>
              </a:path>
              <a:path fill="lightenLess" w="22602" h="21600">
                <a:moveTo>
                  <a:pt x="0" y="0"/>
                </a:moveTo>
                <a:lnTo>
                  <a:pt x="22602" y="0"/>
                </a:lnTo>
                <a:lnTo>
                  <a:pt x="21202" y="1400"/>
                </a:lnTo>
                <a:lnTo>
                  <a:pt x="1400" y="1400"/>
                </a:lnTo>
                <a:close/>
              </a:path>
              <a:path fill="darken" w="22602" h="21600">
                <a:moveTo>
                  <a:pt x="22602" y="0"/>
                </a:moveTo>
                <a:lnTo>
                  <a:pt x="22602" y="21600"/>
                </a:lnTo>
                <a:lnTo>
                  <a:pt x="21202" y="20200"/>
                </a:lnTo>
                <a:lnTo>
                  <a:pt x="21202" y="1400"/>
                </a:lnTo>
                <a:close/>
              </a:path>
              <a:path fill="darkenLess" w="22602" h="21600">
                <a:moveTo>
                  <a:pt x="2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2" y="20200"/>
                </a:lnTo>
                <a:close/>
              </a:path>
              <a:path fill="lighten" w="2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2" h="21600">
                <a:moveTo>
                  <a:pt x="11301" y="3837"/>
                </a:moveTo>
                <a:lnTo>
                  <a:pt x="13877" y="6448"/>
                </a:ln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lnTo>
                  <a:pt x="18264" y="10800"/>
                </a:lnTo>
                <a:lnTo>
                  <a:pt x="16610" y="10800"/>
                </a:lnTo>
                <a:lnTo>
                  <a:pt x="16610" y="17989"/>
                </a:lnTo>
                <a:lnTo>
                  <a:pt x="5992" y="17989"/>
                </a:lnTo>
                <a:lnTo>
                  <a:pt x="5992" y="10800"/>
                </a:lnTo>
                <a:lnTo>
                  <a:pt x="4338" y="10800"/>
                </a:lnTo>
                <a:close/>
              </a:path>
              <a:path fill="darkenLess" w="22602" h="21600">
                <a:moveTo>
                  <a:pt x="13877" y="6448"/>
                </a:move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close/>
              </a:path>
              <a:path fill="darkenLess" w="22602" h="21600">
                <a:moveTo>
                  <a:pt x="10378" y="14299"/>
                </a:moveTo>
                <a:lnTo>
                  <a:pt x="12223" y="14299"/>
                </a:lnTo>
                <a:lnTo>
                  <a:pt x="12223" y="17989"/>
                </a:lnTo>
                <a:lnTo>
                  <a:pt x="16610" y="17989"/>
                </a:lnTo>
                <a:lnTo>
                  <a:pt x="16610" y="10800"/>
                </a:lnTo>
                <a:lnTo>
                  <a:pt x="5992" y="10800"/>
                </a:lnTo>
                <a:lnTo>
                  <a:pt x="5992" y="17989"/>
                </a:lnTo>
                <a:lnTo>
                  <a:pt x="10378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9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1116000" y="242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 47-53  Упр9 (9) стр. 12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Управляющая кнопка: домой 3"/>
          <p:cNvSpPr/>
          <p:nvPr/>
        </p:nvSpPr>
        <p:spPr>
          <a:xfrm>
            <a:off x="8028000" y="6021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10800" y="5573"/>
                </a:moveTo>
                <a:lnTo>
                  <a:pt x="13376" y="8184"/>
                </a:ln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lnTo>
                  <a:pt x="17763" y="12536"/>
                </a:lnTo>
                <a:lnTo>
                  <a:pt x="16109" y="12536"/>
                </a:lnTo>
                <a:lnTo>
                  <a:pt x="16109" y="19725"/>
                </a:lnTo>
                <a:lnTo>
                  <a:pt x="5491" y="19725"/>
                </a:lnTo>
                <a:lnTo>
                  <a:pt x="5491" y="12536"/>
                </a:lnTo>
                <a:lnTo>
                  <a:pt x="3837" y="12536"/>
                </a:lnTo>
                <a:close/>
              </a:path>
              <a:path fill="darkenLess" w="21600" h="25072">
                <a:moveTo>
                  <a:pt x="13376" y="8184"/>
                </a:move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close/>
              </a:path>
              <a:path fill="darkenLess" w="21600" h="25072">
                <a:moveTo>
                  <a:pt x="9877" y="16035"/>
                </a:moveTo>
                <a:lnTo>
                  <a:pt x="11723" y="16035"/>
                </a:lnTo>
                <a:lnTo>
                  <a:pt x="11723" y="19725"/>
                </a:lnTo>
                <a:lnTo>
                  <a:pt x="16109" y="19725"/>
                </a:lnTo>
                <a:lnTo>
                  <a:pt x="16109" y="12536"/>
                </a:lnTo>
                <a:lnTo>
                  <a:pt x="5491" y="12536"/>
                </a:lnTo>
                <a:lnTo>
                  <a:pt x="5491" y="19725"/>
                </a:lnTo>
                <a:lnTo>
                  <a:pt x="9877" y="1972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66"/>
                </a:solidFill>
                <a:latin typeface="Comic Sans MS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Виды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 сохранения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Примеры решения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684360" y="76500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127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ОБОЗНАЧАЕТ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348000" y="2205000"/>
            <a:ext cx="3311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95640" y="1989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itannic Bold"/>
              </a:rPr>
              <a:t>E</a:t>
            </a: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378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ИЗМЕРЯЕТСЯ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64000" y="472428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Britannic Bold"/>
              </a:rPr>
              <a:t>Дж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Управляющая кнопка: домой 1">
            <a:hlinkClick r:id="rId1" action="ppaction://hlinksldjump"/>
          </p:cNvPr>
          <p:cNvSpPr/>
          <p:nvPr/>
        </p:nvSpPr>
        <p:spPr>
          <a:xfrm>
            <a:off x="831708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2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Кинетическ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9280" y="17002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движущегося тел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2050920" y="2190600"/>
                <a:ext cx="4897440" cy="299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28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взаимодейств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1547640" y="3357720"/>
                <a:ext cx="5977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 упругой деформ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268360" y="1901880"/>
                <a:ext cx="4219920" cy="29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4" name="пружина.avi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домой 1">
            <a:hlinkClick r:id="rId2" action="ppaction://hlinksldjump"/>
          </p:cNvPr>
          <p:cNvSpPr/>
          <p:nvPr/>
        </p:nvSpPr>
        <p:spPr>
          <a:xfrm>
            <a:off x="831708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10800" y="6016"/>
                </a:moveTo>
                <a:lnTo>
                  <a:pt x="13376" y="8627"/>
                </a:ln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lnTo>
                  <a:pt x="17763" y="12979"/>
                </a:lnTo>
                <a:lnTo>
                  <a:pt x="16109" y="12979"/>
                </a:lnTo>
                <a:lnTo>
                  <a:pt x="16109" y="20168"/>
                </a:lnTo>
                <a:lnTo>
                  <a:pt x="5491" y="20168"/>
                </a:lnTo>
                <a:lnTo>
                  <a:pt x="5491" y="12979"/>
                </a:lnTo>
                <a:lnTo>
                  <a:pt x="3837" y="12979"/>
                </a:lnTo>
                <a:close/>
              </a:path>
              <a:path fill="darkenLess" w="21600" h="25958">
                <a:moveTo>
                  <a:pt x="13376" y="8627"/>
                </a:move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close/>
              </a:path>
              <a:path fill="darkenLess" w="21600" h="25958">
                <a:moveTo>
                  <a:pt x="9877" y="16478"/>
                </a:moveTo>
                <a:lnTo>
                  <a:pt x="11723" y="16478"/>
                </a:lnTo>
                <a:lnTo>
                  <a:pt x="11723" y="20168"/>
                </a:lnTo>
                <a:lnTo>
                  <a:pt x="16109" y="20168"/>
                </a:lnTo>
                <a:lnTo>
                  <a:pt x="16109" y="12979"/>
                </a:lnTo>
                <a:lnTo>
                  <a:pt x="5491" y="12979"/>
                </a:lnTo>
                <a:lnTo>
                  <a:pt x="5491" y="20168"/>
                </a:lnTo>
                <a:lnTo>
                  <a:pt x="9877" y="20168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кон сохранен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я </a:t>
            </a: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энерги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989000"/>
            <a:ext cx="80661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 замкнутой системе, в которой действуют </a:t>
            </a:r>
            <a:r>
              <a:rPr b="0" lang="ru-RU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консервативные силы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, энергия ни от куда не возникает и ни куда не исчезает, а лишь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ереходи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из одного вида в друго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Управляющая кнопка: домой 1">
            <a:hlinkClick r:id="rId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4"/>
          <p:cNvSpPr/>
          <p:nvPr/>
        </p:nvSpPr>
        <p:spPr>
          <a:xfrm>
            <a:off x="755640" y="1125360"/>
            <a:ext cx="237636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3132000" y="1125000"/>
            <a:ext cx="0" cy="446436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979640" y="5589720"/>
            <a:ext cx="61214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348000" y="476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3348000" y="4941720"/>
            <a:ext cx="649440" cy="648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340000" y="2708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140360" y="476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=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x  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=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3348000" y="2708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211640" y="486900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0  Ек=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140360" y="263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140360" y="1700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500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435640" y="170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6372360" y="1773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21"/>
          <p:cNvSpPr/>
          <p:nvPr/>
        </p:nvSpPr>
        <p:spPr>
          <a:xfrm>
            <a:off x="3276720" y="40464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6.7052E-006 L 6.94444E-006 0.18868 E">
                                      <p:cBhvr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18868 L 3.05556E-006 0.34613 E">
                                      <p:cBhvr>
                                        <p:cTn id="18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34613 L 3.05556E-006 0.66081 E">
                                      <p:cBhvr>
                                        <p:cTn id="19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34:41Z</dcterms:created>
  <dc:creator>JURA</dc:creator>
  <dc:description/>
  <dc:language>en-US</dc:language>
  <cp:lastModifiedBy>LEGION</cp:lastModifiedBy>
  <dcterms:modified xsi:type="dcterms:W3CDTF">2015-03-30T08:52:11Z</dcterms:modified>
  <cp:revision>20</cp:revision>
  <dc:subject/>
  <dc:title>Механическая энергия</dc:title>
</cp:coreProperties>
</file>