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467F-1FA0-47C4-BAFB-2D383C549D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A704-2170-4357-8EE3-F0CE0249F76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1758-C120-4D0D-AC34-8C049F2C63C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вая спро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6A51-B270-46E9-BE05-C8F3FE4BE5D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олют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28F4-F8D2-4176-8291-293BF3C9516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оситель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8483-7628-4315-BEAC-405D2D55358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остав добавленной стоимости включаю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5A6F-C00B-4F74-BF31-03BA510BF71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узку экономического субъ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реализацию (НБ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ебестоимость (НБ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ф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чистую прибыль и фонды специального назначения (НБч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C57A-B24A-448E-A6B6-ABC6E58F20D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доходы предприятия (НБ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финансовые ресурсы предприятия (НБ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обственный капитал (НБ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п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оказатели рассчитываются по следующим формул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A17D-21DB-417C-9275-6476745EF00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6C45-D756-48EC-A858-CF66AB55E1C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ополнительно рассчитывается показатель относительной налогов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22D6-EFCC-4A3E-A72C-67A69985595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98F-DF36-4FAA-AE02-B07C34CF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7A9-B5F0-44C3-9681-35ADA3E5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3E4-4210-4268-AE74-A0E52F7C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9B8-9C49-47B8-9E28-8AF20514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A91B-3DE7-441D-B0D9-0A6261BA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82BC-5620-4AEB-B2F3-96841443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4FAC-DD9D-41DB-9E04-5E347A89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1E77-846B-40AC-AFDD-DEB86CB7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F3C1-495C-4AFC-93CF-00FC3671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1158-168F-4A9A-B436-0920B17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41FA-7225-4FC5-95CB-1475ACB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BD9-8AA1-46DD-A14F-B686B213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9E73-E50A-4AC7-B473-49197DD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0D00-97DC-494A-8E5D-DE14AB66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5BA2-64F6-49C3-83F2-5765607D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63EA-F6DB-4289-A1B5-73AC7D32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AE0A-B74E-411E-8E24-96CB5079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34F-4723-48BB-AD7F-169E6E0D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0A3-FC5A-4C07-B2C2-18E56DDA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F93-1182-4C4A-BE19-A393866E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506-BAC6-47A5-8B63-A1950D8E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0E7-6295-4AF6-995B-448B9BA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389-BF3E-4E4E-9652-4CEF45C1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944-E7AE-4FC1-902E-FC8889F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CAE3-CB04-4D46-A24B-F5B4473EA7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572E-FB71-41A9-83A2-25BF66173100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косвенные налог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единый социальный налог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ривая спрос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бсолют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носитель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68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остав добавленной стоимости включаютс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272520"/>
            <a:ext cx="8286840" cy="243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3581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грузку экономического субъекта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реализацию (НБр)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себестоимость (НБс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фр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чистую прибыль и фонды специального назначения (НБчп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272880"/>
            <a:ext cx="8286840" cy="27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3213000"/>
            <a:ext cx="8286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доходы предприятия (НБд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финансовые ресурсы предприятия (НБф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собственный капитал (НБск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п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и показатели рассчитываются по следующим форму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13760" cy="265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81424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13760" cy="19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807084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этому дополнительно рассчитывается показатель относительной налоговой нагруз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2:55:13Z</dcterms:created>
  <dc:creator>КИРЯ</dc:creator>
  <dc:description/>
  <dc:language>en-US</dc:language>
  <cp:lastModifiedBy>LEGION</cp:lastModifiedBy>
  <dcterms:modified xsi:type="dcterms:W3CDTF">2014-11-10T11:35:17Z</dcterms:modified>
  <cp:revision>7</cp:revision>
  <dc:subject/>
  <dc:title>косвенные налоги</dc:title>
</cp:coreProperties>
</file>