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D276-A598-4611-A779-E82C6A135D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6CB7-0CCC-4B50-A55C-FCE489F7BCC0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диный социальный н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бязательным платежом и поэтому учитывается при расчете налогового бремени экономического субъек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2A96-46C5-45B2-BDDC-2EB57E094D7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вая спро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го товара (работы, услуги) зачастую отличается от классических ситуаций, приводимых в качестве примеров в учебных пособиях по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0EB3-48E9-4C1A-8392-AD5E54C66CBE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бсолютная налоговая нагрузка экономического субъек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логи и сборы, подлежащие перечислению в бюджет и во внебюджетные фонды, т. е. абсолютная величина налоговых обязательств перед государ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DAE6-7C57-41E5-AF72-4155DD19549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осительная налоговая нагрузка экономического субъек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тношение абсолютной налоговой нагрузки к вновь созданной стоимости, т. е. доля налогов с учетом недоимки и пеней во вновь создан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56A0-DE54-48A0-8B94-F53582B5BDAE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остав добавленной стоимости включаю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, поэтому при исчислении величины налоговой нагрузки экономического субъекта не учитывается объективное различие доли амортизации в ее объ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B688-FD02-4A2E-89CC-50A7C76CC28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ая нагрузка в данном случае определяется как соотношение налоговых издержек к соответствующей группе по источнику покрыт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рузку экономического субъект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реализацию (НБр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себестоимость (НБ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прибыль до налогообложения (НБф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чистую прибыль и фонды специального назначения (НБч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536C-564B-4B78-B72B-F23DD9E95C09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обобщающим показателям, характеризующим налоговую нагрузку экономического субъекта, относятся следующие показате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доходы предприятия (НБ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финансовые ресурсы предприятия (НБф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собственный капитал (НБс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прибыль до налогообложения (НБп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оказатели рассчитываются по следующим формул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D5BB-7D0F-4C8E-B2CD-5B509E8C5414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точником уплаты налоговых платежей, как и в предыдущих методиках, признается добавленная стоим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, работ и услуг за вычетом промежуточного потребления, т. е. за вычетом потребления ради последующе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CA57-054D-4EEB-9C1A-04D7CE398D2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ь абсолютной налоговой нагрузки не отражает напряженности налоговых обязательств экономического субъек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ополнительно рассчитывается показатель относительной налоговой нагру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4C37-2604-43FD-ADD2-A58D9817387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E1C-A258-426D-B0E0-061C7B33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986-3CF2-4164-B8D5-716E7E66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E169-F857-4814-BF93-3881ACE5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0E0-F5FB-4AA6-BE82-FEDD2B7F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D448-C079-4F46-8078-FCA116AF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A9FD-2F04-49F5-BB6D-08491A05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583D-34FE-49DE-B252-F0CCD874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2E03-A7D5-4251-A7C7-F1CC05F1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B794-F8BD-4046-A715-66E26CBD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0B39-0E8E-437F-BBB0-508415A2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746A-F6A5-4395-9C3F-698C976E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F42-CE95-4C91-A107-43954943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7D45-45D8-4958-891A-85A6B159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EA07-9788-4A3E-8DBC-78A9CE17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32AE-D5F8-4ED2-8F2B-88136C92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CD98-613D-4034-A97C-E2488299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52C7-2D45-4476-A6B7-811B372C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4A1-FCD1-4090-B950-E96C7AB7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ED3-5949-4052-8093-8D136839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C94-A019-4A02-89F3-39821868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847-1655-4E85-AACD-9D2B6871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630-2CB2-486F-AD3A-4E30EBF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728-FD99-4E23-8284-BEF3A31B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DC1-F00F-479B-A70F-C4A7B918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8FA2-FCDD-41E5-A9E5-097D111E04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D5B4-B351-43A3-8162-9C93814D5BFE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ecff"/>
                </a:solidFill>
                <a:latin typeface="Arial"/>
              </a:rPr>
              <a:t>косвенные налоги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единый социальный налог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является обязательным платежом и поэтому учитывается при расчете налогового бремени экономического субъект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кривая спрос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пределенного товара (работы, услуги) зачастую отличается от классических ситуаций, приводимых в качестве примеров в учебных пособиях по экономической теори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бсолютная налоговая нагрузка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налоги и сборы, подлежащие перечислению в бюджет и во внебюджетные фонды, т. е. абсолютная величина налоговых обязательств перед государство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носительная налоговая нагрузка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2868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отношение абсолютной налоговой нагрузки к вновь созданной стоимости, т. е. доля налогов с учетом недоимки и пеней во вновь созданной стоим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состав добавленной стоимости включаютс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мортизационные отчисления, поэтому при исчислении величины налоговой нагрузки экономического субъекта не учитывается объективное различие доли амортизации в ее объем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272520"/>
            <a:ext cx="8286840" cy="243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логовая нагрузка в данном случае определяется как соотношение налоговых издержек к соответствующей группе по источнику покрыти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83581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грузку экономического субъекта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реализацию (НБр)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себестоимость (НБс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прибыль до налогообложения (НБфр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чистую прибыль и фонды специального назначения (НБчп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272880"/>
            <a:ext cx="8286840" cy="272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 обобщающим показателям, характеризующим налоговую нагрузку экономического субъекта, относятся следующие показател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4920" y="3213000"/>
            <a:ext cx="8286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доходы предприятия (НБд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финансовые ресурсы предприятия (НБф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собственный капитал (НБск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прибыль до налогообложения (НБп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ти показатели рассчитываются по следующим форму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72520"/>
            <a:ext cx="8213760" cy="265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сточником уплаты налоговых платежей, как и в предыдущих методиках, признается добавленная стоимость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814248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тоимость товаров, работ и услуг за вычетом промежуточного потребления, т. е. за вычетом потребления ради последующего производст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13760" cy="194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казатель абсолютной налоговой нагрузки не отражает напряженности налоговых обязательств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0920" y="3573000"/>
            <a:ext cx="807084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этому дополнительно рассчитывается показатель относительной налоговой нагрузк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22:55:13Z</dcterms:created>
  <dc:creator>КИРЯ</dc:creator>
  <dc:description/>
  <dc:language>en-US</dc:language>
  <cp:lastModifiedBy>LEGION</cp:lastModifiedBy>
  <dcterms:modified xsi:type="dcterms:W3CDTF">2014-11-10T11:35:17Z</dcterms:modified>
  <cp:revision>7</cp:revision>
  <dc:subject/>
  <dc:title>косвенные налоги</dc:title>
</cp:coreProperties>
</file>