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8288-5050-4B5F-9BE2-56CF760262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9B3B-A308-4BC9-8C8F-6B0F4317003B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079D-1113-4443-8697-F83E8688EB42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ривая спрос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B449-9AA4-4375-9E86-3A4412617847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олют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B8BC-9A86-4B73-BA32-8D0120F4786E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носительная налоговая нагрузка экономического субъект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67BA-7BF1-44D8-9E73-DBED90E0301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состав добавленной стоимости включаютс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9D07-F05E-4DD4-8DF4-E83F74B41355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рузку экономического субъект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реализацию (НБр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ебестоимость (НБ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фр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чистую прибыль и фонды специального назначения (НБч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228C-C47F-4D57-8D26-09A1A905F05D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доходы предприятия (НБ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финансовые ресурсы предприятия (НБф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собственный капитал (НБ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ая нагрузка на прибыль до налогообложения (НБп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показатели рассчитываются по следующим формул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8CD4-ECA3-4363-9EF9-88E580393BFA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F0FDA-696E-4C20-BF9C-DC7BF89761E6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дополнительно рассчитывается показатель относительной налоговой нагру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E98D-58D4-49CB-9BA4-5F616CED02A8}" type="slidenum">
              <a:rPr b="0" lang="uk-UA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636-ADDA-4110-8245-C88B2290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D2C-1A31-4221-A411-4AD2CA91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5B62-FFD6-4A34-BEA2-E6772E62F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E2E-E409-4960-82A2-532C33F7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BCD2-EB88-490C-B017-EA161AA6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7DFB-DFDB-485B-8226-26018995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260E-EE65-442D-9B26-F0D0B9CF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64B2-5B30-4BFC-931E-03E11482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FECC-A854-48FA-93DF-42FF9F4F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6C0E-D6EC-4C5E-AAF2-2F0E51343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63FA-53A0-4428-818B-B50D9A5A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D126-0526-45E5-A35F-7A61E68D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82E9-9746-4D72-A8A3-C2C12D68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29F1-5A7B-4948-93E0-1BD20375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08B8-C97A-4BF3-9C78-6801BDBB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4113-F7D3-490A-966A-A2B4B801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24C9-385E-4F4A-92B6-97C6882E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214-5AE2-459A-BE1E-A15C1257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63A-A1C1-4760-B289-B7B5C311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6B8A-AD3A-487E-AE63-C0646FE1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832-1EF1-473D-B0B8-2CAA4FFA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8902-5FD8-45F5-B31F-2A67C85C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4106-AEF2-4B9E-B427-4CDB652D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7EF-9D6F-4049-8E2B-965C9EAC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F99A-1392-4FA2-AA1B-9F96A24BC4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5FA2-D652-4C56-82BC-A40CB925C3C1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ccecff"/>
                </a:solidFill>
                <a:latin typeface="Arial"/>
              </a:rPr>
              <a:t>косвенные налоги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единый социальный налог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является обязательным платежом и поэтому учитывается при расчете налогового бремени экономического субъекта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кривая спрос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пределенного товара (работы, услуги) зачастую отличается от классических ситуаций, приводимых в качестве примеров в учебных пособиях по экономической теор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Абсолют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налоги и сборы, подлежащие перечислению в бюджет и во внебюджетные фонды, т. е. абсолютная величина налоговых обязательств перед государством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носительная налоговая нагрузка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684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это отношение абсолютной налоговой нагрузки к вновь созданной стоимости, т. е. доля налогов с учетом недоимки и пеней во вновь созданной стоимост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 состав добавленной стоимости включаютс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амортизационные отчисления, поэтому при исчислении величины налоговой нагрузки экономического субъекта не учитывается объективное различие доли амортизации в ее объем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272520"/>
            <a:ext cx="8286840" cy="243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логовая нагрузка в данном случае определяется как соотношение налоговых издержек к соответствующей группе по источнику покрытия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2924280"/>
            <a:ext cx="83581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грузку экономического субъекта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реализацию (НБр)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себестоимость (НБс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фр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логовая нагрузка на чистую прибыль и фонды специального назначения (НБчп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4920" y="272880"/>
            <a:ext cx="8286840" cy="27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К обобщающим показателям, характеризующим налоговую нагрузку экономического субъекта, относятся следующие показатели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4920" y="3213000"/>
            <a:ext cx="82868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доходы предприятия (НБд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финансовые ресурсы предприятия (НБф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собственный капитал (НБск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логовая нагрузка на прибыль до налогообложения (НБп)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Эти показатели рассчитываются по следующим формулам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72520"/>
            <a:ext cx="8213760" cy="265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точником уплаты налоговых платежей, как и в предыдущих методиках, признается добавленная стоимость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81424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тоимость товаров, работ и услуг за вычетом промежуточного потребления, т. е. за вычетом потребления ради последующего производств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13760" cy="194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казатель абсолютной налоговой нагрузки не отражает напряженности налоговых обязательств экономического субъекта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0920" y="3573000"/>
            <a:ext cx="807084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этому дополнительно рассчитывается показатель относительной налоговой нагрузк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22:55:13Z</dcterms:created>
  <dc:creator>КИРЯ</dc:creator>
  <dc:description/>
  <dc:language>en-US</dc:language>
  <cp:lastModifiedBy>LEGION</cp:lastModifiedBy>
  <dcterms:modified xsi:type="dcterms:W3CDTF">2014-11-10T11:35:17Z</dcterms:modified>
  <cp:revision>7</cp:revision>
  <dc:subject/>
  <dc:title>косвенные налоги</dc:title>
</cp:coreProperties>
</file>