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gif" ContentType="image/gif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4.png" ContentType="image/png"/>
  <Override PartName="/ppt/media/image2.wmf" ContentType="image/x-wmf"/>
  <Override PartName="/ppt/media/image25.gif" ContentType="image/gif"/>
  <Override PartName="/ppt/media/image17.png" ContentType="image/png"/>
  <Override PartName="/ppt/media/image23.png" ContentType="image/png"/>
  <Override PartName="/ppt/media/image22.gif" ContentType="image/gif"/>
  <Override PartName="/ppt/media/image24.png" ContentType="image/png"/>
  <Override PartName="/ppt/media/image21.gif" ContentType="image/gif"/>
  <Override PartName="/ppt/media/image19.png" ContentType="image/png"/>
  <Override PartName="/ppt/media/image16.gif" ContentType="image/gif"/>
  <Override PartName="/ppt/media/image14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D762-C439-40F0-90E9-69D7E4EE3C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еще не устал удивлять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удесам, что есть на земл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евизору, голосу раци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нтилятору на сто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к по проволоке струитс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утник мчится по небеса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у стоит дивить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м чудесам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685E-AD27-42A8-8923-7A3E80B943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ρ = кг/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DDEE-7EAA-4DD1-8842-34331DF678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цирующий при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CD8C-4167-42F8-B0F0-4844E54435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рить объем, массу тела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числить плотность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48F4-0798-4354-9A5B-62954EAE75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показывает, чему равна масса вещества, взятого в объеме 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ли 1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желез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=1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=78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8ECA-D6FC-4C02-AFAB-E6EA432EF7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редкого металла осмия равна 22600к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Что это означ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FC04-7E6C-420B-B17E-B898716CA1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йдите по таблице плотности льда, воды и водяного па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д  -  90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 – 100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яной пар – 0,59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7F4A-2C51-424C-BC32-48A1A791EE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лотность одного и того же вещества в твердом, жидком, и газообразном состояниях различ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DFF6-D409-45E2-AD0C-ADF1CA49CC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чашках уравновешенных весов лежа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бики. Одинаковы ли плотности веществ, из которых сделаны куб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5EDE-BDE9-4083-A010-4A366FB7EA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38A7-15B8-467D-AF9F-FD143F2AC8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ном из двух одинаковых сосудов налили воду (левый сосуд), в другой раствор серной кислоты равной массы. Какая жидкость имеет большую пло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30CA-6999-46CC-BDB3-DE2871B4F9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Что такое инертность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Что такое масса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Как можно определить массу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Как можно определить объем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6D2B-CC5F-4DCA-ADCF-C4CC76B74C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D886-068D-44EC-91D6-5A945AB058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исунке изображены два кубика одинакового объема из золота и меди. У какого из кубиков масса вещества больше  и во сколько ра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BD88-BAA5-41CF-ACC5-6323AFFF1C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D317-46EA-4F04-B576-FCA4FB702E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свои достижения на этом уро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и у вас получило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ольны ли вы своими результата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елось ли вам в полной мере реализовать свои возможности, применить полученные зн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8C0F-1268-42D7-A3F6-FB9EF500DA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   21; упражнение 7 №3;4 (определить плотность картофел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7DAE-A2B1-4FB0-AB4E-08A350EF7D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cc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3333cc"/>
                </a:solidFill>
                <a:latin typeface="Georgia"/>
              </a:rPr>
              <a:t>Плотность</a:t>
            </a:r>
            <a:br>
              <a:rPr sz="1200"/>
            </a:br>
            <a:r>
              <a:rPr b="1" lang="ru-RU" sz="1200" spc="-1" strike="noStrike">
                <a:solidFill>
                  <a:srgbClr val="3333cc"/>
                </a:solidFill>
                <a:latin typeface="Georgia"/>
              </a:rPr>
              <a:t>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1A7A-01EF-45BD-83D1-D9F22610F2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физической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цирующий при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8353-F629-42EF-8030-27AE011CC0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– это физическая величина, которая равна отношению массы тела к его объе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207E-A548-4189-A6C0-05C3CC7087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греческая буква «ро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C43C-7947-47A4-ACB1-A945C79FCA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D65F-236D-4836-822E-B919102AFE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8C58-373B-401E-8419-C6EEB007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1DD3-255B-4654-B0F6-AC89DF44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D7A8-7D11-4003-BD2F-A5EF28B5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FD2D-5599-4616-8E53-A033F346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A2D6-08EC-476F-9807-F5C95728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69B9-6257-4A8B-9161-A1DB4721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E57F-76B0-4A0D-AC58-6EA9F073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DB5F-9CC9-4653-A638-ACA180F8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CA7B-18F7-4AAA-8AA5-CAF7D093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4271-230E-46C2-B3E9-6E172A28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D111-10A1-41E8-8EB4-D7A5BC3D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CEB-D73D-44B9-AF4E-7F6AC83F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5550-320D-461D-8E74-99C094C4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A9DD-8FCE-4321-8D4C-FFB83690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8C6F-151F-4E0E-AC71-27809EBD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9752-AF51-438C-ABB1-58D46D5F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A3A4-440D-44E5-87DE-547F6E44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4A12A-F9D6-4819-A40A-19E6CCBE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C7DC8-8A49-4531-85C6-D0CFA12C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773E8-64D5-4827-90AF-5E52DFCF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332ED-7309-4AB0-9F3F-82C13213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2B333-42C3-4B7D-B9C7-08F00C58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2FDA-AFA4-4887-8FA6-709E46C8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1CEBA-090F-4C39-855E-5923A66D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9C28C-5A39-4928-9078-9802F7C7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84099-1344-4B0D-B24C-D68161EB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5BC3E-0B29-4BCB-97B1-E7F15791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35E53-3322-47A6-BE44-54941952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D08A7-ECEE-4287-8353-6BA321DD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BF70D-B8D5-410B-B533-8C075D79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D9990-01EE-4AB9-A84F-5F33CE28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89A70-077E-48B1-BBA7-132778E5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59EBC-6D37-4AA9-A9AF-9325195A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0B44-235E-4052-BBFA-272F4328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1A6FC-EB4D-45BF-9233-9C8CE015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261E7-E9F3-4794-94BA-23DA72A0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E5FD3-6039-4287-A4CC-93798869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330FF-EFEB-4375-8535-5FA21064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97530-CD65-4880-AF05-CCA44B3C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AAB71-04AC-4639-B37A-1E6B6920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5FD0C-C570-4BA4-BBA9-170B0993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09D81-0FBC-4A35-BFB7-5A91FA31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21498-9218-4803-B722-25C1AF06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137-77E4-490E-9788-FBB2D229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445D-1E12-4C90-B56C-4F767E34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0386-FE89-48A9-ABF4-D36AA1C5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3332-1F19-4084-AB26-F76C6F3B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F3D-BF38-4351-919F-3EAD81F3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682C-A253-4530-A898-0C86B70D3BB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9CDB-F485-427E-B9AF-46DDFCB01D9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94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96F3-C713-43ED-A1BF-F53AE9334BB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4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4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A1EA-09B1-41C7-A47C-01F49BEB1B39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Winter 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627680" cy="5040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Я еще не устал удивляться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удесам, что есть на земле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Телевизору, голосу рации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Вентилятору на столе.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Ток по проволоке струится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Спутник мчится по небесам.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еловеку стоит дивиться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еловеческим чудесам…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1168200" y="6143760"/>
            <a:ext cx="7293240" cy="368280"/>
          </a:xfrm>
          <a:prstGeom prst="rect">
            <a:avLst/>
          </a:prstGeom>
          <a:solidFill>
            <a:srgbClr val="fed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Верхне – Кубинская сош» Ольчикова Людмил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диницы измер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ρ = кг/м</a:t>
            </a:r>
            <a:r>
              <a:rPr b="1" lang="ru-RU" sz="6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2195640" y="3716280"/>
            <a:ext cx="936360" cy="115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2195640" y="2205000"/>
            <a:ext cx="1008000" cy="115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2268360" y="3573360"/>
            <a:ext cx="568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ρ  = г/см</a:t>
            </a:r>
            <a:r>
              <a:rPr b="1" lang="ru-RU" sz="6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4"/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7493"/>
                </a:moveTo>
                <a:lnTo>
                  <a:pt x="12016" y="7493"/>
                </a:lnTo>
                <a:lnTo>
                  <a:pt x="12016" y="12828"/>
                </a:lnTo>
                <a:cubicBezTo>
                  <a:pt x="12016" y="13751"/>
                  <a:pt x="12817" y="14482"/>
                  <a:pt x="13852" y="14482"/>
                </a:cubicBezTo>
                <a:lnTo>
                  <a:pt x="15515" y="14482"/>
                </a:lnTo>
                <a:cubicBezTo>
                  <a:pt x="16551" y="14482"/>
                  <a:pt x="17351" y="13751"/>
                  <a:pt x="17351" y="12828"/>
                </a:cubicBezTo>
                <a:lnTo>
                  <a:pt x="17351" y="7493"/>
                </a:lnTo>
                <a:lnTo>
                  <a:pt x="15515" y="7493"/>
                </a:lnTo>
                <a:lnTo>
                  <a:pt x="19022" y="3985"/>
                </a:lnTo>
                <a:lnTo>
                  <a:pt x="22695" y="7493"/>
                </a:lnTo>
                <a:lnTo>
                  <a:pt x="20859" y="7493"/>
                </a:lnTo>
                <a:lnTo>
                  <a:pt x="20859" y="12828"/>
                </a:lnTo>
                <a:cubicBezTo>
                  <a:pt x="20859" y="15596"/>
                  <a:pt x="18283" y="18155"/>
                  <a:pt x="15515" y="18155"/>
                </a:cubicBezTo>
                <a:lnTo>
                  <a:pt x="13852" y="18155"/>
                </a:lnTo>
                <a:cubicBezTo>
                  <a:pt x="11085" y="18155"/>
                  <a:pt x="8508" y="15596"/>
                  <a:pt x="8508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лассифицирующий призна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j0349131"/>
          <p:cNvPicPr/>
          <p:nvPr/>
        </p:nvPicPr>
        <p:blipFill>
          <a:blip r:embed="rId1"/>
          <a:stretch/>
        </p:blipFill>
        <p:spPr>
          <a:xfrm>
            <a:off x="5435640" y="1773360"/>
            <a:ext cx="2838240" cy="3985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6" name="AutoShape 6"/>
          <p:cNvSpPr/>
          <p:nvPr/>
        </p:nvSpPr>
        <p:spPr>
          <a:xfrm rot="16200000">
            <a:off x="913680" y="1613520"/>
            <a:ext cx="3066840" cy="4392360"/>
          </a:xfrm>
          <a:prstGeom prst="wedgeEllipseCallout">
            <a:avLst>
              <a:gd name="adj1" fmla="val 8953"/>
              <a:gd name="adj2" fmla="val 8017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ая для данного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пособы измере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6227640" y="2133720"/>
            <a:ext cx="1257480" cy="1257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5940360" y="2781360"/>
            <a:ext cx="142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443640" y="3429000"/>
            <a:ext cx="36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738180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3564000" y="2205000"/>
            <a:ext cx="79200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4500720" y="2060640"/>
            <a:ext cx="896760" cy="1582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Весы школьные двучашечные с разновесами"/>
          <p:cNvPicPr/>
          <p:nvPr/>
        </p:nvPicPr>
        <p:blipFill>
          <a:blip r:embed="rId3"/>
          <a:stretch/>
        </p:blipFill>
        <p:spPr>
          <a:xfrm>
            <a:off x="900000" y="2060640"/>
            <a:ext cx="2016360" cy="1800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2"/>
          <p:cNvSpPr/>
          <p:nvPr/>
        </p:nvSpPr>
        <p:spPr>
          <a:xfrm flipV="1" rot="10800000">
            <a:off x="826920" y="4149720"/>
            <a:ext cx="7848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мерить объем, массу тела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числить плотность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03280" y="214200"/>
            <a:ext cx="75405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лотность показывает, чему равна масса вещества, взятого в объеме 1м</a:t>
            </a:r>
            <a:r>
              <a:rPr b="0" lang="ru-RU" sz="32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или 1см</a:t>
            </a:r>
            <a:r>
              <a:rPr b="0" lang="ru-RU" sz="32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15640" y="3223800"/>
            <a:ext cx="2669040" cy="2187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лез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=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=780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4932360" y="2276640"/>
            <a:ext cx="2882880" cy="360036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и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=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ahoma"/>
              </a:rPr>
              <a:t>m=11300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ahoma"/>
              </a:rPr>
              <a:t>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205000"/>
            <a:ext cx="779292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отность редкого металла осмия равна 22600кг/м</a:t>
            </a:r>
            <a:r>
              <a:rPr b="0" lang="ru-RU" sz="40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. Что это означает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3" name="Picture 3" descr="c7789ef720a16d577d30e362a45fa30e"/>
          <p:cNvPicPr/>
          <p:nvPr/>
        </p:nvPicPr>
        <p:blipFill>
          <a:blip r:embed="rId1"/>
          <a:stretch/>
        </p:blipFill>
        <p:spPr>
          <a:xfrm>
            <a:off x="0" y="404640"/>
            <a:ext cx="2664000" cy="182592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Найдите по таблице плотности льда, воды и водяного пара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д  -  90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а – 100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яной пар – 0,59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324000" y="2637000"/>
            <a:ext cx="158400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ahoma"/>
              </a:rPr>
              <a:t>Н</a:t>
            </a:r>
            <a:r>
              <a:rPr b="1" lang="ru-RU" sz="6600" spc="-1" strike="noStrike" baseline="-25000">
                <a:solidFill>
                  <a:srgbClr val="3333cc"/>
                </a:solidFill>
                <a:latin typeface="Tahoma"/>
              </a:rPr>
              <a:t>2</a:t>
            </a:r>
            <a:r>
              <a:rPr b="1" lang="ru-RU" sz="6600" spc="-1" strike="noStrike">
                <a:solidFill>
                  <a:srgbClr val="3333cc"/>
                </a:solidFill>
                <a:latin typeface="Tahoma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63e88de767d6637a447f6d35f1be6d75"/>
          <p:cNvPicPr/>
          <p:nvPr/>
        </p:nvPicPr>
        <p:blipFill>
          <a:blip r:embed="rId1"/>
          <a:stretch/>
        </p:blipFill>
        <p:spPr>
          <a:xfrm>
            <a:off x="-181080" y="620640"/>
            <a:ext cx="1440000" cy="143820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чему плотность одного и того же вещества в твердом, жидком, и газообразном состояниях различна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Picture 4" descr="0200301"/>
          <p:cNvPicPr/>
          <p:nvPr/>
        </p:nvPicPr>
        <p:blipFill>
          <a:blip r:embed="rId1"/>
          <a:stretch/>
        </p:blipFill>
        <p:spPr>
          <a:xfrm>
            <a:off x="0" y="145584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5"/>
          <p:cNvSpPr/>
          <p:nvPr/>
        </p:nvSpPr>
        <p:spPr>
          <a:xfrm>
            <a:off x="6957720" y="558792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0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635280" y="5587920"/>
            <a:ext cx="17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611280" y="5589720"/>
            <a:ext cx="18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59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179280" y="404640"/>
            <a:ext cx="936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47280" y="214200"/>
            <a:ext cx="7396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а чашках уравновешенных весов лежат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убики. Одинаковы ли плотности веществ, из которых сделаны кубики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7596360" cy="4032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-252360" y="765000"/>
            <a:ext cx="2663640" cy="18259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5688000" cy="2830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0" y="549360"/>
            <a:ext cx="2664000" cy="18255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03280" y="214200"/>
            <a:ext cx="7540560" cy="170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одном из двух одинаковых сосудов налили воду (левый сосуд), в другой раствор серной кислоты равной массы. Какая жидкость имеет большую плотность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8028000" cy="46087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"/>
          <p:cNvSpPr/>
          <p:nvPr/>
        </p:nvSpPr>
        <p:spPr>
          <a:xfrm>
            <a:off x="1619280" y="5229360"/>
            <a:ext cx="2448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4140360" y="5157720"/>
            <a:ext cx="28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рн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8" descr="c7789ef720a16d577d30e362a45fa30e"/>
          <p:cNvPicPr/>
          <p:nvPr/>
        </p:nvPicPr>
        <p:blipFill>
          <a:blip r:embed="rId2"/>
          <a:stretch/>
        </p:blipFill>
        <p:spPr>
          <a:xfrm>
            <a:off x="-324000" y="907920"/>
            <a:ext cx="2664000" cy="182592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907640" y="2276640"/>
            <a:ext cx="5185080" cy="29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Что такое инертность?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Что такое масса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Как можно определить массу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Как можно определить объем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WordArt 6"/>
          <p:cNvSpPr txBox="1"/>
          <p:nvPr/>
        </p:nvSpPr>
        <p:spPr>
          <a:xfrm>
            <a:off x="2195640" y="476280"/>
            <a:ext cx="460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тори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Picture 7" descr="j0345852"/>
          <p:cNvPicPr/>
          <p:nvPr/>
        </p:nvPicPr>
        <p:blipFill>
          <a:blip r:embed="rId1"/>
          <a:stretch/>
        </p:blipFill>
        <p:spPr>
          <a:xfrm>
            <a:off x="6588000" y="5229360"/>
            <a:ext cx="2233800" cy="13698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759280" cy="26733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-252360" y="549360"/>
            <a:ext cx="2663640" cy="182556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а рисунке изображены два кубика одинакового объема из золота и меди. У какого из кубиков масса вещества больше  и во сколько раз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250920" y="3645000"/>
            <a:ext cx="2546640" cy="2882880"/>
            <a:chOff x="250920" y="3645000"/>
            <a:chExt cx="2546640" cy="2882880"/>
          </a:xfrm>
        </p:grpSpPr>
        <p:pic>
          <p:nvPicPr>
            <p:cNvPr id="298" name="Picture 4" descr="mal"/>
            <p:cNvPicPr/>
            <p:nvPr/>
          </p:nvPicPr>
          <p:blipFill>
            <a:blip r:embed="rId1"/>
            <a:stretch/>
          </p:blipFill>
          <p:spPr>
            <a:xfrm>
              <a:off x="1763640" y="5186160"/>
              <a:ext cx="1033920" cy="13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5" descr="professor01"/>
            <p:cNvPicPr/>
            <p:nvPr/>
          </p:nvPicPr>
          <p:blipFill>
            <a:blip r:embed="rId2"/>
            <a:stretch/>
          </p:blipFill>
          <p:spPr>
            <a:xfrm>
              <a:off x="250920" y="3645000"/>
              <a:ext cx="1656360" cy="280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0" name="Picture 6" descr=""/>
          <p:cNvPicPr/>
          <p:nvPr/>
        </p:nvPicPr>
        <p:blipFill>
          <a:blip r:embed="rId3"/>
          <a:stretch/>
        </p:blipFill>
        <p:spPr>
          <a:xfrm>
            <a:off x="2916360" y="2017800"/>
            <a:ext cx="6038640" cy="34988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1547640" y="4508640"/>
            <a:ext cx="63374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асса  золота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ассы меди в 2,2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3456000" y="2017800"/>
            <a:ext cx="5688000" cy="205884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цените свои достижения на этом уроке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704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ли у вас получилось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вольны ли вы своими результатами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велось ли вам в полной мере реализовать свои возможности, применить полученные знания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8" name="Picture 5" descr="1cc20268d3f08596e8cddf3e92cdf132"/>
          <p:cNvPicPr/>
          <p:nvPr/>
        </p:nvPicPr>
        <p:blipFill>
          <a:blip r:embed="rId1"/>
          <a:stretch/>
        </p:blipFill>
        <p:spPr>
          <a:xfrm>
            <a:off x="3348000" y="4797360"/>
            <a:ext cx="1655640" cy="158904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19280" y="214200"/>
            <a:ext cx="732456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71280" y="201780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   21; упражнение 7 №3;4 (определить плотность картофел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2484360" y="3357720"/>
            <a:ext cx="3311640" cy="246672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-181080" y="0"/>
            <a:ext cx="9560160" cy="69897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8672400" y="620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8672400" y="31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лаборатория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92000" y="404640"/>
            <a:ext cx="5616360" cy="23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cc"/>
                </a:solidFill>
                <a:latin typeface="Georgia"/>
              </a:rPr>
              <a:t>      </a:t>
            </a:r>
            <a:r>
              <a:rPr b="1" lang="ru-RU" sz="7200" spc="-1" strike="noStrike">
                <a:solidFill>
                  <a:srgbClr val="3333cc"/>
                </a:solidFill>
                <a:latin typeface="Georgia"/>
              </a:rPr>
              <a:t>Плотность</a:t>
            </a:r>
            <a:br>
              <a:rPr sz="7200"/>
            </a:br>
            <a:r>
              <a:rPr b="1" lang="ru-RU" sz="7200" spc="-1" strike="noStrike">
                <a:solidFill>
                  <a:srgbClr val="3333cc"/>
                </a:solidFill>
                <a:latin typeface="Georgia"/>
              </a:rPr>
              <a:t> вещества</a:t>
            </a:r>
            <a:endParaRPr b="0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81723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лан изучения физической величин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озна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у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диницы изме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ассифицирующий призн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ы изме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8459640" y="6093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3794" y="9008"/>
                </a:moveTo>
                <a:lnTo>
                  <a:pt x="7301" y="9008"/>
                </a:lnTo>
                <a:lnTo>
                  <a:pt x="7301" y="14343"/>
                </a:lnTo>
                <a:cubicBezTo>
                  <a:pt x="7301" y="15266"/>
                  <a:pt x="8102" y="15997"/>
                  <a:pt x="9138" y="15997"/>
                </a:cubicBezTo>
                <a:lnTo>
                  <a:pt x="10800" y="15997"/>
                </a:lnTo>
                <a:cubicBezTo>
                  <a:pt x="11836" y="15997"/>
                  <a:pt x="12636" y="15266"/>
                  <a:pt x="12636" y="14343"/>
                </a:cubicBezTo>
                <a:lnTo>
                  <a:pt x="12636" y="9008"/>
                </a:lnTo>
                <a:lnTo>
                  <a:pt x="10800" y="9008"/>
                </a:lnTo>
                <a:lnTo>
                  <a:pt x="14308" y="5500"/>
                </a:lnTo>
                <a:lnTo>
                  <a:pt x="17981" y="9008"/>
                </a:lnTo>
                <a:lnTo>
                  <a:pt x="16144" y="9008"/>
                </a:lnTo>
                <a:lnTo>
                  <a:pt x="16144" y="14343"/>
                </a:lnTo>
                <a:cubicBezTo>
                  <a:pt x="16144" y="17111"/>
                  <a:pt x="13568" y="19670"/>
                  <a:pt x="10800" y="19670"/>
                </a:cubicBezTo>
                <a:lnTo>
                  <a:pt x="9138" y="19670"/>
                </a:lnTo>
                <a:cubicBezTo>
                  <a:pt x="6370" y="19670"/>
                  <a:pt x="3794" y="17111"/>
                  <a:pt x="3794" y="14343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предел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лотность – это физическая величина, которая равна отношению массы тела к его объему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619280" y="3500280"/>
            <a:ext cx="6048360" cy="27781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5"/>
          <p:cNvSpPr/>
          <p:nvPr/>
        </p:nvSpPr>
        <p:spPr>
          <a:xfrm>
            <a:off x="8172360" y="6165720"/>
            <a:ext cx="971640" cy="503280"/>
          </a:xfrm>
          <a:custGeom>
            <a:avLst/>
            <a:gdLst>
              <a:gd name="textAreaLeft" fmla="*/ 32400 w 971640"/>
              <a:gd name="textAreaRight" fmla="*/ 939240 w 971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1687" h="21600">
                <a:moveTo>
                  <a:pt x="0" y="0"/>
                </a:moveTo>
                <a:lnTo>
                  <a:pt x="41687" y="0"/>
                </a:lnTo>
                <a:lnTo>
                  <a:pt x="41687" y="21600"/>
                </a:lnTo>
                <a:lnTo>
                  <a:pt x="0" y="21600"/>
                </a:lnTo>
                <a:close/>
              </a:path>
              <a:path fill="lightenLess" w="41687" h="21600">
                <a:moveTo>
                  <a:pt x="0" y="0"/>
                </a:moveTo>
                <a:lnTo>
                  <a:pt x="41687" y="0"/>
                </a:lnTo>
                <a:lnTo>
                  <a:pt x="40287" y="1400"/>
                </a:lnTo>
                <a:lnTo>
                  <a:pt x="1400" y="1400"/>
                </a:lnTo>
                <a:close/>
              </a:path>
              <a:path fill="darken" w="41687" h="21600">
                <a:moveTo>
                  <a:pt x="41687" y="0"/>
                </a:moveTo>
                <a:lnTo>
                  <a:pt x="41687" y="21600"/>
                </a:lnTo>
                <a:lnTo>
                  <a:pt x="40287" y="20200"/>
                </a:lnTo>
                <a:lnTo>
                  <a:pt x="40287" y="1400"/>
                </a:lnTo>
                <a:close/>
              </a:path>
              <a:path fill="darkenLess" w="41687" h="21600">
                <a:moveTo>
                  <a:pt x="4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287" y="20200"/>
                </a:lnTo>
                <a:close/>
              </a:path>
              <a:path fill="lighten" w="4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687" h="21600">
                <a:moveTo>
                  <a:pt x="13837" y="7493"/>
                </a:moveTo>
                <a:lnTo>
                  <a:pt x="17345" y="7493"/>
                </a:lnTo>
                <a:lnTo>
                  <a:pt x="17345" y="12828"/>
                </a:lnTo>
                <a:cubicBezTo>
                  <a:pt x="17345" y="13751"/>
                  <a:pt x="18145" y="14482"/>
                  <a:pt x="19181" y="14482"/>
                </a:cubicBezTo>
                <a:lnTo>
                  <a:pt x="20843" y="14482"/>
                </a:lnTo>
                <a:cubicBezTo>
                  <a:pt x="21879" y="14482"/>
                  <a:pt x="22680" y="13751"/>
                  <a:pt x="22680" y="12828"/>
                </a:cubicBezTo>
                <a:lnTo>
                  <a:pt x="22680" y="7493"/>
                </a:lnTo>
                <a:lnTo>
                  <a:pt x="20843" y="7493"/>
                </a:lnTo>
                <a:lnTo>
                  <a:pt x="24351" y="3985"/>
                </a:lnTo>
                <a:lnTo>
                  <a:pt x="28024" y="7493"/>
                </a:lnTo>
                <a:lnTo>
                  <a:pt x="26188" y="7493"/>
                </a:lnTo>
                <a:lnTo>
                  <a:pt x="26188" y="12828"/>
                </a:lnTo>
                <a:cubicBezTo>
                  <a:pt x="26188" y="15596"/>
                  <a:pt x="23611" y="18155"/>
                  <a:pt x="20843" y="18155"/>
                </a:cubicBezTo>
                <a:lnTo>
                  <a:pt x="19181" y="18155"/>
                </a:lnTo>
                <a:cubicBezTo>
                  <a:pt x="16413" y="18155"/>
                  <a:pt x="13837" y="15596"/>
                  <a:pt x="13837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gas"/>
          <p:cNvPicPr/>
          <p:nvPr/>
        </p:nvPicPr>
        <p:blipFill>
          <a:blip r:embed="rId1"/>
          <a:stretch/>
        </p:blipFill>
        <p:spPr>
          <a:xfrm>
            <a:off x="611280" y="3860640"/>
            <a:ext cx="1009440" cy="1224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озна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(греческая буква «ро»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ρ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8244000" y="6093000"/>
            <a:ext cx="649080" cy="576000"/>
          </a:xfrm>
          <a:custGeom>
            <a:avLst/>
            <a:gdLst>
              <a:gd name="textAreaLeft" fmla="*/ 37080 w 649080"/>
              <a:gd name="textAreaRight" fmla="*/ 612000 w 649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339" h="21600">
                <a:moveTo>
                  <a:pt x="0" y="0"/>
                </a:moveTo>
                <a:lnTo>
                  <a:pt x="24339" y="0"/>
                </a:lnTo>
                <a:lnTo>
                  <a:pt x="24339" y="21600"/>
                </a:lnTo>
                <a:lnTo>
                  <a:pt x="0" y="21600"/>
                </a:lnTo>
                <a:close/>
              </a:path>
              <a:path fill="lightenLess" w="24339" h="21600">
                <a:moveTo>
                  <a:pt x="0" y="0"/>
                </a:moveTo>
                <a:lnTo>
                  <a:pt x="24339" y="0"/>
                </a:lnTo>
                <a:lnTo>
                  <a:pt x="22939" y="1400"/>
                </a:lnTo>
                <a:lnTo>
                  <a:pt x="1400" y="1400"/>
                </a:lnTo>
                <a:close/>
              </a:path>
              <a:path fill="darken" w="24339" h="21600">
                <a:moveTo>
                  <a:pt x="24339" y="0"/>
                </a:moveTo>
                <a:lnTo>
                  <a:pt x="24339" y="21600"/>
                </a:lnTo>
                <a:lnTo>
                  <a:pt x="22939" y="20200"/>
                </a:lnTo>
                <a:lnTo>
                  <a:pt x="22939" y="1400"/>
                </a:lnTo>
                <a:close/>
              </a:path>
              <a:path fill="darkenLess" w="24339" h="21600">
                <a:moveTo>
                  <a:pt x="24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9" y="20200"/>
                </a:lnTo>
                <a:close/>
              </a:path>
              <a:path fill="lighten" w="24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9" h="21600">
                <a:moveTo>
                  <a:pt x="5163" y="7493"/>
                </a:moveTo>
                <a:lnTo>
                  <a:pt x="8671" y="7493"/>
                </a:lnTo>
                <a:lnTo>
                  <a:pt x="8671" y="12828"/>
                </a:lnTo>
                <a:cubicBezTo>
                  <a:pt x="8671" y="13751"/>
                  <a:pt x="9471" y="14482"/>
                  <a:pt x="10507" y="14482"/>
                </a:cubicBezTo>
                <a:lnTo>
                  <a:pt x="12169" y="14482"/>
                </a:lnTo>
                <a:cubicBezTo>
                  <a:pt x="13205" y="14482"/>
                  <a:pt x="14006" y="13751"/>
                  <a:pt x="14006" y="12828"/>
                </a:cubicBezTo>
                <a:lnTo>
                  <a:pt x="14006" y="7493"/>
                </a:lnTo>
                <a:lnTo>
                  <a:pt x="12169" y="7493"/>
                </a:lnTo>
                <a:lnTo>
                  <a:pt x="15677" y="3985"/>
                </a:lnTo>
                <a:lnTo>
                  <a:pt x="19350" y="7493"/>
                </a:lnTo>
                <a:lnTo>
                  <a:pt x="17513" y="7493"/>
                </a:lnTo>
                <a:lnTo>
                  <a:pt x="17513" y="12828"/>
                </a:lnTo>
                <a:cubicBezTo>
                  <a:pt x="17513" y="15596"/>
                  <a:pt x="14937" y="18155"/>
                  <a:pt x="12169" y="18155"/>
                </a:cubicBezTo>
                <a:lnTo>
                  <a:pt x="10507" y="18155"/>
                </a:lnTo>
                <a:cubicBezTo>
                  <a:pt x="7739" y="18155"/>
                  <a:pt x="5163" y="15596"/>
                  <a:pt x="5163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j0344853"/>
          <p:cNvPicPr/>
          <p:nvPr/>
        </p:nvPicPr>
        <p:blipFill>
          <a:blip r:embed="rId2"/>
          <a:stretch/>
        </p:blipFill>
        <p:spPr>
          <a:xfrm>
            <a:off x="1619280" y="4508640"/>
            <a:ext cx="1309680" cy="165240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77521E-008 L 1.38889E-006 -0.85291 E">
                                      <p:cBhvr>
                                        <p:cTn id="9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0.03631 C -0.01302 0.02151 -0.0243 0.07955 0.02014 0.0858 C 0.06476 0.09227 0.24132 0.00879 0.26597 0.00139 C 0.2908 -0.00578 0.18247 0.03561 0.16771 0.04209 E">
                                      <p:cBhvr>
                                        <p:cTn id="93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орму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7493"/>
                </a:moveTo>
                <a:lnTo>
                  <a:pt x="8861" y="7493"/>
                </a:lnTo>
                <a:lnTo>
                  <a:pt x="8861" y="12828"/>
                </a:lnTo>
                <a:cubicBezTo>
                  <a:pt x="8861" y="13751"/>
                  <a:pt x="9661" y="14482"/>
                  <a:pt x="10697" y="14482"/>
                </a:cubicBezTo>
                <a:lnTo>
                  <a:pt x="12359" y="14482"/>
                </a:lnTo>
                <a:cubicBezTo>
                  <a:pt x="13395" y="14482"/>
                  <a:pt x="14196" y="13751"/>
                  <a:pt x="14196" y="12828"/>
                </a:cubicBezTo>
                <a:lnTo>
                  <a:pt x="14196" y="7493"/>
                </a:lnTo>
                <a:lnTo>
                  <a:pt x="12359" y="7493"/>
                </a:lnTo>
                <a:lnTo>
                  <a:pt x="15867" y="3985"/>
                </a:lnTo>
                <a:lnTo>
                  <a:pt x="19540" y="7493"/>
                </a:lnTo>
                <a:lnTo>
                  <a:pt x="17703" y="7493"/>
                </a:lnTo>
                <a:lnTo>
                  <a:pt x="17703" y="12828"/>
                </a:lnTo>
                <a:cubicBezTo>
                  <a:pt x="17703" y="15596"/>
                  <a:pt x="15127" y="18155"/>
                  <a:pt x="12359" y="18155"/>
                </a:cubicBezTo>
                <a:lnTo>
                  <a:pt x="10697" y="18155"/>
                </a:lnTo>
                <a:cubicBezTo>
                  <a:pt x="7929" y="18155"/>
                  <a:pt x="5353" y="15596"/>
                  <a:pt x="5353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j0365295"/>
          <p:cNvPicPr/>
          <p:nvPr/>
        </p:nvPicPr>
        <p:blipFill>
          <a:blip r:embed="rId1"/>
          <a:stretch/>
        </p:blipFill>
        <p:spPr>
          <a:xfrm>
            <a:off x="179280" y="3382920"/>
            <a:ext cx="2735280" cy="261612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8"/>
          <p:cNvSpPr/>
          <p:nvPr/>
        </p:nvSpPr>
        <p:spPr>
          <a:xfrm>
            <a:off x="2700360" y="1341360"/>
            <a:ext cx="4535640" cy="2664000"/>
          </a:xfrm>
          <a:prstGeom prst="wedgeRectCallout">
            <a:avLst>
              <a:gd name="adj1" fmla="val -65574"/>
              <a:gd name="adj2" fmla="val 6656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2916360" y="1557360"/>
            <a:ext cx="4032000" cy="230328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7:28:17Z</dcterms:created>
  <dc:creator>олег</dc:creator>
  <dc:description/>
  <dc:language>en-US</dc:language>
  <cp:lastModifiedBy>LEGION</cp:lastModifiedBy>
  <dcterms:modified xsi:type="dcterms:W3CDTF">2015-03-30T08:53:59Z</dcterms:modified>
  <cp:revision>20</cp:revision>
  <dc:subject/>
  <dc:title>Повторим</dc:title>
</cp:coreProperties>
</file>