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.wmf" ContentType="image/x-wmf"/>
  <Override PartName="/ppt/media/image25.gif" ContentType="image/gif"/>
  <Override PartName="/ppt/media/image17.png" ContentType="image/png"/>
  <Override PartName="/ppt/media/image23.png" ContentType="image/png"/>
  <Override PartName="/ppt/media/image22.gif" ContentType="image/gif"/>
  <Override PartName="/ppt/media/image24.png" ContentType="image/png"/>
  <Override PartName="/ppt/media/image21.gif" ContentType="image/gif"/>
  <Override PartName="/ppt/media/image19.png" ContentType="image/png"/>
  <Override PartName="/ppt/media/image16.gif" ContentType="image/gif"/>
  <Override PartName="/ppt/media/image14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39E1-B075-486A-8B3C-707D5136B1A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еще не устал удивля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удесам, что есть на земл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визору, голосу раци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нтилятору на стол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к по проволоке струитс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утник мчится по небеса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ку стоит дивить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ким чудесам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91B5-5738-40DB-B099-B001B3BF81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ρ = кг/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8A2-1305-4F0A-AD72-2ED5E9E92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FD9-5BEF-4EBC-8687-C63688F4CE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мерить объем, массу тела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числить плотность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007F-AEC0-4D36-83EB-63203665A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казывает, чему равна масса вещества, взятого в объеме 1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ли 1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желез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=1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=780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г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DD6-9FF3-44A4-BFBA-A57E7C5FCA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редкого металла осмия равна 22600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то эт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CD8-1C74-4E6B-9DBD-154FE1B287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йдите по таблице плотности льда, воды и водяного п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  -  9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 – 100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0,590кг/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34F9-A104-4FC7-AD72-05AF5253B6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F56-51E8-4978-90E8-A2DF27C203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ашках уравновешенных весов лежа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ики. Одинаковы ли плотности веществ, из которых сделаны куб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243-EF69-4FAE-B024-1EBC86EDEC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26EE-2286-49FC-B1AE-C340577224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3DA0-58DD-48FE-A242-98CEFAE309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9F1F-5DB7-4EA8-B39B-DE7356F5CC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7D8-AA55-42FE-85AC-65DC10A073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334B-5549-4EF2-BB5D-3016C26560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A39C-49B3-4652-93D1-78B6CD7E11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и достижения на этом уро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 у вас получило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ольны ли вы своими результат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9139-FEBD-4CB7-9901-E47437737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  21; упражнение 7 №3;4 (определить плотность картофел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9EA-B2DD-4768-921D-627DA3437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cc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1200"/>
            </a:br>
            <a:r>
              <a:rPr b="1" lang="ru-RU" sz="1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C760-1487-4545-9254-E6F87BE1C9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изучения физическ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цирующий призн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C6B-77D7-4AF8-8F2F-BE83C6E9C4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– это физическая величина, которая равна отношению массы тела к его объ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6269-7516-48B3-B974-C65FBE0D50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реческая буква «ро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FE1E-6A04-42A3-8576-A47C6C9564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4C8A-25A7-4F92-B4D4-0C50837FBA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5A6-3C48-49C8-B7D1-848CDBEF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A56A-2C29-48AB-B55F-706E336A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92C9-579E-453C-BAA5-366BE06A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A4E0-DB48-47F9-A088-4D0BE24B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428A-B843-4EAB-ABB2-FA629B5A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2147-3C37-4F6F-803E-CAF0711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3C2F-4F12-4354-B253-BB4FBC75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371A-BF6B-4AE7-99C6-B2F7C024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E233-0257-43FF-8DDD-A067CDB1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05A8-B464-4D44-8D53-4B96DA1E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F888-5962-4CE6-8FD9-7737C97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EF62-0A27-4A8B-BFCB-12001FA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80A-8E05-4375-B47C-BDD00AD2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7512-23D7-4888-8442-DC4881A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6D21-C565-4C62-8787-AE2FEA1B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E851-BCFF-4639-AC3A-46293076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9ED-BCFD-4958-93A9-39D4BFA9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C822-38A0-4366-B5E8-37EB6A89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0FB2-8362-4824-99EC-EA116903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2290-AD5F-4CDE-8E12-AFCA195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CE313-6678-4F1D-88BB-76DBC6C0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B231-10A5-4424-8008-71FE94BE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171-C60E-4185-AF94-2968ED2D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9F23-3CEA-48ED-8746-362D42D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5229-745B-4AD3-9BE5-EE037D5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5B72-D9C6-465B-9F5F-F4C121ED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2E90-4653-4E6B-9A11-FAD15AF6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25824-1738-4A78-ABC2-155FE9D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805A-337A-4C22-BB8D-BCF44E41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F9E9-ABC7-4400-951E-084630E0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C99E-22CA-40E4-86CE-C49FFE53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AEDAF-CC12-4BAE-B119-B5EAB03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2E184-C999-4ADB-A208-F4B8C2E8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38C7-3F0C-4CD2-8379-7BB1B34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FA373-379E-4050-A752-1A10A545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ADB1C-7571-457B-8AC1-2A28071E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5602-86DB-485C-98ED-F29E0574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BFD2-43A7-4D02-9B07-9F13C5F9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731F-79B2-49B7-9A02-C5B77CF9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B5A39-0C13-4A0A-8B04-8A41BAEF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994CF-1EA2-497A-82E0-A6C17840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21A56-CE7C-4CA7-AEB6-4963C12F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CEEDA-12D1-4979-B597-334CBAB4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870-B804-403F-B339-D8F1A9E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901-2F09-47E5-81D5-A6ECAA83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3DD-FE6C-4FDF-9C20-7C575F30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BAB-E828-48E9-8D61-21EC0A99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57C-39E9-4B28-BCA5-370AC8B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FD07-4C09-45AC-8038-2BDB6DF119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097B-EF60-45CA-9A75-93CB862F3D9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4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C045-2960-4817-977E-ECD126EF0C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4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91F7-8FF9-44C3-A357-866D1BFCD18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Winter 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627680" cy="504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Я еще не устал удивля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удесам, что есть на земле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елевизору, голосу рации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Вентилятору на столе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Ток по проволоке струится,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Спутник мчится по небесам.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ку стоит дивиться</a:t>
            </a: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imes New Roman"/>
              </a:rPr>
              <a:t>Человеческим чудесам…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168200" y="6143760"/>
            <a:ext cx="7293240" cy="368280"/>
          </a:xfrm>
          <a:prstGeom prst="rect">
            <a:avLst/>
          </a:prstGeom>
          <a:solidFill>
            <a:srgbClr val="fed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Единицы измер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6600" spc="-1" strike="noStrike">
                <a:solidFill>
                  <a:srgbClr val="000000"/>
                </a:solidFill>
                <a:latin typeface="Tahoma"/>
              </a:rPr>
              <a:t>ρ = кг/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2195640" y="3716280"/>
            <a:ext cx="93636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2195640" y="2205000"/>
            <a:ext cx="1008000" cy="1152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268360" y="3573360"/>
            <a:ext cx="5683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ρ  = г/см</a:t>
            </a:r>
            <a:r>
              <a:rPr b="1" lang="ru-RU" sz="6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4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лассифицирующий призна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3794" y="7687"/>
                </a:moveTo>
                <a:lnTo>
                  <a:pt x="7301" y="7687"/>
                </a:lnTo>
                <a:lnTo>
                  <a:pt x="7301" y="13022"/>
                </a:lnTo>
                <a:cubicBezTo>
                  <a:pt x="7301" y="13945"/>
                  <a:pt x="8102" y="14676"/>
                  <a:pt x="9138" y="14676"/>
                </a:cubicBezTo>
                <a:lnTo>
                  <a:pt x="10800" y="14676"/>
                </a:lnTo>
                <a:cubicBezTo>
                  <a:pt x="11836" y="14676"/>
                  <a:pt x="12636" y="13945"/>
                  <a:pt x="12636" y="13022"/>
                </a:cubicBezTo>
                <a:lnTo>
                  <a:pt x="12636" y="7687"/>
                </a:lnTo>
                <a:lnTo>
                  <a:pt x="10800" y="7687"/>
                </a:lnTo>
                <a:lnTo>
                  <a:pt x="14308" y="4179"/>
                </a:lnTo>
                <a:lnTo>
                  <a:pt x="17981" y="7687"/>
                </a:lnTo>
                <a:lnTo>
                  <a:pt x="16144" y="7687"/>
                </a:lnTo>
                <a:lnTo>
                  <a:pt x="16144" y="13022"/>
                </a:lnTo>
                <a:cubicBezTo>
                  <a:pt x="16144" y="15790"/>
                  <a:pt x="13568" y="18349"/>
                  <a:pt x="10800" y="18349"/>
                </a:cubicBezTo>
                <a:lnTo>
                  <a:pt x="9138" y="18349"/>
                </a:lnTo>
                <a:cubicBezTo>
                  <a:pt x="6370" y="18349"/>
                  <a:pt x="3794" y="15790"/>
                  <a:pt x="3794" y="13022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j0349131"/>
          <p:cNvPicPr/>
          <p:nvPr/>
        </p:nvPicPr>
        <p:blipFill>
          <a:blip r:embed="rId1"/>
          <a:stretch/>
        </p:blipFill>
        <p:spPr>
          <a:xfrm>
            <a:off x="5435640" y="1773360"/>
            <a:ext cx="2838240" cy="3985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46" name="AutoShape 6"/>
          <p:cNvSpPr/>
          <p:nvPr/>
        </p:nvSpPr>
        <p:spPr>
          <a:xfrm rot="16200000">
            <a:off x="913680" y="1613520"/>
            <a:ext cx="3066840" cy="4392360"/>
          </a:xfrm>
          <a:prstGeom prst="wedgeEllipseCallout">
            <a:avLst>
              <a:gd name="adj1" fmla="val 8953"/>
              <a:gd name="adj2" fmla="val 801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аляр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для данного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пособы измер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227640" y="2133720"/>
            <a:ext cx="1257480" cy="1257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940360" y="2781360"/>
            <a:ext cx="14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443640" y="3429000"/>
            <a:ext cx="360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738180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3564000" y="2205000"/>
            <a:ext cx="792000" cy="1440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4500720" y="2060640"/>
            <a:ext cx="896760" cy="1582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Весы школьные двучашечные с разновесами"/>
          <p:cNvPicPr/>
          <p:nvPr/>
        </p:nvPicPr>
        <p:blipFill>
          <a:blip r:embed="rId3"/>
          <a:stretch/>
        </p:blipFill>
        <p:spPr>
          <a:xfrm>
            <a:off x="900000" y="2060640"/>
            <a:ext cx="2016360" cy="1800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2"/>
          <p:cNvSpPr/>
          <p:nvPr/>
        </p:nvSpPr>
        <p:spPr>
          <a:xfrm flipV="1" rot="10800000">
            <a:off x="826920" y="4149720"/>
            <a:ext cx="7848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рить объем, массу тел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ь плотность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отность показывает, чему равна масса вещества, взятого в объеме 1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или 1см</a:t>
            </a:r>
            <a:r>
              <a:rPr b="0" lang="ru-RU" sz="32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15640" y="3223800"/>
            <a:ext cx="2669040" cy="218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=7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4932360" y="2276640"/>
            <a:ext cx="2882880" cy="3600360"/>
          </a:xfrm>
          <a:prstGeom prst="can">
            <a:avLst>
              <a:gd name="adj" fmla="val 25000"/>
            </a:avLst>
          </a:prstGeom>
          <a:solidFill>
            <a:srgbClr val="6666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и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=1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ahoma"/>
              </a:rPr>
              <a:t>m=1130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Tahoma"/>
              </a:rPr>
              <a:t>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205000"/>
            <a:ext cx="779292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лотность редкого металла осмия равна 22600кг/м</a:t>
            </a:r>
            <a:r>
              <a:rPr b="0" lang="ru-RU" sz="4000" spc="-1" strike="noStrike" baseline="30000">
                <a:solidFill>
                  <a:srgbClr val="333399"/>
                </a:solidFill>
                <a:latin typeface="Tahoma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 Что это означает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c7789ef720a16d577d30e362a45fa30e"/>
          <p:cNvPicPr/>
          <p:nvPr/>
        </p:nvPicPr>
        <p:blipFill>
          <a:blip r:embed="rId1"/>
          <a:stretch/>
        </p:blipFill>
        <p:spPr>
          <a:xfrm>
            <a:off x="0" y="40464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йдите по таблице плотности льда, воды и водяного пар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д  -  9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 – 100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яной пар – 0,590кг/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324000" y="2637000"/>
            <a:ext cx="1584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Н</a:t>
            </a:r>
            <a:r>
              <a:rPr b="1" lang="ru-RU" sz="6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1" lang="ru-RU" sz="6600" spc="-1" strike="noStrike">
                <a:solidFill>
                  <a:srgbClr val="3333cc"/>
                </a:solidFill>
                <a:latin typeface="Tahoma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63e88de767d6637a447f6d35f1be6d75"/>
          <p:cNvPicPr/>
          <p:nvPr/>
        </p:nvPicPr>
        <p:blipFill>
          <a:blip r:embed="rId1"/>
          <a:stretch/>
        </p:blipFill>
        <p:spPr>
          <a:xfrm>
            <a:off x="-181080" y="620640"/>
            <a:ext cx="1440000" cy="14382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чему плотность одного и того же вещества в твердом, жидком, и газообразном состояниях различна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2" name="Picture 4" descr="0200301"/>
          <p:cNvPicPr/>
          <p:nvPr/>
        </p:nvPicPr>
        <p:blipFill>
          <a:blip r:embed="rId1"/>
          <a:stretch/>
        </p:blipFill>
        <p:spPr>
          <a:xfrm>
            <a:off x="0" y="1455840"/>
            <a:ext cx="9144000" cy="5141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6957720" y="55879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635280" y="5587920"/>
            <a:ext cx="17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11280" y="5589720"/>
            <a:ext cx="18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590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179280" y="404640"/>
            <a:ext cx="936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1" lang="ru-RU" sz="4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47280" y="21420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чашках уравновешенных весов лежат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убики. Одинаковы ли плотности веществ, из которых сделаны кубики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7596360" cy="4032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765000"/>
            <a:ext cx="2663640" cy="18259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5688000" cy="28306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0" y="549360"/>
            <a:ext cx="2664000" cy="182556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03280" y="214200"/>
            <a:ext cx="7540560" cy="170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одном из двух одинаковых сосудов налили воду (левый сосуд), в другой раствор серной кислоты равной массы. Какая жидкость имеет большую плотность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8028000" cy="4608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619280" y="5229360"/>
            <a:ext cx="2448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4140360" y="5157720"/>
            <a:ext cx="2808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рная кисл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8" descr="c7789ef720a16d577d30e362a45fa30e"/>
          <p:cNvPicPr/>
          <p:nvPr/>
        </p:nvPicPr>
        <p:blipFill>
          <a:blip r:embed="rId2"/>
          <a:stretch/>
        </p:blipFill>
        <p:spPr>
          <a:xfrm>
            <a:off x="-324000" y="907920"/>
            <a:ext cx="2664000" cy="182592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907640" y="2276640"/>
            <a:ext cx="5185080" cy="29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Что такое инертность?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Что такое масса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Как можно определить массу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Как можно определить объем тел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2195640" y="476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торим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2" name="Picture 7" descr="j0345852"/>
          <p:cNvPicPr/>
          <p:nvPr/>
        </p:nvPicPr>
        <p:blipFill>
          <a:blip r:embed="rId1"/>
          <a:stretch/>
        </p:blipFill>
        <p:spPr>
          <a:xfrm>
            <a:off x="6588000" y="5229360"/>
            <a:ext cx="2233800" cy="136980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759280" cy="26733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7789ef720a16d577d30e362a45fa30e"/>
          <p:cNvPicPr/>
          <p:nvPr/>
        </p:nvPicPr>
        <p:blipFill>
          <a:blip r:embed="rId2"/>
          <a:stretch/>
        </p:blipFill>
        <p:spPr>
          <a:xfrm>
            <a:off x="-252360" y="549360"/>
            <a:ext cx="2663640" cy="1825560"/>
          </a:xfrm>
          <a:prstGeom prst="rect">
            <a:avLst/>
          </a:prstGeom>
          <a:ln w="0">
            <a:noFill/>
          </a:ln>
        </p:spPr>
      </p:pic>
      <p:sp>
        <p:nvSpPr>
          <p:cNvPr id="2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а рисунке изображены два кубика одинакового объема из золота и меди. У какого из кубиков масса вещества больше  и во сколько раз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50920" y="3645000"/>
            <a:ext cx="2546640" cy="2882880"/>
            <a:chOff x="250920" y="3645000"/>
            <a:chExt cx="2546640" cy="2882880"/>
          </a:xfrm>
        </p:grpSpPr>
        <p:pic>
          <p:nvPicPr>
            <p:cNvPr id="298" name="Picture 4" descr="mal"/>
            <p:cNvPicPr/>
            <p:nvPr/>
          </p:nvPicPr>
          <p:blipFill>
            <a:blip r:embed="rId1"/>
            <a:stretch/>
          </p:blipFill>
          <p:spPr>
            <a:xfrm>
              <a:off x="1763640" y="5186160"/>
              <a:ext cx="1033920" cy="13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professor01"/>
            <p:cNvPicPr/>
            <p:nvPr/>
          </p:nvPicPr>
          <p:blipFill>
            <a:blip r:embed="rId2"/>
            <a:stretch/>
          </p:blipFill>
          <p:spPr>
            <a:xfrm>
              <a:off x="250920" y="3645000"/>
              <a:ext cx="1656360" cy="280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2916360" y="2017800"/>
            <a:ext cx="6038640" cy="34988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547640" y="4508640"/>
            <a:ext cx="63374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а  золота бо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ссы меди в 2,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3456000" y="2017800"/>
            <a:ext cx="5688000" cy="2058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ите свои достижения на этом урок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2205000"/>
            <a:ext cx="8704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е ли у вас получилось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ольны ли вы своими результатам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велось ли вам в полной мере реализовать свои возможности, применить полученные знани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8" name="Picture 5" descr="1cc20268d3f08596e8cddf3e92cdf132"/>
          <p:cNvPicPr/>
          <p:nvPr/>
        </p:nvPicPr>
        <p:blipFill>
          <a:blip r:embed="rId1"/>
          <a:stretch/>
        </p:blipFill>
        <p:spPr>
          <a:xfrm>
            <a:off x="3348000" y="4797360"/>
            <a:ext cx="1655640" cy="15890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9280" y="214200"/>
            <a:ext cx="732456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280" y="201780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  21; упражнение 7 №3;4 (определить плотность картофел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2484360" y="3357720"/>
            <a:ext cx="3311640" cy="24667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0160" cy="6989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8672400" y="620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8672400" y="316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лаборатория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92000" y="404640"/>
            <a:ext cx="5616360" cy="23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cc"/>
                </a:solidFill>
                <a:latin typeface="Georgia"/>
              </a:rPr>
              <a:t>      </a:t>
            </a: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Плотность</a:t>
            </a:r>
            <a:br>
              <a:rPr sz="7200"/>
            </a:br>
            <a:r>
              <a:rPr b="1" lang="ru-RU" sz="7200" spc="-1" strike="noStrike">
                <a:solidFill>
                  <a:srgbClr val="3333cc"/>
                </a:solidFill>
                <a:latin typeface="Georgia"/>
              </a:rPr>
              <a:t> вещества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81723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лан изучения физической величин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озна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орм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диниц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ассифицирующий призн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ы изме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8459640" y="6093000"/>
            <a:ext cx="505080" cy="57600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576000"/>
              <a:gd name="textAreaBottom" fmla="*/ 543600 h 576000"/>
            </a:gdLst>
            <a:ahLst/>
            <a:rect l="textAreaLeft" t="textAreaTop" r="textAreaRight" b="textAreaBottom"/>
            <a:pathLst>
              <a:path w="21600" h="24631">
                <a:moveTo>
                  <a:pt x="0" y="0"/>
                </a:moveTo>
                <a:lnTo>
                  <a:pt x="21600" y="0"/>
                </a:lnTo>
                <a:lnTo>
                  <a:pt x="21600" y="24631"/>
                </a:lnTo>
                <a:lnTo>
                  <a:pt x="0" y="24631"/>
                </a:lnTo>
                <a:close/>
              </a:path>
              <a:path fill="lightenLess" w="21600" h="2463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31">
                <a:moveTo>
                  <a:pt x="21600" y="0"/>
                </a:moveTo>
                <a:lnTo>
                  <a:pt x="21600" y="24631"/>
                </a:lnTo>
                <a:lnTo>
                  <a:pt x="20200" y="23231"/>
                </a:lnTo>
                <a:lnTo>
                  <a:pt x="20200" y="1400"/>
                </a:lnTo>
                <a:close/>
              </a:path>
              <a:path fill="darkenLess" w="21600" h="24631">
                <a:moveTo>
                  <a:pt x="21600" y="24631"/>
                </a:moveTo>
                <a:lnTo>
                  <a:pt x="0" y="24631"/>
                </a:lnTo>
                <a:lnTo>
                  <a:pt x="1400" y="23231"/>
                </a:lnTo>
                <a:lnTo>
                  <a:pt x="20200" y="23231"/>
                </a:lnTo>
                <a:close/>
              </a:path>
              <a:path fill="lighten" w="21600" h="24631">
                <a:moveTo>
                  <a:pt x="0" y="2463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31"/>
                </a:lnTo>
                <a:close/>
              </a:path>
              <a:path fill="darken" w="21600" h="24631">
                <a:moveTo>
                  <a:pt x="3794" y="9008"/>
                </a:moveTo>
                <a:lnTo>
                  <a:pt x="7301" y="9008"/>
                </a:lnTo>
                <a:lnTo>
                  <a:pt x="7301" y="14343"/>
                </a:lnTo>
                <a:cubicBezTo>
                  <a:pt x="7301" y="15266"/>
                  <a:pt x="8102" y="15997"/>
                  <a:pt x="9138" y="15997"/>
                </a:cubicBezTo>
                <a:lnTo>
                  <a:pt x="10800" y="15997"/>
                </a:lnTo>
                <a:cubicBezTo>
                  <a:pt x="11836" y="15997"/>
                  <a:pt x="12636" y="15266"/>
                  <a:pt x="12636" y="14343"/>
                </a:cubicBezTo>
                <a:lnTo>
                  <a:pt x="12636" y="9008"/>
                </a:lnTo>
                <a:lnTo>
                  <a:pt x="10800" y="9008"/>
                </a:lnTo>
                <a:lnTo>
                  <a:pt x="14308" y="5500"/>
                </a:lnTo>
                <a:lnTo>
                  <a:pt x="17981" y="9008"/>
                </a:lnTo>
                <a:lnTo>
                  <a:pt x="16144" y="9008"/>
                </a:lnTo>
                <a:lnTo>
                  <a:pt x="16144" y="14343"/>
                </a:lnTo>
                <a:cubicBezTo>
                  <a:pt x="16144" y="17111"/>
                  <a:pt x="13568" y="19670"/>
                  <a:pt x="10800" y="19670"/>
                </a:cubicBezTo>
                <a:lnTo>
                  <a:pt x="9138" y="19670"/>
                </a:lnTo>
                <a:cubicBezTo>
                  <a:pt x="6370" y="19670"/>
                  <a:pt x="3794" y="17111"/>
                  <a:pt x="3794" y="14343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предел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отность – это физическая величина, которая равна отношению массы тела к его объему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6048360" cy="27781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8172360" y="6165720"/>
            <a:ext cx="971640" cy="503280"/>
          </a:xfrm>
          <a:custGeom>
            <a:avLst/>
            <a:gdLst>
              <a:gd name="textAreaLeft" fmla="*/ 32400 w 971640"/>
              <a:gd name="textAreaRight" fmla="*/ 939240 w 971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1687" h="21600">
                <a:moveTo>
                  <a:pt x="0" y="0"/>
                </a:moveTo>
                <a:lnTo>
                  <a:pt x="41687" y="0"/>
                </a:lnTo>
                <a:lnTo>
                  <a:pt x="41687" y="21600"/>
                </a:lnTo>
                <a:lnTo>
                  <a:pt x="0" y="21600"/>
                </a:lnTo>
                <a:close/>
              </a:path>
              <a:path fill="lightenLess" w="41687" h="21600">
                <a:moveTo>
                  <a:pt x="0" y="0"/>
                </a:moveTo>
                <a:lnTo>
                  <a:pt x="41687" y="0"/>
                </a:lnTo>
                <a:lnTo>
                  <a:pt x="40287" y="1400"/>
                </a:lnTo>
                <a:lnTo>
                  <a:pt x="1400" y="1400"/>
                </a:lnTo>
                <a:close/>
              </a:path>
              <a:path fill="darken" w="41687" h="21600">
                <a:moveTo>
                  <a:pt x="41687" y="0"/>
                </a:moveTo>
                <a:lnTo>
                  <a:pt x="41687" y="21600"/>
                </a:lnTo>
                <a:lnTo>
                  <a:pt x="40287" y="20200"/>
                </a:lnTo>
                <a:lnTo>
                  <a:pt x="40287" y="1400"/>
                </a:lnTo>
                <a:close/>
              </a:path>
              <a:path fill="darkenLess" w="41687" h="21600">
                <a:moveTo>
                  <a:pt x="4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87" y="20200"/>
                </a:lnTo>
                <a:close/>
              </a:path>
              <a:path fill="lighten" w="4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87" h="21600">
                <a:moveTo>
                  <a:pt x="13837" y="7493"/>
                </a:moveTo>
                <a:lnTo>
                  <a:pt x="17345" y="7493"/>
                </a:lnTo>
                <a:lnTo>
                  <a:pt x="17345" y="12828"/>
                </a:lnTo>
                <a:cubicBezTo>
                  <a:pt x="17345" y="13751"/>
                  <a:pt x="18145" y="14482"/>
                  <a:pt x="19181" y="14482"/>
                </a:cubicBezTo>
                <a:lnTo>
                  <a:pt x="20843" y="14482"/>
                </a:lnTo>
                <a:cubicBezTo>
                  <a:pt x="21879" y="14482"/>
                  <a:pt x="22680" y="13751"/>
                  <a:pt x="22680" y="12828"/>
                </a:cubicBezTo>
                <a:lnTo>
                  <a:pt x="22680" y="7493"/>
                </a:lnTo>
                <a:lnTo>
                  <a:pt x="20843" y="7493"/>
                </a:lnTo>
                <a:lnTo>
                  <a:pt x="24351" y="3985"/>
                </a:lnTo>
                <a:lnTo>
                  <a:pt x="28024" y="7493"/>
                </a:lnTo>
                <a:lnTo>
                  <a:pt x="26188" y="7493"/>
                </a:lnTo>
                <a:lnTo>
                  <a:pt x="26188" y="12828"/>
                </a:lnTo>
                <a:cubicBezTo>
                  <a:pt x="26188" y="15596"/>
                  <a:pt x="23611" y="18155"/>
                  <a:pt x="20843" y="18155"/>
                </a:cubicBezTo>
                <a:lnTo>
                  <a:pt x="19181" y="18155"/>
                </a:lnTo>
                <a:cubicBezTo>
                  <a:pt x="16413" y="18155"/>
                  <a:pt x="13837" y="15596"/>
                  <a:pt x="13837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gas"/>
          <p:cNvPicPr/>
          <p:nvPr/>
        </p:nvPicPr>
        <p:blipFill>
          <a:blip r:embed="rId1"/>
          <a:stretch/>
        </p:blipFill>
        <p:spPr>
          <a:xfrm>
            <a:off x="611280" y="3860640"/>
            <a:ext cx="100944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означ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(греческая буква «ро»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ρ</a:t>
            </a:r>
            <a:r>
              <a:rPr b="1" lang="en-US" sz="7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824400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7493"/>
                </a:moveTo>
                <a:lnTo>
                  <a:pt x="8671" y="7493"/>
                </a:lnTo>
                <a:lnTo>
                  <a:pt x="8671" y="12828"/>
                </a:lnTo>
                <a:cubicBezTo>
                  <a:pt x="8671" y="13751"/>
                  <a:pt x="9471" y="14482"/>
                  <a:pt x="10507" y="14482"/>
                </a:cubicBezTo>
                <a:lnTo>
                  <a:pt x="12169" y="14482"/>
                </a:lnTo>
                <a:cubicBezTo>
                  <a:pt x="13205" y="14482"/>
                  <a:pt x="14006" y="13751"/>
                  <a:pt x="14006" y="12828"/>
                </a:cubicBezTo>
                <a:lnTo>
                  <a:pt x="14006" y="7493"/>
                </a:lnTo>
                <a:lnTo>
                  <a:pt x="12169" y="7493"/>
                </a:lnTo>
                <a:lnTo>
                  <a:pt x="15677" y="3985"/>
                </a:lnTo>
                <a:lnTo>
                  <a:pt x="19350" y="7493"/>
                </a:lnTo>
                <a:lnTo>
                  <a:pt x="17513" y="7493"/>
                </a:lnTo>
                <a:lnTo>
                  <a:pt x="17513" y="12828"/>
                </a:lnTo>
                <a:cubicBezTo>
                  <a:pt x="17513" y="15596"/>
                  <a:pt x="14937" y="18155"/>
                  <a:pt x="12169" y="18155"/>
                </a:cubicBezTo>
                <a:lnTo>
                  <a:pt x="10507" y="18155"/>
                </a:lnTo>
                <a:cubicBezTo>
                  <a:pt x="7739" y="18155"/>
                  <a:pt x="5163" y="15596"/>
                  <a:pt x="516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j0344853"/>
          <p:cNvPicPr/>
          <p:nvPr/>
        </p:nvPicPr>
        <p:blipFill>
          <a:blip r:embed="rId2"/>
          <a:stretch/>
        </p:blipFill>
        <p:spPr>
          <a:xfrm>
            <a:off x="1619280" y="4508640"/>
            <a:ext cx="1309680" cy="16524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77521E-008 L 1.38889E-006 -0.85291 E">
                                      <p:cBhvr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631 C -0.01302 0.02151 -0.0243 0.07955 0.02014 0.0858 C 0.06476 0.09227 0.24132 0.00879 0.26597 0.00139 C 0.2908 -0.00578 0.18247 0.03561 0.16771 0.04209 E">
                                      <p:cBhvr>
                                        <p:cTn id="9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у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j0365295"/>
          <p:cNvPicPr/>
          <p:nvPr/>
        </p:nvPicPr>
        <p:blipFill>
          <a:blip r:embed="rId1"/>
          <a:stretch/>
        </p:blipFill>
        <p:spPr>
          <a:xfrm>
            <a:off x="179280" y="3382920"/>
            <a:ext cx="2735280" cy="26161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8"/>
          <p:cNvSpPr/>
          <p:nvPr/>
        </p:nvSpPr>
        <p:spPr>
          <a:xfrm>
            <a:off x="2700360" y="1341360"/>
            <a:ext cx="4535640" cy="2664000"/>
          </a:xfrm>
          <a:prstGeom prst="wedgeRectCallout">
            <a:avLst>
              <a:gd name="adj1" fmla="val -65574"/>
              <a:gd name="adj2" fmla="val 6656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032000" cy="230328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7:28:17Z</dcterms:created>
  <dc:creator>олег</dc:creator>
  <dc:description/>
  <dc:language>en-US</dc:language>
  <cp:lastModifiedBy>LEGION</cp:lastModifiedBy>
  <dcterms:modified xsi:type="dcterms:W3CDTF">2015-03-30T08:53:59Z</dcterms:modified>
  <cp:revision>20</cp:revision>
  <dc:subject/>
  <dc:title>Повторим</dc:title>
</cp:coreProperties>
</file>