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.wmf" ContentType="image/x-wmf"/>
  <Override PartName="/ppt/media/image25.gif" ContentType="image/gif"/>
  <Override PartName="/ppt/media/image17.png" ContentType="image/png"/>
  <Override PartName="/ppt/media/image23.png" ContentType="image/png"/>
  <Override PartName="/ppt/media/image22.gif" ContentType="image/gif"/>
  <Override PartName="/ppt/media/image24.png" ContentType="image/png"/>
  <Override PartName="/ppt/media/image21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4DD9-A144-4AD1-92D3-53AB7F336D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еще не устал удивля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десам, что есть на земл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визору, голосу ра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нтилятору на сто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 по проволоке струи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утник мчится по небеса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у стоит диви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м чудесам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FD87-35AC-4579-8B20-05140E16C6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ρ = кг/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8D50-DCE1-4C96-82BD-5E0AD8EAB1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3B56-2CE4-4E58-9B44-574BFD6CBA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ь объем, массу тел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числить плотность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A996-BD2E-4908-815B-1836998844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казывает, чему равна масса вещества, взятого в объеме 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1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=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=78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FC47-8FD2-4545-8EC6-4E4D881DAC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редкого металла осмия равна 22600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то эт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9771-D30E-43BD-A223-71725D19DE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йдите по таблице плотности льда, воды и водяного п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  -  9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 – 10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0,59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73C5-4A44-40B1-9299-682D5805F4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DE57-B1BC-43B8-B819-1C6BA9D3F4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ашках уравновешенных весов лежа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ики. Одинаковы ли плотности веществ, из которых сделаны куб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1825-6C16-4DE1-8A25-89194D51ED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A312-96B9-4E65-9B29-3ED0C8AE96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A1D2-7853-45CA-A57D-683BF80E8D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2627-BC2C-43DC-97B3-EC8742720E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7245-31DF-4DEE-92FD-FD1F50F694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9838-BC14-43F1-8001-C23A2A0F07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15CB-B293-4769-BF55-E020A7547F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и достижения на этом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 у вас получ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ы ли вы своими результат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607F-AADC-4908-9CBC-8989C309D5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  21; упражнение 7 №3;4 (определить плотность картофе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7174-A29F-4FA2-A20A-8B7AC7A689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cc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1200"/>
            </a:b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979F-13F1-49BC-BF7B-F2B6B27BB4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физическ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A9B8-F472-402D-BA48-43C4144552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это физическая величина, которая равна отношению массы тела к его объ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184B-0A70-4DF2-849D-942C5B5F52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реческая буква «р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0EAF-1CFB-458A-90BD-16D7B86162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C40A-3EDB-4566-8899-74398E3C6D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90E-C0B4-44CC-AA16-D13B61A3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CA5-BF4E-40BA-BB81-A22169AD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96D-71B6-47CE-92A2-5AD1C12F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CF5-2A9B-46AB-BC9C-6A752074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5D3D-1A55-40A1-BEA6-5B1C186D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572B-8FC9-4046-BC6E-90969591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7B56-632D-4083-A330-3C2453BF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3B30-D4AE-4A82-98CA-466F8829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C043-A797-49F2-BE55-71139FE9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D84F-11A6-4B35-96BD-256E9E59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E799-399B-45B2-873F-F0028F24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4C9-7233-49AE-A37C-D963A408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EE85-483E-42CF-96DA-B06ADB4C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EA0C-C778-4F8A-B277-295A23B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EC21-D61F-4E74-956F-59C42201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7BC4-F230-4B39-AF16-FAB7F229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353E-58CB-4B25-80CC-F8064909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1D03-5B20-43B1-AC2E-E951FB67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1ED2-6CE7-4977-8493-810DDC78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63883-F1B4-4045-9329-195E0A06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0E49-3247-43E2-AA5C-C084B20E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58ADC-3ED4-48E9-B06C-7885658D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CD8-6761-4170-A5BD-081C743E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6207-A0D1-4A9A-97BE-5FC929E0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70E3-062D-4036-B87E-EED01792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FD62C-8DB3-442C-A217-C3E6E184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2F6A-8C66-4028-9277-7C9AE71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B532-A1BD-4F91-B84F-C6B683BE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294B5-6B57-46E5-85D3-7B6C9892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C4AB-54C6-4285-BAFD-0E8AD082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AE80-3EFC-4988-A167-842E476A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24531-A8EB-4EA9-B70C-6ED37AC9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B96F-3557-41C0-8C1E-F7F92AF9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67E-7AAE-486E-AA7D-92E53081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343B-3CD7-4AE0-82F9-D4C6A8A2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C743-CFA2-4B8B-89CE-27D6C89A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C9D8B-0679-4404-A15A-1DAFC43F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5E886-5E6A-4AA2-9DCC-0D772F4B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89406-8C08-485F-A27E-D89E1668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2AFCE-5FF6-4F22-A66F-6390C866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47CF0-7A0A-490F-86B2-7DA41A9A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3A94-250A-4069-A801-937C1095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B8DEA-065E-4E7C-8ADC-D75F6F55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D23-96DC-41E4-863A-9494AF85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F23-2086-4369-B163-C82627F5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C0E-C0C2-4336-9078-BAC4D007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93D-6CD1-44A8-A47D-6B116422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BFD-0BC4-4B2B-A82B-DDB5FACD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6E07-70E7-4386-96D8-9D345A2F3C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EBED-8701-4CDA-AE6C-13C107221F8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A814-CBD7-4671-9929-4C84FDF0AE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0944-3705-4869-A758-64B41CBD749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ческим чудесам…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168200" y="6143760"/>
            <a:ext cx="7293240" cy="368280"/>
          </a:xfrm>
          <a:prstGeom prst="rect">
            <a:avLst/>
          </a:prstGeom>
          <a:solidFill>
            <a:srgbClr val="fed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диницы измер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ρ = кг/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2195640" y="3716280"/>
            <a:ext cx="93636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195640" y="2205000"/>
            <a:ext cx="100800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268360" y="3573360"/>
            <a:ext cx="568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ρ  = г/с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сифицирующий призна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j0349131"/>
          <p:cNvPicPr/>
          <p:nvPr/>
        </p:nvPicPr>
        <p:blipFill>
          <a:blip r:embed="rId1"/>
          <a:stretch/>
        </p:blipFill>
        <p:spPr>
          <a:xfrm>
            <a:off x="5435640" y="1773360"/>
            <a:ext cx="2838240" cy="398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AutoShape 6"/>
          <p:cNvSpPr/>
          <p:nvPr/>
        </p:nvSpPr>
        <p:spPr>
          <a:xfrm rot="16200000">
            <a:off x="913680" y="1613520"/>
            <a:ext cx="3066840" cy="4392360"/>
          </a:xfrm>
          <a:prstGeom prst="wedgeEllipseCallout">
            <a:avLst>
              <a:gd name="adj1" fmla="val 8953"/>
              <a:gd name="adj2" fmla="val 801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для данного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пособы измер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227640" y="2133720"/>
            <a:ext cx="1257480" cy="1257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40360" y="2781360"/>
            <a:ext cx="14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443640" y="342900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738180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79200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896760" cy="158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Весы школьные двучашечные с разновесами"/>
          <p:cNvPicPr/>
          <p:nvPr/>
        </p:nvPicPr>
        <p:blipFill>
          <a:blip r:embed="rId3"/>
          <a:stretch/>
        </p:blipFill>
        <p:spPr>
          <a:xfrm>
            <a:off x="900000" y="2060640"/>
            <a:ext cx="201636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"/>
          <p:cNvSpPr/>
          <p:nvPr/>
        </p:nvSpPr>
        <p:spPr>
          <a:xfrm flipV="1" rot="10800000">
            <a:off x="826920" y="4149720"/>
            <a:ext cx="7848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ерить объем, массу тела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плотность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отность показывает, чему равна масса вещества, взятого в объеме 1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или 1с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5640" y="3223800"/>
            <a:ext cx="2669040" cy="218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ез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7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932360" y="2276640"/>
            <a:ext cx="2882880" cy="360036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m=1130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205000"/>
            <a:ext cx="77929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отность редкого металла осмия равна 22600кг/м</a:t>
            </a:r>
            <a:r>
              <a:rPr b="0" lang="ru-RU" sz="40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. Что это означает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c7789ef720a16d577d30e362a45fa30e"/>
          <p:cNvPicPr/>
          <p:nvPr/>
        </p:nvPicPr>
        <p:blipFill>
          <a:blip r:embed="rId1"/>
          <a:stretch/>
        </p:blipFill>
        <p:spPr>
          <a:xfrm>
            <a:off x="0" y="40464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йдите по таблице плотности льда, воды и водяного пар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д  -  9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 – 10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яной пар – 0,59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24000" y="2637000"/>
            <a:ext cx="158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Н</a:t>
            </a:r>
            <a:r>
              <a:rPr b="1" lang="ru-RU" sz="6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63e88de767d6637a447f6d35f1be6d75"/>
          <p:cNvPicPr/>
          <p:nvPr/>
        </p:nvPicPr>
        <p:blipFill>
          <a:blip r:embed="rId1"/>
          <a:stretch/>
        </p:blipFill>
        <p:spPr>
          <a:xfrm>
            <a:off x="-181080" y="620640"/>
            <a:ext cx="1440000" cy="14382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4" descr="0200301"/>
          <p:cNvPicPr/>
          <p:nvPr/>
        </p:nvPicPr>
        <p:blipFill>
          <a:blip r:embed="rId1"/>
          <a:stretch/>
        </p:blipFill>
        <p:spPr>
          <a:xfrm>
            <a:off x="0" y="145584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6957720" y="55879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635280" y="5587920"/>
            <a:ext cx="17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11280" y="5589720"/>
            <a:ext cx="18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9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79280" y="404640"/>
            <a:ext cx="936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47280" y="21420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чашках уравновешенных весов лежат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убики. Одинаковы ли плотности веществ, из которых сделаны кубик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7596360" cy="4032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765000"/>
            <a:ext cx="2663640" cy="18259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2830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0" y="549360"/>
            <a:ext cx="2664000" cy="18255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8028000" cy="4608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1619280" y="5229360"/>
            <a:ext cx="2448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140360" y="5157720"/>
            <a:ext cx="28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c7789ef720a16d577d30e362a45fa30e"/>
          <p:cNvPicPr/>
          <p:nvPr/>
        </p:nvPicPr>
        <p:blipFill>
          <a:blip r:embed="rId2"/>
          <a:stretch/>
        </p:blipFill>
        <p:spPr>
          <a:xfrm>
            <a:off x="-324000" y="90792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907640" y="2276640"/>
            <a:ext cx="5185080" cy="29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2195640" y="47628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тори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7" descr="j0345852"/>
          <p:cNvPicPr/>
          <p:nvPr/>
        </p:nvPicPr>
        <p:blipFill>
          <a:blip r:embed="rId1"/>
          <a:stretch/>
        </p:blipFill>
        <p:spPr>
          <a:xfrm>
            <a:off x="6588000" y="5229360"/>
            <a:ext cx="2233800" cy="13698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759280" cy="2673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549360"/>
            <a:ext cx="266364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50920" y="3645000"/>
            <a:ext cx="2546640" cy="2882880"/>
            <a:chOff x="250920" y="3645000"/>
            <a:chExt cx="2546640" cy="2882880"/>
          </a:xfrm>
        </p:grpSpPr>
        <p:pic>
          <p:nvPicPr>
            <p:cNvPr id="298" name="Picture 4" descr="mal"/>
            <p:cNvPicPr/>
            <p:nvPr/>
          </p:nvPicPr>
          <p:blipFill>
            <a:blip r:embed="rId1"/>
            <a:stretch/>
          </p:blipFill>
          <p:spPr>
            <a:xfrm>
              <a:off x="1763640" y="5186160"/>
              <a:ext cx="10339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professor01"/>
            <p:cNvPicPr/>
            <p:nvPr/>
          </p:nvPicPr>
          <p:blipFill>
            <a:blip r:embed="rId2"/>
            <a:stretch/>
          </p:blipFill>
          <p:spPr>
            <a:xfrm>
              <a:off x="250920" y="3645000"/>
              <a:ext cx="1656360" cy="280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2916360" y="2017800"/>
            <a:ext cx="6038640" cy="34988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1547640" y="4508640"/>
            <a:ext cx="63374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а  золо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ы меди в 2,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3456000" y="2017800"/>
            <a:ext cx="5688000" cy="2058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ите свои достижения на этом урок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ли у вас получилось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ольны ли вы своими результатам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5" descr="1cc20268d3f08596e8cddf3e92cdf132"/>
          <p:cNvPicPr/>
          <p:nvPr/>
        </p:nvPicPr>
        <p:blipFill>
          <a:blip r:embed="rId1"/>
          <a:stretch/>
        </p:blipFill>
        <p:spPr>
          <a:xfrm>
            <a:off x="3348000" y="4797360"/>
            <a:ext cx="1655640" cy="15890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  21; упражнение 7 №3;4 (определить плотность картофел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311640" cy="24667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0160" cy="6989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8672400" y="62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8672400" y="3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лаборатория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6163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cc"/>
                </a:solidFill>
                <a:latin typeface="Georgia"/>
              </a:rPr>
              <a:t>      </a:t>
            </a: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7200"/>
            </a:b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ан изучения физической величин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иц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ифицирующий призн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отность – это физическая величина, которая равна отношению массы тела к его объем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6048360" cy="27781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8172360" y="6165720"/>
            <a:ext cx="971640" cy="503280"/>
          </a:xfrm>
          <a:custGeom>
            <a:avLst/>
            <a:gdLst>
              <a:gd name="textAreaLeft" fmla="*/ 32400 w 971640"/>
              <a:gd name="textAreaRight" fmla="*/ 939240 w 9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1687" h="21600">
                <a:moveTo>
                  <a:pt x="0" y="0"/>
                </a:moveTo>
                <a:lnTo>
                  <a:pt x="41687" y="0"/>
                </a:lnTo>
                <a:lnTo>
                  <a:pt x="41687" y="21600"/>
                </a:lnTo>
                <a:lnTo>
                  <a:pt x="0" y="21600"/>
                </a:lnTo>
                <a:close/>
              </a:path>
              <a:path fill="lightenLess" w="41687" h="21600">
                <a:moveTo>
                  <a:pt x="0" y="0"/>
                </a:moveTo>
                <a:lnTo>
                  <a:pt x="41687" y="0"/>
                </a:lnTo>
                <a:lnTo>
                  <a:pt x="40287" y="1400"/>
                </a:lnTo>
                <a:lnTo>
                  <a:pt x="1400" y="1400"/>
                </a:lnTo>
                <a:close/>
              </a:path>
              <a:path fill="darken" w="41687" h="21600">
                <a:moveTo>
                  <a:pt x="41687" y="0"/>
                </a:moveTo>
                <a:lnTo>
                  <a:pt x="41687" y="21600"/>
                </a:lnTo>
                <a:lnTo>
                  <a:pt x="40287" y="20200"/>
                </a:lnTo>
                <a:lnTo>
                  <a:pt x="40287" y="1400"/>
                </a:lnTo>
                <a:close/>
              </a:path>
              <a:path fill="darkenLess" w="41687" h="21600">
                <a:moveTo>
                  <a:pt x="4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87" y="20200"/>
                </a:lnTo>
                <a:close/>
              </a:path>
              <a:path fill="lighten" w="4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87" h="21600">
                <a:moveTo>
                  <a:pt x="13837" y="7493"/>
                </a:moveTo>
                <a:lnTo>
                  <a:pt x="17345" y="7493"/>
                </a:lnTo>
                <a:lnTo>
                  <a:pt x="17345" y="12828"/>
                </a:lnTo>
                <a:cubicBezTo>
                  <a:pt x="17345" y="13751"/>
                  <a:pt x="18145" y="14482"/>
                  <a:pt x="19181" y="14482"/>
                </a:cubicBezTo>
                <a:lnTo>
                  <a:pt x="20843" y="14482"/>
                </a:lnTo>
                <a:cubicBezTo>
                  <a:pt x="21879" y="14482"/>
                  <a:pt x="22680" y="13751"/>
                  <a:pt x="22680" y="12828"/>
                </a:cubicBezTo>
                <a:lnTo>
                  <a:pt x="22680" y="7493"/>
                </a:lnTo>
                <a:lnTo>
                  <a:pt x="20843" y="7493"/>
                </a:lnTo>
                <a:lnTo>
                  <a:pt x="24351" y="3985"/>
                </a:lnTo>
                <a:lnTo>
                  <a:pt x="28024" y="7493"/>
                </a:lnTo>
                <a:lnTo>
                  <a:pt x="26188" y="7493"/>
                </a:lnTo>
                <a:lnTo>
                  <a:pt x="26188" y="12828"/>
                </a:lnTo>
                <a:cubicBezTo>
                  <a:pt x="26188" y="15596"/>
                  <a:pt x="23611" y="18155"/>
                  <a:pt x="20843" y="18155"/>
                </a:cubicBezTo>
                <a:lnTo>
                  <a:pt x="19181" y="18155"/>
                </a:lnTo>
                <a:cubicBezTo>
                  <a:pt x="16413" y="18155"/>
                  <a:pt x="13837" y="15596"/>
                  <a:pt x="13837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gas"/>
          <p:cNvPicPr/>
          <p:nvPr/>
        </p:nvPicPr>
        <p:blipFill>
          <a:blip r:embed="rId1"/>
          <a:stretch/>
        </p:blipFill>
        <p:spPr>
          <a:xfrm>
            <a:off x="611280" y="3860640"/>
            <a:ext cx="100944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(греческая буква «ро»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8244000" y="609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7493"/>
                </a:moveTo>
                <a:lnTo>
                  <a:pt x="8671" y="7493"/>
                </a:lnTo>
                <a:lnTo>
                  <a:pt x="8671" y="12828"/>
                </a:lnTo>
                <a:cubicBezTo>
                  <a:pt x="8671" y="13751"/>
                  <a:pt x="9471" y="14482"/>
                  <a:pt x="10507" y="14482"/>
                </a:cubicBezTo>
                <a:lnTo>
                  <a:pt x="12169" y="14482"/>
                </a:lnTo>
                <a:cubicBezTo>
                  <a:pt x="13205" y="14482"/>
                  <a:pt x="14006" y="13751"/>
                  <a:pt x="14006" y="12828"/>
                </a:cubicBezTo>
                <a:lnTo>
                  <a:pt x="14006" y="7493"/>
                </a:lnTo>
                <a:lnTo>
                  <a:pt x="12169" y="7493"/>
                </a:lnTo>
                <a:lnTo>
                  <a:pt x="15677" y="3985"/>
                </a:lnTo>
                <a:lnTo>
                  <a:pt x="19350" y="7493"/>
                </a:lnTo>
                <a:lnTo>
                  <a:pt x="17513" y="7493"/>
                </a:lnTo>
                <a:lnTo>
                  <a:pt x="17513" y="12828"/>
                </a:lnTo>
                <a:cubicBezTo>
                  <a:pt x="17513" y="15596"/>
                  <a:pt x="14937" y="18155"/>
                  <a:pt x="12169" y="18155"/>
                </a:cubicBezTo>
                <a:lnTo>
                  <a:pt x="10507" y="18155"/>
                </a:lnTo>
                <a:cubicBezTo>
                  <a:pt x="7739" y="18155"/>
                  <a:pt x="5163" y="15596"/>
                  <a:pt x="516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j0344853"/>
          <p:cNvPicPr/>
          <p:nvPr/>
        </p:nvPicPr>
        <p:blipFill>
          <a:blip r:embed="rId2"/>
          <a:stretch/>
        </p:blipFill>
        <p:spPr>
          <a:xfrm>
            <a:off x="1619280" y="4508640"/>
            <a:ext cx="1309680" cy="16524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77521E-008 L 1.38889E-006 -0.85291 E">
                                      <p:cBhvr>
                                        <p:cTn id="9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3631 C -0.01302 0.02151 -0.0243 0.07955 0.02014 0.0858 C 0.06476 0.09227 0.24132 0.00879 0.26597 0.00139 C 0.2908 -0.00578 0.18247 0.03561 0.16771 0.04209 E">
                                      <p:cBhvr>
                                        <p:cTn id="9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j0365295"/>
          <p:cNvPicPr/>
          <p:nvPr/>
        </p:nvPicPr>
        <p:blipFill>
          <a:blip r:embed="rId1"/>
          <a:stretch/>
        </p:blipFill>
        <p:spPr>
          <a:xfrm>
            <a:off x="179280" y="3382920"/>
            <a:ext cx="2735280" cy="26161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2700360" y="1341360"/>
            <a:ext cx="4535640" cy="2664000"/>
          </a:xfrm>
          <a:prstGeom prst="wedgeRectCallout">
            <a:avLst>
              <a:gd name="adj1" fmla="val -65574"/>
              <a:gd name="adj2" fmla="val 6656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4032000" cy="230328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7:28:17Z</dcterms:created>
  <dc:creator>олег</dc:creator>
  <dc:description/>
  <dc:language>en-US</dc:language>
  <cp:lastModifiedBy>LEGION</cp:lastModifiedBy>
  <dcterms:modified xsi:type="dcterms:W3CDTF">2015-03-30T08:53:59Z</dcterms:modified>
  <cp:revision>20</cp:revision>
  <dc:subject/>
  <dc:title>Повторим</dc:title>
</cp:coreProperties>
</file>