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1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9.gif" ContentType="image/gif"/>
  <Override PartName="/ppt/media/image12.png" ContentType="image/png"/>
  <Override PartName="/ppt/media/image11.wmf" ContentType="image/x-wmf"/>
  <Override PartName="/ppt/media/image3.png" ContentType="image/png"/>
  <Override PartName="/ppt/media/image26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5.jpeg" ContentType="image/jpeg"/>
  <Override PartName="/ppt/media/image4.png" ContentType="image/png"/>
  <Override PartName="/ppt/media/image2.wmf" ContentType="image/x-wmf"/>
  <Override PartName="/ppt/media/image25.gif" ContentType="image/gif"/>
  <Override PartName="/ppt/media/image17.png" ContentType="image/png"/>
  <Override PartName="/ppt/media/image23.png" ContentType="image/png"/>
  <Override PartName="/ppt/media/image22.gif" ContentType="image/gif"/>
  <Override PartName="/ppt/media/image24.png" ContentType="image/png"/>
  <Override PartName="/ppt/media/image21.gif" ContentType="image/gif"/>
  <Override PartName="/ppt/media/image19.png" ContentType="image/png"/>
  <Override PartName="/ppt/media/image16.gif" ContentType="image/gif"/>
  <Override PartName="/ppt/media/image14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4CA1A-F9E1-4A09-A233-77553B3CFD2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 еще не устал удивлятьс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удесам, что есть на земле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левизору, голосу рации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нтилятору на стол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к по проволоке струится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утник мчится по небесам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ловеку стоит дивитьс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ловеческим чудесам…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5FE96-C43D-4E39-91D1-096B7065A12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ицы изме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ρ = кг/м</a:t>
            </a:r>
            <a:r>
              <a:rPr b="1" lang="ru-RU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C4033-6441-40F3-A49B-CBA2DEC704F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цирующий призна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B7CD0-694F-4D7A-A0C6-EC7E81ED4A9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ы изме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мерить объем, массу тела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числить плотность ве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81E00-9B8D-4271-9E22-90F4B4A7AC7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отность показывает, чему равна масса вещества, взятого в объеме 1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или 1с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железо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V=1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ru-RU" sz="11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m=7800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кг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7EC15-26D2-44BB-A419-43AD20F0502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отность редкого металла осмия равна 22600кг/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Что это означае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B42BA-4EFA-435F-8FA9-4763A0A6DB6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йдите по таблице плотности льда, воды и водяного пар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д  -  900кг/ 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а – 1000кг/ 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яной пар – 0,590кг/ 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D9536-E117-4FE2-8E75-EF976FD0F48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плотность одного и того же вещества в твердом, жидком, и газообразном состояниях различн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C613E-B283-4855-A995-8A31B58CE06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чашках уравновешенных весов лежат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бики. Одинаковы ли плотности веществ, из которых сделаны куби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C2CC2-33D1-4725-96A5-44715842354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AC96E-16EF-4B1D-99FC-E2561912F33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дном из двух одинаковых сосудов налили воду (левый сосуд), в другой раствор серной кислоты равной массы. Какая жидкость имеет большую плотнос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BE4A0-123E-4A3E-966C-F888E4C1FCB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Что такое инертность?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Что такое масса тел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Как можно определить массу тел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Как можно определить объем тел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DB809-CFC6-45E4-B408-31CDBD98263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3A53B-090F-4CBD-A418-70A63D2F20C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рисунке изображены два кубика одинакового объема из золота и меди. У какого из кубиков масса вещества больше  и во сколько раз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1DDAC-7F0E-4922-BD62-7BCF5357132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9D28D-B845-46CE-B8B2-680675371E6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ите свои достижения на этом урок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ли у вас получилось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вольны ли вы своими результатам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велось ли вам в полной мере реализовать свои возможности, применить полученные знания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02AD0-92C8-4ECD-B1D2-F86BA620660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§   21; упражнение 7 №3;4 (определить плотность картофел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8F76C-2E4C-4A97-8EA0-8AEBE17F866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66cc"/>
                </a:solidFill>
                <a:latin typeface="Georgia"/>
              </a:rPr>
              <a:t> </a:t>
            </a:r>
            <a:r>
              <a:rPr b="1" lang="ru-RU" sz="1200" spc="-1" strike="noStrike">
                <a:solidFill>
                  <a:srgbClr val="3333cc"/>
                </a:solidFill>
                <a:latin typeface="Georgia"/>
              </a:rPr>
              <a:t>Плотность</a:t>
            </a:r>
            <a:br>
              <a:rPr sz="1200"/>
            </a:br>
            <a:r>
              <a:rPr b="1" lang="ru-RU" sz="1200" spc="-1" strike="noStrike">
                <a:solidFill>
                  <a:srgbClr val="3333cc"/>
                </a:solidFill>
                <a:latin typeface="Georgia"/>
              </a:rPr>
              <a:t>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94921-C03F-4875-9019-E8BE2628070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изучения физической велич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зна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у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ицы изме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цирующий призна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ы изме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AB2FE-B2A3-480C-AF6F-36FE284A980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отность – это физическая величина, которая равна отношению массы тела к его объем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8C1DE-FC82-465B-8E3D-F74AD935CD1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зна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греческая буква «ро»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ρ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04FDF-CFAB-400B-9F2B-480EAB633B7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у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B9B89-B2A8-4534-B30F-216762874B5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982F-1720-4E2E-AD41-F78DBF652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707F-657C-45FD-815C-1F36A173F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BDD2-45EB-4DCE-9800-35986F422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7A7F-3B2E-4C83-B2F5-7E0BC5E2B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B310F-5A82-4DA1-A66C-B2EEAB2D8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2139B-9E1F-4739-AF63-59BFE954D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88674-C39C-4B72-9253-E22544F89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403FB-A922-418C-8EB0-9C428348D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6EAD6-3EF5-4FA3-BB5A-BDACB493B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EEA8F-07CD-4019-84E1-166524D81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E0379-B076-428C-BC0E-B08932B2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407C-3C55-4144-A1BF-6B0839146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6C3E0-6441-4200-8F56-EF96FEE0B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F5A65-0F2C-4DD2-9E17-0D1F5DE24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A6CE7-B462-4041-9BA3-3C5BF92BB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7BF24-51C3-4D13-AD2B-A72BE1A26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13564-FFA1-4296-95F8-F903EDD8D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09614-9D93-453A-8698-E5824F65F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20008-D53D-436D-A380-C821484BA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1091D-89FE-4268-B5D3-92769A3A2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DBF64-680F-488A-8730-4932C2557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5EB61-5FE8-4272-BA88-1339B5805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469C-36BF-4456-9955-118E3E7E9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41992-81AD-4D12-BEC1-1B3B98B1A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9155F-1514-4F56-B581-4F3EAD5F9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1636F-9CA0-4460-BED2-EA572D8A4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FA1A3-B960-4BAF-85C3-E05DEC4E4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9A8B1-33A5-4AE7-9E56-B6D109A5C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AB742-CD7F-4C9B-B7D5-D2288B7D5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CE84E-46D5-407F-9AAC-AF9AE9A2F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4F0C34-25E6-4C39-8B43-6E552ACEC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328160-35EE-4058-8343-323C8A446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137AD-3A62-4F39-BA81-88798F556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E566-816D-4C78-A9DC-F18E44981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282B1-D6AB-4D11-A73C-BDB72B9F6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C3C2B-4CB8-4409-9F14-1DF407600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03D8C-7DE5-4ACB-8235-6456F343A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007D4-E838-4294-978F-DC7A2645B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0650B-B834-48D8-9DD4-464A0E2C9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D4A4B2-7D4B-416E-B9F0-162E33363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502D0-7288-45C8-AD1C-351A1F2DD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AF5867-8414-434D-8BF9-2C677771D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72DF2-C8B4-41B2-9C90-999B3BE76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C52B-4D8D-4607-83E6-0FC4742CF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9185-DF55-413C-8A5D-21EEC3B06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A8D1-4A26-4BAF-A0DF-B8CB2818B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6F7E-7159-4B71-9B0A-720559670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BECD-F6DA-4066-A08A-B9B32457C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FDC88-ACCC-4431-9681-478408B86DF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D2FEC-006F-4565-AB34-06A7B9F8E0FF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94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1351C-4D58-444C-BFBB-EEDAAE5F922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3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14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14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9A0D9-2585-432F-AE69-9465A6D645F2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6" descr="Winter Leav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71640" y="764640"/>
            <a:ext cx="7627680" cy="504036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imes New Roman"/>
              </a:rPr>
              <a:t>Я еще не устал удивляться</a:t>
            </a: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Times New Roman"/>
              </a:rPr>
              <a:t>Чудесам, что есть на земле,</a:t>
            </a: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Times New Roman"/>
              </a:rPr>
              <a:t>Телевизору, голосу рации,</a:t>
            </a: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Times New Roman"/>
              </a:rPr>
              <a:t>Вентилятору на столе.</a:t>
            </a: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Times New Roman"/>
              </a:rPr>
              <a:t>Ток по проволоке струится,</a:t>
            </a: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Times New Roman"/>
              </a:rPr>
              <a:t>Спутник мчится по небесам.</a:t>
            </a: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Times New Roman"/>
              </a:rPr>
              <a:t>Человеку стоит дивиться</a:t>
            </a: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Times New Roman"/>
              </a:rPr>
              <a:t>Человеческим чудесам…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TextBox 3"/>
          <p:cNvSpPr/>
          <p:nvPr/>
        </p:nvSpPr>
        <p:spPr>
          <a:xfrm>
            <a:off x="1168200" y="6143760"/>
            <a:ext cx="7293240" cy="368280"/>
          </a:xfrm>
          <a:prstGeom prst="rect">
            <a:avLst/>
          </a:prstGeom>
          <a:solidFill>
            <a:srgbClr val="fedf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Верхне – Кубинская сош» Ольчикова Людмила Михайл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Единицы измерен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6600" spc="-1" strike="noStrike">
                <a:solidFill>
                  <a:srgbClr val="000000"/>
                </a:solidFill>
                <a:latin typeface="Tahoma"/>
              </a:rPr>
              <a:t>ρ = кг/м</a:t>
            </a:r>
            <a:r>
              <a:rPr b="1" lang="ru-RU" sz="66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AutoShape 6"/>
          <p:cNvSpPr/>
          <p:nvPr/>
        </p:nvSpPr>
        <p:spPr>
          <a:xfrm>
            <a:off x="2195640" y="3716280"/>
            <a:ext cx="936360" cy="11527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7"/>
          <p:cNvSpPr/>
          <p:nvPr/>
        </p:nvSpPr>
        <p:spPr>
          <a:xfrm>
            <a:off x="2195640" y="2205000"/>
            <a:ext cx="1008000" cy="11527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3"/>
          <p:cNvSpPr/>
          <p:nvPr/>
        </p:nvSpPr>
        <p:spPr>
          <a:xfrm>
            <a:off x="2268360" y="3573360"/>
            <a:ext cx="5683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ρ  = г/см</a:t>
            </a:r>
            <a:r>
              <a:rPr b="1" lang="ru-RU" sz="6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14"/>
          <p:cNvSpPr/>
          <p:nvPr/>
        </p:nvSpPr>
        <p:spPr>
          <a:xfrm>
            <a:off x="8459640" y="6381720"/>
            <a:ext cx="684360" cy="476280"/>
          </a:xfrm>
          <a:custGeom>
            <a:avLst/>
            <a:gdLst>
              <a:gd name="textAreaLeft" fmla="*/ 30600 w 684360"/>
              <a:gd name="textAreaRight" fmla="*/ 653760 w 6843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1030" h="21600">
                <a:moveTo>
                  <a:pt x="0" y="0"/>
                </a:moveTo>
                <a:lnTo>
                  <a:pt x="31030" y="0"/>
                </a:lnTo>
                <a:lnTo>
                  <a:pt x="31030" y="21600"/>
                </a:lnTo>
                <a:lnTo>
                  <a:pt x="0" y="21600"/>
                </a:lnTo>
                <a:close/>
              </a:path>
              <a:path fill="lightenLess" w="31030" h="21600">
                <a:moveTo>
                  <a:pt x="0" y="0"/>
                </a:moveTo>
                <a:lnTo>
                  <a:pt x="31030" y="0"/>
                </a:lnTo>
                <a:lnTo>
                  <a:pt x="29630" y="1400"/>
                </a:lnTo>
                <a:lnTo>
                  <a:pt x="1400" y="1400"/>
                </a:lnTo>
                <a:close/>
              </a:path>
              <a:path fill="darken" w="31030" h="21600">
                <a:moveTo>
                  <a:pt x="31030" y="0"/>
                </a:moveTo>
                <a:lnTo>
                  <a:pt x="31030" y="21600"/>
                </a:lnTo>
                <a:lnTo>
                  <a:pt x="29630" y="20200"/>
                </a:lnTo>
                <a:lnTo>
                  <a:pt x="29630" y="1400"/>
                </a:lnTo>
                <a:close/>
              </a:path>
              <a:path fill="darkenLess" w="31030" h="21600">
                <a:moveTo>
                  <a:pt x="310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630" y="20200"/>
                </a:lnTo>
                <a:close/>
              </a:path>
              <a:path fill="lighten" w="310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030" h="21600">
                <a:moveTo>
                  <a:pt x="8508" y="7493"/>
                </a:moveTo>
                <a:lnTo>
                  <a:pt x="12016" y="7493"/>
                </a:lnTo>
                <a:lnTo>
                  <a:pt x="12016" y="12828"/>
                </a:lnTo>
                <a:cubicBezTo>
                  <a:pt x="12016" y="13751"/>
                  <a:pt x="12817" y="14482"/>
                  <a:pt x="13852" y="14482"/>
                </a:cubicBezTo>
                <a:lnTo>
                  <a:pt x="15515" y="14482"/>
                </a:lnTo>
                <a:cubicBezTo>
                  <a:pt x="16551" y="14482"/>
                  <a:pt x="17351" y="13751"/>
                  <a:pt x="17351" y="12828"/>
                </a:cubicBezTo>
                <a:lnTo>
                  <a:pt x="17351" y="7493"/>
                </a:lnTo>
                <a:lnTo>
                  <a:pt x="15515" y="7493"/>
                </a:lnTo>
                <a:lnTo>
                  <a:pt x="19022" y="3985"/>
                </a:lnTo>
                <a:lnTo>
                  <a:pt x="22695" y="7493"/>
                </a:lnTo>
                <a:lnTo>
                  <a:pt x="20859" y="7493"/>
                </a:lnTo>
                <a:lnTo>
                  <a:pt x="20859" y="12828"/>
                </a:lnTo>
                <a:cubicBezTo>
                  <a:pt x="20859" y="15596"/>
                  <a:pt x="18283" y="18155"/>
                  <a:pt x="15515" y="18155"/>
                </a:cubicBezTo>
                <a:lnTo>
                  <a:pt x="13852" y="18155"/>
                </a:lnTo>
                <a:cubicBezTo>
                  <a:pt x="11085" y="18155"/>
                  <a:pt x="8508" y="15596"/>
                  <a:pt x="8508" y="12828"/>
                </a:cubicBez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Классифицирующий признак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4" name="AutoShape 4"/>
          <p:cNvSpPr/>
          <p:nvPr/>
        </p:nvSpPr>
        <p:spPr>
          <a:xfrm>
            <a:off x="8604360" y="630864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3794" y="7687"/>
                </a:moveTo>
                <a:lnTo>
                  <a:pt x="7301" y="7687"/>
                </a:lnTo>
                <a:lnTo>
                  <a:pt x="7301" y="13022"/>
                </a:lnTo>
                <a:cubicBezTo>
                  <a:pt x="7301" y="13945"/>
                  <a:pt x="8102" y="14676"/>
                  <a:pt x="9138" y="14676"/>
                </a:cubicBezTo>
                <a:lnTo>
                  <a:pt x="10800" y="14676"/>
                </a:lnTo>
                <a:cubicBezTo>
                  <a:pt x="11836" y="14676"/>
                  <a:pt x="12636" y="13945"/>
                  <a:pt x="12636" y="13022"/>
                </a:cubicBezTo>
                <a:lnTo>
                  <a:pt x="12636" y="7687"/>
                </a:lnTo>
                <a:lnTo>
                  <a:pt x="10800" y="7687"/>
                </a:lnTo>
                <a:lnTo>
                  <a:pt x="14308" y="4179"/>
                </a:lnTo>
                <a:lnTo>
                  <a:pt x="17981" y="7687"/>
                </a:lnTo>
                <a:lnTo>
                  <a:pt x="16144" y="7687"/>
                </a:lnTo>
                <a:lnTo>
                  <a:pt x="16144" y="13022"/>
                </a:lnTo>
                <a:cubicBezTo>
                  <a:pt x="16144" y="15790"/>
                  <a:pt x="13568" y="18349"/>
                  <a:pt x="10800" y="18349"/>
                </a:cubicBezTo>
                <a:lnTo>
                  <a:pt x="9138" y="18349"/>
                </a:lnTo>
                <a:cubicBezTo>
                  <a:pt x="6370" y="18349"/>
                  <a:pt x="3794" y="15790"/>
                  <a:pt x="3794" y="13022"/>
                </a:cubicBez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5" descr="j0349131"/>
          <p:cNvPicPr/>
          <p:nvPr/>
        </p:nvPicPr>
        <p:blipFill>
          <a:blip r:embed="rId1"/>
          <a:stretch/>
        </p:blipFill>
        <p:spPr>
          <a:xfrm>
            <a:off x="5435640" y="1773360"/>
            <a:ext cx="2838240" cy="398592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46" name="AutoShape 6"/>
          <p:cNvSpPr/>
          <p:nvPr/>
        </p:nvSpPr>
        <p:spPr>
          <a:xfrm rot="16200000">
            <a:off x="913680" y="1613520"/>
            <a:ext cx="3066840" cy="4392360"/>
          </a:xfrm>
          <a:prstGeom prst="wedgeEllipseCallout">
            <a:avLst>
              <a:gd name="adj1" fmla="val 8953"/>
              <a:gd name="adj2" fmla="val 80175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аляр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тоянная для данного вещ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9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Способы измерения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9" name="AutoShape 5"/>
          <p:cNvSpPr/>
          <p:nvPr/>
        </p:nvSpPr>
        <p:spPr>
          <a:xfrm>
            <a:off x="6227640" y="2133720"/>
            <a:ext cx="1257480" cy="12571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6"/>
          <p:cNvSpPr/>
          <p:nvPr/>
        </p:nvSpPr>
        <p:spPr>
          <a:xfrm>
            <a:off x="5940360" y="2781360"/>
            <a:ext cx="1429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6443640" y="3429000"/>
            <a:ext cx="36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8"/>
          <p:cNvSpPr/>
          <p:nvPr/>
        </p:nvSpPr>
        <p:spPr>
          <a:xfrm>
            <a:off x="7381800" y="3213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9" descr=""/>
          <p:cNvPicPr/>
          <p:nvPr/>
        </p:nvPicPr>
        <p:blipFill>
          <a:blip r:embed="rId1"/>
          <a:stretch/>
        </p:blipFill>
        <p:spPr>
          <a:xfrm>
            <a:off x="3564000" y="2205000"/>
            <a:ext cx="792000" cy="14400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0" descr=""/>
          <p:cNvPicPr/>
          <p:nvPr/>
        </p:nvPicPr>
        <p:blipFill>
          <a:blip r:embed="rId2"/>
          <a:stretch/>
        </p:blipFill>
        <p:spPr>
          <a:xfrm>
            <a:off x="4500720" y="2060640"/>
            <a:ext cx="896760" cy="15825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1" descr="Весы школьные двучашечные с разновесами"/>
          <p:cNvPicPr/>
          <p:nvPr/>
        </p:nvPicPr>
        <p:blipFill>
          <a:blip r:embed="rId3"/>
          <a:stretch/>
        </p:blipFill>
        <p:spPr>
          <a:xfrm>
            <a:off x="900000" y="2060640"/>
            <a:ext cx="2016360" cy="180000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12"/>
          <p:cNvSpPr/>
          <p:nvPr/>
        </p:nvSpPr>
        <p:spPr>
          <a:xfrm flipV="1" rot="10800000">
            <a:off x="826920" y="4149720"/>
            <a:ext cx="7848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змерить объем, массу тела 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ычислить плотность вещест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403280" y="214200"/>
            <a:ext cx="754056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лотность показывает, чему равна масса вещества, взятого в объеме 1м</a:t>
            </a:r>
            <a:r>
              <a:rPr b="0" lang="ru-RU" sz="3200" spc="-1" strike="noStrike" baseline="30000">
                <a:solidFill>
                  <a:srgbClr val="333399"/>
                </a:solidFill>
                <a:latin typeface="Tahoma"/>
              </a:rPr>
              <a:t>3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 (или 1см</a:t>
            </a:r>
            <a:r>
              <a:rPr b="0" lang="ru-RU" sz="3200" spc="-1" strike="noStrike" baseline="30000">
                <a:solidFill>
                  <a:srgbClr val="333399"/>
                </a:solidFill>
                <a:latin typeface="Tahoma"/>
              </a:rPr>
              <a:t>3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115640" y="3223800"/>
            <a:ext cx="2669040" cy="2187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желез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=1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=7800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г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AutoShape 5"/>
          <p:cNvSpPr/>
          <p:nvPr/>
        </p:nvSpPr>
        <p:spPr>
          <a:xfrm>
            <a:off x="4932360" y="2276640"/>
            <a:ext cx="2882880" cy="3600360"/>
          </a:xfrm>
          <a:prstGeom prst="can">
            <a:avLst>
              <a:gd name="adj" fmla="val 25000"/>
            </a:avLst>
          </a:prstGeom>
          <a:solidFill>
            <a:srgbClr val="6666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вине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=1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baseline="30000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ahoma"/>
              </a:rPr>
              <a:t>m=11300</a:t>
            </a:r>
            <a:r>
              <a:rPr b="0" lang="ru-RU" sz="4000" spc="-1" strike="noStrike" baseline="30000">
                <a:solidFill>
                  <a:srgbClr val="000000"/>
                </a:solidFill>
                <a:latin typeface="Tahoma"/>
              </a:rPr>
              <a:t>к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2205000"/>
            <a:ext cx="7792920" cy="20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Плотность редкого металла осмия равна 22600кг/м</a:t>
            </a:r>
            <a:r>
              <a:rPr b="0" lang="ru-RU" sz="4000" spc="-1" strike="noStrike" baseline="30000">
                <a:solidFill>
                  <a:srgbClr val="333399"/>
                </a:solidFill>
                <a:latin typeface="Tahoma"/>
              </a:rPr>
              <a:t>3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. Что это означает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63" name="Picture 3" descr="c7789ef720a16d577d30e362a45fa30e"/>
          <p:cNvPicPr/>
          <p:nvPr/>
        </p:nvPicPr>
        <p:blipFill>
          <a:blip r:embed="rId1"/>
          <a:stretch/>
        </p:blipFill>
        <p:spPr>
          <a:xfrm>
            <a:off x="0" y="404640"/>
            <a:ext cx="2664000" cy="1825920"/>
          </a:xfrm>
          <a:prstGeom prst="rect">
            <a:avLst/>
          </a:prstGeom>
          <a:ln w="0">
            <a:noFill/>
          </a:ln>
        </p:spPr>
      </p:pic>
      <p:sp>
        <p:nvSpPr>
          <p:cNvPr id="26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Найдите по таблице плотности льда, воды и водяного пара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0429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Лед  -  900кг/ 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ода – 1000кг/ 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одяной пар – 0,590кг/ 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324000" y="2637000"/>
            <a:ext cx="158400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cc"/>
                </a:solidFill>
                <a:latin typeface="Tahoma"/>
              </a:rPr>
              <a:t>Н</a:t>
            </a:r>
            <a:r>
              <a:rPr b="1" lang="ru-RU" sz="6600" spc="-1" strike="noStrike" baseline="-25000">
                <a:solidFill>
                  <a:srgbClr val="3333cc"/>
                </a:solidFill>
                <a:latin typeface="Tahoma"/>
              </a:rPr>
              <a:t>2</a:t>
            </a:r>
            <a:r>
              <a:rPr b="1" lang="ru-RU" sz="6600" spc="-1" strike="noStrike">
                <a:solidFill>
                  <a:srgbClr val="3333cc"/>
                </a:solidFill>
                <a:latin typeface="Tahoma"/>
              </a:rPr>
              <a:t>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5" descr="63e88de767d6637a447f6d35f1be6d75"/>
          <p:cNvPicPr/>
          <p:nvPr/>
        </p:nvPicPr>
        <p:blipFill>
          <a:blip r:embed="rId1"/>
          <a:stretch/>
        </p:blipFill>
        <p:spPr>
          <a:xfrm>
            <a:off x="-181080" y="620640"/>
            <a:ext cx="1440000" cy="1438200"/>
          </a:xfrm>
          <a:prstGeom prst="rect">
            <a:avLst/>
          </a:prstGeom>
          <a:ln w="0">
            <a:noFill/>
          </a:ln>
        </p:spPr>
      </p:pic>
      <p:sp>
        <p:nvSpPr>
          <p:cNvPr id="26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34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Почему плотность одного и того же вещества в твердом, жидком, и газообразном состояниях различна?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2" name="Picture 4" descr="0200301"/>
          <p:cNvPicPr/>
          <p:nvPr/>
        </p:nvPicPr>
        <p:blipFill>
          <a:blip r:embed="rId1"/>
          <a:stretch/>
        </p:blipFill>
        <p:spPr>
          <a:xfrm>
            <a:off x="0" y="1455840"/>
            <a:ext cx="9144000" cy="5141880"/>
          </a:xfrm>
          <a:prstGeom prst="rect">
            <a:avLst/>
          </a:prstGeom>
          <a:ln w="0">
            <a:noFill/>
          </a:ln>
        </p:spPr>
      </p:pic>
      <p:sp>
        <p:nvSpPr>
          <p:cNvPr id="273" name="Rectangle 5"/>
          <p:cNvSpPr/>
          <p:nvPr/>
        </p:nvSpPr>
        <p:spPr>
          <a:xfrm>
            <a:off x="6957720" y="5587920"/>
            <a:ext cx="137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900кг/м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6"/>
          <p:cNvSpPr/>
          <p:nvPr/>
        </p:nvSpPr>
        <p:spPr>
          <a:xfrm>
            <a:off x="3635280" y="5587920"/>
            <a:ext cx="17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00кг/м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7"/>
          <p:cNvSpPr/>
          <p:nvPr/>
        </p:nvSpPr>
        <p:spPr>
          <a:xfrm>
            <a:off x="611280" y="5589720"/>
            <a:ext cx="186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,590кг/м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9"/>
          <p:cNvSpPr/>
          <p:nvPr/>
        </p:nvSpPr>
        <p:spPr>
          <a:xfrm>
            <a:off x="179280" y="404640"/>
            <a:ext cx="93672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Н</a:t>
            </a:r>
            <a:r>
              <a:rPr b="1" lang="ru-RU" sz="4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3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47280" y="214200"/>
            <a:ext cx="73962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На чашках уравновешенных весов лежат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кубики. Одинаковы ли плотности веществ, из которых сделаны кубики?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79" name="Picture 3" descr=""/>
          <p:cNvPicPr/>
          <p:nvPr/>
        </p:nvPicPr>
        <p:blipFill>
          <a:blip r:embed="rId1"/>
          <a:stretch/>
        </p:blipFill>
        <p:spPr>
          <a:xfrm>
            <a:off x="1547640" y="2133720"/>
            <a:ext cx="7596360" cy="40320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4" descr="c7789ef720a16d577d30e362a45fa30e"/>
          <p:cNvPicPr/>
          <p:nvPr/>
        </p:nvPicPr>
        <p:blipFill>
          <a:blip r:embed="rId2"/>
          <a:stretch/>
        </p:blipFill>
        <p:spPr>
          <a:xfrm>
            <a:off x="-252360" y="765000"/>
            <a:ext cx="2663640" cy="1825920"/>
          </a:xfrm>
          <a:prstGeom prst="rect">
            <a:avLst/>
          </a:prstGeom>
          <a:ln w="0">
            <a:noFill/>
          </a:ln>
        </p:spPr>
      </p:pic>
      <p:sp>
        <p:nvSpPr>
          <p:cNvPr id="28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        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Ответ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2124000" y="2708280"/>
            <a:ext cx="5688000" cy="28306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4" descr="c7789ef720a16d577d30e362a45fa30e"/>
          <p:cNvPicPr/>
          <p:nvPr/>
        </p:nvPicPr>
        <p:blipFill>
          <a:blip r:embed="rId2"/>
          <a:stretch/>
        </p:blipFill>
        <p:spPr>
          <a:xfrm>
            <a:off x="0" y="549360"/>
            <a:ext cx="2664000" cy="1825560"/>
          </a:xfrm>
          <a:prstGeom prst="rect">
            <a:avLst/>
          </a:prstGeom>
          <a:ln w="0">
            <a:noFill/>
          </a:ln>
        </p:spPr>
      </p:pic>
      <p:sp>
        <p:nvSpPr>
          <p:cNvPr id="28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03280" y="214200"/>
            <a:ext cx="7540560" cy="170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В одном из двух одинаковых сосудов налили воду (левый сосуд), в другой раствор серной кислоты равной массы. Какая жидкость имеет большую плотность?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87" name="Picture 3" descr=""/>
          <p:cNvPicPr/>
          <p:nvPr/>
        </p:nvPicPr>
        <p:blipFill>
          <a:blip r:embed="rId1"/>
          <a:stretch/>
        </p:blipFill>
        <p:spPr>
          <a:xfrm>
            <a:off x="1116000" y="1989000"/>
            <a:ext cx="8028000" cy="460872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5"/>
          <p:cNvSpPr/>
          <p:nvPr/>
        </p:nvSpPr>
        <p:spPr>
          <a:xfrm>
            <a:off x="1619280" y="5229360"/>
            <a:ext cx="244800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6"/>
          <p:cNvSpPr/>
          <p:nvPr/>
        </p:nvSpPr>
        <p:spPr>
          <a:xfrm>
            <a:off x="4140360" y="5157720"/>
            <a:ext cx="280800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ерная кисл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8" descr="c7789ef720a16d577d30e362a45fa30e"/>
          <p:cNvPicPr/>
          <p:nvPr/>
        </p:nvPicPr>
        <p:blipFill>
          <a:blip r:embed="rId2"/>
          <a:stretch/>
        </p:blipFill>
        <p:spPr>
          <a:xfrm>
            <a:off x="-324000" y="907920"/>
            <a:ext cx="2664000" cy="1825920"/>
          </a:xfrm>
          <a:prstGeom prst="rect">
            <a:avLst/>
          </a:prstGeom>
          <a:ln w="0">
            <a:noFill/>
          </a:ln>
        </p:spPr>
      </p:pic>
      <p:sp>
        <p:nvSpPr>
          <p:cNvPr id="29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1907640" y="2276640"/>
            <a:ext cx="5185080" cy="29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Что такое инертность?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Что такое масса тела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Как можно определить массу тела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Как можно определить объем тела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WordArt 6"/>
          <p:cNvSpPr txBox="1"/>
          <p:nvPr/>
        </p:nvSpPr>
        <p:spPr>
          <a:xfrm>
            <a:off x="2195640" y="476280"/>
            <a:ext cx="4608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овторим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2" name="Picture 7" descr="j0345852"/>
          <p:cNvPicPr/>
          <p:nvPr/>
        </p:nvPicPr>
        <p:blipFill>
          <a:blip r:embed="rId1"/>
          <a:stretch/>
        </p:blipFill>
        <p:spPr>
          <a:xfrm>
            <a:off x="6588000" y="5229360"/>
            <a:ext cx="2233800" cy="1369800"/>
          </a:xfrm>
          <a:prstGeom prst="rect">
            <a:avLst/>
          </a:prstGeom>
          <a:ln w="0">
            <a:noFill/>
          </a:ln>
        </p:spPr>
      </p:pic>
      <p:sp>
        <p:nvSpPr>
          <p:cNvPr id="203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     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Ответ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93" name="Picture 2" descr=""/>
          <p:cNvPicPr/>
          <p:nvPr/>
        </p:nvPicPr>
        <p:blipFill>
          <a:blip r:embed="rId1"/>
          <a:stretch/>
        </p:blipFill>
        <p:spPr>
          <a:xfrm>
            <a:off x="1692360" y="2492280"/>
            <a:ext cx="5759280" cy="267336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c7789ef720a16d577d30e362a45fa30e"/>
          <p:cNvPicPr/>
          <p:nvPr/>
        </p:nvPicPr>
        <p:blipFill>
          <a:blip r:embed="rId2"/>
          <a:stretch/>
        </p:blipFill>
        <p:spPr>
          <a:xfrm>
            <a:off x="-252360" y="549360"/>
            <a:ext cx="2663640" cy="1825560"/>
          </a:xfrm>
          <a:prstGeom prst="rect">
            <a:avLst/>
          </a:prstGeom>
          <a:ln w="0">
            <a:noFill/>
          </a:ln>
        </p:spPr>
      </p:pic>
      <p:sp>
        <p:nvSpPr>
          <p:cNvPr id="29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63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На рисунке изображены два кубика одинакового объема из золота и меди. У какого из кубиков масса вещества больше  и во сколько раз?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97" name="Group 3"/>
          <p:cNvGrpSpPr/>
          <p:nvPr/>
        </p:nvGrpSpPr>
        <p:grpSpPr>
          <a:xfrm>
            <a:off x="250920" y="3645000"/>
            <a:ext cx="2546640" cy="2882880"/>
            <a:chOff x="250920" y="3645000"/>
            <a:chExt cx="2546640" cy="2882880"/>
          </a:xfrm>
        </p:grpSpPr>
        <p:pic>
          <p:nvPicPr>
            <p:cNvPr id="298" name="Picture 4" descr="mal"/>
            <p:cNvPicPr/>
            <p:nvPr/>
          </p:nvPicPr>
          <p:blipFill>
            <a:blip r:embed="rId1"/>
            <a:stretch/>
          </p:blipFill>
          <p:spPr>
            <a:xfrm>
              <a:off x="1763640" y="5186160"/>
              <a:ext cx="1033920" cy="134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5" descr="professor01"/>
            <p:cNvPicPr/>
            <p:nvPr/>
          </p:nvPicPr>
          <p:blipFill>
            <a:blip r:embed="rId2"/>
            <a:stretch/>
          </p:blipFill>
          <p:spPr>
            <a:xfrm>
              <a:off x="250920" y="3645000"/>
              <a:ext cx="1656360" cy="2801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00" name="Picture 6" descr=""/>
          <p:cNvPicPr/>
          <p:nvPr/>
        </p:nvPicPr>
        <p:blipFill>
          <a:blip r:embed="rId3"/>
          <a:stretch/>
        </p:blipFill>
        <p:spPr>
          <a:xfrm>
            <a:off x="2916360" y="2017800"/>
            <a:ext cx="6038640" cy="3498840"/>
          </a:xfrm>
          <a:prstGeom prst="rect">
            <a:avLst/>
          </a:prstGeom>
          <a:ln w="0">
            <a:noFill/>
          </a:ln>
        </p:spPr>
      </p:pic>
      <p:sp>
        <p:nvSpPr>
          <p:cNvPr id="30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"/>
          <p:cNvSpPr/>
          <p:nvPr/>
        </p:nvSpPr>
        <p:spPr>
          <a:xfrm>
            <a:off x="1547640" y="4508640"/>
            <a:ext cx="633744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Масса  золота больш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массы меди в 2,2 ра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      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Ответ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04" name="Picture 3" descr=""/>
          <p:cNvPicPr/>
          <p:nvPr/>
        </p:nvPicPr>
        <p:blipFill>
          <a:blip r:embed="rId1"/>
          <a:stretch/>
        </p:blipFill>
        <p:spPr>
          <a:xfrm>
            <a:off x="3456000" y="2017800"/>
            <a:ext cx="5688000" cy="2058840"/>
          </a:xfrm>
          <a:prstGeom prst="rect">
            <a:avLst/>
          </a:prstGeom>
          <a:ln w="0">
            <a:noFill/>
          </a:ln>
        </p:spPr>
      </p:pic>
      <p:sp>
        <p:nvSpPr>
          <p:cNvPr id="30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820000" cy="83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Оцените свои достижения на этом уроке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50920" y="2205000"/>
            <a:ext cx="870408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се ли у вас получилось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овольны ли вы своими результатами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овелось ли вам в полной мере реализовать свои возможности, применить полученные знания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8" name="Picture 5" descr="1cc20268d3f08596e8cddf3e92cdf132"/>
          <p:cNvPicPr/>
          <p:nvPr/>
        </p:nvPicPr>
        <p:blipFill>
          <a:blip r:embed="rId1"/>
          <a:stretch/>
        </p:blipFill>
        <p:spPr>
          <a:xfrm>
            <a:off x="3348000" y="4797360"/>
            <a:ext cx="1655640" cy="1589040"/>
          </a:xfrm>
          <a:prstGeom prst="rect">
            <a:avLst/>
          </a:prstGeom>
          <a:ln w="0">
            <a:noFill/>
          </a:ln>
        </p:spPr>
      </p:pic>
      <p:sp>
        <p:nvSpPr>
          <p:cNvPr id="30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619280" y="214200"/>
            <a:ext cx="7324560" cy="98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Домашнее задание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71280" y="2017800"/>
            <a:ext cx="7272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§   21; упражнение 7 №3;4 (определить плотность картофеля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2" name="Picture 4" descr=""/>
          <p:cNvPicPr/>
          <p:nvPr/>
        </p:nvPicPr>
        <p:blipFill>
          <a:blip r:embed="rId1"/>
          <a:stretch/>
        </p:blipFill>
        <p:spPr>
          <a:xfrm>
            <a:off x="2484360" y="3357720"/>
            <a:ext cx="3311640" cy="2466720"/>
          </a:xfrm>
          <a:prstGeom prst="rect">
            <a:avLst/>
          </a:prstGeom>
          <a:ln w="0">
            <a:noFill/>
          </a:ln>
        </p:spPr>
      </p:pic>
      <p:sp>
        <p:nvSpPr>
          <p:cNvPr id="31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05" name="Picture 3" descr=""/>
          <p:cNvPicPr/>
          <p:nvPr/>
        </p:nvPicPr>
        <p:blipFill>
          <a:blip r:embed="rId1"/>
          <a:stretch/>
        </p:blipFill>
        <p:spPr>
          <a:xfrm>
            <a:off x="-181080" y="0"/>
            <a:ext cx="9560160" cy="69897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4"/>
          <p:cNvSpPr/>
          <p:nvPr/>
        </p:nvSpPr>
        <p:spPr>
          <a:xfrm>
            <a:off x="8672400" y="620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0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4"/>
          <p:cNvSpPr/>
          <p:nvPr/>
        </p:nvSpPr>
        <p:spPr>
          <a:xfrm>
            <a:off x="8672400" y="316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лаборатория"/>
          <p:cNvPicPr/>
          <p:nvPr/>
        </p:nvPicPr>
        <p:blipFill>
          <a:blip r:embed="rId1"/>
          <a:stretch/>
        </p:blipFill>
        <p:spPr>
          <a:xfrm>
            <a:off x="-252360" y="0"/>
            <a:ext cx="957744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692000" y="404640"/>
            <a:ext cx="5616360" cy="23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cc"/>
                </a:solidFill>
                <a:latin typeface="Georgia"/>
              </a:rPr>
              <a:t>      </a:t>
            </a:r>
            <a:r>
              <a:rPr b="1" lang="ru-RU" sz="7200" spc="-1" strike="noStrike">
                <a:solidFill>
                  <a:srgbClr val="3333cc"/>
                </a:solidFill>
                <a:latin typeface="Georgia"/>
              </a:rPr>
              <a:t>Плотность</a:t>
            </a:r>
            <a:br>
              <a:rPr sz="7200"/>
            </a:br>
            <a:r>
              <a:rPr b="1" lang="ru-RU" sz="7200" spc="-1" strike="noStrike">
                <a:solidFill>
                  <a:srgbClr val="3333cc"/>
                </a:solidFill>
                <a:latin typeface="Georgia"/>
              </a:rPr>
              <a:t> вещества</a:t>
            </a:r>
            <a:endParaRPr b="0" lang="en-US" sz="7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71280" y="259920"/>
            <a:ext cx="817236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лан изучения физической величины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1600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пределен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бозначен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Формул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диницы измер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лассифицирующий призна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пособы измер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AutoShape 5"/>
          <p:cNvSpPr/>
          <p:nvPr/>
        </p:nvSpPr>
        <p:spPr>
          <a:xfrm>
            <a:off x="8459640" y="6093000"/>
            <a:ext cx="505080" cy="576000"/>
          </a:xfrm>
          <a:custGeom>
            <a:avLst/>
            <a:gdLst>
              <a:gd name="textAreaLeft" fmla="*/ 32760 w 505080"/>
              <a:gd name="textAreaRight" fmla="*/ 472680 w 505080"/>
              <a:gd name="textAreaTop" fmla="*/ 32400 h 576000"/>
              <a:gd name="textAreaBottom" fmla="*/ 543600 h 576000"/>
            </a:gdLst>
            <a:ahLst/>
            <a:rect l="textAreaLeft" t="textAreaTop" r="textAreaRight" b="textAreaBottom"/>
            <a:pathLst>
              <a:path w="21600" h="24631">
                <a:moveTo>
                  <a:pt x="0" y="0"/>
                </a:moveTo>
                <a:lnTo>
                  <a:pt x="21600" y="0"/>
                </a:lnTo>
                <a:lnTo>
                  <a:pt x="21600" y="24631"/>
                </a:lnTo>
                <a:lnTo>
                  <a:pt x="0" y="24631"/>
                </a:lnTo>
                <a:close/>
              </a:path>
              <a:path fill="lightenLess" w="21600" h="24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31">
                <a:moveTo>
                  <a:pt x="21600" y="0"/>
                </a:moveTo>
                <a:lnTo>
                  <a:pt x="21600" y="24631"/>
                </a:lnTo>
                <a:lnTo>
                  <a:pt x="20200" y="23231"/>
                </a:lnTo>
                <a:lnTo>
                  <a:pt x="20200" y="1400"/>
                </a:lnTo>
                <a:close/>
              </a:path>
              <a:path fill="darkenLess" w="21600" h="24631">
                <a:moveTo>
                  <a:pt x="21600" y="24631"/>
                </a:moveTo>
                <a:lnTo>
                  <a:pt x="0" y="24631"/>
                </a:lnTo>
                <a:lnTo>
                  <a:pt x="1400" y="23231"/>
                </a:lnTo>
                <a:lnTo>
                  <a:pt x="20200" y="23231"/>
                </a:lnTo>
                <a:close/>
              </a:path>
              <a:path fill="lighten" w="21600" h="24631">
                <a:moveTo>
                  <a:pt x="0" y="24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31"/>
                </a:lnTo>
                <a:close/>
              </a:path>
              <a:path fill="darken" w="21600" h="24631">
                <a:moveTo>
                  <a:pt x="3794" y="9008"/>
                </a:moveTo>
                <a:lnTo>
                  <a:pt x="7301" y="9008"/>
                </a:lnTo>
                <a:lnTo>
                  <a:pt x="7301" y="14343"/>
                </a:lnTo>
                <a:cubicBezTo>
                  <a:pt x="7301" y="15266"/>
                  <a:pt x="8102" y="15997"/>
                  <a:pt x="9138" y="15997"/>
                </a:cubicBezTo>
                <a:lnTo>
                  <a:pt x="10800" y="15997"/>
                </a:lnTo>
                <a:cubicBezTo>
                  <a:pt x="11836" y="15997"/>
                  <a:pt x="12636" y="15266"/>
                  <a:pt x="12636" y="14343"/>
                </a:cubicBezTo>
                <a:lnTo>
                  <a:pt x="12636" y="9008"/>
                </a:lnTo>
                <a:lnTo>
                  <a:pt x="10800" y="9008"/>
                </a:lnTo>
                <a:lnTo>
                  <a:pt x="14308" y="5500"/>
                </a:lnTo>
                <a:lnTo>
                  <a:pt x="17981" y="9008"/>
                </a:lnTo>
                <a:lnTo>
                  <a:pt x="16144" y="9008"/>
                </a:lnTo>
                <a:lnTo>
                  <a:pt x="16144" y="14343"/>
                </a:lnTo>
                <a:cubicBezTo>
                  <a:pt x="16144" y="17111"/>
                  <a:pt x="13568" y="19670"/>
                  <a:pt x="10800" y="19670"/>
                </a:cubicBezTo>
                <a:lnTo>
                  <a:pt x="9138" y="19670"/>
                </a:lnTo>
                <a:cubicBezTo>
                  <a:pt x="6370" y="19670"/>
                  <a:pt x="3794" y="17111"/>
                  <a:pt x="3794" y="14343"/>
                </a:cubicBez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Определе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1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лотность – это физическая величина, которая равна отношению массы тела к его объему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Picture 4" descr=""/>
          <p:cNvPicPr/>
          <p:nvPr/>
        </p:nvPicPr>
        <p:blipFill>
          <a:blip r:embed="rId1"/>
          <a:stretch/>
        </p:blipFill>
        <p:spPr>
          <a:xfrm>
            <a:off x="1619280" y="3500280"/>
            <a:ext cx="6048360" cy="2778120"/>
          </a:xfrm>
          <a:prstGeom prst="rect">
            <a:avLst/>
          </a:prstGeom>
          <a:ln w="0">
            <a:noFill/>
          </a:ln>
        </p:spPr>
      </p:pic>
      <p:sp>
        <p:nvSpPr>
          <p:cNvPr id="222" name="AutoShape 5"/>
          <p:cNvSpPr/>
          <p:nvPr/>
        </p:nvSpPr>
        <p:spPr>
          <a:xfrm>
            <a:off x="8172360" y="6165720"/>
            <a:ext cx="971640" cy="503280"/>
          </a:xfrm>
          <a:custGeom>
            <a:avLst/>
            <a:gdLst>
              <a:gd name="textAreaLeft" fmla="*/ 32400 w 971640"/>
              <a:gd name="textAreaRight" fmla="*/ 939240 w 971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1687" h="21600">
                <a:moveTo>
                  <a:pt x="0" y="0"/>
                </a:moveTo>
                <a:lnTo>
                  <a:pt x="41687" y="0"/>
                </a:lnTo>
                <a:lnTo>
                  <a:pt x="41687" y="21600"/>
                </a:lnTo>
                <a:lnTo>
                  <a:pt x="0" y="21600"/>
                </a:lnTo>
                <a:close/>
              </a:path>
              <a:path fill="lightenLess" w="41687" h="21600">
                <a:moveTo>
                  <a:pt x="0" y="0"/>
                </a:moveTo>
                <a:lnTo>
                  <a:pt x="41687" y="0"/>
                </a:lnTo>
                <a:lnTo>
                  <a:pt x="40287" y="1400"/>
                </a:lnTo>
                <a:lnTo>
                  <a:pt x="1400" y="1400"/>
                </a:lnTo>
                <a:close/>
              </a:path>
              <a:path fill="darken" w="41687" h="21600">
                <a:moveTo>
                  <a:pt x="41687" y="0"/>
                </a:moveTo>
                <a:lnTo>
                  <a:pt x="41687" y="21600"/>
                </a:lnTo>
                <a:lnTo>
                  <a:pt x="40287" y="20200"/>
                </a:lnTo>
                <a:lnTo>
                  <a:pt x="40287" y="1400"/>
                </a:lnTo>
                <a:close/>
              </a:path>
              <a:path fill="darkenLess" w="41687" h="21600">
                <a:moveTo>
                  <a:pt x="416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287" y="20200"/>
                </a:lnTo>
                <a:close/>
              </a:path>
              <a:path fill="lighten" w="416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687" h="21600">
                <a:moveTo>
                  <a:pt x="13837" y="7493"/>
                </a:moveTo>
                <a:lnTo>
                  <a:pt x="17345" y="7493"/>
                </a:lnTo>
                <a:lnTo>
                  <a:pt x="17345" y="12828"/>
                </a:lnTo>
                <a:cubicBezTo>
                  <a:pt x="17345" y="13751"/>
                  <a:pt x="18145" y="14482"/>
                  <a:pt x="19181" y="14482"/>
                </a:cubicBezTo>
                <a:lnTo>
                  <a:pt x="20843" y="14482"/>
                </a:lnTo>
                <a:cubicBezTo>
                  <a:pt x="21879" y="14482"/>
                  <a:pt x="22680" y="13751"/>
                  <a:pt x="22680" y="12828"/>
                </a:cubicBezTo>
                <a:lnTo>
                  <a:pt x="22680" y="7493"/>
                </a:lnTo>
                <a:lnTo>
                  <a:pt x="20843" y="7493"/>
                </a:lnTo>
                <a:lnTo>
                  <a:pt x="24351" y="3985"/>
                </a:lnTo>
                <a:lnTo>
                  <a:pt x="28024" y="7493"/>
                </a:lnTo>
                <a:lnTo>
                  <a:pt x="26188" y="7493"/>
                </a:lnTo>
                <a:lnTo>
                  <a:pt x="26188" y="12828"/>
                </a:lnTo>
                <a:cubicBezTo>
                  <a:pt x="26188" y="15596"/>
                  <a:pt x="23611" y="18155"/>
                  <a:pt x="20843" y="18155"/>
                </a:cubicBezTo>
                <a:lnTo>
                  <a:pt x="19181" y="18155"/>
                </a:lnTo>
                <a:cubicBezTo>
                  <a:pt x="16413" y="18155"/>
                  <a:pt x="13837" y="15596"/>
                  <a:pt x="13837" y="12828"/>
                </a:cubicBez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6" descr="gas"/>
          <p:cNvPicPr/>
          <p:nvPr/>
        </p:nvPicPr>
        <p:blipFill>
          <a:blip r:embed="rId1"/>
          <a:stretch/>
        </p:blipFill>
        <p:spPr>
          <a:xfrm>
            <a:off x="611280" y="3860640"/>
            <a:ext cx="1009440" cy="122400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 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Обозначе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(греческая буква «ро»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7200" spc="-1" strike="noStrike">
                <a:solidFill>
                  <a:srgbClr val="000000"/>
                </a:solidFill>
                <a:latin typeface="Tahoma"/>
              </a:rPr>
              <a:t>ρ</a:t>
            </a:r>
            <a:r>
              <a:rPr b="1" lang="en-US" sz="7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AutoShape 4"/>
          <p:cNvSpPr/>
          <p:nvPr/>
        </p:nvSpPr>
        <p:spPr>
          <a:xfrm>
            <a:off x="8244000" y="6093000"/>
            <a:ext cx="649080" cy="576000"/>
          </a:xfrm>
          <a:custGeom>
            <a:avLst/>
            <a:gdLst>
              <a:gd name="textAreaLeft" fmla="*/ 37080 w 649080"/>
              <a:gd name="textAreaRight" fmla="*/ 612000 w 64908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4339" h="21600">
                <a:moveTo>
                  <a:pt x="0" y="0"/>
                </a:moveTo>
                <a:lnTo>
                  <a:pt x="24339" y="0"/>
                </a:lnTo>
                <a:lnTo>
                  <a:pt x="24339" y="21600"/>
                </a:lnTo>
                <a:lnTo>
                  <a:pt x="0" y="21600"/>
                </a:lnTo>
                <a:close/>
              </a:path>
              <a:path fill="lightenLess" w="24339" h="21600">
                <a:moveTo>
                  <a:pt x="0" y="0"/>
                </a:moveTo>
                <a:lnTo>
                  <a:pt x="24339" y="0"/>
                </a:lnTo>
                <a:lnTo>
                  <a:pt x="22939" y="1400"/>
                </a:lnTo>
                <a:lnTo>
                  <a:pt x="1400" y="1400"/>
                </a:lnTo>
                <a:close/>
              </a:path>
              <a:path fill="darken" w="24339" h="21600">
                <a:moveTo>
                  <a:pt x="24339" y="0"/>
                </a:moveTo>
                <a:lnTo>
                  <a:pt x="24339" y="21600"/>
                </a:lnTo>
                <a:lnTo>
                  <a:pt x="22939" y="20200"/>
                </a:lnTo>
                <a:lnTo>
                  <a:pt x="22939" y="1400"/>
                </a:lnTo>
                <a:close/>
              </a:path>
              <a:path fill="darkenLess" w="24339" h="21600">
                <a:moveTo>
                  <a:pt x="243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39" y="20200"/>
                </a:lnTo>
                <a:close/>
              </a:path>
              <a:path fill="lighten" w="243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39" h="21600">
                <a:moveTo>
                  <a:pt x="5163" y="7493"/>
                </a:moveTo>
                <a:lnTo>
                  <a:pt x="8671" y="7493"/>
                </a:lnTo>
                <a:lnTo>
                  <a:pt x="8671" y="12828"/>
                </a:lnTo>
                <a:cubicBezTo>
                  <a:pt x="8671" y="13751"/>
                  <a:pt x="9471" y="14482"/>
                  <a:pt x="10507" y="14482"/>
                </a:cubicBezTo>
                <a:lnTo>
                  <a:pt x="12169" y="14482"/>
                </a:lnTo>
                <a:cubicBezTo>
                  <a:pt x="13205" y="14482"/>
                  <a:pt x="14006" y="13751"/>
                  <a:pt x="14006" y="12828"/>
                </a:cubicBezTo>
                <a:lnTo>
                  <a:pt x="14006" y="7493"/>
                </a:lnTo>
                <a:lnTo>
                  <a:pt x="12169" y="7493"/>
                </a:lnTo>
                <a:lnTo>
                  <a:pt x="15677" y="3985"/>
                </a:lnTo>
                <a:lnTo>
                  <a:pt x="19350" y="7493"/>
                </a:lnTo>
                <a:lnTo>
                  <a:pt x="17513" y="7493"/>
                </a:lnTo>
                <a:lnTo>
                  <a:pt x="17513" y="12828"/>
                </a:lnTo>
                <a:cubicBezTo>
                  <a:pt x="17513" y="15596"/>
                  <a:pt x="14937" y="18155"/>
                  <a:pt x="12169" y="18155"/>
                </a:cubicBezTo>
                <a:lnTo>
                  <a:pt x="10507" y="18155"/>
                </a:lnTo>
                <a:cubicBezTo>
                  <a:pt x="7739" y="18155"/>
                  <a:pt x="5163" y="15596"/>
                  <a:pt x="5163" y="12828"/>
                </a:cubicBez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5" descr="j0344853"/>
          <p:cNvPicPr/>
          <p:nvPr/>
        </p:nvPicPr>
        <p:blipFill>
          <a:blip r:embed="rId2"/>
          <a:stretch/>
        </p:blipFill>
        <p:spPr>
          <a:xfrm>
            <a:off x="1619280" y="4508640"/>
            <a:ext cx="1309680" cy="1652400"/>
          </a:xfrm>
          <a:prstGeom prst="rect">
            <a:avLst/>
          </a:prstGeom>
          <a:ln w="0">
            <a:noFill/>
          </a:ln>
        </p:spPr>
      </p:pic>
      <p:sp>
        <p:nvSpPr>
          <p:cNvPr id="22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2.77521E-008 L 1.38889E-006 -0.85291 E">
                                      <p:cBhvr>
                                        <p:cTn id="90" dur="2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21 -0.03631 C -0.01302 0.02151 -0.0243 0.07955 0.02014 0.0858 C 0.06476 0.09227 0.24132 0.00879 0.26597 0.00139 C 0.2908 -0.00578 0.18247 0.03561 0.16771 0.04209 E">
                                      <p:cBhvr>
                                        <p:cTn id="93" dur="20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    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Формул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AutoShape 5"/>
          <p:cNvSpPr/>
          <p:nvPr/>
        </p:nvSpPr>
        <p:spPr>
          <a:xfrm>
            <a:off x="831708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5353" y="7493"/>
                </a:moveTo>
                <a:lnTo>
                  <a:pt x="8861" y="7493"/>
                </a:lnTo>
                <a:lnTo>
                  <a:pt x="8861" y="12828"/>
                </a:lnTo>
                <a:cubicBezTo>
                  <a:pt x="8861" y="13751"/>
                  <a:pt x="9661" y="14482"/>
                  <a:pt x="10697" y="14482"/>
                </a:cubicBezTo>
                <a:lnTo>
                  <a:pt x="12359" y="14482"/>
                </a:lnTo>
                <a:cubicBezTo>
                  <a:pt x="13395" y="14482"/>
                  <a:pt x="14196" y="13751"/>
                  <a:pt x="14196" y="12828"/>
                </a:cubicBezTo>
                <a:lnTo>
                  <a:pt x="14196" y="7493"/>
                </a:lnTo>
                <a:lnTo>
                  <a:pt x="12359" y="7493"/>
                </a:lnTo>
                <a:lnTo>
                  <a:pt x="15867" y="3985"/>
                </a:lnTo>
                <a:lnTo>
                  <a:pt x="19540" y="7493"/>
                </a:lnTo>
                <a:lnTo>
                  <a:pt x="17703" y="7493"/>
                </a:lnTo>
                <a:lnTo>
                  <a:pt x="17703" y="12828"/>
                </a:lnTo>
                <a:cubicBezTo>
                  <a:pt x="17703" y="15596"/>
                  <a:pt x="15127" y="18155"/>
                  <a:pt x="12359" y="18155"/>
                </a:cubicBezTo>
                <a:lnTo>
                  <a:pt x="10697" y="18155"/>
                </a:lnTo>
                <a:cubicBezTo>
                  <a:pt x="7929" y="18155"/>
                  <a:pt x="5353" y="15596"/>
                  <a:pt x="5353" y="12828"/>
                </a:cubicBez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6" descr="j0365295"/>
          <p:cNvPicPr/>
          <p:nvPr/>
        </p:nvPicPr>
        <p:blipFill>
          <a:blip r:embed="rId1"/>
          <a:stretch/>
        </p:blipFill>
        <p:spPr>
          <a:xfrm>
            <a:off x="179280" y="3382920"/>
            <a:ext cx="2735280" cy="2616120"/>
          </a:xfrm>
          <a:prstGeom prst="rect">
            <a:avLst/>
          </a:prstGeom>
          <a:ln w="0">
            <a:noFill/>
          </a:ln>
        </p:spPr>
      </p:pic>
      <p:sp>
        <p:nvSpPr>
          <p:cNvPr id="233" name="AutoShape 8"/>
          <p:cNvSpPr/>
          <p:nvPr/>
        </p:nvSpPr>
        <p:spPr>
          <a:xfrm>
            <a:off x="2700360" y="1341360"/>
            <a:ext cx="4535640" cy="2664000"/>
          </a:xfrm>
          <a:prstGeom prst="wedgeRectCallout">
            <a:avLst>
              <a:gd name="adj1" fmla="val -65574"/>
              <a:gd name="adj2" fmla="val 66569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"/>
          <p:cNvPicPr/>
          <p:nvPr/>
        </p:nvPicPr>
        <p:blipFill>
          <a:blip r:embed="rId2"/>
          <a:stretch/>
        </p:blipFill>
        <p:spPr>
          <a:xfrm>
            <a:off x="2916360" y="1557360"/>
            <a:ext cx="4032000" cy="2303280"/>
          </a:xfrm>
          <a:prstGeom prst="rect">
            <a:avLst/>
          </a:prstGeom>
          <a:ln w="0">
            <a:noFill/>
          </a:ln>
        </p:spPr>
      </p:pic>
      <p:sp>
        <p:nvSpPr>
          <p:cNvPr id="23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2T17:28:17Z</dcterms:created>
  <dc:creator>олег</dc:creator>
  <dc:description/>
  <dc:language>en-US</dc:language>
  <cp:lastModifiedBy>LEGION</cp:lastModifiedBy>
  <dcterms:modified xsi:type="dcterms:W3CDTF">2015-03-30T08:53:59Z</dcterms:modified>
  <cp:revision>20</cp:revision>
  <dc:subject/>
  <dc:title>Повторим</dc:title>
</cp:coreProperties>
</file>