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EDE4F-D51C-4408-9D19-7EF635F39BB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ешение задач. Гравитационные сил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-10 клас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Автор: Игнатова Е.С. </a:t>
            </a:r>
            <a:br>
              <a:rPr sz="1200"/>
            </a:b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Учитель физики МОУ СОШ № 16 г.Кропоткин Краснодарский кра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7D32F-155C-468F-818B-B9C807F19F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одц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7DA6C-EF5A-447F-A179-B03D1A7F208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пользуемые материал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4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Серия программного обеспечения «Умник». 10 класс. Физика. Механика и термодинамик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DD5E6-89A0-4E3E-AE8E-852AC5619DE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ронтальный опрос учащих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ует ли на человека сила притяжения к Солнц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ts val="998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ts val="998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объяснить возникновение приливов и отливов в океан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ts val="998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сните физический смысл  гравитационной постоянн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ts val="998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B8228-7159-4DB9-B4FD-67CE92247C5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полни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сколько раз изменится сила притяжения между телами с увеличением расстояния между ними в 5 раз?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тся в 5 ра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5 ра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25 ра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сколько раз изменится сила притяжения между телами с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ением массы каждого из тел 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раза?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тся в 2 раз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4 раз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4 раз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06D52-DF95-49E0-B75F-5534AD20DE7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  Во сколько раз  изменится сила притяжения между телами с увеличением расстояния между ними в 2 раза и увеличением массы одного из них в 4 раза?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тся в 8 раз 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изменится </a:t>
            </a:r>
            <a:r>
              <a:rPr b="1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2 раз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сколько раз изменится изменится сила притяжения между телами с уменьшением массы одного из тел в 2 раза и увеличением расстояния между ними в 2 раз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тся в 2 раза  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4 раза </a:t>
            </a:r>
            <a:r>
              <a:rPr b="1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8 р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AE12D-36F0-4144-A9B5-339DA961FC9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Реши задач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На космонавта, находящегося на поверхности Земли, действует сила 720 Н. Какая сила тяготения будет действовать на того же космонавта в космическом корабле, находящемся на расстоянии двух земных радиусов от поверхности Земл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А) 180 Н  Б) 80 Н  В) 360 Н  Г) 240 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8E50D-B705-42F1-AC1D-C6969A58179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Реши задач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Два тела массой 1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кг и 2·1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кг находятся друг от друга на расстояни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притягиваются с силой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Чему равна сила притяжения тел массой 2·1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кг и 4·1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кг, находящихся на том же расстояни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А) </a:t>
            </a:r>
            <a:r>
              <a:rPr b="0" i="1" lang="ru-RU" sz="1200" spc="-1" strike="noStrike">
                <a:solidFill>
                  <a:srgbClr val="000099"/>
                </a:solidFill>
                <a:latin typeface="Calibri"/>
              </a:rPr>
              <a:t>F</a:t>
            </a: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      Б) 2</a:t>
            </a:r>
            <a:r>
              <a:rPr b="0" i="1" lang="ru-RU" sz="1200" spc="-1" strike="noStrike">
                <a:solidFill>
                  <a:srgbClr val="000099"/>
                </a:solidFill>
                <a:latin typeface="Calibri"/>
              </a:rPr>
              <a:t>F     </a:t>
            </a: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В) 4</a:t>
            </a:r>
            <a:r>
              <a:rPr b="0" lang="en-US" sz="1200" spc="-1" strike="noStrike">
                <a:solidFill>
                  <a:srgbClr val="000099"/>
                </a:solidFill>
                <a:latin typeface="Calibri"/>
              </a:rPr>
              <a:t>F     </a:t>
            </a:r>
            <a:r>
              <a:rPr b="0" i="1" lang="ru-RU" sz="1200" spc="-1" strike="noStrike">
                <a:solidFill>
                  <a:srgbClr val="000099"/>
                </a:solidFill>
                <a:latin typeface="Calibri"/>
              </a:rPr>
              <a:t>Г) 8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1104B-EA5C-4A47-87D2-926FE483F9C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Реши задач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На поверхности Земли на космонавта в скафандре действует сила тяжести 1000 Н. На поверхности планеты радиусом в 2 раза меньше земного и массой в 2 раза меньше массы Земли сила тяжести, действующая на этого космонавта, будет равн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А) 500 Н  Б) 1000 Н  В) 2000 Н  Г) 4000 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1AD78-65DB-4EF4-8D93-4BBFF709221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alibri"/>
              </a:rPr>
              <a:t>Реши задачу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акие из приведенных утверждений верны?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А) Сила всемирного тяготения удерживает планеты на их орбитах вокруг Солнц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Б) Сила всемирного тяготения изменится, если изменить плотность одного из притягивающихся т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В) При свободном падении более тяжелое тело упадет быстрее, чем более легкое, если их сбросить с одинаковой выс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Г) Если на тело не действует сила тяжести, то тело находится в состоянии невесом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F7D9A-A2F1-4151-8C41-73E6560A16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Реши задач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 Искусственный спутник движется по круговой орбите вблизи поверхности Земли. Трение о воздух пренебрежимо мало. Модуль ускорения спутник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А) равен 0       Б) непрерывно изменяет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В) постоянен и равен ускорению свободного пад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Г) постоянен и много меньше ускорения свободного пад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960C9-7F63-4569-A53C-DC5130A5C4D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D27A-F146-42AA-B191-0ED725FC2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8659-F424-4884-A431-DDDD5D86C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FCD2-46C3-4B83-9009-6862125F6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4116-BDDD-4B29-A378-E635299A0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AC4D-7C82-4895-A68D-A656C813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77B1-71C0-4246-A83D-62B01332D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0C7F-851B-4A3D-AFF8-8256F675A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FFE4-DF30-46B6-B2E2-F3A517F60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7448-D28E-446A-A034-A3237091F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825E-0DC7-47DC-AD46-B19C9E0D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00E8-5689-4B0C-A395-8E0EE113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0183-170E-4352-9486-AFFD6482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3E093-8A68-4156-90F0-45A1063732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1600200" y="1219320"/>
            <a:ext cx="6172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ешение задач. Гравитационные сил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9-10 класс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втор: Игнатова Е.С.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читель физики МОУ СОШ № 16 г.Кропоткин Краснодарский кр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back_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лодцы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Используемые материал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914400" y="2362320"/>
            <a:ext cx="754848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Серия программного обеспечения «Умник». 10 класс. Физика. Механика и термодинами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back_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64111"/>
          <p:cNvPicPr/>
          <p:nvPr/>
        </p:nvPicPr>
        <p:blipFill>
          <a:blip r:embed="rId2"/>
          <a:stretch/>
        </p:blipFill>
        <p:spPr>
          <a:xfrm>
            <a:off x="228600" y="838080"/>
            <a:ext cx="8763120" cy="29718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"/>
          <p:cNvSpPr/>
          <p:nvPr/>
        </p:nvSpPr>
        <p:spPr>
          <a:xfrm>
            <a:off x="228600" y="3710160"/>
            <a:ext cx="8701200" cy="34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ts val="998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ует ли на человека сила притяжения к Солнцу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998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998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объяснить возникновение приливов и отливов в океане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998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сните физический смысл  гравитационной постоянной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998"/>
              </a:lnSpc>
              <a:buClr>
                <a:srgbClr val="000000"/>
              </a:buClr>
              <a:buFont typeface="Times New Roman"/>
              <a:buChar char="•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1981080" y="15228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ронтальный опрос учащих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back_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1"/>
          <p:cNvSpPr/>
          <p:nvPr/>
        </p:nvSpPr>
        <p:spPr>
          <a:xfrm>
            <a:off x="1143000" y="1066680"/>
            <a:ext cx="742968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сколько раз изменится сила притяжения между телами с увеличением расстояния между ними в 5 раз?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тся в 5 ра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5 ра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457200"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25 ра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457200"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сколько раз изменится сила притяжения между телами с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ением массы каждого из тел 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раза?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тся в 2 раз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4 раз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4 раз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2438280" y="380880"/>
            <a:ext cx="413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полни зада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3" descr="38.gif"/>
          <p:cNvPicPr/>
          <p:nvPr/>
        </p:nvPicPr>
        <p:blipFill>
          <a:blip r:embed="rId2"/>
          <a:stretch/>
        </p:blipFill>
        <p:spPr>
          <a:xfrm>
            <a:off x="1371600" y="297180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7" descr="38.gif"/>
          <p:cNvPicPr/>
          <p:nvPr/>
        </p:nvPicPr>
        <p:blipFill>
          <a:blip r:embed="rId3"/>
          <a:stretch/>
        </p:blipFill>
        <p:spPr>
          <a:xfrm>
            <a:off x="1447920" y="5867280"/>
            <a:ext cx="714240" cy="71460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" dur="2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back_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"/>
          <p:cNvSpPr/>
          <p:nvPr/>
        </p:nvSpPr>
        <p:spPr>
          <a:xfrm>
            <a:off x="928800" y="606600"/>
            <a:ext cx="742932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  Во сколько раз  изменится сила притяжения между телами с увеличением расстояния между ними в 2 раза и увеличением массы одного из них в 4 раза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тся в 8 раз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изменится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2 ра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4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сколько раз изменится изменится сила притяжения между телами с уменьшением массы одного из тел в 2 раза и увеличением расстояния между ними в 2 раз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тся в 2 раза 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4 раза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8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2" descr="38.gif"/>
          <p:cNvPicPr/>
          <p:nvPr/>
        </p:nvPicPr>
        <p:blipFill>
          <a:blip r:embed="rId2"/>
          <a:stretch/>
        </p:blipFill>
        <p:spPr>
          <a:xfrm>
            <a:off x="1066680" y="2209680"/>
            <a:ext cx="714600" cy="7146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3" descr="38.gif"/>
          <p:cNvPicPr/>
          <p:nvPr/>
        </p:nvPicPr>
        <p:blipFill>
          <a:blip r:embed="rId3"/>
          <a:stretch/>
        </p:blipFill>
        <p:spPr>
          <a:xfrm>
            <a:off x="990720" y="5257800"/>
            <a:ext cx="714240" cy="71424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" dur="2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" dur="20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back_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Реши задач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 На космонавта, находящегося на поверхности Земли, действует сила 720 Н. Какая сила тяготения будет действовать на того же космонавта в космическом корабле, находящемся на расстоянии двух земных радиусов от поверхности Земл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А) 180 Н  Б) 80 Н  В) 360 Н  Г) 240 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2" descr="38.gif"/>
          <p:cNvPicPr/>
          <p:nvPr/>
        </p:nvPicPr>
        <p:blipFill>
          <a:blip r:embed="rId2"/>
          <a:stretch/>
        </p:blipFill>
        <p:spPr>
          <a:xfrm>
            <a:off x="3048120" y="5410080"/>
            <a:ext cx="1371600" cy="121932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back_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8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Реши задач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 Два тела массой 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кг и 2·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кг находятся друг от друга на расстояни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притягиваются с силой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Чему равна сила притяжения тел массой 2·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кг и 4·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кг, находящихся на том же расстояни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А) </a:t>
            </a:r>
            <a:r>
              <a:rPr b="0" i="1" lang="ru-RU" sz="3200" spc="-1" strike="noStrike">
                <a:solidFill>
                  <a:srgbClr val="000099"/>
                </a:solidFill>
                <a:latin typeface="Arial"/>
              </a:rPr>
              <a:t>F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     Б) 2</a:t>
            </a:r>
            <a:r>
              <a:rPr b="0" i="1" lang="ru-RU" sz="3200" spc="-1" strike="noStrike">
                <a:solidFill>
                  <a:srgbClr val="000099"/>
                </a:solidFill>
                <a:latin typeface="Arial"/>
              </a:rPr>
              <a:t>F    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В) 4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     </a:t>
            </a:r>
            <a:r>
              <a:rPr b="0" i="1" lang="ru-RU" sz="3200" spc="-1" strike="noStrike">
                <a:solidFill>
                  <a:srgbClr val="000099"/>
                </a:solidFill>
                <a:latin typeface="Arial"/>
              </a:rPr>
              <a:t>Г) 8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2" descr="38.gif"/>
          <p:cNvPicPr/>
          <p:nvPr/>
        </p:nvPicPr>
        <p:blipFill>
          <a:blip r:embed="rId2"/>
          <a:stretch/>
        </p:blipFill>
        <p:spPr>
          <a:xfrm>
            <a:off x="4800600" y="525780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back_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Реши задач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 На поверхности Земли на космонавта в скафандре действует сила тяжести 1000 Н. На поверхности планеты радиусом в 2 раза меньше земного и массой в 2 раза меньше массы Земли сила тяжести, действующая на этого космонавта, будет равн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А) 500 Н  Б) 1000 Н  В) 2000 Н  Г) 4000 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2" descr="38.gif"/>
          <p:cNvPicPr/>
          <p:nvPr/>
        </p:nvPicPr>
        <p:blipFill>
          <a:blip r:embed="rId2"/>
          <a:stretch/>
        </p:blipFill>
        <p:spPr>
          <a:xfrm>
            <a:off x="5029200" y="5562720"/>
            <a:ext cx="1095480" cy="109512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back_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Реши задачу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Какие из приведенных утверждений верны?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А) Сила всемирного тяготения удерживает планеты на их орбитах вокруг Солнц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Б) Сила всемирного тяготения изменится, если изменить плотность одного из притягивающихся т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В) При свободном падении более тяжелое тело упадет быстрее, чем более легкое, если их сбросить с одинаковой выс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Г) Если на тело не действует сила тяжести, то тело находится в состоянии невесом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2" descr="38.gif"/>
          <p:cNvPicPr/>
          <p:nvPr/>
        </p:nvPicPr>
        <p:blipFill>
          <a:blip r:embed="rId2"/>
          <a:stretch/>
        </p:blipFill>
        <p:spPr>
          <a:xfrm>
            <a:off x="8077320" y="243828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2" descr="38.gif"/>
          <p:cNvPicPr/>
          <p:nvPr/>
        </p:nvPicPr>
        <p:blipFill>
          <a:blip r:embed="rId3"/>
          <a:stretch/>
        </p:blipFill>
        <p:spPr>
          <a:xfrm>
            <a:off x="8077320" y="3505320"/>
            <a:ext cx="866520" cy="71424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back_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Реши задач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 Искусственный спутник движется по круговой орбите вблизи поверхности Земли. Трение о воздух пренебрежимо мало. Модуль ускорения спутник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А) равен 0       Б) непрерывно изменяе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В) постоянен и равен ускорению свободного пад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Г) постоянен и много меньше ускорения свободного пад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2" descr="38.gif"/>
          <p:cNvPicPr/>
          <p:nvPr/>
        </p:nvPicPr>
        <p:blipFill>
          <a:blip r:embed="rId2"/>
          <a:stretch/>
        </p:blipFill>
        <p:spPr>
          <a:xfrm>
            <a:off x="7162920" y="4267080"/>
            <a:ext cx="1143000" cy="9144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6"/>
          <p:cNvSpPr/>
          <p:nvPr/>
        </p:nvSpPr>
        <p:spPr>
          <a:xfrm>
            <a:off x="457200" y="274680"/>
            <a:ext cx="82296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3-30T08:54:52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