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4006-F6BB-48B1-8FC8-5A1FCB0C2E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Автор: Игнатова Е.С.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F51A-CD91-435E-831D-DCB989F933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D4A7-54A4-4D74-AA36-1B2C63AE2FF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49CE-805F-4296-888C-6197DB83B4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98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ts val="998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039-EAEB-4545-AAB1-E30730466F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BF55-C789-42B9-B712-E7A2326750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5950-BFC5-4A35-8997-831A8A22E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180 Н  Б) 80 Н  В) 360 Н  Г) 240 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B202-8A9E-4E92-9AC3-0300190E8B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Два тела массой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находятся друг от друга на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притягиваются с силой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Чему равна сила притяжения тел массой 2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 и 4·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кг, находящихся на том же расстояни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     Б) 2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4</a:t>
            </a:r>
            <a:r>
              <a:rPr b="0" lang="en-US" sz="1200" spc="-1" strike="noStrike">
                <a:solidFill>
                  <a:srgbClr val="000099"/>
                </a:solidFill>
                <a:latin typeface="Calibri"/>
              </a:rPr>
              <a:t>F    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Г) 8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A55E-0BFF-4D70-9B9A-5A8F723A95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500 Н  Б) 1000 Н  В) 2000 Н  Г) 4000 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BEB-D377-43BF-8296-FF5A8F947B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ие из приведенных утверждений верны?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Сила всемирного тяготения удерживает планеты на их орбитах вокруг Солн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Если на тело не действует сила тяжести, то тело находится в состоянии невесо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A6E8-72CB-471D-8058-2EBB6349D9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Реши задач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А) равен 0       Б) непрерывно измен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В) постоянен и равен ускорению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Г) постоянен и много меньше ускорения свободного пад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F57F-49F5-47E3-B7B2-06934C04B7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D8C-B424-453A-AE09-9D86AD6B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69D-6E01-4F52-B7DA-F19A99A4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E9B-9D82-40F7-A069-FBC244E48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FAE-CBF6-4368-9F8B-D6A4B82C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7D9-5D9A-41B0-B1CC-F084D012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0B41-025D-47FF-A521-730F34E1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4D0-9DDA-43D7-997C-42CCEFAD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B8B8-894D-4C08-8C40-387DF673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E9F-E8B6-4321-BA4E-1F3A1837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EA4-E16A-4314-AFD3-52A35F9B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16F-D1D0-4D15-B9DE-A77A6AD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495-9ABD-4C6A-87A9-5E43C6A4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D59B-266D-45AE-866E-55A7440656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1600200" y="121932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ешение задач. Гравитационные сил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-10 класс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втор: Игнатова Е.С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итель физики МОУ СОШ № 16 г.Кропоткин Краснодарский кр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уемые материал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914400" y="2362320"/>
            <a:ext cx="75484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Серия программного обеспечения «Умник». 10 класс. Физика. Механика и термодинам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4111"/>
          <p:cNvPicPr/>
          <p:nvPr/>
        </p:nvPicPr>
        <p:blipFill>
          <a:blip r:embed="rId2"/>
          <a:stretch/>
        </p:blipFill>
        <p:spPr>
          <a:xfrm>
            <a:off x="228600" y="838080"/>
            <a:ext cx="8763120" cy="2971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"/>
          <p:cNvSpPr/>
          <p:nvPr/>
        </p:nvSpPr>
        <p:spPr>
          <a:xfrm>
            <a:off x="228600" y="3710160"/>
            <a:ext cx="8701200" cy="34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ует ли на человека сила притяжения к Солнцу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бъяснить возникновение приливов и отливов в океане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 физический смысл  гравитационной постоянной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998"/>
              </a:lnSpc>
              <a:buClr>
                <a:srgbClr val="000000"/>
              </a:buClr>
              <a:buFont typeface="Times New Roman"/>
              <a:buChar char="•"/>
              <a:tabLst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981080" y="1522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онтальный опрос учащих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1143000" y="1066680"/>
            <a:ext cx="74296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увеличением расстояния между ними в 5 раз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5 ра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сила притяжения между телами 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ением массы каждого из тел 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раза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2438280" y="38088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полни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38.gif"/>
          <p:cNvPicPr/>
          <p:nvPr/>
        </p:nvPicPr>
        <p:blipFill>
          <a:blip r:embed="rId2"/>
          <a:stretch/>
        </p:blipFill>
        <p:spPr>
          <a:xfrm>
            <a:off x="1371600" y="2971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7" descr="38.gif"/>
          <p:cNvPicPr/>
          <p:nvPr/>
        </p:nvPicPr>
        <p:blipFill>
          <a:blip r:embed="rId3"/>
          <a:stretch/>
        </p:blipFill>
        <p:spPr>
          <a:xfrm>
            <a:off x="1447920" y="586728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2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928800" y="606600"/>
            <a:ext cx="7429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Во сколько раз  изменится сила притяжения между телами с увеличением расстояния между ними в 2 раза и увеличением массы одного из них в 4 раза?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8 раз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менитс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2 р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колько раз изменится изменится сила притяжения между телами с уменьшением массы одного из тел в 2 раза и увеличением расстояния между ними в 2 ра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2 раза 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4 раз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ьшится в 8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38.gif"/>
          <p:cNvPicPr/>
          <p:nvPr/>
        </p:nvPicPr>
        <p:blipFill>
          <a:blip r:embed="rId2"/>
          <a:stretch/>
        </p:blipFill>
        <p:spPr>
          <a:xfrm>
            <a:off x="1066680" y="220968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38.gif"/>
          <p:cNvPicPr/>
          <p:nvPr/>
        </p:nvPicPr>
        <p:blipFill>
          <a:blip r:embed="rId3"/>
          <a:stretch/>
        </p:blipFill>
        <p:spPr>
          <a:xfrm>
            <a:off x="990720" y="5257800"/>
            <a:ext cx="714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На космонавта, находящегося на поверхности Земли, действует сила 720 Н. Какая сила тяготения будет действовать на того же космонавта в космическом корабле, находящемся на расстоянии двух земных радиусов от поверхности Зем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180 Н  Б) 80 Н  В) 360 Н  Г) 240 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" descr="38.gif"/>
          <p:cNvPicPr/>
          <p:nvPr/>
        </p:nvPicPr>
        <p:blipFill>
          <a:blip r:embed="rId2"/>
          <a:stretch/>
        </p:blipFill>
        <p:spPr>
          <a:xfrm>
            <a:off x="3048120" y="5410080"/>
            <a:ext cx="1371600" cy="12193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Два тела массой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находятся друг от друга на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итягиваются с силой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Чему равна сила притяжения тел массой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 и 4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кг, находящихся на том же расстояни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    Б) 2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     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Г) 8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2" descr="38.gif"/>
          <p:cNvPicPr/>
          <p:nvPr/>
        </p:nvPicPr>
        <p:blipFill>
          <a:blip r:embed="rId2"/>
          <a:stretch/>
        </p:blipFill>
        <p:spPr>
          <a:xfrm>
            <a:off x="4800600" y="5257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 На поверхности Земли на космонавта в скафандре действует сила тяжести 1000 Н. На поверхности планеты радиусом в 2 раза меньше земного и массой в 2 раза меньше массы Земли сила тяжести, действующая на этого космонавта, будет равн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500 Н  Б) 1000 Н  В) 2000 Н  Г) 4000 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38.gif"/>
          <p:cNvPicPr/>
          <p:nvPr/>
        </p:nvPicPr>
        <p:blipFill>
          <a:blip r:embed="rId2"/>
          <a:stretch/>
        </p:blipFill>
        <p:spPr>
          <a:xfrm>
            <a:off x="5029200" y="5562720"/>
            <a:ext cx="1095480" cy="109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акие из приведенных утверждений верны?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) Сила всемирного тяготения удерживает планеты на их орбитах вокруг Солнц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Б) Сила всемирного тяготения изменится, если изменить плотность одного из притягивающихс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) При свободном падении более тяжелое тело упадет быстрее, чем более легкое, если их сбросить с одинаковой выс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Г) Если на тело не действует сила тяжести, то тело находится в состоянии невесом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38.gif"/>
          <p:cNvPicPr/>
          <p:nvPr/>
        </p:nvPicPr>
        <p:blipFill>
          <a:blip r:embed="rId2"/>
          <a:stretch/>
        </p:blipFill>
        <p:spPr>
          <a:xfrm>
            <a:off x="8077320" y="2438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38.gif"/>
          <p:cNvPicPr/>
          <p:nvPr/>
        </p:nvPicPr>
        <p:blipFill>
          <a:blip r:embed="rId3"/>
          <a:stretch/>
        </p:blipFill>
        <p:spPr>
          <a:xfrm>
            <a:off x="8077320" y="3505320"/>
            <a:ext cx="866520" cy="71424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back_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Реши задач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 Искусственный спутник движется по круговой орбите вблизи поверхности Земли. Трение о воздух пренебрежимо мало. Модуль ускорения спутн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А) равен 0       Б) непрерывно изменяе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) постоянен и равен ускорению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) постоянен и много меньше ускорения свободного па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38.gif"/>
          <p:cNvPicPr/>
          <p:nvPr/>
        </p:nvPicPr>
        <p:blipFill>
          <a:blip r:embed="rId2"/>
          <a:stretch/>
        </p:blipFill>
        <p:spPr>
          <a:xfrm>
            <a:off x="7162920" y="426708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457200" y="274680"/>
            <a:ext cx="82296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54:5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