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7401-62CC-4B15-9D61-D8ABBB4F37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е задач. Гравитационные си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-10 кл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втор: Игнатова Е.С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Учитель физики МОУ СОШ № 16 г.Кропоткин 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DB1D-3382-47A9-9335-3203EE76A0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86D5-C36B-4CBB-B2EA-EB83BEE5B6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мые материал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ерия программного обеспечения «Умник». 10 класс. Физика. Механика и термодинам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41A3-E037-450B-A3FF-9ACA3844CA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ли на человека сила притяжения к Солнц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ъяснить возникновение приливов и отливов в оке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физический смысл  гравитационной постоян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3681-3DCC-459A-A922-607DE25EA5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увеличением расстояния между ними в 5 раз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м массы каждого из тел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з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3CBB-9961-4525-9522-8C32633A5C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Во сколько раз  изменится сила притяжения между телами с увеличением расстояния между ними в 2 раза и увеличением массы одного из них в 4 раза?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8 раз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изменится сила притяжения между телами с уменьшением массы одного из тел в 2 раза и увеличением расстояния между ними в 2 р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 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8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541E-C5E4-4E6A-9ECE-5B784036E2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 космонавта, находящегося на поверхности Земли, действует сила 720 Н. Какая сила тяготения будет действовать на того же космонавта в космическом корабле, находящемся на расстоянии двух земных радиусов от поверхности Зем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180 Н  Б) 80 Н  В) 360 Н  Г) 240 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B0D6-889B-46FD-B1DF-4AB6F84683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Два тела масс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и 2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находятся друг от друга на расстоя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итягиваются с сил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ему равна сила притяжения тел массой 2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и 4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, находящихся на том же расстоя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  Б) 2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F 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4</a:t>
            </a:r>
            <a:r>
              <a:rPr b="0" lang="en-US" sz="1200" spc="-1" strike="noStrike">
                <a:solidFill>
                  <a:srgbClr val="000099"/>
                </a:solidFill>
                <a:latin typeface="Calibri"/>
              </a:rPr>
              <a:t>F    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Г) 8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F818-75BE-4077-AB5E-A86A7B2E65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На поверхности Земли на космонавта в скафандре действует сила тяжести 1000 Н. На поверхности планеты радиусом в 2 раза меньше земного и массой в 2 раза меньше массы Земли сила тяжести, действующая на этого космонавта, будет рав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500 Н  Б) 1000 Н  В) 2000 Н  Г) 4000 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7F05-99DD-4380-83CB-678DA75396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из приведенных утверждений верны?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Сила всемирного тяготения удерживает планеты на их орбитах вокруг Солн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Б) Сила всемирного тяготения изменится, если изменить плотность одного из притягивающихся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При свободном падении более тяжелое тело упадет быстрее, чем более легкое, если их сбросить с одинаковой выс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Г) Если на тело не действует сила тяжести, то тело находится в состоянии невесо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1ACB-61EB-421C-828E-37C6622B8B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Искусственный спутник движется по круговой орбите вблизи поверхности Земли. Трение о воздух пренебрежимо мало. Модуль ускорения спутни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равен 0       Б) непрерывно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постоянен и равен ускорению свободного па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Г) постоянен и много меньше ускорения свободного па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6CCE-191A-48CC-9891-949B8E8E35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2B8-5DB1-4D23-BBB8-FC8F5FD5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38D-75F2-4D83-9676-BF269928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B8F-D595-41DC-A714-107E674B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05C-22D3-4BCD-A116-41B21790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0AB-EA31-4C1E-94F9-3A50B226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3F05-24B5-47AE-B7F6-27445E00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556-2F1C-454E-BE9D-DC8AF7BD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548-6C34-4E90-934A-8CE8C40F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C55-9968-40F0-8477-C298A382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052-8D1D-46DB-8B0E-81B92827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0E5-DC02-43BE-AEA8-97B75B72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E07-9C71-47CC-B5DD-7A9B7250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8172-03C1-4E22-A9DA-CC9A67258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600200" y="121932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шение задач. Гравитационные сил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-10 класс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втор: Игнатова Е.С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 физики МОУ СОШ № 16 г.Кропоткин Краснодарски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спользуемые материал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914400" y="2362320"/>
            <a:ext cx="75484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ерия программного обеспечения «Умник». 10 класс. Физика. Механика и термодинам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64111"/>
          <p:cNvPicPr/>
          <p:nvPr/>
        </p:nvPicPr>
        <p:blipFill>
          <a:blip r:embed="rId2"/>
          <a:stretch/>
        </p:blipFill>
        <p:spPr>
          <a:xfrm>
            <a:off x="228600" y="838080"/>
            <a:ext cx="8763120" cy="2971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228600" y="3710160"/>
            <a:ext cx="870120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ли на человека сила притяжения к Солнцу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ъяснить возникновение приливов и отливов в океане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физический смысл  гравитационной постоянной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981080" y="1522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 уча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1143000" y="1066680"/>
            <a:ext cx="74296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увеличением расстояния между ними в 5 раз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м массы каждого из тел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з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2438280" y="380880"/>
            <a:ext cx="41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38.gif"/>
          <p:cNvPicPr/>
          <p:nvPr/>
        </p:nvPicPr>
        <p:blipFill>
          <a:blip r:embed="rId2"/>
          <a:stretch/>
        </p:blipFill>
        <p:spPr>
          <a:xfrm>
            <a:off x="1371600" y="29718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38.gif"/>
          <p:cNvPicPr/>
          <p:nvPr/>
        </p:nvPicPr>
        <p:blipFill>
          <a:blip r:embed="rId3"/>
          <a:stretch/>
        </p:blipFill>
        <p:spPr>
          <a:xfrm>
            <a:off x="1447920" y="586728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928800" y="606600"/>
            <a:ext cx="7429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Во сколько раз  изменится сила притяжения между телами с увеличением расстояния между ними в 2 раза и увеличением массы одного из них в 4 раза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8 раз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 р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изменится сила притяжения между телами с уменьшением массы одного из тел в 2 раза и увеличением расстояния между ними в 2 ра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 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8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38.gif"/>
          <p:cNvPicPr/>
          <p:nvPr/>
        </p:nvPicPr>
        <p:blipFill>
          <a:blip r:embed="rId2"/>
          <a:stretch/>
        </p:blipFill>
        <p:spPr>
          <a:xfrm>
            <a:off x="1066680" y="22096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38.gif"/>
          <p:cNvPicPr/>
          <p:nvPr/>
        </p:nvPicPr>
        <p:blipFill>
          <a:blip r:embed="rId3"/>
          <a:stretch/>
        </p:blipFill>
        <p:spPr>
          <a:xfrm>
            <a:off x="990720" y="525780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На космонавта, находящегося на поверхности Земли, действует сила 720 Н. Какая сила тяготения будет действовать на того же космонавта в космическом корабле, находящемся на расстоянии двух земных радиусов от поверхности Зем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180 Н  Б) 80 Н  В) 360 Н  Г) 240 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38.gif"/>
          <p:cNvPicPr/>
          <p:nvPr/>
        </p:nvPicPr>
        <p:blipFill>
          <a:blip r:embed="rId2"/>
          <a:stretch/>
        </p:blipFill>
        <p:spPr>
          <a:xfrm>
            <a:off x="3048120" y="541008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Два тела масс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и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находятся друг от друга на расстояни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итягиваются с силой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Чему равна сила притяжения тел массой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и 4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, находящихся на том же расстояни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Б) 2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F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) 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    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Г) 8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38.gif"/>
          <p:cNvPicPr/>
          <p:nvPr/>
        </p:nvPicPr>
        <p:blipFill>
          <a:blip r:embed="rId2"/>
          <a:stretch/>
        </p:blipFill>
        <p:spPr>
          <a:xfrm>
            <a:off x="4800600" y="5257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На поверхности Земли на космонавта в скафандре действует сила тяжести 1000 Н. На поверхности планеты радиусом в 2 раза меньше земного и массой в 2 раза меньше массы Земли сила тяжести, действующая на этого космонавта, будет рав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500 Н  Б) 1000 Н  В) 2000 Н  Г) 4000 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38.gif"/>
          <p:cNvPicPr/>
          <p:nvPr/>
        </p:nvPicPr>
        <p:blipFill>
          <a:blip r:embed="rId2"/>
          <a:stretch/>
        </p:blipFill>
        <p:spPr>
          <a:xfrm>
            <a:off x="5029200" y="5562720"/>
            <a:ext cx="1095480" cy="109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акие из приведенных утверждений верны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) Сила всемирного тяготения удерживает планеты на их орбитах вокруг Солн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) Сила всемирного тяготения изменится, если изменить плотность одного из притягивающихс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) При свободном падении более тяжелое тело упадет быстрее, чем более легкое, если их сбросить с одинаковой выс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) Если на тело не действует сила тяжести, то тело находится в состоянии невесо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38.gif"/>
          <p:cNvPicPr/>
          <p:nvPr/>
        </p:nvPicPr>
        <p:blipFill>
          <a:blip r:embed="rId2"/>
          <a:stretch/>
        </p:blipFill>
        <p:spPr>
          <a:xfrm>
            <a:off x="8077320" y="2438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38.gif"/>
          <p:cNvPicPr/>
          <p:nvPr/>
        </p:nvPicPr>
        <p:blipFill>
          <a:blip r:embed="rId3"/>
          <a:stretch/>
        </p:blipFill>
        <p:spPr>
          <a:xfrm>
            <a:off x="8077320" y="3505320"/>
            <a:ext cx="866520" cy="71424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Искусственный спутник движется по круговой орбите вблизи поверхности Земли. Трение о воздух пренебрежимо мало. Модуль ускорения спутн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равен 0       Б) непрерывно измен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) постоянен и равен ускорению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) постоянен и много меньше ускорения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38.gif"/>
          <p:cNvPicPr/>
          <p:nvPr/>
        </p:nvPicPr>
        <p:blipFill>
          <a:blip r:embed="rId2"/>
          <a:stretch/>
        </p:blipFill>
        <p:spPr>
          <a:xfrm>
            <a:off x="7162920" y="42670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457200" y="274680"/>
            <a:ext cx="8229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54:5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