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6DBD-57E9-4E6A-AB5B-756AD1650B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82B3-11A0-4C28-B8F9-84BD8AC795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Автор презентации: Шамбергер Дарья Александ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есто работы:МОУ СОШ №2 сельского поселения «Село Хурба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олжность: учитель физики и информати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7A00-B0EC-4DF7-8A33-36E8B467E5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РЕШЕНИЕ УРАВН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И СИСТЕМ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равнение – равенство с одной или несколькими неизвестными. Значение неизвестной, при которой получается верное неравенство, называется </a:t>
            </a: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корнем урав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Решить систему уравнений –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начит найти множество всех пар значений переменных, при подстановке которых оба уравнения системы обращаются в верные равенства. Это множество называется </a:t>
            </a: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решением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A221-FE1E-49DF-ABE0-E578F0EFFC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Линейное урав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x=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некоторые числа, 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переменная, называется линейным уравнением (при а    0; х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/a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вадратное урав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bx+c=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х-переменная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любые числа, причем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    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называется квадратным уравн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ни квадратного уравнения находятся по форму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условии, ч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108E-BDF8-413C-8577-903D4A76E0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Impact"/>
              </a:rPr>
              <a:t>Линейная функция и ее граф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я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где х и у – переменные, 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любые действительные числа, называется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линейн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График линейной функции –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прям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Для его построения достаточно знать координаты двух точек, принадлежащих граф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График этой функции – прямая, параллельная оси х, проходящая через точку А(0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2523-8B63-4EC8-850F-4DBA8293C7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график такой функции – прямая, проходящая через начало координат и точку А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,k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. Тогда график функции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прямая, параллельная графику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проходящая через точк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(0,b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57F6-2D0B-46CB-9EC9-78F0B7D41E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Impact"/>
              </a:rPr>
              <a:t>График обратно пропорциональной 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для любой пары соответственных значений переменных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роизведение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вно одному и тому же числу, отличному от нуля, то переменна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обратно пропорциональн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; х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 (k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исло, не равное 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ли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/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649E-6DEC-4571-BC31-D2D95BE349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 Black"/>
              </a:rPr>
              <a:t>Обратите вним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Если по условию параметры состояния газа не изменяются, запишите уравнение Менделеева-Клапейрона и выразите неизвестную велич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Если по условию даны два или несколько состояний газа, то при решении задач рекомендуется соблюдать последователь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араметры состояния газа (как данные, так и искомые) запишите по форм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Запишите уравнение Менделеева-Клапейрона для каждого состояния, дополнительные условия, решите систему уравнений относительно искомой велич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C70E-CDE8-47E4-ADAD-A363DB7A2B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20см2, атмосферное давление р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10EC-473B-4C07-871C-1F529921F4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20см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, атмосферное давление р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5AC5-7E56-4EC6-B286-ED38C091C5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авление поршня;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авление гру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огласно закону Бойля-Мариотта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(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(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/2)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=26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26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Объем пузырька газа, всплывшего со дна озера на поверхность, увеличился в три раза. Какова глубина оз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9521-1B67-4E9A-AA59-4BBFD27AAB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4F9F-F717-4EB5-B3B1-D9F1E7B9C9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ИЗОПРОЦЕ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 связи с тем, что масса газа и его температура не изменяются, воспользуемся уравнением изотермического процесса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=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(p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+     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  gh)V=p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*3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ыразите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и подставьте зна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роверьте результа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Ответ: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h=20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EBBF-89A0-4909-A749-AE0295573B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2C3C-407D-4886-9F5E-131600F1C4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Impact"/>
              </a:rPr>
              <a:t>Тест "Изопроцессы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Как изменится давление идеального газа при увеличении температуры и объема газа в 4 раз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C457-7255-431D-9146-ABBA51C12C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В одинаковых сосудах при одинаковой температуре находятся водород (Н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) и углекислый газ (СО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). Массы газов одинаковы. Какой из газов и во сколько раз оказывает большее давление на стенки сосу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45F0-A386-428E-9C55-689B5608F8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Какому процессу соответствует график, изображенный на рисунк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92DB-846D-4F16-AA05-DF9F75BC49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Во сколько раз изменится давление воздуха в цилиндре (рис), если поршень переместить на </a:t>
            </a:r>
            <a:r>
              <a:rPr b="0" i="1" lang="en-US" sz="1200" spc="-1" strike="noStrike">
                <a:solidFill>
                  <a:srgbClr val="000000"/>
                </a:solidFill>
                <a:latin typeface="Arial Black"/>
              </a:rPr>
              <a:t>L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/3 влево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6422-1B31-483C-85E6-CBC9563DA5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Во сколько раз отличается плотность метана (СР4) от плотности кислорода (О2) при одинаковых условиях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37C3-9555-497B-A541-0B234EB3B1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езульт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он, А.Е. Физика. Законы, формулы, алгоритмы решения задач: материалы для подготовки к единому государственному экзамену и вступительным экзаменам в аузы/ А.Е.Марон, Д.Н.Городецкий, В.Е.Марон, Е.А.Марон; под ред.А.Е.Марона.-М.:Дрофа,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сьянов, В.А. Физика.10кл.:Учебн.для общеобразоват.учеб.заведений.-3-е изд. – М.:Дрофа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он, А.Е. Физика. 10класс: дидактические материалы/А.Е.Марон, Е.А.Марон.-6-е изд.-М.:Дрофа,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4385-94D9-4215-ADC4-7D68AD61F7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D2DA-D146-4E43-B965-E7AC28E4A5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A176-AD7B-4F76-9792-C091089549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процесс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, при котором один из макроскопических параметров состояния данной массы газа остается постоян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Макроскопические параметры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параметры характеризующие макросистему: давление, температура, объем (</a:t>
            </a:r>
            <a:r>
              <a:rPr b="0" i="1" lang="en-US" sz="1200" spc="-1" strike="noStrike">
                <a:solidFill>
                  <a:srgbClr val="000000"/>
                </a:solidFill>
                <a:latin typeface="Arial Black"/>
              </a:rPr>
              <a:t>P,V,T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460A-F31C-4F2D-BD09-16753E9E68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термически</a:t>
            </a: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	</a:t>
            </a: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й процесс (закон Бойля-Мариотта)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й температу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При изотермическом процессе Т=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204B-F9BD-4BFC-9643-A4B95ADD87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барный процесс(закон Гей-Люссака)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дав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При изобарном процессе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p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B1D3-9799-4E9A-B14A-1E9B0A8DF9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хорный процесс(закон Шарля)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объ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При изохорном процессе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V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75EF-9B5E-4487-807A-EF848EA052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ГРАФИКИ ИЗМЕН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АКРОСКОПИЧЕСКИХ ПАРАМЕ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EB6E-C0FC-4BF6-9098-AF4766BCF9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ЕШЕНИЕ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Необходимо знать из курса математики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ешение уравнений и систем урав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Линейная функция и ее граф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рафик обратно пропорцион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3200-7E59-456C-831B-8E46B88A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C4C2-1792-4893-B6DF-67903850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19F7-73A5-430A-A426-0C8AF73E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95D0-FE78-476B-859A-0577D835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D1FC-FEB3-4757-85F2-3DE97DDC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FBE3-61C2-4073-B7E9-8B232795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9D93-7CB5-4B35-AC5A-E910A8F5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763E-9A7C-4253-A968-3743E051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3F0F-EC1F-4CF0-9426-28B18FDE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3158-8D15-4077-B6E4-FD11EFAE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FE7-209A-47BC-963F-F656DECB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692E-99F3-4026-AABF-65F9AE20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AD08-1CC2-4815-A87B-510E34EEE7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.xml"/><Relationship Id="rId3" Type="http://schemas.openxmlformats.org/officeDocument/2006/relationships/slide" Target="slide21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6.xml"/><Relationship Id="rId5" Type="http://schemas.openxmlformats.org/officeDocument/2006/relationships/image" Target="../media/image3.wmf"/><Relationship Id="rId6" Type="http://schemas.openxmlformats.org/officeDocument/2006/relationships/slide" Target="slide7.xml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slide" Target="slide8.xml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8424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642960"/>
            <a:ext cx="8964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втор презентации: Шамбергер Дарья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есто работы:МОУ СОШ №2 сельского поселения «Село Хурба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олжность: учитель физики и информат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квалификационной катег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равнение – равенство с одной или несколькими неизвестными. Значение неизвестной, при которой получается верное неравенство, называется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корнем урав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шить систему уравнений –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начит найти множество всех пар значений переменных, при подстановке которых оба уравнения системы обращаются в верные равенства. Это множество называется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шением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УРАВНЕНИЙ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СИСТЕМ УРАВНЕНИЙ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Линейное урав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x=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некоторые числа, 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еременная, называется линейным уравнением (при а    0; х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/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вадратное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bx+c=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х-переменная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любые числа, приче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    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называется квадратным уравн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ни квадратного уравнения находятся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условии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1584360" y="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УРАВНЕНИЙ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СИСТЕМ УРАВНЕНИЙ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3851280" y="1916280"/>
                <a:ext cx="504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5146560" y="3213000"/>
                <a:ext cx="5050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0"/>
              <p:cNvSpPr txBox="1"/>
              <p:nvPr/>
            </p:nvSpPr>
            <p:spPr>
              <a:xfrm>
                <a:off x="2411280" y="4869000"/>
                <a:ext cx="3961080" cy="13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2"/>
              <p:cNvSpPr txBox="1"/>
              <p:nvPr/>
            </p:nvSpPr>
            <p:spPr>
              <a:xfrm>
                <a:off x="3564000" y="6110280"/>
                <a:ext cx="20541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AutoShape 14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8930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ункция у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где х и у – переменные, 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любые действительные числа, называется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линейн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График линейной функции –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ряма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Для его построения достаточно знать координаты двух точек, принадлежащих граф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График этой функции – прямая, параллельная оси х, проходящая через точку А(0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1042920" y="49320"/>
            <a:ext cx="7058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нейная функция и ее график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75" name="Group 14"/>
          <p:cNvGrpSpPr/>
          <p:nvPr/>
        </p:nvGrpSpPr>
        <p:grpSpPr>
          <a:xfrm>
            <a:off x="3780000" y="4724280"/>
            <a:ext cx="2952720" cy="2133720"/>
            <a:chOff x="3780000" y="4724280"/>
            <a:chExt cx="2952720" cy="2133720"/>
          </a:xfrm>
        </p:grpSpPr>
        <p:sp>
          <p:nvSpPr>
            <p:cNvPr id="176" name="Line 5"/>
            <p:cNvSpPr/>
            <p:nvPr/>
          </p:nvSpPr>
          <p:spPr>
            <a:xfrm flipV="1">
              <a:off x="4283280" y="4724280"/>
              <a:ext cx="0" cy="187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"/>
            <p:cNvGrpSpPr/>
            <p:nvPr/>
          </p:nvGrpSpPr>
          <p:grpSpPr>
            <a:xfrm>
              <a:off x="3780000" y="4724280"/>
              <a:ext cx="2952720" cy="2133720"/>
              <a:chOff x="3780000" y="4724280"/>
              <a:chExt cx="2952720" cy="2133720"/>
            </a:xfrm>
          </p:grpSpPr>
          <p:sp>
            <p:nvSpPr>
              <p:cNvPr id="178" name="Line 6"/>
              <p:cNvSpPr/>
              <p:nvPr/>
            </p:nvSpPr>
            <p:spPr>
              <a:xfrm>
                <a:off x="4283280" y="6597720"/>
                <a:ext cx="216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7"/>
              <p:cNvSpPr/>
              <p:nvPr/>
            </p:nvSpPr>
            <p:spPr>
              <a:xfrm>
                <a:off x="3996000" y="5734080"/>
                <a:ext cx="208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"/>
              <p:cNvSpPr/>
              <p:nvPr/>
            </p:nvSpPr>
            <p:spPr>
              <a:xfrm>
                <a:off x="4716720" y="5300640"/>
                <a:ext cx="86364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9"/>
              <p:cNvSpPr/>
              <p:nvPr/>
            </p:nvSpPr>
            <p:spPr>
              <a:xfrm>
                <a:off x="3780000" y="5300640"/>
                <a:ext cx="5050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"/>
              <p:cNvSpPr/>
              <p:nvPr/>
            </p:nvSpPr>
            <p:spPr>
              <a:xfrm>
                <a:off x="3780000" y="4724280"/>
                <a:ext cx="5763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1"/>
              <p:cNvSpPr/>
              <p:nvPr/>
            </p:nvSpPr>
            <p:spPr>
              <a:xfrm>
                <a:off x="3924720" y="6497640"/>
                <a:ext cx="3603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2"/>
              <p:cNvSpPr/>
              <p:nvPr/>
            </p:nvSpPr>
            <p:spPr>
              <a:xfrm>
                <a:off x="6444000" y="6497640"/>
                <a:ext cx="2887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график такой функции – прямая, проходящая через начало координат и точку А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,k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 Тогда график функции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прямая, параллельная графику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проходящая через точку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(0,b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4"/>
          <p:cNvSpPr txBox="1"/>
          <p:nvPr/>
        </p:nvSpPr>
        <p:spPr>
          <a:xfrm>
            <a:off x="1042920" y="49320"/>
            <a:ext cx="7058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нейная функция и ее график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Line 5"/>
          <p:cNvSpPr/>
          <p:nvPr/>
        </p:nvSpPr>
        <p:spPr>
          <a:xfrm flipV="1">
            <a:off x="4140360" y="3789000"/>
            <a:ext cx="0" cy="25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3132000" y="5950080"/>
            <a:ext cx="324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>
            <a:off x="3850920" y="4365720"/>
            <a:ext cx="1584360" cy="19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 flipH="1">
            <a:off x="3276360" y="4221000"/>
            <a:ext cx="1584360" cy="194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4140360" y="450864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5364000" y="450864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3564000" y="371628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156360" y="6021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5364000" y="436572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4140360" y="5013360"/>
            <a:ext cx="50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3635280" y="4797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5148360" y="6021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3492360" y="6021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9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для любой пары соответственных значений переменных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оизведени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вно одному и тому же числу, отличному от нуля, то переменная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братно пропорциональн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; х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 (k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ло, не равное 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ли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/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250920" y="0"/>
            <a:ext cx="8642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афик обратно пропорциональной зависимост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Line 5"/>
          <p:cNvSpPr/>
          <p:nvPr/>
        </p:nvSpPr>
        <p:spPr>
          <a:xfrm flipV="1">
            <a:off x="2556000" y="3789000"/>
            <a:ext cx="0" cy="25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6"/>
          <p:cNvSpPr/>
          <p:nvPr/>
        </p:nvSpPr>
        <p:spPr>
          <a:xfrm>
            <a:off x="2556000" y="638172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8"/>
          <p:cNvSpPr/>
          <p:nvPr/>
        </p:nvSpPr>
        <p:spPr>
          <a:xfrm rot="21317400">
            <a:off x="2654280" y="4002120"/>
            <a:ext cx="1774800" cy="216072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2160720"/>
              <a:gd name="textAreaBottom" fmla="*/ 2161080 h 2160720"/>
            </a:gdLst>
            <a:ahLst/>
            <a:rect l="textAreaLeft" t="textAreaTop" r="textAreaRight" b="textAreaBottom"/>
            <a:pathLst>
              <a:path w="1073" h="1315">
                <a:moveTo>
                  <a:pt x="75" y="0"/>
                </a:moveTo>
                <a:cubicBezTo>
                  <a:pt x="37" y="435"/>
                  <a:pt x="0" y="870"/>
                  <a:pt x="166" y="1089"/>
                </a:cubicBezTo>
                <a:cubicBezTo>
                  <a:pt x="332" y="1308"/>
                  <a:pt x="922" y="1277"/>
                  <a:pt x="1073" y="131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2197080" y="6237360"/>
            <a:ext cx="287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2124000" y="3645000"/>
            <a:ext cx="287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5364000" y="6381720"/>
            <a:ext cx="28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2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6868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359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 Black"/>
              </a:rPr>
              <a:t>Обратите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сли по условию параметры состояния газа не изменяются, запишите уравнение Менделеева-Клапейрона и выразите неизвестную велич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сли по условию даны два или несколько состояний газа, то при решении задач рекомендуется соблюдать последовательно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араметры состояния газа (как данные, так и искомые) запишите по фор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апишите уравнение Менделеева-Клапейрона для каждого состояния, дополнительные условия, решите систему уравнений относительно искомой вел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24000" y="3789360"/>
          <a:ext cx="8434080" cy="2060640"/>
        </p:xfrm>
        <a:graphic>
          <a:graphicData uri="http://schemas.openxmlformats.org/drawingml/2006/table">
            <a:tbl>
              <a:tblPr/>
              <a:tblGrid>
                <a:gridCol w="1744560"/>
                <a:gridCol w="1671480"/>
                <a:gridCol w="1673280"/>
                <a:gridCol w="1671840"/>
                <a:gridCol w="1672920"/>
              </a:tblGrid>
              <a:tr h="109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состояние г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состояние г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 rot="16200000">
            <a:off x="6048360" y="2780640"/>
            <a:ext cx="2305080" cy="1441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7"/>
          <p:cNvSpPr/>
          <p:nvPr/>
        </p:nvSpPr>
        <p:spPr>
          <a:xfrm>
            <a:off x="7956720" y="6308640"/>
            <a:ext cx="1187280" cy="54936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6666" h="21600">
                <a:moveTo>
                  <a:pt x="0" y="0"/>
                </a:moveTo>
                <a:lnTo>
                  <a:pt x="46666" y="0"/>
                </a:lnTo>
                <a:lnTo>
                  <a:pt x="46666" y="21600"/>
                </a:lnTo>
                <a:lnTo>
                  <a:pt x="0" y="21600"/>
                </a:lnTo>
                <a:close/>
              </a:path>
              <a:path fill="lightenLess" w="46666" h="21600">
                <a:moveTo>
                  <a:pt x="0" y="0"/>
                </a:moveTo>
                <a:lnTo>
                  <a:pt x="46666" y="0"/>
                </a:lnTo>
                <a:lnTo>
                  <a:pt x="45266" y="1400"/>
                </a:lnTo>
                <a:lnTo>
                  <a:pt x="1400" y="1400"/>
                </a:lnTo>
                <a:close/>
              </a:path>
              <a:path fill="darken" w="46666" h="21600">
                <a:moveTo>
                  <a:pt x="46666" y="0"/>
                </a:moveTo>
                <a:lnTo>
                  <a:pt x="46666" y="21600"/>
                </a:lnTo>
                <a:lnTo>
                  <a:pt x="45266" y="20200"/>
                </a:lnTo>
                <a:lnTo>
                  <a:pt x="45266" y="1400"/>
                </a:lnTo>
                <a:close/>
              </a:path>
              <a:path fill="darkenLess" w="46666" h="21600">
                <a:moveTo>
                  <a:pt x="46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6" y="20200"/>
                </a:lnTo>
                <a:close/>
              </a:path>
              <a:path fill="lighten" w="46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36"/>
          <p:cNvGrpSpPr/>
          <p:nvPr/>
        </p:nvGrpSpPr>
        <p:grpSpPr>
          <a:xfrm>
            <a:off x="6480000" y="1125720"/>
            <a:ext cx="1441440" cy="1368360"/>
            <a:chOff x="6480000" y="1125720"/>
            <a:chExt cx="1441440" cy="1368360"/>
          </a:xfrm>
        </p:grpSpPr>
        <p:grpSp>
          <p:nvGrpSpPr>
            <p:cNvPr id="220" name="Group 8"/>
            <p:cNvGrpSpPr/>
            <p:nvPr/>
          </p:nvGrpSpPr>
          <p:grpSpPr>
            <a:xfrm>
              <a:off x="6480000" y="1125720"/>
              <a:ext cx="1441440" cy="1368360"/>
              <a:chOff x="6480000" y="1125720"/>
              <a:chExt cx="1441440" cy="1368360"/>
            </a:xfrm>
          </p:grpSpPr>
          <p:sp>
            <p:nvSpPr>
              <p:cNvPr id="221" name="Rectangle 5"/>
              <p:cNvSpPr/>
              <p:nvPr/>
            </p:nvSpPr>
            <p:spPr>
              <a:xfrm rot="16200000">
                <a:off x="6765120" y="1603080"/>
                <a:ext cx="870480" cy="289080"/>
              </a:xfrm>
              <a:prstGeom prst="rect">
                <a:avLst/>
              </a:prstGeom>
              <a:solidFill>
                <a:srgbClr val="0080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6"/>
              <p:cNvSpPr/>
              <p:nvPr/>
            </p:nvSpPr>
            <p:spPr>
              <a:xfrm rot="16200000">
                <a:off x="7143840" y="679320"/>
                <a:ext cx="186480" cy="1079280"/>
              </a:xfrm>
              <a:prstGeom prst="rect">
                <a:avLst/>
              </a:prstGeom>
              <a:solidFill>
                <a:srgbClr val="0080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7"/>
              <p:cNvSpPr/>
              <p:nvPr/>
            </p:nvSpPr>
            <p:spPr>
              <a:xfrm rot="16200000">
                <a:off x="7045200" y="1617840"/>
                <a:ext cx="311040" cy="1441440"/>
              </a:xfrm>
              <a:prstGeom prst="rect">
                <a:avLst/>
              </a:prstGeom>
              <a:solidFill>
                <a:srgbClr val="0080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Rectangle 29"/>
            <p:cNvSpPr/>
            <p:nvPr/>
          </p:nvSpPr>
          <p:spPr>
            <a:xfrm>
              <a:off x="6877080" y="1413000"/>
              <a:ext cx="647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 Black"/>
                </a:rPr>
                <a:t>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5"/>
            <p:cNvSpPr/>
            <p:nvPr/>
          </p:nvSpPr>
          <p:spPr>
            <a:xfrm>
              <a:off x="6877080" y="2205000"/>
              <a:ext cx="647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S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37"/>
          <p:cNvSpPr/>
          <p:nvPr/>
        </p:nvSpPr>
        <p:spPr>
          <a:xfrm>
            <a:off x="6877080" y="692280"/>
            <a:ext cx="503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40"/>
          <p:cNvGrpSpPr/>
          <p:nvPr/>
        </p:nvGrpSpPr>
        <p:grpSpPr>
          <a:xfrm>
            <a:off x="5303880" y="765000"/>
            <a:ext cx="492120" cy="576360"/>
            <a:chOff x="5303880" y="765000"/>
            <a:chExt cx="492120" cy="576360"/>
          </a:xfrm>
        </p:grpSpPr>
        <p:pic>
          <p:nvPicPr>
            <p:cNvPr id="228" name="Picture 38" descr=""/>
            <p:cNvPicPr/>
            <p:nvPr/>
          </p:nvPicPr>
          <p:blipFill>
            <a:blip r:embed="rId2">
              <a:alphaModFix amt="0"/>
            </a:blip>
            <a:srcRect l="21353" t="20851" r="14803" b="5567"/>
            <a:stretch/>
          </p:blipFill>
          <p:spPr>
            <a:xfrm>
              <a:off x="5303880" y="765000"/>
              <a:ext cx="49212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9"/>
            <p:cNvSpPr/>
            <p:nvPr/>
          </p:nvSpPr>
          <p:spPr>
            <a:xfrm>
              <a:off x="5435640" y="907920"/>
              <a:ext cx="144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41"/>
          <p:cNvGrpSpPr/>
          <p:nvPr/>
        </p:nvGrpSpPr>
        <p:grpSpPr>
          <a:xfrm>
            <a:off x="6516720" y="1628640"/>
            <a:ext cx="492120" cy="576360"/>
            <a:chOff x="6516720" y="1628640"/>
            <a:chExt cx="492120" cy="576360"/>
          </a:xfrm>
        </p:grpSpPr>
        <p:pic>
          <p:nvPicPr>
            <p:cNvPr id="231" name="Picture 42" descr=""/>
            <p:cNvPicPr/>
            <p:nvPr/>
          </p:nvPicPr>
          <p:blipFill>
            <a:blip r:embed="rId3">
              <a:alphaModFix amt="0"/>
            </a:blip>
            <a:srcRect l="21353" t="20851" r="14803" b="5567"/>
            <a:stretch/>
          </p:blipFill>
          <p:spPr>
            <a:xfrm>
              <a:off x="6516720" y="1628640"/>
              <a:ext cx="49212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Rectangle 43"/>
            <p:cNvSpPr/>
            <p:nvPr/>
          </p:nvSpPr>
          <p:spPr>
            <a:xfrm>
              <a:off x="6648480" y="1771560"/>
              <a:ext cx="144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6840" y="764640"/>
            <a:ext cx="497844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=20см2, атмосферное давление р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45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Rectangle 46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49769E-007 L 0.13716 0.12581 E">
                                      <p:cBhvr>
                                        <p:cTn id="119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44681E-006 L 3.05556E-006 0.16791 E">
                                      <p:cBhvr>
                                        <p:cTn id="125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1 3.14524E-007 L 0.00121 0.1679 E">
                                      <p:cBhvr>
                                        <p:cTn id="129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893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20см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атмосферное давление р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19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50920" y="2997360"/>
          <a:ext cx="8640720" cy="1971360"/>
        </p:xfrm>
        <a:graphic>
          <a:graphicData uri="http://schemas.openxmlformats.org/drawingml/2006/table">
            <a:tbl>
              <a:tblPr/>
              <a:tblGrid>
                <a:gridCol w="1368360"/>
                <a:gridCol w="1150920"/>
                <a:gridCol w="3554280"/>
                <a:gridCol w="1455840"/>
                <a:gridCol w="1111320"/>
              </a:tblGrid>
              <a:tr h="87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(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Rectangle 54"/>
          <p:cNvSpPr/>
          <p:nvPr/>
        </p:nvSpPr>
        <p:spPr>
          <a:xfrm>
            <a:off x="324000" y="5300640"/>
            <a:ext cx="88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0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03280" y="620640"/>
          <a:ext cx="8640720" cy="1197000"/>
        </p:xfrm>
        <a:graphic>
          <a:graphicData uri="http://schemas.openxmlformats.org/drawingml/2006/table">
            <a:tbl>
              <a:tblPr/>
              <a:tblGrid>
                <a:gridCol w="1368360"/>
                <a:gridCol w="1150920"/>
                <a:gridCol w="3554280"/>
                <a:gridCol w="1455840"/>
                <a:gridCol w="111132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(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Rectangle 24"/>
          <p:cNvSpPr/>
          <p:nvPr/>
        </p:nvSpPr>
        <p:spPr>
          <a:xfrm>
            <a:off x="324000" y="1773360"/>
            <a:ext cx="88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8200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авление поршня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авление гру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гласно закону Бойля-Мариотт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(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(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2)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=26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26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9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46"/>
          <p:cNvSpPr/>
          <p:nvPr/>
        </p:nvSpPr>
        <p:spPr>
          <a:xfrm>
            <a:off x="2916360" y="6021360"/>
            <a:ext cx="576000" cy="76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47"/>
          <p:cNvSpPr/>
          <p:nvPr/>
        </p:nvSpPr>
        <p:spPr>
          <a:xfrm>
            <a:off x="3564000" y="6021360"/>
            <a:ext cx="576360" cy="76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8"/>
          <p:cNvSpPr/>
          <p:nvPr/>
        </p:nvSpPr>
        <p:spPr>
          <a:xfrm>
            <a:off x="4211640" y="6021360"/>
            <a:ext cx="576360" cy="76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3"/>
          <p:cNvSpPr/>
          <p:nvPr/>
        </p:nvSpPr>
        <p:spPr>
          <a:xfrm>
            <a:off x="32400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4"/>
          <p:cNvSpPr/>
          <p:nvPr/>
        </p:nvSpPr>
        <p:spPr>
          <a:xfrm>
            <a:off x="97164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5"/>
          <p:cNvSpPr/>
          <p:nvPr/>
        </p:nvSpPr>
        <p:spPr>
          <a:xfrm>
            <a:off x="161928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6"/>
          <p:cNvSpPr/>
          <p:nvPr/>
        </p:nvSpPr>
        <p:spPr>
          <a:xfrm>
            <a:off x="226836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7"/>
          <p:cNvSpPr/>
          <p:nvPr/>
        </p:nvSpPr>
        <p:spPr>
          <a:xfrm>
            <a:off x="291636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8"/>
          <p:cNvSpPr/>
          <p:nvPr/>
        </p:nvSpPr>
        <p:spPr>
          <a:xfrm>
            <a:off x="356400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9"/>
          <p:cNvSpPr/>
          <p:nvPr/>
        </p:nvSpPr>
        <p:spPr>
          <a:xfrm>
            <a:off x="421164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0"/>
          <p:cNvSpPr/>
          <p:nvPr/>
        </p:nvSpPr>
        <p:spPr>
          <a:xfrm>
            <a:off x="485928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1"/>
          <p:cNvSpPr/>
          <p:nvPr/>
        </p:nvSpPr>
        <p:spPr>
          <a:xfrm>
            <a:off x="550872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2"/>
          <p:cNvSpPr/>
          <p:nvPr/>
        </p:nvSpPr>
        <p:spPr>
          <a:xfrm>
            <a:off x="615636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3"/>
          <p:cNvSpPr/>
          <p:nvPr/>
        </p:nvSpPr>
        <p:spPr>
          <a:xfrm>
            <a:off x="680400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4"/>
          <p:cNvSpPr/>
          <p:nvPr/>
        </p:nvSpPr>
        <p:spPr>
          <a:xfrm>
            <a:off x="745164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5"/>
          <p:cNvSpPr/>
          <p:nvPr/>
        </p:nvSpPr>
        <p:spPr>
          <a:xfrm>
            <a:off x="810108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79280" y="1844640"/>
          <a:ext cx="8964720" cy="3084480"/>
        </p:xfrm>
        <a:graphic>
          <a:graphicData uri="http://schemas.openxmlformats.org/drawingml/2006/table">
            <a:tbl>
              <a:tblPr/>
              <a:tblGrid>
                <a:gridCol w="863640"/>
                <a:gridCol w="2305080"/>
                <a:gridCol w="2351160"/>
                <a:gridCol w="1720800"/>
                <a:gridCol w="1724040"/>
              </a:tblGrid>
              <a:tr h="160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h-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Rectangle 36"/>
          <p:cNvSpPr/>
          <p:nvPr/>
        </p:nvSpPr>
        <p:spPr>
          <a:xfrm>
            <a:off x="1763640" y="227484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7"/>
          <p:cNvSpPr/>
          <p:nvPr/>
        </p:nvSpPr>
        <p:spPr>
          <a:xfrm>
            <a:off x="2411280" y="2274840"/>
            <a:ext cx="50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3"/>
          <p:cNvSpPr/>
          <p:nvPr/>
        </p:nvSpPr>
        <p:spPr>
          <a:xfrm>
            <a:off x="1763640" y="3787920"/>
            <a:ext cx="576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4"/>
          <p:cNvSpPr/>
          <p:nvPr/>
        </p:nvSpPr>
        <p:spPr>
          <a:xfrm>
            <a:off x="2411280" y="3787920"/>
            <a:ext cx="5050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3995640" y="2274840"/>
            <a:ext cx="50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6"/>
          <p:cNvSpPr/>
          <p:nvPr/>
        </p:nvSpPr>
        <p:spPr>
          <a:xfrm>
            <a:off x="4572000" y="2274840"/>
            <a:ext cx="504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7"/>
          <p:cNvSpPr/>
          <p:nvPr/>
        </p:nvSpPr>
        <p:spPr>
          <a:xfrm>
            <a:off x="5148360" y="2274840"/>
            <a:ext cx="504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8"/>
          <p:cNvSpPr/>
          <p:nvPr/>
        </p:nvSpPr>
        <p:spPr>
          <a:xfrm>
            <a:off x="3995640" y="3787920"/>
            <a:ext cx="5050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9"/>
          <p:cNvSpPr/>
          <p:nvPr/>
        </p:nvSpPr>
        <p:spPr>
          <a:xfrm>
            <a:off x="4572000" y="3787920"/>
            <a:ext cx="5047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0"/>
          <p:cNvSpPr/>
          <p:nvPr/>
        </p:nvSpPr>
        <p:spPr>
          <a:xfrm>
            <a:off x="5148360" y="3787920"/>
            <a:ext cx="5047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1"/>
          <p:cNvSpPr/>
          <p:nvPr/>
        </p:nvSpPr>
        <p:spPr>
          <a:xfrm>
            <a:off x="6443640" y="2274840"/>
            <a:ext cx="504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2"/>
          <p:cNvSpPr/>
          <p:nvPr/>
        </p:nvSpPr>
        <p:spPr>
          <a:xfrm>
            <a:off x="6443640" y="3787920"/>
            <a:ext cx="5047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3"/>
          <p:cNvSpPr/>
          <p:nvPr/>
        </p:nvSpPr>
        <p:spPr>
          <a:xfrm>
            <a:off x="8172360" y="2347920"/>
            <a:ext cx="50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4"/>
          <p:cNvSpPr/>
          <p:nvPr/>
        </p:nvSpPr>
        <p:spPr>
          <a:xfrm>
            <a:off x="8172360" y="3787920"/>
            <a:ext cx="5050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6"/>
          <p:cNvSpPr/>
          <p:nvPr/>
        </p:nvSpPr>
        <p:spPr>
          <a:xfrm>
            <a:off x="10429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7"/>
          <p:cNvSpPr/>
          <p:nvPr/>
        </p:nvSpPr>
        <p:spPr>
          <a:xfrm>
            <a:off x="1619280" y="515772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59"/>
          <p:cNvSpPr/>
          <p:nvPr/>
        </p:nvSpPr>
        <p:spPr>
          <a:xfrm>
            <a:off x="298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0"/>
          <p:cNvSpPr/>
          <p:nvPr/>
        </p:nvSpPr>
        <p:spPr>
          <a:xfrm>
            <a:off x="363528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 Black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61"/>
          <p:cNvSpPr/>
          <p:nvPr/>
        </p:nvSpPr>
        <p:spPr>
          <a:xfrm>
            <a:off x="4284720" y="5157720"/>
            <a:ext cx="431640" cy="5763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36">
                <a:moveTo>
                  <a:pt x="0" y="0"/>
                </a:moveTo>
                <a:lnTo>
                  <a:pt x="21600" y="0"/>
                </a:lnTo>
                <a:lnTo>
                  <a:pt x="21600" y="28836"/>
                </a:lnTo>
                <a:lnTo>
                  <a:pt x="0" y="28836"/>
                </a:lnTo>
                <a:close/>
              </a:path>
              <a:path fill="lightenLess" w="21600" h="288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36">
                <a:moveTo>
                  <a:pt x="21600" y="0"/>
                </a:moveTo>
                <a:lnTo>
                  <a:pt x="21600" y="28836"/>
                </a:lnTo>
                <a:lnTo>
                  <a:pt x="20200" y="27436"/>
                </a:lnTo>
                <a:lnTo>
                  <a:pt x="20200" y="1400"/>
                </a:lnTo>
                <a:close/>
              </a:path>
              <a:path fill="darkenLess" w="21600" h="28836">
                <a:moveTo>
                  <a:pt x="21600" y="28836"/>
                </a:moveTo>
                <a:lnTo>
                  <a:pt x="0" y="28836"/>
                </a:lnTo>
                <a:lnTo>
                  <a:pt x="1400" y="27436"/>
                </a:lnTo>
                <a:lnTo>
                  <a:pt x="20200" y="27436"/>
                </a:lnTo>
                <a:close/>
              </a:path>
              <a:path fill="lighten" w="21600" h="28836">
                <a:moveTo>
                  <a:pt x="0" y="288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3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2"/>
          <p:cNvSpPr/>
          <p:nvPr/>
        </p:nvSpPr>
        <p:spPr>
          <a:xfrm>
            <a:off x="4932360" y="5157720"/>
            <a:ext cx="431640" cy="5763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36">
                <a:moveTo>
                  <a:pt x="0" y="0"/>
                </a:moveTo>
                <a:lnTo>
                  <a:pt x="21600" y="0"/>
                </a:lnTo>
                <a:lnTo>
                  <a:pt x="21600" y="28836"/>
                </a:lnTo>
                <a:lnTo>
                  <a:pt x="0" y="28836"/>
                </a:lnTo>
                <a:close/>
              </a:path>
              <a:path fill="lightenLess" w="21600" h="288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36">
                <a:moveTo>
                  <a:pt x="21600" y="0"/>
                </a:moveTo>
                <a:lnTo>
                  <a:pt x="21600" y="28836"/>
                </a:lnTo>
                <a:lnTo>
                  <a:pt x="20200" y="27436"/>
                </a:lnTo>
                <a:lnTo>
                  <a:pt x="20200" y="1400"/>
                </a:lnTo>
                <a:close/>
              </a:path>
              <a:path fill="darkenLess" w="21600" h="28836">
                <a:moveTo>
                  <a:pt x="21600" y="28836"/>
                </a:moveTo>
                <a:lnTo>
                  <a:pt x="0" y="28836"/>
                </a:lnTo>
                <a:lnTo>
                  <a:pt x="1400" y="27436"/>
                </a:lnTo>
                <a:lnTo>
                  <a:pt x="20200" y="27436"/>
                </a:lnTo>
                <a:close/>
              </a:path>
              <a:path fill="lighten" w="21600" h="28836">
                <a:moveTo>
                  <a:pt x="0" y="288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3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3"/>
          <p:cNvSpPr/>
          <p:nvPr/>
        </p:nvSpPr>
        <p:spPr>
          <a:xfrm>
            <a:off x="558000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64"/>
          <p:cNvSpPr/>
          <p:nvPr/>
        </p:nvSpPr>
        <p:spPr>
          <a:xfrm>
            <a:off x="622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66"/>
          <p:cNvSpPr/>
          <p:nvPr/>
        </p:nvSpPr>
        <p:spPr>
          <a:xfrm>
            <a:off x="75247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67"/>
          <p:cNvSpPr/>
          <p:nvPr/>
        </p:nvSpPr>
        <p:spPr>
          <a:xfrm>
            <a:off x="817236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96"/>
          <p:cNvSpPr/>
          <p:nvPr/>
        </p:nvSpPr>
        <p:spPr>
          <a:xfrm>
            <a:off x="10429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99"/>
          <p:cNvSpPr/>
          <p:nvPr/>
        </p:nvSpPr>
        <p:spPr>
          <a:xfrm>
            <a:off x="298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03"/>
          <p:cNvSpPr/>
          <p:nvPr/>
        </p:nvSpPr>
        <p:spPr>
          <a:xfrm>
            <a:off x="558000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04"/>
          <p:cNvSpPr/>
          <p:nvPr/>
        </p:nvSpPr>
        <p:spPr>
          <a:xfrm>
            <a:off x="622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6"/>
          <p:cNvSpPr/>
          <p:nvPr/>
        </p:nvSpPr>
        <p:spPr>
          <a:xfrm>
            <a:off x="75247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07"/>
          <p:cNvSpPr/>
          <p:nvPr/>
        </p:nvSpPr>
        <p:spPr>
          <a:xfrm>
            <a:off x="817236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43"/>
          <p:cNvSpPr/>
          <p:nvPr/>
        </p:nvSpPr>
        <p:spPr>
          <a:xfrm>
            <a:off x="2987640" y="609300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45"/>
          <p:cNvSpPr/>
          <p:nvPr/>
        </p:nvSpPr>
        <p:spPr>
          <a:xfrm>
            <a:off x="4284720" y="609300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51"/>
          <p:cNvSpPr/>
          <p:nvPr/>
        </p:nvSpPr>
        <p:spPr>
          <a:xfrm>
            <a:off x="4284720" y="609300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5"/>
          <p:cNvSpPr/>
          <p:nvPr/>
        </p:nvSpPr>
        <p:spPr>
          <a:xfrm>
            <a:off x="39672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98"/>
          <p:cNvSpPr/>
          <p:nvPr/>
        </p:nvSpPr>
        <p:spPr>
          <a:xfrm>
            <a:off x="234144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49"/>
          <p:cNvSpPr/>
          <p:nvPr/>
        </p:nvSpPr>
        <p:spPr>
          <a:xfrm>
            <a:off x="2989440" y="611676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00"/>
          <p:cNvSpPr/>
          <p:nvPr/>
        </p:nvSpPr>
        <p:spPr>
          <a:xfrm>
            <a:off x="363708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 Black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05"/>
          <p:cNvSpPr/>
          <p:nvPr/>
        </p:nvSpPr>
        <p:spPr>
          <a:xfrm>
            <a:off x="687708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65"/>
          <p:cNvSpPr/>
          <p:nvPr/>
        </p:nvSpPr>
        <p:spPr>
          <a:xfrm>
            <a:off x="687708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52"/>
          <p:cNvSpPr/>
          <p:nvPr/>
        </p:nvSpPr>
        <p:spPr>
          <a:xfrm>
            <a:off x="250920" y="692280"/>
            <a:ext cx="8893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бъем пузырька газа, всплывшего со дна озера на поверхность, увеличился в три раза. Какова глубина оз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44"/>
          <p:cNvSpPr/>
          <p:nvPr/>
        </p:nvSpPr>
        <p:spPr>
          <a:xfrm>
            <a:off x="3635280" y="609300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50"/>
          <p:cNvSpPr/>
          <p:nvPr/>
        </p:nvSpPr>
        <p:spPr>
          <a:xfrm>
            <a:off x="3637080" y="611676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02"/>
          <p:cNvSpPr/>
          <p:nvPr/>
        </p:nvSpPr>
        <p:spPr>
          <a:xfrm>
            <a:off x="493236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01"/>
          <p:cNvSpPr/>
          <p:nvPr/>
        </p:nvSpPr>
        <p:spPr>
          <a:xfrm>
            <a:off x="428472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58"/>
          <p:cNvSpPr/>
          <p:nvPr/>
        </p:nvSpPr>
        <p:spPr>
          <a:xfrm>
            <a:off x="234144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97"/>
          <p:cNvSpPr/>
          <p:nvPr/>
        </p:nvSpPr>
        <p:spPr>
          <a:xfrm>
            <a:off x="1655640" y="5194440"/>
            <a:ext cx="503280" cy="576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19">
                <a:moveTo>
                  <a:pt x="0" y="0"/>
                </a:moveTo>
                <a:lnTo>
                  <a:pt x="21600" y="0"/>
                </a:lnTo>
                <a:lnTo>
                  <a:pt x="21600" y="24719"/>
                </a:lnTo>
                <a:lnTo>
                  <a:pt x="0" y="24719"/>
                </a:lnTo>
                <a:close/>
              </a:path>
              <a:path fill="lightenLess" w="21600" h="247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19">
                <a:moveTo>
                  <a:pt x="21600" y="0"/>
                </a:moveTo>
                <a:lnTo>
                  <a:pt x="21600" y="24719"/>
                </a:lnTo>
                <a:lnTo>
                  <a:pt x="20200" y="23319"/>
                </a:lnTo>
                <a:lnTo>
                  <a:pt x="20200" y="1400"/>
                </a:lnTo>
                <a:close/>
              </a:path>
              <a:path fill="darkenLess" w="21600" h="24719">
                <a:moveTo>
                  <a:pt x="21600" y="24719"/>
                </a:moveTo>
                <a:lnTo>
                  <a:pt x="0" y="24719"/>
                </a:lnTo>
                <a:lnTo>
                  <a:pt x="1400" y="23319"/>
                </a:lnTo>
                <a:lnTo>
                  <a:pt x="20200" y="23319"/>
                </a:lnTo>
                <a:close/>
              </a:path>
              <a:path fill="lighten" w="21600" h="24719">
                <a:moveTo>
                  <a:pt x="0" y="247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1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08"/>
          <p:cNvSpPr/>
          <p:nvPr/>
        </p:nvSpPr>
        <p:spPr>
          <a:xfrm>
            <a:off x="39672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9"/>
          <p:cNvSpPr txBox="1"/>
          <p:nvPr/>
        </p:nvSpPr>
        <p:spPr>
          <a:xfrm>
            <a:off x="1116000" y="620640"/>
            <a:ext cx="7343640" cy="235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ЗОПРОЦЕСС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AutoShape 15">
            <a:hlinkClick r:id="rId1" action="ppaction://hlinksldjump"/>
          </p:cNvPr>
          <p:cNvSpPr/>
          <p:nvPr/>
        </p:nvSpPr>
        <p:spPr>
          <a:xfrm>
            <a:off x="5364000" y="3860640"/>
            <a:ext cx="3035520" cy="720720"/>
          </a:xfrm>
          <a:custGeom>
            <a:avLst/>
            <a:gdLst>
              <a:gd name="textAreaLeft" fmla="*/ 46440 w 3035520"/>
              <a:gd name="textAreaRight" fmla="*/ 2989080 w 3035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40" h="21600">
                <a:moveTo>
                  <a:pt x="0" y="0"/>
                </a:moveTo>
                <a:lnTo>
                  <a:pt x="90940" y="0"/>
                </a:lnTo>
                <a:lnTo>
                  <a:pt x="90940" y="21600"/>
                </a:lnTo>
                <a:lnTo>
                  <a:pt x="0" y="21600"/>
                </a:lnTo>
                <a:close/>
              </a:path>
              <a:path fill="lightenLess" w="90940" h="21600">
                <a:moveTo>
                  <a:pt x="0" y="0"/>
                </a:moveTo>
                <a:lnTo>
                  <a:pt x="90940" y="0"/>
                </a:lnTo>
                <a:lnTo>
                  <a:pt x="89540" y="1400"/>
                </a:lnTo>
                <a:lnTo>
                  <a:pt x="1400" y="1400"/>
                </a:lnTo>
                <a:close/>
              </a:path>
              <a:path fill="darken" w="90940" h="21600">
                <a:moveTo>
                  <a:pt x="90940" y="0"/>
                </a:moveTo>
                <a:lnTo>
                  <a:pt x="90940" y="21600"/>
                </a:lnTo>
                <a:lnTo>
                  <a:pt x="89540" y="20200"/>
                </a:lnTo>
                <a:lnTo>
                  <a:pt x="89540" y="1400"/>
                </a:lnTo>
                <a:close/>
              </a:path>
              <a:path fill="darkenLess" w="90940" h="21600">
                <a:moveTo>
                  <a:pt x="909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40" y="20200"/>
                </a:lnTo>
                <a:close/>
              </a:path>
              <a:path fill="lighten" w="909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решение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6">
            <a:hlinkClick r:id="rId2" action="ppaction://hlinksldjump"/>
          </p:cNvPr>
          <p:cNvSpPr/>
          <p:nvPr/>
        </p:nvSpPr>
        <p:spPr>
          <a:xfrm>
            <a:off x="684360" y="3860640"/>
            <a:ext cx="3035160" cy="720720"/>
          </a:xfrm>
          <a:custGeom>
            <a:avLst/>
            <a:gdLst>
              <a:gd name="textAreaLeft" fmla="*/ 46440 w 3035160"/>
              <a:gd name="textAreaRight" fmla="*/ 2988720 w 30351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29" h="21600">
                <a:moveTo>
                  <a:pt x="0" y="0"/>
                </a:moveTo>
                <a:lnTo>
                  <a:pt x="90929" y="0"/>
                </a:lnTo>
                <a:lnTo>
                  <a:pt x="90929" y="21600"/>
                </a:lnTo>
                <a:lnTo>
                  <a:pt x="0" y="21600"/>
                </a:lnTo>
                <a:close/>
              </a:path>
              <a:path fill="lightenLess" w="90929" h="21600">
                <a:moveTo>
                  <a:pt x="0" y="0"/>
                </a:moveTo>
                <a:lnTo>
                  <a:pt x="90929" y="0"/>
                </a:lnTo>
                <a:lnTo>
                  <a:pt x="89529" y="1400"/>
                </a:lnTo>
                <a:lnTo>
                  <a:pt x="1400" y="1400"/>
                </a:lnTo>
                <a:close/>
              </a:path>
              <a:path fill="darken" w="90929" h="21600">
                <a:moveTo>
                  <a:pt x="90929" y="0"/>
                </a:moveTo>
                <a:lnTo>
                  <a:pt x="90929" y="21600"/>
                </a:lnTo>
                <a:lnTo>
                  <a:pt x="89529" y="20200"/>
                </a:lnTo>
                <a:lnTo>
                  <a:pt x="89529" y="1400"/>
                </a:lnTo>
                <a:close/>
              </a:path>
              <a:path fill="darkenLess" w="90929" h="21600">
                <a:moveTo>
                  <a:pt x="9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29" y="20200"/>
                </a:lnTo>
                <a:close/>
              </a:path>
              <a:path fill="lighten" w="9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те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7">
            <a:hlinkClick r:id="rId3" action="ppaction://hlinksldjump"/>
          </p:cNvPr>
          <p:cNvSpPr/>
          <p:nvPr/>
        </p:nvSpPr>
        <p:spPr>
          <a:xfrm>
            <a:off x="684360" y="4940280"/>
            <a:ext cx="3035160" cy="720720"/>
          </a:xfrm>
          <a:custGeom>
            <a:avLst/>
            <a:gdLst>
              <a:gd name="textAreaLeft" fmla="*/ 46440 w 3035160"/>
              <a:gd name="textAreaRight" fmla="*/ 2988720 w 30351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29" h="21600">
                <a:moveTo>
                  <a:pt x="0" y="0"/>
                </a:moveTo>
                <a:lnTo>
                  <a:pt x="90929" y="0"/>
                </a:lnTo>
                <a:lnTo>
                  <a:pt x="90929" y="21600"/>
                </a:lnTo>
                <a:lnTo>
                  <a:pt x="0" y="21600"/>
                </a:lnTo>
                <a:close/>
              </a:path>
              <a:path fill="lightenLess" w="90929" h="21600">
                <a:moveTo>
                  <a:pt x="0" y="0"/>
                </a:moveTo>
                <a:lnTo>
                  <a:pt x="90929" y="0"/>
                </a:lnTo>
                <a:lnTo>
                  <a:pt x="89529" y="1400"/>
                </a:lnTo>
                <a:lnTo>
                  <a:pt x="1400" y="1400"/>
                </a:lnTo>
                <a:close/>
              </a:path>
              <a:path fill="darken" w="90929" h="21600">
                <a:moveTo>
                  <a:pt x="90929" y="0"/>
                </a:moveTo>
                <a:lnTo>
                  <a:pt x="90929" y="21600"/>
                </a:lnTo>
                <a:lnTo>
                  <a:pt x="89529" y="20200"/>
                </a:lnTo>
                <a:lnTo>
                  <a:pt x="89529" y="1400"/>
                </a:lnTo>
                <a:close/>
              </a:path>
              <a:path fill="darkenLess" w="90929" h="21600">
                <a:moveTo>
                  <a:pt x="9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29" y="20200"/>
                </a:lnTo>
                <a:close/>
              </a:path>
              <a:path fill="lighten" w="9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Тес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8">
            <a:hlinkClick r:id="rId4" action="ppaction://hlinksldjump"/>
          </p:cNvPr>
          <p:cNvSpPr/>
          <p:nvPr/>
        </p:nvSpPr>
        <p:spPr>
          <a:xfrm>
            <a:off x="5353200" y="4940280"/>
            <a:ext cx="3035160" cy="720720"/>
          </a:xfrm>
          <a:custGeom>
            <a:avLst/>
            <a:gdLst>
              <a:gd name="textAreaLeft" fmla="*/ 46440 w 3035160"/>
              <a:gd name="textAreaRight" fmla="*/ 2988720 w 30351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29" h="21600">
                <a:moveTo>
                  <a:pt x="0" y="0"/>
                </a:moveTo>
                <a:lnTo>
                  <a:pt x="90929" y="0"/>
                </a:lnTo>
                <a:lnTo>
                  <a:pt x="90929" y="21600"/>
                </a:lnTo>
                <a:lnTo>
                  <a:pt x="0" y="21600"/>
                </a:lnTo>
                <a:close/>
              </a:path>
              <a:path fill="lightenLess" w="90929" h="21600">
                <a:moveTo>
                  <a:pt x="0" y="0"/>
                </a:moveTo>
                <a:lnTo>
                  <a:pt x="90929" y="0"/>
                </a:lnTo>
                <a:lnTo>
                  <a:pt x="89529" y="1400"/>
                </a:lnTo>
                <a:lnTo>
                  <a:pt x="1400" y="1400"/>
                </a:lnTo>
                <a:close/>
              </a:path>
              <a:path fill="darken" w="90929" h="21600">
                <a:moveTo>
                  <a:pt x="90929" y="0"/>
                </a:moveTo>
                <a:lnTo>
                  <a:pt x="90929" y="21600"/>
                </a:lnTo>
                <a:lnTo>
                  <a:pt x="89529" y="20200"/>
                </a:lnTo>
                <a:lnTo>
                  <a:pt x="89529" y="1400"/>
                </a:lnTo>
                <a:close/>
              </a:path>
              <a:path fill="darkenLess" w="90929" h="21600">
                <a:moveTo>
                  <a:pt x="9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29" y="20200"/>
                </a:lnTo>
                <a:close/>
              </a:path>
              <a:path fill="lighten" w="9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Список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56167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 связи с тем, что масса газа и его температура не изменяются, воспользуемся уравнением изотермического процесса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=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(p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+    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 gh)V=p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*3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ыразите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и подставьте зна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роверьте 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твет: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=20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20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8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7" descr=""/>
          <p:cNvPicPr/>
          <p:nvPr/>
        </p:nvPicPr>
        <p:blipFill>
          <a:blip r:embed="rId3"/>
          <a:srcRect l="0" t="0" r="0" b="12002"/>
          <a:stretch/>
        </p:blipFill>
        <p:spPr>
          <a:xfrm>
            <a:off x="6588000" y="4149720"/>
            <a:ext cx="2556000" cy="1584360"/>
          </a:xfrm>
          <a:prstGeom prst="rect">
            <a:avLst/>
          </a:prstGeom>
          <a:ln w="0">
            <a:noFill/>
          </a:ln>
        </p:spPr>
      </p:pic>
      <p:sp>
        <p:nvSpPr>
          <p:cNvPr id="321" name="Oval 8"/>
          <p:cNvSpPr/>
          <p:nvPr/>
        </p:nvSpPr>
        <p:spPr>
          <a:xfrm>
            <a:off x="7740720" y="5516640"/>
            <a:ext cx="216000" cy="21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0"/>
          <p:cNvSpPr/>
          <p:nvPr/>
        </p:nvSpPr>
        <p:spPr>
          <a:xfrm>
            <a:off x="7093080" y="6165720"/>
            <a:ext cx="1187280" cy="54936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6666" h="21600">
                <a:moveTo>
                  <a:pt x="0" y="0"/>
                </a:moveTo>
                <a:lnTo>
                  <a:pt x="46666" y="0"/>
                </a:lnTo>
                <a:lnTo>
                  <a:pt x="46666" y="21600"/>
                </a:lnTo>
                <a:lnTo>
                  <a:pt x="0" y="21600"/>
                </a:lnTo>
                <a:close/>
              </a:path>
              <a:path fill="lightenLess" w="46666" h="21600">
                <a:moveTo>
                  <a:pt x="0" y="0"/>
                </a:moveTo>
                <a:lnTo>
                  <a:pt x="46666" y="0"/>
                </a:lnTo>
                <a:lnTo>
                  <a:pt x="45266" y="1400"/>
                </a:lnTo>
                <a:lnTo>
                  <a:pt x="1400" y="1400"/>
                </a:lnTo>
                <a:close/>
              </a:path>
              <a:path fill="darken" w="46666" h="21600">
                <a:moveTo>
                  <a:pt x="46666" y="0"/>
                </a:moveTo>
                <a:lnTo>
                  <a:pt x="46666" y="21600"/>
                </a:lnTo>
                <a:lnTo>
                  <a:pt x="45266" y="20200"/>
                </a:lnTo>
                <a:lnTo>
                  <a:pt x="45266" y="1400"/>
                </a:lnTo>
                <a:close/>
              </a:path>
              <a:path fill="darkenLess" w="46666" h="21600">
                <a:moveTo>
                  <a:pt x="46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6" y="20200"/>
                </a:lnTo>
                <a:close/>
              </a:path>
              <a:path fill="lighten" w="46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877080" y="4724280"/>
            <a:ext cx="57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 Black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6877080" y="3716280"/>
            <a:ext cx="57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3"/>
          <p:cNvSpPr/>
          <p:nvPr/>
        </p:nvSpPr>
        <p:spPr>
          <a:xfrm>
            <a:off x="6227640" y="4508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4"/>
          <p:cNvSpPr/>
          <p:nvPr/>
        </p:nvSpPr>
        <p:spPr>
          <a:xfrm>
            <a:off x="6227640" y="57340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5"/>
          <p:cNvSpPr/>
          <p:nvPr/>
        </p:nvSpPr>
        <p:spPr>
          <a:xfrm>
            <a:off x="6443640" y="450864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8"/>
          <p:cNvSpPr/>
          <p:nvPr/>
        </p:nvSpPr>
        <p:spPr>
          <a:xfrm>
            <a:off x="5796000" y="4941720"/>
            <a:ext cx="57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9"/>
          <p:cNvSpPr/>
          <p:nvPr/>
        </p:nvSpPr>
        <p:spPr>
          <a:xfrm>
            <a:off x="5904000" y="2276640"/>
            <a:ext cx="3240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а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 глубине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давлени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верхности оз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23"/>
              <p:cNvSpPr txBox="1"/>
              <p:nvPr/>
            </p:nvSpPr>
            <p:spPr>
              <a:xfrm>
                <a:off x="6086520" y="3938760"/>
                <a:ext cx="11588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1" name="Rectangle 2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26"/>
              <p:cNvSpPr txBox="1"/>
              <p:nvPr/>
            </p:nvSpPr>
            <p:spPr>
              <a:xfrm>
                <a:off x="1476360" y="3284640"/>
                <a:ext cx="5745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AutoShape 28"/>
          <p:cNvSpPr/>
          <p:nvPr/>
        </p:nvSpPr>
        <p:spPr>
          <a:xfrm>
            <a:off x="3203640" y="6453360"/>
            <a:ext cx="2952720" cy="404640"/>
          </a:xfrm>
          <a:custGeom>
            <a:avLst/>
            <a:gdLst>
              <a:gd name="textAreaLeft" fmla="*/ 25920 w 2952720"/>
              <a:gd name="textAreaRight" fmla="*/ 2926800 w 2952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157498" h="21600">
                <a:moveTo>
                  <a:pt x="0" y="0"/>
                </a:moveTo>
                <a:lnTo>
                  <a:pt x="157498" y="0"/>
                </a:lnTo>
                <a:lnTo>
                  <a:pt x="157498" y="21600"/>
                </a:lnTo>
                <a:lnTo>
                  <a:pt x="0" y="21600"/>
                </a:lnTo>
                <a:close/>
              </a:path>
              <a:path fill="lightenLess" w="157498" h="21600">
                <a:moveTo>
                  <a:pt x="0" y="0"/>
                </a:moveTo>
                <a:lnTo>
                  <a:pt x="157498" y="0"/>
                </a:lnTo>
                <a:lnTo>
                  <a:pt x="156098" y="1400"/>
                </a:lnTo>
                <a:lnTo>
                  <a:pt x="1400" y="1400"/>
                </a:lnTo>
                <a:close/>
              </a:path>
              <a:path fill="darken" w="157498" h="21600">
                <a:moveTo>
                  <a:pt x="157498" y="0"/>
                </a:moveTo>
                <a:lnTo>
                  <a:pt x="157498" y="21600"/>
                </a:lnTo>
                <a:lnTo>
                  <a:pt x="156098" y="20200"/>
                </a:lnTo>
                <a:lnTo>
                  <a:pt x="156098" y="1400"/>
                </a:lnTo>
                <a:close/>
              </a:path>
              <a:path fill="darkenLess" w="157498" h="21600">
                <a:moveTo>
                  <a:pt x="15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098" y="20200"/>
                </a:lnTo>
                <a:close/>
              </a:path>
              <a:path fill="lighten" w="15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2.59259E-006 L 6.94444E-006 -0.16806 E">
                                      <p:cBhvr>
                                        <p:cTn id="202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179280" y="620280"/>
            <a:ext cx="896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Как изменится давление идеального газа при увеличении температуры и объема газа в 4 раз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7236000" y="3068640"/>
            <a:ext cx="1296720" cy="20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4"/>
          <p:cNvGrpSpPr/>
          <p:nvPr/>
        </p:nvGrpSpPr>
        <p:grpSpPr>
          <a:xfrm>
            <a:off x="7236000" y="2637000"/>
            <a:ext cx="1296720" cy="1368360"/>
            <a:chOff x="7236000" y="2637000"/>
            <a:chExt cx="1296720" cy="1368360"/>
          </a:xfrm>
        </p:grpSpPr>
        <p:sp>
          <p:nvSpPr>
            <p:cNvPr id="338" name="Rectangle 5"/>
            <p:cNvSpPr/>
            <p:nvPr/>
          </p:nvSpPr>
          <p:spPr>
            <a:xfrm>
              <a:off x="7236000" y="3645000"/>
              <a:ext cx="1296720" cy="3603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"/>
            <p:cNvSpPr/>
            <p:nvPr/>
          </p:nvSpPr>
          <p:spPr>
            <a:xfrm>
              <a:off x="7812000" y="2853000"/>
              <a:ext cx="144720" cy="792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7451640" y="2637000"/>
              <a:ext cx="792360" cy="216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1" name="Picture 8" descr=""/>
          <p:cNvPicPr/>
          <p:nvPr/>
        </p:nvPicPr>
        <p:blipFill>
          <a:blip r:embed="rId2"/>
          <a:stretch/>
        </p:blipFill>
        <p:spPr>
          <a:xfrm>
            <a:off x="6443640" y="2924280"/>
            <a:ext cx="638280" cy="23526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9"/>
          <p:cNvSpPr/>
          <p:nvPr/>
        </p:nvSpPr>
        <p:spPr>
          <a:xfrm>
            <a:off x="6732720" y="3789360"/>
            <a:ext cx="7128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11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9"/>
          <p:cNvSpPr/>
          <p:nvPr/>
        </p:nvSpPr>
        <p:spPr>
          <a:xfrm>
            <a:off x="7236000" y="5516640"/>
            <a:ext cx="1187280" cy="54936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6666" h="21600">
                <a:moveTo>
                  <a:pt x="0" y="0"/>
                </a:moveTo>
                <a:lnTo>
                  <a:pt x="46666" y="0"/>
                </a:lnTo>
                <a:lnTo>
                  <a:pt x="46666" y="21600"/>
                </a:lnTo>
                <a:lnTo>
                  <a:pt x="0" y="21600"/>
                </a:lnTo>
                <a:close/>
              </a:path>
              <a:path fill="lightenLess" w="46666" h="21600">
                <a:moveTo>
                  <a:pt x="0" y="0"/>
                </a:moveTo>
                <a:lnTo>
                  <a:pt x="46666" y="0"/>
                </a:lnTo>
                <a:lnTo>
                  <a:pt x="45266" y="1400"/>
                </a:lnTo>
                <a:lnTo>
                  <a:pt x="1400" y="1400"/>
                </a:lnTo>
                <a:close/>
              </a:path>
              <a:path fill="darken" w="46666" h="21600">
                <a:moveTo>
                  <a:pt x="46666" y="0"/>
                </a:moveTo>
                <a:lnTo>
                  <a:pt x="46666" y="21600"/>
                </a:lnTo>
                <a:lnTo>
                  <a:pt x="45266" y="20200"/>
                </a:lnTo>
                <a:lnTo>
                  <a:pt x="45266" y="1400"/>
                </a:lnTo>
                <a:close/>
              </a:path>
              <a:path fill="darkenLess" w="46666" h="21600">
                <a:moveTo>
                  <a:pt x="46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6" y="20200"/>
                </a:lnTo>
                <a:close/>
              </a:path>
              <a:path fill="lighten" w="46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5.78035E-007 L 0.00018 -0.07861 E">
                                      <p:cBhvr>
                                        <p:cTn id="212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96532E-006 L 2.77778E-006 -0.04971 E">
                                      <p:cBhvr>
                                        <p:cTn id="214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В одинаковых сосудах при одинаковой температуре находятся водород (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) и углекислый газ (СО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). Массы газов одинаковы. Какой из газов и во сколько раз оказывает большее давление на стенки сосу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Какому процессу соответствует график, изображенный на рису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5796000" y="5516640"/>
            <a:ext cx="2952720" cy="0"/>
          </a:xfrm>
          <a:prstGeom prst="line">
            <a:avLst/>
          </a:prstGeom>
          <a:ln w="3492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10"/>
          <p:cNvGrpSpPr/>
          <p:nvPr/>
        </p:nvGrpSpPr>
        <p:grpSpPr>
          <a:xfrm>
            <a:off x="5148360" y="1844640"/>
            <a:ext cx="3814560" cy="4392720"/>
            <a:chOff x="5148360" y="1844640"/>
            <a:chExt cx="3814560" cy="4392720"/>
          </a:xfrm>
        </p:grpSpPr>
        <p:sp>
          <p:nvSpPr>
            <p:cNvPr id="356" name="Line 11"/>
            <p:cNvSpPr/>
            <p:nvPr/>
          </p:nvSpPr>
          <p:spPr>
            <a:xfrm flipV="1">
              <a:off x="5796000" y="2133360"/>
              <a:ext cx="0" cy="3382920"/>
            </a:xfrm>
            <a:prstGeom prst="line">
              <a:avLst/>
            </a:prstGeom>
            <a:ln w="34920">
              <a:solidFill>
                <a:srgbClr val="333399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2"/>
            <p:cNvSpPr/>
            <p:nvPr/>
          </p:nvSpPr>
          <p:spPr>
            <a:xfrm flipV="1">
              <a:off x="5796000" y="4868640"/>
              <a:ext cx="720720" cy="64764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3"/>
            <p:cNvSpPr/>
            <p:nvPr/>
          </p:nvSpPr>
          <p:spPr>
            <a:xfrm flipV="1">
              <a:off x="6516720" y="3068280"/>
              <a:ext cx="1800360" cy="180036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5148360" y="1844640"/>
              <a:ext cx="5032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5"/>
            <p:cNvSpPr/>
            <p:nvPr/>
          </p:nvSpPr>
          <p:spPr>
            <a:xfrm>
              <a:off x="8459640" y="5300640"/>
              <a:ext cx="5032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 Black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6"/>
            <p:cNvSpPr/>
            <p:nvPr/>
          </p:nvSpPr>
          <p:spPr>
            <a:xfrm>
              <a:off x="5435640" y="5373720"/>
              <a:ext cx="5032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Во сколько раз изменится давление воздуха в цилиндре (рис), если поршень переместить на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L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/3 влево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8459640" y="530064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5435640" y="3139920"/>
            <a:ext cx="230508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1"/>
          <p:cNvGrpSpPr/>
          <p:nvPr/>
        </p:nvGrpSpPr>
        <p:grpSpPr>
          <a:xfrm>
            <a:off x="7596360" y="3139920"/>
            <a:ext cx="1368000" cy="1441440"/>
            <a:chOff x="7596360" y="3139920"/>
            <a:chExt cx="1368000" cy="1441440"/>
          </a:xfrm>
        </p:grpSpPr>
        <p:sp>
          <p:nvSpPr>
            <p:cNvPr id="369" name="Rectangle 12"/>
            <p:cNvSpPr/>
            <p:nvPr/>
          </p:nvSpPr>
          <p:spPr>
            <a:xfrm>
              <a:off x="7907400" y="3715920"/>
              <a:ext cx="870480" cy="2890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3"/>
            <p:cNvSpPr/>
            <p:nvPr/>
          </p:nvSpPr>
          <p:spPr>
            <a:xfrm>
              <a:off x="8777880" y="3357360"/>
              <a:ext cx="186480" cy="10792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4"/>
            <p:cNvSpPr/>
            <p:nvPr/>
          </p:nvSpPr>
          <p:spPr>
            <a:xfrm>
              <a:off x="7596360" y="3139920"/>
              <a:ext cx="311040" cy="14414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Oval 15"/>
          <p:cNvSpPr/>
          <p:nvPr/>
        </p:nvSpPr>
        <p:spPr>
          <a:xfrm>
            <a:off x="5580000" y="3284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6"/>
          <p:cNvSpPr/>
          <p:nvPr/>
        </p:nvSpPr>
        <p:spPr>
          <a:xfrm>
            <a:off x="5940360" y="3429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7"/>
          <p:cNvSpPr/>
          <p:nvPr/>
        </p:nvSpPr>
        <p:spPr>
          <a:xfrm>
            <a:off x="558000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8"/>
          <p:cNvSpPr/>
          <p:nvPr/>
        </p:nvSpPr>
        <p:spPr>
          <a:xfrm>
            <a:off x="6300720" y="3284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9"/>
          <p:cNvSpPr/>
          <p:nvPr/>
        </p:nvSpPr>
        <p:spPr>
          <a:xfrm>
            <a:off x="6732720" y="357336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20"/>
          <p:cNvSpPr/>
          <p:nvPr/>
        </p:nvSpPr>
        <p:spPr>
          <a:xfrm>
            <a:off x="630072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21"/>
          <p:cNvSpPr/>
          <p:nvPr/>
        </p:nvSpPr>
        <p:spPr>
          <a:xfrm>
            <a:off x="5867280" y="37879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22"/>
          <p:cNvSpPr/>
          <p:nvPr/>
        </p:nvSpPr>
        <p:spPr>
          <a:xfrm>
            <a:off x="6227640" y="393228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23"/>
          <p:cNvSpPr/>
          <p:nvPr/>
        </p:nvSpPr>
        <p:spPr>
          <a:xfrm>
            <a:off x="5867280" y="414828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24"/>
          <p:cNvSpPr/>
          <p:nvPr/>
        </p:nvSpPr>
        <p:spPr>
          <a:xfrm>
            <a:off x="6516720" y="37879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25"/>
          <p:cNvSpPr/>
          <p:nvPr/>
        </p:nvSpPr>
        <p:spPr>
          <a:xfrm>
            <a:off x="6877080" y="3932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26"/>
          <p:cNvSpPr/>
          <p:nvPr/>
        </p:nvSpPr>
        <p:spPr>
          <a:xfrm>
            <a:off x="6516720" y="4148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27"/>
          <p:cNvSpPr/>
          <p:nvPr/>
        </p:nvSpPr>
        <p:spPr>
          <a:xfrm>
            <a:off x="7020000" y="33559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28"/>
          <p:cNvSpPr/>
          <p:nvPr/>
        </p:nvSpPr>
        <p:spPr>
          <a:xfrm>
            <a:off x="7093080" y="4292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29"/>
          <p:cNvSpPr/>
          <p:nvPr/>
        </p:nvSpPr>
        <p:spPr>
          <a:xfrm>
            <a:off x="6227640" y="4292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30"/>
          <p:cNvSpPr/>
          <p:nvPr/>
        </p:nvSpPr>
        <p:spPr>
          <a:xfrm>
            <a:off x="5508720" y="4076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31"/>
          <p:cNvSpPr/>
          <p:nvPr/>
        </p:nvSpPr>
        <p:spPr>
          <a:xfrm>
            <a:off x="5508720" y="4365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2"/>
          <p:cNvSpPr/>
          <p:nvPr/>
        </p:nvSpPr>
        <p:spPr>
          <a:xfrm flipV="1">
            <a:off x="5435640" y="2565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3"/>
          <p:cNvSpPr/>
          <p:nvPr/>
        </p:nvSpPr>
        <p:spPr>
          <a:xfrm flipV="1">
            <a:off x="7596360" y="2565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4"/>
          <p:cNvSpPr/>
          <p:nvPr/>
        </p:nvSpPr>
        <p:spPr>
          <a:xfrm>
            <a:off x="5435640" y="2924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5"/>
          <p:cNvSpPr/>
          <p:nvPr/>
        </p:nvSpPr>
        <p:spPr>
          <a:xfrm>
            <a:off x="5940360" y="2492280"/>
            <a:ext cx="7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8"/>
          <p:cNvSpPr/>
          <p:nvPr/>
        </p:nvSpPr>
        <p:spPr>
          <a:xfrm>
            <a:off x="7956720" y="4869000"/>
            <a:ext cx="1187280" cy="54900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46696" h="21600">
                <a:moveTo>
                  <a:pt x="0" y="0"/>
                </a:moveTo>
                <a:lnTo>
                  <a:pt x="46696" y="0"/>
                </a:lnTo>
                <a:lnTo>
                  <a:pt x="46696" y="21600"/>
                </a:lnTo>
                <a:lnTo>
                  <a:pt x="0" y="21600"/>
                </a:lnTo>
                <a:close/>
              </a:path>
              <a:path fill="lightenLess" w="46696" h="21600">
                <a:moveTo>
                  <a:pt x="0" y="0"/>
                </a:moveTo>
                <a:lnTo>
                  <a:pt x="46696" y="0"/>
                </a:lnTo>
                <a:lnTo>
                  <a:pt x="45296" y="1400"/>
                </a:lnTo>
                <a:lnTo>
                  <a:pt x="1400" y="1400"/>
                </a:lnTo>
                <a:close/>
              </a:path>
              <a:path fill="darken" w="46696" h="21600">
                <a:moveTo>
                  <a:pt x="46696" y="0"/>
                </a:moveTo>
                <a:lnTo>
                  <a:pt x="46696" y="21600"/>
                </a:lnTo>
                <a:lnTo>
                  <a:pt x="45296" y="20200"/>
                </a:lnTo>
                <a:lnTo>
                  <a:pt x="45296" y="1400"/>
                </a:lnTo>
                <a:close/>
              </a:path>
              <a:path fill="darkenLess" w="46696" h="21600">
                <a:moveTo>
                  <a:pt x="46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6" y="20200"/>
                </a:lnTo>
                <a:close/>
              </a:path>
              <a:path fill="lighten" w="46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4798E-006 L -0.07482 2.94798E-006 E">
                                      <p:cBhvr>
                                        <p:cTn id="220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023 L -0.10226 0.03168 E">
                                      <p:cBhvr>
                                        <p:cTn id="222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4798E-006 L -0.01563 2.94798E-006 E">
                                      <p:cBhvr>
                                        <p:cTn id="224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84971E-006 L -0.07084 0.00023 E">
                                      <p:cBhvr>
                                        <p:cTn id="226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Во сколько раз отличается плотность метана (СР4) от плотности кислорода (О2) при одинаковых условиях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8459640" y="530064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WordArt 19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зульта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1" name="AutoShape 20"/>
          <p:cNvSpPr/>
          <p:nvPr/>
        </p:nvSpPr>
        <p:spPr>
          <a:xfrm>
            <a:off x="3419640" y="6524640"/>
            <a:ext cx="2952720" cy="333360"/>
          </a:xfrm>
          <a:custGeom>
            <a:avLst/>
            <a:gdLst>
              <a:gd name="textAreaLeft" fmla="*/ 21600 w 2952720"/>
              <a:gd name="textAreaRight" fmla="*/ 2931120 w 2952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191138" h="21600">
                <a:moveTo>
                  <a:pt x="0" y="0"/>
                </a:moveTo>
                <a:lnTo>
                  <a:pt x="191138" y="0"/>
                </a:lnTo>
                <a:lnTo>
                  <a:pt x="191138" y="21600"/>
                </a:lnTo>
                <a:lnTo>
                  <a:pt x="0" y="21600"/>
                </a:lnTo>
                <a:close/>
              </a:path>
              <a:path fill="lightenLess" w="191138" h="21600">
                <a:moveTo>
                  <a:pt x="0" y="0"/>
                </a:moveTo>
                <a:lnTo>
                  <a:pt x="191138" y="0"/>
                </a:lnTo>
                <a:lnTo>
                  <a:pt x="189738" y="1400"/>
                </a:lnTo>
                <a:lnTo>
                  <a:pt x="1400" y="1400"/>
                </a:lnTo>
                <a:close/>
              </a:path>
              <a:path fill="darken" w="191138" h="21600">
                <a:moveTo>
                  <a:pt x="191138" y="0"/>
                </a:moveTo>
                <a:lnTo>
                  <a:pt x="191138" y="21600"/>
                </a:lnTo>
                <a:lnTo>
                  <a:pt x="189738" y="20200"/>
                </a:lnTo>
                <a:lnTo>
                  <a:pt x="189738" y="1400"/>
                </a:lnTo>
                <a:close/>
              </a:path>
              <a:path fill="darkenLess" w="191138" h="21600">
                <a:moveTo>
                  <a:pt x="19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9738" y="20200"/>
                </a:lnTo>
                <a:close/>
              </a:path>
              <a:path fill="lighten" w="19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он, А.Е. Физика. Законы, формулы, алгоритмы решения задач: материалы для подготовки к единому государственному экзамену и вступительным экзаменам в аузы/ А.Е.Марон, Д.Н.Городецкий, В.Е.Марон, Е.А.Марон; под ред.А.Е.Марона.-М.:Дрофа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сьянов, В.А. Физика.10кл.:Учебн.для общеобразоват.учеб.заведений.-3-е изд. – М.:Дрофа, 200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он, А.Е. Физика. 10класс: дидактические материалы/А.Е.Марон, Е.А.Марон.-6-е изд.-М.:Дрофа,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WordArt 4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исок литератур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4000" y="692280"/>
          <a:ext cx="8820000" cy="5729040"/>
        </p:xfrm>
        <a:graphic>
          <a:graphicData uri="http://schemas.openxmlformats.org/drawingml/2006/table">
            <a:tbl>
              <a:tblPr/>
              <a:tblGrid>
                <a:gridCol w="2205000"/>
                <a:gridCol w="2205000"/>
                <a:gridCol w="2205000"/>
                <a:gridCol w="2205000"/>
              </a:tblGrid>
              <a:tr h="88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зотер-миче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зобар-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зохор-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преде-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ара-мет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к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рафик изменения макроскопи-ческих парамет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149" descr="J023901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59280" y="1700280"/>
            <a:ext cx="1089000" cy="89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0" descr="J023901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148360" y="1700280"/>
            <a:ext cx="1089000" cy="895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1" descr="J023901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380360" y="1700280"/>
            <a:ext cx="1089000" cy="895320"/>
          </a:xfrm>
          <a:prstGeom prst="rect">
            <a:avLst/>
          </a:prstGeom>
          <a:ln w="0">
            <a:noFill/>
          </a:ln>
        </p:spPr>
      </p:pic>
      <p:sp>
        <p:nvSpPr>
          <p:cNvPr id="61" name="WordArt 153"/>
          <p:cNvSpPr txBox="1"/>
          <p:nvPr/>
        </p:nvSpPr>
        <p:spPr>
          <a:xfrm>
            <a:off x="2843280" y="2924280"/>
            <a:ext cx="152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=const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WordArt 155"/>
          <p:cNvSpPr txBox="1"/>
          <p:nvPr/>
        </p:nvSpPr>
        <p:spPr>
          <a:xfrm>
            <a:off x="5003640" y="2924280"/>
            <a:ext cx="1524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=const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WordArt 156"/>
          <p:cNvSpPr txBox="1"/>
          <p:nvPr/>
        </p:nvSpPr>
        <p:spPr>
          <a:xfrm>
            <a:off x="7236000" y="2924280"/>
            <a:ext cx="152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=const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Rectangle 165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64"/>
              <p:cNvSpPr txBox="1"/>
              <p:nvPr/>
            </p:nvSpPr>
            <p:spPr>
              <a:xfrm>
                <a:off x="4859280" y="3860640"/>
                <a:ext cx="1800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66"/>
              <p:cNvSpPr txBox="1"/>
              <p:nvPr/>
            </p:nvSpPr>
            <p:spPr>
              <a:xfrm>
                <a:off x="7164360" y="3886200"/>
                <a:ext cx="16747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WordArt 167"/>
          <p:cNvSpPr txBox="1"/>
          <p:nvPr/>
        </p:nvSpPr>
        <p:spPr>
          <a:xfrm>
            <a:off x="1979640" y="49320"/>
            <a:ext cx="576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ОПРОЦЕССЫ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isoterm.avi" descr=""/>
          <p:cNvPicPr/>
          <p:nvPr/>
        </p:nvPicPr>
        <p:blipFill>
          <a:blip r:embed="rId16"/>
          <a:stretch/>
        </p:blipFill>
        <p:spPr>
          <a:xfrm>
            <a:off x="2700360" y="4941720"/>
            <a:ext cx="1800360" cy="1349640"/>
          </a:xfrm>
          <a:prstGeom prst="rect">
            <a:avLst/>
          </a:prstGeom>
          <a:ln w="0">
            <a:noFill/>
          </a:ln>
        </p:spPr>
      </p:pic>
      <p:pic>
        <p:nvPicPr>
          <p:cNvPr id="69" name="isobar.avi" descr=""/>
          <p:cNvPicPr/>
          <p:nvPr/>
        </p:nvPicPr>
        <p:blipFill>
          <a:blip r:embed="rId17"/>
          <a:stretch/>
        </p:blipFill>
        <p:spPr>
          <a:xfrm>
            <a:off x="4932360" y="4941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70" name="isoHOR.avi" descr=""/>
          <p:cNvPicPr/>
          <p:nvPr/>
        </p:nvPicPr>
        <p:blipFill>
          <a:blip r:embed="rId18"/>
          <a:stretch/>
        </p:blipFill>
        <p:spPr>
          <a:xfrm>
            <a:off x="7093080" y="4941720"/>
            <a:ext cx="1800000" cy="13496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210">
            <a:hlinkClick r:id="rId19" action="ppaction://hlinksldjump"/>
          </p:cNvPr>
          <p:cNvSpPr/>
          <p:nvPr/>
        </p:nvSpPr>
        <p:spPr>
          <a:xfrm>
            <a:off x="3708360" y="6453360"/>
            <a:ext cx="1871640" cy="404640"/>
          </a:xfrm>
          <a:custGeom>
            <a:avLst/>
            <a:gdLst>
              <a:gd name="textAreaLeft" fmla="*/ 25920 w 1871640"/>
              <a:gd name="textAreaRight" fmla="*/ 1845720 w 187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9840" h="21600">
                <a:moveTo>
                  <a:pt x="0" y="0"/>
                </a:moveTo>
                <a:lnTo>
                  <a:pt x="99840" y="0"/>
                </a:lnTo>
                <a:lnTo>
                  <a:pt x="99840" y="21600"/>
                </a:lnTo>
                <a:lnTo>
                  <a:pt x="0" y="21600"/>
                </a:lnTo>
                <a:close/>
              </a:path>
              <a:path fill="lightenLess" w="99840" h="21600">
                <a:moveTo>
                  <a:pt x="0" y="0"/>
                </a:moveTo>
                <a:lnTo>
                  <a:pt x="99840" y="0"/>
                </a:lnTo>
                <a:lnTo>
                  <a:pt x="98440" y="1400"/>
                </a:lnTo>
                <a:lnTo>
                  <a:pt x="1400" y="1400"/>
                </a:lnTo>
                <a:close/>
              </a:path>
              <a:path fill="darken" w="99840" h="21600">
                <a:moveTo>
                  <a:pt x="99840" y="0"/>
                </a:moveTo>
                <a:lnTo>
                  <a:pt x="99840" y="21600"/>
                </a:lnTo>
                <a:lnTo>
                  <a:pt x="98440" y="20200"/>
                </a:lnTo>
                <a:lnTo>
                  <a:pt x="98440" y="1400"/>
                </a:lnTo>
                <a:close/>
              </a:path>
              <a:path fill="darkenLess" w="99840" h="21600">
                <a:moveTo>
                  <a:pt x="998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440" y="20200"/>
                </a:lnTo>
                <a:close/>
              </a:path>
              <a:path fill="lighten" w="998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8930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процесс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, при котором один из макроскопических параметров состояния данной массы газа остается постоя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Макроскопические параметры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параметры характеризующие макросистему: давление, температура, объем (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P,V,T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5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AutoShape 6">
            <a:hlinkClick r:id="rId3" action="ppaction://hlinksldjump"/>
          </p:cNvPr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термически</a:t>
            </a: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	</a:t>
            </a: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й процесс (закон Бойля-Мариотта)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й температу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При изотермическом процессе Т=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4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AutoShape 5">
            <a:hlinkClick r:id="rId3" action="ppaction://hlinksldjump"/>
          </p:cNvPr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барный процесс(закон Гей-Люссака)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давл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При изобарном процессе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p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хорный процесс(закон Шарля)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объ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При изохорном процессе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V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3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116000" y="44280"/>
            <a:ext cx="61214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АФИКИ ИЗМЕНЕНИЯ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КРОСКОПИЧЕСКИХ ПАРАМЕТРОВ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1116000" y="2205000"/>
            <a:ext cx="1584360" cy="158436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952" h="908">
                <a:moveTo>
                  <a:pt x="0" y="0"/>
                </a:moveTo>
                <a:cubicBezTo>
                  <a:pt x="11" y="242"/>
                  <a:pt x="22" y="484"/>
                  <a:pt x="181" y="635"/>
                </a:cubicBezTo>
                <a:cubicBezTo>
                  <a:pt x="340" y="786"/>
                  <a:pt x="824" y="863"/>
                  <a:pt x="952" y="908"/>
                </a:cubicBez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684360" y="450864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Т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684360" y="515628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ОБ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684360" y="5805360"/>
            <a:ext cx="2374920" cy="43200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8665" h="21600">
                <a:moveTo>
                  <a:pt x="0" y="0"/>
                </a:moveTo>
                <a:lnTo>
                  <a:pt x="118665" y="0"/>
                </a:lnTo>
                <a:lnTo>
                  <a:pt x="118665" y="21600"/>
                </a:lnTo>
                <a:lnTo>
                  <a:pt x="0" y="21600"/>
                </a:lnTo>
                <a:close/>
              </a:path>
              <a:path fill="lightenLess" w="118665" h="21600">
                <a:moveTo>
                  <a:pt x="0" y="0"/>
                </a:moveTo>
                <a:lnTo>
                  <a:pt x="118665" y="0"/>
                </a:lnTo>
                <a:lnTo>
                  <a:pt x="117265" y="1400"/>
                </a:lnTo>
                <a:lnTo>
                  <a:pt x="1400" y="1400"/>
                </a:lnTo>
                <a:close/>
              </a:path>
              <a:path fill="darken" w="118665" h="21600">
                <a:moveTo>
                  <a:pt x="118665" y="0"/>
                </a:moveTo>
                <a:lnTo>
                  <a:pt x="118665" y="21600"/>
                </a:lnTo>
                <a:lnTo>
                  <a:pt x="117265" y="20200"/>
                </a:lnTo>
                <a:lnTo>
                  <a:pt x="117265" y="1400"/>
                </a:lnTo>
                <a:close/>
              </a:path>
              <a:path fill="darkenLess" w="118665" h="21600">
                <a:moveTo>
                  <a:pt x="118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65" y="20200"/>
                </a:lnTo>
                <a:close/>
              </a:path>
              <a:path fill="lighten" w="118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Х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6"/>
          <p:cNvSpPr/>
          <p:nvPr/>
        </p:nvSpPr>
        <p:spPr>
          <a:xfrm>
            <a:off x="900000" y="2565360"/>
            <a:ext cx="1800360" cy="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2484360" y="2349360"/>
            <a:ext cx="0" cy="1800360"/>
          </a:xfrm>
          <a:prstGeom prst="line">
            <a:avLst/>
          </a:prstGeom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5"/>
          <p:cNvGrpSpPr/>
          <p:nvPr/>
        </p:nvGrpSpPr>
        <p:grpSpPr>
          <a:xfrm>
            <a:off x="611280" y="1700280"/>
            <a:ext cx="2448000" cy="2809800"/>
            <a:chOff x="611280" y="1700280"/>
            <a:chExt cx="2448000" cy="2809800"/>
          </a:xfrm>
        </p:grpSpPr>
        <p:sp>
          <p:nvSpPr>
            <p:cNvPr id="97" name="Line 5"/>
            <p:cNvSpPr/>
            <p:nvPr/>
          </p:nvSpPr>
          <p:spPr>
            <a:xfrm flipV="1">
              <a:off x="900000" y="1916280"/>
              <a:ext cx="0" cy="22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6"/>
            <p:cNvSpPr/>
            <p:nvPr/>
          </p:nvSpPr>
          <p:spPr>
            <a:xfrm>
              <a:off x="900000" y="4149720"/>
              <a:ext cx="20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612720" y="170028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>
              <a:off x="2700360" y="407664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611280" y="4076640"/>
              <a:ext cx="3585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AutoShape 21"/>
          <p:cNvSpPr/>
          <p:nvPr/>
        </p:nvSpPr>
        <p:spPr>
          <a:xfrm>
            <a:off x="395280" y="765000"/>
            <a:ext cx="2664000" cy="432000"/>
          </a:xfrm>
          <a:custGeom>
            <a:avLst/>
            <a:gdLst>
              <a:gd name="textAreaLeft" fmla="*/ 27720 w 2664000"/>
              <a:gd name="textAreaRight" fmla="*/ 2636280 w 266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33107" h="21600">
                <a:moveTo>
                  <a:pt x="0" y="0"/>
                </a:moveTo>
                <a:lnTo>
                  <a:pt x="133107" y="0"/>
                </a:lnTo>
                <a:lnTo>
                  <a:pt x="133107" y="21600"/>
                </a:lnTo>
                <a:lnTo>
                  <a:pt x="0" y="21600"/>
                </a:lnTo>
                <a:close/>
              </a:path>
              <a:path fill="lightenLess" w="133107" h="21600">
                <a:moveTo>
                  <a:pt x="0" y="0"/>
                </a:moveTo>
                <a:lnTo>
                  <a:pt x="133107" y="0"/>
                </a:lnTo>
                <a:lnTo>
                  <a:pt x="131707" y="1400"/>
                </a:lnTo>
                <a:lnTo>
                  <a:pt x="1400" y="1400"/>
                </a:lnTo>
                <a:close/>
              </a:path>
              <a:path fill="darken" w="133107" h="21600">
                <a:moveTo>
                  <a:pt x="133107" y="0"/>
                </a:moveTo>
                <a:lnTo>
                  <a:pt x="133107" y="21600"/>
                </a:lnTo>
                <a:lnTo>
                  <a:pt x="131707" y="20200"/>
                </a:lnTo>
                <a:lnTo>
                  <a:pt x="131707" y="1400"/>
                </a:lnTo>
                <a:close/>
              </a:path>
              <a:path fill="darkenLess" w="133107" h="21600">
                <a:moveTo>
                  <a:pt x="133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07" y="20200"/>
                </a:lnTo>
                <a:close/>
              </a:path>
              <a:path fill="lighten" w="133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Подписать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4"/>
          <p:cNvGrpSpPr/>
          <p:nvPr/>
        </p:nvGrpSpPr>
        <p:grpSpPr>
          <a:xfrm>
            <a:off x="1154160" y="2276640"/>
            <a:ext cx="1546200" cy="1439640"/>
            <a:chOff x="1154160" y="2276640"/>
            <a:chExt cx="1546200" cy="1439640"/>
          </a:xfrm>
        </p:grpSpPr>
        <p:sp>
          <p:nvSpPr>
            <p:cNvPr id="104" name="WordArt 14"/>
            <p:cNvSpPr txBox="1"/>
            <p:nvPr/>
          </p:nvSpPr>
          <p:spPr>
            <a:xfrm rot="2299200">
              <a:off x="1042560" y="3141360"/>
              <a:ext cx="1440000" cy="14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терма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5" name="WordArt 22"/>
            <p:cNvSpPr txBox="1"/>
            <p:nvPr/>
          </p:nvSpPr>
          <p:spPr>
            <a:xfrm>
              <a:off x="1187280" y="2276640"/>
              <a:ext cx="1154160" cy="21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бара</a:t>
              </a:r>
              <a:endPara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6" name="WordArt 23"/>
            <p:cNvSpPr txBox="1"/>
            <p:nvPr/>
          </p:nvSpPr>
          <p:spPr>
            <a:xfrm rot="16200000">
              <a:off x="2088360" y="3104280"/>
              <a:ext cx="1079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хора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07" name="Line 27"/>
          <p:cNvSpPr/>
          <p:nvPr/>
        </p:nvSpPr>
        <p:spPr>
          <a:xfrm flipV="1">
            <a:off x="3997440" y="1916280"/>
            <a:ext cx="0" cy="223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8"/>
          <p:cNvSpPr/>
          <p:nvPr/>
        </p:nvSpPr>
        <p:spPr>
          <a:xfrm>
            <a:off x="3997440" y="414972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9"/>
          <p:cNvSpPr/>
          <p:nvPr/>
        </p:nvSpPr>
        <p:spPr>
          <a:xfrm>
            <a:off x="3710160" y="1700280"/>
            <a:ext cx="358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0"/>
          <p:cNvSpPr/>
          <p:nvPr/>
        </p:nvSpPr>
        <p:spPr>
          <a:xfrm>
            <a:off x="5797440" y="4076640"/>
            <a:ext cx="358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1"/>
          <p:cNvSpPr/>
          <p:nvPr/>
        </p:nvSpPr>
        <p:spPr>
          <a:xfrm>
            <a:off x="3708360" y="4076640"/>
            <a:ext cx="358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2"/>
          <p:cNvGrpSpPr/>
          <p:nvPr/>
        </p:nvGrpSpPr>
        <p:grpSpPr>
          <a:xfrm>
            <a:off x="6516720" y="1698480"/>
            <a:ext cx="2448000" cy="2809800"/>
            <a:chOff x="6516720" y="1698480"/>
            <a:chExt cx="2448000" cy="2809800"/>
          </a:xfrm>
        </p:grpSpPr>
        <p:sp>
          <p:nvSpPr>
            <p:cNvPr id="113" name="Line 33"/>
            <p:cNvSpPr/>
            <p:nvPr/>
          </p:nvSpPr>
          <p:spPr>
            <a:xfrm flipV="1">
              <a:off x="6805440" y="1914480"/>
              <a:ext cx="0" cy="22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4"/>
            <p:cNvSpPr/>
            <p:nvPr/>
          </p:nvSpPr>
          <p:spPr>
            <a:xfrm>
              <a:off x="6805440" y="4147920"/>
              <a:ext cx="20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35"/>
            <p:cNvSpPr/>
            <p:nvPr/>
          </p:nvSpPr>
          <p:spPr>
            <a:xfrm>
              <a:off x="6518160" y="169848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6"/>
            <p:cNvSpPr/>
            <p:nvPr/>
          </p:nvSpPr>
          <p:spPr>
            <a:xfrm>
              <a:off x="8605800" y="407484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7"/>
            <p:cNvSpPr/>
            <p:nvPr/>
          </p:nvSpPr>
          <p:spPr>
            <a:xfrm>
              <a:off x="6516720" y="4074840"/>
              <a:ext cx="3585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AutoShape 38"/>
          <p:cNvSpPr/>
          <p:nvPr/>
        </p:nvSpPr>
        <p:spPr>
          <a:xfrm>
            <a:off x="3708360" y="450864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Т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9"/>
          <p:cNvSpPr/>
          <p:nvPr/>
        </p:nvSpPr>
        <p:spPr>
          <a:xfrm>
            <a:off x="3708360" y="515628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ОБ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0"/>
          <p:cNvSpPr/>
          <p:nvPr/>
        </p:nvSpPr>
        <p:spPr>
          <a:xfrm>
            <a:off x="3708360" y="5805360"/>
            <a:ext cx="2374920" cy="43200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8665" h="21600">
                <a:moveTo>
                  <a:pt x="0" y="0"/>
                </a:moveTo>
                <a:lnTo>
                  <a:pt x="118665" y="0"/>
                </a:lnTo>
                <a:lnTo>
                  <a:pt x="118665" y="21600"/>
                </a:lnTo>
                <a:lnTo>
                  <a:pt x="0" y="21600"/>
                </a:lnTo>
                <a:close/>
              </a:path>
              <a:path fill="lightenLess" w="118665" h="21600">
                <a:moveTo>
                  <a:pt x="0" y="0"/>
                </a:moveTo>
                <a:lnTo>
                  <a:pt x="118665" y="0"/>
                </a:lnTo>
                <a:lnTo>
                  <a:pt x="117265" y="1400"/>
                </a:lnTo>
                <a:lnTo>
                  <a:pt x="1400" y="1400"/>
                </a:lnTo>
                <a:close/>
              </a:path>
              <a:path fill="darken" w="118665" h="21600">
                <a:moveTo>
                  <a:pt x="118665" y="0"/>
                </a:moveTo>
                <a:lnTo>
                  <a:pt x="118665" y="21600"/>
                </a:lnTo>
                <a:lnTo>
                  <a:pt x="117265" y="20200"/>
                </a:lnTo>
                <a:lnTo>
                  <a:pt x="117265" y="1400"/>
                </a:lnTo>
                <a:close/>
              </a:path>
              <a:path fill="darkenLess" w="118665" h="21600">
                <a:moveTo>
                  <a:pt x="118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65" y="20200"/>
                </a:lnTo>
                <a:close/>
              </a:path>
              <a:path fill="lighten" w="118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Х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1"/>
          <p:cNvSpPr/>
          <p:nvPr/>
        </p:nvSpPr>
        <p:spPr>
          <a:xfrm>
            <a:off x="6516720" y="450864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Т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2"/>
          <p:cNvSpPr/>
          <p:nvPr/>
        </p:nvSpPr>
        <p:spPr>
          <a:xfrm>
            <a:off x="6516720" y="515628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ОБ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3"/>
          <p:cNvSpPr/>
          <p:nvPr/>
        </p:nvSpPr>
        <p:spPr>
          <a:xfrm>
            <a:off x="6516720" y="5805360"/>
            <a:ext cx="2374920" cy="43200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8665" h="21600">
                <a:moveTo>
                  <a:pt x="0" y="0"/>
                </a:moveTo>
                <a:lnTo>
                  <a:pt x="118665" y="0"/>
                </a:lnTo>
                <a:lnTo>
                  <a:pt x="118665" y="21600"/>
                </a:lnTo>
                <a:lnTo>
                  <a:pt x="0" y="21600"/>
                </a:lnTo>
                <a:close/>
              </a:path>
              <a:path fill="lightenLess" w="118665" h="21600">
                <a:moveTo>
                  <a:pt x="0" y="0"/>
                </a:moveTo>
                <a:lnTo>
                  <a:pt x="118665" y="0"/>
                </a:lnTo>
                <a:lnTo>
                  <a:pt x="117265" y="1400"/>
                </a:lnTo>
                <a:lnTo>
                  <a:pt x="1400" y="1400"/>
                </a:lnTo>
                <a:close/>
              </a:path>
              <a:path fill="darken" w="118665" h="21600">
                <a:moveTo>
                  <a:pt x="118665" y="0"/>
                </a:moveTo>
                <a:lnTo>
                  <a:pt x="118665" y="21600"/>
                </a:lnTo>
                <a:lnTo>
                  <a:pt x="117265" y="20200"/>
                </a:lnTo>
                <a:lnTo>
                  <a:pt x="117265" y="1400"/>
                </a:lnTo>
                <a:close/>
              </a:path>
              <a:path fill="darkenLess" w="118665" h="21600">
                <a:moveTo>
                  <a:pt x="118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65" y="20200"/>
                </a:lnTo>
                <a:close/>
              </a:path>
              <a:path fill="lighten" w="118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Х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4"/>
          <p:cNvSpPr/>
          <p:nvPr/>
        </p:nvSpPr>
        <p:spPr>
          <a:xfrm>
            <a:off x="3419640" y="765000"/>
            <a:ext cx="2663640" cy="432000"/>
          </a:xfrm>
          <a:custGeom>
            <a:avLst/>
            <a:gdLst>
              <a:gd name="textAreaLeft" fmla="*/ 27720 w 2663640"/>
              <a:gd name="textAreaRight" fmla="*/ 2635920 w 266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33089" h="21600">
                <a:moveTo>
                  <a:pt x="0" y="0"/>
                </a:moveTo>
                <a:lnTo>
                  <a:pt x="133089" y="0"/>
                </a:lnTo>
                <a:lnTo>
                  <a:pt x="133089" y="21600"/>
                </a:lnTo>
                <a:lnTo>
                  <a:pt x="0" y="21600"/>
                </a:lnTo>
                <a:close/>
              </a:path>
              <a:path fill="lightenLess" w="133089" h="21600">
                <a:moveTo>
                  <a:pt x="0" y="0"/>
                </a:moveTo>
                <a:lnTo>
                  <a:pt x="133089" y="0"/>
                </a:lnTo>
                <a:lnTo>
                  <a:pt x="131689" y="1400"/>
                </a:lnTo>
                <a:lnTo>
                  <a:pt x="1400" y="1400"/>
                </a:lnTo>
                <a:close/>
              </a:path>
              <a:path fill="darken" w="133089" h="21600">
                <a:moveTo>
                  <a:pt x="133089" y="0"/>
                </a:moveTo>
                <a:lnTo>
                  <a:pt x="133089" y="21600"/>
                </a:lnTo>
                <a:lnTo>
                  <a:pt x="131689" y="20200"/>
                </a:lnTo>
                <a:lnTo>
                  <a:pt x="131689" y="1400"/>
                </a:lnTo>
                <a:close/>
              </a:path>
              <a:path fill="darkenLess" w="133089" h="21600">
                <a:moveTo>
                  <a:pt x="133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689" y="20200"/>
                </a:lnTo>
                <a:close/>
              </a:path>
              <a:path fill="lighten" w="133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Подписать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5"/>
          <p:cNvSpPr/>
          <p:nvPr/>
        </p:nvSpPr>
        <p:spPr>
          <a:xfrm>
            <a:off x="6443640" y="765000"/>
            <a:ext cx="2664000" cy="432000"/>
          </a:xfrm>
          <a:custGeom>
            <a:avLst/>
            <a:gdLst>
              <a:gd name="textAreaLeft" fmla="*/ 27720 w 2664000"/>
              <a:gd name="textAreaRight" fmla="*/ 2636280 w 266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33107" h="21600">
                <a:moveTo>
                  <a:pt x="0" y="0"/>
                </a:moveTo>
                <a:lnTo>
                  <a:pt x="133107" y="0"/>
                </a:lnTo>
                <a:lnTo>
                  <a:pt x="133107" y="21600"/>
                </a:lnTo>
                <a:lnTo>
                  <a:pt x="0" y="21600"/>
                </a:lnTo>
                <a:close/>
              </a:path>
              <a:path fill="lightenLess" w="133107" h="21600">
                <a:moveTo>
                  <a:pt x="0" y="0"/>
                </a:moveTo>
                <a:lnTo>
                  <a:pt x="133107" y="0"/>
                </a:lnTo>
                <a:lnTo>
                  <a:pt x="131707" y="1400"/>
                </a:lnTo>
                <a:lnTo>
                  <a:pt x="1400" y="1400"/>
                </a:lnTo>
                <a:close/>
              </a:path>
              <a:path fill="darken" w="133107" h="21600">
                <a:moveTo>
                  <a:pt x="133107" y="0"/>
                </a:moveTo>
                <a:lnTo>
                  <a:pt x="133107" y="21600"/>
                </a:lnTo>
                <a:lnTo>
                  <a:pt x="131707" y="20200"/>
                </a:lnTo>
                <a:lnTo>
                  <a:pt x="131707" y="1400"/>
                </a:lnTo>
                <a:close/>
              </a:path>
              <a:path fill="darkenLess" w="133107" h="21600">
                <a:moveTo>
                  <a:pt x="133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07" y="20200"/>
                </a:lnTo>
                <a:close/>
              </a:path>
              <a:path fill="lighten" w="133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Подписать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8"/>
          <p:cNvGrpSpPr/>
          <p:nvPr/>
        </p:nvGrpSpPr>
        <p:grpSpPr>
          <a:xfrm>
            <a:off x="3995640" y="2420640"/>
            <a:ext cx="2016000" cy="1728720"/>
            <a:chOff x="3995640" y="2420640"/>
            <a:chExt cx="2016000" cy="1728720"/>
          </a:xfrm>
        </p:grpSpPr>
        <p:sp>
          <p:nvSpPr>
            <p:cNvPr id="127" name="Line 46"/>
            <p:cNvSpPr/>
            <p:nvPr/>
          </p:nvSpPr>
          <p:spPr>
            <a:xfrm flipV="1">
              <a:off x="3995640" y="3717360"/>
              <a:ext cx="503640" cy="432000"/>
            </a:xfrm>
            <a:prstGeom prst="line">
              <a:avLst/>
            </a:prstGeom>
            <a:ln w="3168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7"/>
            <p:cNvSpPr/>
            <p:nvPr/>
          </p:nvSpPr>
          <p:spPr>
            <a:xfrm flipV="1">
              <a:off x="4499280" y="2420640"/>
              <a:ext cx="1512360" cy="129636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51"/>
          <p:cNvGrpSpPr/>
          <p:nvPr/>
        </p:nvGrpSpPr>
        <p:grpSpPr>
          <a:xfrm>
            <a:off x="3995640" y="2492280"/>
            <a:ext cx="2160720" cy="0"/>
            <a:chOff x="3995640" y="2492280"/>
            <a:chExt cx="2160720" cy="0"/>
          </a:xfrm>
        </p:grpSpPr>
        <p:sp>
          <p:nvSpPr>
            <p:cNvPr id="130" name="Line 49"/>
            <p:cNvSpPr/>
            <p:nvPr/>
          </p:nvSpPr>
          <p:spPr>
            <a:xfrm>
              <a:off x="3995640" y="2492280"/>
              <a:ext cx="505080" cy="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0"/>
            <p:cNvSpPr/>
            <p:nvPr/>
          </p:nvSpPr>
          <p:spPr>
            <a:xfrm>
              <a:off x="4500720" y="2492280"/>
              <a:ext cx="1655640" cy="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54"/>
          <p:cNvGrpSpPr/>
          <p:nvPr/>
        </p:nvGrpSpPr>
        <p:grpSpPr>
          <a:xfrm>
            <a:off x="5940360" y="2276640"/>
            <a:ext cx="0" cy="1873080"/>
            <a:chOff x="5940360" y="2276640"/>
            <a:chExt cx="0" cy="1873080"/>
          </a:xfrm>
        </p:grpSpPr>
        <p:sp>
          <p:nvSpPr>
            <p:cNvPr id="133" name="Line 52"/>
            <p:cNvSpPr/>
            <p:nvPr/>
          </p:nvSpPr>
          <p:spPr>
            <a:xfrm>
              <a:off x="5940360" y="2276640"/>
              <a:ext cx="0" cy="14396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3"/>
            <p:cNvSpPr/>
            <p:nvPr/>
          </p:nvSpPr>
          <p:spPr>
            <a:xfrm>
              <a:off x="5940360" y="3716280"/>
              <a:ext cx="0" cy="43344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62"/>
          <p:cNvGrpSpPr/>
          <p:nvPr/>
        </p:nvGrpSpPr>
        <p:grpSpPr>
          <a:xfrm>
            <a:off x="4269240" y="2276640"/>
            <a:ext cx="1885320" cy="1726560"/>
            <a:chOff x="4269240" y="2276640"/>
            <a:chExt cx="1885320" cy="1726560"/>
          </a:xfrm>
        </p:grpSpPr>
        <p:sp>
          <p:nvSpPr>
            <p:cNvPr id="136" name="WordArt 56"/>
            <p:cNvSpPr txBox="1"/>
            <p:nvPr/>
          </p:nvSpPr>
          <p:spPr>
            <a:xfrm rot="16200000">
              <a:off x="5364000" y="3212640"/>
              <a:ext cx="1439640" cy="14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терма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37" name="WordArt 57"/>
            <p:cNvSpPr txBox="1"/>
            <p:nvPr/>
          </p:nvSpPr>
          <p:spPr>
            <a:xfrm rot="19306800">
              <a:off x="4211640" y="3068280"/>
              <a:ext cx="1154160" cy="21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бара</a:t>
              </a:r>
              <a:endPara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38" name="WordArt 58"/>
            <p:cNvSpPr txBox="1"/>
            <p:nvPr/>
          </p:nvSpPr>
          <p:spPr>
            <a:xfrm>
              <a:off x="4356000" y="2276640"/>
              <a:ext cx="1079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хора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39" name="Group 72"/>
          <p:cNvGrpSpPr/>
          <p:nvPr/>
        </p:nvGrpSpPr>
        <p:grpSpPr>
          <a:xfrm>
            <a:off x="7093080" y="2205000"/>
            <a:ext cx="1868400" cy="1800360"/>
            <a:chOff x="7093080" y="2205000"/>
            <a:chExt cx="1868400" cy="1800360"/>
          </a:xfrm>
        </p:grpSpPr>
        <p:sp>
          <p:nvSpPr>
            <p:cNvPr id="140" name="WordArt 59"/>
            <p:cNvSpPr txBox="1"/>
            <p:nvPr/>
          </p:nvSpPr>
          <p:spPr>
            <a:xfrm rot="16200000">
              <a:off x="8170560" y="3214440"/>
              <a:ext cx="1440000" cy="14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терма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1" name="WordArt 60"/>
            <p:cNvSpPr txBox="1"/>
            <p:nvPr/>
          </p:nvSpPr>
          <p:spPr>
            <a:xfrm>
              <a:off x="7093080" y="2205000"/>
              <a:ext cx="1154160" cy="21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бара</a:t>
              </a:r>
              <a:endPara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2" name="WordArt 61"/>
            <p:cNvSpPr txBox="1"/>
            <p:nvPr/>
          </p:nvSpPr>
          <p:spPr>
            <a:xfrm rot="19211400">
              <a:off x="7019640" y="3141360"/>
              <a:ext cx="1079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хора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43" name="Group 63"/>
          <p:cNvGrpSpPr/>
          <p:nvPr/>
        </p:nvGrpSpPr>
        <p:grpSpPr>
          <a:xfrm>
            <a:off x="6804000" y="2420640"/>
            <a:ext cx="2015640" cy="1728720"/>
            <a:chOff x="6804000" y="2420640"/>
            <a:chExt cx="2015640" cy="1728720"/>
          </a:xfrm>
        </p:grpSpPr>
        <p:sp>
          <p:nvSpPr>
            <p:cNvPr id="144" name="Line 64"/>
            <p:cNvSpPr/>
            <p:nvPr/>
          </p:nvSpPr>
          <p:spPr>
            <a:xfrm flipV="1">
              <a:off x="6804000" y="3717360"/>
              <a:ext cx="503640" cy="43200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65"/>
            <p:cNvSpPr/>
            <p:nvPr/>
          </p:nvSpPr>
          <p:spPr>
            <a:xfrm flipV="1">
              <a:off x="7307640" y="2420640"/>
              <a:ext cx="1512000" cy="129636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66"/>
          <p:cNvGrpSpPr/>
          <p:nvPr/>
        </p:nvGrpSpPr>
        <p:grpSpPr>
          <a:xfrm>
            <a:off x="6804000" y="2492280"/>
            <a:ext cx="2160720" cy="0"/>
            <a:chOff x="6804000" y="2492280"/>
            <a:chExt cx="2160720" cy="0"/>
          </a:xfrm>
        </p:grpSpPr>
        <p:sp>
          <p:nvSpPr>
            <p:cNvPr id="147" name="Line 67"/>
            <p:cNvSpPr/>
            <p:nvPr/>
          </p:nvSpPr>
          <p:spPr>
            <a:xfrm>
              <a:off x="6804000" y="2492280"/>
              <a:ext cx="505080" cy="0"/>
            </a:xfrm>
            <a:prstGeom prst="line">
              <a:avLst/>
            </a:prstGeom>
            <a:ln w="3168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68"/>
            <p:cNvSpPr/>
            <p:nvPr/>
          </p:nvSpPr>
          <p:spPr>
            <a:xfrm>
              <a:off x="7309080" y="2492280"/>
              <a:ext cx="1655640" cy="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69"/>
          <p:cNvGrpSpPr/>
          <p:nvPr/>
        </p:nvGrpSpPr>
        <p:grpSpPr>
          <a:xfrm>
            <a:off x="8748720" y="2276640"/>
            <a:ext cx="0" cy="1873080"/>
            <a:chOff x="8748720" y="2276640"/>
            <a:chExt cx="0" cy="1873080"/>
          </a:xfrm>
        </p:grpSpPr>
        <p:sp>
          <p:nvSpPr>
            <p:cNvPr id="150" name="Line 70"/>
            <p:cNvSpPr/>
            <p:nvPr/>
          </p:nvSpPr>
          <p:spPr>
            <a:xfrm>
              <a:off x="8748720" y="2276640"/>
              <a:ext cx="0" cy="14396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71"/>
            <p:cNvSpPr/>
            <p:nvPr/>
          </p:nvSpPr>
          <p:spPr>
            <a:xfrm>
              <a:off x="8748720" y="3716280"/>
              <a:ext cx="0" cy="43344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73"/>
          <p:cNvSpPr/>
          <p:nvPr/>
        </p:nvSpPr>
        <p:spPr>
          <a:xfrm>
            <a:off x="3419640" y="6524640"/>
            <a:ext cx="2952720" cy="333360"/>
          </a:xfrm>
          <a:custGeom>
            <a:avLst/>
            <a:gdLst>
              <a:gd name="textAreaLeft" fmla="*/ 21600 w 2952720"/>
              <a:gd name="textAreaRight" fmla="*/ 2931120 w 2952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191138" h="21600">
                <a:moveTo>
                  <a:pt x="0" y="0"/>
                </a:moveTo>
                <a:lnTo>
                  <a:pt x="191138" y="0"/>
                </a:lnTo>
                <a:lnTo>
                  <a:pt x="191138" y="21600"/>
                </a:lnTo>
                <a:lnTo>
                  <a:pt x="0" y="21600"/>
                </a:lnTo>
                <a:close/>
              </a:path>
              <a:path fill="lightenLess" w="191138" h="21600">
                <a:moveTo>
                  <a:pt x="0" y="0"/>
                </a:moveTo>
                <a:lnTo>
                  <a:pt x="191138" y="0"/>
                </a:lnTo>
                <a:lnTo>
                  <a:pt x="189738" y="1400"/>
                </a:lnTo>
                <a:lnTo>
                  <a:pt x="1400" y="1400"/>
                </a:lnTo>
                <a:close/>
              </a:path>
              <a:path fill="darken" w="191138" h="21600">
                <a:moveTo>
                  <a:pt x="191138" y="0"/>
                </a:moveTo>
                <a:lnTo>
                  <a:pt x="191138" y="21600"/>
                </a:lnTo>
                <a:lnTo>
                  <a:pt x="189738" y="20200"/>
                </a:lnTo>
                <a:lnTo>
                  <a:pt x="189738" y="1400"/>
                </a:lnTo>
                <a:close/>
              </a:path>
              <a:path fill="darkenLess" w="191138" h="21600">
                <a:moveTo>
                  <a:pt x="19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9738" y="20200"/>
                </a:lnTo>
                <a:close/>
              </a:path>
              <a:path fill="lighten" w="19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Необходимо знать из курса математики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 уравнений и систем урав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инейная функция и ее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рафик обратно пропорциональной завис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2"/>
          <p:cNvSpPr/>
          <p:nvPr/>
        </p:nvSpPr>
        <p:spPr>
          <a:xfrm>
            <a:off x="250920" y="6453360"/>
            <a:ext cx="1871640" cy="404640"/>
          </a:xfrm>
          <a:custGeom>
            <a:avLst/>
            <a:gdLst>
              <a:gd name="textAreaLeft" fmla="*/ 25920 w 1871640"/>
              <a:gd name="textAreaRight" fmla="*/ 1845720 w 187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9840" h="21600">
                <a:moveTo>
                  <a:pt x="0" y="0"/>
                </a:moveTo>
                <a:lnTo>
                  <a:pt x="99840" y="0"/>
                </a:lnTo>
                <a:lnTo>
                  <a:pt x="99840" y="21600"/>
                </a:lnTo>
                <a:lnTo>
                  <a:pt x="0" y="21600"/>
                </a:lnTo>
                <a:close/>
              </a:path>
              <a:path fill="lightenLess" w="99840" h="21600">
                <a:moveTo>
                  <a:pt x="0" y="0"/>
                </a:moveTo>
                <a:lnTo>
                  <a:pt x="99840" y="0"/>
                </a:lnTo>
                <a:lnTo>
                  <a:pt x="98440" y="1400"/>
                </a:lnTo>
                <a:lnTo>
                  <a:pt x="1400" y="1400"/>
                </a:lnTo>
                <a:close/>
              </a:path>
              <a:path fill="darken" w="99840" h="21600">
                <a:moveTo>
                  <a:pt x="99840" y="0"/>
                </a:moveTo>
                <a:lnTo>
                  <a:pt x="99840" y="21600"/>
                </a:lnTo>
                <a:lnTo>
                  <a:pt x="98440" y="20200"/>
                </a:lnTo>
                <a:lnTo>
                  <a:pt x="98440" y="1400"/>
                </a:lnTo>
                <a:close/>
              </a:path>
              <a:path fill="darkenLess" w="99840" h="21600">
                <a:moveTo>
                  <a:pt x="998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440" y="20200"/>
                </a:lnTo>
                <a:close/>
              </a:path>
              <a:path fill="lighten" w="998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>
            <a:off x="6156360" y="6453360"/>
            <a:ext cx="2952720" cy="404640"/>
          </a:xfrm>
          <a:custGeom>
            <a:avLst/>
            <a:gdLst>
              <a:gd name="textAreaLeft" fmla="*/ 25920 w 2952720"/>
              <a:gd name="textAreaRight" fmla="*/ 2926800 w 2952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157498" h="21600">
                <a:moveTo>
                  <a:pt x="0" y="0"/>
                </a:moveTo>
                <a:lnTo>
                  <a:pt x="157498" y="0"/>
                </a:lnTo>
                <a:lnTo>
                  <a:pt x="157498" y="21600"/>
                </a:lnTo>
                <a:lnTo>
                  <a:pt x="0" y="21600"/>
                </a:lnTo>
                <a:close/>
              </a:path>
              <a:path fill="lightenLess" w="157498" h="21600">
                <a:moveTo>
                  <a:pt x="0" y="0"/>
                </a:moveTo>
                <a:lnTo>
                  <a:pt x="157498" y="0"/>
                </a:lnTo>
                <a:lnTo>
                  <a:pt x="156098" y="1400"/>
                </a:lnTo>
                <a:lnTo>
                  <a:pt x="1400" y="1400"/>
                </a:lnTo>
                <a:close/>
              </a:path>
              <a:path fill="darken" w="157498" h="21600">
                <a:moveTo>
                  <a:pt x="157498" y="0"/>
                </a:moveTo>
                <a:lnTo>
                  <a:pt x="157498" y="21600"/>
                </a:lnTo>
                <a:lnTo>
                  <a:pt x="156098" y="20200"/>
                </a:lnTo>
                <a:lnTo>
                  <a:pt x="156098" y="1400"/>
                </a:lnTo>
                <a:close/>
              </a:path>
              <a:path fill="darkenLess" w="157498" h="21600">
                <a:moveTo>
                  <a:pt x="15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098" y="20200"/>
                </a:lnTo>
                <a:close/>
              </a:path>
              <a:path fill="lighten" w="15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7:47:36Z</dcterms:created>
  <dc:creator>FuckYouBill</dc:creator>
  <dc:description/>
  <dc:language>en-US</dc:language>
  <cp:lastModifiedBy>LEGION</cp:lastModifiedBy>
  <dcterms:modified xsi:type="dcterms:W3CDTF">2015-03-30T08:56:21Z</dcterms:modified>
  <cp:revision>32</cp:revision>
  <dc:subject/>
  <dc:title>Слайд 1</dc:title>
</cp:coreProperties>
</file>