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0A8-3E97-4D68-B9E4-7FC6490E1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0A35-8579-4462-949E-F256B14B1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FE9-FB45-4CEC-BA97-54167BBE8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ЕШЕНИЕ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 СИСТЕМ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DB46-5E84-4886-A5EB-718DD6D60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96D-947B-4F2F-97BB-320D8A36E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Линейная функция 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99DF-712B-4EC0-93F1-21541BB6F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6E85-5153-4C7A-9A04-456EBCAA1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График обратно пропорциональ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AF30-1A0E-41E8-BF4A-0B6317244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8BB2-FB17-452D-BFAB-1BF2789EF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6DF7-875E-486F-9BF8-7CCF04D0A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A478-D5EC-4F59-9A45-B43B2D36B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9367-187B-4B54-99A6-0CDC9EA5E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D28F-6635-48D3-94B3-5D264F8D9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ЗО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EC51-E9A5-465D-B140-A5E1C2127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A764-2AC5-4BAF-BE6F-C4B1F9BE2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Impact"/>
              </a:rPr>
              <a:t>Тест "Изопроцесс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319C-58B0-4077-B6B2-0F86DA71F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81E1-968D-488A-A96B-B4F03CF4C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B543-6ACE-4628-A964-1A1242067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4DB6-FF69-400E-B18F-52B594491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42C4-3988-471B-8744-DF16905CA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C912-292D-4E28-A8FF-63E225032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5A9-FC5D-4EA3-9174-7C416FFFD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7478-B71A-4BE7-A981-6CCBA7E6EE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4C79-8308-4A19-A2A3-4F2F69D1C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3FF9-6C51-4DF2-8111-B8E63BA17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D6A2-CA25-4068-8233-0C804EF234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5591-1D79-4383-AE7A-AFDCC0CE5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ГРАФИКИ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КРОСКОПИЧЕСКИХ ПАРА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7B5-29C6-4F08-9E9E-EC44E0AE2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F4F-F6C2-4C27-94D5-CA4B2016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883-32BD-481C-875F-E173C60F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FC0-2953-492E-BCDF-B527CCFC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F49-529D-4F25-A84E-F8CFD22A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527-FCBC-466E-B1E0-8AEF61AD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4A0-0EA9-4A46-8A70-7F7F1BCF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310-8707-4DDC-A816-0B4DF77D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EDD-E2CE-4F76-A65C-939D7416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A7E-A34D-4CBC-9D33-B313D9E5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8BC-E81F-4421-A370-3DBE2600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CD5-8A0D-4498-94FD-D73815E6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1FC-0DAA-48A6-8C22-97784180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E14C-CACA-4D58-A69F-F50A57337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7.xml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2960"/>
            <a:ext cx="8964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584360" y="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3851280" y="191628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146560" y="321300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2411280" y="4869000"/>
                <a:ext cx="3961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564000" y="6110280"/>
                <a:ext cx="205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AutoShape 1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5" name="Group 14"/>
          <p:cNvGrpSpPr/>
          <p:nvPr/>
        </p:nvGrpSpPr>
        <p:grpSpPr>
          <a:xfrm>
            <a:off x="3780000" y="4724280"/>
            <a:ext cx="2952720" cy="2133720"/>
            <a:chOff x="3780000" y="4724280"/>
            <a:chExt cx="2952720" cy="2133720"/>
          </a:xfrm>
        </p:grpSpPr>
        <p:sp>
          <p:nvSpPr>
            <p:cNvPr id="176" name="Line 5"/>
            <p:cNvSpPr/>
            <p:nvPr/>
          </p:nvSpPr>
          <p:spPr>
            <a:xfrm flipV="1">
              <a:off x="4283280" y="472428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780000" y="4724280"/>
              <a:ext cx="2952720" cy="2133720"/>
              <a:chOff x="3780000" y="4724280"/>
              <a:chExt cx="2952720" cy="2133720"/>
            </a:xfrm>
          </p:grpSpPr>
          <p:sp>
            <p:nvSpPr>
              <p:cNvPr id="178" name="Line 6"/>
              <p:cNvSpPr/>
              <p:nvPr/>
            </p:nvSpPr>
            <p:spPr>
              <a:xfrm>
                <a:off x="4283280" y="6597720"/>
                <a:ext cx="216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3996000" y="5734080"/>
                <a:ext cx="20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4716720" y="530064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3780000" y="5300640"/>
                <a:ext cx="505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3780000" y="4724280"/>
                <a:ext cx="57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3924720" y="6497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444000" y="6497640"/>
                <a:ext cx="288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14036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3132000" y="595008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850920" y="4365720"/>
            <a:ext cx="158436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276360" y="4221000"/>
            <a:ext cx="158436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140360" y="4508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64000" y="4508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564000" y="3716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156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364000" y="4365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140360" y="5013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63528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48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492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0"/>
            <a:ext cx="864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 обратно пропорциональной зависим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255600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556000" y="6381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 rot="21317400">
            <a:off x="2654280" y="4002120"/>
            <a:ext cx="1774800" cy="2160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073" h="1315">
                <a:moveTo>
                  <a:pt x="75" y="0"/>
                </a:moveTo>
                <a:cubicBezTo>
                  <a:pt x="37" y="435"/>
                  <a:pt x="0" y="870"/>
                  <a:pt x="166" y="1089"/>
                </a:cubicBezTo>
                <a:cubicBezTo>
                  <a:pt x="332" y="1308"/>
                  <a:pt x="922" y="1277"/>
                  <a:pt x="1073" y="13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197080" y="623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638172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3789360"/>
          <a:ext cx="8434080" cy="206064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 rot="16200000">
            <a:off x="6048360" y="2780640"/>
            <a:ext cx="2305080" cy="144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6"/>
          <p:cNvGrpSpPr/>
          <p:nvPr/>
        </p:nvGrpSpPr>
        <p:grpSpPr>
          <a:xfrm>
            <a:off x="6480000" y="1125720"/>
            <a:ext cx="1441440" cy="1368360"/>
            <a:chOff x="6480000" y="1125720"/>
            <a:chExt cx="1441440" cy="1368360"/>
          </a:xfrm>
        </p:grpSpPr>
        <p:grpSp>
          <p:nvGrpSpPr>
            <p:cNvPr id="220" name="Group 8"/>
            <p:cNvGrpSpPr/>
            <p:nvPr/>
          </p:nvGrpSpPr>
          <p:grpSpPr>
            <a:xfrm>
              <a:off x="6480000" y="1125720"/>
              <a:ext cx="1441440" cy="1368360"/>
              <a:chOff x="6480000" y="1125720"/>
              <a:chExt cx="1441440" cy="1368360"/>
            </a:xfrm>
          </p:grpSpPr>
          <p:sp>
            <p:nvSpPr>
              <p:cNvPr id="221" name="Rectangle 5"/>
              <p:cNvSpPr/>
              <p:nvPr/>
            </p:nvSpPr>
            <p:spPr>
              <a:xfrm rot="16200000">
                <a:off x="6765120" y="1603080"/>
                <a:ext cx="870480" cy="2890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"/>
              <p:cNvSpPr/>
              <p:nvPr/>
            </p:nvSpPr>
            <p:spPr>
              <a:xfrm rot="16200000">
                <a:off x="7143840" y="679320"/>
                <a:ext cx="186480" cy="10792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 rot="16200000">
                <a:off x="7045200" y="1617840"/>
                <a:ext cx="311040" cy="144144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9"/>
            <p:cNvSpPr/>
            <p:nvPr/>
          </p:nvSpPr>
          <p:spPr>
            <a:xfrm>
              <a:off x="6877080" y="1413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 Black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6877080" y="2205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87708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0"/>
          <p:cNvGrpSpPr/>
          <p:nvPr/>
        </p:nvGrpSpPr>
        <p:grpSpPr>
          <a:xfrm>
            <a:off x="5303880" y="765000"/>
            <a:ext cx="492120" cy="576360"/>
            <a:chOff x="5303880" y="765000"/>
            <a:chExt cx="492120" cy="576360"/>
          </a:xfrm>
        </p:grpSpPr>
        <p:pic>
          <p:nvPicPr>
            <p:cNvPr id="228" name="Picture 38" descr=""/>
            <p:cNvPicPr/>
            <p:nvPr/>
          </p:nvPicPr>
          <p:blipFill>
            <a:blip r:embed="rId2">
              <a:alphaModFix amt="0"/>
            </a:blip>
            <a:srcRect l="21353" t="20851" r="14803" b="5567"/>
            <a:stretch/>
          </p:blipFill>
          <p:spPr>
            <a:xfrm>
              <a:off x="5303880" y="76500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9"/>
            <p:cNvSpPr/>
            <p:nvPr/>
          </p:nvSpPr>
          <p:spPr>
            <a:xfrm>
              <a:off x="5435640" y="90792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516720" y="1628640"/>
            <a:ext cx="492120" cy="576360"/>
            <a:chOff x="6516720" y="1628640"/>
            <a:chExt cx="492120" cy="576360"/>
          </a:xfrm>
        </p:grpSpPr>
        <p:pic>
          <p:nvPicPr>
            <p:cNvPr id="231" name="Picture 42" descr=""/>
            <p:cNvPicPr/>
            <p:nvPr/>
          </p:nvPicPr>
          <p:blipFill>
            <a:blip r:embed="rId3">
              <a:alphaModFix amt="0"/>
            </a:blip>
            <a:srcRect l="21353" t="20851" r="14803" b="5567"/>
            <a:stretch/>
          </p:blipFill>
          <p:spPr>
            <a:xfrm>
              <a:off x="6516720" y="162864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43"/>
            <p:cNvSpPr/>
            <p:nvPr/>
          </p:nvSpPr>
          <p:spPr>
            <a:xfrm>
              <a:off x="6648480" y="177156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5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769E-007 L 0.13716 0.12581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4681E-006 L 3.05556E-006 0.16791 E">
                                      <p:cBhvr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3.14524E-007 L 0.00121 0.1679 E">
                                      <p:cBhvr>
                                        <p:cTn id="12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9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997360"/>
          <a:ext cx="8640720" cy="197136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4"/>
          <p:cNvSpPr/>
          <p:nvPr/>
        </p:nvSpPr>
        <p:spPr>
          <a:xfrm>
            <a:off x="324000" y="530064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03280" y="620640"/>
          <a:ext cx="8640720" cy="119700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324000" y="177336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6"/>
          <p:cNvSpPr/>
          <p:nvPr/>
        </p:nvSpPr>
        <p:spPr>
          <a:xfrm>
            <a:off x="2916360" y="6021360"/>
            <a:ext cx="57600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7"/>
          <p:cNvSpPr/>
          <p:nvPr/>
        </p:nvSpPr>
        <p:spPr>
          <a:xfrm>
            <a:off x="356400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8"/>
          <p:cNvSpPr/>
          <p:nvPr/>
        </p:nvSpPr>
        <p:spPr>
          <a:xfrm>
            <a:off x="421164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>
            <a:off x="32400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4"/>
          <p:cNvSpPr/>
          <p:nvPr/>
        </p:nvSpPr>
        <p:spPr>
          <a:xfrm>
            <a:off x="97164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161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2268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7"/>
          <p:cNvSpPr/>
          <p:nvPr/>
        </p:nvSpPr>
        <p:spPr>
          <a:xfrm>
            <a:off x="291636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8"/>
          <p:cNvSpPr/>
          <p:nvPr/>
        </p:nvSpPr>
        <p:spPr>
          <a:xfrm>
            <a:off x="356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9"/>
          <p:cNvSpPr/>
          <p:nvPr/>
        </p:nvSpPr>
        <p:spPr>
          <a:xfrm>
            <a:off x="421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485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550872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6156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680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745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81010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79280" y="1844640"/>
          <a:ext cx="8964720" cy="3084480"/>
        </p:xfrm>
        <a:graphic>
          <a:graphicData uri="http://schemas.openxmlformats.org/drawingml/2006/table">
            <a:tbl>
              <a:tblPr/>
              <a:tblGrid>
                <a:gridCol w="863640"/>
                <a:gridCol w="2305080"/>
                <a:gridCol w="2351160"/>
                <a:gridCol w="1720800"/>
                <a:gridCol w="1724040"/>
              </a:tblGrid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6"/>
          <p:cNvSpPr/>
          <p:nvPr/>
        </p:nvSpPr>
        <p:spPr>
          <a:xfrm>
            <a:off x="1763640" y="227484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241128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1763640" y="3787920"/>
            <a:ext cx="5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241128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99564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457200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514836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99564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57200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14836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644364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644364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8172360" y="234792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17236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>
            <a:off x="1619280" y="5157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>
            <a:off x="363528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>
            <a:off x="428472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>
            <a:off x="493236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3"/>
          <p:cNvSpPr/>
          <p:nvPr/>
        </p:nvSpPr>
        <p:spPr>
          <a:xfrm>
            <a:off x="298764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5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1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5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9"/>
          <p:cNvSpPr/>
          <p:nvPr/>
        </p:nvSpPr>
        <p:spPr>
          <a:xfrm>
            <a:off x="298944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0"/>
          <p:cNvSpPr/>
          <p:nvPr/>
        </p:nvSpPr>
        <p:spPr>
          <a:xfrm>
            <a:off x="363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2"/>
          <p:cNvSpPr/>
          <p:nvPr/>
        </p:nvSpPr>
        <p:spPr>
          <a:xfrm>
            <a:off x="250920" y="692280"/>
            <a:ext cx="88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4"/>
          <p:cNvSpPr/>
          <p:nvPr/>
        </p:nvSpPr>
        <p:spPr>
          <a:xfrm>
            <a:off x="363528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0"/>
          <p:cNvSpPr/>
          <p:nvPr/>
        </p:nvSpPr>
        <p:spPr>
          <a:xfrm>
            <a:off x="363708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2"/>
          <p:cNvSpPr/>
          <p:nvPr/>
        </p:nvSpPr>
        <p:spPr>
          <a:xfrm>
            <a:off x="493236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1"/>
          <p:cNvSpPr/>
          <p:nvPr/>
        </p:nvSpPr>
        <p:spPr>
          <a:xfrm>
            <a:off x="428472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7"/>
          <p:cNvSpPr/>
          <p:nvPr/>
        </p:nvSpPr>
        <p:spPr>
          <a:xfrm>
            <a:off x="1655640" y="519444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8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9"/>
          <p:cNvSpPr txBox="1"/>
          <p:nvPr/>
        </p:nvSpPr>
        <p:spPr>
          <a:xfrm>
            <a:off x="1116000" y="620640"/>
            <a:ext cx="734364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ОПРОЦЕС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AutoShape 15">
            <a:hlinkClick r:id="rId1" action="ppaction://hlinksldjump"/>
          </p:cNvPr>
          <p:cNvSpPr/>
          <p:nvPr/>
        </p:nvSpPr>
        <p:spPr>
          <a:xfrm>
            <a:off x="5364000" y="3860640"/>
            <a:ext cx="3035520" cy="720720"/>
          </a:xfrm>
          <a:custGeom>
            <a:avLst/>
            <a:gdLst>
              <a:gd name="textAreaLeft" fmla="*/ 46440 w 3035520"/>
              <a:gd name="textAreaRight" fmla="*/ 2989080 w 3035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40" h="21600">
                <a:moveTo>
                  <a:pt x="0" y="0"/>
                </a:moveTo>
                <a:lnTo>
                  <a:pt x="90940" y="0"/>
                </a:lnTo>
                <a:lnTo>
                  <a:pt x="90940" y="21600"/>
                </a:lnTo>
                <a:lnTo>
                  <a:pt x="0" y="21600"/>
                </a:lnTo>
                <a:close/>
              </a:path>
              <a:path fill="lightenLess" w="90940" h="21600">
                <a:moveTo>
                  <a:pt x="0" y="0"/>
                </a:moveTo>
                <a:lnTo>
                  <a:pt x="90940" y="0"/>
                </a:lnTo>
                <a:lnTo>
                  <a:pt x="89540" y="1400"/>
                </a:lnTo>
                <a:lnTo>
                  <a:pt x="1400" y="1400"/>
                </a:lnTo>
                <a:close/>
              </a:path>
              <a:path fill="darken" w="90940" h="21600">
                <a:moveTo>
                  <a:pt x="90940" y="0"/>
                </a:moveTo>
                <a:lnTo>
                  <a:pt x="90940" y="21600"/>
                </a:lnTo>
                <a:lnTo>
                  <a:pt x="89540" y="20200"/>
                </a:lnTo>
                <a:lnTo>
                  <a:pt x="89540" y="1400"/>
                </a:lnTo>
                <a:close/>
              </a:path>
              <a:path fill="darkenLess" w="90940" h="21600">
                <a:moveTo>
                  <a:pt x="90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40" y="20200"/>
                </a:lnTo>
                <a:close/>
              </a:path>
              <a:path fill="lighten" w="90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>
            <a:hlinkClick r:id="rId2" action="ppaction://hlinksldjump"/>
          </p:cNvPr>
          <p:cNvSpPr/>
          <p:nvPr/>
        </p:nvSpPr>
        <p:spPr>
          <a:xfrm>
            <a:off x="684360" y="386064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>
            <a:hlinkClick r:id="rId3" action="ppaction://hlinksldjump"/>
          </p:cNvPr>
          <p:cNvSpPr/>
          <p:nvPr/>
        </p:nvSpPr>
        <p:spPr>
          <a:xfrm>
            <a:off x="68436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>
            <a:hlinkClick r:id="rId4" action="ppaction://hlinksldjump"/>
          </p:cNvPr>
          <p:cNvSpPr/>
          <p:nvPr/>
        </p:nvSpPr>
        <p:spPr>
          <a:xfrm>
            <a:off x="535320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561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3"/>
          <a:srcRect l="0" t="0" r="0" b="12002"/>
          <a:stretch/>
        </p:blipFill>
        <p:spPr>
          <a:xfrm>
            <a:off x="6588000" y="414972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Oval 8"/>
          <p:cNvSpPr/>
          <p:nvPr/>
        </p:nvSpPr>
        <p:spPr>
          <a:xfrm>
            <a:off x="7740720" y="551664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7093080" y="616572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877080" y="4724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877080" y="3716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22764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622764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6443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796000" y="494172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904000" y="227664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глубине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авл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ерхности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1476360" y="3284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8"/>
          <p:cNvSpPr/>
          <p:nvPr/>
        </p:nvSpPr>
        <p:spPr>
          <a:xfrm>
            <a:off x="320364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59259E-006 L 6.94444E-006 -0.16806 E">
                                      <p:cBhvr>
                                        <p:cTn id="20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7236000" y="3068640"/>
            <a:ext cx="129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236000" y="2637000"/>
            <a:ext cx="1296720" cy="1368360"/>
            <a:chOff x="7236000" y="2637000"/>
            <a:chExt cx="1296720" cy="1368360"/>
          </a:xfrm>
        </p:grpSpPr>
        <p:sp>
          <p:nvSpPr>
            <p:cNvPr id="338" name="Rectangle 5"/>
            <p:cNvSpPr/>
            <p:nvPr/>
          </p:nvSpPr>
          <p:spPr>
            <a:xfrm>
              <a:off x="7236000" y="3645000"/>
              <a:ext cx="129672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812000" y="2853000"/>
              <a:ext cx="144720" cy="79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451640" y="2637000"/>
              <a:ext cx="792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638280" cy="2352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6732720" y="3789360"/>
            <a:ext cx="7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7236000" y="5516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5.78035E-007 L 0.00018 -0.07861 E">
                                      <p:cBhvr>
                                        <p:cTn id="21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2.77778E-006 -0.04971 E">
                                      <p:cBhvr>
                                        <p:cTn id="21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5796000" y="5516640"/>
            <a:ext cx="2952720" cy="0"/>
          </a:xfrm>
          <a:prstGeom prst="line">
            <a:avLst/>
          </a:prstGeom>
          <a:ln w="3492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5148360" y="1844640"/>
            <a:ext cx="3814560" cy="4392720"/>
            <a:chOff x="5148360" y="1844640"/>
            <a:chExt cx="3814560" cy="4392720"/>
          </a:xfrm>
        </p:grpSpPr>
        <p:sp>
          <p:nvSpPr>
            <p:cNvPr id="356" name="Line 11"/>
            <p:cNvSpPr/>
            <p:nvPr/>
          </p:nvSpPr>
          <p:spPr>
            <a:xfrm flipV="1">
              <a:off x="5796000" y="2133360"/>
              <a:ext cx="0" cy="3382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 flipV="1">
              <a:off x="5796000" y="4868640"/>
              <a:ext cx="72072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V="1">
              <a:off x="6516720" y="3068280"/>
              <a:ext cx="1800360" cy="1800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148360" y="1844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8459640" y="5300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5435640" y="537372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5435640" y="3139920"/>
            <a:ext cx="2305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7596360" y="3139920"/>
            <a:ext cx="1368000" cy="1441440"/>
            <a:chOff x="7596360" y="3139920"/>
            <a:chExt cx="1368000" cy="1441440"/>
          </a:xfrm>
        </p:grpSpPr>
        <p:sp>
          <p:nvSpPr>
            <p:cNvPr id="369" name="Rectangle 12"/>
            <p:cNvSpPr/>
            <p:nvPr/>
          </p:nvSpPr>
          <p:spPr>
            <a:xfrm>
              <a:off x="7907400" y="3715920"/>
              <a:ext cx="870480" cy="289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777880" y="3357360"/>
              <a:ext cx="186480" cy="1079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7596360" y="3139920"/>
              <a:ext cx="311040" cy="1441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15"/>
          <p:cNvSpPr/>
          <p:nvPr/>
        </p:nvSpPr>
        <p:spPr>
          <a:xfrm>
            <a:off x="5580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5940360" y="342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558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30072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73272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30072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58672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6227640" y="3932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586728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516720" y="378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6877080" y="393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6516720" y="4148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702000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8"/>
          <p:cNvSpPr/>
          <p:nvPr/>
        </p:nvSpPr>
        <p:spPr>
          <a:xfrm>
            <a:off x="709308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9"/>
          <p:cNvSpPr/>
          <p:nvPr/>
        </p:nvSpPr>
        <p:spPr>
          <a:xfrm>
            <a:off x="622764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550872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1"/>
          <p:cNvSpPr/>
          <p:nvPr/>
        </p:nvSpPr>
        <p:spPr>
          <a:xfrm>
            <a:off x="550872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543564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759636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5435640" y="29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940360" y="24922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8"/>
          <p:cNvSpPr/>
          <p:nvPr/>
        </p:nvSpPr>
        <p:spPr>
          <a:xfrm>
            <a:off x="7956720" y="4869000"/>
            <a:ext cx="1187280" cy="54900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6696" h="21600">
                <a:moveTo>
                  <a:pt x="0" y="0"/>
                </a:moveTo>
                <a:lnTo>
                  <a:pt x="46696" y="0"/>
                </a:lnTo>
                <a:lnTo>
                  <a:pt x="46696" y="21600"/>
                </a:lnTo>
                <a:lnTo>
                  <a:pt x="0" y="21600"/>
                </a:lnTo>
                <a:close/>
              </a:path>
              <a:path fill="lightenLess" w="46696" h="21600">
                <a:moveTo>
                  <a:pt x="0" y="0"/>
                </a:moveTo>
                <a:lnTo>
                  <a:pt x="46696" y="0"/>
                </a:lnTo>
                <a:lnTo>
                  <a:pt x="45296" y="1400"/>
                </a:lnTo>
                <a:lnTo>
                  <a:pt x="1400" y="1400"/>
                </a:lnTo>
                <a:close/>
              </a:path>
              <a:path fill="darken" w="46696" h="21600">
                <a:moveTo>
                  <a:pt x="46696" y="0"/>
                </a:moveTo>
                <a:lnTo>
                  <a:pt x="46696" y="21600"/>
                </a:lnTo>
                <a:lnTo>
                  <a:pt x="45296" y="20200"/>
                </a:lnTo>
                <a:lnTo>
                  <a:pt x="45296" y="1400"/>
                </a:lnTo>
                <a:close/>
              </a:path>
              <a:path fill="darkenLess" w="46696" h="21600">
                <a:moveTo>
                  <a:pt x="4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6" y="20200"/>
                </a:lnTo>
                <a:close/>
              </a:path>
              <a:path fill="lighten" w="4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4798E-006 L -0.07482 2.94798E-006 E">
                                      <p:cBhvr>
                                        <p:cTn id="2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10226 0.03168 E">
                                      <p:cBhvr>
                                        <p:cTn id="222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-0.01563 2.94798E-006 E">
                                      <p:cBhvr>
                                        <p:cTn id="22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7084 0.00023 E">
                                      <p:cBhvr>
                                        <p:cTn id="22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19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692280"/>
          <a:ext cx="8820000" cy="572904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5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тер-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ба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хо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-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ара-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фик изменения макроскопи-ческих пара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49" descr="J0239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0" descr="J02390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1" descr="J023901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1700280"/>
            <a:ext cx="1089000" cy="895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3"/>
          <p:cNvSpPr txBox="1"/>
          <p:nvPr/>
        </p:nvSpPr>
        <p:spPr>
          <a:xfrm>
            <a:off x="284328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=con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5"/>
          <p:cNvSpPr txBox="1"/>
          <p:nvPr/>
        </p:nvSpPr>
        <p:spPr>
          <a:xfrm>
            <a:off x="5003640" y="2924280"/>
            <a:ext cx="15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=const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56"/>
          <p:cNvSpPr txBox="1"/>
          <p:nvPr/>
        </p:nvSpPr>
        <p:spPr>
          <a:xfrm>
            <a:off x="723600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=const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16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4"/>
              <p:cNvSpPr txBox="1"/>
              <p:nvPr/>
            </p:nvSpPr>
            <p:spPr>
              <a:xfrm>
                <a:off x="4859280" y="3860640"/>
                <a:ext cx="1800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6"/>
              <p:cNvSpPr txBox="1"/>
              <p:nvPr/>
            </p:nvSpPr>
            <p:spPr>
              <a:xfrm>
                <a:off x="7164360" y="3886200"/>
                <a:ext cx="167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WordArt 167"/>
          <p:cNvSpPr txBox="1"/>
          <p:nvPr/>
        </p:nvSpPr>
        <p:spPr>
          <a:xfrm>
            <a:off x="1979640" y="4932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ПРОЦЕСС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isoterm.avi" descr=""/>
          <p:cNvPicPr/>
          <p:nvPr/>
        </p:nvPicPr>
        <p:blipFill>
          <a:blip r:embed="rId16"/>
          <a:stretch/>
        </p:blipFill>
        <p:spPr>
          <a:xfrm>
            <a:off x="2700360" y="494172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9" name="isobar.avi" descr=""/>
          <p:cNvPicPr/>
          <p:nvPr/>
        </p:nvPicPr>
        <p:blipFill>
          <a:blip r:embed="rId17"/>
          <a:stretch/>
        </p:blipFill>
        <p:spPr>
          <a:xfrm>
            <a:off x="493236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0" name="isoHOR.avi" descr=""/>
          <p:cNvPicPr/>
          <p:nvPr/>
        </p:nvPicPr>
        <p:blipFill>
          <a:blip r:embed="rId18"/>
          <a:stretch/>
        </p:blipFill>
        <p:spPr>
          <a:xfrm>
            <a:off x="7093080" y="4941720"/>
            <a:ext cx="1800000" cy="13496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10">
            <a:hlinkClick r:id="rId19" action="ppaction://hlinksldjump"/>
          </p:cNvPr>
          <p:cNvSpPr/>
          <p:nvPr/>
        </p:nvSpPr>
        <p:spPr>
          <a:xfrm>
            <a:off x="370836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AutoShape 6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16000" y="44280"/>
            <a:ext cx="61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И ИЗМЕН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РОСКОПИЧЕСКИХ ПАРАМЕТР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1116000" y="220500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2" h="908">
                <a:moveTo>
                  <a:pt x="0" y="0"/>
                </a:moveTo>
                <a:cubicBezTo>
                  <a:pt x="11" y="242"/>
                  <a:pt x="22" y="484"/>
                  <a:pt x="181" y="635"/>
                </a:cubicBezTo>
                <a:cubicBezTo>
                  <a:pt x="340" y="786"/>
                  <a:pt x="824" y="863"/>
                  <a:pt x="952" y="908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4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84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684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565360"/>
            <a:ext cx="1800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484360" y="2349360"/>
            <a:ext cx="0" cy="18003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11280" y="1700280"/>
            <a:ext cx="2448000" cy="2809800"/>
            <a:chOff x="611280" y="1700280"/>
            <a:chExt cx="2448000" cy="2809800"/>
          </a:xfrm>
        </p:grpSpPr>
        <p:sp>
          <p:nvSpPr>
            <p:cNvPr id="97" name="Line 5"/>
            <p:cNvSpPr/>
            <p:nvPr/>
          </p:nvSpPr>
          <p:spPr>
            <a:xfrm flipV="1">
              <a:off x="900000" y="19162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900000" y="4149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12720" y="17002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2700360" y="40766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611280" y="40766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21"/>
          <p:cNvSpPr/>
          <p:nvPr/>
        </p:nvSpPr>
        <p:spPr>
          <a:xfrm>
            <a:off x="39528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1154160" y="2276640"/>
            <a:ext cx="1546200" cy="1439640"/>
            <a:chOff x="1154160" y="2276640"/>
            <a:chExt cx="1546200" cy="1439640"/>
          </a:xfrm>
        </p:grpSpPr>
        <p:sp>
          <p:nvSpPr>
            <p:cNvPr id="104" name="WordArt 14"/>
            <p:cNvSpPr txBox="1"/>
            <p:nvPr/>
          </p:nvSpPr>
          <p:spPr>
            <a:xfrm rot="2299200">
              <a:off x="1042560" y="3141360"/>
              <a:ext cx="1440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" name="WordArt 22"/>
            <p:cNvSpPr txBox="1"/>
            <p:nvPr/>
          </p:nvSpPr>
          <p:spPr>
            <a:xfrm>
              <a:off x="1187280" y="227664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WordArt 23"/>
            <p:cNvSpPr txBox="1"/>
            <p:nvPr/>
          </p:nvSpPr>
          <p:spPr>
            <a:xfrm rot="16200000">
              <a:off x="2088360" y="310428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7" name="Line 27"/>
          <p:cNvSpPr/>
          <p:nvPr/>
        </p:nvSpPr>
        <p:spPr>
          <a:xfrm flipV="1">
            <a:off x="399744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3997440" y="41497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710160" y="1700280"/>
            <a:ext cx="35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79744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70836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516720" y="1698480"/>
            <a:ext cx="2448000" cy="2809800"/>
            <a:chOff x="6516720" y="1698480"/>
            <a:chExt cx="2448000" cy="2809800"/>
          </a:xfrm>
        </p:grpSpPr>
        <p:sp>
          <p:nvSpPr>
            <p:cNvPr id="113" name="Line 33"/>
            <p:cNvSpPr/>
            <p:nvPr/>
          </p:nvSpPr>
          <p:spPr>
            <a:xfrm flipV="1">
              <a:off x="6805440" y="19144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6805440" y="41479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6518160" y="16984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8605800" y="40748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516720" y="40748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8"/>
          <p:cNvSpPr/>
          <p:nvPr/>
        </p:nvSpPr>
        <p:spPr>
          <a:xfrm>
            <a:off x="3708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708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3708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1"/>
          <p:cNvSpPr/>
          <p:nvPr/>
        </p:nvSpPr>
        <p:spPr>
          <a:xfrm>
            <a:off x="651672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/>
          <p:cNvSpPr/>
          <p:nvPr/>
        </p:nvSpPr>
        <p:spPr>
          <a:xfrm>
            <a:off x="651672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3"/>
          <p:cNvSpPr/>
          <p:nvPr/>
        </p:nvSpPr>
        <p:spPr>
          <a:xfrm>
            <a:off x="651672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4"/>
          <p:cNvSpPr/>
          <p:nvPr/>
        </p:nvSpPr>
        <p:spPr>
          <a:xfrm>
            <a:off x="3419640" y="765000"/>
            <a:ext cx="2663640" cy="432000"/>
          </a:xfrm>
          <a:custGeom>
            <a:avLst/>
            <a:gdLst>
              <a:gd name="textAreaLeft" fmla="*/ 27720 w 2663640"/>
              <a:gd name="textAreaRight" fmla="*/ 2635920 w 26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089" h="21600">
                <a:moveTo>
                  <a:pt x="0" y="0"/>
                </a:moveTo>
                <a:lnTo>
                  <a:pt x="133089" y="0"/>
                </a:lnTo>
                <a:lnTo>
                  <a:pt x="133089" y="21600"/>
                </a:lnTo>
                <a:lnTo>
                  <a:pt x="0" y="21600"/>
                </a:lnTo>
                <a:close/>
              </a:path>
              <a:path fill="lightenLess" w="133089" h="21600">
                <a:moveTo>
                  <a:pt x="0" y="0"/>
                </a:moveTo>
                <a:lnTo>
                  <a:pt x="133089" y="0"/>
                </a:lnTo>
                <a:lnTo>
                  <a:pt x="131689" y="1400"/>
                </a:lnTo>
                <a:lnTo>
                  <a:pt x="1400" y="1400"/>
                </a:lnTo>
                <a:close/>
              </a:path>
              <a:path fill="darken" w="133089" h="21600">
                <a:moveTo>
                  <a:pt x="133089" y="0"/>
                </a:moveTo>
                <a:lnTo>
                  <a:pt x="133089" y="21600"/>
                </a:lnTo>
                <a:lnTo>
                  <a:pt x="131689" y="20200"/>
                </a:lnTo>
                <a:lnTo>
                  <a:pt x="131689" y="1400"/>
                </a:lnTo>
                <a:close/>
              </a:path>
              <a:path fill="darkenLess" w="133089" h="21600">
                <a:moveTo>
                  <a:pt x="133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89" y="20200"/>
                </a:lnTo>
                <a:close/>
              </a:path>
              <a:path fill="lighten" w="133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644364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8"/>
          <p:cNvGrpSpPr/>
          <p:nvPr/>
        </p:nvGrpSpPr>
        <p:grpSpPr>
          <a:xfrm>
            <a:off x="3995640" y="2420640"/>
            <a:ext cx="2016000" cy="1728720"/>
            <a:chOff x="3995640" y="2420640"/>
            <a:chExt cx="2016000" cy="1728720"/>
          </a:xfrm>
        </p:grpSpPr>
        <p:sp>
          <p:nvSpPr>
            <p:cNvPr id="127" name="Line 46"/>
            <p:cNvSpPr/>
            <p:nvPr/>
          </p:nvSpPr>
          <p:spPr>
            <a:xfrm flipV="1">
              <a:off x="3995640" y="3717360"/>
              <a:ext cx="503640" cy="4320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 flipV="1">
              <a:off x="4499280" y="2420640"/>
              <a:ext cx="1512360" cy="12963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995640" y="2492280"/>
            <a:ext cx="2160720" cy="0"/>
            <a:chOff x="3995640" y="2492280"/>
            <a:chExt cx="2160720" cy="0"/>
          </a:xfrm>
        </p:grpSpPr>
        <p:sp>
          <p:nvSpPr>
            <p:cNvPr id="130" name="Line 49"/>
            <p:cNvSpPr/>
            <p:nvPr/>
          </p:nvSpPr>
          <p:spPr>
            <a:xfrm>
              <a:off x="3995640" y="2492280"/>
              <a:ext cx="505080" cy="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4500720" y="2492280"/>
              <a:ext cx="16556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4"/>
          <p:cNvGrpSpPr/>
          <p:nvPr/>
        </p:nvGrpSpPr>
        <p:grpSpPr>
          <a:xfrm>
            <a:off x="5940360" y="2276640"/>
            <a:ext cx="0" cy="1873080"/>
            <a:chOff x="5940360" y="2276640"/>
            <a:chExt cx="0" cy="1873080"/>
          </a:xfrm>
        </p:grpSpPr>
        <p:sp>
          <p:nvSpPr>
            <p:cNvPr id="133" name="Line 52"/>
            <p:cNvSpPr/>
            <p:nvPr/>
          </p:nvSpPr>
          <p:spPr>
            <a:xfrm>
              <a:off x="594036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594036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2"/>
          <p:cNvGrpSpPr/>
          <p:nvPr/>
        </p:nvGrpSpPr>
        <p:grpSpPr>
          <a:xfrm>
            <a:off x="4269240" y="2276640"/>
            <a:ext cx="1885320" cy="1726560"/>
            <a:chOff x="4269240" y="2276640"/>
            <a:chExt cx="1885320" cy="1726560"/>
          </a:xfrm>
        </p:grpSpPr>
        <p:sp>
          <p:nvSpPr>
            <p:cNvPr id="136" name="WordArt 56"/>
            <p:cNvSpPr txBox="1"/>
            <p:nvPr/>
          </p:nvSpPr>
          <p:spPr>
            <a:xfrm rot="16200000">
              <a:off x="5364000" y="3212640"/>
              <a:ext cx="143964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7" name="WordArt 57"/>
            <p:cNvSpPr txBox="1"/>
            <p:nvPr/>
          </p:nvSpPr>
          <p:spPr>
            <a:xfrm rot="19306800">
              <a:off x="4211640" y="306828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WordArt 58"/>
            <p:cNvSpPr txBox="1"/>
            <p:nvPr/>
          </p:nvSpPr>
          <p:spPr>
            <a:xfrm>
              <a:off x="4356000" y="227664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9" name="Group 72"/>
          <p:cNvGrpSpPr/>
          <p:nvPr/>
        </p:nvGrpSpPr>
        <p:grpSpPr>
          <a:xfrm>
            <a:off x="7093080" y="2205000"/>
            <a:ext cx="1868400" cy="1800360"/>
            <a:chOff x="7093080" y="2205000"/>
            <a:chExt cx="1868400" cy="1800360"/>
          </a:xfrm>
        </p:grpSpPr>
        <p:sp>
          <p:nvSpPr>
            <p:cNvPr id="140" name="WordArt 59"/>
            <p:cNvSpPr txBox="1"/>
            <p:nvPr/>
          </p:nvSpPr>
          <p:spPr>
            <a:xfrm rot="16200000">
              <a:off x="8170560" y="3214440"/>
              <a:ext cx="1440000" cy="14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1" name="WordArt 60"/>
            <p:cNvSpPr txBox="1"/>
            <p:nvPr/>
          </p:nvSpPr>
          <p:spPr>
            <a:xfrm>
              <a:off x="7093080" y="220500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2" name="WordArt 61"/>
            <p:cNvSpPr txBox="1"/>
            <p:nvPr/>
          </p:nvSpPr>
          <p:spPr>
            <a:xfrm rot="19211400">
              <a:off x="7019640" y="31413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6804000" y="2420640"/>
            <a:ext cx="2015640" cy="1728720"/>
            <a:chOff x="6804000" y="2420640"/>
            <a:chExt cx="2015640" cy="1728720"/>
          </a:xfrm>
        </p:grpSpPr>
        <p:sp>
          <p:nvSpPr>
            <p:cNvPr id="144" name="Line 64"/>
            <p:cNvSpPr/>
            <p:nvPr/>
          </p:nvSpPr>
          <p:spPr>
            <a:xfrm flipV="1">
              <a:off x="6804000" y="3717360"/>
              <a:ext cx="503640" cy="432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 flipV="1">
              <a:off x="7307640" y="2420640"/>
              <a:ext cx="1512000" cy="1296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6"/>
          <p:cNvGrpSpPr/>
          <p:nvPr/>
        </p:nvGrpSpPr>
        <p:grpSpPr>
          <a:xfrm>
            <a:off x="6804000" y="2492280"/>
            <a:ext cx="2160720" cy="0"/>
            <a:chOff x="6804000" y="2492280"/>
            <a:chExt cx="2160720" cy="0"/>
          </a:xfrm>
        </p:grpSpPr>
        <p:sp>
          <p:nvSpPr>
            <p:cNvPr id="147" name="Line 67"/>
            <p:cNvSpPr/>
            <p:nvPr/>
          </p:nvSpPr>
          <p:spPr>
            <a:xfrm>
              <a:off x="6804000" y="2492280"/>
              <a:ext cx="505080" cy="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7309080" y="2492280"/>
              <a:ext cx="16556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8748720" y="2276640"/>
            <a:ext cx="0" cy="1873080"/>
            <a:chOff x="8748720" y="2276640"/>
            <a:chExt cx="0" cy="1873080"/>
          </a:xfrm>
        </p:grpSpPr>
        <p:sp>
          <p:nvSpPr>
            <p:cNvPr id="150" name="Line 70"/>
            <p:cNvSpPr/>
            <p:nvPr/>
          </p:nvSpPr>
          <p:spPr>
            <a:xfrm>
              <a:off x="874872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>
              <a:off x="874872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3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5092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15636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7:47:36Z</dcterms:created>
  <dc:creator>FuckYouBill</dc:creator>
  <dc:description/>
  <dc:language>en-US</dc:language>
  <cp:lastModifiedBy>LEGION</cp:lastModifiedBy>
  <dcterms:modified xsi:type="dcterms:W3CDTF">2015-03-30T08:56:21Z</dcterms:modified>
  <cp:revision>32</cp:revision>
  <dc:subject/>
  <dc:title>Слайд 1</dc:title>
</cp:coreProperties>
</file>