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4D5-F328-4508-AF01-686BB74AC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599-76B6-4B20-B5EA-A455CF2F2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5B2-2BC1-4203-A372-9362CD0F9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ЕШЕНИЕ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 СИСТЕМ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1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4458-8008-4F6F-B9E8-62D34036E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62D9-CBB7-4BCB-A6EB-0E57391A1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Линейная функция 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0F3-6996-48E4-A10D-0F78E0EDA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E2D-7BF3-4FB8-B1CB-0CD8EC827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График обратно пропорциональной 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1E1-48E5-4181-9784-8692ABC41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813-EF4F-45BF-AF3A-C6351374F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EE74-C917-43DE-9850-D6AB6F449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0256-CD89-4480-9B58-04FA18B82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A171-22FE-4728-9F84-D5BA28C5E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53E-05F3-4F24-971C-EDAD70D07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ЗО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EAE-B09E-4493-B55B-C942A3067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11D-D4E3-4730-937C-7445B13BCE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Impact"/>
              </a:rPr>
              <a:t>Тест "Изопроцессы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299-39E5-4D68-9C31-394F504DA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CA8F-D217-4756-9620-2160272DD4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668A-4FEB-4917-A6E6-9B0767690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CC6-B7BD-4684-9484-8B490BB62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5CA4-218D-4AD5-84DF-C6D1871DA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B64-6DC2-4203-BDF9-AAB65E464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176-D13E-4DA9-81D1-BB5299968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88E-B88D-4141-A005-6593E3E14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82C-3E14-4BEE-A35B-C9308D149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AB0B-7DE5-4D9C-840F-DDD4B3C22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D3C2-F9A1-4DE6-9EB4-197C01F05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1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2BDD-9CFB-4D41-9F2E-6CEC5373D2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ГРАФИКИ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КРОСКОПИЧЕСКИХ ПАРА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8E6E-F27B-4F30-846D-1AC068EC87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1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F99-4A4D-4842-80A9-E117FF79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C8E-74E6-45A2-926A-12A70A8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3E5-74E6-4E48-B990-2535671E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892-E092-4E24-AEFD-5239A7A7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797-0BCE-405F-8A42-FF01065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42E-D75D-4DD0-8E8E-5DEBF0D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A07-C96E-43B4-9E88-BFA84A0D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DEF-E017-4262-A403-135DEF6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AC4-6835-4214-96E8-F60BA68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3C9-55C8-44B6-B8AF-DFF2F9F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D98-ABD1-49C1-8979-65B6092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74F-018E-4F2A-8C46-9E43F76A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754-123B-4D45-BDEB-2893119B1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7.xml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" Target="slide8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2960"/>
            <a:ext cx="8964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тор презентации: Шамбергер Дар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сто работы:МОУ СОШ №2 сельского поселения «Село Хурб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лжность: учитель физики и инфор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авнение – равенство с одной или несколькими неизвестными. Значение неизвестной, при которой получается верное неравенство,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орнем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ить систему уравнений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найти множество всех пар значений переменных, при подстановке которых оба уравнения системы обращаются в верные равенства. Это множество называется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шение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е урав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некоторые числ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еменная, называется линейным уравнением (при а    0; х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/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bx+c=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х-переменная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числа, прич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 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зывается квадратным урав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и квадратного уравнения находятся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условии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584360" y="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УРАВНЕН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СИСТЕМ УРАВНЕН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3851280" y="191628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146560" y="321300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2411280" y="4869000"/>
                <a:ext cx="39610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564000" y="6110280"/>
                <a:ext cx="205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AutoShape 1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где х и у – переменные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ые действительные числа, называ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иней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линейной функции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ям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Для его построения достаточно знать координаты двух точек, принадлежащих гра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График этой функции – прямая, параллельная оси х, проходящая через точку А(0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5" name="Group 14"/>
          <p:cNvGrpSpPr/>
          <p:nvPr/>
        </p:nvGrpSpPr>
        <p:grpSpPr>
          <a:xfrm>
            <a:off x="3780000" y="4724280"/>
            <a:ext cx="2952720" cy="2133720"/>
            <a:chOff x="3780000" y="4724280"/>
            <a:chExt cx="2952720" cy="2133720"/>
          </a:xfrm>
        </p:grpSpPr>
        <p:sp>
          <p:nvSpPr>
            <p:cNvPr id="176" name="Line 5"/>
            <p:cNvSpPr/>
            <p:nvPr/>
          </p:nvSpPr>
          <p:spPr>
            <a:xfrm flipV="1">
              <a:off x="4283280" y="472428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"/>
            <p:cNvGrpSpPr/>
            <p:nvPr/>
          </p:nvGrpSpPr>
          <p:grpSpPr>
            <a:xfrm>
              <a:off x="3780000" y="4724280"/>
              <a:ext cx="2952720" cy="2133720"/>
              <a:chOff x="3780000" y="4724280"/>
              <a:chExt cx="2952720" cy="2133720"/>
            </a:xfrm>
          </p:grpSpPr>
          <p:sp>
            <p:nvSpPr>
              <p:cNvPr id="178" name="Line 6"/>
              <p:cNvSpPr/>
              <p:nvPr/>
            </p:nvSpPr>
            <p:spPr>
              <a:xfrm>
                <a:off x="4283280" y="6597720"/>
                <a:ext cx="216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7"/>
              <p:cNvSpPr/>
              <p:nvPr/>
            </p:nvSpPr>
            <p:spPr>
              <a:xfrm>
                <a:off x="3996000" y="5734080"/>
                <a:ext cx="20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4716720" y="5300640"/>
                <a:ext cx="8636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9"/>
              <p:cNvSpPr/>
              <p:nvPr/>
            </p:nvSpPr>
            <p:spPr>
              <a:xfrm>
                <a:off x="3780000" y="5300640"/>
                <a:ext cx="505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"/>
              <p:cNvSpPr/>
              <p:nvPr/>
            </p:nvSpPr>
            <p:spPr>
              <a:xfrm>
                <a:off x="3780000" y="4724280"/>
                <a:ext cx="57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1"/>
              <p:cNvSpPr/>
              <p:nvPr/>
            </p:nvSpPr>
            <p:spPr>
              <a:xfrm>
                <a:off x="3924720" y="6497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444000" y="6497640"/>
                <a:ext cx="288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 то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график такой функции – прямая, проходящая через начало координат и точку 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,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Тогда график функци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+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ямая, параллельная графику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проходящая через точк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(0,b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042920" y="49320"/>
            <a:ext cx="705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нейная функция и ее графи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414036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3132000" y="595008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3850920" y="4365720"/>
            <a:ext cx="1584360" cy="19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 flipH="1">
            <a:off x="3276360" y="4221000"/>
            <a:ext cx="158436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4140360" y="4508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5364000" y="450864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564000" y="371628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156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364000" y="43657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4140360" y="5013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635280" y="4797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48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3492360" y="6021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для любой пары соответственных значений переме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извед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вно одному и тому же числу, отличному от нуля, то переменна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братно пропорциональ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 х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 (k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, не равное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ли у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/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50920" y="0"/>
            <a:ext cx="864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 обратно пропорциональной зависимо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 flipV="1">
            <a:off x="2556000" y="3789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556000" y="6381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"/>
          <p:cNvSpPr/>
          <p:nvPr/>
        </p:nvSpPr>
        <p:spPr>
          <a:xfrm rot="21317400">
            <a:off x="2654280" y="4002120"/>
            <a:ext cx="1774800" cy="21607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1073" h="1315">
                <a:moveTo>
                  <a:pt x="75" y="0"/>
                </a:moveTo>
                <a:cubicBezTo>
                  <a:pt x="37" y="435"/>
                  <a:pt x="0" y="870"/>
                  <a:pt x="166" y="1089"/>
                </a:cubicBezTo>
                <a:cubicBezTo>
                  <a:pt x="332" y="1308"/>
                  <a:pt x="922" y="1277"/>
                  <a:pt x="1073" y="131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197080" y="623736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12400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6381720"/>
            <a:ext cx="2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59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 Black"/>
              </a:rPr>
              <a:t>Обратите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параметры состояния газа не изменяются, запишите уравнение Менделеева-Клапейрона и выразите неизвестную велич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 условию даны два или несколько состояний газа, то при решении задач рекомендуется соблюдать последовате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араметры состояния газа (как данные, так и искомые) запишите по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пишите уравнение Менделеева-Клапейрона для каждого состояния, дополнительные условия, решите систему уравнений относительно искомой вел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3789360"/>
          <a:ext cx="8434080" cy="2060640"/>
        </p:xfrm>
        <a:graphic>
          <a:graphicData uri="http://schemas.openxmlformats.org/drawingml/2006/table">
            <a:tbl>
              <a:tblPr/>
              <a:tblGrid>
                <a:gridCol w="1744560"/>
                <a:gridCol w="1671480"/>
                <a:gridCol w="1673280"/>
                <a:gridCol w="1671840"/>
                <a:gridCol w="1672920"/>
              </a:tblGrid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яние г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 rot="16200000">
            <a:off x="6048360" y="2780640"/>
            <a:ext cx="2305080" cy="144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7"/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6"/>
          <p:cNvGrpSpPr/>
          <p:nvPr/>
        </p:nvGrpSpPr>
        <p:grpSpPr>
          <a:xfrm>
            <a:off x="6480000" y="1125720"/>
            <a:ext cx="1441440" cy="1368360"/>
            <a:chOff x="6480000" y="1125720"/>
            <a:chExt cx="1441440" cy="1368360"/>
          </a:xfrm>
        </p:grpSpPr>
        <p:grpSp>
          <p:nvGrpSpPr>
            <p:cNvPr id="220" name="Group 8"/>
            <p:cNvGrpSpPr/>
            <p:nvPr/>
          </p:nvGrpSpPr>
          <p:grpSpPr>
            <a:xfrm>
              <a:off x="6480000" y="1125720"/>
              <a:ext cx="1441440" cy="1368360"/>
              <a:chOff x="6480000" y="1125720"/>
              <a:chExt cx="1441440" cy="1368360"/>
            </a:xfrm>
          </p:grpSpPr>
          <p:sp>
            <p:nvSpPr>
              <p:cNvPr id="221" name="Rectangle 5"/>
              <p:cNvSpPr/>
              <p:nvPr/>
            </p:nvSpPr>
            <p:spPr>
              <a:xfrm rot="16200000">
                <a:off x="6765120" y="1603080"/>
                <a:ext cx="870480" cy="2890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6"/>
              <p:cNvSpPr/>
              <p:nvPr/>
            </p:nvSpPr>
            <p:spPr>
              <a:xfrm rot="16200000">
                <a:off x="7143840" y="679320"/>
                <a:ext cx="186480" cy="107928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 rot="16200000">
                <a:off x="7045200" y="1617840"/>
                <a:ext cx="311040" cy="1441440"/>
              </a:xfrm>
              <a:prstGeom prst="rect">
                <a:avLst/>
              </a:prstGeom>
              <a:solidFill>
                <a:srgbClr val="0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9"/>
            <p:cNvSpPr/>
            <p:nvPr/>
          </p:nvSpPr>
          <p:spPr>
            <a:xfrm>
              <a:off x="6877080" y="1413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 Black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6877080" y="2205000"/>
              <a:ext cx="647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877080" y="69228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0"/>
          <p:cNvGrpSpPr/>
          <p:nvPr/>
        </p:nvGrpSpPr>
        <p:grpSpPr>
          <a:xfrm>
            <a:off x="5303880" y="765000"/>
            <a:ext cx="492120" cy="576360"/>
            <a:chOff x="5303880" y="765000"/>
            <a:chExt cx="492120" cy="576360"/>
          </a:xfrm>
        </p:grpSpPr>
        <p:pic>
          <p:nvPicPr>
            <p:cNvPr id="228" name="Picture 38" descr=""/>
            <p:cNvPicPr/>
            <p:nvPr/>
          </p:nvPicPr>
          <p:blipFill>
            <a:blip r:embed="rId2">
              <a:alphaModFix amt="0"/>
            </a:blip>
            <a:srcRect l="21353" t="20851" r="14803" b="5567"/>
            <a:stretch/>
          </p:blipFill>
          <p:spPr>
            <a:xfrm>
              <a:off x="5303880" y="76500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9"/>
            <p:cNvSpPr/>
            <p:nvPr/>
          </p:nvSpPr>
          <p:spPr>
            <a:xfrm>
              <a:off x="5435640" y="90792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1"/>
          <p:cNvGrpSpPr/>
          <p:nvPr/>
        </p:nvGrpSpPr>
        <p:grpSpPr>
          <a:xfrm>
            <a:off x="6516720" y="1628640"/>
            <a:ext cx="492120" cy="576360"/>
            <a:chOff x="6516720" y="1628640"/>
            <a:chExt cx="492120" cy="576360"/>
          </a:xfrm>
        </p:grpSpPr>
        <p:pic>
          <p:nvPicPr>
            <p:cNvPr id="231" name="Picture 42" descr=""/>
            <p:cNvPicPr/>
            <p:nvPr/>
          </p:nvPicPr>
          <p:blipFill>
            <a:blip r:embed="rId3">
              <a:alphaModFix amt="0"/>
            </a:blip>
            <a:srcRect l="21353" t="20851" r="14803" b="5567"/>
            <a:stretch/>
          </p:blipFill>
          <p:spPr>
            <a:xfrm>
              <a:off x="6516720" y="1628640"/>
              <a:ext cx="49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43"/>
            <p:cNvSpPr/>
            <p:nvPr/>
          </p:nvSpPr>
          <p:spPr>
            <a:xfrm>
              <a:off x="6648480" y="1771560"/>
              <a:ext cx="144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4978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0см2, атмосферное давление р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45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769E-007 L 0.13716 0.12581 E">
                                      <p:cBhvr>
                                        <p:cTn id="11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4681E-006 L 3.05556E-006 0.16791 E">
                                      <p:cBhvr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3.14524E-007 L 0.00121 0.1679 E">
                                      <p:cBhvr>
                                        <p:cTn id="12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цилиндре под поршнем находится воздух. Вес поршня Р=60 Н, площадь цилиндр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20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атмосферное давление 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. Груз какого веса надо положить на поршень, чтобы объем воздуха в цилиндре уменьшился в два раза? Трение не учитывайте, температура постоян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9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2997360"/>
          <a:ext cx="8640720" cy="197136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87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4"/>
          <p:cNvSpPr/>
          <p:nvPr/>
        </p:nvSpPr>
        <p:spPr>
          <a:xfrm>
            <a:off x="324000" y="530064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03280" y="620640"/>
          <a:ext cx="8640720" cy="1197000"/>
        </p:xfrm>
        <a:graphic>
          <a:graphicData uri="http://schemas.openxmlformats.org/drawingml/2006/table">
            <a:tbl>
              <a:tblPr/>
              <a:tblGrid>
                <a:gridCol w="1368360"/>
                <a:gridCol w="1150920"/>
                <a:gridCol w="3554280"/>
                <a:gridCol w="1455840"/>
                <a:gridCol w="1111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состо-яние г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P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(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4"/>
          <p:cNvSpPr/>
          <p:nvPr/>
        </p:nvSpPr>
        <p:spPr>
          <a:xfrm>
            <a:off x="324000" y="1773360"/>
            <a:ext cx="88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82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поршня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вление гру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гласно закону Бойля-Мариотт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(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(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2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P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26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6"/>
          <p:cNvSpPr/>
          <p:nvPr/>
        </p:nvSpPr>
        <p:spPr>
          <a:xfrm>
            <a:off x="2916360" y="6021360"/>
            <a:ext cx="57600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7"/>
          <p:cNvSpPr/>
          <p:nvPr/>
        </p:nvSpPr>
        <p:spPr>
          <a:xfrm>
            <a:off x="356400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8"/>
          <p:cNvSpPr/>
          <p:nvPr/>
        </p:nvSpPr>
        <p:spPr>
          <a:xfrm>
            <a:off x="4211640" y="6021360"/>
            <a:ext cx="576360" cy="76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3"/>
          <p:cNvSpPr/>
          <p:nvPr/>
        </p:nvSpPr>
        <p:spPr>
          <a:xfrm>
            <a:off x="32400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4"/>
          <p:cNvSpPr/>
          <p:nvPr/>
        </p:nvSpPr>
        <p:spPr>
          <a:xfrm>
            <a:off x="97164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161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2268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7"/>
          <p:cNvSpPr/>
          <p:nvPr/>
        </p:nvSpPr>
        <p:spPr>
          <a:xfrm>
            <a:off x="291636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8"/>
          <p:cNvSpPr/>
          <p:nvPr/>
        </p:nvSpPr>
        <p:spPr>
          <a:xfrm>
            <a:off x="356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9"/>
          <p:cNvSpPr/>
          <p:nvPr/>
        </p:nvSpPr>
        <p:spPr>
          <a:xfrm>
            <a:off x="421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48592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5508720" y="5013360"/>
            <a:ext cx="576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615636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680400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745164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8101080" y="501336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79280" y="1844640"/>
          <a:ext cx="8964720" cy="3084480"/>
        </p:xfrm>
        <a:graphic>
          <a:graphicData uri="http://schemas.openxmlformats.org/drawingml/2006/table">
            <a:tbl>
              <a:tblPr/>
              <a:tblGrid>
                <a:gridCol w="863640"/>
                <a:gridCol w="2305080"/>
                <a:gridCol w="2351160"/>
                <a:gridCol w="1720800"/>
                <a:gridCol w="1724040"/>
              </a:tblGrid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h-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36"/>
          <p:cNvSpPr/>
          <p:nvPr/>
        </p:nvSpPr>
        <p:spPr>
          <a:xfrm>
            <a:off x="1763640" y="2274840"/>
            <a:ext cx="576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241128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1763640" y="3787920"/>
            <a:ext cx="576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241128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995640" y="227484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457200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514836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399564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57200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514836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6443640" y="2274840"/>
            <a:ext cx="50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6443640" y="3787920"/>
            <a:ext cx="5047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8172360" y="2347920"/>
            <a:ext cx="50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8172360" y="378792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7"/>
          <p:cNvSpPr/>
          <p:nvPr/>
        </p:nvSpPr>
        <p:spPr>
          <a:xfrm>
            <a:off x="1619280" y="5157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>
            <a:off x="363528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>
            <a:off x="428472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>
            <a:off x="4932360" y="515772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6"/>
          <p:cNvSpPr/>
          <p:nvPr/>
        </p:nvSpPr>
        <p:spPr>
          <a:xfrm>
            <a:off x="10429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9"/>
          <p:cNvSpPr/>
          <p:nvPr/>
        </p:nvSpPr>
        <p:spPr>
          <a:xfrm>
            <a:off x="298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3"/>
          <p:cNvSpPr/>
          <p:nvPr/>
        </p:nvSpPr>
        <p:spPr>
          <a:xfrm>
            <a:off x="558000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4"/>
          <p:cNvSpPr/>
          <p:nvPr/>
        </p:nvSpPr>
        <p:spPr>
          <a:xfrm>
            <a:off x="622764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6"/>
          <p:cNvSpPr/>
          <p:nvPr/>
        </p:nvSpPr>
        <p:spPr>
          <a:xfrm>
            <a:off x="752472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7"/>
          <p:cNvSpPr/>
          <p:nvPr/>
        </p:nvSpPr>
        <p:spPr>
          <a:xfrm>
            <a:off x="8172360" y="515772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3"/>
          <p:cNvSpPr/>
          <p:nvPr/>
        </p:nvSpPr>
        <p:spPr>
          <a:xfrm>
            <a:off x="298764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45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1"/>
          <p:cNvSpPr/>
          <p:nvPr/>
        </p:nvSpPr>
        <p:spPr>
          <a:xfrm>
            <a:off x="428472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5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49"/>
          <p:cNvSpPr/>
          <p:nvPr/>
        </p:nvSpPr>
        <p:spPr>
          <a:xfrm>
            <a:off x="298944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0"/>
          <p:cNvSpPr/>
          <p:nvPr/>
        </p:nvSpPr>
        <p:spPr>
          <a:xfrm>
            <a:off x="363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 Black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5"/>
          <p:cNvSpPr/>
          <p:nvPr/>
        </p:nvSpPr>
        <p:spPr>
          <a:xfrm>
            <a:off x="687708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2"/>
          <p:cNvSpPr/>
          <p:nvPr/>
        </p:nvSpPr>
        <p:spPr>
          <a:xfrm>
            <a:off x="250920" y="692280"/>
            <a:ext cx="88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ъем пузырька газа, всплывшего со дна озера на поверхность, увеличился в три раза. Какова глубина оз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44"/>
          <p:cNvSpPr/>
          <p:nvPr/>
        </p:nvSpPr>
        <p:spPr>
          <a:xfrm>
            <a:off x="3635280" y="609300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0"/>
          <p:cNvSpPr/>
          <p:nvPr/>
        </p:nvSpPr>
        <p:spPr>
          <a:xfrm>
            <a:off x="3637080" y="611676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2"/>
          <p:cNvSpPr/>
          <p:nvPr/>
        </p:nvSpPr>
        <p:spPr>
          <a:xfrm>
            <a:off x="493236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01"/>
          <p:cNvSpPr/>
          <p:nvPr/>
        </p:nvSpPr>
        <p:spPr>
          <a:xfrm>
            <a:off x="4284720" y="519444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8"/>
          <p:cNvSpPr/>
          <p:nvPr/>
        </p:nvSpPr>
        <p:spPr>
          <a:xfrm>
            <a:off x="234144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7"/>
          <p:cNvSpPr/>
          <p:nvPr/>
        </p:nvSpPr>
        <p:spPr>
          <a:xfrm>
            <a:off x="1655640" y="5194440"/>
            <a:ext cx="503280" cy="576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19">
                <a:moveTo>
                  <a:pt x="0" y="0"/>
                </a:moveTo>
                <a:lnTo>
                  <a:pt x="21600" y="0"/>
                </a:lnTo>
                <a:lnTo>
                  <a:pt x="21600" y="24719"/>
                </a:lnTo>
                <a:lnTo>
                  <a:pt x="0" y="24719"/>
                </a:lnTo>
                <a:close/>
              </a:path>
              <a:path fill="lightenLess" w="21600" h="247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9">
                <a:moveTo>
                  <a:pt x="21600" y="0"/>
                </a:moveTo>
                <a:lnTo>
                  <a:pt x="21600" y="24719"/>
                </a:lnTo>
                <a:lnTo>
                  <a:pt x="20200" y="23319"/>
                </a:lnTo>
                <a:lnTo>
                  <a:pt x="20200" y="1400"/>
                </a:lnTo>
                <a:close/>
              </a:path>
              <a:path fill="darkenLess" w="21600" h="24719">
                <a:moveTo>
                  <a:pt x="21600" y="24719"/>
                </a:moveTo>
                <a:lnTo>
                  <a:pt x="0" y="24719"/>
                </a:lnTo>
                <a:lnTo>
                  <a:pt x="1400" y="23319"/>
                </a:lnTo>
                <a:lnTo>
                  <a:pt x="20200" y="23319"/>
                </a:lnTo>
                <a:close/>
              </a:path>
              <a:path fill="lighten" w="21600" h="24719">
                <a:moveTo>
                  <a:pt x="0" y="247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8"/>
          <p:cNvSpPr/>
          <p:nvPr/>
        </p:nvSpPr>
        <p:spPr>
          <a:xfrm>
            <a:off x="396720" y="5194440"/>
            <a:ext cx="432000" cy="576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794">
                <a:moveTo>
                  <a:pt x="0" y="0"/>
                </a:moveTo>
                <a:lnTo>
                  <a:pt x="21600" y="0"/>
                </a:lnTo>
                <a:lnTo>
                  <a:pt x="21600" y="28794"/>
                </a:lnTo>
                <a:lnTo>
                  <a:pt x="0" y="28794"/>
                </a:lnTo>
                <a:close/>
              </a:path>
              <a:path fill="lightenLess" w="21600" h="28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4">
                <a:moveTo>
                  <a:pt x="21600" y="0"/>
                </a:moveTo>
                <a:lnTo>
                  <a:pt x="21600" y="28794"/>
                </a:lnTo>
                <a:lnTo>
                  <a:pt x="20200" y="27394"/>
                </a:lnTo>
                <a:lnTo>
                  <a:pt x="20200" y="1400"/>
                </a:lnTo>
                <a:close/>
              </a:path>
              <a:path fill="darkenLess" w="21600" h="28794">
                <a:moveTo>
                  <a:pt x="21600" y="28794"/>
                </a:moveTo>
                <a:lnTo>
                  <a:pt x="0" y="28794"/>
                </a:lnTo>
                <a:lnTo>
                  <a:pt x="1400" y="27394"/>
                </a:lnTo>
                <a:lnTo>
                  <a:pt x="20200" y="27394"/>
                </a:lnTo>
                <a:close/>
              </a:path>
              <a:path fill="lighten" w="21600" h="28794">
                <a:moveTo>
                  <a:pt x="0" y="28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9"/>
          <p:cNvSpPr txBox="1"/>
          <p:nvPr/>
        </p:nvSpPr>
        <p:spPr>
          <a:xfrm>
            <a:off x="1116000" y="620640"/>
            <a:ext cx="734364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ОПРОЦЕС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AutoShape 15">
            <a:hlinkClick r:id="rId1" action="ppaction://hlinksldjump"/>
          </p:cNvPr>
          <p:cNvSpPr/>
          <p:nvPr/>
        </p:nvSpPr>
        <p:spPr>
          <a:xfrm>
            <a:off x="5364000" y="3860640"/>
            <a:ext cx="3035520" cy="720720"/>
          </a:xfrm>
          <a:custGeom>
            <a:avLst/>
            <a:gdLst>
              <a:gd name="textAreaLeft" fmla="*/ 46440 w 3035520"/>
              <a:gd name="textAreaRight" fmla="*/ 2989080 w 3035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40" h="21600">
                <a:moveTo>
                  <a:pt x="0" y="0"/>
                </a:moveTo>
                <a:lnTo>
                  <a:pt x="90940" y="0"/>
                </a:lnTo>
                <a:lnTo>
                  <a:pt x="90940" y="21600"/>
                </a:lnTo>
                <a:lnTo>
                  <a:pt x="0" y="21600"/>
                </a:lnTo>
                <a:close/>
              </a:path>
              <a:path fill="lightenLess" w="90940" h="21600">
                <a:moveTo>
                  <a:pt x="0" y="0"/>
                </a:moveTo>
                <a:lnTo>
                  <a:pt x="90940" y="0"/>
                </a:lnTo>
                <a:lnTo>
                  <a:pt x="89540" y="1400"/>
                </a:lnTo>
                <a:lnTo>
                  <a:pt x="1400" y="1400"/>
                </a:lnTo>
                <a:close/>
              </a:path>
              <a:path fill="darken" w="90940" h="21600">
                <a:moveTo>
                  <a:pt x="90940" y="0"/>
                </a:moveTo>
                <a:lnTo>
                  <a:pt x="90940" y="21600"/>
                </a:lnTo>
                <a:lnTo>
                  <a:pt x="89540" y="20200"/>
                </a:lnTo>
                <a:lnTo>
                  <a:pt x="89540" y="1400"/>
                </a:lnTo>
                <a:close/>
              </a:path>
              <a:path fill="darkenLess" w="90940" h="21600">
                <a:moveTo>
                  <a:pt x="90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40" y="20200"/>
                </a:lnTo>
                <a:close/>
              </a:path>
              <a:path fill="lighten" w="90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>
            <a:hlinkClick r:id="rId2" action="ppaction://hlinksldjump"/>
          </p:cNvPr>
          <p:cNvSpPr/>
          <p:nvPr/>
        </p:nvSpPr>
        <p:spPr>
          <a:xfrm>
            <a:off x="684360" y="386064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>
            <a:hlinkClick r:id="rId3" action="ppaction://hlinksldjump"/>
          </p:cNvPr>
          <p:cNvSpPr/>
          <p:nvPr/>
        </p:nvSpPr>
        <p:spPr>
          <a:xfrm>
            <a:off x="68436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>
            <a:hlinkClick r:id="rId4" action="ppaction://hlinksldjump"/>
          </p:cNvPr>
          <p:cNvSpPr/>
          <p:nvPr/>
        </p:nvSpPr>
        <p:spPr>
          <a:xfrm>
            <a:off x="5353200" y="4940280"/>
            <a:ext cx="3035160" cy="720720"/>
          </a:xfrm>
          <a:custGeom>
            <a:avLst/>
            <a:gdLst>
              <a:gd name="textAreaLeft" fmla="*/ 46440 w 3035160"/>
              <a:gd name="textAreaRight" fmla="*/ 2988720 w 30351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0929" h="21600">
                <a:moveTo>
                  <a:pt x="0" y="0"/>
                </a:moveTo>
                <a:lnTo>
                  <a:pt x="90929" y="0"/>
                </a:lnTo>
                <a:lnTo>
                  <a:pt x="90929" y="21600"/>
                </a:lnTo>
                <a:lnTo>
                  <a:pt x="0" y="21600"/>
                </a:lnTo>
                <a:close/>
              </a:path>
              <a:path fill="lightenLess" w="90929" h="21600">
                <a:moveTo>
                  <a:pt x="0" y="0"/>
                </a:moveTo>
                <a:lnTo>
                  <a:pt x="90929" y="0"/>
                </a:lnTo>
                <a:lnTo>
                  <a:pt x="89529" y="1400"/>
                </a:lnTo>
                <a:lnTo>
                  <a:pt x="1400" y="1400"/>
                </a:lnTo>
                <a:close/>
              </a:path>
              <a:path fill="darken" w="90929" h="21600">
                <a:moveTo>
                  <a:pt x="90929" y="0"/>
                </a:moveTo>
                <a:lnTo>
                  <a:pt x="90929" y="21600"/>
                </a:lnTo>
                <a:lnTo>
                  <a:pt x="89529" y="20200"/>
                </a:lnTo>
                <a:lnTo>
                  <a:pt x="89529" y="1400"/>
                </a:lnTo>
                <a:close/>
              </a:path>
              <a:path fill="darkenLess" w="90929" h="21600">
                <a:moveTo>
                  <a:pt x="9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529" y="20200"/>
                </a:lnTo>
                <a:close/>
              </a:path>
              <a:path fill="lighten" w="9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5616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связи с тем, что масса газа и его температура не изменяются, воспользуемся уравнением изотермическ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+    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 gh)V=p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*3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ыразите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и подставьте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роверьте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=20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8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8352000" y="-27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"/>
          <p:cNvPicPr/>
          <p:nvPr/>
        </p:nvPicPr>
        <p:blipFill>
          <a:blip r:embed="rId3"/>
          <a:srcRect l="0" t="0" r="0" b="12002"/>
          <a:stretch/>
        </p:blipFill>
        <p:spPr>
          <a:xfrm>
            <a:off x="6588000" y="4149720"/>
            <a:ext cx="2556000" cy="1584360"/>
          </a:xfrm>
          <a:prstGeom prst="rect">
            <a:avLst/>
          </a:prstGeom>
          <a:ln w="0">
            <a:noFill/>
          </a:ln>
        </p:spPr>
      </p:pic>
      <p:sp>
        <p:nvSpPr>
          <p:cNvPr id="321" name="Oval 8"/>
          <p:cNvSpPr/>
          <p:nvPr/>
        </p:nvSpPr>
        <p:spPr>
          <a:xfrm>
            <a:off x="7740720" y="551664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7093080" y="616572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877080" y="4724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877080" y="371628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 Blac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22764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6227640" y="57340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644364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5796000" y="4941720"/>
            <a:ext cx="57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5904000" y="227664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глубине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авл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ерхности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3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" name="Rectangle 2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6"/>
              <p:cNvSpPr txBox="1"/>
              <p:nvPr/>
            </p:nvSpPr>
            <p:spPr>
              <a:xfrm>
                <a:off x="1476360" y="3284640"/>
                <a:ext cx="574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AutoShape 28"/>
          <p:cNvSpPr/>
          <p:nvPr/>
        </p:nvSpPr>
        <p:spPr>
          <a:xfrm>
            <a:off x="320364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59259E-006 L 6.94444E-006 -0.16806 E">
                                      <p:cBhvr>
                                        <p:cTn id="202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Как изменится давление идеального газа при увеличении температуры и объема газа в 4 р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7236000" y="3068640"/>
            <a:ext cx="129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236000" y="2637000"/>
            <a:ext cx="1296720" cy="1368360"/>
            <a:chOff x="7236000" y="2637000"/>
            <a:chExt cx="1296720" cy="1368360"/>
          </a:xfrm>
        </p:grpSpPr>
        <p:sp>
          <p:nvSpPr>
            <p:cNvPr id="338" name="Rectangle 5"/>
            <p:cNvSpPr/>
            <p:nvPr/>
          </p:nvSpPr>
          <p:spPr>
            <a:xfrm>
              <a:off x="7236000" y="3645000"/>
              <a:ext cx="1296720" cy="360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812000" y="2853000"/>
              <a:ext cx="144720" cy="79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451640" y="2637000"/>
              <a:ext cx="792360" cy="216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638280" cy="23526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9"/>
          <p:cNvSpPr/>
          <p:nvPr/>
        </p:nvSpPr>
        <p:spPr>
          <a:xfrm>
            <a:off x="6732720" y="3789360"/>
            <a:ext cx="7128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7236000" y="5516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5.78035E-007 L 0.00018 -0.07861 E">
                                      <p:cBhvr>
                                        <p:cTn id="21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2.77778E-006 -0.04971 E">
                                      <p:cBhvr>
                                        <p:cTn id="21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одинаковых сосудах при одинаковой температуре находятся водород (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 и углекислый газ (С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). Массы газов одинаковы. Какой из газов и во сколько раз оказывает большее давление на стенки сос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Какому процессу соответствует график, изображенный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5796000" y="5516640"/>
            <a:ext cx="2952720" cy="0"/>
          </a:xfrm>
          <a:prstGeom prst="line">
            <a:avLst/>
          </a:prstGeom>
          <a:ln w="3492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0"/>
          <p:cNvGrpSpPr/>
          <p:nvPr/>
        </p:nvGrpSpPr>
        <p:grpSpPr>
          <a:xfrm>
            <a:off x="5148360" y="1844640"/>
            <a:ext cx="3814560" cy="4392720"/>
            <a:chOff x="5148360" y="1844640"/>
            <a:chExt cx="3814560" cy="4392720"/>
          </a:xfrm>
        </p:grpSpPr>
        <p:sp>
          <p:nvSpPr>
            <p:cNvPr id="356" name="Line 11"/>
            <p:cNvSpPr/>
            <p:nvPr/>
          </p:nvSpPr>
          <p:spPr>
            <a:xfrm flipV="1">
              <a:off x="5796000" y="2133360"/>
              <a:ext cx="0" cy="3382920"/>
            </a:xfrm>
            <a:prstGeom prst="line">
              <a:avLst/>
            </a:prstGeom>
            <a:ln w="3492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 flipV="1">
              <a:off x="5796000" y="4868640"/>
              <a:ext cx="72072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V="1">
              <a:off x="6516720" y="3068280"/>
              <a:ext cx="1800360" cy="1800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5148360" y="1844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8459640" y="530064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6"/>
            <p:cNvSpPr/>
            <p:nvPr/>
          </p:nvSpPr>
          <p:spPr>
            <a:xfrm>
              <a:off x="5435640" y="5373720"/>
              <a:ext cx="5032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изменится давление воздуха в цилиндре (рис), если поршень переместить на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/3 влево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5435640" y="3139920"/>
            <a:ext cx="23050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7596360" y="3139920"/>
            <a:ext cx="1368000" cy="1441440"/>
            <a:chOff x="7596360" y="3139920"/>
            <a:chExt cx="1368000" cy="1441440"/>
          </a:xfrm>
        </p:grpSpPr>
        <p:sp>
          <p:nvSpPr>
            <p:cNvPr id="369" name="Rectangle 12"/>
            <p:cNvSpPr/>
            <p:nvPr/>
          </p:nvSpPr>
          <p:spPr>
            <a:xfrm>
              <a:off x="7907400" y="3715920"/>
              <a:ext cx="870480" cy="2890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777880" y="3357360"/>
              <a:ext cx="186480" cy="1079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7596360" y="3139920"/>
              <a:ext cx="311040" cy="1441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15"/>
          <p:cNvSpPr/>
          <p:nvPr/>
        </p:nvSpPr>
        <p:spPr>
          <a:xfrm>
            <a:off x="5580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5940360" y="342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558000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30072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73272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30072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5867280" y="3787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6227640" y="3932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5867280" y="4148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516720" y="3787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6877080" y="393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6516720" y="4148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702000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8"/>
          <p:cNvSpPr/>
          <p:nvPr/>
        </p:nvSpPr>
        <p:spPr>
          <a:xfrm>
            <a:off x="7093080" y="429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9"/>
          <p:cNvSpPr/>
          <p:nvPr/>
        </p:nvSpPr>
        <p:spPr>
          <a:xfrm>
            <a:off x="622764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550872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1"/>
          <p:cNvSpPr/>
          <p:nvPr/>
        </p:nvSpPr>
        <p:spPr>
          <a:xfrm>
            <a:off x="550872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543564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7596360" y="256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>
            <a:off x="5435640" y="2924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5"/>
          <p:cNvSpPr/>
          <p:nvPr/>
        </p:nvSpPr>
        <p:spPr>
          <a:xfrm>
            <a:off x="5940360" y="249228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8"/>
          <p:cNvSpPr/>
          <p:nvPr/>
        </p:nvSpPr>
        <p:spPr>
          <a:xfrm>
            <a:off x="7956720" y="4869000"/>
            <a:ext cx="1187280" cy="54900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6696" h="21600">
                <a:moveTo>
                  <a:pt x="0" y="0"/>
                </a:moveTo>
                <a:lnTo>
                  <a:pt x="46696" y="0"/>
                </a:lnTo>
                <a:lnTo>
                  <a:pt x="46696" y="21600"/>
                </a:lnTo>
                <a:lnTo>
                  <a:pt x="0" y="21600"/>
                </a:lnTo>
                <a:close/>
              </a:path>
              <a:path fill="lightenLess" w="46696" h="21600">
                <a:moveTo>
                  <a:pt x="0" y="0"/>
                </a:moveTo>
                <a:lnTo>
                  <a:pt x="46696" y="0"/>
                </a:lnTo>
                <a:lnTo>
                  <a:pt x="45296" y="1400"/>
                </a:lnTo>
                <a:lnTo>
                  <a:pt x="1400" y="1400"/>
                </a:lnTo>
                <a:close/>
              </a:path>
              <a:path fill="darken" w="46696" h="21600">
                <a:moveTo>
                  <a:pt x="46696" y="0"/>
                </a:moveTo>
                <a:lnTo>
                  <a:pt x="46696" y="21600"/>
                </a:lnTo>
                <a:lnTo>
                  <a:pt x="45296" y="20200"/>
                </a:lnTo>
                <a:lnTo>
                  <a:pt x="45296" y="1400"/>
                </a:lnTo>
                <a:close/>
              </a:path>
              <a:path fill="darkenLess" w="46696" h="21600">
                <a:moveTo>
                  <a:pt x="4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6" y="20200"/>
                </a:lnTo>
                <a:close/>
              </a:path>
              <a:path fill="lighten" w="4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У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4798E-006 L -0.07482 2.94798E-006 E">
                                      <p:cBhvr>
                                        <p:cTn id="2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10226 0.03168 E">
                                      <p:cBhvr>
                                        <p:cTn id="222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4798E-006 L -0.01563 2.94798E-006 E">
                                      <p:cBhvr>
                                        <p:cTn id="224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4971E-006 L -0.07084 0.00023 E">
                                      <p:cBhvr>
                                        <p:cTn id="22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686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 Black"/>
              </a:rPr>
              <a:t>Во сколько раз отличается плотность метана (СР4) от плотности кислорода (О2) при одинаковых условиях</a:t>
            </a: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"Изопроцессы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352000" y="-27000"/>
            <a:ext cx="792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459640" y="530064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19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AutoShape 20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Законы, формулы, алгоритмы решения задач: материалы для подготовки к единому государственному экзамену и вступительным экзаменам в аузы/ А.Е.Марон, Д.Н.Городецкий, В.Е.Марон, Е.А.Марон; под ред.А.Е.Марона.-М.:Дрофа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ьянов, В.А. Физика.10кл.:Учебн.для общеобразоват.учеб.заведений.-3-е изд. – М.:Дрофа, 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он, А.Е. Физика. 10класс: дидактические материалы/А.Е.Марон, Е.А.Марон.-6-е изд.-М.:Дроф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сок литератур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692280"/>
          <a:ext cx="8820000" cy="5729040"/>
        </p:xfrm>
        <a:graphic>
          <a:graphicData uri="http://schemas.openxmlformats.org/drawingml/2006/table">
            <a:tbl>
              <a:tblPr/>
              <a:tblGrid>
                <a:gridCol w="2205000"/>
                <a:gridCol w="2205000"/>
                <a:gridCol w="2205000"/>
                <a:gridCol w="2205000"/>
              </a:tblGrid>
              <a:tr h="88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тер-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ба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зохор-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-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ара-ме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рафик изменения макроскопи-ческих пара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49" descr="J02390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0" descr="J02390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1700280"/>
            <a:ext cx="108900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1" descr="J023901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80360" y="1700280"/>
            <a:ext cx="1089000" cy="895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3"/>
          <p:cNvSpPr txBox="1"/>
          <p:nvPr/>
        </p:nvSpPr>
        <p:spPr>
          <a:xfrm>
            <a:off x="284328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=con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55"/>
          <p:cNvSpPr txBox="1"/>
          <p:nvPr/>
        </p:nvSpPr>
        <p:spPr>
          <a:xfrm>
            <a:off x="5003640" y="2924280"/>
            <a:ext cx="1524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=const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56"/>
          <p:cNvSpPr txBox="1"/>
          <p:nvPr/>
        </p:nvSpPr>
        <p:spPr>
          <a:xfrm>
            <a:off x="7236000" y="2924280"/>
            <a:ext cx="152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=const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Rectangle 165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64"/>
              <p:cNvSpPr txBox="1"/>
              <p:nvPr/>
            </p:nvSpPr>
            <p:spPr>
              <a:xfrm>
                <a:off x="4859280" y="3860640"/>
                <a:ext cx="1800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66"/>
              <p:cNvSpPr txBox="1"/>
              <p:nvPr/>
            </p:nvSpPr>
            <p:spPr>
              <a:xfrm>
                <a:off x="7164360" y="3886200"/>
                <a:ext cx="1674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WordArt 167"/>
          <p:cNvSpPr txBox="1"/>
          <p:nvPr/>
        </p:nvSpPr>
        <p:spPr>
          <a:xfrm>
            <a:off x="1979640" y="4932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ОПРОЦЕССЫ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isoterm.avi" descr=""/>
          <p:cNvPicPr/>
          <p:nvPr/>
        </p:nvPicPr>
        <p:blipFill>
          <a:blip r:embed="rId16"/>
          <a:stretch/>
        </p:blipFill>
        <p:spPr>
          <a:xfrm>
            <a:off x="2700360" y="494172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69" name="isobar.avi" descr=""/>
          <p:cNvPicPr/>
          <p:nvPr/>
        </p:nvPicPr>
        <p:blipFill>
          <a:blip r:embed="rId17"/>
          <a:stretch/>
        </p:blipFill>
        <p:spPr>
          <a:xfrm>
            <a:off x="493236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0" name="isoHOR.avi" descr=""/>
          <p:cNvPicPr/>
          <p:nvPr/>
        </p:nvPicPr>
        <p:blipFill>
          <a:blip r:embed="rId18"/>
          <a:stretch/>
        </p:blipFill>
        <p:spPr>
          <a:xfrm>
            <a:off x="7093080" y="4941720"/>
            <a:ext cx="1800000" cy="13496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10">
            <a:hlinkClick r:id="rId19" action="ppaction://hlinksldjump"/>
          </p:cNvPr>
          <p:cNvSpPr/>
          <p:nvPr/>
        </p:nvSpPr>
        <p:spPr>
          <a:xfrm>
            <a:off x="370836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процесс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, при котором один из макроскопических параметров состояния данной массы газа остается постоя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Макроскопические параметры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параметры характеризующие макросистему: давление, температура, объем (</a:t>
            </a: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P,V,T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AutoShape 6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термически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	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й процесс (закон Бойля-Мариотт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й темп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термическом процессе Т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барный процесс(закон Гей-Люссака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дав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ба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p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Изохорный процесс(закон Шарля)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Black"/>
              </a:rPr>
              <a:t>– процесс изменения состояния определенной массы газа при постоянном объ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При изохорном процессе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V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=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000099"/>
                </a:solidFill>
                <a:latin typeface="Arial Black"/>
              </a:rPr>
              <a:t>m= const</a:t>
            </a:r>
            <a:r>
              <a:rPr b="0" i="1" lang="ru-RU" sz="32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763640" y="49320"/>
            <a:ext cx="547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028000" y="6021360"/>
            <a:ext cx="1116000" cy="836640"/>
          </a:xfrm>
          <a:custGeom>
            <a:avLst/>
            <a:gdLst>
              <a:gd name="textAreaLeft" fmla="*/ 54000 w 1116000"/>
              <a:gd name="textAreaRight" fmla="*/ 1062000 w 1116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8809" h="21600">
                <a:moveTo>
                  <a:pt x="0" y="0"/>
                </a:moveTo>
                <a:lnTo>
                  <a:pt x="28809" y="0"/>
                </a:lnTo>
                <a:lnTo>
                  <a:pt x="28809" y="21600"/>
                </a:lnTo>
                <a:lnTo>
                  <a:pt x="0" y="21600"/>
                </a:lnTo>
                <a:close/>
              </a:path>
              <a:path fill="lightenLess" w="28809" h="21600">
                <a:moveTo>
                  <a:pt x="0" y="0"/>
                </a:moveTo>
                <a:lnTo>
                  <a:pt x="28809" y="0"/>
                </a:lnTo>
                <a:lnTo>
                  <a:pt x="27409" y="1400"/>
                </a:lnTo>
                <a:lnTo>
                  <a:pt x="1400" y="1400"/>
                </a:lnTo>
                <a:close/>
              </a:path>
              <a:path fill="darken" w="28809" h="21600">
                <a:moveTo>
                  <a:pt x="28809" y="0"/>
                </a:moveTo>
                <a:lnTo>
                  <a:pt x="28809" y="21600"/>
                </a:lnTo>
                <a:lnTo>
                  <a:pt x="27409" y="20200"/>
                </a:lnTo>
                <a:lnTo>
                  <a:pt x="27409" y="1400"/>
                </a:lnTo>
                <a:close/>
              </a:path>
              <a:path fill="darkenLess" w="28809" h="21600">
                <a:moveTo>
                  <a:pt x="28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9" y="20200"/>
                </a:lnTo>
                <a:close/>
              </a:path>
              <a:path fill="lighten" w="28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9" h="21600">
                <a:moveTo>
                  <a:pt x="14405" y="3837"/>
                </a:moveTo>
                <a:lnTo>
                  <a:pt x="16981" y="6448"/>
                </a:ln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lnTo>
                  <a:pt x="21368" y="10800"/>
                </a:lnTo>
                <a:lnTo>
                  <a:pt x="19714" y="10800"/>
                </a:lnTo>
                <a:lnTo>
                  <a:pt x="19714" y="17989"/>
                </a:lnTo>
                <a:lnTo>
                  <a:pt x="9095" y="17989"/>
                </a:lnTo>
                <a:lnTo>
                  <a:pt x="9095" y="10800"/>
                </a:lnTo>
                <a:lnTo>
                  <a:pt x="7442" y="10800"/>
                </a:lnTo>
                <a:close/>
              </a:path>
              <a:path fill="darkenLess" w="28809" h="21600">
                <a:moveTo>
                  <a:pt x="16981" y="6448"/>
                </a:moveTo>
                <a:lnTo>
                  <a:pt x="16981" y="4707"/>
                </a:lnTo>
                <a:lnTo>
                  <a:pt x="18756" y="4707"/>
                </a:lnTo>
                <a:lnTo>
                  <a:pt x="18756" y="8224"/>
                </a:lnTo>
                <a:close/>
              </a:path>
              <a:path fill="darkenLess" w="28809" h="21600">
                <a:moveTo>
                  <a:pt x="13482" y="14299"/>
                </a:moveTo>
                <a:lnTo>
                  <a:pt x="15327" y="14299"/>
                </a:lnTo>
                <a:lnTo>
                  <a:pt x="15327" y="17989"/>
                </a:lnTo>
                <a:lnTo>
                  <a:pt x="19714" y="17989"/>
                </a:lnTo>
                <a:lnTo>
                  <a:pt x="19714" y="10800"/>
                </a:lnTo>
                <a:lnTo>
                  <a:pt x="9095" y="10800"/>
                </a:lnTo>
                <a:lnTo>
                  <a:pt x="9095" y="17989"/>
                </a:lnTo>
                <a:lnTo>
                  <a:pt x="13482" y="17989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16000" y="44280"/>
            <a:ext cx="6121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И ИЗМЕН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РОСКОПИЧЕСКИХ ПАРАМЕТРО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1116000" y="2205000"/>
            <a:ext cx="1584360" cy="1584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952" h="908">
                <a:moveTo>
                  <a:pt x="0" y="0"/>
                </a:moveTo>
                <a:cubicBezTo>
                  <a:pt x="11" y="242"/>
                  <a:pt x="22" y="484"/>
                  <a:pt x="181" y="635"/>
                </a:cubicBezTo>
                <a:cubicBezTo>
                  <a:pt x="340" y="786"/>
                  <a:pt x="824" y="863"/>
                  <a:pt x="952" y="908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684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84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684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900000" y="2565360"/>
            <a:ext cx="1800360" cy="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484360" y="2349360"/>
            <a:ext cx="0" cy="180036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611280" y="1700280"/>
            <a:ext cx="2448000" cy="2809800"/>
            <a:chOff x="611280" y="1700280"/>
            <a:chExt cx="2448000" cy="2809800"/>
          </a:xfrm>
        </p:grpSpPr>
        <p:sp>
          <p:nvSpPr>
            <p:cNvPr id="97" name="Line 5"/>
            <p:cNvSpPr/>
            <p:nvPr/>
          </p:nvSpPr>
          <p:spPr>
            <a:xfrm flipV="1">
              <a:off x="900000" y="19162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900000" y="4149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612720" y="17002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2700360" y="40766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611280" y="40766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21"/>
          <p:cNvSpPr/>
          <p:nvPr/>
        </p:nvSpPr>
        <p:spPr>
          <a:xfrm>
            <a:off x="39528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1154160" y="2276640"/>
            <a:ext cx="1546200" cy="1439640"/>
            <a:chOff x="1154160" y="2276640"/>
            <a:chExt cx="1546200" cy="1439640"/>
          </a:xfrm>
        </p:grpSpPr>
        <p:sp>
          <p:nvSpPr>
            <p:cNvPr id="104" name="WordArt 14"/>
            <p:cNvSpPr txBox="1"/>
            <p:nvPr/>
          </p:nvSpPr>
          <p:spPr>
            <a:xfrm rot="2299200">
              <a:off x="1042560" y="3141360"/>
              <a:ext cx="144000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5" name="WordArt 22"/>
            <p:cNvSpPr txBox="1"/>
            <p:nvPr/>
          </p:nvSpPr>
          <p:spPr>
            <a:xfrm>
              <a:off x="1187280" y="227664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WordArt 23"/>
            <p:cNvSpPr txBox="1"/>
            <p:nvPr/>
          </p:nvSpPr>
          <p:spPr>
            <a:xfrm rot="16200000">
              <a:off x="2088360" y="310428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07" name="Line 27"/>
          <p:cNvSpPr/>
          <p:nvPr/>
        </p:nvSpPr>
        <p:spPr>
          <a:xfrm flipV="1">
            <a:off x="399744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3997440" y="41497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3710160" y="1700280"/>
            <a:ext cx="358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579744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3708360" y="4076640"/>
            <a:ext cx="358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2"/>
          <p:cNvGrpSpPr/>
          <p:nvPr/>
        </p:nvGrpSpPr>
        <p:grpSpPr>
          <a:xfrm>
            <a:off x="6516720" y="1698480"/>
            <a:ext cx="2448000" cy="2809800"/>
            <a:chOff x="6516720" y="1698480"/>
            <a:chExt cx="2448000" cy="2809800"/>
          </a:xfrm>
        </p:grpSpPr>
        <p:sp>
          <p:nvSpPr>
            <p:cNvPr id="113" name="Line 33"/>
            <p:cNvSpPr/>
            <p:nvPr/>
          </p:nvSpPr>
          <p:spPr>
            <a:xfrm flipV="1">
              <a:off x="6805440" y="191448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4"/>
            <p:cNvSpPr/>
            <p:nvPr/>
          </p:nvSpPr>
          <p:spPr>
            <a:xfrm>
              <a:off x="6805440" y="41479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6518160" y="169848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8605800" y="4074840"/>
              <a:ext cx="358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7"/>
            <p:cNvSpPr/>
            <p:nvPr/>
          </p:nvSpPr>
          <p:spPr>
            <a:xfrm>
              <a:off x="6516720" y="407484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38"/>
          <p:cNvSpPr/>
          <p:nvPr/>
        </p:nvSpPr>
        <p:spPr>
          <a:xfrm>
            <a:off x="370836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70836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370836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1"/>
          <p:cNvSpPr/>
          <p:nvPr/>
        </p:nvSpPr>
        <p:spPr>
          <a:xfrm>
            <a:off x="6516720" y="450864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Т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2"/>
          <p:cNvSpPr/>
          <p:nvPr/>
        </p:nvSpPr>
        <p:spPr>
          <a:xfrm>
            <a:off x="6516720" y="5156280"/>
            <a:ext cx="2374920" cy="43164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764" h="21600">
                <a:moveTo>
                  <a:pt x="0" y="0"/>
                </a:moveTo>
                <a:lnTo>
                  <a:pt x="118764" y="0"/>
                </a:lnTo>
                <a:lnTo>
                  <a:pt x="118764" y="21600"/>
                </a:lnTo>
                <a:lnTo>
                  <a:pt x="0" y="21600"/>
                </a:lnTo>
                <a:close/>
              </a:path>
              <a:path fill="lightenLess" w="118764" h="21600">
                <a:moveTo>
                  <a:pt x="0" y="0"/>
                </a:moveTo>
                <a:lnTo>
                  <a:pt x="118764" y="0"/>
                </a:lnTo>
                <a:lnTo>
                  <a:pt x="117364" y="1400"/>
                </a:lnTo>
                <a:lnTo>
                  <a:pt x="1400" y="1400"/>
                </a:lnTo>
                <a:close/>
              </a:path>
              <a:path fill="darken" w="118764" h="21600">
                <a:moveTo>
                  <a:pt x="118764" y="0"/>
                </a:moveTo>
                <a:lnTo>
                  <a:pt x="118764" y="21600"/>
                </a:lnTo>
                <a:lnTo>
                  <a:pt x="117364" y="20200"/>
                </a:lnTo>
                <a:lnTo>
                  <a:pt x="117364" y="1400"/>
                </a:lnTo>
                <a:close/>
              </a:path>
              <a:path fill="darkenLess" w="118764" h="21600">
                <a:moveTo>
                  <a:pt x="11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4" y="20200"/>
                </a:lnTo>
                <a:close/>
              </a:path>
              <a:path fill="lighten" w="11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ОБ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3"/>
          <p:cNvSpPr/>
          <p:nvPr/>
        </p:nvSpPr>
        <p:spPr>
          <a:xfrm>
            <a:off x="6516720" y="5805360"/>
            <a:ext cx="2374920" cy="432000"/>
          </a:xfrm>
          <a:custGeom>
            <a:avLst/>
            <a:gdLst>
              <a:gd name="textAreaLeft" fmla="*/ 27720 w 2374920"/>
              <a:gd name="textAreaRight" fmla="*/ 2347200 w 23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18665" h="21600">
                <a:moveTo>
                  <a:pt x="0" y="0"/>
                </a:moveTo>
                <a:lnTo>
                  <a:pt x="118665" y="0"/>
                </a:lnTo>
                <a:lnTo>
                  <a:pt x="118665" y="21600"/>
                </a:lnTo>
                <a:lnTo>
                  <a:pt x="0" y="21600"/>
                </a:lnTo>
                <a:close/>
              </a:path>
              <a:path fill="lightenLess" w="118665" h="21600">
                <a:moveTo>
                  <a:pt x="0" y="0"/>
                </a:moveTo>
                <a:lnTo>
                  <a:pt x="118665" y="0"/>
                </a:lnTo>
                <a:lnTo>
                  <a:pt x="117265" y="1400"/>
                </a:lnTo>
                <a:lnTo>
                  <a:pt x="1400" y="1400"/>
                </a:lnTo>
                <a:close/>
              </a:path>
              <a:path fill="darken" w="118665" h="21600">
                <a:moveTo>
                  <a:pt x="118665" y="0"/>
                </a:moveTo>
                <a:lnTo>
                  <a:pt x="118665" y="21600"/>
                </a:lnTo>
                <a:lnTo>
                  <a:pt x="117265" y="20200"/>
                </a:lnTo>
                <a:lnTo>
                  <a:pt x="117265" y="1400"/>
                </a:lnTo>
                <a:close/>
              </a:path>
              <a:path fill="darkenLess" w="118665" h="21600">
                <a:moveTo>
                  <a:pt x="118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265" y="20200"/>
                </a:lnTo>
                <a:close/>
              </a:path>
              <a:path fill="lighten" w="118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ЗОХ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4"/>
          <p:cNvSpPr/>
          <p:nvPr/>
        </p:nvSpPr>
        <p:spPr>
          <a:xfrm>
            <a:off x="3419640" y="765000"/>
            <a:ext cx="2663640" cy="432000"/>
          </a:xfrm>
          <a:custGeom>
            <a:avLst/>
            <a:gdLst>
              <a:gd name="textAreaLeft" fmla="*/ 27720 w 2663640"/>
              <a:gd name="textAreaRight" fmla="*/ 2635920 w 26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089" h="21600">
                <a:moveTo>
                  <a:pt x="0" y="0"/>
                </a:moveTo>
                <a:lnTo>
                  <a:pt x="133089" y="0"/>
                </a:lnTo>
                <a:lnTo>
                  <a:pt x="133089" y="21600"/>
                </a:lnTo>
                <a:lnTo>
                  <a:pt x="0" y="21600"/>
                </a:lnTo>
                <a:close/>
              </a:path>
              <a:path fill="lightenLess" w="133089" h="21600">
                <a:moveTo>
                  <a:pt x="0" y="0"/>
                </a:moveTo>
                <a:lnTo>
                  <a:pt x="133089" y="0"/>
                </a:lnTo>
                <a:lnTo>
                  <a:pt x="131689" y="1400"/>
                </a:lnTo>
                <a:lnTo>
                  <a:pt x="1400" y="1400"/>
                </a:lnTo>
                <a:close/>
              </a:path>
              <a:path fill="darken" w="133089" h="21600">
                <a:moveTo>
                  <a:pt x="133089" y="0"/>
                </a:moveTo>
                <a:lnTo>
                  <a:pt x="133089" y="21600"/>
                </a:lnTo>
                <a:lnTo>
                  <a:pt x="131689" y="20200"/>
                </a:lnTo>
                <a:lnTo>
                  <a:pt x="131689" y="1400"/>
                </a:lnTo>
                <a:close/>
              </a:path>
              <a:path fill="darkenLess" w="133089" h="21600">
                <a:moveTo>
                  <a:pt x="133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89" y="20200"/>
                </a:lnTo>
                <a:close/>
              </a:path>
              <a:path fill="lighten" w="133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5"/>
          <p:cNvSpPr/>
          <p:nvPr/>
        </p:nvSpPr>
        <p:spPr>
          <a:xfrm>
            <a:off x="6443640" y="765000"/>
            <a:ext cx="2664000" cy="432000"/>
          </a:xfrm>
          <a:custGeom>
            <a:avLst/>
            <a:gdLst>
              <a:gd name="textAreaLeft" fmla="*/ 27720 w 2664000"/>
              <a:gd name="textAreaRight" fmla="*/ 2636280 w 266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33107" h="21600">
                <a:moveTo>
                  <a:pt x="0" y="0"/>
                </a:moveTo>
                <a:lnTo>
                  <a:pt x="133107" y="0"/>
                </a:lnTo>
                <a:lnTo>
                  <a:pt x="133107" y="21600"/>
                </a:lnTo>
                <a:lnTo>
                  <a:pt x="0" y="21600"/>
                </a:lnTo>
                <a:close/>
              </a:path>
              <a:path fill="lightenLess" w="133107" h="21600">
                <a:moveTo>
                  <a:pt x="0" y="0"/>
                </a:moveTo>
                <a:lnTo>
                  <a:pt x="133107" y="0"/>
                </a:lnTo>
                <a:lnTo>
                  <a:pt x="131707" y="1400"/>
                </a:lnTo>
                <a:lnTo>
                  <a:pt x="1400" y="1400"/>
                </a:lnTo>
                <a:close/>
              </a:path>
              <a:path fill="darken" w="133107" h="21600">
                <a:moveTo>
                  <a:pt x="133107" y="0"/>
                </a:moveTo>
                <a:lnTo>
                  <a:pt x="133107" y="21600"/>
                </a:lnTo>
                <a:lnTo>
                  <a:pt x="131707" y="20200"/>
                </a:lnTo>
                <a:lnTo>
                  <a:pt x="131707" y="1400"/>
                </a:lnTo>
                <a:close/>
              </a:path>
              <a:path fill="darkenLess" w="133107" h="21600">
                <a:moveTo>
                  <a:pt x="133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07" y="20200"/>
                </a:lnTo>
                <a:close/>
              </a:path>
              <a:path fill="lighten" w="133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одписать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8"/>
          <p:cNvGrpSpPr/>
          <p:nvPr/>
        </p:nvGrpSpPr>
        <p:grpSpPr>
          <a:xfrm>
            <a:off x="3995640" y="2420640"/>
            <a:ext cx="2016000" cy="1728720"/>
            <a:chOff x="3995640" y="2420640"/>
            <a:chExt cx="2016000" cy="1728720"/>
          </a:xfrm>
        </p:grpSpPr>
        <p:sp>
          <p:nvSpPr>
            <p:cNvPr id="127" name="Line 46"/>
            <p:cNvSpPr/>
            <p:nvPr/>
          </p:nvSpPr>
          <p:spPr>
            <a:xfrm flipV="1">
              <a:off x="3995640" y="3717360"/>
              <a:ext cx="503640" cy="43200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7"/>
            <p:cNvSpPr/>
            <p:nvPr/>
          </p:nvSpPr>
          <p:spPr>
            <a:xfrm flipV="1">
              <a:off x="4499280" y="2420640"/>
              <a:ext cx="1512360" cy="12963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995640" y="2492280"/>
            <a:ext cx="2160720" cy="0"/>
            <a:chOff x="3995640" y="2492280"/>
            <a:chExt cx="2160720" cy="0"/>
          </a:xfrm>
        </p:grpSpPr>
        <p:sp>
          <p:nvSpPr>
            <p:cNvPr id="130" name="Line 49"/>
            <p:cNvSpPr/>
            <p:nvPr/>
          </p:nvSpPr>
          <p:spPr>
            <a:xfrm>
              <a:off x="3995640" y="2492280"/>
              <a:ext cx="505080" cy="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0"/>
            <p:cNvSpPr/>
            <p:nvPr/>
          </p:nvSpPr>
          <p:spPr>
            <a:xfrm>
              <a:off x="4500720" y="2492280"/>
              <a:ext cx="16556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54"/>
          <p:cNvGrpSpPr/>
          <p:nvPr/>
        </p:nvGrpSpPr>
        <p:grpSpPr>
          <a:xfrm>
            <a:off x="5940360" y="2276640"/>
            <a:ext cx="0" cy="1873080"/>
            <a:chOff x="5940360" y="2276640"/>
            <a:chExt cx="0" cy="1873080"/>
          </a:xfrm>
        </p:grpSpPr>
        <p:sp>
          <p:nvSpPr>
            <p:cNvPr id="133" name="Line 52"/>
            <p:cNvSpPr/>
            <p:nvPr/>
          </p:nvSpPr>
          <p:spPr>
            <a:xfrm>
              <a:off x="594036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3"/>
            <p:cNvSpPr/>
            <p:nvPr/>
          </p:nvSpPr>
          <p:spPr>
            <a:xfrm>
              <a:off x="594036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62"/>
          <p:cNvGrpSpPr/>
          <p:nvPr/>
        </p:nvGrpSpPr>
        <p:grpSpPr>
          <a:xfrm>
            <a:off x="4269240" y="2276640"/>
            <a:ext cx="1885320" cy="1726560"/>
            <a:chOff x="4269240" y="2276640"/>
            <a:chExt cx="1885320" cy="1726560"/>
          </a:xfrm>
        </p:grpSpPr>
        <p:sp>
          <p:nvSpPr>
            <p:cNvPr id="136" name="WordArt 56"/>
            <p:cNvSpPr txBox="1"/>
            <p:nvPr/>
          </p:nvSpPr>
          <p:spPr>
            <a:xfrm rot="16200000">
              <a:off x="5364000" y="3212640"/>
              <a:ext cx="143964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7" name="WordArt 57"/>
            <p:cNvSpPr txBox="1"/>
            <p:nvPr/>
          </p:nvSpPr>
          <p:spPr>
            <a:xfrm rot="19306800">
              <a:off x="4211640" y="306828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8" name="WordArt 58"/>
            <p:cNvSpPr txBox="1"/>
            <p:nvPr/>
          </p:nvSpPr>
          <p:spPr>
            <a:xfrm>
              <a:off x="4356000" y="2276640"/>
              <a:ext cx="10796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9" name="Group 72"/>
          <p:cNvGrpSpPr/>
          <p:nvPr/>
        </p:nvGrpSpPr>
        <p:grpSpPr>
          <a:xfrm>
            <a:off x="7093080" y="2205000"/>
            <a:ext cx="1868400" cy="1800360"/>
            <a:chOff x="7093080" y="2205000"/>
            <a:chExt cx="1868400" cy="1800360"/>
          </a:xfrm>
        </p:grpSpPr>
        <p:sp>
          <p:nvSpPr>
            <p:cNvPr id="140" name="WordArt 59"/>
            <p:cNvSpPr txBox="1"/>
            <p:nvPr/>
          </p:nvSpPr>
          <p:spPr>
            <a:xfrm rot="16200000">
              <a:off x="8170560" y="3214440"/>
              <a:ext cx="1440000" cy="14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терма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1" name="WordArt 60"/>
            <p:cNvSpPr txBox="1"/>
            <p:nvPr/>
          </p:nvSpPr>
          <p:spPr>
            <a:xfrm>
              <a:off x="7093080" y="2205000"/>
              <a:ext cx="1154160" cy="2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99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бара</a:t>
              </a:r>
              <a:endPara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2" name="WordArt 61"/>
            <p:cNvSpPr txBox="1"/>
            <p:nvPr/>
          </p:nvSpPr>
          <p:spPr>
            <a:xfrm rot="19211400">
              <a:off x="7019640" y="3141360"/>
              <a:ext cx="1079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изохора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6804000" y="2420640"/>
            <a:ext cx="2015640" cy="1728720"/>
            <a:chOff x="6804000" y="2420640"/>
            <a:chExt cx="2015640" cy="1728720"/>
          </a:xfrm>
        </p:grpSpPr>
        <p:sp>
          <p:nvSpPr>
            <p:cNvPr id="144" name="Line 64"/>
            <p:cNvSpPr/>
            <p:nvPr/>
          </p:nvSpPr>
          <p:spPr>
            <a:xfrm flipV="1">
              <a:off x="6804000" y="3717360"/>
              <a:ext cx="503640" cy="432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 flipV="1">
              <a:off x="7307640" y="2420640"/>
              <a:ext cx="1512000" cy="129636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6"/>
          <p:cNvGrpSpPr/>
          <p:nvPr/>
        </p:nvGrpSpPr>
        <p:grpSpPr>
          <a:xfrm>
            <a:off x="6804000" y="2492280"/>
            <a:ext cx="2160720" cy="0"/>
            <a:chOff x="6804000" y="2492280"/>
            <a:chExt cx="2160720" cy="0"/>
          </a:xfrm>
        </p:grpSpPr>
        <p:sp>
          <p:nvSpPr>
            <p:cNvPr id="147" name="Line 67"/>
            <p:cNvSpPr/>
            <p:nvPr/>
          </p:nvSpPr>
          <p:spPr>
            <a:xfrm>
              <a:off x="6804000" y="2492280"/>
              <a:ext cx="505080" cy="0"/>
            </a:xfrm>
            <a:prstGeom prst="line">
              <a:avLst/>
            </a:prstGeom>
            <a:ln w="316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7309080" y="2492280"/>
              <a:ext cx="16556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8748720" y="2276640"/>
            <a:ext cx="0" cy="1873080"/>
            <a:chOff x="8748720" y="2276640"/>
            <a:chExt cx="0" cy="1873080"/>
          </a:xfrm>
        </p:grpSpPr>
        <p:sp>
          <p:nvSpPr>
            <p:cNvPr id="150" name="Line 70"/>
            <p:cNvSpPr/>
            <p:nvPr/>
          </p:nvSpPr>
          <p:spPr>
            <a:xfrm>
              <a:off x="8748720" y="2276640"/>
              <a:ext cx="0" cy="1439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1"/>
            <p:cNvSpPr/>
            <p:nvPr/>
          </p:nvSpPr>
          <p:spPr>
            <a:xfrm>
              <a:off x="8748720" y="371628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3"/>
          <p:cNvSpPr/>
          <p:nvPr/>
        </p:nvSpPr>
        <p:spPr>
          <a:xfrm>
            <a:off x="3419640" y="6524640"/>
            <a:ext cx="2952720" cy="333360"/>
          </a:xfrm>
          <a:custGeom>
            <a:avLst/>
            <a:gdLst>
              <a:gd name="textAreaLeft" fmla="*/ 21600 w 2952720"/>
              <a:gd name="textAreaRight" fmla="*/ 2931120 w 2952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91138" h="21600">
                <a:moveTo>
                  <a:pt x="0" y="0"/>
                </a:moveTo>
                <a:lnTo>
                  <a:pt x="191138" y="0"/>
                </a:lnTo>
                <a:lnTo>
                  <a:pt x="191138" y="21600"/>
                </a:lnTo>
                <a:lnTo>
                  <a:pt x="0" y="21600"/>
                </a:lnTo>
                <a:close/>
              </a:path>
              <a:path fill="lightenLess" w="191138" h="21600">
                <a:moveTo>
                  <a:pt x="0" y="0"/>
                </a:moveTo>
                <a:lnTo>
                  <a:pt x="191138" y="0"/>
                </a:lnTo>
                <a:lnTo>
                  <a:pt x="189738" y="1400"/>
                </a:lnTo>
                <a:lnTo>
                  <a:pt x="1400" y="1400"/>
                </a:lnTo>
                <a:close/>
              </a:path>
              <a:path fill="darken" w="191138" h="21600">
                <a:moveTo>
                  <a:pt x="191138" y="0"/>
                </a:moveTo>
                <a:lnTo>
                  <a:pt x="191138" y="21600"/>
                </a:lnTo>
                <a:lnTo>
                  <a:pt x="189738" y="20200"/>
                </a:lnTo>
                <a:lnTo>
                  <a:pt x="189738" y="1400"/>
                </a:lnTo>
                <a:close/>
              </a:path>
              <a:path fill="darkenLess" w="191138" h="21600">
                <a:moveTo>
                  <a:pt x="19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38" y="20200"/>
                </a:lnTo>
                <a:close/>
              </a:path>
              <a:path fill="lighten" w="19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584360" y="44280"/>
            <a:ext cx="608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 Black"/>
              </a:rPr>
              <a:t>Необходимо знать из курса математики</a:t>
            </a: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уравнений и систем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нейная функция и ее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рафик обратно пропорциональной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50920" y="6453360"/>
            <a:ext cx="1871640" cy="404640"/>
          </a:xfrm>
          <a:custGeom>
            <a:avLst/>
            <a:gdLst>
              <a:gd name="textAreaLeft" fmla="*/ 25920 w 1871640"/>
              <a:gd name="textAreaRight" fmla="*/ 1845720 w 187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9840" h="21600">
                <a:moveTo>
                  <a:pt x="0" y="0"/>
                </a:moveTo>
                <a:lnTo>
                  <a:pt x="99840" y="0"/>
                </a:lnTo>
                <a:lnTo>
                  <a:pt x="99840" y="21600"/>
                </a:lnTo>
                <a:lnTo>
                  <a:pt x="0" y="21600"/>
                </a:lnTo>
                <a:close/>
              </a:path>
              <a:path fill="lightenLess" w="99840" h="21600">
                <a:moveTo>
                  <a:pt x="0" y="0"/>
                </a:moveTo>
                <a:lnTo>
                  <a:pt x="99840" y="0"/>
                </a:lnTo>
                <a:lnTo>
                  <a:pt x="98440" y="1400"/>
                </a:lnTo>
                <a:lnTo>
                  <a:pt x="1400" y="1400"/>
                </a:lnTo>
                <a:close/>
              </a:path>
              <a:path fill="darken" w="99840" h="21600">
                <a:moveTo>
                  <a:pt x="99840" y="0"/>
                </a:moveTo>
                <a:lnTo>
                  <a:pt x="99840" y="21600"/>
                </a:lnTo>
                <a:lnTo>
                  <a:pt x="98440" y="20200"/>
                </a:lnTo>
                <a:lnTo>
                  <a:pt x="98440" y="1400"/>
                </a:lnTo>
                <a:close/>
              </a:path>
              <a:path fill="darkenLess" w="99840" h="21600">
                <a:moveTo>
                  <a:pt x="99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40" y="20200"/>
                </a:lnTo>
                <a:close/>
              </a:path>
              <a:path fill="lighten" w="99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156360" y="6453360"/>
            <a:ext cx="2952720" cy="404640"/>
          </a:xfrm>
          <a:custGeom>
            <a:avLst/>
            <a:gdLst>
              <a:gd name="textAreaLeft" fmla="*/ 25920 w 2952720"/>
              <a:gd name="textAreaRight" fmla="*/ 2926800 w 2952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157498" h="21600">
                <a:moveTo>
                  <a:pt x="0" y="0"/>
                </a:moveTo>
                <a:lnTo>
                  <a:pt x="157498" y="0"/>
                </a:lnTo>
                <a:lnTo>
                  <a:pt x="157498" y="21600"/>
                </a:lnTo>
                <a:lnTo>
                  <a:pt x="0" y="21600"/>
                </a:lnTo>
                <a:close/>
              </a:path>
              <a:path fill="lightenLess" w="157498" h="21600">
                <a:moveTo>
                  <a:pt x="0" y="0"/>
                </a:moveTo>
                <a:lnTo>
                  <a:pt x="157498" y="0"/>
                </a:lnTo>
                <a:lnTo>
                  <a:pt x="156098" y="1400"/>
                </a:lnTo>
                <a:lnTo>
                  <a:pt x="1400" y="1400"/>
                </a:lnTo>
                <a:close/>
              </a:path>
              <a:path fill="darken" w="157498" h="21600">
                <a:moveTo>
                  <a:pt x="157498" y="0"/>
                </a:moveTo>
                <a:lnTo>
                  <a:pt x="157498" y="21600"/>
                </a:lnTo>
                <a:lnTo>
                  <a:pt x="156098" y="20200"/>
                </a:lnTo>
                <a:lnTo>
                  <a:pt x="156098" y="1400"/>
                </a:lnTo>
                <a:close/>
              </a:path>
              <a:path fill="darkenLess" w="157498" h="21600">
                <a:moveTo>
                  <a:pt x="15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098" y="20200"/>
                </a:lnTo>
                <a:close/>
              </a:path>
              <a:path fill="lighten" w="15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К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7:47:36Z</dcterms:created>
  <dc:creator>FuckYouBill</dc:creator>
  <dc:description/>
  <dc:language>en-US</dc:language>
  <cp:lastModifiedBy>LEGION</cp:lastModifiedBy>
  <dcterms:modified xsi:type="dcterms:W3CDTF">2015-03-30T08:56:21Z</dcterms:modified>
  <cp:revision>32</cp:revision>
  <dc:subject/>
  <dc:title>Слайд 1</dc:title>
</cp:coreProperties>
</file>