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4356-3FD7-41E5-B04E-3DCBB8679B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8717-0BDF-421B-AB19-7514D79545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Автор презентации: Шамбергер Дарья Александ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есто работы:МОУ СОШ №2 сельского поселения «Село Хурба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лжность: учитель физики и информа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8685-C1DC-4FF3-8D45-BF45536428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РЕШЕНИЕ УРАВН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И СИСТЕМ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равнение – равенство с одной или несколькими неизвестными. Значение неизвестной, при которой получается верное неравенство, называется </a:t>
            </a: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корнем урав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Решить систему уравнений –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начит найти множество всех пар значений переменных, при подстановке которых оба уравнения системы обращаются в верные равенства. Это множество называется </a:t>
            </a: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решением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33C0-1ABE-4018-9D1E-E56846F752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инейное урав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некоторые числа, 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еременная, называется линейным уравнением (при а    0; х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/a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вадратное урав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bx+c=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х-переменная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любые числа, причем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    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называется квадратным уравн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ни квадратного уравнения находятся по форму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условии, ч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AFDB-856E-4186-9DC0-DBFEAF7CAC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Impact"/>
              </a:rPr>
              <a:t>Линейная функция и ее граф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я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де х и у – переменные, 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любые действительные числа, называется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инейн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График линейной функции –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рям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Для его построения достаточно знать координаты двух точек, принадлежащих граф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График этой функции – прямая, параллельная оси х, проходящая через точку А(0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AD72-9FDD-4372-8236-F49493E527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рафик такой функции – прямая, проходящая через начало координат и точку А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,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 Тогда график функции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прямая, параллельная графику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проходящая через точк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(0,b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A8D8-7D23-4BA1-9397-9795B9D337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Impact"/>
              </a:rPr>
              <a:t>График обратно пропорциональной 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для любой пары соответственных значений переменны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роизведени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вно одному и тому же числу, отличному от нуля, то переменна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обратно пропорциональн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; х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 (k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исло, не равное 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ли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/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EF91-4F5A-463F-B661-744F348266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 Black"/>
              </a:rPr>
              <a:t>Обратите 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Если по условию параметры состояния газа не изменяются, запишите уравнение Менделеева-Клапейрона и выразите неизвестную велич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Если по условию даны два или несколько состояний газа, то при решении задач рекомендуется соблюдать последователь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араметры состояния газа (как данные, так и искомые) запишите по форм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Запишите уравнение Менделеева-Клапейрона для каждого состояния, дополнительные условия, решите систему уравнений относительно искомой вел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4EE5-F644-4FB0-ABFC-5CA8B5A7EA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0см2, атмосферное давление р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E5C7-CCDB-4F69-B8E5-5FB86E278E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0см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, атмосферное давление р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C6E7-425E-4BAD-A5C5-3326C8E762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авление поршня;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авление гру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гласно закону Бойля-Мариотт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(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2)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=26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26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бъем пузырька газа, всплывшего со дна озера на поверхность, увеличился в три раза. Какова глубина оз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9B79-E08C-44E9-8990-B5F230CC7A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B3DE-6C4E-40AD-991B-727A794107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ЗО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 связи с тем, что масса газа и его температура не изменяются, воспользуемся уравнением изотермического процесса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=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(p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+     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 gh)V=p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*3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ыразите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и подставьте зна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оверьте результа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твет: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h=20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26E7-FBAE-427A-AC26-9BF3A4B838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60B0-F392-4597-9BFD-2C74B9F577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Impact"/>
              </a:rPr>
              <a:t>Тест "Изопроцессы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Как изменится давление идеального газа при увеличении температуры и объема газа в 4 раз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A836-4C5F-413F-A8AC-9084C34450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 одинаковых сосудах при одинаковой температуре находятся водород (Н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 и углекислый газ (СО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. Массы газов одинаковы. Какой из газов и во сколько раз оказывает большее давление на стенки сос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0AEC-2568-4D27-9EC2-FFA1EAF16B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Какому процессу соответствует график, изображенный на рисун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583F-035C-41EE-8272-2E2481DC30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о сколько раз изменится давление воздуха в цилиндре (рис), если поршень переместить на </a:t>
            </a:r>
            <a:r>
              <a:rPr b="0" i="1" lang="en-US" sz="12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/3 влево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F61A-1A99-4127-9264-396146BB32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о сколько раз отличается плотность метана (СР4) от плотности кислорода (О2) при одинаковых условиях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5F72-9DD5-4293-9020-F1AC59D32D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он, А.Е. Физика. Законы, формулы, алгоритмы решения задач: материалы для подготовки к единому государственному экзамену и вступительным экзаменам в аузы/ А.Е.Марон, Д.Н.Городецкий, В.Е.Марон, Е.А.Марон; под ред.А.Е.Марона.-М.:Дрофа,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сьянов, В.А. Физика.10кл.:Учебн.для общеобразоват.учеб.заведений.-3-е изд. – М.:Дрофа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он, А.Е. Физика. 10класс: дидактические материалы/А.Е.Марон, Е.А.Марон.-6-е изд.-М.:Дрофа,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9280-735E-4B44-9DE2-D314022B6A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D0A7-EEDE-44B1-9D17-D242E14F7B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D336-8A4A-4671-A36B-A2E1ADF7B1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процесс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, при котором один из макроскопических параметров состояния данной массы газа остается постоян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Макроскопические параметры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параметры характеризующие макросистему: давление, температура, объем (</a:t>
            </a:r>
            <a:r>
              <a:rPr b="0" i="1" lang="en-US" sz="1200" spc="-1" strike="noStrike">
                <a:solidFill>
                  <a:srgbClr val="000000"/>
                </a:solidFill>
                <a:latin typeface="Arial Black"/>
              </a:rPr>
              <a:t>P,V,T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D85F-64E2-4D89-87C2-1FAE773FB4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термически</a:t>
            </a: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	</a:t>
            </a: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й процесс (закон Бойля-Мариотта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й температу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термическом процессе Т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B24C-E151-43D4-B282-33BEB0B8CE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барный процесс(закон Гей-Люссака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д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барном процессе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p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0CCC-D286-4603-A621-8784C763AE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хорный процесс(закон Шарля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объ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хорном процессе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V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900A-2260-4823-8870-191B809AC4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ГРАФИКИ ИЗМЕ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АКРОСКОПИЧЕСКИХ ПАРАМЕ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AF2C-38C5-431B-977D-79DD626766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ШЕНИЕ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Необходимо знать из курса математики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шение уравнений и систем у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инейная функция и ее граф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рафик обратно пропорцион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DBC8-4AC8-415F-81C3-6FA9AB3E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5A0-56D3-4198-9437-B1B17754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F06-E972-4500-A424-CC9533B3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568C-A620-4A9E-87D4-799B7E25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E2A-4197-40F0-9DA8-2946D6D0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B4F-C50C-4905-8CF7-95413587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F7D-D605-42CF-B003-1E5B3E9E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65B-AAD9-4F07-B151-8F2847DF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79F-A3FD-4C25-B40E-779467C4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5B8-1BF8-4224-8A99-F6608CBE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027-D16E-43CA-B9C9-98B11BAD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22E5-430B-4352-B05B-7480A3F2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B8F4-3978-4E3B-9146-5B14F2F89D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.xml"/><Relationship Id="rId3" Type="http://schemas.openxmlformats.org/officeDocument/2006/relationships/slide" Target="slide21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6.xml"/><Relationship Id="rId5" Type="http://schemas.openxmlformats.org/officeDocument/2006/relationships/image" Target="../media/image3.wmf"/><Relationship Id="rId6" Type="http://schemas.openxmlformats.org/officeDocument/2006/relationships/slide" Target="slide7.xml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" Target="slide8.xml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42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642960"/>
            <a:ext cx="8964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втор презентации: Шамбергер Дарья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есто работы:МОУ СОШ №2 сельского поселения «Село Хурба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олжность: учитель физики и инфор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авнение – равенство с одной или несколькими неизвестными. Значение неизвестной, при которой получается верное неравенство, называется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орнем урав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шить систему уравнений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чит найти множество всех пар значений переменных, при подстановке которых оба уравнения системы обращаются в верные равенства. Это множество называется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шением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УРАВНЕНИЙ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ИСТЕМ УРАВНЕНИ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инейное урав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некоторые числа,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еременная, называется линейным уравнением (при а    0; х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/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вадратно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bx+c=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х-переменная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ые числа, приче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   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называется квадратным урав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ни квадратного уравнения находятся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условии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1584360" y="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УРАВНЕНИЙ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ИСТЕМ УРАВНЕНИ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3851280" y="1916280"/>
                <a:ext cx="504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5146560" y="3213000"/>
                <a:ext cx="5050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0"/>
              <p:cNvSpPr txBox="1"/>
              <p:nvPr/>
            </p:nvSpPr>
            <p:spPr>
              <a:xfrm>
                <a:off x="2411280" y="4869000"/>
                <a:ext cx="396108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2"/>
              <p:cNvSpPr txBox="1"/>
              <p:nvPr/>
            </p:nvSpPr>
            <p:spPr>
              <a:xfrm>
                <a:off x="3564000" y="6110280"/>
                <a:ext cx="20541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AutoShape 14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я у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где х и у – переменные,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ые действительные числа, называется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инейн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График линейной функции –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ям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Для его построения достаточно знать координаты двух точек, принадлежащих граф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График этой функции – прямая, параллельная оси х, проходящая через точку А(0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1042920" y="49320"/>
            <a:ext cx="705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нейная функция и ее графи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75" name="Group 14"/>
          <p:cNvGrpSpPr/>
          <p:nvPr/>
        </p:nvGrpSpPr>
        <p:grpSpPr>
          <a:xfrm>
            <a:off x="3780000" y="4724280"/>
            <a:ext cx="2952720" cy="2133720"/>
            <a:chOff x="3780000" y="4724280"/>
            <a:chExt cx="2952720" cy="2133720"/>
          </a:xfrm>
        </p:grpSpPr>
        <p:sp>
          <p:nvSpPr>
            <p:cNvPr id="176" name="Line 5"/>
            <p:cNvSpPr/>
            <p:nvPr/>
          </p:nvSpPr>
          <p:spPr>
            <a:xfrm flipV="1">
              <a:off x="4283280" y="4724280"/>
              <a:ext cx="0" cy="187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"/>
            <p:cNvGrpSpPr/>
            <p:nvPr/>
          </p:nvGrpSpPr>
          <p:grpSpPr>
            <a:xfrm>
              <a:off x="3780000" y="4724280"/>
              <a:ext cx="2952720" cy="2133720"/>
              <a:chOff x="3780000" y="4724280"/>
              <a:chExt cx="2952720" cy="2133720"/>
            </a:xfrm>
          </p:grpSpPr>
          <p:sp>
            <p:nvSpPr>
              <p:cNvPr id="178" name="Line 6"/>
              <p:cNvSpPr/>
              <p:nvPr/>
            </p:nvSpPr>
            <p:spPr>
              <a:xfrm>
                <a:off x="4283280" y="6597720"/>
                <a:ext cx="216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7"/>
              <p:cNvSpPr/>
              <p:nvPr/>
            </p:nvSpPr>
            <p:spPr>
              <a:xfrm>
                <a:off x="3996000" y="5734080"/>
                <a:ext cx="208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"/>
              <p:cNvSpPr/>
              <p:nvPr/>
            </p:nvSpPr>
            <p:spPr>
              <a:xfrm>
                <a:off x="4716720" y="5300640"/>
                <a:ext cx="86364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9"/>
              <p:cNvSpPr/>
              <p:nvPr/>
            </p:nvSpPr>
            <p:spPr>
              <a:xfrm>
                <a:off x="3780000" y="5300640"/>
                <a:ext cx="5050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"/>
              <p:cNvSpPr/>
              <p:nvPr/>
            </p:nvSpPr>
            <p:spPr>
              <a:xfrm>
                <a:off x="3780000" y="4724280"/>
                <a:ext cx="576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1"/>
              <p:cNvSpPr/>
              <p:nvPr/>
            </p:nvSpPr>
            <p:spPr>
              <a:xfrm>
                <a:off x="3924720" y="6497640"/>
                <a:ext cx="360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2"/>
              <p:cNvSpPr/>
              <p:nvPr/>
            </p:nvSpPr>
            <p:spPr>
              <a:xfrm>
                <a:off x="6444000" y="6497640"/>
                <a:ext cx="288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график такой функции – прямая, проходящая через начало координат и точку А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,k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 Тогда график функции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прямая, параллельная графику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проходящая через точку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(0,b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1042920" y="49320"/>
            <a:ext cx="705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нейная функция и ее графи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4140360" y="378900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3132000" y="5950080"/>
            <a:ext cx="324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3850920" y="4365720"/>
            <a:ext cx="1584360" cy="19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 flipH="1">
            <a:off x="3276360" y="4221000"/>
            <a:ext cx="1584360" cy="194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4140360" y="450864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5364000" y="450864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3564000" y="371628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156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5364000" y="436572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4140360" y="501336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3635280" y="4797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5148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3492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для любой пары соответственных значений переменных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оизведени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вно одному и тому же числу, отличному от нуля, то переменна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братно пропорциональ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 х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 (k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ло, не равное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ли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/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250920" y="0"/>
            <a:ext cx="864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к обратно пропорциональной зависимост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Line 5"/>
          <p:cNvSpPr/>
          <p:nvPr/>
        </p:nvSpPr>
        <p:spPr>
          <a:xfrm flipV="1">
            <a:off x="2556000" y="378900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2556000" y="638172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"/>
          <p:cNvSpPr/>
          <p:nvPr/>
        </p:nvSpPr>
        <p:spPr>
          <a:xfrm rot="21317400">
            <a:off x="2654280" y="4002120"/>
            <a:ext cx="1774800" cy="21607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1073" h="1315">
                <a:moveTo>
                  <a:pt x="75" y="0"/>
                </a:moveTo>
                <a:cubicBezTo>
                  <a:pt x="37" y="435"/>
                  <a:pt x="0" y="870"/>
                  <a:pt x="166" y="1089"/>
                </a:cubicBezTo>
                <a:cubicBezTo>
                  <a:pt x="332" y="1308"/>
                  <a:pt x="922" y="1277"/>
                  <a:pt x="1073" y="131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2197080" y="623736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2124000" y="364500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364000" y="6381720"/>
            <a:ext cx="28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359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 Black"/>
              </a:rPr>
              <a:t>Обратите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по условию параметры состояния газа не изменяются, запишите уравнение Менделеева-Клапейрона и выразите неизвестную велич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по условию даны два или несколько состояний газа, то при решении задач рекомендуется соблюдать последователь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араметры состояния газа (как данные, так и искомые) запишите по фор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пишите уравнение Менделеева-Клапейрона для каждого состояния, дополнительные условия, решите систему уравнений относительно искомой вел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24000" y="3789360"/>
          <a:ext cx="8434080" cy="2060640"/>
        </p:xfrm>
        <a:graphic>
          <a:graphicData uri="http://schemas.openxmlformats.org/drawingml/2006/table">
            <a:tbl>
              <a:tblPr/>
              <a:tblGrid>
                <a:gridCol w="1744560"/>
                <a:gridCol w="1671480"/>
                <a:gridCol w="1673280"/>
                <a:gridCol w="1671840"/>
                <a:gridCol w="1672920"/>
              </a:tblGrid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яние г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яние г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 rot="16200000">
            <a:off x="6048360" y="2780640"/>
            <a:ext cx="2305080" cy="1441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7"/>
          <p:cNvSpPr/>
          <p:nvPr/>
        </p:nvSpPr>
        <p:spPr>
          <a:xfrm>
            <a:off x="7956720" y="630864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36"/>
          <p:cNvGrpSpPr/>
          <p:nvPr/>
        </p:nvGrpSpPr>
        <p:grpSpPr>
          <a:xfrm>
            <a:off x="6480000" y="1125720"/>
            <a:ext cx="1441440" cy="1368360"/>
            <a:chOff x="6480000" y="1125720"/>
            <a:chExt cx="1441440" cy="1368360"/>
          </a:xfrm>
        </p:grpSpPr>
        <p:grpSp>
          <p:nvGrpSpPr>
            <p:cNvPr id="220" name="Group 8"/>
            <p:cNvGrpSpPr/>
            <p:nvPr/>
          </p:nvGrpSpPr>
          <p:grpSpPr>
            <a:xfrm>
              <a:off x="6480000" y="1125720"/>
              <a:ext cx="1441440" cy="1368360"/>
              <a:chOff x="6480000" y="1125720"/>
              <a:chExt cx="1441440" cy="1368360"/>
            </a:xfrm>
          </p:grpSpPr>
          <p:sp>
            <p:nvSpPr>
              <p:cNvPr id="221" name="Rectangle 5"/>
              <p:cNvSpPr/>
              <p:nvPr/>
            </p:nvSpPr>
            <p:spPr>
              <a:xfrm rot="16200000">
                <a:off x="6765120" y="1603080"/>
                <a:ext cx="870480" cy="28908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6"/>
              <p:cNvSpPr/>
              <p:nvPr/>
            </p:nvSpPr>
            <p:spPr>
              <a:xfrm rot="16200000">
                <a:off x="7143840" y="679320"/>
                <a:ext cx="186480" cy="107928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7"/>
              <p:cNvSpPr/>
              <p:nvPr/>
            </p:nvSpPr>
            <p:spPr>
              <a:xfrm rot="16200000">
                <a:off x="7045200" y="1617840"/>
                <a:ext cx="311040" cy="144144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Rectangle 29"/>
            <p:cNvSpPr/>
            <p:nvPr/>
          </p:nvSpPr>
          <p:spPr>
            <a:xfrm>
              <a:off x="6877080" y="1413000"/>
              <a:ext cx="647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 Black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5"/>
            <p:cNvSpPr/>
            <p:nvPr/>
          </p:nvSpPr>
          <p:spPr>
            <a:xfrm>
              <a:off x="6877080" y="2205000"/>
              <a:ext cx="647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S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37"/>
          <p:cNvSpPr/>
          <p:nvPr/>
        </p:nvSpPr>
        <p:spPr>
          <a:xfrm>
            <a:off x="6877080" y="692280"/>
            <a:ext cx="50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40"/>
          <p:cNvGrpSpPr/>
          <p:nvPr/>
        </p:nvGrpSpPr>
        <p:grpSpPr>
          <a:xfrm>
            <a:off x="5303880" y="765000"/>
            <a:ext cx="492120" cy="576360"/>
            <a:chOff x="5303880" y="765000"/>
            <a:chExt cx="492120" cy="576360"/>
          </a:xfrm>
        </p:grpSpPr>
        <p:pic>
          <p:nvPicPr>
            <p:cNvPr id="228" name="Picture 38" descr=""/>
            <p:cNvPicPr/>
            <p:nvPr/>
          </p:nvPicPr>
          <p:blipFill>
            <a:blip r:embed="rId2">
              <a:alphaModFix amt="0"/>
            </a:blip>
            <a:srcRect l="21353" t="20851" r="14803" b="5567"/>
            <a:stretch/>
          </p:blipFill>
          <p:spPr>
            <a:xfrm>
              <a:off x="5303880" y="765000"/>
              <a:ext cx="4921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9"/>
            <p:cNvSpPr/>
            <p:nvPr/>
          </p:nvSpPr>
          <p:spPr>
            <a:xfrm>
              <a:off x="5435640" y="90792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1"/>
          <p:cNvGrpSpPr/>
          <p:nvPr/>
        </p:nvGrpSpPr>
        <p:grpSpPr>
          <a:xfrm>
            <a:off x="6516720" y="1628640"/>
            <a:ext cx="492120" cy="576360"/>
            <a:chOff x="6516720" y="1628640"/>
            <a:chExt cx="492120" cy="576360"/>
          </a:xfrm>
        </p:grpSpPr>
        <p:pic>
          <p:nvPicPr>
            <p:cNvPr id="231" name="Picture 42" descr=""/>
            <p:cNvPicPr/>
            <p:nvPr/>
          </p:nvPicPr>
          <p:blipFill>
            <a:blip r:embed="rId3">
              <a:alphaModFix amt="0"/>
            </a:blip>
            <a:srcRect l="21353" t="20851" r="14803" b="5567"/>
            <a:stretch/>
          </p:blipFill>
          <p:spPr>
            <a:xfrm>
              <a:off x="6516720" y="1628640"/>
              <a:ext cx="4921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43"/>
            <p:cNvSpPr/>
            <p:nvPr/>
          </p:nvSpPr>
          <p:spPr>
            <a:xfrm>
              <a:off x="6648480" y="177156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6840" y="764640"/>
            <a:ext cx="4978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20см2, атмосферное давление р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45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Rectangle 46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49769E-007 L 0.13716 0.12581 E">
                                      <p:cBhvr>
                                        <p:cTn id="119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4681E-006 L 3.05556E-006 0.16791 E">
                                      <p:cBhvr>
                                        <p:cTn id="125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1 3.14524E-007 L 0.00121 0.1679 E">
                                      <p:cBhvr>
                                        <p:cTn id="129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20см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атмосферное давление р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19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50920" y="2997360"/>
          <a:ext cx="8640720" cy="1971360"/>
        </p:xfrm>
        <a:graphic>
          <a:graphicData uri="http://schemas.openxmlformats.org/drawingml/2006/table">
            <a:tbl>
              <a:tblPr/>
              <a:tblGrid>
                <a:gridCol w="1368360"/>
                <a:gridCol w="1150920"/>
                <a:gridCol w="3554280"/>
                <a:gridCol w="1455840"/>
                <a:gridCol w="1111320"/>
              </a:tblGrid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(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54"/>
          <p:cNvSpPr/>
          <p:nvPr/>
        </p:nvSpPr>
        <p:spPr>
          <a:xfrm>
            <a:off x="324000" y="5300640"/>
            <a:ext cx="88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0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03280" y="620640"/>
          <a:ext cx="8640720" cy="1197000"/>
        </p:xfrm>
        <a:graphic>
          <a:graphicData uri="http://schemas.openxmlformats.org/drawingml/2006/table">
            <a:tbl>
              <a:tblPr/>
              <a:tblGrid>
                <a:gridCol w="1368360"/>
                <a:gridCol w="1150920"/>
                <a:gridCol w="3554280"/>
                <a:gridCol w="1455840"/>
                <a:gridCol w="111132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(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24"/>
          <p:cNvSpPr/>
          <p:nvPr/>
        </p:nvSpPr>
        <p:spPr>
          <a:xfrm>
            <a:off x="324000" y="1773360"/>
            <a:ext cx="88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8200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вление поршня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вление гру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гласно закону Бойля-Мариотт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(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2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=26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26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9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46"/>
          <p:cNvSpPr/>
          <p:nvPr/>
        </p:nvSpPr>
        <p:spPr>
          <a:xfrm>
            <a:off x="2916360" y="6021360"/>
            <a:ext cx="57600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47"/>
          <p:cNvSpPr/>
          <p:nvPr/>
        </p:nvSpPr>
        <p:spPr>
          <a:xfrm>
            <a:off x="3564000" y="6021360"/>
            <a:ext cx="57636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8"/>
          <p:cNvSpPr/>
          <p:nvPr/>
        </p:nvSpPr>
        <p:spPr>
          <a:xfrm>
            <a:off x="4211640" y="6021360"/>
            <a:ext cx="57636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3"/>
          <p:cNvSpPr/>
          <p:nvPr/>
        </p:nvSpPr>
        <p:spPr>
          <a:xfrm>
            <a:off x="32400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4"/>
          <p:cNvSpPr/>
          <p:nvPr/>
        </p:nvSpPr>
        <p:spPr>
          <a:xfrm>
            <a:off x="97164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5"/>
          <p:cNvSpPr/>
          <p:nvPr/>
        </p:nvSpPr>
        <p:spPr>
          <a:xfrm>
            <a:off x="16192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6"/>
          <p:cNvSpPr/>
          <p:nvPr/>
        </p:nvSpPr>
        <p:spPr>
          <a:xfrm>
            <a:off x="226836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7"/>
          <p:cNvSpPr/>
          <p:nvPr/>
        </p:nvSpPr>
        <p:spPr>
          <a:xfrm>
            <a:off x="291636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8"/>
          <p:cNvSpPr/>
          <p:nvPr/>
        </p:nvSpPr>
        <p:spPr>
          <a:xfrm>
            <a:off x="356400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9"/>
          <p:cNvSpPr/>
          <p:nvPr/>
        </p:nvSpPr>
        <p:spPr>
          <a:xfrm>
            <a:off x="421164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0"/>
          <p:cNvSpPr/>
          <p:nvPr/>
        </p:nvSpPr>
        <p:spPr>
          <a:xfrm>
            <a:off x="48592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1"/>
          <p:cNvSpPr/>
          <p:nvPr/>
        </p:nvSpPr>
        <p:spPr>
          <a:xfrm>
            <a:off x="550872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615636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3"/>
          <p:cNvSpPr/>
          <p:nvPr/>
        </p:nvSpPr>
        <p:spPr>
          <a:xfrm>
            <a:off x="680400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745164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5"/>
          <p:cNvSpPr/>
          <p:nvPr/>
        </p:nvSpPr>
        <p:spPr>
          <a:xfrm>
            <a:off x="81010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79280" y="1844640"/>
          <a:ext cx="8964720" cy="3084480"/>
        </p:xfrm>
        <a:graphic>
          <a:graphicData uri="http://schemas.openxmlformats.org/drawingml/2006/table">
            <a:tbl>
              <a:tblPr/>
              <a:tblGrid>
                <a:gridCol w="863640"/>
                <a:gridCol w="2305080"/>
                <a:gridCol w="2351160"/>
                <a:gridCol w="1720800"/>
                <a:gridCol w="1724040"/>
              </a:tblGrid>
              <a:tr h="160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-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Rectangle 36"/>
          <p:cNvSpPr/>
          <p:nvPr/>
        </p:nvSpPr>
        <p:spPr>
          <a:xfrm>
            <a:off x="1763640" y="227484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7"/>
          <p:cNvSpPr/>
          <p:nvPr/>
        </p:nvSpPr>
        <p:spPr>
          <a:xfrm>
            <a:off x="2411280" y="227484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1763640" y="3787920"/>
            <a:ext cx="576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241128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3995640" y="227484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6"/>
          <p:cNvSpPr/>
          <p:nvPr/>
        </p:nvSpPr>
        <p:spPr>
          <a:xfrm>
            <a:off x="457200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514836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399564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9"/>
          <p:cNvSpPr/>
          <p:nvPr/>
        </p:nvSpPr>
        <p:spPr>
          <a:xfrm>
            <a:off x="457200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514836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644364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2"/>
          <p:cNvSpPr/>
          <p:nvPr/>
        </p:nvSpPr>
        <p:spPr>
          <a:xfrm>
            <a:off x="644364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3"/>
          <p:cNvSpPr/>
          <p:nvPr/>
        </p:nvSpPr>
        <p:spPr>
          <a:xfrm>
            <a:off x="8172360" y="234792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817236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6"/>
          <p:cNvSpPr/>
          <p:nvPr/>
        </p:nvSpPr>
        <p:spPr>
          <a:xfrm>
            <a:off x="10429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7"/>
          <p:cNvSpPr/>
          <p:nvPr/>
        </p:nvSpPr>
        <p:spPr>
          <a:xfrm>
            <a:off x="1619280" y="5157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9"/>
          <p:cNvSpPr/>
          <p:nvPr/>
        </p:nvSpPr>
        <p:spPr>
          <a:xfrm>
            <a:off x="298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0"/>
          <p:cNvSpPr/>
          <p:nvPr/>
        </p:nvSpPr>
        <p:spPr>
          <a:xfrm>
            <a:off x="363528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Black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1"/>
          <p:cNvSpPr/>
          <p:nvPr/>
        </p:nvSpPr>
        <p:spPr>
          <a:xfrm>
            <a:off x="4284720" y="515772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2"/>
          <p:cNvSpPr/>
          <p:nvPr/>
        </p:nvSpPr>
        <p:spPr>
          <a:xfrm>
            <a:off x="4932360" y="515772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3"/>
          <p:cNvSpPr/>
          <p:nvPr/>
        </p:nvSpPr>
        <p:spPr>
          <a:xfrm>
            <a:off x="558000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4"/>
          <p:cNvSpPr/>
          <p:nvPr/>
        </p:nvSpPr>
        <p:spPr>
          <a:xfrm>
            <a:off x="622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6"/>
          <p:cNvSpPr/>
          <p:nvPr/>
        </p:nvSpPr>
        <p:spPr>
          <a:xfrm>
            <a:off x="75247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7"/>
          <p:cNvSpPr/>
          <p:nvPr/>
        </p:nvSpPr>
        <p:spPr>
          <a:xfrm>
            <a:off x="817236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96"/>
          <p:cNvSpPr/>
          <p:nvPr/>
        </p:nvSpPr>
        <p:spPr>
          <a:xfrm>
            <a:off x="10429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99"/>
          <p:cNvSpPr/>
          <p:nvPr/>
        </p:nvSpPr>
        <p:spPr>
          <a:xfrm>
            <a:off x="298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03"/>
          <p:cNvSpPr/>
          <p:nvPr/>
        </p:nvSpPr>
        <p:spPr>
          <a:xfrm>
            <a:off x="558000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04"/>
          <p:cNvSpPr/>
          <p:nvPr/>
        </p:nvSpPr>
        <p:spPr>
          <a:xfrm>
            <a:off x="622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6"/>
          <p:cNvSpPr/>
          <p:nvPr/>
        </p:nvSpPr>
        <p:spPr>
          <a:xfrm>
            <a:off x="75247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07"/>
          <p:cNvSpPr/>
          <p:nvPr/>
        </p:nvSpPr>
        <p:spPr>
          <a:xfrm>
            <a:off x="817236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43"/>
          <p:cNvSpPr/>
          <p:nvPr/>
        </p:nvSpPr>
        <p:spPr>
          <a:xfrm>
            <a:off x="2987640" y="609300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45"/>
          <p:cNvSpPr/>
          <p:nvPr/>
        </p:nvSpPr>
        <p:spPr>
          <a:xfrm>
            <a:off x="4284720" y="609300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1"/>
          <p:cNvSpPr/>
          <p:nvPr/>
        </p:nvSpPr>
        <p:spPr>
          <a:xfrm>
            <a:off x="4284720" y="609300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5"/>
          <p:cNvSpPr/>
          <p:nvPr/>
        </p:nvSpPr>
        <p:spPr>
          <a:xfrm>
            <a:off x="39672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98"/>
          <p:cNvSpPr/>
          <p:nvPr/>
        </p:nvSpPr>
        <p:spPr>
          <a:xfrm>
            <a:off x="234144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49"/>
          <p:cNvSpPr/>
          <p:nvPr/>
        </p:nvSpPr>
        <p:spPr>
          <a:xfrm>
            <a:off x="2989440" y="611676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00"/>
          <p:cNvSpPr/>
          <p:nvPr/>
        </p:nvSpPr>
        <p:spPr>
          <a:xfrm>
            <a:off x="363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Black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05"/>
          <p:cNvSpPr/>
          <p:nvPr/>
        </p:nvSpPr>
        <p:spPr>
          <a:xfrm>
            <a:off x="687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65"/>
          <p:cNvSpPr/>
          <p:nvPr/>
        </p:nvSpPr>
        <p:spPr>
          <a:xfrm>
            <a:off x="687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2"/>
          <p:cNvSpPr/>
          <p:nvPr/>
        </p:nvSpPr>
        <p:spPr>
          <a:xfrm>
            <a:off x="250920" y="692280"/>
            <a:ext cx="8893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бъем пузырька газа, всплывшего со дна озера на поверхность, увеличился в три раза. Какова глубина оз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44"/>
          <p:cNvSpPr/>
          <p:nvPr/>
        </p:nvSpPr>
        <p:spPr>
          <a:xfrm>
            <a:off x="3635280" y="609300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50"/>
          <p:cNvSpPr/>
          <p:nvPr/>
        </p:nvSpPr>
        <p:spPr>
          <a:xfrm>
            <a:off x="3637080" y="611676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02"/>
          <p:cNvSpPr/>
          <p:nvPr/>
        </p:nvSpPr>
        <p:spPr>
          <a:xfrm>
            <a:off x="493236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01"/>
          <p:cNvSpPr/>
          <p:nvPr/>
        </p:nvSpPr>
        <p:spPr>
          <a:xfrm>
            <a:off x="428472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8"/>
          <p:cNvSpPr/>
          <p:nvPr/>
        </p:nvSpPr>
        <p:spPr>
          <a:xfrm>
            <a:off x="234144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97"/>
          <p:cNvSpPr/>
          <p:nvPr/>
        </p:nvSpPr>
        <p:spPr>
          <a:xfrm>
            <a:off x="1655640" y="5194440"/>
            <a:ext cx="503280" cy="576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19">
                <a:moveTo>
                  <a:pt x="0" y="0"/>
                </a:moveTo>
                <a:lnTo>
                  <a:pt x="21600" y="0"/>
                </a:lnTo>
                <a:lnTo>
                  <a:pt x="21600" y="24719"/>
                </a:lnTo>
                <a:lnTo>
                  <a:pt x="0" y="24719"/>
                </a:lnTo>
                <a:close/>
              </a:path>
              <a:path fill="lightenLess" w="21600" h="247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19">
                <a:moveTo>
                  <a:pt x="21600" y="0"/>
                </a:moveTo>
                <a:lnTo>
                  <a:pt x="21600" y="24719"/>
                </a:lnTo>
                <a:lnTo>
                  <a:pt x="20200" y="23319"/>
                </a:lnTo>
                <a:lnTo>
                  <a:pt x="20200" y="1400"/>
                </a:lnTo>
                <a:close/>
              </a:path>
              <a:path fill="darkenLess" w="21600" h="24719">
                <a:moveTo>
                  <a:pt x="21600" y="24719"/>
                </a:moveTo>
                <a:lnTo>
                  <a:pt x="0" y="24719"/>
                </a:lnTo>
                <a:lnTo>
                  <a:pt x="1400" y="23319"/>
                </a:lnTo>
                <a:lnTo>
                  <a:pt x="20200" y="23319"/>
                </a:lnTo>
                <a:close/>
              </a:path>
              <a:path fill="lighten" w="21600" h="24719">
                <a:moveTo>
                  <a:pt x="0" y="247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1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08"/>
          <p:cNvSpPr/>
          <p:nvPr/>
        </p:nvSpPr>
        <p:spPr>
          <a:xfrm>
            <a:off x="39672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9"/>
          <p:cNvSpPr txBox="1"/>
          <p:nvPr/>
        </p:nvSpPr>
        <p:spPr>
          <a:xfrm>
            <a:off x="1116000" y="620640"/>
            <a:ext cx="7343640" cy="23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ОПРОЦЕСС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AutoShape 15">
            <a:hlinkClick r:id="rId1" action="ppaction://hlinksldjump"/>
          </p:cNvPr>
          <p:cNvSpPr/>
          <p:nvPr/>
        </p:nvSpPr>
        <p:spPr>
          <a:xfrm>
            <a:off x="5364000" y="3860640"/>
            <a:ext cx="3035520" cy="720720"/>
          </a:xfrm>
          <a:custGeom>
            <a:avLst/>
            <a:gdLst>
              <a:gd name="textAreaLeft" fmla="*/ 46440 w 3035520"/>
              <a:gd name="textAreaRight" fmla="*/ 2989080 w 3035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40" h="21600">
                <a:moveTo>
                  <a:pt x="0" y="0"/>
                </a:moveTo>
                <a:lnTo>
                  <a:pt x="90940" y="0"/>
                </a:lnTo>
                <a:lnTo>
                  <a:pt x="90940" y="21600"/>
                </a:lnTo>
                <a:lnTo>
                  <a:pt x="0" y="21600"/>
                </a:lnTo>
                <a:close/>
              </a:path>
              <a:path fill="lightenLess" w="90940" h="21600">
                <a:moveTo>
                  <a:pt x="0" y="0"/>
                </a:moveTo>
                <a:lnTo>
                  <a:pt x="90940" y="0"/>
                </a:lnTo>
                <a:lnTo>
                  <a:pt x="89540" y="1400"/>
                </a:lnTo>
                <a:lnTo>
                  <a:pt x="1400" y="1400"/>
                </a:lnTo>
                <a:close/>
              </a:path>
              <a:path fill="darken" w="90940" h="21600">
                <a:moveTo>
                  <a:pt x="90940" y="0"/>
                </a:moveTo>
                <a:lnTo>
                  <a:pt x="90940" y="21600"/>
                </a:lnTo>
                <a:lnTo>
                  <a:pt x="89540" y="20200"/>
                </a:lnTo>
                <a:lnTo>
                  <a:pt x="89540" y="1400"/>
                </a:lnTo>
                <a:close/>
              </a:path>
              <a:path fill="darkenLess" w="90940" h="21600">
                <a:moveTo>
                  <a:pt x="90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40" y="20200"/>
                </a:lnTo>
                <a:close/>
              </a:path>
              <a:path fill="lighten" w="90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решение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>
            <a:hlinkClick r:id="rId2" action="ppaction://hlinksldjump"/>
          </p:cNvPr>
          <p:cNvSpPr/>
          <p:nvPr/>
        </p:nvSpPr>
        <p:spPr>
          <a:xfrm>
            <a:off x="684360" y="386064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те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>
            <a:hlinkClick r:id="rId3" action="ppaction://hlinksldjump"/>
          </p:cNvPr>
          <p:cNvSpPr/>
          <p:nvPr/>
        </p:nvSpPr>
        <p:spPr>
          <a:xfrm>
            <a:off x="684360" y="494028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Тес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>
            <a:hlinkClick r:id="rId4" action="ppaction://hlinksldjump"/>
          </p:cNvPr>
          <p:cNvSpPr/>
          <p:nvPr/>
        </p:nvSpPr>
        <p:spPr>
          <a:xfrm>
            <a:off x="5353200" y="494028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56167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 связи с тем, что масса газа и его температура не изменяются, воспользуемся уравнением изотермического процесса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=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(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+    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 gh)V=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*3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ыразите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и подставьте зна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роверьте 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твет: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=20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0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8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7" descr=""/>
          <p:cNvPicPr/>
          <p:nvPr/>
        </p:nvPicPr>
        <p:blipFill>
          <a:blip r:embed="rId3"/>
          <a:srcRect l="0" t="0" r="0" b="12002"/>
          <a:stretch/>
        </p:blipFill>
        <p:spPr>
          <a:xfrm>
            <a:off x="6588000" y="4149720"/>
            <a:ext cx="2556000" cy="1584360"/>
          </a:xfrm>
          <a:prstGeom prst="rect">
            <a:avLst/>
          </a:prstGeom>
          <a:ln w="0">
            <a:noFill/>
          </a:ln>
        </p:spPr>
      </p:pic>
      <p:sp>
        <p:nvSpPr>
          <p:cNvPr id="321" name="Oval 8"/>
          <p:cNvSpPr/>
          <p:nvPr/>
        </p:nvSpPr>
        <p:spPr>
          <a:xfrm>
            <a:off x="7740720" y="551664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>
            <a:off x="7093080" y="616572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877080" y="472428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 Black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6877080" y="371628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3"/>
          <p:cNvSpPr/>
          <p:nvPr/>
        </p:nvSpPr>
        <p:spPr>
          <a:xfrm>
            <a:off x="6227640" y="4508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>
            <a:off x="6227640" y="57340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5"/>
          <p:cNvSpPr/>
          <p:nvPr/>
        </p:nvSpPr>
        <p:spPr>
          <a:xfrm>
            <a:off x="644364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8"/>
          <p:cNvSpPr/>
          <p:nvPr/>
        </p:nvSpPr>
        <p:spPr>
          <a:xfrm>
            <a:off x="5796000" y="494172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5904000" y="2276640"/>
            <a:ext cx="3240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 глубине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давлени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верхности оз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3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" name="Rectangle 2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6"/>
              <p:cNvSpPr txBox="1"/>
              <p:nvPr/>
            </p:nvSpPr>
            <p:spPr>
              <a:xfrm>
                <a:off x="1476360" y="3284640"/>
                <a:ext cx="5745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AutoShape 28"/>
          <p:cNvSpPr/>
          <p:nvPr/>
        </p:nvSpPr>
        <p:spPr>
          <a:xfrm>
            <a:off x="3203640" y="6453360"/>
            <a:ext cx="2952720" cy="404640"/>
          </a:xfrm>
          <a:custGeom>
            <a:avLst/>
            <a:gdLst>
              <a:gd name="textAreaLeft" fmla="*/ 25920 w 2952720"/>
              <a:gd name="textAreaRight" fmla="*/ 2926800 w 2952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57498" h="21600">
                <a:moveTo>
                  <a:pt x="0" y="0"/>
                </a:moveTo>
                <a:lnTo>
                  <a:pt x="157498" y="0"/>
                </a:lnTo>
                <a:lnTo>
                  <a:pt x="157498" y="21600"/>
                </a:lnTo>
                <a:lnTo>
                  <a:pt x="0" y="21600"/>
                </a:lnTo>
                <a:close/>
              </a:path>
              <a:path fill="lightenLess" w="157498" h="21600">
                <a:moveTo>
                  <a:pt x="0" y="0"/>
                </a:moveTo>
                <a:lnTo>
                  <a:pt x="157498" y="0"/>
                </a:lnTo>
                <a:lnTo>
                  <a:pt x="156098" y="1400"/>
                </a:lnTo>
                <a:lnTo>
                  <a:pt x="1400" y="1400"/>
                </a:lnTo>
                <a:close/>
              </a:path>
              <a:path fill="darken" w="157498" h="21600">
                <a:moveTo>
                  <a:pt x="157498" y="0"/>
                </a:moveTo>
                <a:lnTo>
                  <a:pt x="157498" y="21600"/>
                </a:lnTo>
                <a:lnTo>
                  <a:pt x="156098" y="20200"/>
                </a:lnTo>
                <a:lnTo>
                  <a:pt x="156098" y="1400"/>
                </a:lnTo>
                <a:close/>
              </a:path>
              <a:path fill="darkenLess" w="157498" h="21600">
                <a:moveTo>
                  <a:pt x="15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098" y="20200"/>
                </a:lnTo>
                <a:close/>
              </a:path>
              <a:path fill="lighten" w="15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2.59259E-006 L 6.94444E-006 -0.16806 E">
                                      <p:cBhvr>
                                        <p:cTn id="202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896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Как изменится давление идеального газа при увеличении температуры и объема газа в 4 раз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7236000" y="3068640"/>
            <a:ext cx="1296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7236000" y="2637000"/>
            <a:ext cx="1296720" cy="1368360"/>
            <a:chOff x="7236000" y="2637000"/>
            <a:chExt cx="1296720" cy="1368360"/>
          </a:xfrm>
        </p:grpSpPr>
        <p:sp>
          <p:nvSpPr>
            <p:cNvPr id="338" name="Rectangle 5"/>
            <p:cNvSpPr/>
            <p:nvPr/>
          </p:nvSpPr>
          <p:spPr>
            <a:xfrm>
              <a:off x="7236000" y="3645000"/>
              <a:ext cx="1296720" cy="360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7812000" y="2853000"/>
              <a:ext cx="144720" cy="792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7451640" y="2637000"/>
              <a:ext cx="792360" cy="216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8" descr=""/>
          <p:cNvPicPr/>
          <p:nvPr/>
        </p:nvPicPr>
        <p:blipFill>
          <a:blip r:embed="rId2"/>
          <a:stretch/>
        </p:blipFill>
        <p:spPr>
          <a:xfrm>
            <a:off x="6443640" y="2924280"/>
            <a:ext cx="638280" cy="23526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9"/>
          <p:cNvSpPr/>
          <p:nvPr/>
        </p:nvSpPr>
        <p:spPr>
          <a:xfrm>
            <a:off x="6732720" y="3789360"/>
            <a:ext cx="7128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1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9"/>
          <p:cNvSpPr/>
          <p:nvPr/>
        </p:nvSpPr>
        <p:spPr>
          <a:xfrm>
            <a:off x="7236000" y="551664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5.78035E-007 L 0.00018 -0.07861 E">
                                      <p:cBhvr>
                                        <p:cTn id="212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96532E-006 L 2.77778E-006 -0.04971 E">
                                      <p:cBhvr>
                                        <p:cTn id="214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В одинаковых сосудах при одинаковой температуре находятся водород (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) и углекислый газ (СО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). Массы газов одинаковы. Какой из газов и во сколько раз оказывает большее давление на стенки сос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Какому процессу соответствует график, изображенный 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5796000" y="5516640"/>
            <a:ext cx="2952720" cy="0"/>
          </a:xfrm>
          <a:prstGeom prst="line">
            <a:avLst/>
          </a:prstGeom>
          <a:ln w="3492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0"/>
          <p:cNvGrpSpPr/>
          <p:nvPr/>
        </p:nvGrpSpPr>
        <p:grpSpPr>
          <a:xfrm>
            <a:off x="5148360" y="1844640"/>
            <a:ext cx="3814560" cy="4392720"/>
            <a:chOff x="5148360" y="1844640"/>
            <a:chExt cx="3814560" cy="4392720"/>
          </a:xfrm>
        </p:grpSpPr>
        <p:sp>
          <p:nvSpPr>
            <p:cNvPr id="356" name="Line 11"/>
            <p:cNvSpPr/>
            <p:nvPr/>
          </p:nvSpPr>
          <p:spPr>
            <a:xfrm flipV="1">
              <a:off x="5796000" y="2133360"/>
              <a:ext cx="0" cy="338292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2"/>
            <p:cNvSpPr/>
            <p:nvPr/>
          </p:nvSpPr>
          <p:spPr>
            <a:xfrm flipV="1">
              <a:off x="5796000" y="4868640"/>
              <a:ext cx="720720" cy="64764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3"/>
            <p:cNvSpPr/>
            <p:nvPr/>
          </p:nvSpPr>
          <p:spPr>
            <a:xfrm flipV="1">
              <a:off x="6516720" y="3068280"/>
              <a:ext cx="1800360" cy="180036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5148360" y="184464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"/>
            <p:cNvSpPr/>
            <p:nvPr/>
          </p:nvSpPr>
          <p:spPr>
            <a:xfrm>
              <a:off x="8459640" y="530064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 Black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6"/>
            <p:cNvSpPr/>
            <p:nvPr/>
          </p:nvSpPr>
          <p:spPr>
            <a:xfrm>
              <a:off x="5435640" y="537372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Во сколько раз изменится давление воздуха в цилиндре (рис), если поршень переместить на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/3 влево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8459640" y="530064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5435640" y="3139920"/>
            <a:ext cx="23050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7596360" y="3139920"/>
            <a:ext cx="1368000" cy="1441440"/>
            <a:chOff x="7596360" y="3139920"/>
            <a:chExt cx="1368000" cy="1441440"/>
          </a:xfrm>
        </p:grpSpPr>
        <p:sp>
          <p:nvSpPr>
            <p:cNvPr id="369" name="Rectangle 12"/>
            <p:cNvSpPr/>
            <p:nvPr/>
          </p:nvSpPr>
          <p:spPr>
            <a:xfrm>
              <a:off x="7907400" y="3715920"/>
              <a:ext cx="870480" cy="2890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3"/>
            <p:cNvSpPr/>
            <p:nvPr/>
          </p:nvSpPr>
          <p:spPr>
            <a:xfrm>
              <a:off x="8777880" y="3357360"/>
              <a:ext cx="186480" cy="10792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4"/>
            <p:cNvSpPr/>
            <p:nvPr/>
          </p:nvSpPr>
          <p:spPr>
            <a:xfrm>
              <a:off x="7596360" y="3139920"/>
              <a:ext cx="311040" cy="1441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Oval 15"/>
          <p:cNvSpPr/>
          <p:nvPr/>
        </p:nvSpPr>
        <p:spPr>
          <a:xfrm>
            <a:off x="558000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6"/>
          <p:cNvSpPr/>
          <p:nvPr/>
        </p:nvSpPr>
        <p:spPr>
          <a:xfrm>
            <a:off x="5940360" y="3429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7"/>
          <p:cNvSpPr/>
          <p:nvPr/>
        </p:nvSpPr>
        <p:spPr>
          <a:xfrm>
            <a:off x="558000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8"/>
          <p:cNvSpPr/>
          <p:nvPr/>
        </p:nvSpPr>
        <p:spPr>
          <a:xfrm>
            <a:off x="630072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9"/>
          <p:cNvSpPr/>
          <p:nvPr/>
        </p:nvSpPr>
        <p:spPr>
          <a:xfrm>
            <a:off x="6732720" y="3573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20"/>
          <p:cNvSpPr/>
          <p:nvPr/>
        </p:nvSpPr>
        <p:spPr>
          <a:xfrm>
            <a:off x="630072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21"/>
          <p:cNvSpPr/>
          <p:nvPr/>
        </p:nvSpPr>
        <p:spPr>
          <a:xfrm>
            <a:off x="5867280" y="37879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22"/>
          <p:cNvSpPr/>
          <p:nvPr/>
        </p:nvSpPr>
        <p:spPr>
          <a:xfrm>
            <a:off x="6227640" y="39322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23"/>
          <p:cNvSpPr/>
          <p:nvPr/>
        </p:nvSpPr>
        <p:spPr>
          <a:xfrm>
            <a:off x="5867280" y="41482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24"/>
          <p:cNvSpPr/>
          <p:nvPr/>
        </p:nvSpPr>
        <p:spPr>
          <a:xfrm>
            <a:off x="6516720" y="3787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5"/>
          <p:cNvSpPr/>
          <p:nvPr/>
        </p:nvSpPr>
        <p:spPr>
          <a:xfrm>
            <a:off x="6877080" y="3932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26"/>
          <p:cNvSpPr/>
          <p:nvPr/>
        </p:nvSpPr>
        <p:spPr>
          <a:xfrm>
            <a:off x="6516720" y="4148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27"/>
          <p:cNvSpPr/>
          <p:nvPr/>
        </p:nvSpPr>
        <p:spPr>
          <a:xfrm>
            <a:off x="7020000" y="3355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8"/>
          <p:cNvSpPr/>
          <p:nvPr/>
        </p:nvSpPr>
        <p:spPr>
          <a:xfrm>
            <a:off x="7093080" y="4292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9"/>
          <p:cNvSpPr/>
          <p:nvPr/>
        </p:nvSpPr>
        <p:spPr>
          <a:xfrm>
            <a:off x="6227640" y="4292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30"/>
          <p:cNvSpPr/>
          <p:nvPr/>
        </p:nvSpPr>
        <p:spPr>
          <a:xfrm>
            <a:off x="5508720" y="4076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31"/>
          <p:cNvSpPr/>
          <p:nvPr/>
        </p:nvSpPr>
        <p:spPr>
          <a:xfrm>
            <a:off x="5508720" y="4365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2"/>
          <p:cNvSpPr/>
          <p:nvPr/>
        </p:nvSpPr>
        <p:spPr>
          <a:xfrm flipV="1">
            <a:off x="5435640" y="2565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3"/>
          <p:cNvSpPr/>
          <p:nvPr/>
        </p:nvSpPr>
        <p:spPr>
          <a:xfrm flipV="1">
            <a:off x="7596360" y="2565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4"/>
          <p:cNvSpPr/>
          <p:nvPr/>
        </p:nvSpPr>
        <p:spPr>
          <a:xfrm>
            <a:off x="5435640" y="2924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5"/>
          <p:cNvSpPr/>
          <p:nvPr/>
        </p:nvSpPr>
        <p:spPr>
          <a:xfrm>
            <a:off x="5940360" y="2492280"/>
            <a:ext cx="7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8"/>
          <p:cNvSpPr/>
          <p:nvPr/>
        </p:nvSpPr>
        <p:spPr>
          <a:xfrm>
            <a:off x="7956720" y="4869000"/>
            <a:ext cx="1187280" cy="54900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46696" h="21600">
                <a:moveTo>
                  <a:pt x="0" y="0"/>
                </a:moveTo>
                <a:lnTo>
                  <a:pt x="46696" y="0"/>
                </a:lnTo>
                <a:lnTo>
                  <a:pt x="46696" y="21600"/>
                </a:lnTo>
                <a:lnTo>
                  <a:pt x="0" y="21600"/>
                </a:lnTo>
                <a:close/>
              </a:path>
              <a:path fill="lightenLess" w="46696" h="21600">
                <a:moveTo>
                  <a:pt x="0" y="0"/>
                </a:moveTo>
                <a:lnTo>
                  <a:pt x="46696" y="0"/>
                </a:lnTo>
                <a:lnTo>
                  <a:pt x="45296" y="1400"/>
                </a:lnTo>
                <a:lnTo>
                  <a:pt x="1400" y="1400"/>
                </a:lnTo>
                <a:close/>
              </a:path>
              <a:path fill="darken" w="46696" h="21600">
                <a:moveTo>
                  <a:pt x="46696" y="0"/>
                </a:moveTo>
                <a:lnTo>
                  <a:pt x="46696" y="21600"/>
                </a:lnTo>
                <a:lnTo>
                  <a:pt x="45296" y="20200"/>
                </a:lnTo>
                <a:lnTo>
                  <a:pt x="45296" y="1400"/>
                </a:lnTo>
                <a:close/>
              </a:path>
              <a:path fill="darkenLess" w="46696" h="21600">
                <a:moveTo>
                  <a:pt x="46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6" y="20200"/>
                </a:lnTo>
                <a:close/>
              </a:path>
              <a:path fill="lighten" w="46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4798E-006 L -0.07482 2.94798E-006 E">
                                      <p:cBhvr>
                                        <p:cTn id="220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023 L -0.10226 0.03168 E">
                                      <p:cBhvr>
                                        <p:cTn id="222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4798E-006 L -0.01563 2.94798E-006 E">
                                      <p:cBhvr>
                                        <p:cTn id="224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4971E-006 L -0.07084 0.00023 E">
                                      <p:cBhvr>
                                        <p:cTn id="226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Во сколько раз отличается плотность метана (СР4) от плотности кислорода (О2) при одинаковых условиях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8459640" y="530064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WordArt 19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1" name="AutoShape 20"/>
          <p:cNvSpPr/>
          <p:nvPr/>
        </p:nvSpPr>
        <p:spPr>
          <a:xfrm>
            <a:off x="3419640" y="6524640"/>
            <a:ext cx="2952720" cy="333360"/>
          </a:xfrm>
          <a:custGeom>
            <a:avLst/>
            <a:gdLst>
              <a:gd name="textAreaLeft" fmla="*/ 21600 w 2952720"/>
              <a:gd name="textAreaRight" fmla="*/ 2931120 w 2952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91138" h="21600">
                <a:moveTo>
                  <a:pt x="0" y="0"/>
                </a:moveTo>
                <a:lnTo>
                  <a:pt x="191138" y="0"/>
                </a:lnTo>
                <a:lnTo>
                  <a:pt x="191138" y="21600"/>
                </a:lnTo>
                <a:lnTo>
                  <a:pt x="0" y="21600"/>
                </a:lnTo>
                <a:close/>
              </a:path>
              <a:path fill="lightenLess" w="191138" h="21600">
                <a:moveTo>
                  <a:pt x="0" y="0"/>
                </a:moveTo>
                <a:lnTo>
                  <a:pt x="191138" y="0"/>
                </a:lnTo>
                <a:lnTo>
                  <a:pt x="189738" y="1400"/>
                </a:lnTo>
                <a:lnTo>
                  <a:pt x="1400" y="1400"/>
                </a:lnTo>
                <a:close/>
              </a:path>
              <a:path fill="darken" w="191138" h="21600">
                <a:moveTo>
                  <a:pt x="191138" y="0"/>
                </a:moveTo>
                <a:lnTo>
                  <a:pt x="191138" y="21600"/>
                </a:lnTo>
                <a:lnTo>
                  <a:pt x="189738" y="20200"/>
                </a:lnTo>
                <a:lnTo>
                  <a:pt x="189738" y="1400"/>
                </a:lnTo>
                <a:close/>
              </a:path>
              <a:path fill="darkenLess" w="191138" h="21600">
                <a:moveTo>
                  <a:pt x="19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9738" y="20200"/>
                </a:lnTo>
                <a:close/>
              </a:path>
              <a:path fill="lighten" w="19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он, А.Е. Физика. Законы, формулы, алгоритмы решения задач: материалы для подготовки к единому государственному экзамену и вступительным экзаменам в аузы/ А.Е.Марон, Д.Н.Городецкий, В.Е.Марон, Е.А.Марон; под ред.А.Е.Марона.-М.:Дрофа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сьянов, В.А. Физика.10кл.:Учебн.для общеобразоват.учеб.заведений.-3-е изд. – М.:Дрофа, 200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он, А.Е. Физика. 10класс: дидактические материалы/А.Е.Марон, Е.А.Марон.-6-е изд.-М.:Дрофа,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сок литератур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692280"/>
          <a:ext cx="8820000" cy="5729040"/>
        </p:xfrm>
        <a:graphic>
          <a:graphicData uri="http://schemas.openxmlformats.org/drawingml/2006/table">
            <a:tbl>
              <a:tblPr/>
              <a:tblGrid>
                <a:gridCol w="2205000"/>
                <a:gridCol w="2205000"/>
                <a:gridCol w="2205000"/>
                <a:gridCol w="2205000"/>
              </a:tblGrid>
              <a:tr h="88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тер-м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бар-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хор-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преде-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ара-мет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к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рафик изменения макроскопи-ческих параме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149" descr="J023901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59280" y="1700280"/>
            <a:ext cx="1089000" cy="89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0" descr="J02390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48360" y="1700280"/>
            <a:ext cx="1089000" cy="89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1" descr="J023901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80360" y="1700280"/>
            <a:ext cx="1089000" cy="895320"/>
          </a:xfrm>
          <a:prstGeom prst="rect">
            <a:avLst/>
          </a:prstGeom>
          <a:ln w="0">
            <a:noFill/>
          </a:ln>
        </p:spPr>
      </p:pic>
      <p:sp>
        <p:nvSpPr>
          <p:cNvPr id="61" name="WordArt 153"/>
          <p:cNvSpPr txBox="1"/>
          <p:nvPr/>
        </p:nvSpPr>
        <p:spPr>
          <a:xfrm>
            <a:off x="2843280" y="292428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=const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155"/>
          <p:cNvSpPr txBox="1"/>
          <p:nvPr/>
        </p:nvSpPr>
        <p:spPr>
          <a:xfrm>
            <a:off x="5003640" y="2924280"/>
            <a:ext cx="1524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=const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156"/>
          <p:cNvSpPr txBox="1"/>
          <p:nvPr/>
        </p:nvSpPr>
        <p:spPr>
          <a:xfrm>
            <a:off x="7236000" y="292428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=const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Rectangle 165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64"/>
              <p:cNvSpPr txBox="1"/>
              <p:nvPr/>
            </p:nvSpPr>
            <p:spPr>
              <a:xfrm>
                <a:off x="4859280" y="3860640"/>
                <a:ext cx="1800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66"/>
              <p:cNvSpPr txBox="1"/>
              <p:nvPr/>
            </p:nvSpPr>
            <p:spPr>
              <a:xfrm>
                <a:off x="7164360" y="3886200"/>
                <a:ext cx="16747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WordArt 167"/>
          <p:cNvSpPr txBox="1"/>
          <p:nvPr/>
        </p:nvSpPr>
        <p:spPr>
          <a:xfrm>
            <a:off x="1979640" y="49320"/>
            <a:ext cx="576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ОПРОЦЕССЫ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isoterm.avi" descr=""/>
          <p:cNvPicPr/>
          <p:nvPr/>
        </p:nvPicPr>
        <p:blipFill>
          <a:blip r:embed="rId16"/>
          <a:stretch/>
        </p:blipFill>
        <p:spPr>
          <a:xfrm>
            <a:off x="2700360" y="4941720"/>
            <a:ext cx="1800360" cy="1349640"/>
          </a:xfrm>
          <a:prstGeom prst="rect">
            <a:avLst/>
          </a:prstGeom>
          <a:ln w="0">
            <a:noFill/>
          </a:ln>
        </p:spPr>
      </p:pic>
      <p:pic>
        <p:nvPicPr>
          <p:cNvPr id="69" name="isobar.avi" descr=""/>
          <p:cNvPicPr/>
          <p:nvPr/>
        </p:nvPicPr>
        <p:blipFill>
          <a:blip r:embed="rId17"/>
          <a:stretch/>
        </p:blipFill>
        <p:spPr>
          <a:xfrm>
            <a:off x="4932360" y="4941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70" name="isoHOR.avi" descr=""/>
          <p:cNvPicPr/>
          <p:nvPr/>
        </p:nvPicPr>
        <p:blipFill>
          <a:blip r:embed="rId18"/>
          <a:stretch/>
        </p:blipFill>
        <p:spPr>
          <a:xfrm>
            <a:off x="7093080" y="4941720"/>
            <a:ext cx="1800000" cy="13496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10">
            <a:hlinkClick r:id="rId19" action="ppaction://hlinksldjump"/>
          </p:cNvPr>
          <p:cNvSpPr/>
          <p:nvPr/>
        </p:nvSpPr>
        <p:spPr>
          <a:xfrm>
            <a:off x="3708360" y="6453360"/>
            <a:ext cx="1871640" cy="404640"/>
          </a:xfrm>
          <a:custGeom>
            <a:avLst/>
            <a:gdLst>
              <a:gd name="textAreaLeft" fmla="*/ 25920 w 1871640"/>
              <a:gd name="textAreaRight" fmla="*/ 1845720 w 187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9840" h="21600">
                <a:moveTo>
                  <a:pt x="0" y="0"/>
                </a:moveTo>
                <a:lnTo>
                  <a:pt x="99840" y="0"/>
                </a:lnTo>
                <a:lnTo>
                  <a:pt x="99840" y="21600"/>
                </a:lnTo>
                <a:lnTo>
                  <a:pt x="0" y="21600"/>
                </a:lnTo>
                <a:close/>
              </a:path>
              <a:path fill="lightenLess" w="99840" h="21600">
                <a:moveTo>
                  <a:pt x="0" y="0"/>
                </a:moveTo>
                <a:lnTo>
                  <a:pt x="99840" y="0"/>
                </a:lnTo>
                <a:lnTo>
                  <a:pt x="98440" y="1400"/>
                </a:lnTo>
                <a:lnTo>
                  <a:pt x="1400" y="1400"/>
                </a:lnTo>
                <a:close/>
              </a:path>
              <a:path fill="darken" w="99840" h="21600">
                <a:moveTo>
                  <a:pt x="99840" y="0"/>
                </a:moveTo>
                <a:lnTo>
                  <a:pt x="99840" y="21600"/>
                </a:lnTo>
                <a:lnTo>
                  <a:pt x="98440" y="20200"/>
                </a:lnTo>
                <a:lnTo>
                  <a:pt x="98440" y="1400"/>
                </a:lnTo>
                <a:close/>
              </a:path>
              <a:path fill="darkenLess" w="99840" h="21600">
                <a:moveTo>
                  <a:pt x="99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440" y="20200"/>
                </a:lnTo>
                <a:close/>
              </a:path>
              <a:path fill="lighten" w="99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процесс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, при котором один из макроскопических параметров состояния данной массы газа остается постоя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Макроскопические параметры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параметры характеризующие макросистему: давление, температура, объем (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P,V,T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AutoShape 6">
            <a:hlinkClick r:id="rId3" action="ppaction://hlinksldjump"/>
          </p:cNvPr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термически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	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й процесс (закон Бойля-Мариотта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й темпера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термическом процессе Т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5">
            <a:hlinkClick r:id="rId3" action="ppaction://hlinksldjump"/>
          </p:cNvPr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барный процесс(закон Гей-Люссака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дав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барном процессе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p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хорный процесс(закон Шарля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объ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хорном процессе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V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116000" y="44280"/>
            <a:ext cx="6121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КИ ИЗМЕНЕНИЯ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КРОСКОПИЧЕСКИХ ПАРАМЕТРОВ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1116000" y="2205000"/>
            <a:ext cx="1584360" cy="15843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952" h="908">
                <a:moveTo>
                  <a:pt x="0" y="0"/>
                </a:moveTo>
                <a:cubicBezTo>
                  <a:pt x="11" y="242"/>
                  <a:pt x="22" y="484"/>
                  <a:pt x="181" y="635"/>
                </a:cubicBezTo>
                <a:cubicBezTo>
                  <a:pt x="340" y="786"/>
                  <a:pt x="824" y="863"/>
                  <a:pt x="952" y="908"/>
                </a:cubicBez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68436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68436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68436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900000" y="2565360"/>
            <a:ext cx="1800360" cy="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2484360" y="2349360"/>
            <a:ext cx="0" cy="1800360"/>
          </a:xfrm>
          <a:prstGeom prst="line">
            <a:avLst/>
          </a:prstGeom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5"/>
          <p:cNvGrpSpPr/>
          <p:nvPr/>
        </p:nvGrpSpPr>
        <p:grpSpPr>
          <a:xfrm>
            <a:off x="611280" y="1700280"/>
            <a:ext cx="2448000" cy="2809800"/>
            <a:chOff x="611280" y="1700280"/>
            <a:chExt cx="2448000" cy="2809800"/>
          </a:xfrm>
        </p:grpSpPr>
        <p:sp>
          <p:nvSpPr>
            <p:cNvPr id="97" name="Line 5"/>
            <p:cNvSpPr/>
            <p:nvPr/>
          </p:nvSpPr>
          <p:spPr>
            <a:xfrm flipV="1">
              <a:off x="900000" y="191628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6"/>
            <p:cNvSpPr/>
            <p:nvPr/>
          </p:nvSpPr>
          <p:spPr>
            <a:xfrm>
              <a:off x="900000" y="41497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612720" y="170028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2700360" y="407664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611280" y="4076640"/>
              <a:ext cx="3585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AutoShape 21"/>
          <p:cNvSpPr/>
          <p:nvPr/>
        </p:nvSpPr>
        <p:spPr>
          <a:xfrm>
            <a:off x="395280" y="765000"/>
            <a:ext cx="2664000" cy="432000"/>
          </a:xfrm>
          <a:custGeom>
            <a:avLst/>
            <a:gdLst>
              <a:gd name="textAreaLeft" fmla="*/ 27720 w 2664000"/>
              <a:gd name="textAreaRight" fmla="*/ 2636280 w 266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107" h="21600">
                <a:moveTo>
                  <a:pt x="0" y="0"/>
                </a:moveTo>
                <a:lnTo>
                  <a:pt x="133107" y="0"/>
                </a:lnTo>
                <a:lnTo>
                  <a:pt x="133107" y="21600"/>
                </a:lnTo>
                <a:lnTo>
                  <a:pt x="0" y="21600"/>
                </a:lnTo>
                <a:close/>
              </a:path>
              <a:path fill="lightenLess" w="133107" h="21600">
                <a:moveTo>
                  <a:pt x="0" y="0"/>
                </a:moveTo>
                <a:lnTo>
                  <a:pt x="133107" y="0"/>
                </a:lnTo>
                <a:lnTo>
                  <a:pt x="131707" y="1400"/>
                </a:lnTo>
                <a:lnTo>
                  <a:pt x="1400" y="1400"/>
                </a:lnTo>
                <a:close/>
              </a:path>
              <a:path fill="darken" w="133107" h="21600">
                <a:moveTo>
                  <a:pt x="133107" y="0"/>
                </a:moveTo>
                <a:lnTo>
                  <a:pt x="133107" y="21600"/>
                </a:lnTo>
                <a:lnTo>
                  <a:pt x="131707" y="20200"/>
                </a:lnTo>
                <a:lnTo>
                  <a:pt x="131707" y="1400"/>
                </a:lnTo>
                <a:close/>
              </a:path>
              <a:path fill="darkenLess" w="133107" h="21600">
                <a:moveTo>
                  <a:pt x="133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07" y="20200"/>
                </a:lnTo>
                <a:close/>
              </a:path>
              <a:path fill="lighten" w="133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4"/>
          <p:cNvGrpSpPr/>
          <p:nvPr/>
        </p:nvGrpSpPr>
        <p:grpSpPr>
          <a:xfrm>
            <a:off x="1154160" y="2276640"/>
            <a:ext cx="1546200" cy="1439640"/>
            <a:chOff x="1154160" y="2276640"/>
            <a:chExt cx="1546200" cy="1439640"/>
          </a:xfrm>
        </p:grpSpPr>
        <p:sp>
          <p:nvSpPr>
            <p:cNvPr id="104" name="WordArt 14"/>
            <p:cNvSpPr txBox="1"/>
            <p:nvPr/>
          </p:nvSpPr>
          <p:spPr>
            <a:xfrm rot="2299200">
              <a:off x="1042560" y="3141360"/>
              <a:ext cx="144000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5" name="WordArt 22"/>
            <p:cNvSpPr txBox="1"/>
            <p:nvPr/>
          </p:nvSpPr>
          <p:spPr>
            <a:xfrm>
              <a:off x="1187280" y="227664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6" name="WordArt 23"/>
            <p:cNvSpPr txBox="1"/>
            <p:nvPr/>
          </p:nvSpPr>
          <p:spPr>
            <a:xfrm rot="16200000">
              <a:off x="2088360" y="310428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07" name="Line 27"/>
          <p:cNvSpPr/>
          <p:nvPr/>
        </p:nvSpPr>
        <p:spPr>
          <a:xfrm flipV="1">
            <a:off x="3997440" y="1916280"/>
            <a:ext cx="0" cy="22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8"/>
          <p:cNvSpPr/>
          <p:nvPr/>
        </p:nvSpPr>
        <p:spPr>
          <a:xfrm>
            <a:off x="3997440" y="414972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3710160" y="1700280"/>
            <a:ext cx="358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5797440" y="4076640"/>
            <a:ext cx="358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3708360" y="4076640"/>
            <a:ext cx="358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2"/>
          <p:cNvGrpSpPr/>
          <p:nvPr/>
        </p:nvGrpSpPr>
        <p:grpSpPr>
          <a:xfrm>
            <a:off x="6516720" y="1698480"/>
            <a:ext cx="2448000" cy="2809800"/>
            <a:chOff x="6516720" y="1698480"/>
            <a:chExt cx="2448000" cy="2809800"/>
          </a:xfrm>
        </p:grpSpPr>
        <p:sp>
          <p:nvSpPr>
            <p:cNvPr id="113" name="Line 33"/>
            <p:cNvSpPr/>
            <p:nvPr/>
          </p:nvSpPr>
          <p:spPr>
            <a:xfrm flipV="1">
              <a:off x="6805440" y="191448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4"/>
            <p:cNvSpPr/>
            <p:nvPr/>
          </p:nvSpPr>
          <p:spPr>
            <a:xfrm>
              <a:off x="6805440" y="41479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5"/>
            <p:cNvSpPr/>
            <p:nvPr/>
          </p:nvSpPr>
          <p:spPr>
            <a:xfrm>
              <a:off x="6518160" y="169848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6"/>
            <p:cNvSpPr/>
            <p:nvPr/>
          </p:nvSpPr>
          <p:spPr>
            <a:xfrm>
              <a:off x="8605800" y="407484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7"/>
            <p:cNvSpPr/>
            <p:nvPr/>
          </p:nvSpPr>
          <p:spPr>
            <a:xfrm>
              <a:off x="6516720" y="4074840"/>
              <a:ext cx="3585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AutoShape 38"/>
          <p:cNvSpPr/>
          <p:nvPr/>
        </p:nvSpPr>
        <p:spPr>
          <a:xfrm>
            <a:off x="370836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9"/>
          <p:cNvSpPr/>
          <p:nvPr/>
        </p:nvSpPr>
        <p:spPr>
          <a:xfrm>
            <a:off x="370836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0"/>
          <p:cNvSpPr/>
          <p:nvPr/>
        </p:nvSpPr>
        <p:spPr>
          <a:xfrm>
            <a:off x="370836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1"/>
          <p:cNvSpPr/>
          <p:nvPr/>
        </p:nvSpPr>
        <p:spPr>
          <a:xfrm>
            <a:off x="651672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2"/>
          <p:cNvSpPr/>
          <p:nvPr/>
        </p:nvSpPr>
        <p:spPr>
          <a:xfrm>
            <a:off x="651672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3"/>
          <p:cNvSpPr/>
          <p:nvPr/>
        </p:nvSpPr>
        <p:spPr>
          <a:xfrm>
            <a:off x="651672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4"/>
          <p:cNvSpPr/>
          <p:nvPr/>
        </p:nvSpPr>
        <p:spPr>
          <a:xfrm>
            <a:off x="3419640" y="765000"/>
            <a:ext cx="2663640" cy="432000"/>
          </a:xfrm>
          <a:custGeom>
            <a:avLst/>
            <a:gdLst>
              <a:gd name="textAreaLeft" fmla="*/ 27720 w 2663640"/>
              <a:gd name="textAreaRight" fmla="*/ 2635920 w 26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089" h="21600">
                <a:moveTo>
                  <a:pt x="0" y="0"/>
                </a:moveTo>
                <a:lnTo>
                  <a:pt x="133089" y="0"/>
                </a:lnTo>
                <a:lnTo>
                  <a:pt x="133089" y="21600"/>
                </a:lnTo>
                <a:lnTo>
                  <a:pt x="0" y="21600"/>
                </a:lnTo>
                <a:close/>
              </a:path>
              <a:path fill="lightenLess" w="133089" h="21600">
                <a:moveTo>
                  <a:pt x="0" y="0"/>
                </a:moveTo>
                <a:lnTo>
                  <a:pt x="133089" y="0"/>
                </a:lnTo>
                <a:lnTo>
                  <a:pt x="131689" y="1400"/>
                </a:lnTo>
                <a:lnTo>
                  <a:pt x="1400" y="1400"/>
                </a:lnTo>
                <a:close/>
              </a:path>
              <a:path fill="darken" w="133089" h="21600">
                <a:moveTo>
                  <a:pt x="133089" y="0"/>
                </a:moveTo>
                <a:lnTo>
                  <a:pt x="133089" y="21600"/>
                </a:lnTo>
                <a:lnTo>
                  <a:pt x="131689" y="20200"/>
                </a:lnTo>
                <a:lnTo>
                  <a:pt x="131689" y="1400"/>
                </a:lnTo>
                <a:close/>
              </a:path>
              <a:path fill="darkenLess" w="133089" h="21600">
                <a:moveTo>
                  <a:pt x="133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689" y="20200"/>
                </a:lnTo>
                <a:close/>
              </a:path>
              <a:path fill="lighten" w="133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5"/>
          <p:cNvSpPr/>
          <p:nvPr/>
        </p:nvSpPr>
        <p:spPr>
          <a:xfrm>
            <a:off x="6443640" y="765000"/>
            <a:ext cx="2664000" cy="432000"/>
          </a:xfrm>
          <a:custGeom>
            <a:avLst/>
            <a:gdLst>
              <a:gd name="textAreaLeft" fmla="*/ 27720 w 2664000"/>
              <a:gd name="textAreaRight" fmla="*/ 2636280 w 266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107" h="21600">
                <a:moveTo>
                  <a:pt x="0" y="0"/>
                </a:moveTo>
                <a:lnTo>
                  <a:pt x="133107" y="0"/>
                </a:lnTo>
                <a:lnTo>
                  <a:pt x="133107" y="21600"/>
                </a:lnTo>
                <a:lnTo>
                  <a:pt x="0" y="21600"/>
                </a:lnTo>
                <a:close/>
              </a:path>
              <a:path fill="lightenLess" w="133107" h="21600">
                <a:moveTo>
                  <a:pt x="0" y="0"/>
                </a:moveTo>
                <a:lnTo>
                  <a:pt x="133107" y="0"/>
                </a:lnTo>
                <a:lnTo>
                  <a:pt x="131707" y="1400"/>
                </a:lnTo>
                <a:lnTo>
                  <a:pt x="1400" y="1400"/>
                </a:lnTo>
                <a:close/>
              </a:path>
              <a:path fill="darken" w="133107" h="21600">
                <a:moveTo>
                  <a:pt x="133107" y="0"/>
                </a:moveTo>
                <a:lnTo>
                  <a:pt x="133107" y="21600"/>
                </a:lnTo>
                <a:lnTo>
                  <a:pt x="131707" y="20200"/>
                </a:lnTo>
                <a:lnTo>
                  <a:pt x="131707" y="1400"/>
                </a:lnTo>
                <a:close/>
              </a:path>
              <a:path fill="darkenLess" w="133107" h="21600">
                <a:moveTo>
                  <a:pt x="133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07" y="20200"/>
                </a:lnTo>
                <a:close/>
              </a:path>
              <a:path fill="lighten" w="133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8"/>
          <p:cNvGrpSpPr/>
          <p:nvPr/>
        </p:nvGrpSpPr>
        <p:grpSpPr>
          <a:xfrm>
            <a:off x="3995640" y="2420640"/>
            <a:ext cx="2016000" cy="1728720"/>
            <a:chOff x="3995640" y="2420640"/>
            <a:chExt cx="2016000" cy="1728720"/>
          </a:xfrm>
        </p:grpSpPr>
        <p:sp>
          <p:nvSpPr>
            <p:cNvPr id="127" name="Line 46"/>
            <p:cNvSpPr/>
            <p:nvPr/>
          </p:nvSpPr>
          <p:spPr>
            <a:xfrm flipV="1">
              <a:off x="3995640" y="3717360"/>
              <a:ext cx="503640" cy="432000"/>
            </a:xfrm>
            <a:prstGeom prst="line">
              <a:avLst/>
            </a:prstGeom>
            <a:ln w="316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7"/>
            <p:cNvSpPr/>
            <p:nvPr/>
          </p:nvSpPr>
          <p:spPr>
            <a:xfrm flipV="1">
              <a:off x="4499280" y="2420640"/>
              <a:ext cx="1512360" cy="129636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51"/>
          <p:cNvGrpSpPr/>
          <p:nvPr/>
        </p:nvGrpSpPr>
        <p:grpSpPr>
          <a:xfrm>
            <a:off x="3995640" y="2492280"/>
            <a:ext cx="2160720" cy="0"/>
            <a:chOff x="3995640" y="2492280"/>
            <a:chExt cx="2160720" cy="0"/>
          </a:xfrm>
        </p:grpSpPr>
        <p:sp>
          <p:nvSpPr>
            <p:cNvPr id="130" name="Line 49"/>
            <p:cNvSpPr/>
            <p:nvPr/>
          </p:nvSpPr>
          <p:spPr>
            <a:xfrm>
              <a:off x="3995640" y="2492280"/>
              <a:ext cx="505080" cy="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0"/>
            <p:cNvSpPr/>
            <p:nvPr/>
          </p:nvSpPr>
          <p:spPr>
            <a:xfrm>
              <a:off x="4500720" y="2492280"/>
              <a:ext cx="165564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54"/>
          <p:cNvGrpSpPr/>
          <p:nvPr/>
        </p:nvGrpSpPr>
        <p:grpSpPr>
          <a:xfrm>
            <a:off x="5940360" y="2276640"/>
            <a:ext cx="0" cy="1873080"/>
            <a:chOff x="5940360" y="2276640"/>
            <a:chExt cx="0" cy="1873080"/>
          </a:xfrm>
        </p:grpSpPr>
        <p:sp>
          <p:nvSpPr>
            <p:cNvPr id="133" name="Line 52"/>
            <p:cNvSpPr/>
            <p:nvPr/>
          </p:nvSpPr>
          <p:spPr>
            <a:xfrm>
              <a:off x="5940360" y="2276640"/>
              <a:ext cx="0" cy="1439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3"/>
            <p:cNvSpPr/>
            <p:nvPr/>
          </p:nvSpPr>
          <p:spPr>
            <a:xfrm>
              <a:off x="5940360" y="3716280"/>
              <a:ext cx="0" cy="4334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62"/>
          <p:cNvGrpSpPr/>
          <p:nvPr/>
        </p:nvGrpSpPr>
        <p:grpSpPr>
          <a:xfrm>
            <a:off x="4269240" y="2276640"/>
            <a:ext cx="1885320" cy="1726560"/>
            <a:chOff x="4269240" y="2276640"/>
            <a:chExt cx="1885320" cy="1726560"/>
          </a:xfrm>
        </p:grpSpPr>
        <p:sp>
          <p:nvSpPr>
            <p:cNvPr id="136" name="WordArt 56"/>
            <p:cNvSpPr txBox="1"/>
            <p:nvPr/>
          </p:nvSpPr>
          <p:spPr>
            <a:xfrm rot="16200000">
              <a:off x="5364000" y="3212640"/>
              <a:ext cx="143964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7" name="WordArt 57"/>
            <p:cNvSpPr txBox="1"/>
            <p:nvPr/>
          </p:nvSpPr>
          <p:spPr>
            <a:xfrm rot="19306800">
              <a:off x="4211640" y="306828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8" name="WordArt 58"/>
            <p:cNvSpPr txBox="1"/>
            <p:nvPr/>
          </p:nvSpPr>
          <p:spPr>
            <a:xfrm>
              <a:off x="4356000" y="2276640"/>
              <a:ext cx="1079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39" name="Group 72"/>
          <p:cNvGrpSpPr/>
          <p:nvPr/>
        </p:nvGrpSpPr>
        <p:grpSpPr>
          <a:xfrm>
            <a:off x="7093080" y="2205000"/>
            <a:ext cx="1868400" cy="1800360"/>
            <a:chOff x="7093080" y="2205000"/>
            <a:chExt cx="1868400" cy="1800360"/>
          </a:xfrm>
        </p:grpSpPr>
        <p:sp>
          <p:nvSpPr>
            <p:cNvPr id="140" name="WordArt 59"/>
            <p:cNvSpPr txBox="1"/>
            <p:nvPr/>
          </p:nvSpPr>
          <p:spPr>
            <a:xfrm rot="16200000">
              <a:off x="8170560" y="3214440"/>
              <a:ext cx="1440000" cy="14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1" name="WordArt 60"/>
            <p:cNvSpPr txBox="1"/>
            <p:nvPr/>
          </p:nvSpPr>
          <p:spPr>
            <a:xfrm>
              <a:off x="7093080" y="220500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2" name="WordArt 61"/>
            <p:cNvSpPr txBox="1"/>
            <p:nvPr/>
          </p:nvSpPr>
          <p:spPr>
            <a:xfrm rot="19211400">
              <a:off x="7019640" y="314136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43" name="Group 63"/>
          <p:cNvGrpSpPr/>
          <p:nvPr/>
        </p:nvGrpSpPr>
        <p:grpSpPr>
          <a:xfrm>
            <a:off x="6804000" y="2420640"/>
            <a:ext cx="2015640" cy="1728720"/>
            <a:chOff x="6804000" y="2420640"/>
            <a:chExt cx="2015640" cy="1728720"/>
          </a:xfrm>
        </p:grpSpPr>
        <p:sp>
          <p:nvSpPr>
            <p:cNvPr id="144" name="Line 64"/>
            <p:cNvSpPr/>
            <p:nvPr/>
          </p:nvSpPr>
          <p:spPr>
            <a:xfrm flipV="1">
              <a:off x="6804000" y="3717360"/>
              <a:ext cx="503640" cy="43200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65"/>
            <p:cNvSpPr/>
            <p:nvPr/>
          </p:nvSpPr>
          <p:spPr>
            <a:xfrm flipV="1">
              <a:off x="7307640" y="2420640"/>
              <a:ext cx="1512000" cy="129636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66"/>
          <p:cNvGrpSpPr/>
          <p:nvPr/>
        </p:nvGrpSpPr>
        <p:grpSpPr>
          <a:xfrm>
            <a:off x="6804000" y="2492280"/>
            <a:ext cx="2160720" cy="0"/>
            <a:chOff x="6804000" y="2492280"/>
            <a:chExt cx="2160720" cy="0"/>
          </a:xfrm>
        </p:grpSpPr>
        <p:sp>
          <p:nvSpPr>
            <p:cNvPr id="147" name="Line 67"/>
            <p:cNvSpPr/>
            <p:nvPr/>
          </p:nvSpPr>
          <p:spPr>
            <a:xfrm>
              <a:off x="6804000" y="2492280"/>
              <a:ext cx="505080" cy="0"/>
            </a:xfrm>
            <a:prstGeom prst="line">
              <a:avLst/>
            </a:prstGeom>
            <a:ln w="316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68"/>
            <p:cNvSpPr/>
            <p:nvPr/>
          </p:nvSpPr>
          <p:spPr>
            <a:xfrm>
              <a:off x="7309080" y="2492280"/>
              <a:ext cx="1655640" cy="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69"/>
          <p:cNvGrpSpPr/>
          <p:nvPr/>
        </p:nvGrpSpPr>
        <p:grpSpPr>
          <a:xfrm>
            <a:off x="8748720" y="2276640"/>
            <a:ext cx="0" cy="1873080"/>
            <a:chOff x="8748720" y="2276640"/>
            <a:chExt cx="0" cy="1873080"/>
          </a:xfrm>
        </p:grpSpPr>
        <p:sp>
          <p:nvSpPr>
            <p:cNvPr id="150" name="Line 70"/>
            <p:cNvSpPr/>
            <p:nvPr/>
          </p:nvSpPr>
          <p:spPr>
            <a:xfrm>
              <a:off x="8748720" y="2276640"/>
              <a:ext cx="0" cy="1439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71"/>
            <p:cNvSpPr/>
            <p:nvPr/>
          </p:nvSpPr>
          <p:spPr>
            <a:xfrm>
              <a:off x="8748720" y="3716280"/>
              <a:ext cx="0" cy="4334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3"/>
          <p:cNvSpPr/>
          <p:nvPr/>
        </p:nvSpPr>
        <p:spPr>
          <a:xfrm>
            <a:off x="3419640" y="6524640"/>
            <a:ext cx="2952720" cy="333360"/>
          </a:xfrm>
          <a:custGeom>
            <a:avLst/>
            <a:gdLst>
              <a:gd name="textAreaLeft" fmla="*/ 21600 w 2952720"/>
              <a:gd name="textAreaRight" fmla="*/ 2931120 w 2952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91138" h="21600">
                <a:moveTo>
                  <a:pt x="0" y="0"/>
                </a:moveTo>
                <a:lnTo>
                  <a:pt x="191138" y="0"/>
                </a:lnTo>
                <a:lnTo>
                  <a:pt x="191138" y="21600"/>
                </a:lnTo>
                <a:lnTo>
                  <a:pt x="0" y="21600"/>
                </a:lnTo>
                <a:close/>
              </a:path>
              <a:path fill="lightenLess" w="191138" h="21600">
                <a:moveTo>
                  <a:pt x="0" y="0"/>
                </a:moveTo>
                <a:lnTo>
                  <a:pt x="191138" y="0"/>
                </a:lnTo>
                <a:lnTo>
                  <a:pt x="189738" y="1400"/>
                </a:lnTo>
                <a:lnTo>
                  <a:pt x="1400" y="1400"/>
                </a:lnTo>
                <a:close/>
              </a:path>
              <a:path fill="darken" w="191138" h="21600">
                <a:moveTo>
                  <a:pt x="191138" y="0"/>
                </a:moveTo>
                <a:lnTo>
                  <a:pt x="191138" y="21600"/>
                </a:lnTo>
                <a:lnTo>
                  <a:pt x="189738" y="20200"/>
                </a:lnTo>
                <a:lnTo>
                  <a:pt x="189738" y="1400"/>
                </a:lnTo>
                <a:close/>
              </a:path>
              <a:path fill="darkenLess" w="191138" h="21600">
                <a:moveTo>
                  <a:pt x="19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9738" y="20200"/>
                </a:lnTo>
                <a:close/>
              </a:path>
              <a:path fill="lighten" w="19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Необходимо знать из курса математики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 уравнений и систем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нейная функция и ее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рафик обратно пропорциональной завис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250920" y="6453360"/>
            <a:ext cx="1871640" cy="404640"/>
          </a:xfrm>
          <a:custGeom>
            <a:avLst/>
            <a:gdLst>
              <a:gd name="textAreaLeft" fmla="*/ 25920 w 1871640"/>
              <a:gd name="textAreaRight" fmla="*/ 1845720 w 187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9840" h="21600">
                <a:moveTo>
                  <a:pt x="0" y="0"/>
                </a:moveTo>
                <a:lnTo>
                  <a:pt x="99840" y="0"/>
                </a:lnTo>
                <a:lnTo>
                  <a:pt x="99840" y="21600"/>
                </a:lnTo>
                <a:lnTo>
                  <a:pt x="0" y="21600"/>
                </a:lnTo>
                <a:close/>
              </a:path>
              <a:path fill="lightenLess" w="99840" h="21600">
                <a:moveTo>
                  <a:pt x="0" y="0"/>
                </a:moveTo>
                <a:lnTo>
                  <a:pt x="99840" y="0"/>
                </a:lnTo>
                <a:lnTo>
                  <a:pt x="98440" y="1400"/>
                </a:lnTo>
                <a:lnTo>
                  <a:pt x="1400" y="1400"/>
                </a:lnTo>
                <a:close/>
              </a:path>
              <a:path fill="darken" w="99840" h="21600">
                <a:moveTo>
                  <a:pt x="99840" y="0"/>
                </a:moveTo>
                <a:lnTo>
                  <a:pt x="99840" y="21600"/>
                </a:lnTo>
                <a:lnTo>
                  <a:pt x="98440" y="20200"/>
                </a:lnTo>
                <a:lnTo>
                  <a:pt x="98440" y="1400"/>
                </a:lnTo>
                <a:close/>
              </a:path>
              <a:path fill="darkenLess" w="99840" h="21600">
                <a:moveTo>
                  <a:pt x="99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440" y="20200"/>
                </a:lnTo>
                <a:close/>
              </a:path>
              <a:path fill="lighten" w="99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6156360" y="6453360"/>
            <a:ext cx="2952720" cy="404640"/>
          </a:xfrm>
          <a:custGeom>
            <a:avLst/>
            <a:gdLst>
              <a:gd name="textAreaLeft" fmla="*/ 25920 w 2952720"/>
              <a:gd name="textAreaRight" fmla="*/ 2926800 w 2952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57498" h="21600">
                <a:moveTo>
                  <a:pt x="0" y="0"/>
                </a:moveTo>
                <a:lnTo>
                  <a:pt x="157498" y="0"/>
                </a:lnTo>
                <a:lnTo>
                  <a:pt x="157498" y="21600"/>
                </a:lnTo>
                <a:lnTo>
                  <a:pt x="0" y="21600"/>
                </a:lnTo>
                <a:close/>
              </a:path>
              <a:path fill="lightenLess" w="157498" h="21600">
                <a:moveTo>
                  <a:pt x="0" y="0"/>
                </a:moveTo>
                <a:lnTo>
                  <a:pt x="157498" y="0"/>
                </a:lnTo>
                <a:lnTo>
                  <a:pt x="156098" y="1400"/>
                </a:lnTo>
                <a:lnTo>
                  <a:pt x="1400" y="1400"/>
                </a:lnTo>
                <a:close/>
              </a:path>
              <a:path fill="darken" w="157498" h="21600">
                <a:moveTo>
                  <a:pt x="157498" y="0"/>
                </a:moveTo>
                <a:lnTo>
                  <a:pt x="157498" y="21600"/>
                </a:lnTo>
                <a:lnTo>
                  <a:pt x="156098" y="20200"/>
                </a:lnTo>
                <a:lnTo>
                  <a:pt x="156098" y="1400"/>
                </a:lnTo>
                <a:close/>
              </a:path>
              <a:path fill="darkenLess" w="157498" h="21600">
                <a:moveTo>
                  <a:pt x="15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098" y="20200"/>
                </a:lnTo>
                <a:close/>
              </a:path>
              <a:path fill="lighten" w="15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7:47:36Z</dcterms:created>
  <dc:creator>FuckYouBill</dc:creator>
  <dc:description/>
  <dc:language>en-US</dc:language>
  <cp:lastModifiedBy>LEGION</cp:lastModifiedBy>
  <dcterms:modified xsi:type="dcterms:W3CDTF">2015-03-30T08:56:21Z</dcterms:modified>
  <cp:revision>32</cp:revision>
  <dc:subject/>
  <dc:title>Слайд 1</dc:title>
</cp:coreProperties>
</file>