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8FE1-6581-4699-810C-6343AED6A1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роки труда -  нужны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важ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9D27-ED80-4FA5-882F-80E380E12CF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териалы в интерн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domovodstvo.fatal.ru/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lanetadisser.com/see/dis_159388.html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t-n.ru/communities.aspx?cat_no=4262&amp;tmpl=com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4B57-7F0F-4E8A-8255-23F53335447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Уроки трудового обучения в школах просто необходимы – без них не состоится творческая лич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На уроках можно и нужно давать ученикам проявлять себ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Качественные уроки трудового обучения – залог того, что во взрослой жизни ученик займёт достой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7541-8072-416D-8102-68A2211499E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бы ещё хотелось сдел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Более конкретно общаться с коллегами путём создания форума именно учителей техн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Заняться более серьёзно самообразованием – чтобы иметь возможность показать всем достижения своих уче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И ещё я хочу, чтобы урокам труда уделялось достаточно большое внимание – ведь и от них зависит, каким человек вырастет, что он приобретёт и как воспитает последующие поколен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7723-0EC8-4BE2-AFE4-42F727D1E40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Учитель трудового обучения МОУ «Бокситогорская гимназ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Ольга Сергеевна Святогор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A7A3-88F9-4FEC-BB62-F3049BDDB72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необходимость предмета трудового обучения  в школе и красоту вещей, которые можно и нужно делать сам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BA0F-D7D4-4CE3-BB5D-91300AE34D5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сообразност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На мой взгляд, в некоторых современных школах в силу ряда причин идёт сокращение уроков трудового обучения. Это не совсем верно, ведь именно на уроках труда каждая девочка учится быть отличной хозяйкой, а каждый мальчик – отличным хозяин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05D2-ADEB-4E00-A3C8-954242472C4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Ярким примером тому служат работы, которые являются украшением любых выставо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AC83-D70B-4CF4-A698-41D1EC42F28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боты, выполненные моими учен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527C-FC05-45C0-B5A2-036F87D463F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и ученицы со своими рабо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A4FA-9322-470B-A3B6-5403EDB7D96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роки труда – это не только приобретение практических умений,  это – отличное знание и теоретической части… А всё вместе взятое позволяет моим ученицам добиваться побед на районных олимпиадах по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C86C-77A3-49F0-958B-6C6CD6045CE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дители олимпиа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Евгения Егорова, 11 кл. (2007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обедители районных выстав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Мария Клюквина, 11 кл. (2007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Мария Калиничева, 11 кл. (2008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Юлия  Нагорных, 11 кл. (2008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Дарья Елецкая, 5 кл. (2008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3A6D-FA24-4087-9B81-FF72757888F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473-2DDC-4B1E-A8EC-202C4E11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F90D-73E9-4CFD-B603-F0E263F3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4C5-25EF-40ED-97B1-432A7965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4765-B002-4788-9C91-40A9A099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90EA-0738-44F5-8AA2-FB232B50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854F-AED1-4F60-9B53-BE337494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0F1E-BA84-427B-BDF9-B1A7A18B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BB53-3ECE-4FD7-971C-538F1DAC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BD3B-69BB-43AE-BED6-A4EE8A7E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CA57-ED9B-494C-92D4-0839AF6E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9C13-ECB5-4487-99EB-095DBF6A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8FA-6536-4EDA-AD3C-4E041428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A3DB-E8C2-41E8-96FA-82FBBF0C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0047-05CF-464F-A590-D2E5B225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D038-EB38-4B84-84E6-52639A68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0A60-D9C6-4115-B796-EA76336A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B0BA-0568-473A-BD75-E25C97CA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B6E9-17CC-424E-BC01-87CFAAF3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9DE-6611-4278-A6A5-A802EE59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A2F-2D12-4E10-B6A5-C507BECE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519-132B-4113-8127-309DF799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4AE-281D-443F-9284-0717AD62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08F8-4F2A-4BCE-B8F6-202719CD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FF9-7C65-4228-9D69-D6A666A5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074E-8D8C-41B6-AD4C-D8D60A9A7D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E81B-B44E-49D7-B510-F89675209F39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13712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Уроки труда -  нужны </a:t>
            </a:r>
            <a:br>
              <a:rPr sz="4000"/>
            </a:b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и важны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Материалы в интернет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domovodstvo.fatal.ru/ 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planetadisser.com/see/dis_159388.html 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www.it-n.ru/communities.aspx?cat_no=4262&amp;tmpl=com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2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сновные вывод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Уроки трудового обучения в школах просто необходимы – без них не состоится творческая личность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На уроках можно и нужно давать ученикам проявлять себя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Качественные уроки трудового обучения – залог того, что во взрослой жизни ученик займёт достойное мест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82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то бы ещё хотелось сделать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Более конкретно общаться с коллегами путём создания форума именно учителей технологи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Заняться более серьёзно самообразованием – чтобы иметь возможность показать всем достижения своих учеников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И ещё я хочу, чтобы урокам труда уделялось достаточно большое внимание – ведь и от них зависит, каким человек вырастет, что он приобретёт и как воспитает последующие поколения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58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742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втор рабо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3200040"/>
            <a:ext cx="7386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Учитель трудового обучения МОУ «Бокситогорская гимнази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Ольга Сергеевна Святогорск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8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 работ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казать необходимость предмета трудового обучения  в школе и красоту вещей, которые можно и нужно делать сами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есообразность работ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ff33"/>
                </a:solidFill>
                <a:latin typeface="Arial"/>
              </a:rPr>
              <a:t>На мой взгляд, в некоторых современных школах в силу ряда причин идёт сокращение уроков трудового обучения. Это не совсем верно, ведь именно на уроках труда каждая девочка учится быть отличной хозяйкой, а каждый мальчик – отличным хозяином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Ярким примером тому служат работы, которые являются украшением любых выставок…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Picture 5" descr="IMG_0020"/>
          <p:cNvPicPr/>
          <p:nvPr/>
        </p:nvPicPr>
        <p:blipFill>
          <a:blip r:embed="rId1"/>
          <a:stretch/>
        </p:blipFill>
        <p:spPr>
          <a:xfrm>
            <a:off x="304920" y="1752480"/>
            <a:ext cx="4800600" cy="36007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3" name="Picture 6" descr="IMG_0021"/>
          <p:cNvPicPr/>
          <p:nvPr/>
        </p:nvPicPr>
        <p:blipFill>
          <a:blip r:embed="rId2"/>
          <a:stretch/>
        </p:blipFill>
        <p:spPr>
          <a:xfrm>
            <a:off x="533520" y="2057400"/>
            <a:ext cx="4647960" cy="35053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4" name="Picture 7" descr="IMG_0022"/>
          <p:cNvPicPr/>
          <p:nvPr/>
        </p:nvPicPr>
        <p:blipFill>
          <a:blip r:embed="rId3"/>
          <a:stretch/>
        </p:blipFill>
        <p:spPr>
          <a:xfrm>
            <a:off x="762120" y="2286000"/>
            <a:ext cx="4906800" cy="36813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5" name="Picture 8" descr="IMG_0023"/>
          <p:cNvPicPr/>
          <p:nvPr/>
        </p:nvPicPr>
        <p:blipFill>
          <a:blip r:embed="rId4"/>
          <a:stretch/>
        </p:blipFill>
        <p:spPr>
          <a:xfrm>
            <a:off x="1219320" y="2590920"/>
            <a:ext cx="5211720" cy="39081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6" name="Picture 9" descr="IMG_0024"/>
          <p:cNvPicPr/>
          <p:nvPr/>
        </p:nvPicPr>
        <p:blipFill>
          <a:blip r:embed="rId5"/>
          <a:stretch/>
        </p:blipFill>
        <p:spPr>
          <a:xfrm>
            <a:off x="2438280" y="2514600"/>
            <a:ext cx="5029200" cy="37720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7" name="Picture 10" descr="IMG_0025"/>
          <p:cNvPicPr/>
          <p:nvPr/>
        </p:nvPicPr>
        <p:blipFill>
          <a:blip r:embed="rId6"/>
          <a:stretch/>
        </p:blipFill>
        <p:spPr>
          <a:xfrm>
            <a:off x="1676520" y="1981080"/>
            <a:ext cx="5410080" cy="40579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8" name="Picture 11" descr="IMG_0026"/>
          <p:cNvPicPr/>
          <p:nvPr/>
        </p:nvPicPr>
        <p:blipFill>
          <a:blip r:embed="rId7"/>
          <a:stretch/>
        </p:blipFill>
        <p:spPr>
          <a:xfrm>
            <a:off x="2209680" y="1752480"/>
            <a:ext cx="5334120" cy="40021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7d47d"/>
                </a:solidFill>
                <a:latin typeface="Arial"/>
              </a:rPr>
              <a:t>Работы, выполненные моими ученица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Picture 4" descr="IMG_0017"/>
          <p:cNvPicPr/>
          <p:nvPr/>
        </p:nvPicPr>
        <p:blipFill>
          <a:blip r:embed="rId1"/>
          <a:stretch/>
        </p:blipFill>
        <p:spPr>
          <a:xfrm>
            <a:off x="380880" y="1447920"/>
            <a:ext cx="3430800" cy="457200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3" name="Picture 5" descr="IMG_0018"/>
          <p:cNvPicPr/>
          <p:nvPr/>
        </p:nvPicPr>
        <p:blipFill>
          <a:blip r:embed="rId2"/>
          <a:stretch/>
        </p:blipFill>
        <p:spPr>
          <a:xfrm>
            <a:off x="1523880" y="1676520"/>
            <a:ext cx="3487680" cy="46479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4" name="Picture 6" descr="IMG_0020"/>
          <p:cNvPicPr/>
          <p:nvPr/>
        </p:nvPicPr>
        <p:blipFill>
          <a:blip r:embed="rId3"/>
          <a:stretch/>
        </p:blipFill>
        <p:spPr>
          <a:xfrm>
            <a:off x="3733920" y="1219320"/>
            <a:ext cx="3738600" cy="49831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7d47d"/>
                </a:solidFill>
                <a:latin typeface="Arial"/>
              </a:rPr>
              <a:t>Мои ученицы со своими работа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4" descr="IMG_0035"/>
          <p:cNvPicPr/>
          <p:nvPr/>
        </p:nvPicPr>
        <p:blipFill>
          <a:blip r:embed="rId1"/>
          <a:stretch/>
        </p:blipFill>
        <p:spPr>
          <a:xfrm>
            <a:off x="380880" y="1447920"/>
            <a:ext cx="3622680" cy="48304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9" name="Picture 5" descr="IMG_0036"/>
          <p:cNvPicPr/>
          <p:nvPr/>
        </p:nvPicPr>
        <p:blipFill>
          <a:blip r:embed="rId2"/>
          <a:stretch/>
        </p:blipFill>
        <p:spPr>
          <a:xfrm>
            <a:off x="1143000" y="1981080"/>
            <a:ext cx="3544920" cy="472464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0" name="Picture 6" descr="IMG_0037"/>
          <p:cNvPicPr/>
          <p:nvPr/>
        </p:nvPicPr>
        <p:blipFill>
          <a:blip r:embed="rId3"/>
          <a:stretch/>
        </p:blipFill>
        <p:spPr>
          <a:xfrm>
            <a:off x="2895480" y="1752480"/>
            <a:ext cx="3544920" cy="472464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1" name="Picture 7" descr="IMG_0038"/>
          <p:cNvPicPr/>
          <p:nvPr/>
        </p:nvPicPr>
        <p:blipFill>
          <a:blip r:embed="rId4"/>
          <a:stretch/>
        </p:blipFill>
        <p:spPr>
          <a:xfrm>
            <a:off x="4191120" y="1447920"/>
            <a:ext cx="3510000" cy="467820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400880" cy="21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Уроки труда – это не только приобретение практических умений,  это – отличное знание и теоретической части… А всё вместе взятое позволяет моим ученицам добиваться побед на районных олимпиадах по технологии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9" descr="IMG_0031"/>
          <p:cNvPicPr/>
          <p:nvPr/>
        </p:nvPicPr>
        <p:blipFill>
          <a:blip r:embed="rId1"/>
          <a:stretch/>
        </p:blipFill>
        <p:spPr>
          <a:xfrm>
            <a:off x="228600" y="2438280"/>
            <a:ext cx="5213520" cy="39099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5" name="Picture 10" descr="IMG_0032"/>
          <p:cNvPicPr/>
          <p:nvPr/>
        </p:nvPicPr>
        <p:blipFill>
          <a:blip r:embed="rId2"/>
          <a:stretch/>
        </p:blipFill>
        <p:spPr>
          <a:xfrm>
            <a:off x="685800" y="2819520"/>
            <a:ext cx="4906800" cy="36795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6" name="Picture 11" descr="IMG_0029"/>
          <p:cNvPicPr/>
          <p:nvPr/>
        </p:nvPicPr>
        <p:blipFill>
          <a:blip r:embed="rId3"/>
          <a:stretch/>
        </p:blipFill>
        <p:spPr>
          <a:xfrm>
            <a:off x="1676520" y="3048120"/>
            <a:ext cx="4647960" cy="34858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бедители олимпиад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Евгения Егорова, 11 кл. (2007 год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7d47d"/>
                </a:solidFill>
                <a:uFillTx/>
                <a:latin typeface="Arial"/>
              </a:rPr>
              <a:t>Победители районных выставок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Мария Клюквина, 11 кл. (2007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Мария Калиничева, 11 кл. (2008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Юлия  Нагорных, 11 кл. (2008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Дарья Елецкая, 5 кл. (2008 год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84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7:37:1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