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C1C0-E062-4DB4-82C6-76CA05271D1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роки труда -  нужны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 важ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1D6D-249C-4CF0-86FD-7F2973B5CEC6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атериалы в интерне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domovodstvo.fatal.ru/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lanetadisser.com/see/dis_159388.html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it-n.ru/communities.aspx?cat_no=4262&amp;tmpl=com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F0EC-0D82-4D2B-9F14-9A7BA00137D5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ыв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Уроки трудового обучения в школах просто необходимы – без них не состоится творческая лич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На уроках можно и нужно давать ученикам проявлять себ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Качественные уроки трудового обучения – залог того, что во взрослой жизни ученик займёт достойно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CF29-A342-434C-8C64-93220872EE7D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бы ещё хотелось сдел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ff33"/>
                </a:solidFill>
                <a:latin typeface="Calibri"/>
              </a:rPr>
              <a:t>Более конкретно общаться с коллегами путём создания форума именно учителей техноло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ff33"/>
                </a:solidFill>
                <a:latin typeface="Calibri"/>
              </a:rPr>
              <a:t>Заняться более серьёзно самообразованием – чтобы иметь возможность показать всем достижения своих учен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ff33"/>
                </a:solidFill>
                <a:latin typeface="Calibri"/>
              </a:rPr>
              <a:t>И ещё я хочу, чтобы урокам труда уделялось достаточно большое внимание – ведь и от них зависит, каким человек вырастет, что он приобретёт и как воспитает последующие поколени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036E-DC2C-468F-9E2E-FEEC1F9CA6DA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Учитель трудового обучения МОУ «Бокситогорская гимназ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Ольга Сергеевна Святогор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BEDC-0009-494A-90A6-902D0957FB9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 необходимость предмета трудового обучения  в школе и красоту вещей, которые можно и нужно делать сам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DC33-671B-4EEE-9628-F34C9F4E90C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сообразность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ff33"/>
                </a:solidFill>
                <a:latin typeface="Calibri"/>
              </a:rPr>
              <a:t>На мой взгляд, в некоторых современных школах в силу ряда причин идёт сокращение уроков трудового обучения. Это не совсем верно, ведь именно на уроках труда каждая девочка учится быть отличной хозяйкой, а каждый мальчик – отличным хозяино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65B1-538F-42B4-BEB5-3FD100F21FAF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Ярким примером тому служат работы, которые являются украшением любых выставок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B123-A0CC-4D4D-9BFE-D909AC7EC75D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боты, выполненные моими учени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41CB-90BD-479C-A1FC-BE6BFA8F2DCB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и ученицы со своими рабо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DD56-6FA2-469B-A739-63FF35B9064A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роки труда – это не только приобретение практических умений,  это – отличное знание и теоретической части… А всё вместе взятое позволяет моим ученицам добиваться побед на районных олимпиадах по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5146-2930-4E3D-9098-2840DEE415C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бедители олимпиа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Евгения Егорова, 11 кл. (2007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Победители районных выставо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Мария Клюквина, 11 кл. (2007 год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Мария Калиничева, 11 кл. (2008 год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Юлия  Нагорных, 11 кл. (2008 год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33"/>
                </a:solidFill>
                <a:latin typeface="Calibri"/>
              </a:rPr>
              <a:t>Дарья Елецкая, 5 кл. (2008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6F6C-876C-4C0C-9FA2-CD23D3F4E744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694A-4210-4FED-B40E-99E11053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8546-91B6-4738-8007-68A3A4AD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541A-EF9A-41F4-9204-440A0709C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5D23-C366-4165-B4E0-25E8627C5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DF53-4651-4FAB-A1ED-A277F14F9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3724-8528-4B9C-A522-37FA173E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D117-0DDF-4DBE-8635-8FC02145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5157-624F-410B-9C87-3CE03A00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DCF9-4154-4674-8651-C2107C89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60C0-74E3-4C85-8404-B952C6E4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D1A5-1897-4B1A-B770-E6BD6139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5DB5-2090-4395-833C-FD5D44F0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A6FC-305F-4B6C-BCA3-8106AF9D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82DD-B616-4A0B-B74C-A1EDADC8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1117-0BBF-4B2D-9AC4-7150B173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3088-7955-4C13-8758-767C8B89A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4E18-EDAF-4123-A643-11C9A3254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D537-D788-47A0-96AD-C38981F4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EE61-883D-4C37-B78C-5BAE50F3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A2FE-54B3-46BC-968A-E1CDE009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96FF-745A-4C83-AED1-99573867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9169-7F5F-4627-91AB-B772A8F6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647D-C02C-4F74-BABA-09DF3E37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F1CB-8E00-44BE-8F5F-DB25F845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ACC2-DAB3-4B26-B5C2-960C46A2377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74DC-AC5D-46DE-81DB-D0500E00073F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240" y="13712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7d47d"/>
                </a:solidFill>
                <a:latin typeface="Arial"/>
              </a:rPr>
              <a:t>Уроки труда -  нужны </a:t>
            </a:r>
            <a:br>
              <a:rPr sz="4000"/>
            </a:br>
            <a:r>
              <a:rPr b="1" i="1" lang="ru-RU" sz="4000" spc="-1" strike="noStrike">
                <a:solidFill>
                  <a:srgbClr val="f7d47d"/>
                </a:solidFill>
                <a:latin typeface="Arial"/>
              </a:rPr>
              <a:t>и важны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7d47d"/>
                </a:solidFill>
                <a:latin typeface="Arial"/>
              </a:rPr>
              <a:t>Материалы в интернет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http://domovodstvo.fatal.ru/ 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http://planetadisser.com/see/dis_159388.html 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http://www.it-n.ru/communities.aspx?cat_no=4262&amp;tmpl=com 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3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23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24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сновные вывод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Уроки трудового обучения в школах просто необходимы – без них не состоится творческая личность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На уроках можно и нужно давать ученикам проявлять себя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Качественные уроки трудового обучения – залог того, что во взрослой жизни ученик займёт достойное место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3820"/>
                            </p:stCondLst>
                            <p:childTnLst>
                              <p:par>
                                <p:cTn id="2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740"/>
                            </p:stCondLst>
                            <p:childTnLst>
                              <p:par>
                                <p:cTn id="2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Что бы ещё хотелось сделать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ff33"/>
                </a:solidFill>
                <a:latin typeface="Arial"/>
              </a:rPr>
              <a:t>Более конкретно общаться с коллегами путём создания форума именно учителей технологии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ff33"/>
                </a:solidFill>
                <a:latin typeface="Arial"/>
              </a:rPr>
              <a:t>Заняться более серьёзно самообразованием – чтобы иметь возможность показать всем достижения своих учеников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ff33"/>
                </a:solidFill>
                <a:latin typeface="Arial"/>
              </a:rPr>
              <a:t>И ещё я хочу, чтобы урокам труда уделялось достаточно большое внимание – ведь и от них зависит, каким человек вырастет, что он приобретёт и как воспитает последующие поколения…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580"/>
                            </p:stCondLst>
                            <p:childTnLst>
                              <p:par>
                                <p:cTn id="2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7420"/>
                            </p:stCondLst>
                            <p:childTnLst>
                              <p:par>
                                <p:cTn id="2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14475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Автор работ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3200040"/>
            <a:ext cx="7386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Учитель трудового обучения МОУ «Бокситогорская гимназия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Ольга Сергеевна Святогорска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80"/>
                            </p:stCondLst>
                            <p:childTnLst>
                              <p:par>
                                <p:cTn id="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Цель работ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казать необходимость предмета трудового обучения  в школе и красоту вещей, которые можно и нужно делать самим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Целесообразность работ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ff33"/>
                </a:solidFill>
                <a:latin typeface="Arial"/>
              </a:rPr>
              <a:t>На мой взгляд, в некоторых современных школах в силу ряда причин идёт сокращение уроков трудового обучения. Это не совсем верно, ведь именно на уроках труда каждая девочка учится быть отличной хозяйкой, а каждый мальчик – отличным хозяином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7d47d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7d47d"/>
                </a:solidFill>
                <a:latin typeface="Arial"/>
              </a:rPr>
              <a:t>Ярким примером тому служат работы, которые являются украшением любых выставок…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2" name="Picture 5" descr="IMG_0020"/>
          <p:cNvPicPr/>
          <p:nvPr/>
        </p:nvPicPr>
        <p:blipFill>
          <a:blip r:embed="rId1"/>
          <a:stretch/>
        </p:blipFill>
        <p:spPr>
          <a:xfrm>
            <a:off x="304920" y="1752480"/>
            <a:ext cx="4800600" cy="360072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13" name="Picture 6" descr="IMG_0021"/>
          <p:cNvPicPr/>
          <p:nvPr/>
        </p:nvPicPr>
        <p:blipFill>
          <a:blip r:embed="rId2"/>
          <a:stretch/>
        </p:blipFill>
        <p:spPr>
          <a:xfrm>
            <a:off x="533520" y="2057400"/>
            <a:ext cx="4647960" cy="350532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14" name="Picture 7" descr="IMG_0022"/>
          <p:cNvPicPr/>
          <p:nvPr/>
        </p:nvPicPr>
        <p:blipFill>
          <a:blip r:embed="rId3"/>
          <a:stretch/>
        </p:blipFill>
        <p:spPr>
          <a:xfrm>
            <a:off x="762120" y="2286000"/>
            <a:ext cx="4906800" cy="368136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15" name="Picture 8" descr="IMG_0023"/>
          <p:cNvPicPr/>
          <p:nvPr/>
        </p:nvPicPr>
        <p:blipFill>
          <a:blip r:embed="rId4"/>
          <a:stretch/>
        </p:blipFill>
        <p:spPr>
          <a:xfrm>
            <a:off x="1219320" y="2590920"/>
            <a:ext cx="5211720" cy="390816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16" name="Picture 9" descr="IMG_0024"/>
          <p:cNvPicPr/>
          <p:nvPr/>
        </p:nvPicPr>
        <p:blipFill>
          <a:blip r:embed="rId5"/>
          <a:stretch/>
        </p:blipFill>
        <p:spPr>
          <a:xfrm>
            <a:off x="2438280" y="2514600"/>
            <a:ext cx="5029200" cy="377208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17" name="Picture 10" descr="IMG_0025"/>
          <p:cNvPicPr/>
          <p:nvPr/>
        </p:nvPicPr>
        <p:blipFill>
          <a:blip r:embed="rId6"/>
          <a:stretch/>
        </p:blipFill>
        <p:spPr>
          <a:xfrm>
            <a:off x="1676520" y="1981080"/>
            <a:ext cx="5410080" cy="405792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18" name="Picture 11" descr="IMG_0026"/>
          <p:cNvPicPr/>
          <p:nvPr/>
        </p:nvPicPr>
        <p:blipFill>
          <a:blip r:embed="rId7"/>
          <a:stretch/>
        </p:blipFill>
        <p:spPr>
          <a:xfrm>
            <a:off x="2209680" y="1752480"/>
            <a:ext cx="5334120" cy="400212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7d47d"/>
                </a:solidFill>
                <a:latin typeface="Arial"/>
              </a:rPr>
              <a:t>Работы, выполненные моими ученицам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2" name="Picture 4" descr="IMG_0017"/>
          <p:cNvPicPr/>
          <p:nvPr/>
        </p:nvPicPr>
        <p:blipFill>
          <a:blip r:embed="rId1"/>
          <a:stretch/>
        </p:blipFill>
        <p:spPr>
          <a:xfrm>
            <a:off x="380880" y="1447920"/>
            <a:ext cx="3430800" cy="457200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23" name="Picture 5" descr="IMG_0018"/>
          <p:cNvPicPr/>
          <p:nvPr/>
        </p:nvPicPr>
        <p:blipFill>
          <a:blip r:embed="rId2"/>
          <a:stretch/>
        </p:blipFill>
        <p:spPr>
          <a:xfrm>
            <a:off x="1523880" y="1676520"/>
            <a:ext cx="3487680" cy="464796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24" name="Picture 6" descr="IMG_0020"/>
          <p:cNvPicPr/>
          <p:nvPr/>
        </p:nvPicPr>
        <p:blipFill>
          <a:blip r:embed="rId3"/>
          <a:stretch/>
        </p:blipFill>
        <p:spPr>
          <a:xfrm>
            <a:off x="3733920" y="1219320"/>
            <a:ext cx="3738600" cy="498312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7d47d"/>
                </a:solidFill>
                <a:latin typeface="Arial"/>
              </a:rPr>
              <a:t>Мои ученицы со своими работам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Picture 4" descr="IMG_0035"/>
          <p:cNvPicPr/>
          <p:nvPr/>
        </p:nvPicPr>
        <p:blipFill>
          <a:blip r:embed="rId1"/>
          <a:stretch/>
        </p:blipFill>
        <p:spPr>
          <a:xfrm>
            <a:off x="380880" y="1447920"/>
            <a:ext cx="3622680" cy="483048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29" name="Picture 5" descr="IMG_0036"/>
          <p:cNvPicPr/>
          <p:nvPr/>
        </p:nvPicPr>
        <p:blipFill>
          <a:blip r:embed="rId2"/>
          <a:stretch/>
        </p:blipFill>
        <p:spPr>
          <a:xfrm>
            <a:off x="1143000" y="1981080"/>
            <a:ext cx="3544920" cy="472464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30" name="Picture 6" descr="IMG_0037"/>
          <p:cNvPicPr/>
          <p:nvPr/>
        </p:nvPicPr>
        <p:blipFill>
          <a:blip r:embed="rId3"/>
          <a:stretch/>
        </p:blipFill>
        <p:spPr>
          <a:xfrm>
            <a:off x="2895480" y="1752480"/>
            <a:ext cx="3544920" cy="472464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31" name="Picture 7" descr="IMG_0038"/>
          <p:cNvPicPr/>
          <p:nvPr/>
        </p:nvPicPr>
        <p:blipFill>
          <a:blip r:embed="rId4"/>
          <a:stretch/>
        </p:blipFill>
        <p:spPr>
          <a:xfrm>
            <a:off x="4191120" y="1447920"/>
            <a:ext cx="3510000" cy="467820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8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080"/>
                            </p:stCondLst>
                            <p:childTnLst>
                              <p:par>
                                <p:cTn id="1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80"/>
                            </p:stCondLst>
                            <p:childTnLst>
                              <p:par>
                                <p:cTn id="1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7080"/>
                            </p:stCondLst>
                            <p:childTnLst>
                              <p:par>
                                <p:cTn id="1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7400880" cy="21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7d47d"/>
                </a:solidFill>
                <a:latin typeface="Arial"/>
              </a:rPr>
              <a:t>Уроки труда – это не только приобретение практических умений,  это – отличное знание и теоретической части… А всё вместе взятое позволяет моим ученицам добиваться побед на районных олимпиадах по технологии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4" name="Picture 9" descr="IMG_0031"/>
          <p:cNvPicPr/>
          <p:nvPr/>
        </p:nvPicPr>
        <p:blipFill>
          <a:blip r:embed="rId1"/>
          <a:stretch/>
        </p:blipFill>
        <p:spPr>
          <a:xfrm>
            <a:off x="228600" y="2438280"/>
            <a:ext cx="5213520" cy="390996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35" name="Picture 10" descr="IMG_0032"/>
          <p:cNvPicPr/>
          <p:nvPr/>
        </p:nvPicPr>
        <p:blipFill>
          <a:blip r:embed="rId2"/>
          <a:stretch/>
        </p:blipFill>
        <p:spPr>
          <a:xfrm>
            <a:off x="685800" y="2819520"/>
            <a:ext cx="4906800" cy="367956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pic>
        <p:nvPicPr>
          <p:cNvPr id="236" name="Picture 11" descr="IMG_0029"/>
          <p:cNvPicPr/>
          <p:nvPr/>
        </p:nvPicPr>
        <p:blipFill>
          <a:blip r:embed="rId3"/>
          <a:stretch/>
        </p:blipFill>
        <p:spPr>
          <a:xfrm>
            <a:off x="1676520" y="3048120"/>
            <a:ext cx="4647960" cy="3485880"/>
          </a:xfrm>
          <a:prstGeom prst="rect">
            <a:avLst/>
          </a:prstGeom>
          <a:ln w="9360">
            <a:solidFill>
              <a:srgbClr val="f7d47d"/>
            </a:solidFill>
            <a:miter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обедители олимпиад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Евгения Егорова, 11 кл. (2007 год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7d47d"/>
                </a:solidFill>
                <a:uFillTx/>
                <a:latin typeface="Arial"/>
              </a:rPr>
              <a:t>Победители районных выставок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Мария Клюквина, 11 кл. (2007 год)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Мария Калиничева, 11 кл. (2008 год)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Юлия  Нагорных, 11 кл. (2008 год)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Arial"/>
              </a:rPr>
              <a:t>Дарья Елецкая, 5 кл. (2008 год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84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1T07:37:1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