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4999-0880-4AD2-85E4-FE9744AC45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оки труда -  нужны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ва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45A5-4C05-4243-B519-FDC7A4948B5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териалы в интер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omovodstvo.fatal.ru/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lanetadisser.com/see/dis_159388.html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t-n.ru/communities.aspx?cat_no=4262&amp;tmpl=com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961E-0D8C-4DFD-A5BB-5F5328FE943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На уроках можно и нужно давать ученикам проявлять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3C85-BFCC-447F-8EF1-0C0119DE044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ы ещё хотелось сдел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5BB0-05C6-4C80-B7BA-E4BCB40FEAD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читель трудового обучения МОУ «Бокситогорская гимназ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Ольга Сергеевна Святого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E28B-7DDD-49A3-813F-8E0C6C30C33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54D1-B64D-4380-B36F-78DE047A847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сообразност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0088-27EF-423D-B376-58CC477E492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рким примером тому служат работы, которые являются украшением любых выстав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D197-835C-44C1-B7BF-899B9D1D4DB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боты, выполненные моими уче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1BC-F0D9-4BFC-B226-D7951337331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и ученицы со своими раб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243A-807B-4A9C-A7E3-C701E8B27E6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C6BF-AA2A-40DA-895C-9000EC6FBC4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ители олимпиа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Евгения Егорова, 11 кл. (2007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обедители районных выста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люквина, 11 кл. (2007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алиничева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Юлия  Нагорных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Дарья Елецкая, 5 кл. (200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253C-C0B0-4106-B2C2-F78B610E003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DAF-1827-40FB-B5B3-5E073259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82E-B337-4AA5-ACD2-68AEC308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BD1-0B23-465D-AAC0-9605938B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4A6-CEEF-4D0E-91E0-7A154DE1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8BC8-9495-4C2E-91C2-8811BFC1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5B0D-80AC-4028-A503-1AC22702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3A91-2F22-45EF-9D79-E7CD5678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B32F-4823-478B-AE14-F01E8140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7197-28DE-4200-A1BA-5CD7E196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B9CE-87F9-4BB2-BC86-95898001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87A2-64B7-41BE-B7BE-70E1D7E7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C65-74B2-40F6-801C-9770C55B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D7E1-D925-49BE-8AF2-D3479B6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7500-2558-4114-A3F5-2A5E831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EFE9-93F7-4F02-B56F-8FDCE867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5FB4-237B-45D7-8580-2260BC1F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8B90-C48C-441C-92BD-C0AF2E79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46F-788D-4536-B276-DD75EDF6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6F8-391C-4748-95D9-4F8584A3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469-5335-430F-A91B-F19785E4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B39-6902-4FDB-BE83-9E556542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B60-51FA-4FA1-B766-6069B903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220-668E-4B77-96DC-7B3DE0D6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099-9863-4D05-9D71-5A57CB63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36B9-3DDF-4B1E-996C-3E81492DE6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F605-BA42-4F17-93B6-243AE30F4A8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Уроки труда -  нужны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и важн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Материалы в интерне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domovodstvo.fatal.ru/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planetadisser.com/see/dis_159388.html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www.it-n.ru/communities.aspx?cat_no=4262&amp;tmpl=co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На уроках можно и нужно давать ученикам проявлять себ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бы ещё хотелось сделать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200040"/>
            <a:ext cx="7386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читель трудового обучения МОУ «Бокситогорская гимнази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Ольга Сергеевна Святогор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есообразност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33"/>
                </a:solidFill>
                <a:latin typeface="Arial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Ярким примером тому служат работы, которые являются украшением любых выставок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5" descr="IMG_0020"/>
          <p:cNvPicPr/>
          <p:nvPr/>
        </p:nvPicPr>
        <p:blipFill>
          <a:blip r:embed="rId1"/>
          <a:stretch/>
        </p:blipFill>
        <p:spPr>
          <a:xfrm>
            <a:off x="304920" y="1752480"/>
            <a:ext cx="4800600" cy="36007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3" name="Picture 6" descr="IMG_0021"/>
          <p:cNvPicPr/>
          <p:nvPr/>
        </p:nvPicPr>
        <p:blipFill>
          <a:blip r:embed="rId2"/>
          <a:stretch/>
        </p:blipFill>
        <p:spPr>
          <a:xfrm>
            <a:off x="533520" y="2057400"/>
            <a:ext cx="4647960" cy="35053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4" name="Picture 7" descr="IMG_0022"/>
          <p:cNvPicPr/>
          <p:nvPr/>
        </p:nvPicPr>
        <p:blipFill>
          <a:blip r:embed="rId3"/>
          <a:stretch/>
        </p:blipFill>
        <p:spPr>
          <a:xfrm>
            <a:off x="762120" y="2286000"/>
            <a:ext cx="4906800" cy="36813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5" name="Picture 8" descr="IMG_0023"/>
          <p:cNvPicPr/>
          <p:nvPr/>
        </p:nvPicPr>
        <p:blipFill>
          <a:blip r:embed="rId4"/>
          <a:stretch/>
        </p:blipFill>
        <p:spPr>
          <a:xfrm>
            <a:off x="1219320" y="2590920"/>
            <a:ext cx="5211720" cy="39081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6" name="Picture 9" descr="IMG_0024"/>
          <p:cNvPicPr/>
          <p:nvPr/>
        </p:nvPicPr>
        <p:blipFill>
          <a:blip r:embed="rId5"/>
          <a:stretch/>
        </p:blipFill>
        <p:spPr>
          <a:xfrm>
            <a:off x="2438280" y="2514600"/>
            <a:ext cx="5029200" cy="37720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7" name="Picture 10" descr="IMG_0025"/>
          <p:cNvPicPr/>
          <p:nvPr/>
        </p:nvPicPr>
        <p:blipFill>
          <a:blip r:embed="rId6"/>
          <a:stretch/>
        </p:blipFill>
        <p:spPr>
          <a:xfrm>
            <a:off x="1676520" y="1981080"/>
            <a:ext cx="5410080" cy="40579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8" name="Picture 11" descr="IMG_0026"/>
          <p:cNvPicPr/>
          <p:nvPr/>
        </p:nvPicPr>
        <p:blipFill>
          <a:blip r:embed="rId7"/>
          <a:stretch/>
        </p:blipFill>
        <p:spPr>
          <a:xfrm>
            <a:off x="2209680" y="1752480"/>
            <a:ext cx="5334120" cy="4002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Работы, выполненные моими учениц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4" descr="IMG_0017"/>
          <p:cNvPicPr/>
          <p:nvPr/>
        </p:nvPicPr>
        <p:blipFill>
          <a:blip r:embed="rId1"/>
          <a:stretch/>
        </p:blipFill>
        <p:spPr>
          <a:xfrm>
            <a:off x="380880" y="1447920"/>
            <a:ext cx="3430800" cy="45720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3" name="Picture 5" descr="IMG_0018"/>
          <p:cNvPicPr/>
          <p:nvPr/>
        </p:nvPicPr>
        <p:blipFill>
          <a:blip r:embed="rId2"/>
          <a:stretch/>
        </p:blipFill>
        <p:spPr>
          <a:xfrm>
            <a:off x="1523880" y="1676520"/>
            <a:ext cx="3487680" cy="4647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4" name="Picture 6" descr="IMG_0020"/>
          <p:cNvPicPr/>
          <p:nvPr/>
        </p:nvPicPr>
        <p:blipFill>
          <a:blip r:embed="rId3"/>
          <a:stretch/>
        </p:blipFill>
        <p:spPr>
          <a:xfrm>
            <a:off x="3733920" y="1219320"/>
            <a:ext cx="3738600" cy="4983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Мои ученицы со своими работ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IMG_0035"/>
          <p:cNvPicPr/>
          <p:nvPr/>
        </p:nvPicPr>
        <p:blipFill>
          <a:blip r:embed="rId1"/>
          <a:stretch/>
        </p:blipFill>
        <p:spPr>
          <a:xfrm>
            <a:off x="380880" y="1447920"/>
            <a:ext cx="3622680" cy="48304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9" name="Picture 5" descr="IMG_0036"/>
          <p:cNvPicPr/>
          <p:nvPr/>
        </p:nvPicPr>
        <p:blipFill>
          <a:blip r:embed="rId2"/>
          <a:stretch/>
        </p:blipFill>
        <p:spPr>
          <a:xfrm>
            <a:off x="1143000" y="19810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0" name="Picture 6" descr="IMG_0037"/>
          <p:cNvPicPr/>
          <p:nvPr/>
        </p:nvPicPr>
        <p:blipFill>
          <a:blip r:embed="rId3"/>
          <a:stretch/>
        </p:blipFill>
        <p:spPr>
          <a:xfrm>
            <a:off x="2895480" y="17524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1" name="Picture 7" descr="IMG_0038"/>
          <p:cNvPicPr/>
          <p:nvPr/>
        </p:nvPicPr>
        <p:blipFill>
          <a:blip r:embed="rId4"/>
          <a:stretch/>
        </p:blipFill>
        <p:spPr>
          <a:xfrm>
            <a:off x="4191120" y="1447920"/>
            <a:ext cx="3510000" cy="46782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00880" cy="21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9" descr="IMG_0031"/>
          <p:cNvPicPr/>
          <p:nvPr/>
        </p:nvPicPr>
        <p:blipFill>
          <a:blip r:embed="rId1"/>
          <a:stretch/>
        </p:blipFill>
        <p:spPr>
          <a:xfrm>
            <a:off x="228600" y="2438280"/>
            <a:ext cx="5213520" cy="3909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5" name="Picture 10" descr="IMG_0032"/>
          <p:cNvPicPr/>
          <p:nvPr/>
        </p:nvPicPr>
        <p:blipFill>
          <a:blip r:embed="rId2"/>
          <a:stretch/>
        </p:blipFill>
        <p:spPr>
          <a:xfrm>
            <a:off x="685800" y="2819520"/>
            <a:ext cx="4906800" cy="36795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6" name="Picture 11" descr="IMG_0029"/>
          <p:cNvPicPr/>
          <p:nvPr/>
        </p:nvPicPr>
        <p:blipFill>
          <a:blip r:embed="rId3"/>
          <a:stretch/>
        </p:blipFill>
        <p:spPr>
          <a:xfrm>
            <a:off x="1676520" y="3048120"/>
            <a:ext cx="4647960" cy="34858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бедители олимпиад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Евгения Егорова, 11 кл. (2007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7d47d"/>
                </a:solidFill>
                <a:uFillTx/>
                <a:latin typeface="Arial"/>
              </a:rPr>
              <a:t>Победители районных выставок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люквина, 11 кл. (2007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алиничева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Юлия  Нагорных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Дарья Елецкая, 5 кл. (2008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37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