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FED1-9789-4F3E-9AC3-6C4CA919FB5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роки труда -  нужны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важ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3A29-D08C-4E1D-A7DE-300B677CA91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териалы в интерн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domovodstvo.fatal.ru/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lanetadisser.com/see/dis_159388.html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t-n.ru/communities.aspx?cat_no=4262&amp;tmpl=com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4ACE-29D0-4FD3-A89F-0B8E9BCAD25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Уроки трудового обучения в школах просто необходимы – без них не состоится творческая лич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На уроках можно и нужно давать ученикам проявлять себ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Качественные уроки трудового обучения – залог того, что во взрослой жизни ученик займёт достой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6339-9370-40CF-9746-42D589F7EAE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бы ещё хотелось сдел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Более конкретно общаться с коллегами путём создания форума именно учителей техн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Заняться более серьёзно самообразованием – чтобы иметь возможность показать всем достижения своих уче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И ещё я хочу, чтобы урокам труда уделялось достаточно большое внимание – ведь и от них зависит, каким человек вырастет, что он приобретёт и как воспитает последующие поколен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C8B1-BEF4-472D-8691-0848387CE0D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Учитель трудового обучения МОУ «Бокситогорская гимназ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Ольга Сергеевна Святогор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5C41-0259-4FA9-95F9-9A3AC0D14EA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необходимость предмета трудового обучения  в школе и красоту вещей, которые можно и нужно делать сам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4F0E-6EEA-43F7-9D7D-24DCF421847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сообразност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На мой взгляд, в некоторых современных школах в силу ряда причин идёт сокращение уроков трудового обучения. Это не совсем верно, ведь именно на уроках труда каждая девочка учится быть отличной хозяйкой, а каждый мальчик – отличным хозяин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CA15-62A9-4A1A-8F9D-12CFD90545E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Ярким примером тому служат работы, которые являются украшением любых выставо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BE4A-BEFB-42CA-A322-B6EACC948C3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боты, выполненные моими учен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B68B-BA0F-4937-AC71-3D48FC54A76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и ученицы со своими рабо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1261-9F39-4663-926A-0EEDFBE34DE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роки труда – это не только приобретение практических умений,  это – отличное знание и теоретической части… А всё вместе взятое позволяет моим ученицам добиваться побед на районных олимпиадах по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5988-4CC8-4E8D-97A8-288A1699877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дители олимпиа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Евгения Егорова, 11 кл. (2007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обедители районных выстав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Мария Клюквина, 11 кл. (2007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Мария Калиничева, 11 кл. (2008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Юлия  Нагорных, 11 кл. (2008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Дарья Елецкая, 5 кл. (2008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A441-6551-4CB7-9CEF-8A801154A4F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E34-8D3A-4955-8941-299D6A99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CCC-3A14-4997-93E4-2DA1AF94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01FD-E600-4F15-A60E-AE3C158C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3EB-74DD-4301-8BFD-9D1E8AD0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5704-DE0F-45A9-9987-0FC3825F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75C3-AB75-4AD5-8213-99FC9DE1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3945-3155-4AF7-AAE2-D7DC2503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D8C3-9ECA-4C90-AA88-10FEC714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5BFC-CD46-4A68-AD8E-B91AB2D2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375D-5165-4468-A735-5FC11D0C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8F59-9A81-4EE4-979C-FA8C0D5F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6C2-5A4B-4E1D-AB01-9BAB1409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EFC5-6892-4AA1-AB8E-5BC1DF06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2D5C-6DD9-4BF1-9AD4-31F3699C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0315-9C1B-4009-A696-1BB95921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F324-B33A-4719-8284-1E6A10D1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C87D-6B0F-42A3-A153-C7FB546F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46B-F7CE-44A9-A4B3-A31FD803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BBD-D34F-4487-902A-E457D0D6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FA8-F7B1-47D0-B4B3-BB68E4D1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62EB-9BC7-498B-8F59-BC44CBDD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D53-5BE2-4C7D-ACBB-0233B29D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E60C-90B2-47F3-A0EA-D4E7974C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CFCA-6892-4B11-A513-833DB606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9515-74A3-47C7-8791-386E363F44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9F33-4755-4264-9761-8666E9209982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13712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Уроки труда -  нужны </a:t>
            </a:r>
            <a:br>
              <a:rPr sz="4000"/>
            </a:b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и важны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Материалы в интернет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domovodstvo.fatal.ru/ 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planetadisser.com/see/dis_159388.html 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www.it-n.ru/communities.aspx?cat_no=4262&amp;tmpl=com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2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сновные вывод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Уроки трудового обучения в школах просто необходимы – без них не состоится творческая личность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На уроках можно и нужно давать ученикам проявлять себя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Качественные уроки трудового обучения – залог того, что во взрослой жизни ученик займёт достойное мест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82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то бы ещё хотелось сделать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Более конкретно общаться с коллегами путём создания форума именно учителей технологи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Заняться более серьёзно самообразованием – чтобы иметь возможность показать всем достижения своих учеников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И ещё я хочу, чтобы урокам труда уделялось достаточно большое внимание – ведь и от них зависит, каким человек вырастет, что он приобретёт и как воспитает последующие поколения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58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742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втор рабо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3200040"/>
            <a:ext cx="7386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Учитель трудового обучения МОУ «Бокситогорская гимнази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Ольга Сергеевна Святогорск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8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 работ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казать необходимость предмета трудового обучения  в школе и красоту вещей, которые можно и нужно делать сами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есообразность работ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ff33"/>
                </a:solidFill>
                <a:latin typeface="Arial"/>
              </a:rPr>
              <a:t>На мой взгляд, в некоторых современных школах в силу ряда причин идёт сокращение уроков трудового обучения. Это не совсем верно, ведь именно на уроках труда каждая девочка учится быть отличной хозяйкой, а каждый мальчик – отличным хозяином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Ярким примером тому служат работы, которые являются украшением любых выставок…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Picture 5" descr="IMG_0020"/>
          <p:cNvPicPr/>
          <p:nvPr/>
        </p:nvPicPr>
        <p:blipFill>
          <a:blip r:embed="rId1"/>
          <a:stretch/>
        </p:blipFill>
        <p:spPr>
          <a:xfrm>
            <a:off x="304920" y="1752480"/>
            <a:ext cx="4800600" cy="36007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3" name="Picture 6" descr="IMG_0021"/>
          <p:cNvPicPr/>
          <p:nvPr/>
        </p:nvPicPr>
        <p:blipFill>
          <a:blip r:embed="rId2"/>
          <a:stretch/>
        </p:blipFill>
        <p:spPr>
          <a:xfrm>
            <a:off x="533520" y="2057400"/>
            <a:ext cx="4647960" cy="35053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4" name="Picture 7" descr="IMG_0022"/>
          <p:cNvPicPr/>
          <p:nvPr/>
        </p:nvPicPr>
        <p:blipFill>
          <a:blip r:embed="rId3"/>
          <a:stretch/>
        </p:blipFill>
        <p:spPr>
          <a:xfrm>
            <a:off x="762120" y="2286000"/>
            <a:ext cx="4906800" cy="36813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5" name="Picture 8" descr="IMG_0023"/>
          <p:cNvPicPr/>
          <p:nvPr/>
        </p:nvPicPr>
        <p:blipFill>
          <a:blip r:embed="rId4"/>
          <a:stretch/>
        </p:blipFill>
        <p:spPr>
          <a:xfrm>
            <a:off x="1219320" y="2590920"/>
            <a:ext cx="5211720" cy="39081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6" name="Picture 9" descr="IMG_0024"/>
          <p:cNvPicPr/>
          <p:nvPr/>
        </p:nvPicPr>
        <p:blipFill>
          <a:blip r:embed="rId5"/>
          <a:stretch/>
        </p:blipFill>
        <p:spPr>
          <a:xfrm>
            <a:off x="2438280" y="2514600"/>
            <a:ext cx="5029200" cy="37720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7" name="Picture 10" descr="IMG_0025"/>
          <p:cNvPicPr/>
          <p:nvPr/>
        </p:nvPicPr>
        <p:blipFill>
          <a:blip r:embed="rId6"/>
          <a:stretch/>
        </p:blipFill>
        <p:spPr>
          <a:xfrm>
            <a:off x="1676520" y="1981080"/>
            <a:ext cx="5410080" cy="40579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8" name="Picture 11" descr="IMG_0026"/>
          <p:cNvPicPr/>
          <p:nvPr/>
        </p:nvPicPr>
        <p:blipFill>
          <a:blip r:embed="rId7"/>
          <a:stretch/>
        </p:blipFill>
        <p:spPr>
          <a:xfrm>
            <a:off x="2209680" y="1752480"/>
            <a:ext cx="5334120" cy="40021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7d47d"/>
                </a:solidFill>
                <a:latin typeface="Arial"/>
              </a:rPr>
              <a:t>Работы, выполненные моими ученица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Picture 4" descr="IMG_0017"/>
          <p:cNvPicPr/>
          <p:nvPr/>
        </p:nvPicPr>
        <p:blipFill>
          <a:blip r:embed="rId1"/>
          <a:stretch/>
        </p:blipFill>
        <p:spPr>
          <a:xfrm>
            <a:off x="380880" y="1447920"/>
            <a:ext cx="3430800" cy="457200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3" name="Picture 5" descr="IMG_0018"/>
          <p:cNvPicPr/>
          <p:nvPr/>
        </p:nvPicPr>
        <p:blipFill>
          <a:blip r:embed="rId2"/>
          <a:stretch/>
        </p:blipFill>
        <p:spPr>
          <a:xfrm>
            <a:off x="1523880" y="1676520"/>
            <a:ext cx="3487680" cy="46479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4" name="Picture 6" descr="IMG_0020"/>
          <p:cNvPicPr/>
          <p:nvPr/>
        </p:nvPicPr>
        <p:blipFill>
          <a:blip r:embed="rId3"/>
          <a:stretch/>
        </p:blipFill>
        <p:spPr>
          <a:xfrm>
            <a:off x="3733920" y="1219320"/>
            <a:ext cx="3738600" cy="49831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7d47d"/>
                </a:solidFill>
                <a:latin typeface="Arial"/>
              </a:rPr>
              <a:t>Мои ученицы со своими работа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4" descr="IMG_0035"/>
          <p:cNvPicPr/>
          <p:nvPr/>
        </p:nvPicPr>
        <p:blipFill>
          <a:blip r:embed="rId1"/>
          <a:stretch/>
        </p:blipFill>
        <p:spPr>
          <a:xfrm>
            <a:off x="380880" y="1447920"/>
            <a:ext cx="3622680" cy="48304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9" name="Picture 5" descr="IMG_0036"/>
          <p:cNvPicPr/>
          <p:nvPr/>
        </p:nvPicPr>
        <p:blipFill>
          <a:blip r:embed="rId2"/>
          <a:stretch/>
        </p:blipFill>
        <p:spPr>
          <a:xfrm>
            <a:off x="1143000" y="1981080"/>
            <a:ext cx="3544920" cy="472464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0" name="Picture 6" descr="IMG_0037"/>
          <p:cNvPicPr/>
          <p:nvPr/>
        </p:nvPicPr>
        <p:blipFill>
          <a:blip r:embed="rId3"/>
          <a:stretch/>
        </p:blipFill>
        <p:spPr>
          <a:xfrm>
            <a:off x="2895480" y="1752480"/>
            <a:ext cx="3544920" cy="472464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1" name="Picture 7" descr="IMG_0038"/>
          <p:cNvPicPr/>
          <p:nvPr/>
        </p:nvPicPr>
        <p:blipFill>
          <a:blip r:embed="rId4"/>
          <a:stretch/>
        </p:blipFill>
        <p:spPr>
          <a:xfrm>
            <a:off x="4191120" y="1447920"/>
            <a:ext cx="3510000" cy="467820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400880" cy="21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Уроки труда – это не только приобретение практических умений,  это – отличное знание и теоретической части… А всё вместе взятое позволяет моим ученицам добиваться побед на районных олимпиадах по технологии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9" descr="IMG_0031"/>
          <p:cNvPicPr/>
          <p:nvPr/>
        </p:nvPicPr>
        <p:blipFill>
          <a:blip r:embed="rId1"/>
          <a:stretch/>
        </p:blipFill>
        <p:spPr>
          <a:xfrm>
            <a:off x="228600" y="2438280"/>
            <a:ext cx="5213520" cy="39099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5" name="Picture 10" descr="IMG_0032"/>
          <p:cNvPicPr/>
          <p:nvPr/>
        </p:nvPicPr>
        <p:blipFill>
          <a:blip r:embed="rId2"/>
          <a:stretch/>
        </p:blipFill>
        <p:spPr>
          <a:xfrm>
            <a:off x="685800" y="2819520"/>
            <a:ext cx="4906800" cy="36795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6" name="Picture 11" descr="IMG_0029"/>
          <p:cNvPicPr/>
          <p:nvPr/>
        </p:nvPicPr>
        <p:blipFill>
          <a:blip r:embed="rId3"/>
          <a:stretch/>
        </p:blipFill>
        <p:spPr>
          <a:xfrm>
            <a:off x="1676520" y="3048120"/>
            <a:ext cx="4647960" cy="34858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бедители олимпиад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Евгения Егорова, 11 кл. (2007 год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7d47d"/>
                </a:solidFill>
                <a:uFillTx/>
                <a:latin typeface="Arial"/>
              </a:rPr>
              <a:t>Победители районных выставок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Мария Клюквина, 11 кл. (2007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Мария Калиничева, 11 кл. (2008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Юлия  Нагорных, 11 кл. (2008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Дарья Елецкая, 5 кл. (2008 год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84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7:37:1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