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image21.png" ContentType="image/png"/>
  <Override PartName="/ppt/media/image4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38D3D-DDDF-4AC8-8996-794327B75B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6F515-82E1-4482-B962-FE0D81F9A9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иды т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лективная работа учащихся 7 кла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34C62-E69D-4201-BA1B-A454DFC9DF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Изделия из бисквитного те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рож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рог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73089-DA61-44E6-A7DF-121F2D452E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лоеное тес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Соста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к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сло  (маргарин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йца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ь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а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F974E-1D04-4A5F-B4EA-8D412930E8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Способ пригото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ыхление теста достигается благодаря раскатыванию в очень тонкие слои, отделяемые друг от друга прослойками сливочного масла или маргар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ь и уксусную кислоту растворяют в во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бавляют яйца, му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мешивают упругое тесто, вливая оставшуюся во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авляют на 20 мину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сло перед закаткой в тесто размягчают, перемешивают с мукой, формируют в виде прямоугольника, охлаждают до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12-1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9C82E-8633-4015-BCC3-64AD5D84E2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пособ пригото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дрезают тесто ножом крестообразно (рис. 1), подсыпают муку и раскатывают тесто скалкой так, чтобы середина пласта была толще, чем края (рис. 2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центр пласта кладут заготовленную лепешку масла, перемешанного с мукой, накрывают ее длинными краями пласта (рис. 3) и защипывают края лепеш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енный «конверт» кладут на стол и начиная от середины, раскатывают тесто в прямоугольный пласт толщиной 10 м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ладывают в четверо, накрывают салфеткой и охлаждают в течение 20 м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лажденное тесто вновь раскатывают и складывают в четверо. Так делают не менее 5-6 раз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FBA80-5CF6-4C69-AA4C-042EF74F31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Изделия из слоеного те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рож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рог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50312-3F93-4AA7-BF78-A049909E62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сочное т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Соста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сло (маргари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й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ха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E97FE-F088-4BB5-91C9-93F2C5861C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1 Способ пригото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сло или маргарин размягчают, растирают с сахарной пудрой, добавляют яйца и перемешиваю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ассу вводят погашенную уксусом или лимонным соком со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ыпают просеянную муку и быстро замешиваю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лаждают в течении 1 ча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61CC8-26B7-473A-9C64-E2236AB3C9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2 Способ пригото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еянную муку высыпают горкой, сверху насыпают сахар, разрыхлитель, цедру лимона, ванил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уке делают углубление, вбивают яйцо, кладут кусочки мас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инным ножом рубят все продукты и быстро замешивают т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лаждают в течении 1 ча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BF673-344B-44C1-91F4-AB282FB049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Изделия из песочного те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чень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ртале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т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45350-205E-4825-AB46-325FAB6CFF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Виды те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ОЖЖЕВО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ЗДРОЖЖЕВО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ресно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сочно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бисквитно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слоено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DE74D-E42E-4AF5-A2E4-A16EC31480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Дрожжевое тес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Соста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ха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й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ожж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а или молок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сло сливочное или сливочный маргар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0B991-3A0F-42DF-857D-0BBECCF7D9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Изделия из дрожжевого те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ле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лоч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рож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роги и кулебя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и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ладь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труш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леты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4CE16-E5E3-49A7-87DB-89B824143D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Способ приготовления дрожжевого тес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товят его двумя способами — безопарным и опарным. Безопарным способом готовят тесто с малым количеством сдобы (масла, сахара, яиц). Опарный способ применяют при изготовлении более сдобных издел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768A9-414B-46F1-8DAF-BC98E8548C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Безопарный спосо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готовление тест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безопарны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пособом: дрожжи разводят теплым молоком или водой (30 °С), добавляют сахар, соль, хорошо перемешивают до растворения, кладут яйца и всыпают муку. Замешивают тесто, добавляя в конце размягченный до густоты сметаны жир или вливают растительное масло. Тесто накрывают чистой тканью и ставят в теплое место для брожения на 3–4 ча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удалить лишний углекислый газ и обогатить тесто кислородом, делают обминки, а затем вновь дают тесту подняться. Первую обминку делают через 1–1 1/2 часа, вторую — еще через 2 ча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51177-F0AA-49C3-BE79-1F90B33A9D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Опарный спосо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опарном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е в подогретую до 40 °С воду или молоко (60% от нормы) добавляют растворенные в воде и процеженные дрожжи, всыпают половину нормы муки и перемешивают до получения однородной массы. Поверхность опары посыпают мукой, накрывают тканью и ставят в теплое место для брожения на 2–3 ча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да опара увеличится в объеме в 2 раза и начнет опадать, к ней добавляют оставшуюся жидкость с растворенными солью и сахаром, яйца, все перемешивают, вводят муку и замешивают тесто. Перед окончанием замеса добавляют размягченный жир. Тесто накрывают тканью и оставляют для брожения еще на 2–3 ча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 время брожения тесто обминают 2–3 раза. Выбродившее тесто увеличивается в объеме в 2 раза, при надавливании на поверхность ямка медленно выравнивается, тесто не прилипает к рукам и отстает от стенок посу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5FADA-D423-4233-94F5-4574B8F394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Бисквитное т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Соста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Му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Саха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Яй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C1993-2931-45B9-B937-51DFD3E4B7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ыхлители не добавляю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придания пористой структуры в тесто вводят взбитые яйца или яичные бе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ь муки можно заменить картофельным крахмал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сквитное тесто имеет жидкую консистенцию. Его выливают в форму, покрытую промасленной бумагой и ставят в духовой шкаф, разогретый до 2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ремя выпекания 20-40 мину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7B7E-E363-487E-B16A-E0A11CFA7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E1F7-D155-4B7E-B0AF-106639D75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4AEA-3484-4D8B-BCEC-96946F953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1E90-AACC-4DEA-AE0F-C2386BC2A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6971-12BF-406B-8AC8-717E37680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3E6C-A651-40D2-B181-6F7A4B7F0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8EF4-5241-411A-BC4C-5E179CAFD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6F70-1BA8-4695-A636-BC6311D5E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3ABF-7248-4F44-9BF9-DD681202E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DE98-32AF-467D-B87D-013B5C0A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7772-58A0-424A-A1A1-8AB87CD6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B548-9420-4EB6-9203-31E63C45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CDF41-D83A-414B-AFC1-49D6867394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8088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Monotype Corsiva"/>
              </a:rPr>
              <a:t>Виды тест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4419360"/>
            <a:ext cx="55627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лективная работа учащихся 7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Изделия из бисквитного те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р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рож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рог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2840040" cy="4476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2"/>
          <a:stretch/>
        </p:blipFill>
        <p:spPr>
          <a:xfrm>
            <a:off x="990720" y="3733920"/>
            <a:ext cx="3809880" cy="286704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Слоеное тест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ост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ук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сло  (маргарин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йца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д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л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4952880" y="137160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"/>
          <p:cNvPicPr/>
          <p:nvPr/>
        </p:nvPicPr>
        <p:blipFill>
          <a:blip r:embed="rId2"/>
          <a:stretch/>
        </p:blipFill>
        <p:spPr>
          <a:xfrm>
            <a:off x="4876920" y="4267080"/>
            <a:ext cx="3657600" cy="243540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Способ приготовле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ыхление теста достигается благодаря раскатыванию в очень тонкие слои, отделяемые друг от друга прослойками сливочного масла или маргар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ль и уксусную кислоту растворяют в в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бавляют яйца, му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мешивают упругое тесто, вливая оставшуюся в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тавляют на 20 мин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сло перед закаткой в тесто размягчают, перемешивают с мукой, формируют в виде прямоугольника, охлаждают д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12-1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Способ приготовл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6248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дрезают тесто ножом крестообразно (рис. 1), подсыпают муку и раскатывают тесто скалкой так, чтобы середина пласта была толще, чем края (рис. 2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центр пласта кладут заготовленную лепешку масла, перемешанного с мукой, накрывают ее длинными краями пласта (рис. 3) и защипывают края лепеш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енный «конверт» кладут на стол и начиная от середины, раскатывают тесто в прямоугольный пласт толщиной 10 м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ладывают в четверо, накрывают салфеткой и охлаждают в течение 20 м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хлажденное тесто вновь раскатывают и складывают в четверо. Так делают не менее 5-6 р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476760" y="1143000"/>
            <a:ext cx="2438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ис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ис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ис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6629400" y="1447920"/>
            <a:ext cx="2152800" cy="1609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2"/>
          <a:stretch/>
        </p:blipFill>
        <p:spPr>
          <a:xfrm>
            <a:off x="6705720" y="3505320"/>
            <a:ext cx="2038320" cy="1190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3"/>
          <a:stretch/>
        </p:blipFill>
        <p:spPr>
          <a:xfrm>
            <a:off x="6581880" y="5181480"/>
            <a:ext cx="2562120" cy="156528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Изделия из слоеного тес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р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рож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рог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4876920" y="1219320"/>
            <a:ext cx="4000320" cy="4000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"/>
          <p:cNvPicPr/>
          <p:nvPr/>
        </p:nvPicPr>
        <p:blipFill>
          <a:blip r:embed="rId2"/>
          <a:stretch/>
        </p:blipFill>
        <p:spPr>
          <a:xfrm>
            <a:off x="685800" y="3886200"/>
            <a:ext cx="3714840" cy="250668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сочное тес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ост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у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сло (маргари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й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х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4114800" y="3505320"/>
            <a:ext cx="4762440" cy="31716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1 Способ приготовле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сло или маргарин размягчают, растирают с сахарной пудрой, добавляют яйца и перемешив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ассу вводят погашенную уксусом или лимонным соком с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ыпают просеянную муку и быстро замешива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хлаждают в течении 1 ча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2 Способ приготовле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еянную муку высыпают горкой, сверху насыпают сахар, разрыхлитель, цедру лимона, ванил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уке делают углубление, вбивают яйцо, кладут кусочки мас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инным ножом рубят все продукты и быстро замешивают тес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хлаждают в течении 1 ча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Изделия из песочного тес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ч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ртале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р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5486400" y="1295280"/>
            <a:ext cx="3138480" cy="2351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380880" y="3733920"/>
            <a:ext cx="3733920" cy="2766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5334120" y="4052880"/>
            <a:ext cx="3047760" cy="202392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Monotype Corsiva"/>
              </a:rPr>
              <a:t>Виды тест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РОЖЖЕВ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ЗДРОЖЖЕВО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пресно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сочно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бисквитно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слоеное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74504168_large_028"/>
          <p:cNvPicPr/>
          <p:nvPr/>
        </p:nvPicPr>
        <p:blipFill>
          <a:blip r:embed="rId1"/>
          <a:stretch/>
        </p:blipFill>
        <p:spPr>
          <a:xfrm>
            <a:off x="457200" y="3276720"/>
            <a:ext cx="3200400" cy="318600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Дрожжевое тест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ост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у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х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й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рожж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да или моло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сло сливочное или сливочный маргар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4876920" y="1600200"/>
            <a:ext cx="2847960" cy="212724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Изделия из дрожжевого тес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ле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ло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рож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роги и кулебя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л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лад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тру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леты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5638680" y="1219320"/>
            <a:ext cx="3143520" cy="2092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4191120" y="3733920"/>
            <a:ext cx="3809880" cy="2847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"/>
          <p:cNvPicPr/>
          <p:nvPr/>
        </p:nvPicPr>
        <p:blipFill>
          <a:blip r:embed="rId3"/>
          <a:stretch/>
        </p:blipFill>
        <p:spPr>
          <a:xfrm>
            <a:off x="2743200" y="1295280"/>
            <a:ext cx="2666880" cy="200052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Способ приготовления дрожжевого тест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товят его двумя способами — безопарным и опарным. Безопарным способом готовят тесто с малым количеством сдобы (масла, сахара, яиц). Опарный способ применяют при изготовлении более сдобных издел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Безопарный спосо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готовление тест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безопарны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пособом: дрожжи разводят теплым молоком или водой (30 °С), добавляют сахар, соль, хорошо перемешивают до растворения, кладут яйца и всыпают муку. Замешивают тесто, добавляя в конце размягченный до густоты сметаны жир или вливают растительное масло. Тесто накрывают чистой тканью и ставят в теплое место для брожения на 3–4 час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бы удалить лишний углекислый газ и обогатить тесто кислородом, делают обминки, а затем вновь дают тесту подняться. Первую обминку делают через 1–1 1/2 часа, вторую — еще через 2 час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Опарный спосо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8394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опарном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е в подогретую до 40 °С воду или молоко (60% от нормы) добавляют растворенные в воде и процеженные дрожжи, всыпают половину нормы муки и перемешивают до получения однородной массы. Поверхность опары посыпают мукой, накрывают тканью и ставят в теплое место для брожения на 2–3 ча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гда опара увеличится в объеме в 2 раза и начнет опадать, к ней добавляют оставшуюся жидкость с растворенными солью и сахаром, яйца, все перемешивают, вводят муку и замешивают тесто. Перед окончанием замеса добавляют размягченный жир. Тесто накрывают тканью и оставляют для брожения еще на 2–3 ча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 время брожения тесто обминают 2–3 раза. Выбродившее тесто увеличивается в объеме в 2 раза, при надавливании на поверхность ямка медленно выравнивается, тесто не прилипает к рукам и отстает от стенок посу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Бисквитное тес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Сост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Му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ах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Яй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2743200" y="4114800"/>
            <a:ext cx="2133720" cy="2104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4495680" y="1447920"/>
            <a:ext cx="2543400" cy="1898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"/>
          <p:cNvPicPr/>
          <p:nvPr/>
        </p:nvPicPr>
        <p:blipFill>
          <a:blip r:embed="rId3"/>
          <a:stretch/>
        </p:blipFill>
        <p:spPr>
          <a:xfrm>
            <a:off x="5867280" y="4267080"/>
            <a:ext cx="2619360" cy="186876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ыхлители не добавля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придания пористой структуры в тесто вводят взбитые яйца или яичные бел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муки можно заменить картофельным крахмал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сквитное тесто имеет жидкую консистенцию. Его выливают в форму, покрытую промасленной бумагой и ставят в духовой шкаф, разогретый до 2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ремя выпекания 20-40 мину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3-31T07:43:27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