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7CC8-C3DE-4E10-B7DC-929CDF8264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4349-6A58-4E86-8170-56C7A1585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 работа учащихся 7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D6E6-8593-4618-AF0A-E5CD4223A9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бисквит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5D63-A726-49FD-AFCB-5BE1AD00E8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оеное т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 (маргарин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D7C0-5BBB-4DDE-835E-F70E442A1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ыхление теста достигается благодаря раскатыванию в очень тонкие слои, отделяемые друг от друга прослойками сливочного масла или мар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 и уксусную кислоту растворяют в 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ляют яйца, му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шивают упругое тесто, вливая оставшуюся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ляют на 20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перед закаткой в тесто размягчают, перемешивают с мукой, формируют в виде прямоугольника, охлаждают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2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4F29-50B1-4470-85B8-A14A3A05A2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резают тесто ножом крестообразно (рис. 1), подсыпают муку и раскатывают тесто скалкой так, чтобы середина пласта была толще, чем края (рис. 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нтр пласта кладут заготовленную лепешку масла, перемешанного с мукой, накрывают ее длинными краями пласта (рис. 3) и защипывают края лепеш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ый «конверт» кладут на стол и начиная от середины, раскатывают тесто в прямоугольный пласт толщиной 10 м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ют в четверо, накрывают салфеткой и охлаждают в течение 20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енное тесто вновь раскатывают и складывают в четверо. Так делают не менее 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15E2-3E9E-40AD-8A90-5BE178BA89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слое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A336-60AA-474D-805A-7A5DA4A286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очное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(маргар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9520-D3C4-48B3-ABC5-E9AE9F5DCB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 Способ при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ли маргарин размягчают, растирают с сахарной пудрой, добавляют яйца и перемешив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ссу вводят погашенную уксусом или лимонным соком с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ыпают просеянную муку и быстро замешив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4292-1C70-42D7-9761-051A38A7F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 Способ при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еянную муку высыпают горкой, сверху насыпают сахар, разрыхлитель, цедру лимона, ванил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ке делают углубление, вбивают яйцо, кладут кусочки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ным ножом рубят все продукты и быстро замешивают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2273-57EF-4E72-90A2-C93FE3C0A5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песоч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та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D550-395C-49E1-8669-CF6413671E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ОЖЖЕВ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ДРОЖЖЕВ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ес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оч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бисквит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лоено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5367-A512-4C78-97FE-75101924A4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рожжевое т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ож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ли моло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сливочное или сливочный мар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C59F-30E8-45AB-ACF2-B2DEFDBA38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зделия из дрожжевого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и кулебя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тр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лет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5893-AA83-45BE-82B4-B572262EBA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Способ приготовления дрожжевого тес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ят его двумя способами — безопарным и опарным. Безопарным способом готовят тесто с малым количеством сдобы (масла, сахара, яиц). Опарный способ применяют при изготовлении более сдобных издел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6E3F-6DBB-40EF-8BC8-C6C526B92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езопарный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отовление те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безопарны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особом: дрожжи разводят теплым молоком или водой (30 °С), добавляют сахар, соль, хорошо перемешивают до растворения, кладут яйца и всыпают муку. Замешивают тесто, добавляя в конце размягченный до густоты сметаны жир или вливают растительное масло. Тесто накрывают чистой тканью и ставят в теплое место для брожения на 3–4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далить лишний углекислый газ и обогатить тесто кислородом, делают обминки, а затем вновь дают тесту подняться. Первую обминку делают через 1–1 1/2 часа, вторую — еще через 2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E798-4C18-46FD-A055-562385ACB8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парный спосо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опарн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е в подогретую до 40 °С воду или молоко (60% от нормы) добавляют растворенные в воде и процеженные дрожжи, всыпают половину нормы муки и перемешивают до получения однородной массы. Поверхность опары посыпают мукой, накрывают тканью и ставят в теплое место для брожения на 2–3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опара увеличится в объеме в 2 раза и начнет опадать, к ней добавляют оставшуюся жидкость с растворенными солью и сахаром, яйца, все перемешивают, вводят муку и замешивают тесто. Перед окончанием замеса добавляют размягченный жир. Тесто накрывают тканью и оставляют для брожения еще на 2–3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ремя брожения тесто обминают 2–3 раза. Выбродившее тесто увеличивается в объеме в 2 раза, при надавливании на поверхность ямка медленно выравнивается, тесто не прилипает к рукам и отстает от стенок посу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E23B-03A5-457B-9E1E-4C325F6D74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Бисквитное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D8CB-CAAD-41D4-926B-2F1B6E1E80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ыхлители не добавля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идания пористой структуры в тесто вводят взбитые яйца или яич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муки можно заменить картофельным крахма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сквитное тесто имеет жидкую консистенцию. Его выливают в форму, покрытую промасленной бумагой и ставят в духовой шкаф, разогретый до 2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ремя выпекания 20-40 ми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F16-FFA8-4F3A-B89A-0177F5B5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056-2994-41DD-BB2F-7925AD9E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243-B84E-42D4-BA87-FC77EDA2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669-F91B-4B01-BF9B-56D947D9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7F5-6BC5-4DAF-9AD5-6224DAB8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88B-644A-4E97-B15A-B92020E2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E73-9D21-4FEE-9BF0-1382A1BC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DD2-8DA5-498A-B86D-DF63FA11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B5D-5F26-40F7-AF0A-58C2B9B1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C0F-FA5D-45E3-98A0-AE8B89AC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19B-C2DE-49C6-9957-FA7EC70E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B41-9DE6-4692-B268-5E95EE8F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04B5-0B5D-439D-B78B-7A2682CDDF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808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419360"/>
            <a:ext cx="5562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ктивная работа учащихся 7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зделия из бисквитного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840040" cy="447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лоеное тес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 (маргарин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657600" cy="2435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ение теста достигается благодаря раскатыванию в очень тонкие слои, отделяемые друг от друга прослойками сливочного масла или марг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ь и уксусную кислоту растворяют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авляют яйца, м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шивают упругое тесто, вливая оставшуюся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ют на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о перед закаткой в тесто размягчают, перемешивают с мукой, формируют в виде прямоугольника, охлаждают д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2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резают тесто ножом крестообразно (рис. 1), подсыпают муку и раскатывают тесто скалкой так, чтобы середина пласта была толще, чем края (рис. 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нтр пласта кладут заготовленную лепешку масла, перемешанного с мукой, накрывают ее длинными краями пласта (рис. 3) и защипывают края лепе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й «конверт» кладут на стол и начиная от середины, раскатывают тесто в прямоугольный пласт толщиной 10 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ывают в четверо, накрывают салфеткой и охлаждают в течение 20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лажденное тесто вновь раскатывают и складывают в четверо. Так делают не менее 5-6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476760" y="1143000"/>
            <a:ext cx="2438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629400" y="1447920"/>
            <a:ext cx="2152800" cy="160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038320" cy="119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6581880" y="5181480"/>
            <a:ext cx="2562120" cy="1565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слое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714840" cy="25066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оч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(маргар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1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или маргарин размягчают, растирают с сахарной пудрой, добавляют яйца и перемеши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ссу вводят погашенную уксусом или лимонным соком с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ыпают просеянную муку и быстро замеши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2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еянную муку высыпают горкой, сверху насыпают сахар, разрыхлитель, цедру лимона, вани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уке делают углубление, вбивают яйцо, кладут кусочки ма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ным ножом рубят все продукты и быстро замешивают т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песоч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рта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3138480" cy="235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3733920" cy="2766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5334120" y="4052880"/>
            <a:ext cx="3047760" cy="2023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ОЖЖЕВ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ДРОЖЖЕВ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рес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ч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бисквит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лоено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74504168_large_028"/>
          <p:cNvPicPr/>
          <p:nvPr/>
        </p:nvPicPr>
        <p:blipFill>
          <a:blip r:embed="rId1"/>
          <a:stretch/>
        </p:blipFill>
        <p:spPr>
          <a:xfrm>
            <a:off x="457200" y="3276720"/>
            <a:ext cx="3200400" cy="3186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Дрожжевое тест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ж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или мо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сливочное или сливочный марг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2847960" cy="21272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дрожжев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и кулебя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леты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143520" cy="20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2666880" cy="20005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пособ приготовления дрожжевого тес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ят его двумя способами — безопарным и опарным. Безопарным способом готовят тесто с малым количеством сдобы (масла, сахара, яиц). Опарный способ применяют при изготовлении более сдобных издел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Без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товление тес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езопар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пособом: дрожжи разводят теплым молоком или водой (30 °С), добавляют сахар, соль, хорошо перемешивают до растворения, кладут яйца и всыпают муку. Замешивают тесто, добавляя в конце размягченный до густоты сметаны жир или вливают растительное масло. Тесто накрывают чистой тканью и ставят в теплое место для брожения на 3–4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удалить лишний углекислый газ и обогатить тесто кислородом, делают обминки, а затем вновь дают тесту подняться. Первую обминку делают через 1–1 1/2 часа, вторую — еще через 2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арн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е в подогретую до 40 °С воду или молоко (60% от нормы) добавляют растворенные в воде и процеженные дрожжи, всыпают половину нормы муки и перемешивают до получения однородной массы. Поверхность опары посыпают мукой, накрывают тканью и ставят в теплое место для брожения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опара увеличится в объеме в 2 раза и начнет опадать, к ней добавляют оставшуюся жидкость с растворенными солью и сахаром, яйца, все перемешивают, вводят муку и замешивают тесто. Перед окончанием замеса добавляют размягченный жир. Тесто накрывают тканью и оставляют для брожения еще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ремя брожения тесто обминают 2–3 раза. Выбродившее тесто увеличивается в объеме в 2 раза, при надавливании на поверхность ямка медленно выравнивается, тесто не прилипает к рукам и отстает от стенок пос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исквит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2133720" cy="21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543400" cy="1898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2619360" cy="18687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и не добавля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идания пористой структуры в тесто вводят взбитые яйца или яичные б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муки можно заменить картофельным крахм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ное тесто имеет жидкую консистенцию. Его выливают в форму, покрытую промасленной бумагой и ставят в духовой шкаф, разогретый до 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я выпекания 20-40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43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