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C33-2CF9-404B-A47F-CC4D334068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 проволоки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DF93-7873-4D23-BFE7-A09A2FDCC8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ы ручной гибки провол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ую проволоку гнут круглогубцами или плоскогуб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стую проволоку гнут с помощью приспособления или в тисках на опра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96B0-BC58-4F32-A81D-D61DCDAA01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изделий из проволоки и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105E-F328-4692-AB0B-D9810F8F3E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 мет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ке, удерживающей заготовку, должна быть надета рукав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надежно закрепите заготовку с оправкой в т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ержать левую руку близко к месту сгиба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можно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езании заготовки нельзя подносить проволоку близко к 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тойте за спиной работающего, и не работайте, если кто-то стоит за 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5CCD-E466-450C-9CA1-EDE2123749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по технологической карте головоломку из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B1F-278A-4423-96AC-890A1A76D2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гнут тонкую проволо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инструмент применяют для гибки.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A675-74D1-4B20-A3E4-EA9DFA1E73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сновные правила необходимо соблюдать при резании тонколистового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отличаются промышленные механические ножницы от слесарных руч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AE7B-E68C-4F15-A13B-E8E9EA71D1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провол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B163-B711-40A5-8D93-CE25CE89EE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иться приемам гибки проволоки в тисках и с помощью различных приспособ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лоток, слесарные тиски, оправки, плоскогубцы, заготовки металла и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27B1-FDC7-4E44-AA5E-82AC5038F7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 выполненные гиб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75C2-D57D-4691-9547-FCBD640A89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струменты и оборудование для ручной гиб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проволоки, листового металла, полос, прутк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(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й проволоки и узких полос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заготовок различной 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BC77-9244-4393-9E62-94C791F5B2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в тисках с помощью опра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4382-FEA1-471D-8D15-44E5B19B2C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гибание заготовок большой длины из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A6AD-DCBB-4292-B1A8-06246396A7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FC74-F5FE-477E-AF41-33BDC2AFF7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FB6-0A99-4DE8-8C74-B1AF1BBE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499-AE41-465D-B482-8629A7B8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4C1-DD35-4E76-AA89-E256B5D9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92CC-C253-474D-8D98-3FC9ACF8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E41E-57AC-41B3-A229-69FFD297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573-08AD-4986-86F0-07C8EDBD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3BA-A012-4564-B8B0-12232AF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AD20-77BC-4141-A925-9D3EEF5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B40-B85D-4AE2-A60B-9A138AD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74FC-1C4D-4EB4-9970-36B6D838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FF25-6F9A-4C07-8C2C-2ED90D5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47F-EC52-401A-B40D-DA0871D2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43A8-4849-4F20-9984-06320973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A002-9AD5-437C-92D9-5E15E250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340D-AF56-4400-9AEF-A32ECD62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89BA-78C1-40B0-957C-BBD8CAA6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AE67-E9E1-4270-BC73-9D5A6657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72C3-5706-4DAE-A565-CE8B3B99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7EEE-242B-43CB-B513-F5D0E8C5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39D54-7EB2-4804-AABF-4107528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014A-3F14-4665-B5AB-DDAAFB47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451B-01B2-4F4F-81E3-2207B228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897-3101-4D6A-BE46-0604CC92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1895-F73C-4632-9936-E2180485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1ED7-15CD-4FBF-87AD-6958E9F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16C1-1404-469C-BF21-3483965F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82E7-ED9B-4BC7-B450-88D8F4F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94EE-6D10-4594-A661-D946E9D1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5948-032E-43B6-8C73-D8DCD02A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AAEB-1424-4E5E-B1A0-DB5A3EE8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16C6-6A04-4D57-A85F-81F033F0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4B04-FA0B-4C4E-8809-78558AAD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03F1-B768-41A6-BFC1-A20B5938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01B-351D-47DC-BFD6-D858676F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0F98-CAE3-4F84-B038-98E0DCDE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9C95-FACF-4879-A9F3-DB9E3A01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3A12F-CFB4-40E0-91D4-0FE744CB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FA41-8D24-40E0-AF77-63E1F02D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A04FB-0063-4CC6-947E-30E868C6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B3C8-B1A3-49D0-9D5E-63E6D549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3CC0C-160D-4BCF-AE39-C3C57CDA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9418-4BA3-41EF-A39B-DBE6D5BF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B9466-AF8B-488F-8531-E47A74D2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31EA3-09B2-4024-8479-B89C6736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FFD-51FE-4B23-B3DE-5E3F95CF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67BC4-F02A-43DE-A09D-2D371C6F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33681-1CB3-4884-BBFD-3C76E78C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D275-A97C-41DC-993A-E3D3AB3F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10EBB-C85A-4FCB-9414-F8EB654D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22D5-EA6E-4D53-A866-22C6D05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C2F12-52B6-478E-B016-69AA7269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FA6B4-E65B-44E5-9AA9-A10296B5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5631D-84B1-44FF-B02C-AB3BDC29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2DE24-A666-4A45-9FA5-A3172E27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EA499-85ED-42AC-AACE-AA0A6F92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F09-C103-4C13-A9D0-F2244FA0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DB10-3C93-46B8-A222-F4FF43BC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5466-D4F4-4B6E-A394-0E870653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26182-2DD1-415C-98BA-4CE3724B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931A-62EC-442B-968E-0CA63E1D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E01BE-A4B2-4698-B7FE-FE72DF83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4B2EA-0952-4E03-A86B-7EBC975F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4676D-945C-4D29-B477-E101ACA5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85508-CB89-42B3-B41F-8D38CEFD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626C7-9313-48E0-82AF-EDBB176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8438-F8EB-4BDE-9A1F-BC16999C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A35-9F33-4187-BDE9-841A60FB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7E5F0-8694-4585-837B-A0D72EF0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B57C7-4142-4A35-9D0B-78B5A44F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DA4D-B7B6-4A68-A830-109E7071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17E-31E8-4149-9E83-00C280C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8AE3-03F3-49EB-AD7A-D625FC12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A494-3C88-45F0-A42E-80935F016425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B833-7EF2-4439-8938-72325D0107E7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3143-238D-4389-983E-4D50620C397D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8A9-9AB1-441F-B8FB-34E46C45BFD4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3BD8-67B7-4F90-A3EA-E7544D8A7478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4F78-A349-4A8F-A7D3-16D487E58B23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D386-710E-44EE-ACBD-0D1BBB58669F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365D-20B4-489A-9A2B-7A4D99EF06B3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4077-5EF6-4295-A865-6BA20C8FD285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C42C-134C-4BE1-ABAE-46A96CB88AA7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F685-8EB0-4847-848C-6E452764E0B8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988D-A367-44E1-8EF9-44811A398A36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467840" cy="1957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емы ручной гибки проволо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571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ую проволоку гнут круглогубцами или плоскогуб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ую проволоку гнут с помощью приспособления или в тисках на оправ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Рисунок 3" descr="25 (2).jpg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507204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5"/>
          <p:cNvCxnSpPr/>
          <p:nvPr/>
        </p:nvCxnSpPr>
        <p:spPr>
          <a:xfrm>
            <a:off x="4000680" y="2214720"/>
            <a:ext cx="78624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/>
          <p:nvPr/>
        </p:nvCxnSpPr>
        <p:spPr>
          <a:xfrm>
            <a:off x="4285800" y="3571920"/>
            <a:ext cx="50076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>
            <a:off x="4143240" y="5643720"/>
            <a:ext cx="6433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06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меры изделий из проволоки и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4" descr="PICT0015"/>
          <p:cNvPicPr/>
          <p:nvPr/>
        </p:nvPicPr>
        <p:blipFill>
          <a:blip r:embed="rId1"/>
          <a:stretch/>
        </p:blipFill>
        <p:spPr>
          <a:xfrm>
            <a:off x="73836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T0016"/>
          <p:cNvPicPr/>
          <p:nvPr/>
        </p:nvPicPr>
        <p:blipFill>
          <a:blip r:embed="rId2"/>
          <a:stretch/>
        </p:blipFill>
        <p:spPr>
          <a:xfrm>
            <a:off x="450072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Documents and Settings\М.Е.Н\Рабочий стол\тонколист\24164.jpg"/>
          <p:cNvPicPr/>
          <p:nvPr/>
        </p:nvPicPr>
        <p:blipFill>
          <a:blip r:embed="rId3"/>
          <a:stretch/>
        </p:blipFill>
        <p:spPr>
          <a:xfrm>
            <a:off x="2000160" y="4357800"/>
            <a:ext cx="4675320" cy="2338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Поделки из проволоки7.jpg"/>
          <p:cNvPicPr/>
          <p:nvPr/>
        </p:nvPicPr>
        <p:blipFill>
          <a:blip r:embed="rId1"/>
          <a:stretch/>
        </p:blipFill>
        <p:spPr>
          <a:xfrm>
            <a:off x="6429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Поделки из проволоки9.jpg"/>
          <p:cNvPicPr/>
          <p:nvPr/>
        </p:nvPicPr>
        <p:blipFill>
          <a:blip r:embed="rId2"/>
          <a:stretch/>
        </p:blipFill>
        <p:spPr>
          <a:xfrm>
            <a:off x="335772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5" descr="Поделки из проволоки81.jpg"/>
          <p:cNvPicPr/>
          <p:nvPr/>
        </p:nvPicPr>
        <p:blipFill>
          <a:blip r:embed="rId3"/>
          <a:stretch/>
        </p:blipFill>
        <p:spPr>
          <a:xfrm>
            <a:off x="61437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Поделки из проволоки17.jpg"/>
          <p:cNvPicPr/>
          <p:nvPr/>
        </p:nvPicPr>
        <p:blipFill>
          <a:blip r:embed="rId4"/>
          <a:stretch/>
        </p:blipFill>
        <p:spPr>
          <a:xfrm>
            <a:off x="642960" y="3786120"/>
            <a:ext cx="3841560" cy="271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Поделки из проволоки15.jpg"/>
          <p:cNvPicPr/>
          <p:nvPr/>
        </p:nvPicPr>
        <p:blipFill>
          <a:blip r:embed="rId5"/>
          <a:stretch/>
        </p:blipFill>
        <p:spPr>
          <a:xfrm>
            <a:off x="5000760" y="3751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Техника безопасности при ручной гибки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ке, удерживающей заготовку, должна быть надета рукав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надежно закрепите заготовку с оправкой в тис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держать левую руку близко к месту сгиба 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можно только исправным инструм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трезании заготовки нельзя подносить проволоку близко 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ойте за спиной работающего, и не работайте, если кто-то стоит за 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7160" y="1785960"/>
            <a:ext cx="3657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полнить по технологической карте головоломку из проволо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8840" cy="469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PICT0027"/>
          <p:cNvPicPr/>
          <p:nvPr/>
        </p:nvPicPr>
        <p:blipFill>
          <a:blip r:embed="rId2"/>
          <a:stretch/>
        </p:blipFill>
        <p:spPr>
          <a:xfrm>
            <a:off x="1071720" y="3786120"/>
            <a:ext cx="3541680" cy="26560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гнут тонкую проволо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инструмент применяют для гибки.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учной г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3" descr="Поделки из проволоки11.jpg"/>
          <p:cNvPicPr/>
          <p:nvPr/>
        </p:nvPicPr>
        <p:blipFill>
          <a:blip r:embed="rId1"/>
          <a:stretch/>
        </p:blipFill>
        <p:spPr>
          <a:xfrm>
            <a:off x="2500200" y="3500280"/>
            <a:ext cx="4024440" cy="302436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повтор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основные правила необходимо соблюдать при резании тонколистового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тличаются промышленные механические ножницы от слесарных руч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9" descr=""/>
          <p:cNvPicPr/>
          <p:nvPr/>
        </p:nvPicPr>
        <p:blipFill>
          <a:blip r:embed="rId1"/>
          <a:stretch/>
        </p:blipFill>
        <p:spPr>
          <a:xfrm>
            <a:off x="927000" y="1365120"/>
            <a:ext cx="7521840" cy="42134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40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иемам гибки проволоки в тисках и с помощью различных приспособ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ток, слесарные тиски, оправки, плоскогубцы, заготовки металла и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2154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делия выполненные гиб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Рисунок 2" descr="ч2.jpg"/>
          <p:cNvPicPr/>
          <p:nvPr/>
        </p:nvPicPr>
        <p:blipFill>
          <a:blip r:embed="rId1"/>
          <a:stretch/>
        </p:blipFill>
        <p:spPr>
          <a:xfrm>
            <a:off x="1785960" y="1857240"/>
            <a:ext cx="5091120" cy="2695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ч3.jpg"/>
          <p:cNvPicPr/>
          <p:nvPr/>
        </p:nvPicPr>
        <p:blipFill>
          <a:blip r:embed="rId2"/>
          <a:stretch/>
        </p:blipFill>
        <p:spPr>
          <a:xfrm>
            <a:off x="1071720" y="4214880"/>
            <a:ext cx="6754680" cy="2876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8588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металла это придача новой формы заготовке (или ее части) механическим или ручным способом с помощью приспособ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нструменты и оборудование для ручной гибки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Содержимое 5" descr="23.jpg"/>
          <p:cNvPicPr/>
          <p:nvPr/>
        </p:nvPicPr>
        <p:blipFill>
          <a:blip r:embed="rId1"/>
          <a:stretch/>
        </p:blipFill>
        <p:spPr>
          <a:xfrm>
            <a:off x="5214960" y="2714760"/>
            <a:ext cx="2440080" cy="1143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785880" y="149976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проволоки, листового металла, полос, прутко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листового металла (же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й проволоки и узких полос тонколистового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заготовок различной фор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2" descr="23.jpg"/>
          <p:cNvPicPr/>
          <p:nvPr/>
        </p:nvPicPr>
        <p:blipFill>
          <a:blip r:embed="rId2"/>
          <a:stretch/>
        </p:blipFill>
        <p:spPr>
          <a:xfrm>
            <a:off x="4821120" y="1450800"/>
            <a:ext cx="286560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23.jpg"/>
          <p:cNvPicPr/>
          <p:nvPr/>
        </p:nvPicPr>
        <p:blipFill>
          <a:blip r:embed="rId3"/>
          <a:stretch/>
        </p:blipFill>
        <p:spPr>
          <a:xfrm>
            <a:off x="5214960" y="3929040"/>
            <a:ext cx="2435040" cy="100008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pic>
        <p:nvPicPr>
          <p:cNvPr id="280" name="Рисунок 7" descr="24.jpg"/>
          <p:cNvPicPr/>
          <p:nvPr/>
        </p:nvPicPr>
        <p:blipFill>
          <a:blip r:embed="rId4"/>
          <a:stretch/>
        </p:blipFill>
        <p:spPr>
          <a:xfrm>
            <a:off x="5214960" y="5000760"/>
            <a:ext cx="2428920" cy="1665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cxnSp>
        <p:nvCxnSpPr>
          <p:cNvPr id="281" name="Прямая со стрелкой 8"/>
          <p:cNvCxnSpPr/>
          <p:nvPr/>
        </p:nvCxnSpPr>
        <p:spPr>
          <a:xfrm>
            <a:off x="4572000" y="2214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2" name="Прямая со стрелкой 10"/>
          <p:cNvCxnSpPr/>
          <p:nvPr/>
        </p:nvCxnSpPr>
        <p:spPr>
          <a:xfrm>
            <a:off x="4572000" y="3357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3" name="Прямая со стрелкой 12"/>
          <p:cNvCxnSpPr/>
          <p:nvPr/>
        </p:nvCxnSpPr>
        <p:spPr>
          <a:xfrm>
            <a:off x="4643280" y="4500720"/>
            <a:ext cx="5011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4" name="Прямая со стрелкой 14"/>
          <p:cNvCxnSpPr/>
          <p:nvPr/>
        </p:nvCxnSpPr>
        <p:spPr>
          <a:xfrm>
            <a:off x="4572000" y="5928840"/>
            <a:ext cx="572400" cy="2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28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ибка тонколистового металла в тисках с помощью оправо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Рисунок 3" descr="1.bmp"/>
          <p:cNvPicPr/>
          <p:nvPr/>
        </p:nvPicPr>
        <p:blipFill>
          <a:blip r:embed="rId1"/>
          <a:stretch/>
        </p:blipFill>
        <p:spPr>
          <a:xfrm>
            <a:off x="2143080" y="1357200"/>
            <a:ext cx="4643640" cy="22258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928800" y="3643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>
            <a:off x="5429160" y="3929040"/>
            <a:ext cx="57168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Гибка тонколистового металла с помощью оправок"/>
          <p:cNvPicPr/>
          <p:nvPr/>
        </p:nvPicPr>
        <p:blipFill>
          <a:blip r:embed="rId2"/>
          <a:stretch/>
        </p:blipFill>
        <p:spPr>
          <a:xfrm>
            <a:off x="2214720" y="4286160"/>
            <a:ext cx="4429080" cy="23734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Сгибание заготовок большой длины из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Рисунок 3" descr="Сгибание заготовок большой длины из тонколистового металла."/>
          <p:cNvPicPr/>
          <p:nvPr/>
        </p:nvPicPr>
        <p:blipFill>
          <a:blip r:embed="rId1"/>
          <a:stretch/>
        </p:blipFill>
        <p:spPr>
          <a:xfrm>
            <a:off x="1714680" y="1571760"/>
            <a:ext cx="5643360" cy="35002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928800" y="5214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ибка в гибочном штамп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Рисунок 3" descr="Гибка металла в гибочном штампе."/>
          <p:cNvPicPr/>
          <p:nvPr/>
        </p:nvPicPr>
        <p:blipFill>
          <a:blip r:embed="rId1"/>
          <a:srcRect l="0" t="2410" r="0" b="3302"/>
          <a:stretch/>
        </p:blipFill>
        <p:spPr>
          <a:xfrm>
            <a:off x="857160" y="150012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928800" y="5000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55:26Z</dcterms:modified>
  <cp:revision>74</cp:revision>
  <dc:subject/>
  <dc:title>Изготовление изделий из проволоки</dc:title>
</cp:coreProperties>
</file>