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2FF3-8ADD-47D9-8359-90559B127D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 проволоки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77EF-025B-4992-9C69-A7B9961708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ы ручной гибки провол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ую проволоку гнут круглогубцами или плоскогуб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стую проволоку гнут с помощью приспособления или в тисках на опра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712-A856-4FC3-A41A-A25618B664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изделий из проволоки и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C4E-4202-4BF8-9BE0-3D6A8B47CD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 мет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ке, удерживающей заготовку, должна быть надета рукав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надежно закрепите заготовку с оправкой в т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ержать левую руку близко к месту сгиба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можно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езании заготовки нельзя подносить проволоку близко к 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тойте за спиной работающего, и не работайте, если кто-то стоит за 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81ED-758E-4ED3-BF97-B0EC460F8E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по технологической карте головоломку из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EE62-006A-43A4-8FA9-281E0116DF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гнут тонкую проволо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инструмент применяют для гибки.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40E-B8EA-466F-A862-F077E08C45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повтор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сновные правила необходимо соблюдать при резании тонколистового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отличаются промышленные механические ножницы от слесарных руч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8C5D-3BD0-40B3-BA25-FCDB18BCD3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провол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C62E-7CE0-459A-A597-7D3E3E8E5D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иться приемам гибки проволоки в тисках и с помощью различных приспособ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лоток, слесарные тиски, оправки, плоскогубцы, заготовки металла и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D1CD-2E3E-446E-B43E-E1FA881710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 выполненные гиб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5913-6598-432C-8173-643C27EC14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струменты и оборудование для ручной гиб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проволоки, листового металла, полос, прутк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(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й проволоки и узких полос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заготовок различной 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6119-EBEB-4FC7-BD8B-2A9BD373B2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в тисках с помощью опра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F66F-91EC-4698-9856-C2ACA84542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гибание заготовок большой длины из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508A-FC95-421A-BE34-2043FBDF9B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470B-0DC3-4F61-B998-842E13B4FD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E23-5123-4584-AEB4-E731508D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70C-18C4-493F-95CD-15B0D2D6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71B-EA60-4ADE-AD72-5DD278BB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0E6-933B-48AB-84FC-F4B9F7E9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3687-C91D-4E16-90DF-84D961C3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75A2-3C73-47A4-AD27-4AF2BAF1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0F7D-FE18-4DC5-895E-CFC6F93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A363-04A1-4F46-8360-076994A0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C07B-14DF-4BC4-9A0F-45BA52D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D841-3921-4C98-957A-D3EDFBB9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5719-DABE-42DB-AD5D-A309DCA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258-65F5-40C9-9C0C-0C076E6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749E-75BB-4B93-B44B-6F775C7C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F205-8665-430F-9A6C-5C06D40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912F-C602-4FD7-A9E2-54AC808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BA8C-968F-4490-ABF9-D69520B8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CB01-777C-45D7-B96E-B44B9D3B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9226-07A1-4BDF-AA14-16BC8F3D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2598-F007-424F-B74A-96B27327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E64E-DAA1-460F-A31B-06881581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AB26-D164-491E-A0F5-10965E53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B95D-643F-4F8A-BBEB-0FBA5E8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D97-5A94-4F22-A77A-070BCAEF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B6C40-AD53-45F4-BED1-D090ADC6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EA044-0E7D-48E8-AFA3-E748E24D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E418-3EC9-4543-B2D4-5FB1DE46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64BF-C424-4609-9A69-0597F7BC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779B-AF53-4EFF-A0FD-A5FE0A7F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D39B-8365-4B20-9B37-323FB53F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AB7D-977B-4AD4-950C-9D1C3EBD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BBD6-DA3C-46D8-AFB1-C979D24B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C43D-7817-4EA2-B91F-CDD8322A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110F-16CE-4C4E-8E16-2E9136DE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845-9CAE-461F-A346-5C2D96C9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0D85-75EB-4A56-B897-775609FF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4123-EE7E-4E6D-BE6B-1DF721D3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C117-2218-4850-8ED7-6E8C666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9071-E1CE-46F7-82A7-C3FD0357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676B-9614-408B-AE99-409357E2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93108-4B3F-4214-AB40-21FD9E5E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46E7-5D27-40A0-BE11-15235F32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376C-44E3-4C90-840C-7B133904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4BBD-30F6-4C05-94DC-1349566C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A14F-15BF-4187-9C2F-845A61BC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91E-7D7F-46CF-BF47-3CB7EC41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61500-6B41-49A1-8965-4759D63E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4331-E68D-451D-9C9A-B0018FB9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E05CA-BAC3-4E84-AF23-2BCED547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7833-7B44-4481-AD74-A8F71E97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257BB-D164-4D1F-898D-73B9AF29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CB3F-BF58-4911-84A3-1CF86660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CA93D-B029-4403-8E75-F7BB2B4E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9C3B5-34EF-4DDF-AFFF-459FB43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561F9-BFA2-4641-A644-110673FC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8EF59-F54E-472F-8781-6AA403EF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8E6-B9DE-4E06-A371-FD9F949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0413-E40A-4612-9ED2-C568F453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7F13B-CCC3-4BF2-8900-D0AFAC86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2F45A-9DD4-47C4-B85B-2B2FE202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8FC28-01A7-4A57-B78A-858F4D2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3849D-F332-42AC-8973-1D808629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3949D-1BBB-4F95-96E7-CBE587FE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CAC78-589F-4FD1-AE02-2185B7E5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1C743-4233-444F-8C50-D3E6898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B1E54-C448-4E60-BF25-3B14EFDE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C0296-0A1E-4328-9368-35076068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9B7-7493-42C9-BA2D-E12DD06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81371-C5D2-4225-ADDD-A4A49559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9A1DA-558B-4960-93C8-D552FE7B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05DB7-30D8-4D08-8B6D-35132C57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F0B-DAD1-409E-80E6-5F02B3C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78F-4923-45DA-8794-9C52F06E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95AD-83D0-4603-9BAF-4CDBEFFEEEC8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58CB-DE8F-49AD-B332-4AF76437D0F8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FA08-9891-4355-8D26-D7CEE02168B4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6DEB-ECFA-4AE2-A5B1-C6238E820418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A6AA-E84E-4A6D-AE2C-EB56E0053D55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C3EF-1E3A-49AE-9F57-883D823F430A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5AD3-B0C8-47A1-8776-0E1BFE6E79E7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F86-8754-48C3-8E6D-ACD906BC8E75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0B4D-083C-441A-A77C-26F8A7F2EC3B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A794-D6CB-4792-BEBF-D447C532EA78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7B8A-913F-40FE-8563-F31B5D28F662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CA4D-C53A-4814-A036-6FDF90F309AA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907920" y="1895400"/>
            <a:ext cx="7467840" cy="1957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емы ручной гибки проволо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571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нкую проволоку гнут круглогубцами или плоскогубц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ую проволоку гнут с помощью приспособления или в тисках на оправ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Рисунок 3" descr="25 (2).jpg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507204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5"/>
          <p:cNvCxnSpPr/>
          <p:nvPr/>
        </p:nvCxnSpPr>
        <p:spPr>
          <a:xfrm>
            <a:off x="4000680" y="2214720"/>
            <a:ext cx="78624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/>
          <p:nvPr/>
        </p:nvCxnSpPr>
        <p:spPr>
          <a:xfrm>
            <a:off x="4285800" y="3571920"/>
            <a:ext cx="50076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>
            <a:off x="4143240" y="5643720"/>
            <a:ext cx="6433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06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меры изделий из проволоки и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Picture 4" descr="PICT0015"/>
          <p:cNvPicPr/>
          <p:nvPr/>
        </p:nvPicPr>
        <p:blipFill>
          <a:blip r:embed="rId1"/>
          <a:stretch/>
        </p:blipFill>
        <p:spPr>
          <a:xfrm>
            <a:off x="73836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T0016"/>
          <p:cNvPicPr/>
          <p:nvPr/>
        </p:nvPicPr>
        <p:blipFill>
          <a:blip r:embed="rId2"/>
          <a:stretch/>
        </p:blipFill>
        <p:spPr>
          <a:xfrm>
            <a:off x="450072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Documents and Settings\М.Е.Н\Рабочий стол\тонколист\24164.jpg"/>
          <p:cNvPicPr/>
          <p:nvPr/>
        </p:nvPicPr>
        <p:blipFill>
          <a:blip r:embed="rId3"/>
          <a:stretch/>
        </p:blipFill>
        <p:spPr>
          <a:xfrm>
            <a:off x="2000160" y="4357800"/>
            <a:ext cx="4675320" cy="2338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Поделки из проволоки7.jpg"/>
          <p:cNvPicPr/>
          <p:nvPr/>
        </p:nvPicPr>
        <p:blipFill>
          <a:blip r:embed="rId1"/>
          <a:stretch/>
        </p:blipFill>
        <p:spPr>
          <a:xfrm>
            <a:off x="6429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Поделки из проволоки9.jpg"/>
          <p:cNvPicPr/>
          <p:nvPr/>
        </p:nvPicPr>
        <p:blipFill>
          <a:blip r:embed="rId2"/>
          <a:stretch/>
        </p:blipFill>
        <p:spPr>
          <a:xfrm>
            <a:off x="335772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5" descr="Поделки из проволоки81.jpg"/>
          <p:cNvPicPr/>
          <p:nvPr/>
        </p:nvPicPr>
        <p:blipFill>
          <a:blip r:embed="rId3"/>
          <a:stretch/>
        </p:blipFill>
        <p:spPr>
          <a:xfrm>
            <a:off x="61437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Поделки из проволоки17.jpg"/>
          <p:cNvPicPr/>
          <p:nvPr/>
        </p:nvPicPr>
        <p:blipFill>
          <a:blip r:embed="rId4"/>
          <a:stretch/>
        </p:blipFill>
        <p:spPr>
          <a:xfrm>
            <a:off x="642960" y="3786120"/>
            <a:ext cx="3841560" cy="271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Поделки из проволоки15.jpg"/>
          <p:cNvPicPr/>
          <p:nvPr/>
        </p:nvPicPr>
        <p:blipFill>
          <a:blip r:embed="rId5"/>
          <a:stretch/>
        </p:blipFill>
        <p:spPr>
          <a:xfrm>
            <a:off x="5000760" y="3751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Техника безопасности при ручной гибки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ке, удерживающей заготовку, должна быть надета рукав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надежно закрепите заготовку с оправкой в тис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держать левую руку близко к месту сгиба загот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можно только исправным инструме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трезании заготовки нельзя подносить проволоку близко к 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ойте за спиной работающего, и не работайте, если кто-то стоит за 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актическая работ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7160" y="1785960"/>
            <a:ext cx="3657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полнить по технологической карте головоломку из проволо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929120" y="1714680"/>
            <a:ext cx="3498840" cy="469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PICT0027"/>
          <p:cNvPicPr/>
          <p:nvPr/>
        </p:nvPicPr>
        <p:blipFill>
          <a:blip r:embed="rId2"/>
          <a:stretch/>
        </p:blipFill>
        <p:spPr>
          <a:xfrm>
            <a:off x="1071720" y="3786120"/>
            <a:ext cx="3541680" cy="26560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гнут тонкую проволо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инструмент применяют для гибки.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ка безопасности при ручной г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Рисунок 3" descr="Поделки из проволоки11.jpg"/>
          <p:cNvPicPr/>
          <p:nvPr/>
        </p:nvPicPr>
        <p:blipFill>
          <a:blip r:embed="rId1"/>
          <a:stretch/>
        </p:blipFill>
        <p:spPr>
          <a:xfrm>
            <a:off x="2500200" y="3500280"/>
            <a:ext cx="4024440" cy="302436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повтор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основные правила необходимо соблюдать при резании тонколистового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тличаются промышленные механические ножницы от слесарных руч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9" descr=""/>
          <p:cNvPicPr/>
          <p:nvPr/>
        </p:nvPicPr>
        <p:blipFill>
          <a:blip r:embed="rId1"/>
          <a:stretch/>
        </p:blipFill>
        <p:spPr>
          <a:xfrm>
            <a:off x="927000" y="1365120"/>
            <a:ext cx="7521840" cy="42134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2840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учиться приемам гибки проволоки в тисках и с помощью различных приспособ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ток, слесарные тиски, оправки, плоскогубцы, заготовки металла и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3880" y="1071720"/>
            <a:ext cx="72154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зделия выполненные гибко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Рисунок 2" descr="ч2.jpg"/>
          <p:cNvPicPr/>
          <p:nvPr/>
        </p:nvPicPr>
        <p:blipFill>
          <a:blip r:embed="rId1"/>
          <a:stretch/>
        </p:blipFill>
        <p:spPr>
          <a:xfrm>
            <a:off x="1785960" y="1857240"/>
            <a:ext cx="5091120" cy="26956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ч3.jpg"/>
          <p:cNvPicPr/>
          <p:nvPr/>
        </p:nvPicPr>
        <p:blipFill>
          <a:blip r:embed="rId2"/>
          <a:stretch/>
        </p:blipFill>
        <p:spPr>
          <a:xfrm>
            <a:off x="1071720" y="4214880"/>
            <a:ext cx="6754680" cy="2876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8588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металла это придача новой формы заготовке (или ее части) механическим или ручным способом с помощью приспособ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нструменты и оборудование для ручной гибки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Содержимое 5" descr="23.jpg"/>
          <p:cNvPicPr/>
          <p:nvPr/>
        </p:nvPicPr>
        <p:blipFill>
          <a:blip r:embed="rId1"/>
          <a:stretch/>
        </p:blipFill>
        <p:spPr>
          <a:xfrm>
            <a:off x="5214960" y="2714760"/>
            <a:ext cx="2440080" cy="1143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sp>
        <p:nvSpPr>
          <p:cNvPr id="277" name=""/>
          <p:cNvSpPr txBox="1"/>
          <p:nvPr/>
        </p:nvSpPr>
        <p:spPr>
          <a:xfrm>
            <a:off x="785880" y="1499760"/>
            <a:ext cx="3657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проволоки, листового металла, полос, прутко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листового металла (же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й проволоки и узких полос тонколистового мет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заготовок различной фор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2" descr="23.jpg"/>
          <p:cNvPicPr/>
          <p:nvPr/>
        </p:nvPicPr>
        <p:blipFill>
          <a:blip r:embed="rId2"/>
          <a:stretch/>
        </p:blipFill>
        <p:spPr>
          <a:xfrm>
            <a:off x="4821120" y="1450800"/>
            <a:ext cx="286560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23.jpg"/>
          <p:cNvPicPr/>
          <p:nvPr/>
        </p:nvPicPr>
        <p:blipFill>
          <a:blip r:embed="rId3"/>
          <a:stretch/>
        </p:blipFill>
        <p:spPr>
          <a:xfrm>
            <a:off x="5214960" y="3929040"/>
            <a:ext cx="2435040" cy="100008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pic>
        <p:nvPicPr>
          <p:cNvPr id="280" name="Рисунок 7" descr="24.jpg"/>
          <p:cNvPicPr/>
          <p:nvPr/>
        </p:nvPicPr>
        <p:blipFill>
          <a:blip r:embed="rId4"/>
          <a:stretch/>
        </p:blipFill>
        <p:spPr>
          <a:xfrm>
            <a:off x="5214960" y="5000760"/>
            <a:ext cx="2428920" cy="1665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cxnSp>
        <p:nvCxnSpPr>
          <p:cNvPr id="281" name="Прямая со стрелкой 8"/>
          <p:cNvCxnSpPr/>
          <p:nvPr/>
        </p:nvCxnSpPr>
        <p:spPr>
          <a:xfrm>
            <a:off x="4572000" y="2214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2" name="Прямая со стрелкой 10"/>
          <p:cNvCxnSpPr/>
          <p:nvPr/>
        </p:nvCxnSpPr>
        <p:spPr>
          <a:xfrm>
            <a:off x="4572000" y="3357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3" name="Прямая со стрелкой 12"/>
          <p:cNvCxnSpPr/>
          <p:nvPr/>
        </p:nvCxnSpPr>
        <p:spPr>
          <a:xfrm>
            <a:off x="4643280" y="4500720"/>
            <a:ext cx="5011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4" name="Прямая со стрелкой 14"/>
          <p:cNvCxnSpPr/>
          <p:nvPr/>
        </p:nvCxnSpPr>
        <p:spPr>
          <a:xfrm>
            <a:off x="4572000" y="5928840"/>
            <a:ext cx="572400" cy="252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28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ибка тонколистового металла в тисках с помощью оправок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Рисунок 3" descr="1.bmp"/>
          <p:cNvPicPr/>
          <p:nvPr/>
        </p:nvPicPr>
        <p:blipFill>
          <a:blip r:embed="rId1"/>
          <a:stretch/>
        </p:blipFill>
        <p:spPr>
          <a:xfrm>
            <a:off x="2143080" y="1357200"/>
            <a:ext cx="4643640" cy="22258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928800" y="3643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ая соединительная линия 7"/>
          <p:cNvSpPr/>
          <p:nvPr/>
        </p:nvSpPr>
        <p:spPr>
          <a:xfrm>
            <a:off x="5429160" y="3929040"/>
            <a:ext cx="57168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3" descr="Гибка тонколистового металла с помощью оправок"/>
          <p:cNvPicPr/>
          <p:nvPr/>
        </p:nvPicPr>
        <p:blipFill>
          <a:blip r:embed="rId2"/>
          <a:stretch/>
        </p:blipFill>
        <p:spPr>
          <a:xfrm>
            <a:off x="2214720" y="4286160"/>
            <a:ext cx="4429080" cy="23734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Сгибание заготовок большой длины из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Рисунок 3" descr="Сгибание заготовок большой длины из тонколистового металла."/>
          <p:cNvPicPr/>
          <p:nvPr/>
        </p:nvPicPr>
        <p:blipFill>
          <a:blip r:embed="rId1"/>
          <a:stretch/>
        </p:blipFill>
        <p:spPr>
          <a:xfrm>
            <a:off x="1714680" y="1571760"/>
            <a:ext cx="5643360" cy="35002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928800" y="5214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ибка в гибочном штамп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Рисунок 3" descr="Гибка металла в гибочном штампе."/>
          <p:cNvPicPr/>
          <p:nvPr/>
        </p:nvPicPr>
        <p:blipFill>
          <a:blip r:embed="rId1"/>
          <a:srcRect l="0" t="2410" r="0" b="3302"/>
          <a:stretch/>
        </p:blipFill>
        <p:spPr>
          <a:xfrm>
            <a:off x="857160" y="1500120"/>
            <a:ext cx="7500960" cy="31431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928800" y="5000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55:26Z</dcterms:modified>
  <cp:revision>74</cp:revision>
  <dc:subject/>
  <dc:title>Изготовление изделий из проволоки</dc:title>
</cp:coreProperties>
</file>