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camera.wav" ContentType="audio/x-wav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2D619BC-2C86-4043-B344-A3A698A415A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зентация по экономи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Тем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НАЦИОНАЛЬН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C009A2A-A2B6-4C94-A5D8-1E3FE632605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Четыре подхода к пониманию сущности экономического потенциал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Экономический потенциал как совокупная способность отраслей народного хозяйств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Экономический потенциал как совокупность имеющихся в наличии ресурс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Отождествление терминов &lt;экономический потенциал&gt;, &lt;экономическая мощь&gt; и &lt;народно-хозяйственный потенциал&gt;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Экономический потенциал как результат экономических и производственных отношений между субъектами хозяйственной деятель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550C4CB-B454-4179-A4D2-8F6BC654B94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Трудовой потенциал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Трудовой потенциал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аны, региона, предприятия - располагаемые в настоящее время и предвидимые в будущей трудовые возможности, характеризуемые количеством трудоспособного населения, его профессионально-образовательным уровнем, другими качественными xapaктеристиками. Всеобщая отличительная черта международной рабочей силы - это функциональные особенности труда международных работников, обусловленные их включенностью в международные, политические, экономические и общественные структуры, их тесная связь с мировой экономикой, общечеловеческими социальными задачами развития человечества в цел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CF2876D-42AE-482F-928F-E9DB1D320B5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требительский потенциал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нимательский потенциал предприятия - совокупные возможности предприятия определять, формировать и максимально удовлетворять потребности потребителей в товарах и услугах в процессе оптимального взаимодействия с окружающей средой и рационального использования ресурс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тенциальный спрос - спрос, определяемый покупательной способностью, числом потенциальных потребителей и уровнем их потреб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6B09A5B-E581-444C-B4CB-B64DFEEF4C3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учный потенциал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новационный (научный) потенциал представляет из себя комплекс характеристик, выражающих возможности по подготовке и осуществлению в широких масштабах эффективных научно-технических нововведений, с тем чтобы устойчиво поддерживать современные ритмы обновления экономики, социальной сферы, культуры в интересах всего населения. Инновационный потенциал есть характеристика ресурсной базы инновационного развития страны. При этом оцениваются материальные, людские и финансовые ресурсы, сосредоточенные в сфере науки и научно-технических разработок, а также масштаб и структура инвестиций, обеспечивающих превращение разработок в реальные нововведения, их экономическое освоение и широкое распростран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щий инновационный потенциал страны можно представить как сумму единичных инновационных потенциалов предприятий, отраслей, некоммерческих организаций, региональных и иных структу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епень зрелости всей экономики в этом плане является отражением инновационной зрелости бизнеса в стране. Россия, несмотря на огромные понесенные потери исследовательского, инновационного и производственного потенциалов, по прежнему имеет значительные возможности с уверенностью входить в группу продвинутых стран с точки зрения научно-инновационного развития. Этому способствует имеющийся исторический опыт, традиции творчества, свойственные народу, накопленный конверсионный потенциал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B3D0A1A-0206-43EB-8FA7-6A6D63AA49F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екреационный комплекс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природный потенциал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креационные ресурсы составляют важнейшую часть природного потенциала региона. Кроме этого, их роль в формировании и развитии современного туризма в регионе постоянно повышается, особенно с эколого-географической точки зр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рекреационных ресурсов производится на основе пофакторной оценки каждой из составляющих: рельефа, водных объектов и почвенно-растительного покрова, биоклимат, гидроминеральных и уникальных природных лечебных ресурсов, историко-культурного потенциала и др.), рассматриваемой с точки зрения использования её конкретным видом туризм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обо охраняемые природные территории относятся к объектам общенационального достоя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личают следующие основные категории указанных территорий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осударственные природные заповедники, в том числе биосферные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циональные парк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родные парк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осударственные природные заказник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амятники природы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ндрологические парки и ботанические сады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ечебно-оздоровительные местности и курорты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3A6332B-6CEA-40DF-A125-52DDFE81DDF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ОБЛЕМЫ СБАЛАНСИРОВАННОСТИ НАЦИОНАЛЬНОЙ ЭКОНОМИК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Сбалансированность национальной экономики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означает соответствие между взаимосвязанными отраслями, между объемами производимых продуктов и потребностями в них. Основу сбалансированности составляет пропорциональность. Сбалансированность и пропорциональность в реальной действительности обычно неустойчивы и постоянно нарушаются. Например, экономический рост ведет к установлению новых пропорций и новой сбалансированности. Поскольку полного соответствия между отраслями в реальной жизни не бывает, существует постоянная необходимость в поддержании сбалансированности путем корректировки пропорций между отдельными сферами экономики, а также внутри них. В материальном производстве для этого нужно, прежде всего, обеспечить соответствие между первым и вторым подразделениями, т.е. между производством средств производства и предметов потребления. Если такое соответствие будет нарушено, то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 подразделение не сможет обеспечить средствами производства оба подразделения, а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I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 подразделение — предметами потребления занятых и дополнительно привлекаемых работников обоих подраздел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3D52F15-5722-43D3-A578-770A6B61783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гнозирование и планирование национальной экономики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протяжении многих десятилетий макроэкономическое планирование зарубежными исследователями противопоставлялось центра­лизованному планированию, а рынок — плану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ючевые факторы, определяющие вид планирования, зависят от соотношения государственного и частного влияния на общественно-политические и социально-экономические  процессы. В современной зарубежной литературе выделяются следующие типы макроэкономического планирования: директивное (административно-командное), индирективное,  регулятивное, индикативное и стратегическо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9DD7246-20FF-4B7D-8A20-09450D9FA8D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искальная политика государства и ее влияние на объем национального производств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 фискальной (налоговой) политикой государства понимается постоянное вмешательство государства в экономические процессы и явления с целью регулирования их протекания. Это совокупность мероприятий в сфере налогообложения, направленных на формирование доходной части государственного бюджета, повышение эффективности функционирования всей национальной экономики, обеспечение экономического роста, занятости населения и стабильности денежного обращ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развитых государствах через бюджеты распределяется примерно 1/5 валового национального продукта или 40-50 процентов годового национального дохода. Такие средства позволяют проводить структурную перестройку производства, осваивать новейшие технологии и разрабатывать крупномасштабные научно-технические программы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CC2D722-4392-4CD7-8AF0-F85BA6680A0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Экономический рост национальной хозяйственной системы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Экономический рост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это количественное и качественное совершенствование общественного продукта за определенный период времен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Цели эффективного экономического роста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увеличения продолжительности жизн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снижения заболеваемости и травматизм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повышения уровня образования и культур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более полного удовлетворения потребностей и рационализации потребл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социальной стабильности и уверенности в своем будуще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преодоления нищеты и кричащих различий в уровне жизн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достижения максимальной занят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защиты окружающей среды и повышения экологической безопасн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снижения преступ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казатели экономического рос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вое выражение экономический рост находит в увеличении потенциального и реального валового национального продукта (ВНП) или валового внутреннего продукта (ВВП), в возрастании экономической мощи нации, страны, регио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нное выражение можно измерить двумя взаимосвязанными показателями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рост за определенный период реального ВВП (ВНП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рост ВВП (ВНП) на душу насе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ВВП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обобщающий экономический показатель, который выражает в рыночных ценах совокупную стоимость товара, работ и услуг, созданных внутри страны, и только с использованием факторов производства данной стра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ВНП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– совокупная стоимость конечных товаров, услуг, созданных не только внутри страны, но и за ее предел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DE36806-0350-4CC5-8BE5-5F9F32D40DC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хема кругооборота национальной эконом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2263885-4B34-424B-A2E1-3602CA07B3A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нятие национальной экономик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циональная экономика является исторически сложившейся системой общественного воспроизводства страны, взаимосвязанной системой отраслей и видов производств, охватывающей существующие в народном хозяйстве формы общественного труда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циональная экономика состоит из ряда крупных сфер: материальное и нематериальное производство, непроизводственная сфе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жнейшей составной частью национальной экономики является материальное производство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котором создаются необходимые для жизни и развития общества средства производства и предметы потребления. В материальное производство входят такие отрасли, как промышленность, сельское хозяйство, строительство, транспорт, торговля, связь. Крупнейшей отраслью материального производства является промышленность, состоящая из двух групп отраслей — добывающей и обрабатывающ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экономической теории среди предприятий материальной сферы выделяют предприятия по производству средств производства и производству предметов потребл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материальное производство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личается от материального своим продуктом, имеющим нематериальную форму: научные знания и информация; произведения искусства (кинофильмы, книги, театральные постановки); услуги, оказываемые населению. Нематериальное производство включает науку и научное обслуживание, искусство и культуру, образование, здравоохранение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производственная сфера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обходима обществу, т.к. в нее входят содержание армии, судебные и юридические органы, религиозные учреждения, другие общественные организ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5087744-06C5-4172-844F-410C39E7D01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хема макроэкономических связ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B81E043-FCFE-42B2-BA38-4C11E4B24AD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ВП как показатель уровня национальной экономики (РФ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4174ABE-C0DC-4576-8239-AA494ED5281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едмет национальной экономики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циональная экономика как целостный организм характеризуется следующими признаками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Общее экономическое пространство с единым законодательством, единой денежной единицей, общей кредитно-денежной и финансовой системо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Наличие тесных экономических связей между хозяйственными субъектами с общим воспроизводственным контуро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Территориальная определенность с общим экономическим центром, который выполняет регулирующую и координационную роль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320B18C-7474-4D3D-9850-27F2091D895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дачи национальной экономик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Стабильные высокие темпы роста национального объема про­изводств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Стабильность цен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Поддержание внешнеторгового баланса.. Если в страну ввозится больше товаров, чем продается за границу, то возникает отрицательное сальдо торгового баланса. Если вывозится больше товаров, чем поступает в страну, то говорят о положительном сальдо. Повышение или понижение курса валют может изменить достигнутый баланс и вызвать положительное или отрицательное сальд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Высокий уровень занятости. Он достигается в случае, если каждый желающий получить работу находит ее. В любой стране в каждый данный момент времени есть определенное количество людей, временно не работающих в связи со сменой места работы или места жительства. Кроме того, всегда есть структурная безработица, обусловленная несоответствием структуры новых рабочих мест, свя­занных с внедрением новых технологий, имеющейся структуре рабочей силы и отставанием последней по квалификационным требованиям и новым профессиям от спроса на эти професс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38E11FE-EFBF-4CC8-A1F1-7F973DF0956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струменты макроэкономического регулирования.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скальная политика (оперирование государственным бюджетом через налоговую систему и расходы государства)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нежно-кредитная политика (контроль за денежным предложением через ставку процента, резервную норму и другие инструменты)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итика регулирования доходов (от свободного установления заработной платы и цен до декретного контроля)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нешнеэкономическая политика (торговая политика, регулирование обменного курса)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щим и конечным результатами функционирования национальной экономики являются приращение национального богатства, объемов прибыльных и нужных обществу товаров и услуг, наиболее эффективное использование ограниченных людских и материальных ресурсов. Показатели приращения национального богатства - ВОП, НД (национальный доход), ВНП (валовый национальный продукт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37A8941-6331-4E1A-88CE-A99FF84DD46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труктура национальной экономи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уктура национальной экономики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ставляет собой устойчивые количественные соотношения между ее составными частями. Различают воспроизводственную, социальную, территориальную структуры и инфраструктуру национальной экономики. Вос­производственная структура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ражает ее деление на наиболее массовые виды экономических субъектов, которые воспроизводятся сами и в результате своей деятельности воспроизводят потоки товаров и услуг между ними. В экономике каждой страны можно выделить три крупные взаимосвязанные группы воспроизводственной структуры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ашние хозяй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риятия (предпринимательский бизнес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B8619B6-E3C0-40CB-8E59-8D53EF818A6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ипы национальных хозяйственных систем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1 тип -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ыночная экономик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в которой доминирующей формой взаимодействия между участниками хозяйственного процесса является обмен. Под обменом, в соответствии с классическим пониманием, подразумевает "двустороннее движение товаров между субъектами, ориентированными на прибыль, получающуюся в результате для каждого от итогов соглашения"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2 тип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едистрибутивные или командно-административна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В редистрибутивных экономиках преобладает движение благ и услуг к Центру и из него, независимо от того, осуществляется ли передвижение объектов физически или меняется только порядок права их присвоения без каких-либо изменений в действительном размещении ресурса или продукта. Редистрибуция представляет собой аккумуляцию, собирание, совмещенные с новым, вторичным распределением и раздачей. Именно через редистрибуцию в этих обществах достигается воссоединение распределенного, разделенного тру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0CAC0E4-30AE-4F1D-8051-07E4B5B9786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лавные пропорции национальной экономик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порции между I и II подразделениями материального производства. Они характеризуются соотношением объемов производства средств производ­ства и предметов потребления в ВНП, численностью работающих в каждом из этих подразделений, стоимостью их основных производственных фондов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порции между фондами накопления и потребления в национальном доходе. От этих пропорций зависят темпы расширенного воспроизводства, решение социальных и производственных задач. Каждая национальная экономика стремится к установлению оптимальных пропорций, обеспечивающих наиболее полное удовлетворение общественных потребностей при наименьших затратах живого и овеществленного труда. С точки зрения воспроизводства оптимальные пропорции означают качественное и количественное соответствие между структурой общественного производства и структурой общественных потребност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033D1CA-D8DE-4730-8FE8-1C11C0D9CB0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стойчивые тенденции изменения пропорци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вышение технического уровня производства, проявляющееся в росте фондовооруженности труда, количестве сырья и материалов, перерабатываемых работниками, что ведет к опережению объемов производственных фондов по отношению к численности работающих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ережающее развитие электроэнергетики, машино- и приборостроения, химической промышленности и других наукоемких отраслей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величение доли непроизводственной сферы по сравнению с отраслями материального производств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ережающее развитие обрабатывающей промышленности по отношению к добывающей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ширение участия в международном разделении труда, которое выражается в более быстром увеличении внешне­торгового оборота по сравнению с ростом производства в стран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001BDD9-F7DF-43B4-8DAA-BF1C16EED45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A64E6-E96A-403D-AE11-EDD28C769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66842-2F99-4DC9-8B3A-82F3B149F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B1AA0-2B78-4401-AC8C-604F1DD4D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04EE0-5702-4BEC-9F8F-AD0E2AF60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7CC46-7103-43BA-B688-2CC1332CB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75F0A-E0EA-4538-956D-E97853DD7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98D0D-56B9-4442-84DA-C97338E05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01E92-EEC6-40A9-960E-84FA58215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D6D30-6F6D-4E1A-B7E3-610FD757F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C3814-0771-474E-A106-533C6F194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47B9E-3B06-4AE9-A7BA-6002D7894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4D10E-DCF0-49DB-93F7-83D8CDBF0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7dee8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DE229A9-DE30-4961-9453-D2BC92C48EEB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FE34C77-9BE1-4F6A-9029-654F0E2D0D2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42960" y="1428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езентация по экономик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85920" y="3000240"/>
            <a:ext cx="6400800" cy="22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Тема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НАЦИОНАЛЬНАЯ ЭКОНОМИ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004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етыре подхода к пониманию сущности экономического потенциал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28760" y="2142720"/>
            <a:ext cx="822960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Экономический потенциал как совокупная способность отраслей народного хозяйства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Экономический потенциал как совокупность имеющихся в наличии ресурсов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Отождествление терминов &lt;экономический потенциал&gt;, &lt;экономическая мощь&gt; и &lt;народно-хозяйственный потенциал&gt;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Экономический потенциал как результат экономических и производственных отношений между субъектами хозяйственной деятельност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Трудовой потенциал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рудовой потенциал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раны, региона, предприятия - располагаемые в настоящее время и предвидимые в будущей трудовые возможности, характеризуемые количеством трудоспособного населения, его профессионально-образовательным уровнем, другими качественными xapaктеристиками. Всеобщая отличительная черта международной рабочей силы - это функциональные особенности труда международных работников, обусловленные их включенностью в международные, политические, экономические и общественные структуры, их тесная связь с мировой экономикой, общечеловеческими социальными задачами развития человечества в цело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1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отребительский потенциал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едпринимательский потенциал предприятия - совокупные возможности предприятия определять, формировать и максимально удовлетворять потребности потребителей в товарах и услугах в процессе оптимального взаимодействия с окружающей средой и рационального использования ресурсов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тенциальный спрос - спрос, определяемый покупательной способностью, числом потенциальных потребителей и уровнем их потребност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Научный потенциал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нновационный (научный) потенциал представляет из себя комплекс характеристик, выражающих возможности по подготовке и осуществлению в широких масштабах эффективных научно-технических нововведений, с тем чтобы устойчиво поддерживать современные ритмы обновления экономики, социальной сферы, культуры в интересах всего населения. Инновационный потенциал есть характеристика ресурсной базы инновационного развития страны. При этом оцениваются материальные, людские и финансовые ресурсы, сосредоточенные в сфере науки и научно-технических разработок, а также масштаб и структура инвестиций, обеспечивающих превращение разработок в реальные нововведения, их экономическое освоение и широкое распространение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бщий инновационный потенциал страны можно представить как сумму единичных инновационных потенциалов предприятий, отраслей, некоммерческих организаций, региональных и иных структур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тепень зрелости всей экономики в этом плане является отражением инновационной зрелости бизнеса в стране. Россия, несмотря на огромные понесенные потери исследовательского, инновационного и производственного потенциалов, по прежнему имеет значительные возможности с уверенностью входить в группу продвинутых стран с точки зрения научно-инновационного развития. Этому способствует имеющийся исторический опыт, традиции творчества, свойственные народу, накопленный конверсионный потенциал.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Рекреационный комплекс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(природный потенциал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екреационные ресурсы составляют важнейшую часть природного потенциала региона. Кроме этого, их роль в формировании и развитии современного туризма в регионе постоянно повышается, особенно с эколого-географической точки зрения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ценка рекреационных ресурсов производится на основе пофакторной оценки каждой из составляющих: рельефа, водных объектов и почвенно-растительного покрова, биоклимат, гидроминеральных и уникальных природных лечебных ресурсов, историко-культурного потенциала и др.), рассматриваемой с точки зрения использования её конкретным видом туризма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собо охраняемые природные территории относятся к объектам общенационального достояния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зличают следующие основные категории указанных территорий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осударственные природные заповедники, в том числе биосферные;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циональные парки;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иродные парки;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осударственные природные заказники;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амятники природы;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ендрологические парки и ботанические сады;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лечебно-оздоровительные местности и курорты.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14240" y="356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ПРОБЛЕМЫ СБАЛАНСИРОВАННОСТИ НАЦИОНАЛЬНОЙ ЭКОНОМИК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42960" y="2071800"/>
            <a:ext cx="7772400" cy="3714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балансированность национальной экономики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означает соответствие между взаимосвязанными отраслями, между объемами производимых продуктов и потребностями в них. Основу сбалансированности составляет пропорциональность. Сбалансированность и пропорциональность в реальной действительности обычно неустойчивы и постоянно нарушаются. Например, экономический рост ведет к установлению новых пропорций и новой сбалансированности. Поскольку полного соответствия между отраслями в реальной жизни не бывает, существует постоянная необходимость в поддержании сбалансированности путем корректировки пропорций между отдельными сферами экономики, а также внутри них. В материальном производстве для этого нужно, прежде всего, обеспечить соответствие между первым и вторым подразделениями, т.е. между производством средств производства и предметов потребления. Если такое соответствие будет нарушено, то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подразделение не сможет обеспечить средствами производства оба подразделения, а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I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подразделение — предметами потребления занятых и дополнительно привлекаемых работников обоих подразделений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огнозирование и планирование национальной экономики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28760" y="1928880"/>
            <a:ext cx="822960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76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протяжении многих десятилетий макроэкономическое планирование зарубежными исследователями противопоставлялось центра­лизованному планированию, а рынок — плану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76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лючевые факторы, определяющие вид планирования, зависят от соотношения государственного и частного влияния на общественно-политические и социально-экономические  процессы. В современной зарубежной литературе выделяются следующие типы макроэкономического планирования: директивное (административно-командное), индирективное,  регулятивное, индикативное и стратегическо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76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76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Фискальная политика государства и ее влияние на объем национального производств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д фискальной (налоговой) политикой государства понимается постоянное вмешательство государства в экономические процессы и явления с целью регулирования их протекания. Это совокупность мероприятий в сфере налогообложения, направленных на формирование доходной части государственного бюджета, повышение эффективности функционирования всей национальной экономики, обеспечение экономического роста, занятости населения и стабильности денежного обращения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развитых государствах через бюджеты распределяется примерно 1/5 валового национального продукта или 40-50 процентов годового национального дохода. Такие средства позволяют проводить структурную перестройку производства, осваивать новейшие технологии и разрабатывать крупномасштабные научно-технические программы.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Экономический рост национальной хозяйственной системы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28760" y="1785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Экономический рост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это количественное и качественное совершенствование общественного продукта за определенный период времен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Цели эффективного экономического роста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увеличения продолжительности жизн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снижения заболеваемости и травматизм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повышения уровня образования и культур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более полного удовлетворения потребностей и рационализации потребл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социальной стабильности и уверенности в своем будуще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преодоления нищеты и кричащих различий в уровне жизн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достижения максимальной занят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защиты окружающей среды и повышения экологической безопасн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снижения преступ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казатели экономического рос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вое выражение экономический рост находит в увеличении потенциального и реального валового национального продукта (ВНП) или валового внутреннего продукта (ВВП), в возрастании экономической мощи нации, страны, регио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нное выражение можно измерить двумя взаимосвязанными показателями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рост за определенный период реального ВВП (ВНП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рост ВВП (ВНП) на душу насе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ВВП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обобщающий экономический показатель, который выражает в рыночных ценах совокупную стоимость товара, работ и услуг, созданных внутри страны, и только с использованием факторов производства данной стра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ВНП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– совокупная стоимость конечных товаров, услуг, созданных не только внутри страны, но и за ее предел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1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1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Схема кругооборота национальной экономик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Содержимое 5" descr="Баланс.JPG"/>
          <p:cNvPicPr/>
          <p:nvPr/>
        </p:nvPicPr>
        <p:blipFill>
          <a:blip r:embed="rId1"/>
          <a:stretch/>
        </p:blipFill>
        <p:spPr>
          <a:xfrm>
            <a:off x="1719360" y="1762200"/>
            <a:ext cx="5705280" cy="4200480"/>
          </a:xfrm>
          <a:prstGeom prst="rect">
            <a:avLst/>
          </a:prstGeom>
          <a:ln w="0">
            <a:noFill/>
          </a:ln>
        </p:spPr>
      </p:pic>
      <p:sp>
        <p:nvSpPr>
          <p:cNvPr id="104" name="Заголовок 3"/>
          <p:cNvSpPr/>
          <p:nvPr/>
        </p:nvSpPr>
        <p:spPr>
          <a:xfrm>
            <a:off x="571680" y="5715000"/>
            <a:ext cx="821520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42960" y="500040"/>
            <a:ext cx="777240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ОНЯТИЕ НАЦИОНАЛЬНОЙ ЭКОНОМИ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14240" y="142884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Национальная экономика является исторически сложившейся системой общественного воспроизводства страны, взаимосвязанной системой отраслей и видов производств, охватывающей существующие в народном хозяйстве формы общественного труда.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Национальная экономика состоит из ряда крупных сфер: материальное и нематериальное производство, непроизводственная сфера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Важнейшей составной частью национальной экономики является материальное производство</a:t>
            </a:r>
            <a:r>
              <a:rPr b="0" i="1" lang="ru-RU" sz="1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в котором создаются необходимые для жизни и развития общества средства производства и предметы потребления. В материальное производство входят такие отрасли, как промышленность, сельское хозяйство, строительство, транспорт, торговля, связь. Крупнейшей отраслью материального производства является промышленность, состоящая из двух групп отраслей — добывающей и обрабатывающей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В экономической теории среди предприятий материальной сферы выделяют предприятия по производству средств производства и производству предметов потребления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Нематериальное производство</a:t>
            </a:r>
            <a:r>
              <a:rPr b="0" i="1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отличается от материального своим продуктом, имеющим нематериальную форму: научные знания и информация; произведения искусства (кинофильмы, книги, театральные постановки); услуги, оказываемые населению. Нематериальное производство включает науку и научное обслуживание, искусство и культуру, образование, здравоохранение и др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Непроизводственная сфера</a:t>
            </a:r>
            <a:r>
              <a:rPr b="0" i="1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необходима обществу, т.к. в нее входят содержание армии, судебные и юридические органы, религиозные учреждения, другие общественные организации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ru-RU" sz="14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ru-RU" sz="14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ru-RU" sz="14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ru-RU" sz="14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ru-RU" sz="1400" spc="-1" strike="noStrike">
                <a:solidFill>
                  <a:srgbClr val="898989"/>
                </a:solidFill>
                <a:latin typeface="Calibri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Схема макроэкономических связе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Содержимое 3" descr="Баланс.JPG"/>
          <p:cNvPicPr/>
          <p:nvPr/>
        </p:nvPicPr>
        <p:blipFill>
          <a:blip r:embed="rId1"/>
          <a:stretch/>
        </p:blipFill>
        <p:spPr>
          <a:xfrm>
            <a:off x="1554120" y="1871640"/>
            <a:ext cx="6053040" cy="3992760"/>
          </a:xfrm>
          <a:prstGeom prst="rect">
            <a:avLst/>
          </a:prstGeom>
          <a:ln w="0">
            <a:noFill/>
          </a:ln>
        </p:spPr>
      </p:pic>
      <p:sp>
        <p:nvSpPr>
          <p:cNvPr id="108" name="Заголовок 1"/>
          <p:cNvSpPr/>
          <p:nvPr/>
        </p:nvSpPr>
        <p:spPr>
          <a:xfrm>
            <a:off x="500040" y="5929200"/>
            <a:ext cx="82296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ВП как показатель уровня национальной экономики (РФ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457200" y="1785960"/>
          <a:ext cx="8229600" cy="3784680"/>
        </p:xfrm>
        <a:graphic>
          <a:graphicData uri="http://schemas.openxmlformats.org/drawingml/2006/table">
            <a:tbl>
              <a:tblPr/>
              <a:tblGrid>
                <a:gridCol w="1646280"/>
                <a:gridCol w="1646280"/>
                <a:gridCol w="1644480"/>
                <a:gridCol w="1646280"/>
                <a:gridCol w="1646280"/>
              </a:tblGrid>
              <a:tr h="4730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ери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ндекс-дефлято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730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 кварта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5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50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98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64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730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 кварта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8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07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46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74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730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 полугод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7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958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45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716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730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 кварта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0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29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15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53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734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нварь – сентябр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8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588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160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575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730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V кварта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55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1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69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730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4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243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870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870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112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едмет национальной экономики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циональная экономика как целостный организм характеризуется следующими признаками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Общее экономическое пространство с единым законодательством, единой денежной единицей, общей кредитно-денежной и финансовой системой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Наличие тесных экономических связей между хозяйственными субъектами с общим воспроизводственным контуром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Территориальная определенность с общим экономическим центром, который выполняет регулирующую и координационную роль.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Задачи национальной экономик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 Стабильные высокие темпы роста национального объема про­изводства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Стабильность цен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 Поддержание внешнеторгового баланса.. Если в страну ввозится больше товаров, чем продается за границу, то возникает отрицательное сальдо торгового баланса. Если вывозится больше товаров, чем поступает в страну, то говорят о положительном сальдо. Повышение или понижение курса валют может изменить достигнутый баланс и вызвать положительное или отрицательное сальдо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 Высокий уровень занятости. Он достигается в случае, если каждый желающий получить работу находит ее. В любой стране в каждый данный момент времени есть определенное количество людей, временно не работающих в связи со сменой места работы или места жительства. Кроме того, всегда есть структурная безработица, обусловленная несоответствием структуры новых рабочих мест, свя­занных с внедрением новых технологий, имеющейся структуре рабочей силы и отставанием последней по квалификационным требованиям и новым профессиям от спроса на эти професси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Инструменты макроэкономического регулирования.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искальная политика (оперирование государственным бюджетом через налоговую систему и расходы государства)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енежно-кредитная политика (контроль за денежным предложением через ставку процента, резервную норму и другие инструменты)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литика регулирования доходов (от свободного установления заработной платы и цен до декретного контроля)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нешнеэкономическая политика (торговая политика, регулирование обменного курса)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щим и конечным результатами функционирования национальной экономики являются приращение национального богатства, объемов прибыльных и нужных обществу товаров и услуг, наиболее эффективное использование ограниченных людских и материальных ресурсов. Показатели приращения национального богатства - ВОП, НД (национальный доход), ВНП (валовый национальный продукт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85880" y="357120"/>
            <a:ext cx="7772400" cy="6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ТРУКТУРА НАЦИОНАЛЬНОЙ ЭКОНОМИ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14240" y="1285560"/>
            <a:ext cx="7772400" cy="471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труктура национальной экономики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едставляет собой устойчивые количественные соотношения между ее составными частями. Различают воспроизводственную, социальную, территориальную структуры и инфраструктуру национальной экономики. Вос­производственная структура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тражает ее деление на наиболее массовые виды экономических субъектов, которые воспроизводятся сами и в результате своей деятельности воспроизводят потоки товаров и услуг между ними. В экономике каждой страны можно выделить три крупные взаимосвязанные группы воспроизводственной структуры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омашние хозяйств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едприятия (предпринимательский бизнес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Государство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0" algn="r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0" algn="r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Типы национальных хозяйственных систем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76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 тип -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ыночная экономик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в которой доминирующей формой взаимодействия между участниками хозяйственного процесса является обмен. Под обменом, в соответствии с классическим пониманием, подразумевает "двустороннее движение товаров между субъектами, ориентированными на прибыль, получающуюся в результате для каждого от итогов соглашения"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76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 тип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едистрибутивные или командно-административна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В редистрибутивных экономиках преобладает движение благ и услуг к Центру и из него, независимо от того, осуществляется ли передвижение объектов физически или меняется только порядок права их присвоения без каких-либо изменений в действительном размещении ресурса или продукта. Редистрибуция представляет собой аккумуляцию, собирание, совмещенные с новым, вторичным распределением и раздачей. Именно через редистрибуцию в этих обществах достигается воссоединение распределенного, разделенного труд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76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76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Главные пропорции национальной экономик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порции между I и II подразделениями материального производства. Они характеризуются соотношением объемов производства средств производ­ства и предметов потребления в ВНП, численностью работающих в каждом из этих подразделений, стоимостью их основных производственных фондов.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порции между фондами накопления и потребления в национальном доходе. От этих пропорций зависят темпы расширенного воспроизводства, решение социальных и производственных задач. Каждая национальная экономика стремится к установлению оптимальных пропорций, обеспечивающих наиболее полное удовлетворение общественных потребностей при наименьших затратах живого и овеществленного труда. С точки зрения воспроизводства оптимальные пропорции означают качественное и количественное соответствие между структурой общественного производства и структурой общественных потребносте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стойчивые тенденции изменения пропорц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вышение технического уровня производства, проявляющееся в росте фондовооруженности труда, количестве сырья и материалов, перерабатываемых работниками, что ведет к опережению объемов производственных фондов по отношению к численности работающих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ережающее развитие электроэнергетики, машино- и приборостроения, химической промышленности и других наукоемких отраслей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величение доли непроизводственной сферы по сравнению с отраслями материального производства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ережающее развитие обрабатывающей промышленности по отношению к добывающей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сширение участия в международном разделении труда, которое выражается в более быстром увеличении внешне­торгового оборота по сравнению с ростом производства в стран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2T09:53:24Z</dcterms:created>
  <dc:creator>Калинин Иван</dc:creator>
  <dc:description/>
  <dc:language>en-US</dc:language>
  <cp:lastModifiedBy>LEGION</cp:lastModifiedBy>
  <dcterms:modified xsi:type="dcterms:W3CDTF">2014-11-10T11:31:05Z</dcterms:modified>
  <cp:revision>18</cp:revision>
  <dc:subject/>
  <dc:title>Слайд 1</dc:title>
</cp:coreProperties>
</file>