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0AADB8-1DC6-4CC3-A086-3C285E6776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080687-0D21-4F83-A86D-41443D6F0D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47826A-1059-4322-87E6-7C7DB6C543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FD2FF7-9C1F-4C58-881C-D56BECF21A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потенциал предприятия - совокупные возможности предприятия определять, формировать и максимально удовлетворять потребности потребителей в товарах и услугах в процессе оптимального взаимодействия с окружающей средой и рационального использования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й спрос - спрос, определяемый покупательной способностью, числом потенциальных потребителей и уровнем их потре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AD5FCA-13F4-4FFE-8473-1C37761764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56A4F5-6281-4612-B9AD-8F7E2A6838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613C3E-39B0-4CD2-A041-53B965BC69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0876D4-411D-4CB9-9432-43754F7B24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F200C7-9754-4625-81F4-CBDCC2940F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986FFC-DE2E-4949-B30D-ADD6B68CFF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5BC5F8-D726-4BE1-828D-08E54EBF60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D94A8B-61AA-4F70-9CAA-EAABDE2696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1C332A-54E1-475D-8415-E2CA976B7A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7B2688-9415-46ED-873A-AC7C49E0F2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E28973-D4CC-4BD8-BD48-CEB37032B2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6CBA1A-77F5-475A-A597-AD16DFFF1E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8F0E84-2C88-4660-9836-85D0CD5CCA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F1D1CC-2BB0-427D-9F40-91D7A61F70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F450DF-D159-4809-A076-E1B34293F5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94872A-2511-4B4A-8DD3-949476B3DA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FEAB85-38C8-4A88-996E-C981506588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F1F3F0-B5F6-4F30-AA1F-E09DAB8EFD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72A-5DD7-43D8-B91B-DE31A99F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BB3-F01E-4041-82DA-E34327BE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9A2-B2D4-48CB-B9FF-8F616284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389-BED4-46E9-8D93-86E2FE21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E81-3FD6-4EBA-9A87-F71248D2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64E-C6F2-41E1-9FBC-DEBCB722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011-9E03-45A5-B6A6-4D34DEF7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028-3007-4541-8244-9346B83E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A84-A928-4B0C-9F47-7E9EF6D4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AA0-3DB5-4A50-8BB8-81F3E85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70E-4CDD-4102-AF35-2BDB79B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9CF-DC1D-45C1-A4B9-3C4C4B19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ee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52B21E-2C02-4210-928B-E2E43FB2FA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DFEE72-3700-4FEE-A2AE-808FDC108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по эконом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3000240"/>
            <a:ext cx="6400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АЦИОНАЛЬНАЯ ЭКОН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подхода к пониманию сущности экономического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2142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кономический потенциал как совокупная способность отраслей народного хозяйст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Экономический потенциал как совокупность имеющихся в наличии ресурс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ождествление терминов &lt;экономический потенциал&gt;, &lt;экономическая мощь&gt; и &lt;народно-хозяйственный потенциал&gt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Экономический потенциал как результат экономических и производственных отношений между субъектами хозяйствен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ой потенциа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ы, региона, предприятия - располагаемые в настоящее время и предвидимые в будущей трудовые возможности, характеризуемые количеством трудоспособного населения, его профессионально-образовательным уровнем, другими качественными xapaктеристиками. Всеобщая отличительная черта международной рабочей силы - это функциональные особенности труда международных работников, обусловленные их включенностью в международные, политические, экономические и общественные структуры, их тесная связь с мировой экономикой, общечеловеческими социальными задачами развития человечества в це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требительски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нимательский потенциал предприятия - совокупные возможности предприятия определять, формировать и максимально удовлетворять потребности потребителей в товарах и услугах в процессе оптимального взаимодействия с окружающей средой и рационального использования ресур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нциальный спрос - спрос, определяемый покупательной способностью, числом потенциальных потребителей и уровнем их потреб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учный потенциа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новационный (научный) потенциал представляет из себя комплекс характеристик, выражающих возможности по подготовке и осуществлению в широких масштабах эффективных научно-технических нововведений, с тем чтобы устойчиво поддерживать современные ритмы обновления экономики, социальной сферы, культуры в интересах всего населения. Инновационный потенциал есть характеристика ресурсной базы инновационного развития страны. При этом оцениваются материальные, людские и финансовые ресурсы, сосредоточенные в сфере науки и научно-технических разработок, а также масштаб и структура инвестиций, обеспечивающих превращение разработок в реальные нововведения, их экономическое освоение и широкое распростра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инновационный потенциал страны можно представить как сумму единичных инновационных потенциалов предприятий, отраслей, некоммерческих организаций, региональных и иных структу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ь зрелости всей экономики в этом плане является отражением инновационной зрелости бизнеса в стране. Россия, несмотря на огромные понесенные потери исследовательского, инновационного и производственного потенциалов, по прежнему имеет значительные возможности с уверенностью входить в группу продвинутых стран с точки зрения научно-инновационного развития. Этому способствует имеющийся исторический опыт, традиции творчества, свойственные народу, накопленный конверсионный потенциал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реационный комплекс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природный потенциа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реационные ресурсы составляют важнейшую часть природного потенциала региона. Кроме этого, их роль в формировании и развитии современного туризма в регионе постоянно повышается, особенно с эколого-географической точки зр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ка рекреационных ресурсов производится на основе пофакторной оценки каждой из составляющих: рельефа, водных объектов и почвенно-растительного покрова, биоклимат, гидроминеральных и уникальных природных лечебных ресурсов, историко-культурного потенциала и др.), рассматриваемой с точки зрения использования её конкретным видом тур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о охраняемые природные территории относятся к объектам общенационального достоя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основные категории указанных территор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поведники, в том числе биосферны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иональ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пар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ударственные природные заказни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ники приро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ндрологические парки и ботанические сад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чебно-оздоровительные местности и курорты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БЛЕМЫ СБАЛАНСИРОВАННОСТИ НАЦИОНАЛЬНОЙ ЭКОНОМИ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2071800"/>
            <a:ext cx="7772400" cy="37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балансированность национальной экономик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значает соответствие между взаимосвязанными отраслями, между объемами производимых продуктов и потребностями в них. Основу сбалансированности составляет пропорциональность. Сбалансированность и пропорциональность в реальной действительности обычно неустойчивы и постоянно нарушаются. Например, экономический рост ведет к установлению новых пропорций и новой сбалансированности. Поскольку полного соответствия между отраслями в реальной жизни не бывает, существует постоянная необходимость в поддержании сбалансированности путем корректировки пропорций между отдельными сферами экономики, а также внутри них. В материальном производстве для этого нужно, прежде всего, обеспечить соответствие между первым и вторым подразделениями, т.е. между производством средств производства и предметов потребления. Если такое соответствие будет нарушено, т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не сможет обеспечить средствами производства оба подразделения, 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одразделение — предметами потребления занятых и дополнительно привлекаемых работников обоих подразде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ирование и планирование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многих десятилетий макроэкономическое планирование зарубежными исследователями противопоставлялось центра­лизованному планированию, а рынок — план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факторы, определяющие вид планирования, зависят от соотношения государственного и частного влияния на общественно-политические и социально-экономические  процессы. В современной зарубежной литературе выделяются следующие типы макроэкономического планирования: директивное (административно-командное), индирективное,  регулятивное, индикативное и стратегическ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скальная политика государства и ее влияние на объем национального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фискальной (налоговой) политикой государства понимается постоянное вмешательство государства в экономические процессы и явления с целью регулирования их протекания. Это совокупность мероприятий в сфере налогообложения, направленных на формирование доходной части государственного бюджета, повышение эффективности функционирования всей национальной экономики, обеспечение экономического роста, занятости населения и стабильности денежного обра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звитых государствах через бюджеты распределяется примерно 1/5 валового национального продукта или 40-50 процентов годового национального дохода. Такие средства позволяют проводить структурную перестройку производства, осваивать новейшие технологии и разрабатывать крупномасштабные научно-технические программы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кономический рост национальной хозяйственной систе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Экономический рос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количественное и качественное совершенствование общественного продукта за определенный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и эффективного экономического ро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величения продолжительности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заболеваемости и травмат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ышения уровня образования и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олее полного удовлетворения потребностей и рационализации потреб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циальной стабильности и уверенности в своем буду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одоления нищеты и кричащих различий в уровне жизн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стижения максимальной занят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щиты окружающей среды и повышения экологической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я преступ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и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потенциального и реального валового национального продукта (ВНП) или валового внутреннего продукта (ВВП), в возрастании экономической мощи нации, страны,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выражение можно измерить двумя взаимосвязанными показателями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за определенный период реального ВВП (ВНП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ост ВВП (ВНП) на душу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ВП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общающий экономический показатель, который выражает в рыночных ценах совокупную стоимость товара, работ и услуг, созданных внутри страны, и только с использованием факторов производства данн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Н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вокупная стоимость конечных товаров, услуг, созданных не только внутри страны, но и за ее пре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кругооборота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5" descr="Баланс.JPG"/>
          <p:cNvPicPr/>
          <p:nvPr/>
        </p:nvPicPr>
        <p:blipFill>
          <a:blip r:embed="rId1"/>
          <a:stretch/>
        </p:blipFill>
        <p:spPr>
          <a:xfrm>
            <a:off x="1719360" y="1762200"/>
            <a:ext cx="5705280" cy="420048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3"/>
          <p:cNvSpPr/>
          <p:nvPr/>
        </p:nvSpPr>
        <p:spPr>
          <a:xfrm>
            <a:off x="571680" y="5715000"/>
            <a:ext cx="8215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НЯТИЕ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является исторически сложившейся системой общественного воспроизводства страны, взаимосвязанной системой отраслей и видов производств, охватывающей существующие в народном хозяйстве формы общественного труда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ьная экономика состоит из ряда крупных сфер: материальное и нематериальное производство, непроизводственная сфе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жнейшей составной частью национальной экономики является 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котором создаются необходимые для жизни и развития общества средства производства и предметы потребления. В материальное производство входят такие отрасли, как промышленность, сельское хозяйство, строительство, транспорт, торговля, связь. Крупнейшей отраслью материального производства является промышленность, состоящая из двух групп отраслей — добывающей и обрабатываю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экономической теории среди предприятий материальной сферы выделяют предприятия по производству средств производства и производству предметов потребле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личается от материального своим продуктом, имеющим нематериальную форму: научные знания и информация; произведения искусства (кинофильмы, книги, театральные постановки); услуги, оказываемые населению. Нематериальное производство включает науку и научное обслуживание, искусство и культуру, образование, здравоохранение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оизводственная сфер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обходима обществу, т.к. в нее входят содержание армии, судебные и юридические органы, религиозные учреждения, другие общественные организ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хема макроэкономических свя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Баланс.JPG"/>
          <p:cNvPicPr/>
          <p:nvPr/>
        </p:nvPicPr>
        <p:blipFill>
          <a:blip r:embed="rId1"/>
          <a:stretch/>
        </p:blipFill>
        <p:spPr>
          <a:xfrm>
            <a:off x="1554120" y="1871640"/>
            <a:ext cx="6053040" cy="3992760"/>
          </a:xfrm>
          <a:prstGeom prst="rect">
            <a:avLst/>
          </a:prstGeom>
          <a:ln w="0">
            <a:noFill/>
          </a:ln>
        </p:spPr>
      </p:pic>
      <p:sp>
        <p:nvSpPr>
          <p:cNvPr id="108" name="Заголовок 1"/>
          <p:cNvSpPr/>
          <p:nvPr/>
        </p:nvSpPr>
        <p:spPr>
          <a:xfrm>
            <a:off x="500040" y="59292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ВП как показатель уровня национальной экономики (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785960"/>
          <a:ext cx="8229600" cy="37846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екс-деф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1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– 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8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6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7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квар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6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3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4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7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дмет нац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 экономика как целостный организм характеризуется следующими признакам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бщее экономическое пространство с единым законодательством, единой денежной единицей, общей кредитно-денежной и финансовой систем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личие тесных экономических связей между хозяйственными субъектами с общим воспроизводственным контур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Территориальная определенность с общим экономическим центром, который выполняет регулирующую и координационную роль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табильные высокие темпы роста национального объема про­извод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табильность це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ддержание внешнеторгового баланса.. Если в страну ввозится больше товаров, чем продается за границу, то возникает отрицательное сальдо торгового баланса. Если вывозится больше товаров, чем поступает в страну, то говорят о положительном сальдо. Повышение или понижение курса валют может изменить достигнутый баланс и вызвать положительное или отрицательное саль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ысокий уровень занятости. Он достигается в случае, если каждый желающий получить работу находит ее. В любой стране в каждый данный момент времени есть определенное количество людей, временно не работающих в связи со сменой места работы или места жительства. Кроме того, всегда есть структурная безработица, обусловленная несоответствием структуры новых рабочих мест, свя­занных с внедрением новых технологий, имеющейся структуре рабочей силы и отставанием последней по квалификационным требованиям и новым профессиям от спроса на эти профе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струменты макроэкономического регулирования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скальная политика (оперирование государственным бюджетом через налоговую систему и расходы государства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ежно-кредитная политика (контроль за денежным предложением через ставку процента, резервную норму и другие инструменты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ка регулирования доходов (от свободного установления заработной платы и цен до декретного контроля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экономическая политика (торговая политика, регулирование обменного курса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м и конечным результатами функционирования национальной экономики являются приращение национального богатства, объемов прибыльных и нужных обществу товаров и услуг, наиболее эффективное использование ограниченных людских и материальных ресурсов. Показатели приращения национального богатства - ВОП, НД (национальный доход), ВНП (валовый национальный продук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4240" y="12855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а национальной экономики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ставляет собой устойчивые количественные соотношения между ее составными частями. Различают воспроизводственную, социальную, территориальную структуры и инфраструктуру национальной экономики. Вос­производственная структур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ражает ее деление на наиболее массовые виды экономических субъектов, которые воспроизводятся сами и в результате своей деятельности воспроизводят потоки товаров и услуг между ними. В экономике каждой страны можно выделить три крупные взаимосвязанные группы воспроизводственной структу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ашние хозяй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приятия (предпринимательский бизн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удар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национальных хозяйственных систе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тип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чная эконом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ой доминирующей формой взаимодействия между участниками хозяйственного процесса является обмен. Под обменом, в соответствии с классическим пониманием, подразумевает "двустороннее движение товаров между субъектами, ориентированными на прибыль, получающуюся в результате для каждого от итогов соглашения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истрибутивные или командно-административ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редистрибутивных экономиках преобладает движение благ и услуг к Центру и из него, независимо от того, осуществляется ли передвижение объектов физически или меняется только порядок права их присвоения без каких-либо изменений в действительном размещении ресурса или продукта. Редистрибуция представляет собой аккумуляцию, собирание, совмещенные с новым, вторичным распределением и раздачей. Именно через редистрибуцию в этих обществах достигается воссоединение распределенного, разделенного тру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авные пропорции нац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I и II подразделениями материального производства. Они характеризуются соотношением объемов производства средств производ­ства и предметов потребления в ВНП, численностью работающих в каждом из этих подразделений, стоимостью их основных производственных фондов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между фондами накопления и потребления в национальном доходе. От этих пропорций зависят темпы расширенного воспроизводства, решение социальных и производственных задач. Каждая национальная экономика стремится к установлению оптимальных пропорций, обеспечивающих наиболее полное удовлетворение общественных потребностей при наименьших затратах живого и овеществленного труда. С точки зрения воспроизводства оптимальные пропорции означают качественное и количественное соответствие между структурой общественного производства и структурой общественных потреб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ые тенденции изменения пропор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технического уровня производства, проявляющееся в росте фондовооруженности труда, количестве сырья и материалов, перерабатываемых работниками, что ведет к опережению объемов производственных фондов по отношению к численности работающи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электроэнергетики, машино- и приборостроения, химической промышленности и других наукоемких отрасл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доли непроизводственной сферы по сравнению с отраслями материального производств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ежающее развитие обрабатывающей промышленности по отношению к добывающе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ие участия в международном разделении труда, которое выражается в более быстром увеличении внешне­торгового оборота по сравнению с ростом производства в ст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9:53:24Z</dcterms:created>
  <dc:creator>Калинин Иван</dc:creator>
  <dc:description/>
  <dc:language>en-US</dc:language>
  <cp:lastModifiedBy>LEGION</cp:lastModifiedBy>
  <dcterms:modified xsi:type="dcterms:W3CDTF">2014-11-10T11:31:05Z</dcterms:modified>
  <cp:revision>18</cp:revision>
  <dc:subject/>
  <dc:title>Слайд 1</dc:title>
</cp:coreProperties>
</file>