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79554A-1647-4E8A-B300-E62AA21756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0F3DC5-6188-410C-B8DD-DDF99BF73C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404349-08A8-45FE-A71F-E907825B5F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F8173F-BE64-40FD-884B-62E6EA2FEF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F4F83A-AF61-44AB-B71C-422F38DEEE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70AE4B-A649-422F-89DB-452B6B815B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E65146-2EE0-4DFC-839B-D65693D399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E7B1D7-9192-4A52-97E1-9DBEE626C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459BA4-6341-4ABD-8E33-E01DFCB072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BF2E6F-5BFE-4A0F-8A75-EACC01CDAE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33CD6C-787F-4C7C-8554-D0D0B0CE0F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BDD048-CCA1-4EF8-9ACF-7372A90ECC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CEB912-0F3B-4F72-A6A1-984191C6FD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895305-F6C4-4177-A733-621A9030B4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D82435-A10B-4CEF-A918-D0B59B18C5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DC06F6-5EEE-4B49-A980-B48E9B5C1C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72E9D3-25EE-4210-A824-29DD343EF0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206190-57BD-49FA-8D89-9ACE79AA41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45C8D2-8829-4ADB-A1AE-65E6455489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4DD21D-F26C-4167-AD3B-FAE14842B6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2740B8-E92D-472D-97FF-5B3E00A639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3626AF-B4AE-47AC-830A-01F0A2ACD4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CDA-DAD6-4E8F-BFAD-59460FA6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064-C6A7-4DF8-8945-69C1E042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F77-7671-4EA0-AB3E-A4F0C8B1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BCB-D2EE-412F-A5C2-4E893F28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755-74FE-45C4-803C-BA3B82C2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7FF-8F8E-472F-8BFB-E49AEB24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715-3614-473E-BFEB-41D6460F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E93-F6EE-43B6-B823-6169AB5D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AF7-54E6-4198-B6BE-DE52506D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8C8-6BDB-4024-8B40-DE84302C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BEC-369C-4D6D-A4B4-F2D0217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466-14B8-4F4C-906E-E7DAB10A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870D88-1F64-46AF-9FCF-6684EC6E9C3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D715F5-9CB7-4C23-AACC-3001A8E5B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00024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5" descr="Баланс.JPG"/>
          <p:cNvPicPr/>
          <p:nvPr/>
        </p:nvPicPr>
        <p:blipFill>
          <a:blip r:embed="rId1"/>
          <a:stretch/>
        </p:blipFill>
        <p:spPr>
          <a:xfrm>
            <a:off x="1719360" y="1762200"/>
            <a:ext cx="5705280" cy="420048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3"/>
          <p:cNvSpPr/>
          <p:nvPr/>
        </p:nvSpPr>
        <p:spPr>
          <a:xfrm>
            <a:off x="571680" y="5715000"/>
            <a:ext cx="8215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Баланс.JPG"/>
          <p:cNvPicPr/>
          <p:nvPr/>
        </p:nvPicPr>
        <p:blipFill>
          <a:blip r:embed="rId1"/>
          <a:stretch/>
        </p:blipFill>
        <p:spPr>
          <a:xfrm>
            <a:off x="1554120" y="1871640"/>
            <a:ext cx="6053040" cy="399276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500040" y="5929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785960"/>
          <a:ext cx="8229600" cy="3784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екс-деф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 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6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7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9:53:24Z</dcterms:created>
  <dc:creator>Калинин Иван</dc:creator>
  <dc:description/>
  <dc:language>en-US</dc:language>
  <cp:lastModifiedBy>LEGION</cp:lastModifiedBy>
  <dcterms:modified xsi:type="dcterms:W3CDTF">2014-11-10T11:31:05Z</dcterms:modified>
  <cp:revision>18</cp:revision>
  <dc:subject/>
  <dc:title>Слайд 1</dc:title>
</cp:coreProperties>
</file>