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5747CBB-6C59-4269-BA04-FE04963D3F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по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е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АЦИОНАЛЬН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DEA531-D78E-43E2-9C1D-31B4B7B5A2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тыре подхода к пониманию сущности экономического потенциа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Экономический потенциал как совокупная способность отраслей народного хозяй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кономический потенциал как совокупность имеющихся в наличии ресур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тождествление терминов &lt;экономический потенциал&gt;, &lt;экономическая мощь&gt; и &lt;народно-хозяйственный потенциал&gt;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Экономический потенциал как результат экономических и производственных отношений между субъектами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9DBD92-10FD-4B9B-95CC-74BE4492A9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удовой потенциа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удовой потенциа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, региона, предприятия - располагаемые в настоящее время и предвидимые в будущей трудовые возможности, характеризуемые количеством трудоспособного населения, его профессионально-образовательным уровнем, другими качественными xapaктеристиками. Всеобщая отличительная черта международной рабочей силы - это функциональные особенности труда международных работников, обусловленные их включенностью в международные, политические, экономические и общественные структуры, их тесная связь с мировой экономикой, общечеловеческими социальными задачами развития человечеств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EFFDD4-8CD7-4067-AEB6-67427A9F9D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требительский потенциа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потенциал предприятия - совокупные возможности предприятия определять, формировать и максимально удовлетворять потребности потребителей в товарах и услугах в процессе оптимального взаимодействия с окружающей средой и рационального использования ресур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й спрос - спрос, определяемый покупательной способностью, числом потенциальных потребителей и уровнем их потреб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868925-09ED-42B8-873E-9E4F9F30CE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учный потенциа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ый (научный) потенциал представляет из себя комплекс характеристик, выражающих возможности по подготовке и осуществлению в широких масштабах эффективных научно-технических нововведений, с тем чтобы устойчиво поддерживать современные ритмы обновления экономики, социальной сферы, культуры в интересах всего населения. Инновационный потенциал есть характеристика ресурсной базы инновационного развития страны. При этом оцениваются материальные, людские и финансовые ресурсы, сосредоточенные в сфере науки и научно-технических разработок, а также масштаб и структура инвестиций, обеспечивающих превращение разработок в реальные нововведения, их экономическое освоение и широкое распростра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й инновационный потенциал страны можно представить как сумму единичных инновационных потенциалов предприятий, отраслей, некоммерческих организаций, региональных и иных структ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пень зрелости всей экономики в этом плане является отражением инновационной зрелости бизнеса в стране. Россия, несмотря на огромные понесенные потери исследовательского, инновационного и производственного потенциалов, по прежнему имеет значительные возможности с уверенностью входить в группу продвинутых стран с точки зрения научно-инновационного развития. Этому способствует имеющийся исторический опыт, традиции творчества, свойственные народу, накопленный конверсионный потенциа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E61044-64C1-4655-A1AB-E1747EFE7B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креационный комплек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иродный потенциа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реационные ресурсы составляют важнейшую часть природного потенциала региона. Кроме этого, их роль в формировании и развитии современного туризма в регионе постоянно повышается, особенно с эколого-географической точки з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екреационных ресурсов производится на основе пофакторной оценки каждой из составляющих: рельефа, водных объектов и почвенно-растительного покрова, биоклимат, гидроминеральных и уникальных природных лечебных ресурсов, историко-культурного потенциала и др.), рассматриваемой с точки зрения использования её конкретным видом тур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 охраняемые природные территории относятся к объектам общенационального достоя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ают следующие основные категории указанных территори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природные заповедники, в том числе биосферны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пар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е пар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природные заказн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ники природ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дрологические парки и ботанические сад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о-оздоровительные местности и курорт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E5419C-10F0-405C-8C05-96A51927AF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БЛЕМЫ СБАЛАНСИРОВАННОСТИ НАЦИОНАЛЬНОЙ ЭКОНОМ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балансированность национальной экономик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значает соответствие между взаимосвязанными отраслями, между объемами производимых продуктов и потребностями в них. Основу сбалансированности составляет пропорциональность. Сбалансированность и пропорциональность в реальной действительности обычно неустойчивы и постоянно нарушаются. Например, экономический рост ведет к установлению новых пропорций и новой сбалансированности. Поскольку полного соответствия между отраслями в реальной жизни не бывает, существует постоянная необходимость в поддержании сбалансированности путем корректировки пропорций между отдельными сферами экономики, а также внутри них. В материальном производстве для этого нужно, прежде всего, обеспечить соответствие между первым и вторым подразделениями, т.е. между производством средств производства и предметов потребления. Если такое соответствие будет нарушено, т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подразделение не сможет обеспечить средствами производства оба подразделения, 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подразделение — предметами потребления занятых и дополнительно привлекаемых работников обоих подразде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B4E18A-4D94-4915-AB2C-27808294AD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нозирование и планирование национальной экономи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отяжении многих десятилетий макроэкономическое планирование зарубежными исследователями противопоставлялось центра­лизованному планированию, а рынок — план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факторы, определяющие вид планирования, зависят от соотношения государственного и частного влияния на общественно-политические и социально-экономические  процессы. В современной зарубежной литературе выделяются следующие типы макроэкономического планирования: директивное (административно-командное), индирективное,  регулятивное, индикативное и стратегичес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4C54FC-8714-40F2-9A0E-2055D16AEC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скальная политика государства и ее влияние на объем национального производ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фискальной (налоговой) политикой государства понимается постоянное вмешательство государства в экономические процессы и явления с целью регулирования их протекания. Это совокупность мероприятий в сфере налогообложения, направленных на формирование доходной части государственного бюджета, повышение эффективности функционирования всей национальной экономики, обеспечение экономического роста, занятости населения и стабильности денежного обращ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звитых государствах через бюджеты распределяется примерно 1/5 валового национального продукта или 40-50 процентов годового национального дохода. Такие средства позволяют проводить структурную перестройку производства, осваивать новейшие технологии и разрабатывать крупномасштабные научно-технические программ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CB6515-4F6C-4EBD-83E0-0699FCA973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кономический рост национальной хозяйственной систем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Экономический рос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количественное и качественное совершенствование общественного продукта за определенный период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и эффективного экономического рос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величения продолжительности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я заболеваемости и травмат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вышения уровня образования и куль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более полного удовлетворения потребностей и рационализации потреб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циальной стабильности и уверенности в своем будущ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одоления нищеты и кричащих различий в уровне жизн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стижения максимальной занят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щиты окружающей среды и повышения экологической безопас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я преступ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и экономического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е выражение экономический рост находит в увеличении потенциального и реального валового национального продукта (ВНП) или валового внутреннего продукта (ВВП), в возрастании экономической мощи нации, страны,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выражение можно измерить двумя взаимосвязанными показателями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ост за определенный период реального ВВП (ВНП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ост ВВП (ВНП) на душу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ВП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бобщающий экономический показатель, который выражает в рыночных ценах совокупную стоимость товара, работ и услуг, созданных внутри страны, и только с использованием факторов производства данно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Н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овокупная стоимость конечных товаров, услуг, созданных не только внутри страны, но и за ее пре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CA569A-362A-4957-A434-55B87D7C3A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угооборота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9394A6-B3D3-4CCC-A0ED-20635B2C32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нятие национальной эконом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экономика является исторически сложившейся системой общественного воспроизводства страны, взаимосвязанной системой отраслей и видов производств, охватывающей существующие в народном хозяйстве формы общественного труд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экономика состоит из ряда крупных сфер: материальное и нематериальное производство, непроизводственная сф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ей составной частью национальной экономики является материальное производств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тором создаются необходимые для жизни и развития общества средства производства и предметы потребления. В материальное производство входят такие отрасли, как промышленность, сельское хозяйство, строительство, транспорт, торговля, связь. Крупнейшей отраслью материального производства является промышленность, состоящая из двух групп отраслей — добывающей и обрабатываю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кономической теории среди предприятий материальной сферы выделяют предприятия по производству средств производства и производству предметов потреб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ое производств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ается от материального своим продуктом, имеющим нематериальную форму: научные знания и информация; произведения искусства (кинофильмы, книги, театральные постановки); услуги, оказываемые населению. Нематериальное производство включает науку и научное обслуживание, искусство и культуру, образование, здравоохранение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оизводственная сфер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 обществу, т.к. в нее входят содержание армии, судебные и юридические органы, религиозные учреждения, другие общественные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A0146C-F87E-40D4-AA56-F49CAFEA4C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макроэкономических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C85D2B-69E6-4299-B0AB-E7C070D051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П как показатель уровня национальной экономики (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C307C5-46C3-4B95-B45A-1961CBF83B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национальной экономи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ая экономика как целостный организм характеризуется следующими признак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ее экономическое пространство с единым законодательством, единой денежной единицей, общей кредитно-денежной и финансовой систе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аличие тесных экономических связей между хозяйственными субъектами с общим воспроизводственным контур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Территориальная определенность с общим экономическим центром, который выполняет регулирующую и координационную рол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6B72DA-C97E-400E-84C1-3FB71C8E62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табильные высокие темпы роста национального объема про­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абильность ц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ддержание внешнеторгового баланса.. Если в страну ввозится больше товаров, чем продается за границу, то возникает отрицательное сальдо торгового баланса. Если вывозится больше товаров, чем поступает в страну, то говорят о положительном сальдо. Повышение или понижение курса валют может изменить достигнутый баланс и вызвать положительное или отрицательное саль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ысокий уровень занятости. Он достигается в случае, если каждый желающий получить работу находит ее. В любой стране в каждый данный момент времени есть определенное количество людей, временно не работающих в связи со сменой места работы или места жительства. Кроме того, всегда есть структурная безработица, обусловленная несоответствием структуры новых рабочих мест, свя­занных с внедрением новых технологий, имеющейся структуре рабочей силы и отставанием последней по квалификационным требованиям и новым профессиям от спроса на эти проф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286136-9DC4-4637-81BB-A256DB4174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рументы макроэкономического регулирования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скальная политика (оперирование государственным бюджетом через налоговую систему и расходы государств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о-кредитная политика (контроль за денежным предложением через ставку процента, резервную норму и другие инструменты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а регулирования доходов (от свободного установления заработной платы и цен до декретного контрол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экономическая политика (торговая политика, регулирование обменного курса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м и конечным результатами функционирования национальной экономики являются приращение национального богатства, объемов прибыльных и нужных обществу товаров и услуг, наиболее эффективное использование ограниченных людских и материальных ресурсов. Показатели приращения национального богатства - ВОП, НД (национальный доход), ВНП (валовый национальный проду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2FBA02-535A-4EFD-BB82-0F8FCB985A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уктура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национальной экономик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устойчивые количественные соотношения между ее составными частями. Различают воспроизводственную, социальную, территориальную структуры и инфраструктуру национальной экономики. Вос­производственная структур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ает ее деление на наиболее массовые виды экономических субъектов, которые воспроизводятся сами и в результате своей деятельности воспроизводят потоки товаров и услуг между ними. В экономике каждой страны можно выделить три крупные взаимосвязанные группы воспроизводственной структу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(предпринимательский бизне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1AD30E-CD44-451B-A3C4-044AF848FF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пы национальных хозяйственных систе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 тип 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ыночная экономи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 которой доминирующей формой взаимодействия между участниками хозяйственного процесса является обмен. Под обменом, в соответствии с классическим пониманием, подразумевает "двустороннее движение товаров между субъектами, ориентированными на прибыль, получающуюся в результате для каждого от итогов соглашения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 тип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дистрибутивные или командно-администрати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редистрибутивных экономиках преобладает движение благ и услуг к Центру и из него, независимо от того, осуществляется ли передвижение объектов физически или меняется только порядок права их присвоения без каких-либо изменений в действительном размещении ресурса или продукта. Редистрибуция представляет собой аккумуляцию, собирание, совмещенные с новым, вторичным распределением и раздачей. Именно через редистрибуцию в этих обществах достигается воссоединение распределенного, разделенного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00E1C4-CC6D-4CEF-944A-7485ECB8EB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ные пропорции национальной эконом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рции между I и II подразделениями материального производства. Они характеризуются соотношением объемов производства средств производ­ства и предметов потребления в ВНП, численностью работающих в каждом из этих подразделений, стоимостью их основных производственных фондо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рции между фондами накопления и потребления в национальном доходе. От этих пропорций зависят темпы расширенного воспроизводства, решение социальных и производственных задач. Каждая национальная экономика стремится к установлению оптимальных пропорций, обеспечивающих наиболее полное удовлетворение общественных потребностей при наименьших затратах живого и овеществленного труда. С точки зрения воспроизводства оптимальные пропорции означают качественное и количественное соответствие между структурой общественного производства и структурой общественных потре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E36D19-831E-4BDB-9112-806A9F2DAB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ойчивые тенденции изменения пропорц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технического уровня производства, проявляющееся в росте фондовооруженности труда, количестве сырья и материалов, перерабатываемых работниками, что ведет к опережению объемов производственных фондов по отношению к численности работающи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ежающее развитие электроэнергетики, машино- и приборостроения, химической промышленности и других наукоемких отрас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доли непроизводственной сферы по сравнению с отраслями материального произво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ежающее развитие обрабатывающей промышленности по отношению к добывающ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ение участия в международном разделении труда, которое выражается в более быстром увеличении внешне­торгового оборота по сравнению с ростом производства в стр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D9D187-F81C-47A8-B222-D053C5037A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47B6-5C96-405C-BE66-92C4C457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E017-C0C8-4E9B-8B79-D3946373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F9BB-C304-4BBF-94A3-FC6CC6C7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2772-0F7C-4D93-A86F-16BAAEEA8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ABA2-633C-4783-B937-80C014A9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1B4F-21F3-4234-B950-8EE65B9D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E8DD-4528-436C-B5AB-9256E9B4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DEEB-5BC3-4D3F-A045-1E2B39AC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5C53-E383-497E-9F51-A4CCDCCC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C458-BC61-49E4-9E98-63C16870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287B-A4E9-48FB-BD03-7A90D520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2A1B-ADC9-433D-8005-07CF1DA2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ee8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085B2B-F369-467F-93C8-EF087FE94A6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E16017-352C-48E8-BE21-2EE5D798A9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я по экономи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5920" y="3000240"/>
            <a:ext cx="64008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АЦИОНАЛЬНАЯ ЭКОНОМ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ыре подхода к пониманию сущности экономического потенци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8760" y="214272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Экономический потенциал как совокупная способность отраслей народного хозяйств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Экономический потенциал как совокупность имеющихся в наличии ресурс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тождествление терминов &lt;экономический потенциал&gt;, &lt;экономическая мощь&gt; и &lt;народно-хозяйственный потенциал&gt;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Экономический потенциал как результат экономических и производственных отношений между субъектами хозяйствен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удовой потенциа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овой потенциа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ы, региона, предприятия - располагаемые в настоящее время и предвидимые в будущей трудовые возможности, характеризуемые количеством трудоспособного населения, его профессионально-образовательным уровнем, другими качественными xapaктеристиками. Всеобщая отличительная черта международной рабочей силы - это функциональные особенности труда международных работников, обусловленные их включенностью в международные, политические, экономические и общественные структуры, их тесная связь с мировой экономикой, общечеловеческими социальными задачами развития человечества в це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требительский потенциа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ринимательский потенциал предприятия - совокупные возможности предприятия определять, формировать и максимально удовлетворять потребности потребителей в товарах и услугах в процессе оптимального взаимодействия с окружающей средой и рационального использования ресурс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енциальный спрос - спрос, определяемый покупательной способностью, числом потенциальных потребителей и уровнем их потреб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учный потенциа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новационный (научный) потенциал представляет из себя комплекс характеристик, выражающих возможности по подготовке и осуществлению в широких масштабах эффективных научно-технических нововведений, с тем чтобы устойчиво поддерживать современные ритмы обновления экономики, социальной сферы, культуры в интересах всего населения. Инновационный потенциал есть характеристика ресурсной базы инновационного развития страны. При этом оцениваются материальные, людские и финансовые ресурсы, сосредоточенные в сфере науки и научно-технических разработок, а также масштаб и структура инвестиций, обеспечивающих превращение разработок в реальные нововведения, их экономическое освоение и широкое распростран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ий инновационный потенциал страны можно представить как сумму единичных инновационных потенциалов предприятий, отраслей, некоммерческих организаций, региональных и иных структу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пень зрелости всей экономики в этом плане является отражением инновационной зрелости бизнеса в стране. Россия, несмотря на огромные понесенные потери исследовательского, инновационного и производственного потенциалов, по прежнему имеет значительные возможности с уверенностью входить в группу продвинутых стран с точки зрения научно-инновационного развития. Этому способствует имеющийся исторический опыт, традиции творчества, свойственные народу, накопленный конверсионный потенциал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креационный комплекс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природный потенциал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креационные ресурсы составляют важнейшую часть природного потенциала региона. Кроме этого, их роль в формировании и развитии современного туризма в регионе постоянно повышается, особенно с эколого-географической точки зре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ценка рекреационных ресурсов производится на основе пофакторной оценки каждой из составляющих: рельефа, водных объектов и почвенно-растительного покрова, биоклимат, гидроминеральных и уникальных природных лечебных ресурсов, историко-культурного потенциала и др.), рассматриваемой с точки зрения использования её конкретным видом туризм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 охраняемые природные территории относятся к объектам общенационального достоя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личают следующие основные категории указанных территорий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сударственные природные заповедники, в том числе биосферные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циональные парк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родные парк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сударственные природные заказник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ники природы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ндрологические парки и ботанические сады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чебно-оздоровительные местности и курорты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ОБЛЕМЫ СБАЛАНСИРОВАННОСТИ НАЦИОНАЛЬНОЙ ЭКОНОМИ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2960" y="207180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балансированность национальной экономики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значает соответствие между взаимосвязанными отраслями, между объемами производимых продуктов и потребностями в них. Основу сбалансированности составляет пропорциональность. Сбалансированность и пропорциональность в реальной действительности обычно неустойчивы и постоянно нарушаются. Например, экономический рост ведет к установлению новых пропорций и новой сбалансированности. Поскольку полного соответствия между отраслями в реальной жизни не бывает, существует постоянная необходимость в поддержании сбалансированности путем корректировки пропорций между отдельными сферами экономики, а также внутри них. В материальном производстве для этого нужно, прежде всего, обеспечить соответствие между первым и вторым подразделениями, т.е. между производством средств производства и предметов потребления. Если такое соответствие будет нарушено, т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одразделение не сможет обеспечить средствами производства оба подразделения, 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одразделение — предметами потребления занятых и дополнительно привлекаемых работников обоих подраздел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нозирование и планирование нац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отяжении многих десятилетий макроэкономическое планирование зарубежными исследователями противопоставлялось центра­лизованному планированию, а рынок — план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факторы, определяющие вид планирования, зависят от соотношения государственного и частного влияния на общественно-политические и социально-экономические  процессы. В современной зарубежной литературе выделяются следующие типы макроэкономического планирования: директивное (административно-командное), индирективное,  регулятивное, индикативное и стратегическ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скальная политика государства и ее влияние на объем национального произво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фискальной (налоговой) политикой государства понимается постоянное вмешательство государства в экономические процессы и явления с целью регулирования их протекания. Это совокупность мероприятий в сфере налогообложения, направленных на формирование доходной части государственного бюджета, повышение эффективности функционирования всей национальной экономики, обеспечение экономического роста, занятости населения и стабильности денежного обращ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звитых государствах через бюджеты распределяется примерно 1/5 валового национального продукта или 40-50 процентов годового национального дохода. Такие средства позволяют проводить структурную перестройку производства, осваивать новейшие технологии и разрабатывать крупномасштабные научно-технические программы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кономический рост национальной хозяйственной систем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Экономический рос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количественное и качественное совершенствование общественного продукта за определенный период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и эффективного экономического рос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величения продолжительности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я заболеваемости и травмат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вышения уровня образования и куль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более полного удовлетворения потребностей и рационализации потреб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циальной стабильности и уверенности в своем будущ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одоления нищеты и кричащих различий в уровне жизн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стижения максимальной занят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щиты окружающей среды и повышения экологической безопас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я преступ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и экономического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е выражение экономический рост находит в увеличении потенциального и реального валового национального продукта (ВНП) или валового внутреннего продукта (ВВП), в возрастании экономической мощи нации, страны,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выражение можно измерить двумя взаимосвязанными показателями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ост за определенный период реального ВВП (ВНП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ост ВВП (ВНП) на душу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ВП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бобщающий экономический показатель, который выражает в рыночных ценах совокупную стоимость товара, работ и услуг, созданных внутри страны, и только с использованием факторов производства данно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Н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овокупная стоимость конечных товаров, услуг, созданных не только внутри страны, но и за ее пре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хема кругооборота нац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одержимое 5" descr="Баланс.JPG"/>
          <p:cNvPicPr/>
          <p:nvPr/>
        </p:nvPicPr>
        <p:blipFill>
          <a:blip r:embed="rId1"/>
          <a:stretch/>
        </p:blipFill>
        <p:spPr>
          <a:xfrm>
            <a:off x="1719360" y="1762200"/>
            <a:ext cx="5705280" cy="4200480"/>
          </a:xfrm>
          <a:prstGeom prst="rect">
            <a:avLst/>
          </a:prstGeom>
          <a:ln w="0">
            <a:noFill/>
          </a:ln>
        </p:spPr>
      </p:pic>
      <p:sp>
        <p:nvSpPr>
          <p:cNvPr id="104" name="Заголовок 3"/>
          <p:cNvSpPr/>
          <p:nvPr/>
        </p:nvSpPr>
        <p:spPr>
          <a:xfrm>
            <a:off x="571680" y="5715000"/>
            <a:ext cx="8215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НЯТИЕ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4240" y="14288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циональная экономика является исторически сложившейся системой общественного воспроизводства страны, взаимосвязанной системой отраслей и видов производств, охватывающей существующие в народном хозяйстве формы общественного труда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циональная экономика состоит из ряда крупных сфер: материальное и нематериальное производство, непроизводственная сфе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жнейшей составной частью национальной экономики является материальное производство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котором создаются необходимые для жизни и развития общества средства производства и предметы потребления. В материальное производство входят такие отрасли, как промышленность, сельское хозяйство, строительство, транспорт, торговля, связь. Крупнейшей отраслью материального производства является промышленность, состоящая из двух групп отраслей — добывающей и обрабатывающ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экономической теории среди предприятий материальной сферы выделяют предприятия по производству средств производства и производству предметов потреблени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материальное производство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личается от материального своим продуктом, имеющим нематериальную форму: научные знания и информация; произведения искусства (кинофильмы, книги, театральные постановки); услуги, оказываемые населению. Нематериальное производство включает науку и научное обслуживание, искусство и культуру, образование, здравоохранение и д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производственная сфера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обходима обществу, т.к. в нее входят содержание армии, судебные и юридические органы, религиозные учреждения, другие общественные организац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хема макроэкономических связ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Содержимое 3" descr="Баланс.JPG"/>
          <p:cNvPicPr/>
          <p:nvPr/>
        </p:nvPicPr>
        <p:blipFill>
          <a:blip r:embed="rId1"/>
          <a:stretch/>
        </p:blipFill>
        <p:spPr>
          <a:xfrm>
            <a:off x="1554120" y="1871640"/>
            <a:ext cx="6053040" cy="3992760"/>
          </a:xfrm>
          <a:prstGeom prst="rect">
            <a:avLst/>
          </a:prstGeom>
          <a:ln w="0">
            <a:noFill/>
          </a:ln>
        </p:spPr>
      </p:pic>
      <p:sp>
        <p:nvSpPr>
          <p:cNvPr id="108" name="Заголовок 1"/>
          <p:cNvSpPr/>
          <p:nvPr/>
        </p:nvSpPr>
        <p:spPr>
          <a:xfrm>
            <a:off x="500040" y="592920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ВП как показатель уровня национальной экономики (РФ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785960"/>
          <a:ext cx="8229600" cy="37846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екс-дефля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квар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9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квар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7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полугод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4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1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квар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2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1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5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 – 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8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6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7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квар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5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6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4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7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7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1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едмет нац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ая экономика как целостный организм характеризуется следующими признакам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Общее экономическое пространство с единым законодательством, единой денежной единицей, общей кредитно-денежной и финансовой системо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личие тесных экономических связей между хозяйственными субъектами с общим воспроизводственным контур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Территориальная определенность с общим экономическим центром, который выполняет регулирующую и координационную роль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нац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Стабильные высокие темпы роста национального объема про­изводств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табильность це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оддержание внешнеторгового баланса.. Если в страну ввозится больше товаров, чем продается за границу, то возникает отрицательное сальдо торгового баланса. Если вывозится больше товаров, чем поступает в страну, то говорят о положительном сальдо. Повышение или понижение курса валют может изменить достигнутый баланс и вызвать положительное или отрицательное сальд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ысокий уровень занятости. Он достигается в случае, если каждый желающий получить работу находит ее. В любой стране в каждый данный момент времени есть определенное количество людей, временно не работающих в связи со сменой места работы или места жительства. Кроме того, всегда есть структурная безработица, обусловленная несоответствием структуры новых рабочих мест, свя­занных с внедрением новых технологий, имеющейся структуре рабочей силы и отставанием последней по квалификационным требованиям и новым профессиям от спроса на эти професс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струменты макроэкономического регулирования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скальная политика (оперирование государственным бюджетом через налоговую систему и расходы государства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ежно-кредитная политика (контроль за денежным предложением через ставку процента, резервную норму и другие инструменты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ка регулирования доходов (от свободного установления заработной платы и цен до декретного контроля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еэкономическая политика (торговая политика, регулирование обменного курса)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им и конечным результатами функционирования национальной экономики являются приращение национального богатства, объемов прибыльных и нужных обществу товаров и услуг, наиболее эффективное использование ограниченных людских и материальных ресурсов. Показатели приращения национального богатства - ВОП, НД (национальный доход), ВНП (валовый национальный продук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УКТУРА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4240" y="128556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уктура национальной экономики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ставляет собой устойчивые количественные соотношения между ее составными частями. Различают воспроизводственную, социальную, территориальную структуры и инфраструктуру национальной экономики. Вос­производственная структур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ражает ее деление на наиболее массовые виды экономических субъектов, которые воспроизводятся сами и в результате своей деятельности воспроизводят потоки товаров и услуг между ними. В экономике каждой страны можно выделить три крупные взаимосвязанные группы воспроизводственной структур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машние хозяй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приятия (предпринимательский бизне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судар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 algn="r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 algn="r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пы национальных хозяйственных систем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тип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чная эконом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ой доминирующей формой взаимодействия между участниками хозяйственного процесса является обмен. Под обменом, в соответствии с классическим пониманием, подразумевает "двустороннее движение товаров между субъектами, ориентированными на прибыль, получающуюся в результате для каждого от итогов соглашения"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ти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дистрибутивные или командно-административн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редистрибутивных экономиках преобладает движение благ и услуг к Центру и из него, независимо от того, осуществляется ли передвижение объектов физически или меняется только порядок права их присвоения без каких-либо изменений в действительном размещении ресурса или продукта. Редистрибуция представляет собой аккумуляцию, собирание, совмещенные с новым, вторичным распределением и раздачей. Именно через редистрибуцию в этих обществах достигается воссоединение распределенного, разделенного тру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лавные пропорции нац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орции между I и II подразделениями материального производства. Они характеризуются соотношением объемов производства средств производ­ства и предметов потребления в ВНП, численностью работающих в каждом из этих подразделений, стоимостью их основных производственных фондов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орции между фондами накопления и потребления в национальном доходе. От этих пропорций зависят темпы расширенного воспроизводства, решение социальных и производственных задач. Каждая национальная экономика стремится к установлению оптимальных пропорций, обеспечивающих наиболее полное удовлетворение общественных потребностей при наименьших затратах живого и овеществленного труда. С точки зрения воспроизводства оптимальные пропорции означают качественное и количественное соответствие между структурой общественного производства и структурой общественных потреб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ойчивые тенденции изменения пропор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технического уровня производства, проявляющееся в росте фондовооруженности труда, количестве сырья и материалов, перерабатываемых работниками, что ведет к опережению объемов производственных фондов по отношению к численности работающи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ежающее развитие электроэнергетики, машино- и приборостроения, химической промышленности и других наукоемких отрасл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ение доли непроизводственной сферы по сравнению с отраслями материального производств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ежающее развитие обрабатывающей промышленности по отношению к добывающ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ширение участия в международном разделении труда, которое выражается в более быстром увеличении внешне­торгового оборота по сравнению с ростом производства в стра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9:53:24Z</dcterms:created>
  <dc:creator>Калинин Иван</dc:creator>
  <dc:description/>
  <dc:language>en-US</dc:language>
  <cp:lastModifiedBy>LEGION</cp:lastModifiedBy>
  <dcterms:modified xsi:type="dcterms:W3CDTF">2014-11-10T11:31:05Z</dcterms:modified>
  <cp:revision>18</cp:revision>
  <dc:subject/>
  <dc:title>Слайд 1</dc:title>
</cp:coreProperties>
</file>