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 в школ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урно-оздоровитель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та в шко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проведению физкультмину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физкультмину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ученика в норме,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изическ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ци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коммуникабелен, общителе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моцион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ебенок уравновешен, способен удивляться и восхищ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интеллекту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нравствен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ризнает основные общечеловеческие ц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ы здоровьесбереж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навред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!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иоритет заботы о здоровье учителя и учаще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прерывность и преемственность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ивные взаимоотношен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лексный, междисциплинарный подхо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спех порождает успе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к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свое здоровь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терии здоровье-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-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циональ-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оч-но 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видов учебной деятел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опрос,письмо,чтение,слуша-ние,рассказ, ответы на вопросы,рас- сматри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сы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786-B7CE-4528-82B3-94326BBE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E45-FB52-4810-B36A-53F216B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F3C-531B-4C4B-A44C-15CD2063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CFD-FD07-446E-A339-D8524244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CDE7-A248-4911-9D25-7086D48D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46E4-39EC-4A82-9972-337C6EB8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77DB-A87C-4C75-8054-B5154F62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72E0-3436-4528-93AC-C690A2AC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9B1E-BEA4-4638-AECA-9B61ACAD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9740-72F2-44C2-ACDC-1001B2D8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2A9-9647-4A74-9C67-8A8AA37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CC4-98DA-45A6-82E4-FEA85CC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4556-C36B-4141-96F2-0AC8D063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1A95-5975-4B11-AE9E-8989A142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ED93-07AC-4E30-9434-7D5879E0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782E-C833-4F07-BCC2-7879A000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B9DF-12E1-4B9F-BBBD-93082BE5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490-2B19-4483-B73C-0FCAE008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64E-853A-47EC-9CB6-33D2FDC9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3D9-257F-4A98-AE6B-3FA6F1E5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042-F648-4EB9-BA4A-A9195C3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304-F2D9-4EA6-90F6-80B83CB6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8BD-7185-43C0-BB42-9C67E2CF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EEB-C529-4464-8E62-288F3ED8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382FD0-BC4F-4333-B485-BBA7B4226BD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DAB9F4-3213-43FE-894C-0127078816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в школе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38320" y="4876560"/>
            <a:ext cx="35053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158760"/>
            <a:ext cx="7561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295280" y="1646280"/>
          <a:ext cx="746784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46280"/>
                    <a:ext cx="7467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0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561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467840" cy="414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изкультурно-оздоровительная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работа в школ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295280" y="4191120"/>
          <a:ext cx="3124440" cy="23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312444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5257800" y="1600200"/>
          <a:ext cx="327672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600200"/>
                    <a:ext cx="3276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5257800" y="4114800"/>
          <a:ext cx="327672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14800"/>
                    <a:ext cx="3276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295280" y="1739880"/>
            <a:ext cx="3200400" cy="2529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944800" cy="2208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"/>
          <p:cNvPicPr/>
          <p:nvPr/>
        </p:nvPicPr>
        <p:blipFill>
          <a:blip r:embed="rId2"/>
          <a:stretch/>
        </p:blipFill>
        <p:spPr>
          <a:xfrm>
            <a:off x="4952880" y="426708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2"/>
          <p:cNvPicPr/>
          <p:nvPr/>
        </p:nvPicPr>
        <p:blipFill>
          <a:blip r:embed="rId3"/>
          <a:stretch/>
        </p:blipFill>
        <p:spPr>
          <a:xfrm>
            <a:off x="7086600" y="4267080"/>
            <a:ext cx="1752480" cy="1335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LEGION</cp:lastModifiedBy>
  <dcterms:modified xsi:type="dcterms:W3CDTF">2015-03-31T07:52:43Z</dcterms:modified>
  <cp:revision>17</cp:revision>
  <dc:subject/>
  <dc:title>Презентация PowerPoint</dc:title>
</cp:coreProperties>
</file>