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5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-360" y="6948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доровьесберегающие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хнологии в школе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втор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абунец Ольга Юрьев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читель биолог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У СОШ № 4 г. Мытищ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ритерии здоровьесбережения и уровни гигиенической рациональности уро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ботоспособность в течение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чебного дня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-6 клас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ботоспособность в течение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чебного дня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7-11 клас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ботоспособность в течение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рабочей недели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-6 клас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ботоспособность в течение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бочей недели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7-11 клас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изкультурно-оздоровительная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работа в школ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ребования к проведению физкультминуто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мплексы подбираются в зависимости от   вида урока, его содерж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пражнения должны быть разнообразны, так   как однообразие снижает интерес к ним, а следовательно, и их результативност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изкультминутки должны проводиться на начальном этапе утомления, выполнение упражнений при сильном утомлении не дает желаемого результат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дпочтение нужно отдавать упражнениям для утомленных групп мышц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ажно обеспечить позитивный эмоциональный настрой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иды физкультминуто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пражнения для снятия общего или локального утомл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пражнения для кистей ру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имнастика для глаз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имнастика для слух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пражнения корректирующие осанк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ыхательная гимнастик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0" y="69516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итерату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Ковалько В.И. «Здоровьесберегающие технологии в школе. 1-4 классы.».,Москва, Издательство «Вако»,2005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 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Смирнов Н.К. «Здоровьесберегающие образовательные технологии в современной школе»., Москва, Издательство «АПК и ПРО», 2002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 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Советова Е.В. «Эффективные образовательные технологии»., Ростов н/Д, Издательство «Феникс», 2007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 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http://www.openclass.ru/io/9/kostenko   Костенко Л.В. «Здоровье сберегающие технологии в школе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«Забота о здоровье – это важнейший труд воспитателя. От жизнедеятельности, бодрости детей зависит их духовная жизнь, мировоззрение, умственное развитие, прочность знаний, вера в свои силы…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.А.Сухомлинский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доровье ученика в норме, есл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buClr>
                <a:srgbClr val="808080"/>
              </a:buClr>
              <a:buSzPct val="7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физическом план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здоровье позволяет ему справляться с учебной нагрузкой, ребенок умеет преодолевать усталость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buClr>
                <a:srgbClr val="808080"/>
              </a:buClr>
              <a:buSzPct val="7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социальном план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он коммуникабелен, общителен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buClr>
                <a:srgbClr val="808080"/>
              </a:buClr>
              <a:buSzPct val="7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эмоциональном план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ребенок уравновешен, способен удивляться и восхищатьс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buClr>
                <a:srgbClr val="808080"/>
              </a:buClr>
              <a:buSzPct val="7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интеллектуальном план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учащийся проявляет хорошие умственные способности, наблюдательность, воображение, самообучаемость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buClr>
                <a:srgbClr val="808080"/>
              </a:buClr>
              <a:buSzPct val="7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нравственном план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он признает основные общечеловеческие цен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доровьесберегающие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разовательные технологи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доровьесберегающие образовательные технологии – это системный подход к обучению и воспитанию, построенный на стремлении педагога не нанести ущерб здоровью учащих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нципы здоровьесбережения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Не навреди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!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Приоритет заботы о здоровье учителя и учащего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Непрерывность и преемственность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Субьект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субьективные взаимоотношения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Соответствие содержания и организации обучения возрастным особенностям усащихся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Комплексный, междисциплинарный подход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Успех порождает успех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Активност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Ответственность за свое здоровье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ритерии здоровьесбережения и уровни гигиенической рациональности уро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ритерии здоровье- сбере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Характерис-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циональ-ный уров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едостаточ-но рацио-нальны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ерацио-нальны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оличество видов учебной деятель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иды учебной деятельности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опрос,письмо,чтение,слуша-ние,рассказ, ответы на вопросы,рас- сматривание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писы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4-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ритерии здоровьесбережения и уровни гигиенической рациональности уро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ритерии здоровьесбережения и уровни гигиенической рациональности уро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ритерии здоровьесбережения и уровни гигиенической рациональности урока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8489-50B6-40D9-8843-1D31D64AD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8278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63600"/>
            <a:ext cx="8278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F539-C36B-495E-A1A8-61272A171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26600" y="16002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636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26600" y="39636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0917-95C2-4BDB-A21D-A9D131B51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2665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83360" y="1600200"/>
            <a:ext cx="2665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82720" y="1600200"/>
            <a:ext cx="2665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63600"/>
            <a:ext cx="2665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83360" y="3963600"/>
            <a:ext cx="2665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82720" y="3963600"/>
            <a:ext cx="2665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FEE5-674D-4BBC-8915-16DB742DC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B741B-215A-4F01-9A09-BC2F83572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4360" y="1600200"/>
            <a:ext cx="8278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D175F-F45B-4622-A837-364725453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82785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4EFB9-C6BD-4251-BA41-1B09CB81A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4039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26600" y="1600200"/>
            <a:ext cx="4039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914BF-02D3-43F0-AE3C-E56A6F8A7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BE6DC-827D-4C87-9E92-4E0F3E02D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402920" y="-206640"/>
            <a:ext cx="755964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D0595-98A5-41A5-B6AF-0137956E3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26600" y="1600200"/>
            <a:ext cx="4039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4360" y="39636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03914-6A53-4DF6-B536-3B1E384B5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600200"/>
            <a:ext cx="8278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44E4-4D10-4F42-B3B8-CBB95D6E7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4039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26600" y="16002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926600" y="39636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8D424-93E1-45A8-961D-752F3CD0A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26600" y="16002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4360" y="3963600"/>
            <a:ext cx="8278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82BED-24AB-404A-9CA4-82D508F63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8278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4360" y="3963600"/>
            <a:ext cx="8278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F55E4-F187-4532-81C7-42F3B6E9B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26600" y="16002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4360" y="39636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926600" y="39636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57DB4-9B41-43E2-BA8E-C505DE041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2665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483360" y="1600200"/>
            <a:ext cx="2665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82720" y="1600200"/>
            <a:ext cx="2665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4360" y="3963600"/>
            <a:ext cx="2665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483360" y="3963600"/>
            <a:ext cx="2665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82720" y="3963600"/>
            <a:ext cx="2665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2BAA9-71D8-4755-B7C9-5907C8DB9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82785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4046-89E2-4ADF-BBF1-1649F9DDE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4039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26600" y="1600200"/>
            <a:ext cx="4039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3F19-4ABF-42F5-9023-3BFFF73C3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CE4E-FAAC-444D-A88C-11295B2DE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02920" y="-206640"/>
            <a:ext cx="755964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9CF8-89F0-4317-B5D8-CAF161369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26600" y="1600200"/>
            <a:ext cx="4039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636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5FA1-0991-4494-A79C-A6056A97E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4039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26600" y="16002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26600" y="39636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FB8B-F1AD-43AB-9BAC-FB525E45A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26600" y="16002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63600"/>
            <a:ext cx="8278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256F-2E06-440F-8E4B-400AAADBC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324000" y="836640"/>
            <a:ext cx="8642160" cy="583236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3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1213920" y="623736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708000" y="623736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l-P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8310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85F9DC8-4E4E-4D9F-AD69-C4A78A8089E1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1440000" cy="1440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684360" y="1600200"/>
            <a:ext cx="82785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2"/>
          <a:stretch/>
        </p:blipFill>
        <p:spPr>
          <a:xfrm>
            <a:off x="1763640" y="981000"/>
            <a:ext cx="5283360" cy="5283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000" y="-271800"/>
            <a:ext cx="77706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264BA52-C1BE-4B57-9306-4F90F7153EE5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pn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748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Здоровьесберегающие</a:t>
            </a:r>
            <a:br>
              <a:rPr sz="3600"/>
            </a:b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технологии в школе</a:t>
            </a:r>
            <a:br>
              <a:rPr sz="3600"/>
            </a:br>
            <a:endParaRPr b="0" lang="en-US" sz="36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638320" y="4876560"/>
            <a:ext cx="350532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втор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абунец Ольга Юрьевн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итель биологи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У СОШ № 4 г. Мытищ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6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Критерии здоровьесбережения и уровни гигиенической рациональности урока.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295280" y="1905120"/>
          <a:ext cx="7392960" cy="3940200"/>
        </p:xfrm>
        <a:graphic>
          <a:graphicData uri="http://schemas.openxmlformats.org/drawingml/2006/table">
            <a:tbl>
              <a:tblPr/>
              <a:tblGrid>
                <a:gridCol w="1447920"/>
                <a:gridCol w="1752480"/>
                <a:gridCol w="1373400"/>
                <a:gridCol w="1523880"/>
                <a:gridCol w="1295280"/>
              </a:tblGrid>
              <a:tr h="136188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терии здоровье- сбереж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ис-ти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циональ-ный уровен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достаточ-но рацио-наль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рацио-наль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832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20 и 35 минуте по 1 минуте из 3-х легких упражне-ний с 3-4 повторе-ниями каждого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физкульт-минутка с неправиль-ным содер- жанием или продолжи- тельностью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сутст-вуе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Text Box 40"/>
          <p:cNvSpPr/>
          <p:nvPr/>
        </p:nvSpPr>
        <p:spPr>
          <a:xfrm>
            <a:off x="1295280" y="3276720"/>
            <a:ext cx="15242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личие, место, содержание и продолжи- тельность на уроке моментов оздоровле-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41"/>
          <p:cNvSpPr/>
          <p:nvPr/>
        </p:nvSpPr>
        <p:spPr>
          <a:xfrm>
            <a:off x="2743200" y="3352680"/>
            <a:ext cx="17683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изкультми-нутки, динами-ческие паузы, гимнастика для глаз, массаж активных точе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708360" y="623736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112320"/>
            <a:ext cx="756144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Работоспособность в течение </a:t>
            </a:r>
            <a:br>
              <a:rPr sz="2800"/>
            </a:b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учебного дня</a:t>
            </a:r>
            <a:br>
              <a:rPr sz="2800"/>
            </a:b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1-6 классы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</p:txBody>
      </p:sp>
      <p:graphicFrame>
        <p:nvGraphicFramePr>
          <p:cNvPr id="122" name="Object 2"/>
          <p:cNvGraphicFramePr/>
          <p:nvPr/>
        </p:nvGraphicFramePr>
        <p:xfrm>
          <a:off x="1676520" y="1527120"/>
          <a:ext cx="6705360" cy="44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527120"/>
                    <a:ext cx="6705360" cy="44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Місце для нижнього колонтитула 1"/>
          <p:cNvSpPr/>
          <p:nvPr/>
        </p:nvSpPr>
        <p:spPr>
          <a:xfrm>
            <a:off x="3708360" y="623736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03280" y="158760"/>
            <a:ext cx="756144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Работоспособность в течение </a:t>
            </a:r>
            <a:br>
              <a:rPr sz="2800"/>
            </a:b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учебного дня</a:t>
            </a:r>
            <a:br>
              <a:rPr sz="2800"/>
            </a:b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7-11 классы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</p:txBody>
      </p:sp>
      <p:graphicFrame>
        <p:nvGraphicFramePr>
          <p:cNvPr id="126" name="Object 1024"/>
          <p:cNvGraphicFramePr/>
          <p:nvPr/>
        </p:nvGraphicFramePr>
        <p:xfrm>
          <a:off x="1295280" y="1646280"/>
          <a:ext cx="7467840" cy="406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646280"/>
                    <a:ext cx="7467840" cy="40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Місце для нижнього колонтитула 1"/>
          <p:cNvSpPr/>
          <p:nvPr/>
        </p:nvSpPr>
        <p:spPr>
          <a:xfrm>
            <a:off x="3708360" y="623736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360" y="112320"/>
            <a:ext cx="756108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Работоспособность в течение</a:t>
            </a:r>
            <a:br>
              <a:rPr sz="2800"/>
            </a:b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 рабочей недели</a:t>
            </a:r>
            <a:br>
              <a:rPr sz="2800"/>
            </a:b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1-6 классы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</p:txBody>
      </p:sp>
      <p:graphicFrame>
        <p:nvGraphicFramePr>
          <p:cNvPr id="130" name="Object 1024"/>
          <p:cNvGraphicFramePr/>
          <p:nvPr/>
        </p:nvGraphicFramePr>
        <p:xfrm>
          <a:off x="1371600" y="1671480"/>
          <a:ext cx="7467480" cy="410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671480"/>
                    <a:ext cx="7467480" cy="41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Місце для нижнього колонтитула 1"/>
          <p:cNvSpPr/>
          <p:nvPr/>
        </p:nvSpPr>
        <p:spPr>
          <a:xfrm>
            <a:off x="3708360" y="623736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8960" y="189000"/>
            <a:ext cx="756108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Работоспособность в течение </a:t>
            </a:r>
            <a:br>
              <a:rPr sz="2800"/>
            </a:b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рабочей недели</a:t>
            </a:r>
            <a:br>
              <a:rPr sz="2800"/>
            </a:b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7-11 классы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7467840" cy="414360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708360" y="623736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Физкультурно-оздоровительная</a:t>
            </a:r>
            <a:br>
              <a:rPr sz="2400"/>
            </a:b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работа в школе</a:t>
            </a:r>
            <a:endParaRPr b="0" lang="en-US" sz="2400" spc="-1" strike="noStrike">
              <a:solidFill>
                <a:srgbClr val="800000"/>
              </a:solidFill>
              <a:latin typeface="Comic Sans MS"/>
            </a:endParaRPr>
          </a:p>
        </p:txBody>
      </p:sp>
      <p:graphicFrame>
        <p:nvGraphicFramePr>
          <p:cNvPr id="137" name="Object 3"/>
          <p:cNvGraphicFramePr/>
          <p:nvPr/>
        </p:nvGraphicFramePr>
        <p:xfrm>
          <a:off x="1295280" y="4191120"/>
          <a:ext cx="3124440" cy="235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4191120"/>
                    <a:ext cx="3124440" cy="23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Object 4"/>
          <p:cNvGraphicFramePr/>
          <p:nvPr/>
        </p:nvGraphicFramePr>
        <p:xfrm>
          <a:off x="5257800" y="1600200"/>
          <a:ext cx="3276720" cy="2446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1600200"/>
                    <a:ext cx="3276720" cy="24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5"/>
          <p:cNvGraphicFramePr/>
          <p:nvPr/>
        </p:nvGraphicFramePr>
        <p:xfrm>
          <a:off x="5257800" y="4114800"/>
          <a:ext cx="3276720" cy="2448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2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57800" y="4114800"/>
                    <a:ext cx="3276720" cy="24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3" name="Picture 7" descr=""/>
          <p:cNvPicPr/>
          <p:nvPr/>
        </p:nvPicPr>
        <p:blipFill>
          <a:blip r:embed="rId7"/>
          <a:stretch/>
        </p:blipFill>
        <p:spPr>
          <a:xfrm>
            <a:off x="1295280" y="1739880"/>
            <a:ext cx="3200400" cy="252900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708360" y="623736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6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Требования к проведению физкультминуток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4800600" cy="4449600"/>
          </a:xfrm>
          <a:prstGeom prst="rect">
            <a:avLst/>
          </a:prstGeom>
          <a:solidFill>
            <a:srgbClr val="ffffff">
              <a:alpha val="51000"/>
            </a:srgbClr>
          </a:solidFill>
          <a:ln w="1260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мплексы подбираются в зависимости от   вида урока, его содержания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пражнения должны быть разнообразны, так   как однообразие снижает интерес к ним, а следовательно, и их результативность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изкультминутки должны проводиться на начальном этапе утомления, выполнение упражнений при сильном утомлении не дает желаемого результата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едпочтение нужно отдавать упражнениям для утомленных групп мышц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ажно обеспечить позитивный эмоциональный настрой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5638680" y="167652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"/>
          <p:cNvPicPr/>
          <p:nvPr/>
        </p:nvPicPr>
        <p:blipFill>
          <a:blip r:embed="rId2"/>
          <a:stretch/>
        </p:blipFill>
        <p:spPr>
          <a:xfrm>
            <a:off x="5715000" y="4038480"/>
            <a:ext cx="2895480" cy="217188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708360" y="623736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Виды физкультминуток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240" y="1828440"/>
            <a:ext cx="3987720" cy="3886200"/>
          </a:xfrm>
          <a:prstGeom prst="rect">
            <a:avLst/>
          </a:prstGeom>
          <a:solidFill>
            <a:srgbClr val="ffffff">
              <a:alpha val="51000"/>
            </a:srgbClr>
          </a:solidFill>
          <a:ln w="1260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пражнения для снятия общего или локального утомлени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пражнения для кистей рук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имнастика для глаз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имнастика для слух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пражнения корректирующие осанку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ыхательная гимнастика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5867280" y="1600200"/>
            <a:ext cx="2944800" cy="22082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1"/>
          <p:cNvPicPr/>
          <p:nvPr/>
        </p:nvPicPr>
        <p:blipFill>
          <a:blip r:embed="rId2"/>
          <a:stretch/>
        </p:blipFill>
        <p:spPr>
          <a:xfrm>
            <a:off x="4952880" y="4267080"/>
            <a:ext cx="1981440" cy="14814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2"/>
          <p:cNvPicPr/>
          <p:nvPr/>
        </p:nvPicPr>
        <p:blipFill>
          <a:blip r:embed="rId3"/>
          <a:stretch/>
        </p:blipFill>
        <p:spPr>
          <a:xfrm>
            <a:off x="7086600" y="4267080"/>
            <a:ext cx="1752480" cy="133524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708360" y="623736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Times New Roman"/>
              </a:rPr>
              <a:t>Литература</a:t>
            </a: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82785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Ковалько В.И. «Здоровьесберегающие технологии в школе. 1-4 классы.».,Москва, Издательство «Вако»,2005 г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Смирнов Н.К. «Здоровьесберегающие образовательные технологии в современной школе»., Москва, Издательство «АПК и ПРО», 2002 г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Советова Е.В. «Эффективные образовательные технологии»., Ростов н/Д, Издательство «Феникс», 2007 г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http://www.openclass.ru/io/9/kostenko   Костенко Л.В. «Здоровье сберегающие технологии в школе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708360" y="623736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295280" y="1981080"/>
            <a:ext cx="7467840" cy="37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Забота о здоровье – это важнейший труд воспитателя. От жизнедеятельности, бодрости детей зависит их духовная жизнь, мировоззрение, умственное развитие, прочность знаний, вера в свои силы…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.А.Сухомлинск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708360" y="623736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8126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Здоровье ученика в норме, если: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1143000" y="1905120"/>
            <a:ext cx="8001000" cy="37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375"/>
              </a:spcBef>
              <a:buClr>
                <a:srgbClr val="80808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 физическом план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здоровье позволяет ему справляться с учебной нагрузкой, ребенок умеет преодолевать усталость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buClr>
                <a:srgbClr val="80808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 социальном план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он коммуникабелен, общителен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buClr>
                <a:srgbClr val="80808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 эмоциональном план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ребенок уравновешен, способен удивляться и восхищаться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buClr>
                <a:srgbClr val="80808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 интеллектуальном план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учащийся проявляет хорошие умственные способности, наблюдательность, воображение, самообучаемость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buClr>
                <a:srgbClr val="80808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 нравственном план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он признает основные общечеловеческие ценност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708360" y="623736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Здоровьесберегающие </a:t>
            </a:r>
            <a:br>
              <a:rPr sz="2800"/>
            </a:b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образовательные технологии</a:t>
            </a:r>
            <a:r>
              <a:rPr b="0" lang="ru-RU" sz="3600" spc="-1" strike="noStrike">
                <a:solidFill>
                  <a:srgbClr val="8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1371600" y="2362320"/>
            <a:ext cx="730872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bbe0e3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доровьесберегающие образовательные технологии – это системный подход к обучению и воспитанию, построенный на стремлении педагога не нанести ущерб здоровью учащих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708360" y="623736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Принципы здоровьесбережения</a:t>
            </a:r>
            <a:r>
              <a:rPr b="1" lang="en-US" sz="3300" spc="-1" strike="noStrike">
                <a:solidFill>
                  <a:srgbClr val="800000"/>
                </a:solidFill>
                <a:latin typeface="Arial"/>
              </a:rPr>
              <a:t>:</a:t>
            </a:r>
            <a:endParaRPr b="0" lang="en-US" sz="33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1143000" y="1828800"/>
            <a:ext cx="7543800" cy="38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е навред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!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иоритет заботы о здоровье учителя и учащег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епрерывность и преемственность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убьект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убьективные взаимоотношен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оответствие содержания и организации обучения возрастным особенностям усащихся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омплексный, междисциплинарный подход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спех порождает успех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ктивнос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тветственность за свое здоровье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708360" y="623736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Критерии здоровьесбережения и уровни гигиенической рациональности урока.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295280" y="1905120"/>
          <a:ext cx="7392960" cy="3652560"/>
        </p:xfrm>
        <a:graphic>
          <a:graphicData uri="http://schemas.openxmlformats.org/drawingml/2006/table">
            <a:tbl>
              <a:tblPr/>
              <a:tblGrid>
                <a:gridCol w="1447920"/>
                <a:gridCol w="1752480"/>
                <a:gridCol w="1373400"/>
                <a:gridCol w="1523880"/>
                <a:gridCol w="1295280"/>
              </a:tblGrid>
              <a:tr h="136188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терии здоровье- сбереж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ис-ти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циональ-ный уровен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достаточ-но рацио-наль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рацио-наль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9068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видов учебной деятель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ст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ы учебной деятельности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опрос,письмо,чтение,слуша-ние,рассказ, ответы на вопросы,рас- сматривание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исы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-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Місце для нижнього колонтитула 1"/>
          <p:cNvSpPr/>
          <p:nvPr/>
        </p:nvSpPr>
        <p:spPr>
          <a:xfrm>
            <a:off x="3708360" y="623736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Критерии здоровьесбережения и уровни гигиенической рациональности урока.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295280" y="1905120"/>
          <a:ext cx="7392960" cy="3652560"/>
        </p:xfrm>
        <a:graphic>
          <a:graphicData uri="http://schemas.openxmlformats.org/drawingml/2006/table">
            <a:tbl>
              <a:tblPr/>
              <a:tblGrid>
                <a:gridCol w="1447920"/>
                <a:gridCol w="1752480"/>
                <a:gridCol w="1373400"/>
                <a:gridCol w="1523880"/>
                <a:gridCol w="1295280"/>
              </a:tblGrid>
              <a:tr h="136188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терии здоровье- сбереж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ис-ти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циональ-ный уровен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достаточ-но рацио-наль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рацио-наль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9068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более 10 мин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-15 мин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е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мин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Text Box 40"/>
          <p:cNvSpPr/>
          <p:nvPr/>
        </p:nvSpPr>
        <p:spPr>
          <a:xfrm>
            <a:off x="1355760" y="3419640"/>
            <a:ext cx="13874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редняя продолжи- тельность и частота чередова-ния видов деятельно-ст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708360" y="623736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Критерии здоровьесбережения и уровни гигиенической рациональности урока.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295280" y="1905120"/>
          <a:ext cx="7392960" cy="3889080"/>
        </p:xfrm>
        <a:graphic>
          <a:graphicData uri="http://schemas.openxmlformats.org/drawingml/2006/table">
            <a:tbl>
              <a:tblPr/>
              <a:tblGrid>
                <a:gridCol w="1447920"/>
                <a:gridCol w="1752480"/>
                <a:gridCol w="1373400"/>
                <a:gridCol w="1523880"/>
                <a:gridCol w="1295280"/>
              </a:tblGrid>
              <a:tr h="136188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терии здоровье- сбереж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ис-ти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циональ-ный уровен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достаточ-но рацио-наль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рацио-наль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720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видов пре-подава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ы препода- вания: словесный, наглядный, самостоятель-ная или практическая работа, аудиовизуаль- ный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мене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Місце для нижнього колонтитула 1"/>
          <p:cNvSpPr/>
          <p:nvPr/>
        </p:nvSpPr>
        <p:spPr>
          <a:xfrm>
            <a:off x="3708360" y="623736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Критерии здоровьесбережения и уровни гигиенической рациональности урока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800000"/>
              </a:solidFill>
              <a:latin typeface="Comic Sans MS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295280" y="1905120"/>
          <a:ext cx="7392960" cy="3849480"/>
        </p:xfrm>
        <a:graphic>
          <a:graphicData uri="http://schemas.openxmlformats.org/drawingml/2006/table">
            <a:tbl>
              <a:tblPr/>
              <a:tblGrid>
                <a:gridCol w="1447920"/>
                <a:gridCol w="1752480"/>
                <a:gridCol w="1373400"/>
                <a:gridCol w="1523880"/>
                <a:gridCol w="1295280"/>
              </a:tblGrid>
              <a:tr h="136188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терии здоровье- сбереж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ис-ти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циональ-ный уровен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достаточ-но рацио-наль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рацио-наль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8760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редова-ние видов преподава-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отность уро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времени, затраченное школьником на работ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позже, чем через 10-15 мин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менее 60% и не боле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-8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рез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-20 мин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-90%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череду-ютс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е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Line 40"/>
          <p:cNvSpPr/>
          <p:nvPr/>
        </p:nvSpPr>
        <p:spPr>
          <a:xfrm>
            <a:off x="1295280" y="4191120"/>
            <a:ext cx="7391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708360" y="623736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6T07:52:28Z</dcterms:created>
  <dc:creator>olga</dc:creator>
  <dc:description/>
  <dc:language>en-US</dc:language>
  <cp:lastModifiedBy>LEGION</cp:lastModifiedBy>
  <dcterms:modified xsi:type="dcterms:W3CDTF">2015-03-31T07:52:43Z</dcterms:modified>
  <cp:revision>17</cp:revision>
  <dc:subject/>
  <dc:title>Презентация PowerPoint</dc:title>
</cp:coreProperties>
</file>