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 в школ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урно-оздоровитель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та в шко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проведению физкультмину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физкультмину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А.Сухомлинск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ученика в норме,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изическ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ци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коммуникабелен, общителе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моцион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ебенок уравновешен, способен удивляться и восхищ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интеллекту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нравствен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ризнает основные общечеловеческие ц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тельны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ы здоровьесбереже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навред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!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иоритет заботы о здоровье учителя и учащег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прерывность и преемственность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ивные взаимоотношен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лексный, междисциплинарный подход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спех порождает успе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к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свое здоровь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терии здоровье-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-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циональ-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оч-но 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видов учебной деятел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опрос,письмо,чтение,слуша-ние,рассказ, ответы на вопросы,рас- сматри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сы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F39-E084-4A90-BAE2-5FBC836C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299-0586-4F93-81BF-5410BA7E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FE9-3283-4D42-9D21-B79BF8CC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60A-F00F-4D2E-AA03-3E32AAD8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CD2A-86D9-4A21-BE36-4C839F46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87F1-BAE9-4207-A555-94CC3A49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638D-7736-4BDD-9CFE-11796AFD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D679-5260-40A1-9357-55184066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D32E-F783-497E-9C4F-727CA670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2E8B-4835-4446-9E3E-86AE5F86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AAE0-98B9-413D-BEE2-7D90AAC0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B01-B0D9-463D-AFA8-A9A3E513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D197-933B-4858-A5F9-747B8393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FEDD-56AB-4C23-BF0C-26C6416B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9205-C070-4679-8225-EE6C1F41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D939-5124-4831-BFE0-2C3A7ED0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1E69-5504-4BF6-8962-D7033DB6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3AE-BFEC-4F60-82CD-947DC65E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E72-9A03-4789-B056-C9FDF57C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F57-0AD0-4053-9A04-04599926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595-4300-4B4D-8F01-71C2160B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195-8C82-4B7D-A7E4-5055568B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525-FEB5-4095-A718-1E6345E9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D11-2CC1-47CB-8D89-7884D2BB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36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10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B41FFD-68B2-47E8-BE8B-E5CED773AB8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-2718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123B1D-829D-42B4-82F5-7FCA5EB7169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доровьесберегающ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ехнологии в школе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38320" y="4876560"/>
            <a:ext cx="35053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2320"/>
            <a:ext cx="7561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158760"/>
            <a:ext cx="7561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295280" y="1646280"/>
          <a:ext cx="746784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46280"/>
                    <a:ext cx="74678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12320"/>
            <a:ext cx="756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0" name="Object 1024"/>
          <p:cNvGraphicFramePr/>
          <p:nvPr/>
        </p:nvGraphicFramePr>
        <p:xfrm>
          <a:off x="1371600" y="1671480"/>
          <a:ext cx="74674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1480"/>
                    <a:ext cx="746748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189000"/>
            <a:ext cx="75610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467840" cy="414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изкультурно-оздоровительная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работа в школе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295280" y="4191120"/>
          <a:ext cx="3124440" cy="23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312444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5257800" y="1600200"/>
          <a:ext cx="327672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600200"/>
                    <a:ext cx="32767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5257800" y="4114800"/>
          <a:ext cx="327672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14800"/>
                    <a:ext cx="32767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7"/>
          <a:stretch/>
        </p:blipFill>
        <p:spPr>
          <a:xfrm>
            <a:off x="1295280" y="1739880"/>
            <a:ext cx="3200400" cy="2529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496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иды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98772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944800" cy="2208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"/>
          <p:cNvPicPr/>
          <p:nvPr/>
        </p:nvPicPr>
        <p:blipFill>
          <a:blip r:embed="rId2"/>
          <a:stretch/>
        </p:blipFill>
        <p:spPr>
          <a:xfrm>
            <a:off x="4952880" y="4267080"/>
            <a:ext cx="1981440" cy="148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2"/>
          <p:cNvPicPr/>
          <p:nvPr/>
        </p:nvPicPr>
        <p:blipFill>
          <a:blip r:embed="rId3"/>
          <a:stretch/>
        </p:blipFill>
        <p:spPr>
          <a:xfrm>
            <a:off x="7086600" y="4267080"/>
            <a:ext cx="1752480" cy="1335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295280" y="1981080"/>
            <a:ext cx="74678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26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 ученика в норме, есл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сберегающ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овательные технологии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нципы здоровьесбережения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LEGION</cp:lastModifiedBy>
  <dcterms:modified xsi:type="dcterms:W3CDTF">2015-03-31T07:52:43Z</dcterms:modified>
  <cp:revision>17</cp:revision>
  <dc:subject/>
  <dc:title>Презентация PowerPoint</dc:title>
</cp:coreProperties>
</file>