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и в школ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ного дн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6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оспособность в теч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чей недел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-11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урно-оздоровитель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бота в шко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проведению физкультмину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ы физкультмину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ученика в норме, ес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физическ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ци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коммуникабелен, общителе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моцион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ебенок уравновешен, способен удивляться и восхищ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интеллектуаль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нравственном план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н признает основные общечеловеческие ц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тельные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ы здоровьесбере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навред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!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иоритет заботы о здоровье учителя и учащег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прерывность и преемственность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убьективные взаимоотнош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лексный, междисциплинарный подход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спех порождает успе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ктив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свое здоровь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терии здоровье-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-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циональ-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оч-но 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рацио-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ичество видов учебной деятель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опрос,письмо,чтение,слуша-ние,рассказ, ответы на вопросы,рас- сматри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ы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37A-CAE2-4F05-BAB8-97497FC0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ABB-EF59-432B-AD85-2B588CD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A18-F36A-47DD-8CE1-BAD89AA6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335-78AB-488C-A8B2-62420698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168-B700-4E0F-BFF7-267F8842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D3EC-153F-4C41-A5B2-B261937A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B042-AA41-45FB-91B3-73143F74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4611-8E5A-43BF-B23F-845FB06C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8A9A-C145-4B21-B833-BF6455A4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800D-53C1-4D51-822A-D2E7DF1D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CC21-CB77-4BB8-957C-B3C2F8C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25F-2ED4-47D1-8A9C-6B487D08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7B96-9BCC-4DC8-8932-E985BF9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82DF-3583-4ED0-840D-B61CA92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92C-1412-4418-9A5B-45E11E8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0D01-DEBD-4D8F-B252-0D0FFF0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36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2720" y="16002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36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2720" y="3963600"/>
            <a:ext cx="2665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7BFC-1452-440B-B6A5-4A8488D9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EA0-F031-447E-960E-AC9FCFBA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313-682F-461E-B683-034012D9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904-3F71-452D-B96C-0F1B357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2920" y="-206640"/>
            <a:ext cx="75596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462-CB77-476A-B1C2-82F671C9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BD8-B0DB-483C-B808-91D22EE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600" y="39636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98D-615C-4A5E-A692-0D08C3C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600" y="1600200"/>
            <a:ext cx="4039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63600"/>
            <a:ext cx="8278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668-021E-48DF-A677-45B8A87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36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10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7A7406-4901-4C07-AB3A-BED7AEEE9F8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-2718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FB1634-775F-436B-8090-1FA7A38FDEF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74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доровьесберегающие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технологии в школе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38320" y="4876560"/>
            <a:ext cx="35053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бунец Ольга Юр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4 г. Мытищ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1905120"/>
          <a:ext cx="7392960" cy="394020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83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20 и 35 минуте по 1 минуте из 3-х легких упражне-ний с 3-4 повторе-ниями каждо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физкульт-минутка с неправиль-ным содер- жанием или продолжи- 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-ву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40"/>
          <p:cNvSpPr/>
          <p:nvPr/>
        </p:nvSpPr>
        <p:spPr>
          <a:xfrm>
            <a:off x="1295280" y="3276720"/>
            <a:ext cx="1524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ичие, место, содержание и продолжи- тельность на уроке моментов оздоровле-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1"/>
          <p:cNvSpPr/>
          <p:nvPr/>
        </p:nvSpPr>
        <p:spPr>
          <a:xfrm>
            <a:off x="2743200" y="3352680"/>
            <a:ext cx="176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-нутки, динами-ческие паузы, гимнастика для глаз, массаж активн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12320"/>
            <a:ext cx="756144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1676520" y="1527120"/>
          <a:ext cx="670536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7120"/>
                    <a:ext cx="670536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158760"/>
            <a:ext cx="7561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ебного дн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295280" y="1646280"/>
          <a:ext cx="746784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46280"/>
                    <a:ext cx="7467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112320"/>
            <a:ext cx="7561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-6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0" name="Object 1024"/>
          <p:cNvGraphicFramePr/>
          <p:nvPr/>
        </p:nvGraphicFramePr>
        <p:xfrm>
          <a:off x="1371600" y="1671480"/>
          <a:ext cx="74674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1480"/>
                    <a:ext cx="746748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тоспособность в течен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бочей недели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11 классы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467840" cy="414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изкультурно-оздоровительная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работа в школе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295280" y="4191120"/>
          <a:ext cx="3124440" cy="23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312444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5257800" y="1600200"/>
          <a:ext cx="3276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600200"/>
                    <a:ext cx="3276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5257800" y="4114800"/>
          <a:ext cx="327672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14800"/>
                    <a:ext cx="3276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7"/>
          <a:stretch/>
        </p:blipFill>
        <p:spPr>
          <a:xfrm>
            <a:off x="1295280" y="1739880"/>
            <a:ext cx="3200400" cy="2529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бования к проведению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496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иды физкультминуток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3987720" cy="388620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для кистей р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глаз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мнастика для слух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жнения корректирующие осан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тельная гимнасти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44800" cy="2208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"/>
          <p:cNvPicPr/>
          <p:nvPr/>
        </p:nvPicPr>
        <p:blipFill>
          <a:blip r:embed="rId2"/>
          <a:stretch/>
        </p:blipFill>
        <p:spPr>
          <a:xfrm>
            <a:off x="4952880" y="4267080"/>
            <a:ext cx="1981440" cy="1481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2"/>
          <p:cNvPicPr/>
          <p:nvPr/>
        </p:nvPicPr>
        <p:blipFill>
          <a:blip r:embed="rId3"/>
          <a:stretch/>
        </p:blipFill>
        <p:spPr>
          <a:xfrm>
            <a:off x="7086600" y="4267080"/>
            <a:ext cx="1752480" cy="1335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-206640"/>
            <a:ext cx="7559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78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Ковалько В.И. «Здоровьесберегающие технологии в школе. 1-4 классы.».,Москва, Издательство «Вако»,2005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мирнов Н.К. «Здоровьесберегающие образовательные технологии в современной школе»., Москва, Издательство «АПК и ПРО», 2002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ветова Е.В. «Эффективные образовательные технологии»., Ростов н/Д, Издательство «Феникс», 2007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http://www.openclass.ru/io/9/kostenko   Костенко Л.В. «Здоровье сберегающие технологии в школ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295280" y="1981080"/>
            <a:ext cx="7467840" cy="37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26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 ученика в норме, если: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143000" y="1905120"/>
            <a:ext cx="8001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физическ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доровье позволяет ему справляться с учебной нагрузкой, ребенок умеет преодолевать устал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соци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коммуникабелен, общител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эмоцион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ребенок уравновешен, способен удивляться и восхищать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интеллектуаль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чащийся проявляет хорошие умственные способности, наблюдательность, воображение, самообучаем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80808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нравственном пла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н признает основные общечеловеческие це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доровьесберегающие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овательные технологии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371600" y="2362320"/>
            <a:ext cx="7308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bbe0e3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инципы здоровьесбережения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33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143000" y="1828800"/>
            <a:ext cx="75438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оритет заботы о здоровье учителя и учаще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ость и преемственность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бьективные взаимоотнош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ие содержания и организации обучения возрастным особенностям усащих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лексный, междисциплинарный подхо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пех порождает успе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ктив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99cc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ственность за свое здоровь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прос,письмо,чтение,слуша-ние,рассказ, ответы на вопросы,рас- сматри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95280" y="1905120"/>
          <a:ext cx="7392960" cy="365256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40"/>
          <p:cNvSpPr/>
          <p:nvPr/>
        </p:nvSpPr>
        <p:spPr>
          <a:xfrm>
            <a:off x="1355760" y="3419640"/>
            <a:ext cx="1387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продолжи- тельность и частота чередова-ния видов деятельно-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95280" y="1905120"/>
          <a:ext cx="7392960" cy="38890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идов пре-пода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епода- вания: словесный, наглядный, самостоятель-ная или практическая работа, аудиовизуаль- 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ритерии здоровьесбережения и уровни гигиенической рациональности урок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00000"/>
              </a:solidFill>
              <a:latin typeface="Comic Sans M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1905120"/>
          <a:ext cx="7392960" cy="384948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1373400"/>
                <a:gridCol w="1523880"/>
                <a:gridCol w="1295280"/>
              </a:tblGrid>
              <a:tr h="1361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-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ональ-ный уров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-но 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цио-н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дова-ние видов преподава-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 уро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времени, затраченное школьником на работ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зже, чем через 10-15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60% и не 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-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0 мин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90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череду-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Line 40"/>
          <p:cNvSpPr/>
          <p:nvPr/>
        </p:nvSpPr>
        <p:spPr>
          <a:xfrm>
            <a:off x="1295280" y="4191120"/>
            <a:ext cx="7391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708360" y="623736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7:52:28Z</dcterms:created>
  <dc:creator>olga</dc:creator>
  <dc:description/>
  <dc:language>en-US</dc:language>
  <cp:lastModifiedBy>LEGION</cp:lastModifiedBy>
  <dcterms:modified xsi:type="dcterms:W3CDTF">2015-03-31T07:52:43Z</dcterms:modified>
  <cp:revision>17</cp:revision>
  <dc:subject/>
  <dc:title>Презентация PowerPoint</dc:title>
</cp:coreProperties>
</file>