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B300-5CEF-4C0C-9969-CB9589A3C8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 любимым делом жизнь в сто крат ми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ишь надо приложить к нему терпение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мастерство становится сме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огда приходит к сердцу вдохнов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юбовь к искусству – вечное горень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Художнику как сладостное бремя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Творенье рук – источник наслаждения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злечит душу и заполнит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2A3-729B-42DD-97BE-4D2241880DD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рубанк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ьно держи рубанок и правильно стой у верстака при обработке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ужку убирай только специальным приспособление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6F7-EB7C-49FF-A52F-D013B8F5219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того чтобы просверлить отверс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038E-DE3B-4554-8476-554EB71A3E8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: линейка, карандаш,  коловорот, сверла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росверлить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2 отверстия 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A24E-4D6B-4081-94AD-F6A469E79EA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пи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атываем поверхность изделия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напи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434-A866-4A61-AFE9-2E3BB79B80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авильно держи напильник чтобы не поранить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чищать напильник от стружки, только специальной четкой смет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8480-4F7D-4942-82A6-BA9ADE9C1FD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«Отгадай загадку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Сколько им не колоти, а ему не бо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ABED-3FFE-4B6E-8D30-EF2748312C6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: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 пассатижи, молоток, приспособление для гибки заготовки.</a:t>
            </a:r>
            <a:r>
              <a:rPr b="0" lang="ru-RU" sz="11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Материал: желез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0CD1-F976-43F1-B574-4D350A86C3A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оизводим сборку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AB1-EE6A-4B6C-A1C0-11CACD07E96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станавливаем шайбу и расплющиваем конец крю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793-5E29-4E3C-B358-85B3272D08A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328-0C44-4357-B3C7-AA77E06504E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Технологическая карта </a:t>
            </a:r>
            <a:br>
              <a:rPr sz="12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изготовления вешалки.</a:t>
            </a:r>
            <a:r>
              <a:rPr b="0" i="1" lang="ru-RU" sz="14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: древесина,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76F-E6AC-40B7-95F8-49AE6979BE0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мощи чего делают измерение заготово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,      карандаш          Ручка, карандаш          паль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0426-3787-45BD-AE48-1352B61F62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зм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обрать заготовку под размеры 20/55/390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атериал: древе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линейка,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39E-6ECC-49A0-8C95-1345A534F2B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спилить заготовку по заданным разм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Инструменты: упор, ножов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F0E-B7C8-4022-90C4-DA91CA014C8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Правила техники безопасности при работе с ножовк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льзуйся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и распиливании древесины ножовкой пользуйся уп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Не ставь руки близко в зону резания нож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3308-A6C7-480D-9046-B12684C00E1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шаблон, каранда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Разметка заготовки по шабл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211B-A227-46C9-9F2E-9B1874F5F10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обработки поверхности загото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FD7-D463-454B-A578-1D6A08E928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отка поверхности руба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руба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F30A-D65A-4E55-BC93-1005EC40518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EA3-EF96-4A93-ABBD-6255D7BC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8C6-816D-4AAD-8204-6ACC993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B90-EE5E-4E3C-A226-06B4E1E4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E90-EC17-4461-98A9-C2E620A4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AA2E-0B96-4D3A-90AA-DB50D429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5BBA-F02B-4D24-9705-15B142E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EF79-D1ED-4E1A-9F04-B35FC401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934-6156-40B8-8917-69BD451C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BA94-9B39-40A9-BBBA-FD0527D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239-4E39-40E7-806C-2DBF629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95A-1AA9-4D36-A31F-9276869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69C-FDD0-45F2-BF4A-9DABD13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9F2B-D2EF-45B4-8D44-36A38ED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0D3-ECD9-4BA9-A124-E35A9EA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F093-3F1E-4DB6-8FE0-91CEC8B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C347-157D-4151-A712-1046DB30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30EA-3636-4A59-A58D-5888B5BB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FD3-D812-4ECC-BEEB-CE33581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046-342E-4B61-A1D8-86F12369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B32-81A3-43A0-A5E8-B20010A7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5FE-C620-41E7-AC6B-CDBD54A1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82D-C086-4976-B64B-6D95CE9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3CB-4F8B-4701-A194-41DDACE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337-2F30-42F9-A243-5B8DAAF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3AE-8B8D-4930-AF28-B019EE6AAF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EEA-3AA6-4B9B-938C-78CF3E56A40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C:/Documents%20and%20Settings/&#1045;&#1075;&#1086;&#1088;/Local%20Settings/Temp/&#1050;&#1086;&#1085;&#1094;&#1077;&#1087;&#1094;&#1080;&#1103;%20&#1102;&#1082;&#1086;&#1089;.pp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6160" y="1231920"/>
            <a:ext cx="7688880" cy="13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640" y="671040"/>
            <a:ext cx="7559640" cy="580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любимым делом жизнь в сто крат ми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шь надо приложить к нему терпение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мастерство становится сме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гда приходит к сердцу вдохнов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юбовь к искусству – вечное горень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Художнику как сладостное бремя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воренье рук – источник наслаждения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лечит душу и заполнит врем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рубанком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 держи рубанок и правильно стой у верстака при обработке загот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ружку убирай только специальным приспособлением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того чтобы просверлить отверст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324000" y="1628640"/>
            <a:ext cx="2952720" cy="648000"/>
          </a:xfrm>
          <a:custGeom>
            <a:avLst/>
            <a:gdLst>
              <a:gd name="textAreaLeft" fmla="*/ 41760 w 2952720"/>
              <a:gd name="textAreaRight" fmla="*/ 2910960 w 2952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8381" h="21600">
                <a:moveTo>
                  <a:pt x="0" y="0"/>
                </a:moveTo>
                <a:lnTo>
                  <a:pt x="98381" y="0"/>
                </a:lnTo>
                <a:lnTo>
                  <a:pt x="98381" y="21600"/>
                </a:lnTo>
                <a:lnTo>
                  <a:pt x="0" y="21600"/>
                </a:lnTo>
                <a:close/>
              </a:path>
              <a:path fill="lightenLess" w="98381" h="21600">
                <a:moveTo>
                  <a:pt x="0" y="0"/>
                </a:moveTo>
                <a:lnTo>
                  <a:pt x="98381" y="0"/>
                </a:lnTo>
                <a:lnTo>
                  <a:pt x="96981" y="1400"/>
                </a:lnTo>
                <a:lnTo>
                  <a:pt x="1400" y="1400"/>
                </a:lnTo>
                <a:close/>
              </a:path>
              <a:path fill="darken" w="98381" h="21600">
                <a:moveTo>
                  <a:pt x="98381" y="0"/>
                </a:moveTo>
                <a:lnTo>
                  <a:pt x="98381" y="21600"/>
                </a:lnTo>
                <a:lnTo>
                  <a:pt x="96981" y="20200"/>
                </a:lnTo>
                <a:lnTo>
                  <a:pt x="96981" y="1400"/>
                </a:lnTo>
                <a:close/>
              </a:path>
              <a:path fill="darkenLess" w="98381" h="21600">
                <a:moveTo>
                  <a:pt x="9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81" y="20200"/>
                </a:lnTo>
                <a:close/>
              </a:path>
              <a:path fill="lighten" w="9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356400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37236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1628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170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др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635280" y="170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474560" y="4292280"/>
            <a:ext cx="7057800" cy="1730520"/>
            <a:chOff x="1474560" y="4292280"/>
            <a:chExt cx="7057800" cy="1730520"/>
          </a:xfrm>
        </p:grpSpPr>
        <p:sp>
          <p:nvSpPr>
            <p:cNvPr id="268" name="Rectangle 11"/>
            <p:cNvSpPr/>
            <p:nvPr/>
          </p:nvSpPr>
          <p:spPr>
            <a:xfrm rot="10800000">
              <a:off x="1476360" y="4291920"/>
              <a:ext cx="705600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0800000">
              <a:off x="1476360" y="4943160"/>
              <a:ext cx="7056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5042160" y="4943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 flipH="1" flipV="1">
              <a:off x="1474560" y="4943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2" name="Oval 18"/>
          <p:cNvSpPr/>
          <p:nvPr/>
        </p:nvSpPr>
        <p:spPr>
          <a:xfrm>
            <a:off x="4788000" y="4149720"/>
            <a:ext cx="3585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075280" y="494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85928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788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148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4788000" y="4797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391080" y="424080"/>
            <a:ext cx="2256840" cy="30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 линейка, карандаш,  коловорот, сверл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70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сверлит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2 отверст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1258560" y="4076280"/>
            <a:ext cx="7057800" cy="1730520"/>
            <a:chOff x="1258560" y="4076280"/>
            <a:chExt cx="7057800" cy="1730520"/>
          </a:xfrm>
        </p:grpSpPr>
        <p:sp>
          <p:nvSpPr>
            <p:cNvPr id="282" name="Rectangle 4"/>
            <p:cNvSpPr/>
            <p:nvPr/>
          </p:nvSpPr>
          <p:spPr>
            <a:xfrm rot="10800000">
              <a:off x="1260000" y="4075920"/>
              <a:ext cx="705636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10800000">
              <a:off x="1260000" y="4727160"/>
              <a:ext cx="7056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H="1">
              <a:off x="4826160" y="4727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 flipH="1" flipV="1">
              <a:off x="1258560" y="4727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 flipV="1">
            <a:off x="1258920" y="335736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788000" y="3357360"/>
            <a:ext cx="0" cy="24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1258920" y="3500280"/>
            <a:ext cx="3529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3933720"/>
            <a:ext cx="358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485928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716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4572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493236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4572000" y="4581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21"/>
          <p:cNvSpPr/>
          <p:nvPr/>
        </p:nvSpPr>
        <p:spPr>
          <a:xfrm rot="10800000">
            <a:off x="5795640" y="-171720"/>
            <a:ext cx="360360" cy="2376360"/>
          </a:xfrm>
          <a:prstGeom prst="upArrow">
            <a:avLst>
              <a:gd name="adj1" fmla="val 19565"/>
              <a:gd name="adj2" fmla="val 104228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 rot="5400000">
            <a:off x="2790000" y="962640"/>
            <a:ext cx="1836720" cy="432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AutoShape 24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AutoShape 25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4284720" y="476280"/>
            <a:ext cx="1008000" cy="1438200"/>
            <a:chOff x="4284720" y="476280"/>
            <a:chExt cx="1008000" cy="1438200"/>
          </a:xfrm>
        </p:grpSpPr>
        <p:sp>
          <p:nvSpPr>
            <p:cNvPr id="300" name="AutoShape 27"/>
            <p:cNvSpPr/>
            <p:nvPr/>
          </p:nvSpPr>
          <p:spPr>
            <a:xfrm>
              <a:off x="4429080" y="1411200"/>
              <a:ext cx="719280" cy="503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4284720" y="619200"/>
              <a:ext cx="1008000" cy="93636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4500720" y="476280"/>
              <a:ext cx="576360" cy="287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2411280" y="31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0" y="33336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вер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5076720" y="4941720"/>
            <a:ext cx="3527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9953 L -0.12986 0.59838 E">
                                      <p:cBhvr>
                                        <p:cTn id="20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03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23607 L -0.12986 0.56901 E">
                                      <p:cBhvr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4 L -1.11111E-006 0.33318 E">
                                      <p:cBhvr>
                                        <p:cTn id="21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5 0.07884 L 0.05208 0.26705 C 0.05885 0.30913 0.05538 0.34104 0.04166 0.35098 C 0.02656 0.36254 0.00468 0.35168 -0.01927 0.32324 L -0.12986 0.19954 E">
                                      <p:cBhvr>
                                        <p:cTn id="22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7306 L -0.06788 0.25526 C -0.06701 0.29457 -0.05625 0.32 -0.03958 0.32879 C -0.02048 0.33919 -0.00017 0.33087 0.02014 0.30381 L 0.11806 0.17595 E">
                                      <p:cBhvr>
                                        <p:cTn id="22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64 L 0.11805 0.44097 E">
                                      <p:cBhvr>
                                        <p:cTn id="22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2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35838E-007 L -1.11111E-006 0.34312 E">
                                      <p:cBhvr>
                                        <p:cTn id="239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52 L 0.11805 0.43283 E">
                                      <p:cBhvr>
                                        <p:cTn id="241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1082 L 0.0592 0.2541 C 0.04479 0.28878 0.02587 0.30543 0.00816 0.30219 C -0.01129 0.29896 -0.02587 0.27583 -0.03316 0.23792 L -0.07118 0.07306 E">
                                      <p:cBhvr>
                                        <p:cTn id="2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188000" y="3357720"/>
            <a:ext cx="7056360" cy="1730520"/>
            <a:chOff x="1188000" y="3357720"/>
            <a:chExt cx="7056360" cy="1730520"/>
          </a:xfrm>
        </p:grpSpPr>
        <p:sp>
          <p:nvSpPr>
            <p:cNvPr id="309" name="Rectangle 5"/>
            <p:cNvSpPr/>
            <p:nvPr/>
          </p:nvSpPr>
          <p:spPr>
            <a:xfrm>
              <a:off x="1188000" y="4439160"/>
              <a:ext cx="70549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188000" y="3357720"/>
              <a:ext cx="70549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1189800" y="3357720"/>
              <a:ext cx="34876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4677840" y="3357720"/>
              <a:ext cx="3566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3" name="AutoShape 9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AutoShape 10">
            <a:hlinkClick r:id="" action="ppaction://hlinkshowjump?jump=previousslide"/>
          </p:cNvPr>
          <p:cNvSpPr/>
          <p:nvPr/>
        </p:nvSpPr>
        <p:spPr>
          <a:xfrm>
            <a:off x="6948360" y="645336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6109920" y="3436920"/>
            <a:ext cx="5355720" cy="2264760"/>
            <a:chOff x="6109920" y="3436920"/>
            <a:chExt cx="5355720" cy="2264760"/>
          </a:xfrm>
        </p:grpSpPr>
        <p:sp>
          <p:nvSpPr>
            <p:cNvPr id="316" name="Rectangle 13"/>
            <p:cNvSpPr/>
            <p:nvPr/>
          </p:nvSpPr>
          <p:spPr>
            <a:xfrm rot="1372800">
              <a:off x="5987520" y="4184640"/>
              <a:ext cx="3877920" cy="1555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 rot="6738000">
              <a:off x="10487520" y="4369320"/>
              <a:ext cx="222120" cy="1782720"/>
            </a:xfrm>
            <a:prstGeom prst="can">
              <a:avLst>
                <a:gd name="adj" fmla="val 7740"/>
              </a:avLst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Text Box 16"/>
          <p:cNvSpPr/>
          <p:nvPr/>
        </p:nvSpPr>
        <p:spPr>
          <a:xfrm>
            <a:off x="140328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68360" y="119700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поверхность изделия напильн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084720" y="836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напиль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250920" y="57340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84360" y="58770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1403280" y="333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пилив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00720" y="479736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19640" y="522936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5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25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417 -0.05295 E">
                                      <p:cBhvr>
                                        <p:cTn id="25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608 -0.05549 E">
                                      <p:cBhvr>
                                        <p:cTn id="26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5295 L -0.44792 -0.21017 E">
                                      <p:cBhvr>
                                        <p:cTn id="26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1806 -0.05295 E">
                                      <p:cBhvr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06 -0.05295 L -0.44792 -0.21017 E">
                                      <p:cBhvr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2587 -0.05295 E">
                                      <p:cBhvr>
                                        <p:cTn id="27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163 -0.05341 C -0.82413 -0.0548 -0.79167 -0.03491 -0.78941 -0.00809 C -0.78646 0.01734 -0.81163 0.04139 -0.84809 0.04301 C -0.8816 0.04509 -0.91302 0.02821 -0.91528 0.00416 C -0.91684 -0.0178 -0.89618 -0.03861 -0.8651 -0.04023 C -0.83646 -0.04162 -0.80955 -0.02774 -0.80729 -0.0074 C -0.80556 0.01133 -0.82292 0.02913 -0.84913 0.03029 C -0.87274 0.03145 -0.89566 0.02012 -0.89688 0.00347 C -0.89844 -0.01179 -0.88507 -0.02613 -0.86372 -0.02728 C -0.84479 -0.02821 -0.82622 -0.01965 -0.82517 -0.00647 C -0.82413 0.00509 -0.8342 0.01665 -0.85035 0.01734 C -0.86441 0.01827 -0.87795 0.01226 -0.87899 0.00254 C -0.88004 -0.00532 -0.87396 -0.01387 -0.86267 -0.0141 C -0.85382 -0.01503 -0.8441 -0.01179 -0.84306 -0.00578 C -0.84306 -0.00092 -0.84531 0.00393 -0.85139 0.00463 C -0.85538 0.00509 -0.85938 0.00416 -0.86094 0.00185 C -0.86163 0.00069 -0.86163 -0.00023 -0.86094 -0.00139 E">
                                      <p:cBhvr>
                                        <p:cTn id="27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напильником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ьно держи напильник чтобы не поранить ру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чищать напильник от стружки, только специальной четкой сметк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10800"/>
                </a:moveTo>
                <a:lnTo>
                  <a:pt x="44437" y="3794"/>
                </a:lnTo>
                <a:lnTo>
                  <a:pt x="4443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3120" y="177120"/>
            <a:ext cx="74174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тгадай загадку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колько им не колоти, а ему не больн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-19440" y="2653920"/>
            <a:ext cx="2586240" cy="3638880"/>
            <a:chOff x="-19440" y="2653920"/>
            <a:chExt cx="2586240" cy="3638880"/>
          </a:xfrm>
        </p:grpSpPr>
        <p:sp>
          <p:nvSpPr>
            <p:cNvPr id="334" name="Freeform 5"/>
            <p:cNvSpPr/>
            <p:nvPr/>
          </p:nvSpPr>
          <p:spPr>
            <a:xfrm rot="14082600">
              <a:off x="408960" y="4052880"/>
              <a:ext cx="1729080" cy="1944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rot="14082600">
              <a:off x="942840" y="2642400"/>
              <a:ext cx="792000" cy="158436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rot="14082600">
              <a:off x="1216080" y="3095640"/>
              <a:ext cx="292320" cy="728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4237920" y="3350160"/>
            <a:ext cx="1993320" cy="2956320"/>
            <a:chOff x="4237920" y="3350160"/>
            <a:chExt cx="1993320" cy="2956320"/>
          </a:xfrm>
        </p:grpSpPr>
        <p:sp>
          <p:nvSpPr>
            <p:cNvPr id="338" name="AutoShape 9"/>
            <p:cNvSpPr/>
            <p:nvPr/>
          </p:nvSpPr>
          <p:spPr>
            <a:xfrm rot="21582000">
              <a:off x="4913640" y="33602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 rot="21560400">
              <a:off x="4240800" y="336168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380360" y="3284640"/>
            <a:ext cx="720720" cy="2952360"/>
            <a:chOff x="7380360" y="3284640"/>
            <a:chExt cx="720720" cy="2952360"/>
          </a:xfrm>
        </p:grpSpPr>
        <p:sp>
          <p:nvSpPr>
            <p:cNvPr id="341" name="AutoShape 11"/>
            <p:cNvSpPr/>
            <p:nvPr/>
          </p:nvSpPr>
          <p:spPr>
            <a:xfrm>
              <a:off x="7596360" y="3284640"/>
              <a:ext cx="288720" cy="2663640"/>
            </a:xfrm>
            <a:prstGeom prst="can">
              <a:avLst>
                <a:gd name="adj" fmla="val 17574"/>
              </a:avLst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7596360" y="580536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82" y="0"/>
                  </a:moveTo>
                  <a:lnTo>
                    <a:pt x="91" y="272"/>
                  </a:ln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 rot="16200000">
              <a:off x="7488360" y="3176640"/>
              <a:ext cx="504720" cy="720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4" name="AutoShape 17">
            <a:hlinkClick r:id="" action="ppaction://hlinkshowjump?jump=nextslide"/>
          </p:cNvPr>
          <p:cNvSpPr/>
          <p:nvPr/>
        </p:nvSpPr>
        <p:spPr>
          <a:xfrm>
            <a:off x="4932360" y="3933720"/>
            <a:ext cx="289080" cy="22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232000"/>
              <a:gd name="textAreaBottom" fmla="*/ 2213280 h 2232000"/>
            </a:gdLst>
            <a:ahLst/>
            <a:rect l="textAreaLeft" t="textAreaTop" r="textAreaRight" b="textAreaBottom"/>
            <a:pathLst>
              <a:path w="21600" h="166594">
                <a:moveTo>
                  <a:pt x="0" y="0"/>
                </a:moveTo>
                <a:lnTo>
                  <a:pt x="21600" y="0"/>
                </a:lnTo>
                <a:lnTo>
                  <a:pt x="21600" y="166594"/>
                </a:lnTo>
                <a:lnTo>
                  <a:pt x="0" y="166594"/>
                </a:lnTo>
                <a:close/>
              </a:path>
              <a:path fill="lightenLess" w="21600" h="1665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6594">
                <a:moveTo>
                  <a:pt x="21600" y="0"/>
                </a:moveTo>
                <a:lnTo>
                  <a:pt x="21600" y="166594"/>
                </a:lnTo>
                <a:lnTo>
                  <a:pt x="20200" y="165194"/>
                </a:lnTo>
                <a:lnTo>
                  <a:pt x="20200" y="1400"/>
                </a:lnTo>
                <a:close/>
              </a:path>
              <a:path fill="darkenLess" w="21600" h="166594">
                <a:moveTo>
                  <a:pt x="21600" y="166594"/>
                </a:moveTo>
                <a:lnTo>
                  <a:pt x="0" y="166594"/>
                </a:lnTo>
                <a:lnTo>
                  <a:pt x="1400" y="165194"/>
                </a:lnTo>
                <a:lnTo>
                  <a:pt x="20200" y="165194"/>
                </a:lnTo>
                <a:close/>
              </a:path>
              <a:path fill="lighten" w="21600" h="166594">
                <a:moveTo>
                  <a:pt x="0" y="166594"/>
                </a:moveTo>
                <a:lnTo>
                  <a:pt x="0" y="0"/>
                </a:lnTo>
                <a:lnTo>
                  <a:pt x="1400" y="1400"/>
                </a:lnTo>
                <a:lnTo>
                  <a:pt x="1400" y="1651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"/>
          <p:cNvSpPr/>
          <p:nvPr/>
        </p:nvSpPr>
        <p:spPr>
          <a:xfrm>
            <a:off x="3635280" y="2492280"/>
            <a:ext cx="1801800" cy="180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43560" y="736200"/>
            <a:ext cx="2424240" cy="15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ассатижи, молоток, приспособление для гибки заготовки.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237492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териал: желез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00720" y="4437000"/>
            <a:ext cx="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Arc 5"/>
          <p:cNvSpPr/>
          <p:nvPr/>
        </p:nvSpPr>
        <p:spPr>
          <a:xfrm flipV="1">
            <a:off x="3422520" y="2421720"/>
            <a:ext cx="2159280" cy="2016360"/>
          </a:xfrm>
          <a:custGeom>
            <a:avLst/>
            <a:gdLst>
              <a:gd name="textAreaLeft" fmla="*/ 0 w 2159280"/>
              <a:gd name="textAreaRight" fmla="*/ 2159640 w 2159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9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0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2360" cy="404640"/>
          </a:xfrm>
          <a:custGeom>
            <a:avLst/>
            <a:gdLst>
              <a:gd name="textAreaLeft" fmla="*/ 25920 w 1152360"/>
              <a:gd name="textAreaRight" fmla="*/ 1126440 w 115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78" h="21600">
                <a:moveTo>
                  <a:pt x="0" y="0"/>
                </a:moveTo>
                <a:lnTo>
                  <a:pt x="61478" y="0"/>
                </a:lnTo>
                <a:lnTo>
                  <a:pt x="61478" y="21600"/>
                </a:lnTo>
                <a:lnTo>
                  <a:pt x="0" y="21600"/>
                </a:lnTo>
                <a:close/>
              </a:path>
              <a:path fill="lightenLess" w="61478" h="21600">
                <a:moveTo>
                  <a:pt x="0" y="0"/>
                </a:moveTo>
                <a:lnTo>
                  <a:pt x="61478" y="0"/>
                </a:lnTo>
                <a:lnTo>
                  <a:pt x="60078" y="1400"/>
                </a:lnTo>
                <a:lnTo>
                  <a:pt x="1400" y="1400"/>
                </a:lnTo>
                <a:close/>
              </a:path>
              <a:path fill="darken" w="61478" h="21600">
                <a:moveTo>
                  <a:pt x="61478" y="0"/>
                </a:moveTo>
                <a:lnTo>
                  <a:pt x="61478" y="21600"/>
                </a:lnTo>
                <a:lnTo>
                  <a:pt x="60078" y="20200"/>
                </a:lnTo>
                <a:lnTo>
                  <a:pt x="60078" y="1400"/>
                </a:lnTo>
                <a:close/>
              </a:path>
              <a:path fill="darkenLess" w="61478" h="21600">
                <a:moveTo>
                  <a:pt x="61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78" y="20200"/>
                </a:lnTo>
                <a:close/>
              </a:path>
              <a:path fill="lighten" w="61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78" h="21600">
                <a:moveTo>
                  <a:pt x="23733" y="10800"/>
                </a:moveTo>
                <a:lnTo>
                  <a:pt x="37746" y="3794"/>
                </a:lnTo>
                <a:lnTo>
                  <a:pt x="3774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79280" y="189000"/>
            <a:ext cx="2880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заготовку по заданному конту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4320360" y="286200"/>
            <a:ext cx="3103560" cy="2099880"/>
            <a:chOff x="4320360" y="286200"/>
            <a:chExt cx="3103560" cy="2099880"/>
          </a:xfrm>
        </p:grpSpPr>
        <p:sp>
          <p:nvSpPr>
            <p:cNvPr id="355" name="AutoShape 33"/>
            <p:cNvSpPr/>
            <p:nvPr/>
          </p:nvSpPr>
          <p:spPr>
            <a:xfrm rot="17185200">
              <a:off x="5789160" y="3308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 rot="17163600">
              <a:off x="3851640" y="105264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12624 L -0.06875 0.00602 L -0.02622 -0.11468 L -0.03855 0.01781 L 0.00486 -0.10242 L -0.00938 0.02937 L 0.03402 -0.09086 L 0.02048 0.04116 L 0.06388 -0.0793 L 0.05104 0.05318 L 0.09409 -0.06728 L 0.0809 0.06498 L 0.12326 -0.05572 L 0.11093 0.07677 L 0.15399 -0.04369 L 0.14027 0.08833 L 0.18368 -0.0319 E">
                                      <p:cBhvr>
                                        <p:cTn id="292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2"/>
          <p:cNvGrpSpPr/>
          <p:nvPr/>
        </p:nvGrpSpPr>
        <p:grpSpPr>
          <a:xfrm>
            <a:off x="2050920" y="259920"/>
            <a:ext cx="1368360" cy="3960720"/>
            <a:chOff x="2050920" y="259920"/>
            <a:chExt cx="1368360" cy="3960720"/>
          </a:xfrm>
        </p:grpSpPr>
        <p:sp>
          <p:nvSpPr>
            <p:cNvPr id="359" name="Line 10"/>
            <p:cNvSpPr/>
            <p:nvPr/>
          </p:nvSpPr>
          <p:spPr>
            <a:xfrm flipV="1">
              <a:off x="2733480" y="2171520"/>
              <a:ext cx="0" cy="204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Arc 11"/>
            <p:cNvSpPr/>
            <p:nvPr/>
          </p:nvSpPr>
          <p:spPr>
            <a:xfrm flipV="1">
              <a:off x="2050920" y="259200"/>
              <a:ext cx="1368360" cy="19112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911240"/>
                <a:gd name="textAreaBottom" fmla="*/ 1911240 h 19112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4104360" y="798840"/>
            <a:ext cx="4545360" cy="51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оизводим сборку издел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63" name="Rectangle 5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7" name="AutoShape 13">
            <a:hlinkClick r:id="" action="ppaction://hlinkshowjump?jump=nextslide"/>
          </p:cNvPr>
          <p:cNvSpPr/>
          <p:nvPr/>
        </p:nvSpPr>
        <p:spPr>
          <a:xfrm>
            <a:off x="7885080" y="6453360"/>
            <a:ext cx="1258920" cy="40464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7162" h="21600">
                <a:moveTo>
                  <a:pt x="0" y="0"/>
                </a:moveTo>
                <a:lnTo>
                  <a:pt x="67162" y="0"/>
                </a:lnTo>
                <a:lnTo>
                  <a:pt x="67162" y="21600"/>
                </a:lnTo>
                <a:lnTo>
                  <a:pt x="0" y="21600"/>
                </a:lnTo>
                <a:close/>
              </a:path>
              <a:path fill="lightenLess" w="67162" h="21600">
                <a:moveTo>
                  <a:pt x="0" y="0"/>
                </a:moveTo>
                <a:lnTo>
                  <a:pt x="67162" y="0"/>
                </a:lnTo>
                <a:lnTo>
                  <a:pt x="65762" y="1400"/>
                </a:lnTo>
                <a:lnTo>
                  <a:pt x="1400" y="1400"/>
                </a:lnTo>
                <a:close/>
              </a:path>
              <a:path fill="darken" w="67162" h="21600">
                <a:moveTo>
                  <a:pt x="67162" y="0"/>
                </a:moveTo>
                <a:lnTo>
                  <a:pt x="67162" y="21600"/>
                </a:lnTo>
                <a:lnTo>
                  <a:pt x="65762" y="20200"/>
                </a:lnTo>
                <a:lnTo>
                  <a:pt x="65762" y="1400"/>
                </a:lnTo>
                <a:close/>
              </a:path>
              <a:path fill="darkenLess" w="67162" h="21600">
                <a:moveTo>
                  <a:pt x="67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2" y="20200"/>
                </a:lnTo>
                <a:close/>
              </a:path>
              <a:path fill="lighten" w="67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62" h="21600">
                <a:moveTo>
                  <a:pt x="26574" y="3794"/>
                </a:moveTo>
                <a:lnTo>
                  <a:pt x="40587" y="10800"/>
                </a:lnTo>
                <a:lnTo>
                  <a:pt x="2657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AutoShape 14">
            <a:hlinkClick r:id="" action="ppaction://hlinkshowjump?jump=previousslide"/>
          </p:cNvPr>
          <p:cNvSpPr/>
          <p:nvPr/>
        </p:nvSpPr>
        <p:spPr>
          <a:xfrm>
            <a:off x="6659640" y="6453360"/>
            <a:ext cx="1189080" cy="404640"/>
          </a:xfrm>
          <a:custGeom>
            <a:avLst/>
            <a:gdLst>
              <a:gd name="textAreaLeft" fmla="*/ 25920 w 1189080"/>
              <a:gd name="textAreaRight" fmla="*/ 1163160 w 1189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437" h="21600">
                <a:moveTo>
                  <a:pt x="0" y="0"/>
                </a:moveTo>
                <a:lnTo>
                  <a:pt x="63437" y="0"/>
                </a:lnTo>
                <a:lnTo>
                  <a:pt x="63437" y="21600"/>
                </a:lnTo>
                <a:lnTo>
                  <a:pt x="0" y="21600"/>
                </a:lnTo>
                <a:close/>
              </a:path>
              <a:path fill="lightenLess" w="63437" h="21600">
                <a:moveTo>
                  <a:pt x="0" y="0"/>
                </a:moveTo>
                <a:lnTo>
                  <a:pt x="63437" y="0"/>
                </a:lnTo>
                <a:lnTo>
                  <a:pt x="62037" y="1400"/>
                </a:lnTo>
                <a:lnTo>
                  <a:pt x="1400" y="1400"/>
                </a:lnTo>
                <a:close/>
              </a:path>
              <a:path fill="darken" w="63437" h="21600">
                <a:moveTo>
                  <a:pt x="63437" y="0"/>
                </a:moveTo>
                <a:lnTo>
                  <a:pt x="63437" y="21600"/>
                </a:lnTo>
                <a:lnTo>
                  <a:pt x="62037" y="20200"/>
                </a:lnTo>
                <a:lnTo>
                  <a:pt x="62037" y="1400"/>
                </a:lnTo>
                <a:close/>
              </a:path>
              <a:path fill="darkenLess" w="63437" h="21600">
                <a:moveTo>
                  <a:pt x="6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037" y="20200"/>
                </a:lnTo>
                <a:close/>
              </a:path>
              <a:path fill="lighten" w="6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437" h="21600">
                <a:moveTo>
                  <a:pt x="24712" y="10800"/>
                </a:moveTo>
                <a:lnTo>
                  <a:pt x="38725" y="3794"/>
                </a:lnTo>
                <a:lnTo>
                  <a:pt x="3872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3657 L 0.21667 0.29676 E">
                                      <p:cBhvr>
                                        <p:cTn id="2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31"/>
          <p:cNvSpPr/>
          <p:nvPr/>
        </p:nvSpPr>
        <p:spPr>
          <a:xfrm>
            <a:off x="539640" y="4581360"/>
            <a:ext cx="3816360" cy="1800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04" h="1134">
                <a:moveTo>
                  <a:pt x="998" y="0"/>
                </a:moveTo>
                <a:lnTo>
                  <a:pt x="2404" y="0"/>
                </a:lnTo>
                <a:lnTo>
                  <a:pt x="2404" y="136"/>
                </a:lnTo>
                <a:lnTo>
                  <a:pt x="2132" y="408"/>
                </a:lnTo>
                <a:lnTo>
                  <a:pt x="2132" y="862"/>
                </a:lnTo>
                <a:lnTo>
                  <a:pt x="2313" y="1043"/>
                </a:lnTo>
                <a:lnTo>
                  <a:pt x="2313" y="1134"/>
                </a:lnTo>
                <a:lnTo>
                  <a:pt x="1043" y="1134"/>
                </a:lnTo>
                <a:lnTo>
                  <a:pt x="1043" y="1043"/>
                </a:lnTo>
                <a:lnTo>
                  <a:pt x="1134" y="998"/>
                </a:lnTo>
                <a:lnTo>
                  <a:pt x="1134" y="725"/>
                </a:lnTo>
                <a:lnTo>
                  <a:pt x="0" y="272"/>
                </a:lnTo>
                <a:lnTo>
                  <a:pt x="0" y="181"/>
                </a:lnTo>
                <a:lnTo>
                  <a:pt x="998" y="136"/>
                </a:lnTo>
                <a:lnTo>
                  <a:pt x="9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1258920" y="1773360"/>
            <a:ext cx="288720" cy="360360"/>
          </a:xfrm>
          <a:prstGeom prst="ellipse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30"/>
          <p:cNvGrpSpPr/>
          <p:nvPr/>
        </p:nvGrpSpPr>
        <p:grpSpPr>
          <a:xfrm>
            <a:off x="3961440" y="333360"/>
            <a:ext cx="5182560" cy="6524640"/>
            <a:chOff x="3961440" y="333360"/>
            <a:chExt cx="5182560" cy="6524640"/>
          </a:xfrm>
        </p:grpSpPr>
        <p:grpSp>
          <p:nvGrpSpPr>
            <p:cNvPr id="373" name="Group 15"/>
            <p:cNvGrpSpPr/>
            <p:nvPr/>
          </p:nvGrpSpPr>
          <p:grpSpPr>
            <a:xfrm>
              <a:off x="3961440" y="2852640"/>
              <a:ext cx="5182560" cy="1368360"/>
              <a:chOff x="3961440" y="2852640"/>
              <a:chExt cx="5182560" cy="1368360"/>
            </a:xfrm>
          </p:grpSpPr>
          <p:sp>
            <p:nvSpPr>
              <p:cNvPr id="374" name="Line 16"/>
              <p:cNvSpPr/>
              <p:nvPr/>
            </p:nvSpPr>
            <p:spPr>
              <a:xfrm>
                <a:off x="3961440" y="3535200"/>
                <a:ext cx="2681640" cy="0"/>
              </a:xfrm>
              <a:prstGeom prst="line">
                <a:avLst/>
              </a:prstGeom>
              <a:ln w="954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Arc 17"/>
              <p:cNvSpPr/>
              <p:nvPr/>
            </p:nvSpPr>
            <p:spPr>
              <a:xfrm flipV="1" rot="5400000">
                <a:off x="7209000" y="2285640"/>
                <a:ext cx="1368360" cy="25012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360 h 2501280"/>
                  <a:gd name="textAreaBottom" fmla="*/ 2502000 h 250128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954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6" name="AutoShape 6"/>
            <p:cNvSpPr/>
            <p:nvPr/>
          </p:nvSpPr>
          <p:spPr>
            <a:xfrm rot="5400000">
              <a:off x="2922120" y="3244680"/>
              <a:ext cx="6524640" cy="701640"/>
            </a:xfrm>
            <a:prstGeom prst="triangle">
              <a:avLst>
                <a:gd name="adj" fmla="val 499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 rot="16200000">
              <a:off x="1922400" y="2948040"/>
              <a:ext cx="6524640" cy="129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6227640" y="333360"/>
              <a:ext cx="273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AutoShape 28">
            <a:hlinkClick r:id="" action="ppaction://hlinkshowjump?jump=next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3794"/>
                </a:moveTo>
                <a:lnTo>
                  <a:pt x="44437" y="10800"/>
                </a:lnTo>
                <a:lnTo>
                  <a:pt x="3042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4175280" y="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танавливаем шайбу и расплющиваем конец крюч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1" name="Group 21"/>
          <p:cNvGrpSpPr/>
          <p:nvPr/>
        </p:nvGrpSpPr>
        <p:grpSpPr>
          <a:xfrm>
            <a:off x="250200" y="185040"/>
            <a:ext cx="3605400" cy="1981440"/>
            <a:chOff x="250200" y="185040"/>
            <a:chExt cx="3605400" cy="1981440"/>
          </a:xfrm>
        </p:grpSpPr>
        <p:sp>
          <p:nvSpPr>
            <p:cNvPr id="382" name="Freeform 20"/>
            <p:cNvSpPr/>
            <p:nvPr/>
          </p:nvSpPr>
          <p:spPr>
            <a:xfrm flipH="1" rot="5439000">
              <a:off x="2557800" y="876600"/>
              <a:ext cx="1974600" cy="598320"/>
            </a:xfrm>
            <a:custGeom>
              <a:avLst/>
              <a:gdLst>
                <a:gd name="textAreaLeft" fmla="*/ -360 w 1974600"/>
                <a:gd name="textAreaRight" fmla="*/ 1974600 w 19746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19"/>
            <p:cNvSpPr/>
            <p:nvPr/>
          </p:nvSpPr>
          <p:spPr>
            <a:xfrm flipH="1" rot="5418000">
              <a:off x="1556280" y="-334080"/>
              <a:ext cx="342720" cy="2953800"/>
            </a:xfrm>
            <a:prstGeom prst="can">
              <a:avLst>
                <a:gd name="adj" fmla="val 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4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22544 L 0.10243 0.22544 E">
                                      <p:cBhvr>
                                        <p:cTn id="30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L -0.00382 0.14358 E">
                                      <p:cBhvr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0.24416 L 0.06406 0.37595 L 0.06493 0.24416 L 0.0658 0.37595 L 0.06667 0.24416 L 0.06753 0.37595 L 0.0684 0.24416 L 0.06927 0.37595 L 0.07014 0.24416 L 0.07101 0.37595 L 0.07187 0.24416 L 0.07257 0.37595 L 0.07361 0.24416 L 0.07448 0.37595 L 0.07517 0.24416 L 0.07604 0.37595 L 0.07708 0.24416 E">
                                      <p:cBhvr>
                                        <p:cTn id="31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тово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95640" y="2491920"/>
            <a:ext cx="1368360" cy="3457440"/>
            <a:chOff x="3995640" y="2491920"/>
            <a:chExt cx="1368360" cy="3457440"/>
          </a:xfrm>
        </p:grpSpPr>
        <p:sp>
          <p:nvSpPr>
            <p:cNvPr id="387" name="Line 5"/>
            <p:cNvSpPr/>
            <p:nvPr/>
          </p:nvSpPr>
          <p:spPr>
            <a:xfrm flipV="1">
              <a:off x="4678200" y="4160520"/>
              <a:ext cx="0" cy="178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rc 6"/>
            <p:cNvSpPr/>
            <p:nvPr/>
          </p:nvSpPr>
          <p:spPr>
            <a:xfrm flipV="1">
              <a:off x="3995640" y="2491560"/>
              <a:ext cx="1368360" cy="16686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668600"/>
                <a:gd name="textAreaBottom" fmla="*/ 1668600 h 16686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7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90" name="Rectangle 8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AutoShape 9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4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AutoShape 27">
            <a:hlinkClick r:id="" action="ppaction://hlinkshowjump?jump=firstslide"/>
          </p:cNvPr>
          <p:cNvSpPr/>
          <p:nvPr/>
        </p:nvSpPr>
        <p:spPr>
          <a:xfrm>
            <a:off x="6732720" y="6453360"/>
            <a:ext cx="1225440" cy="404640"/>
          </a:xfrm>
          <a:custGeom>
            <a:avLst/>
            <a:gdLst>
              <a:gd name="textAreaLeft" fmla="*/ 25920 w 1225440"/>
              <a:gd name="textAreaRight" fmla="*/ 1199520 w 122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376" h="21600">
                <a:moveTo>
                  <a:pt x="0" y="0"/>
                </a:moveTo>
                <a:lnTo>
                  <a:pt x="65376" y="0"/>
                </a:lnTo>
                <a:lnTo>
                  <a:pt x="65376" y="21600"/>
                </a:lnTo>
                <a:lnTo>
                  <a:pt x="0" y="21600"/>
                </a:lnTo>
                <a:close/>
              </a:path>
              <a:path fill="lightenLess" w="65376" h="21600">
                <a:moveTo>
                  <a:pt x="0" y="0"/>
                </a:moveTo>
                <a:lnTo>
                  <a:pt x="65376" y="0"/>
                </a:lnTo>
                <a:lnTo>
                  <a:pt x="63976" y="1400"/>
                </a:lnTo>
                <a:lnTo>
                  <a:pt x="1400" y="1400"/>
                </a:lnTo>
                <a:close/>
              </a:path>
              <a:path fill="darken" w="65376" h="21600">
                <a:moveTo>
                  <a:pt x="65376" y="0"/>
                </a:moveTo>
                <a:lnTo>
                  <a:pt x="65376" y="21600"/>
                </a:lnTo>
                <a:lnTo>
                  <a:pt x="63976" y="20200"/>
                </a:lnTo>
                <a:lnTo>
                  <a:pt x="63976" y="1400"/>
                </a:lnTo>
                <a:close/>
              </a:path>
              <a:path fill="darkenLess" w="65376" h="21600">
                <a:moveTo>
                  <a:pt x="65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76" y="20200"/>
                </a:lnTo>
                <a:close/>
              </a:path>
              <a:path fill="lighten" w="65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376" h="21600">
                <a:moveTo>
                  <a:pt x="25682" y="7493"/>
                </a:moveTo>
                <a:lnTo>
                  <a:pt x="29189" y="7493"/>
                </a:lnTo>
                <a:lnTo>
                  <a:pt x="29189" y="12828"/>
                </a:lnTo>
                <a:cubicBezTo>
                  <a:pt x="29189" y="13751"/>
                  <a:pt x="29990" y="14482"/>
                  <a:pt x="31026" y="14482"/>
                </a:cubicBezTo>
                <a:lnTo>
                  <a:pt x="32688" y="14482"/>
                </a:lnTo>
                <a:cubicBezTo>
                  <a:pt x="33724" y="14482"/>
                  <a:pt x="34524" y="13751"/>
                  <a:pt x="34524" y="12828"/>
                </a:cubicBezTo>
                <a:lnTo>
                  <a:pt x="34524" y="7493"/>
                </a:lnTo>
                <a:lnTo>
                  <a:pt x="32688" y="7493"/>
                </a:lnTo>
                <a:lnTo>
                  <a:pt x="36196" y="3985"/>
                </a:lnTo>
                <a:lnTo>
                  <a:pt x="39869" y="7493"/>
                </a:lnTo>
                <a:lnTo>
                  <a:pt x="38032" y="7493"/>
                </a:lnTo>
                <a:lnTo>
                  <a:pt x="38032" y="12828"/>
                </a:lnTo>
                <a:cubicBezTo>
                  <a:pt x="38032" y="15596"/>
                  <a:pt x="35456" y="18155"/>
                  <a:pt x="32688" y="18155"/>
                </a:cubicBezTo>
                <a:lnTo>
                  <a:pt x="31026" y="18155"/>
                </a:lnTo>
                <a:cubicBezTo>
                  <a:pt x="28258" y="18155"/>
                  <a:pt x="25682" y="15596"/>
                  <a:pt x="25682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06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07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 txBox="1"/>
          <p:nvPr/>
        </p:nvSpPr>
        <p:spPr>
          <a:xfrm>
            <a:off x="257040" y="77400"/>
            <a:ext cx="9637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64436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териал: древесина, метал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3794"/>
                </a:moveTo>
                <a:lnTo>
                  <a:pt x="55957" y="10800"/>
                </a:lnTo>
                <a:lnTo>
                  <a:pt x="4194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4">
            <a:hlinkClick r:id="rId3"/>
          </p:cNvPr>
          <p:cNvSpPr/>
          <p:nvPr/>
        </p:nvSpPr>
        <p:spPr>
          <a:xfrm>
            <a:off x="5651640" y="6453360"/>
            <a:ext cx="1655640" cy="404640"/>
          </a:xfrm>
          <a:custGeom>
            <a:avLst/>
            <a:gdLst>
              <a:gd name="textAreaLeft" fmla="*/ 25920 w 1655640"/>
              <a:gd name="textAreaRight" fmla="*/ 1629720 w 16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320" h="21600">
                <a:moveTo>
                  <a:pt x="0" y="0"/>
                </a:moveTo>
                <a:lnTo>
                  <a:pt x="88320" y="0"/>
                </a:lnTo>
                <a:lnTo>
                  <a:pt x="88320" y="21600"/>
                </a:lnTo>
                <a:lnTo>
                  <a:pt x="0" y="21600"/>
                </a:lnTo>
                <a:close/>
              </a:path>
              <a:path fill="lightenLess" w="88320" h="21600">
                <a:moveTo>
                  <a:pt x="0" y="0"/>
                </a:moveTo>
                <a:lnTo>
                  <a:pt x="88320" y="0"/>
                </a:lnTo>
                <a:lnTo>
                  <a:pt x="86920" y="1400"/>
                </a:lnTo>
                <a:lnTo>
                  <a:pt x="1400" y="1400"/>
                </a:lnTo>
                <a:close/>
              </a:path>
              <a:path fill="darken" w="88320" h="21600">
                <a:moveTo>
                  <a:pt x="88320" y="0"/>
                </a:moveTo>
                <a:lnTo>
                  <a:pt x="88320" y="21600"/>
                </a:lnTo>
                <a:lnTo>
                  <a:pt x="86920" y="20200"/>
                </a:lnTo>
                <a:lnTo>
                  <a:pt x="86920" y="1400"/>
                </a:lnTo>
                <a:close/>
              </a:path>
              <a:path fill="darkenLess" w="88320" h="21600">
                <a:moveTo>
                  <a:pt x="8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0" y="20200"/>
                </a:lnTo>
                <a:close/>
              </a:path>
              <a:path fill="lighten" w="8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0" h="21600">
                <a:moveTo>
                  <a:pt x="37154" y="10800"/>
                </a:moveTo>
                <a:lnTo>
                  <a:pt x="51166" y="3794"/>
                </a:lnTo>
                <a:lnTo>
                  <a:pt x="5116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79280" y="0"/>
            <a:ext cx="9793440" cy="1228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20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24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549720"/>
            <a:ext cx="5984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и помощи чего делают измерение заготовок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560" y="2636640"/>
            <a:ext cx="6923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инейка,      карандаш          Ручка, карандаш          пальц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58920" y="4653000"/>
            <a:ext cx="6408720" cy="158256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133200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8508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885080" y="371628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885080" y="537372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33200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2000" y="6308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748720" y="371628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356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 rot="16200000">
            <a:off x="8371440" y="452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539640" y="3716280"/>
            <a:ext cx="79236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133200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79280" y="83664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обрать заготовку под размеры 20/55/390м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атериал: древес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651640" y="98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линейка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51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0920" cy="404640"/>
          </a:xfrm>
          <a:custGeom>
            <a:avLst/>
            <a:gdLst>
              <a:gd name="textAreaLeft" fmla="*/ 25920 w 1150920"/>
              <a:gd name="textAreaRight" fmla="*/ 1125000 w 115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02" h="21600">
                <a:moveTo>
                  <a:pt x="0" y="0"/>
                </a:moveTo>
                <a:lnTo>
                  <a:pt x="61402" y="0"/>
                </a:lnTo>
                <a:lnTo>
                  <a:pt x="61402" y="21600"/>
                </a:lnTo>
                <a:lnTo>
                  <a:pt x="0" y="21600"/>
                </a:lnTo>
                <a:close/>
              </a:path>
              <a:path fill="lightenLess" w="61402" h="21600">
                <a:moveTo>
                  <a:pt x="0" y="0"/>
                </a:moveTo>
                <a:lnTo>
                  <a:pt x="61402" y="0"/>
                </a:lnTo>
                <a:lnTo>
                  <a:pt x="60002" y="1400"/>
                </a:lnTo>
                <a:lnTo>
                  <a:pt x="1400" y="1400"/>
                </a:lnTo>
                <a:close/>
              </a:path>
              <a:path fill="darken" w="61402" h="21600">
                <a:moveTo>
                  <a:pt x="61402" y="0"/>
                </a:moveTo>
                <a:lnTo>
                  <a:pt x="61402" y="21600"/>
                </a:lnTo>
                <a:lnTo>
                  <a:pt x="60002" y="20200"/>
                </a:lnTo>
                <a:lnTo>
                  <a:pt x="60002" y="1400"/>
                </a:lnTo>
                <a:close/>
              </a:path>
              <a:path fill="darkenLess" w="61402" h="21600">
                <a:moveTo>
                  <a:pt x="61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2" y="20200"/>
                </a:lnTo>
                <a:close/>
              </a:path>
              <a:path fill="lighten" w="61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02" h="21600">
                <a:moveTo>
                  <a:pt x="23694" y="10800"/>
                </a:moveTo>
                <a:lnTo>
                  <a:pt x="37707" y="3794"/>
                </a:lnTo>
                <a:lnTo>
                  <a:pt x="3770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53"/>
          <p:cNvSpPr/>
          <p:nvPr/>
        </p:nvSpPr>
        <p:spPr>
          <a:xfrm>
            <a:off x="1476360" y="2997360"/>
            <a:ext cx="2089080" cy="2232000"/>
          </a:xfrm>
          <a:prstGeom prst="rtTriangle">
            <a:avLst/>
          </a:prstGeom>
          <a:noFill/>
          <a:ln w="181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54"/>
          <p:cNvGrpSpPr/>
          <p:nvPr/>
        </p:nvGrpSpPr>
        <p:grpSpPr>
          <a:xfrm>
            <a:off x="7051320" y="-67320"/>
            <a:ext cx="1447920" cy="2161440"/>
            <a:chOff x="7051320" y="-67320"/>
            <a:chExt cx="1447920" cy="2161440"/>
          </a:xfrm>
        </p:grpSpPr>
        <p:sp>
          <p:nvSpPr>
            <p:cNvPr id="150" name="Freeform 55"/>
            <p:cNvSpPr/>
            <p:nvPr/>
          </p:nvSpPr>
          <p:spPr>
            <a:xfrm rot="602400">
              <a:off x="7093080" y="155700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6"/>
            <p:cNvSpPr/>
            <p:nvPr/>
          </p:nvSpPr>
          <p:spPr>
            <a:xfrm rot="1933800">
              <a:off x="7740360" y="-17100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 Box 57"/>
          <p:cNvSpPr/>
          <p:nvPr/>
        </p:nvSpPr>
        <p:spPr>
          <a:xfrm>
            <a:off x="1619280" y="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разметк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23 0.47677 L -0.62223 0.23561 E">
                                      <p:cBhvr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42000" y="999000"/>
            <a:ext cx="3129120" cy="12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илить заготовку по заданным размерам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84360" y="981000"/>
            <a:ext cx="2737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 упор, ножов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83528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32360" y="4869000"/>
            <a:ext cx="3672000" cy="76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19">
            <a:hlinkClick r:id="rId2" action="ppaction://hlinksldjump"/>
          </p:cNvPr>
          <p:cNvSpPr/>
          <p:nvPr/>
        </p:nvSpPr>
        <p:spPr>
          <a:xfrm>
            <a:off x="7956720" y="6524640"/>
            <a:ext cx="1187280" cy="333360"/>
          </a:xfrm>
          <a:custGeom>
            <a:avLst/>
            <a:gdLst>
              <a:gd name="textAreaLeft" fmla="*/ 21600 w 1187280"/>
              <a:gd name="textAreaRight" fmla="*/ 1165680 w 118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6870" h="21600">
                <a:moveTo>
                  <a:pt x="0" y="0"/>
                </a:moveTo>
                <a:lnTo>
                  <a:pt x="76870" y="0"/>
                </a:lnTo>
                <a:lnTo>
                  <a:pt x="76870" y="21600"/>
                </a:lnTo>
                <a:lnTo>
                  <a:pt x="0" y="21600"/>
                </a:lnTo>
                <a:close/>
              </a:path>
              <a:path fill="lightenLess" w="76870" h="21600">
                <a:moveTo>
                  <a:pt x="0" y="0"/>
                </a:moveTo>
                <a:lnTo>
                  <a:pt x="76870" y="0"/>
                </a:lnTo>
                <a:lnTo>
                  <a:pt x="75470" y="1400"/>
                </a:lnTo>
                <a:lnTo>
                  <a:pt x="1400" y="1400"/>
                </a:lnTo>
                <a:close/>
              </a:path>
              <a:path fill="darken" w="76870" h="21600">
                <a:moveTo>
                  <a:pt x="76870" y="0"/>
                </a:moveTo>
                <a:lnTo>
                  <a:pt x="76870" y="21600"/>
                </a:lnTo>
                <a:lnTo>
                  <a:pt x="75470" y="20200"/>
                </a:lnTo>
                <a:lnTo>
                  <a:pt x="75470" y="1400"/>
                </a:lnTo>
                <a:close/>
              </a:path>
              <a:path fill="darkenLess" w="76870" h="21600">
                <a:moveTo>
                  <a:pt x="7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70" y="20200"/>
                </a:lnTo>
                <a:close/>
              </a:path>
              <a:path fill="lighten" w="7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70" h="21600">
                <a:moveTo>
                  <a:pt x="31428" y="3794"/>
                </a:moveTo>
                <a:lnTo>
                  <a:pt x="45441" y="10800"/>
                </a:lnTo>
                <a:lnTo>
                  <a:pt x="3142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24000" y="5805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24000" y="609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previousslide"/>
          </p:cNvPr>
          <p:cNvSpPr/>
          <p:nvPr/>
        </p:nvSpPr>
        <p:spPr>
          <a:xfrm>
            <a:off x="6804000" y="6524640"/>
            <a:ext cx="1116000" cy="333360"/>
          </a:xfrm>
          <a:custGeom>
            <a:avLst/>
            <a:gdLst>
              <a:gd name="textAreaLeft" fmla="*/ 21600 w 1116000"/>
              <a:gd name="textAreaRight" fmla="*/ 1094400 w 111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2256" h="21600">
                <a:moveTo>
                  <a:pt x="0" y="0"/>
                </a:moveTo>
                <a:lnTo>
                  <a:pt x="72256" y="0"/>
                </a:lnTo>
                <a:lnTo>
                  <a:pt x="72256" y="21600"/>
                </a:lnTo>
                <a:lnTo>
                  <a:pt x="0" y="21600"/>
                </a:lnTo>
                <a:close/>
              </a:path>
              <a:path fill="lightenLess" w="72256" h="21600">
                <a:moveTo>
                  <a:pt x="0" y="0"/>
                </a:moveTo>
                <a:lnTo>
                  <a:pt x="72256" y="0"/>
                </a:lnTo>
                <a:lnTo>
                  <a:pt x="70856" y="1400"/>
                </a:lnTo>
                <a:lnTo>
                  <a:pt x="1400" y="1400"/>
                </a:lnTo>
                <a:close/>
              </a:path>
              <a:path fill="darken" w="72256" h="21600">
                <a:moveTo>
                  <a:pt x="72256" y="0"/>
                </a:moveTo>
                <a:lnTo>
                  <a:pt x="72256" y="21600"/>
                </a:lnTo>
                <a:lnTo>
                  <a:pt x="70856" y="20200"/>
                </a:lnTo>
                <a:lnTo>
                  <a:pt x="70856" y="1400"/>
                </a:lnTo>
                <a:close/>
              </a:path>
              <a:path fill="darkenLess" w="72256" h="21600">
                <a:moveTo>
                  <a:pt x="7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56" y="20200"/>
                </a:lnTo>
                <a:close/>
              </a:path>
              <a:path fill="lighten" w="7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256" h="21600">
                <a:moveTo>
                  <a:pt x="29122" y="10800"/>
                </a:moveTo>
                <a:lnTo>
                  <a:pt x="43135" y="3794"/>
                </a:lnTo>
                <a:lnTo>
                  <a:pt x="4313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971280" y="2491920"/>
            <a:ext cx="2305440" cy="2377080"/>
            <a:chOff x="971280" y="2491920"/>
            <a:chExt cx="2305440" cy="2377080"/>
          </a:xfrm>
        </p:grpSpPr>
        <p:sp>
          <p:nvSpPr>
            <p:cNvPr id="165" name="Freeform 13"/>
            <p:cNvSpPr/>
            <p:nvPr/>
          </p:nvSpPr>
          <p:spPr>
            <a:xfrm>
              <a:off x="971640" y="2492280"/>
              <a:ext cx="2305080" cy="23767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2376720"/>
                <a:gd name="textAreaBottom" fmla="*/ 2376720 h 2376720"/>
              </a:gdLst>
              <a:ahLst/>
              <a:rect l="textAreaLeft" t="textAreaTop" r="textAreaRight" b="textAreaBottom"/>
              <a:pathLst>
                <a:path w="1452" h="1497">
                  <a:moveTo>
                    <a:pt x="726" y="0"/>
                  </a:moveTo>
                  <a:lnTo>
                    <a:pt x="1452" y="816"/>
                  </a:lnTo>
                  <a:lnTo>
                    <a:pt x="1452" y="1497"/>
                  </a:lnTo>
                  <a:lnTo>
                    <a:pt x="817" y="1497"/>
                  </a:lnTo>
                  <a:lnTo>
                    <a:pt x="590" y="1225"/>
                  </a:lnTo>
                  <a:lnTo>
                    <a:pt x="590" y="771"/>
                  </a:lnTo>
                  <a:lnTo>
                    <a:pt x="0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2268720" y="3787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7" name="Group 17"/>
            <p:cNvGrpSpPr/>
            <p:nvPr/>
          </p:nvGrpSpPr>
          <p:grpSpPr>
            <a:xfrm>
              <a:off x="971280" y="2491920"/>
              <a:ext cx="2305440" cy="1296000"/>
              <a:chOff x="971280" y="2491920"/>
              <a:chExt cx="2305440" cy="1296000"/>
            </a:xfrm>
          </p:grpSpPr>
          <p:sp>
            <p:nvSpPr>
              <p:cNvPr id="168" name="Line 15"/>
              <p:cNvSpPr/>
              <p:nvPr/>
            </p:nvSpPr>
            <p:spPr>
              <a:xfrm flipH="1">
                <a:off x="2268720" y="3787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 flipH="1" flipV="1">
                <a:off x="971280" y="2491920"/>
                <a:ext cx="129708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5"/>
          <p:cNvGrpSpPr/>
          <p:nvPr/>
        </p:nvGrpSpPr>
        <p:grpSpPr>
          <a:xfrm>
            <a:off x="971640" y="2565360"/>
            <a:ext cx="2520360" cy="2736720"/>
            <a:chOff x="971640" y="2565360"/>
            <a:chExt cx="2520360" cy="2736720"/>
          </a:xfrm>
        </p:grpSpPr>
        <p:sp>
          <p:nvSpPr>
            <p:cNvPr id="171" name="Freeform 32"/>
            <p:cNvSpPr/>
            <p:nvPr/>
          </p:nvSpPr>
          <p:spPr>
            <a:xfrm>
              <a:off x="971640" y="2565360"/>
              <a:ext cx="1728720" cy="1944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2700360" y="3717720"/>
              <a:ext cx="791640" cy="15843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916000" y="4149720"/>
              <a:ext cx="291960" cy="728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042920" y="3716280"/>
            <a:ext cx="792360" cy="165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403280" y="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пи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5249 L -0.08264 -0.03122 L 0.01632 -0.0111 L -0.08264 0.01017 L 0.01632 0.03144 L -0.08264 0.05133 L 0.01632 0.0726 L -0.08264 0.09271 L 0.01632 0.11399 L -0.08264 0.13526 L 0.01632 0.15537 L -0.08264 0.17665 L 0.01632 0.19653 L -0.08264 0.2178 L 0.01632 0.23907 L -0.08264 0.25919 L 0.01632 0.28046 E">
                                      <p:cBhvr>
                                        <p:cTn id="81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работе с ножовко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льзуйся только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распиливании древесины ножовкой пользуйся упор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ставь руки близко в зону резания нож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778080" y="1207080"/>
            <a:ext cx="22838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струменты: шаблон, карандаш.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зметка заготовки по шабло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924280"/>
            <a:ext cx="6553080" cy="165564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33200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8508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332000" y="5516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8748720" y="292428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356000" y="515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 rot="16200000">
            <a:off x="8303040" y="3962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7885080" y="292428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1187280" y="3715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885080" y="3789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 rot="16200000">
            <a:off x="8319960" y="3207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332000" y="2924280"/>
            <a:ext cx="6553080" cy="1656720"/>
            <a:chOff x="1332000" y="2924280"/>
            <a:chExt cx="6553080" cy="1656720"/>
          </a:xfrm>
        </p:grpSpPr>
        <p:sp>
          <p:nvSpPr>
            <p:cNvPr id="196" name="Rectangle 19"/>
            <p:cNvSpPr/>
            <p:nvPr/>
          </p:nvSpPr>
          <p:spPr>
            <a:xfrm>
              <a:off x="1332000" y="3844440"/>
              <a:ext cx="6553080" cy="736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1332000" y="2924280"/>
              <a:ext cx="6553080" cy="918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Line 12"/>
          <p:cNvSpPr/>
          <p:nvPr/>
        </p:nvSpPr>
        <p:spPr>
          <a:xfrm>
            <a:off x="4643280" y="2924280"/>
            <a:ext cx="324180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1332000" y="2923920"/>
            <a:ext cx="331128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24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5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10800"/>
                </a:moveTo>
                <a:lnTo>
                  <a:pt x="36776" y="3794"/>
                </a:lnTo>
                <a:lnTo>
                  <a:pt x="3677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 rot="10800000">
            <a:off x="8340840" y="36190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051320" y="580320"/>
            <a:ext cx="1447920" cy="2161440"/>
            <a:chOff x="7051320" y="580320"/>
            <a:chExt cx="1447920" cy="2161440"/>
          </a:xfrm>
        </p:grpSpPr>
        <p:sp>
          <p:nvSpPr>
            <p:cNvPr id="204" name="Freeform 30"/>
            <p:cNvSpPr/>
            <p:nvPr/>
          </p:nvSpPr>
          <p:spPr>
            <a:xfrm rot="602400">
              <a:off x="7093080" y="220464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rot="1933800">
              <a:off x="7740360" y="47628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Місце для нижнього колонтитула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0.19353 L -0.26771 0.0259 E">
                                      <p:cBhvr>
                                        <p:cTn id="12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0.0259 L -0.63004 0.17272 E">
                                      <p:cBhvr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обработки поверхности заготовки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AutoShape 4">
            <a:hlinkClick r:id="" action="ppaction://hlinkshowjump?jump=nextslide"/>
          </p:cNvPr>
          <p:cNvSpPr/>
          <p:nvPr/>
        </p:nvSpPr>
        <p:spPr>
          <a:xfrm>
            <a:off x="468360" y="1989000"/>
            <a:ext cx="2519280" cy="719280"/>
          </a:xfrm>
          <a:custGeom>
            <a:avLst/>
            <a:gdLst>
              <a:gd name="textAreaLeft" fmla="*/ 46440 w 2519280"/>
              <a:gd name="textAreaRight" fmla="*/ 2472840 w 25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492360" y="1989000"/>
            <a:ext cx="2519640" cy="719280"/>
          </a:xfrm>
          <a:custGeom>
            <a:avLst/>
            <a:gdLst>
              <a:gd name="textAreaLeft" fmla="*/ 46440 w 2519640"/>
              <a:gd name="textAreaRight" fmla="*/ 2473200 w 251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38" h="21600">
                <a:moveTo>
                  <a:pt x="0" y="0"/>
                </a:moveTo>
                <a:lnTo>
                  <a:pt x="75638" y="0"/>
                </a:lnTo>
                <a:lnTo>
                  <a:pt x="75638" y="21600"/>
                </a:lnTo>
                <a:lnTo>
                  <a:pt x="0" y="21600"/>
                </a:lnTo>
                <a:close/>
              </a:path>
              <a:path fill="lightenLess" w="75638" h="21600">
                <a:moveTo>
                  <a:pt x="0" y="0"/>
                </a:moveTo>
                <a:lnTo>
                  <a:pt x="75638" y="0"/>
                </a:lnTo>
                <a:lnTo>
                  <a:pt x="74238" y="1400"/>
                </a:lnTo>
                <a:lnTo>
                  <a:pt x="1400" y="1400"/>
                </a:lnTo>
                <a:close/>
              </a:path>
              <a:path fill="darken" w="75638" h="21600">
                <a:moveTo>
                  <a:pt x="75638" y="0"/>
                </a:moveTo>
                <a:lnTo>
                  <a:pt x="75638" y="21600"/>
                </a:lnTo>
                <a:lnTo>
                  <a:pt x="74238" y="20200"/>
                </a:lnTo>
                <a:lnTo>
                  <a:pt x="74238" y="1400"/>
                </a:lnTo>
                <a:close/>
              </a:path>
              <a:path fill="darkenLess" w="75638" h="21600">
                <a:moveTo>
                  <a:pt x="75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38" y="20200"/>
                </a:lnTo>
                <a:close/>
              </a:path>
              <a:path fill="lighten" w="75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6516720" y="1989000"/>
            <a:ext cx="2376360" cy="71928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1337" h="21600">
                <a:moveTo>
                  <a:pt x="0" y="0"/>
                </a:moveTo>
                <a:lnTo>
                  <a:pt x="71337" y="0"/>
                </a:lnTo>
                <a:lnTo>
                  <a:pt x="71337" y="21600"/>
                </a:lnTo>
                <a:lnTo>
                  <a:pt x="0" y="21600"/>
                </a:lnTo>
                <a:close/>
              </a:path>
              <a:path fill="lightenLess" w="71337" h="21600">
                <a:moveTo>
                  <a:pt x="0" y="0"/>
                </a:moveTo>
                <a:lnTo>
                  <a:pt x="71337" y="0"/>
                </a:lnTo>
                <a:lnTo>
                  <a:pt x="69937" y="1400"/>
                </a:lnTo>
                <a:lnTo>
                  <a:pt x="1400" y="1400"/>
                </a:lnTo>
                <a:close/>
              </a:path>
              <a:path fill="darken" w="71337" h="21600">
                <a:moveTo>
                  <a:pt x="71337" y="0"/>
                </a:moveTo>
                <a:lnTo>
                  <a:pt x="71337" y="21600"/>
                </a:lnTo>
                <a:lnTo>
                  <a:pt x="69937" y="20200"/>
                </a:lnTo>
                <a:lnTo>
                  <a:pt x="69937" y="1400"/>
                </a:lnTo>
                <a:close/>
              </a:path>
              <a:path fill="darkenLess" w="71337" h="21600">
                <a:moveTo>
                  <a:pt x="71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37" y="20200"/>
                </a:lnTo>
                <a:close/>
              </a:path>
              <a:path fill="lighten" w="71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ме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20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1042560" y="4005360"/>
            <a:ext cx="7056360" cy="1728720"/>
            <a:chOff x="1042560" y="4005360"/>
            <a:chExt cx="7056360" cy="1728720"/>
          </a:xfrm>
        </p:grpSpPr>
        <p:sp>
          <p:nvSpPr>
            <p:cNvPr id="213" name="Rectangle 8"/>
            <p:cNvSpPr/>
            <p:nvPr/>
          </p:nvSpPr>
          <p:spPr>
            <a:xfrm>
              <a:off x="1187280" y="5084640"/>
              <a:ext cx="691164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1042560" y="4005360"/>
              <a:ext cx="7056360" cy="1079280"/>
              <a:chOff x="1042560" y="4005360"/>
              <a:chExt cx="7056360" cy="1079280"/>
            </a:xfrm>
          </p:grpSpPr>
          <p:sp>
            <p:nvSpPr>
              <p:cNvPr id="215" name="AutoShape 10"/>
              <p:cNvSpPr/>
              <p:nvPr/>
            </p:nvSpPr>
            <p:spPr>
              <a:xfrm>
                <a:off x="1187280" y="4005360"/>
                <a:ext cx="6911640" cy="1079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 flipV="1">
                <a:off x="1187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4643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 flipH="1" flipV="1">
                <a:off x="1042560" y="4941360"/>
                <a:ext cx="14436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AutoShape 14"/>
            <p:cNvSpPr/>
            <p:nvPr/>
          </p:nvSpPr>
          <p:spPr>
            <a:xfrm rot="10800000">
              <a:off x="4642920" y="4005360"/>
              <a:ext cx="3455640" cy="10792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 flipH="1" rot="10800000">
              <a:off x="1186200" y="4005360"/>
              <a:ext cx="3455640" cy="107928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332000" y="3716280"/>
            <a:ext cx="691200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187280" y="2637000"/>
            <a:ext cx="7056720" cy="1079280"/>
            <a:chOff x="1187280" y="2637000"/>
            <a:chExt cx="7056720" cy="1079280"/>
          </a:xfrm>
        </p:grpSpPr>
        <p:sp>
          <p:nvSpPr>
            <p:cNvPr id="224" name="AutoShape 9"/>
            <p:cNvSpPr/>
            <p:nvPr/>
          </p:nvSpPr>
          <p:spPr>
            <a:xfrm>
              <a:off x="1332000" y="2637000"/>
              <a:ext cx="6912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1332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4788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 flipV="1">
              <a:off x="1187280" y="3573000"/>
              <a:ext cx="1447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8" name="AutoShape 5"/>
          <p:cNvSpPr/>
          <p:nvPr/>
        </p:nvSpPr>
        <p:spPr>
          <a:xfrm rot="10800000">
            <a:off x="4788000" y="2637000"/>
            <a:ext cx="3456000" cy="107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 flipH="1" rot="10800000">
            <a:off x="1332000" y="2637000"/>
            <a:ext cx="3456000" cy="107928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2400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0" y="189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ботка поверхности рубанко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877080" y="119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68360" y="57340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50920" y="5589720"/>
            <a:ext cx="67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 соблюдай правила техники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788000" y="407664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5724360" y="4508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1928160" y="878760"/>
            <a:ext cx="2689200" cy="1937520"/>
            <a:chOff x="1928160" y="878760"/>
            <a:chExt cx="2689200" cy="1937520"/>
          </a:xfrm>
        </p:grpSpPr>
        <p:sp>
          <p:nvSpPr>
            <p:cNvPr id="240" name="Freeform 27"/>
            <p:cNvSpPr/>
            <p:nvPr/>
          </p:nvSpPr>
          <p:spPr>
            <a:xfrm rot="20385000">
              <a:off x="2050920" y="1282680"/>
              <a:ext cx="2443320" cy="11462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rot="20648400">
              <a:off x="2338560" y="1765080"/>
              <a:ext cx="334800" cy="5540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rot="20385600">
              <a:off x="3247200" y="1628640"/>
              <a:ext cx="417600" cy="13788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269800" y="1833840"/>
              <a:ext cx="2261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2287080" y="1883160"/>
              <a:ext cx="22615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264040" y="264780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AutoShape 33"/>
            <p:cNvSpPr/>
            <p:nvPr/>
          </p:nvSpPr>
          <p:spPr>
            <a:xfrm rot="17215200">
              <a:off x="3393360" y="1135440"/>
              <a:ext cx="770040" cy="314280"/>
            </a:xfrm>
            <a:prstGeom prst="parallelogram">
              <a:avLst>
                <a:gd name="adj" fmla="val 2519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5896800" y="1477440"/>
            <a:ext cx="2630880" cy="2085480"/>
            <a:chOff x="5896800" y="1477440"/>
            <a:chExt cx="2630880" cy="2085480"/>
          </a:xfrm>
        </p:grpSpPr>
        <p:sp>
          <p:nvSpPr>
            <p:cNvPr id="248" name="Freeform 36"/>
            <p:cNvSpPr/>
            <p:nvPr/>
          </p:nvSpPr>
          <p:spPr>
            <a:xfrm flipH="1" rot="1281000">
              <a:off x="6023520" y="2023920"/>
              <a:ext cx="2376720" cy="1145880"/>
            </a:xfrm>
            <a:custGeom>
              <a:avLst/>
              <a:gdLst>
                <a:gd name="textAreaLeft" fmla="*/ 360 w 2376720"/>
                <a:gd name="textAreaRight" fmla="*/ 2377440 w 2376720"/>
                <a:gd name="textAreaTop" fmla="*/ 0 h 1145880"/>
                <a:gd name="textAreaBottom" fmla="*/ 1146240 h 114588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 flipH="1" rot="1137600">
              <a:off x="7812000" y="2441880"/>
              <a:ext cx="290880" cy="553320"/>
            </a:xfrm>
            <a:custGeom>
              <a:avLst/>
              <a:gdLst>
                <a:gd name="textAreaLeft" fmla="*/ 360 w 290880"/>
                <a:gd name="textAreaRight" fmla="*/ 291600 w 29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flipH="1" rot="1281000">
              <a:off x="6737400" y="2395800"/>
              <a:ext cx="328680" cy="7272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H="1" flipV="1">
              <a:off x="5955120" y="2548440"/>
              <a:ext cx="22136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 flipV="1">
              <a:off x="5935320" y="2598480"/>
              <a:ext cx="221364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 flipH="1">
              <a:off x="8147520" y="3394080"/>
              <a:ext cx="28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AutoShape 42"/>
            <p:cNvSpPr/>
            <p:nvPr/>
          </p:nvSpPr>
          <p:spPr>
            <a:xfrm flipH="1" rot="4255200">
              <a:off x="6149520" y="1967040"/>
              <a:ext cx="1080720" cy="61920"/>
            </a:xfrm>
            <a:prstGeom prst="parallelogram">
              <a:avLst>
                <a:gd name="adj" fmla="val 17946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14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5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4855 C -0.41233 0.20878 -0.63246 0.33109 -0.63056 0.33618 C -0.62934 0.34081 -0.41024 0.23029 -0.11753 0.07722 C 0.17379 -0.07538 0.41875 -0.20717 0.41736 -0.21203 C 0.41701 -0.21781 0.16146 -0.08555 -0.12986 0.07098 C -0.41719 0.22543 -0.62847 0.34335 -0.62726 0.34797 C -0.62587 0.35237 -0.40191 0.23977 -0.11528 0.08971 C 0.17708 -0.06289 0.42274 -0.19607 0.42101 -0.20023 C 0.41979 -0.20463 0.16424 -0.0726 -0.12222 0.08115 C -0.41354 0.23722 -0.625 0.35491 -0.62378 0.35953 C -0.62292 0.36485 -0.39792 0.25248 -0.10642 0.09942 C 0.18073 -0.05087 0.42674 -0.18382 0.42448 -0.18867 C 0.42326 -0.1926 0.16806 -0.06012 -0.11892 0.09294 C -0.4059 0.24693 -0.62135 0.3674 -0.61996 0.37225 C -0.61962 0.37687 -0.38993 0.26104 -0.10295 0.11121 C 0.19306 -0.0437 0.43021 -0.17203 0.42882 -0.17665 C 0.42743 -0.18151 0.17656 -0.05156 -0.11094 0.10289 C -0.39774 0.25641 -0.61788 0.37942 -0.61736 0.38381 C -0.6151 0.3889 -0.38646 0.2726 -0.09514 0.12069 C 0.19653 -0.03191 0.43368 -0.15977 0.43212 -0.16509 C 0.43125 -0.16948 0.17969 -0.03977 -0.10729 0.11422 C -0.39323 0.26797 -0.61528 0.39144 -0.61319 0.39537 C -0.61215 0.40023 -0.37899 0.28277 -0.09184 0.13248 C 0.20017 -0.02012 0.43715 -0.14821 0.43646 -0.1533 C 0.43524 -0.15746 0.18663 -0.02914 -0.1033 0.12578 C -0.39132 0.28046 -0.61094 0.40323 -0.60955 0.40763 C -0.60833 0.41179 -0.37535 0.29503 -0.08333 0.14196 C 0.20868 -0.01018 0.44063 -0.13619 0.43924 -0.14104 C 0.43802 -0.14497 0.19063 -0.01734 -0.09531 0.13572 C -0.38142 0.28924 -0.61337 0.41803 -0.60642 0.41965 C -0.60156 0.42242 -0.37187 0.30659 -0.07986 0.15398 C 0.2132 0.000689999999999996 0.44358 -0.12486 0.44201 -0.12925 C 0.44219 -0.13388 0.20382 -0.01087 -0.08351 0.14358 E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6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28 -0.1244 C -0.38854 -0.2481 -0.57812 -0.33619 -0.57882 -0.33226 C -0.5809 -0.32856 -0.39896 -0.23284 -0.15399 -0.11006 C 0.09132 0.01294 0.29827 0.11237 0.29966 0.10844 C 0.30035 0.10381 0.08663 -0.00463 -0.15885 -0.1244 C -0.40087 -0.24162 -0.58159 -0.32532 -0.58264 -0.32139 C -0.58385 -0.31723 -0.39739 -0.21943 -0.15694 -0.09896 C 0.08854 0.02381 0.29462 0.12323 0.29549 0.11953 C 0.2967 0.11514 0.0842 0.00738999999999999 -0.15868 -0.11145 C -0.4033 -0.23006 -0.58403 -0.31492 -0.58541 -0.31029 C -0.58663 -0.30567 -0.40017 -0.20856 -0.15642 -0.08717 C 0.08403 0.03445 0.29167 0.13456 0.29271 0.12971 C 0.2941 0.12578 0.08125 0.01803 -0.15989 -0.09989 C -0.40278 -0.21758 -0.58698 -0.30313 -0.58802 -0.29873 C -0.58975 -0.2955 -0.39965 -0.19561 -0.15955 -0.07561 C 0.08924 0.04855 0.28854 0.14566 0.28924 0.1408 C 0.29167 0.13757 0.08143 0.03052 -0.16024 -0.0881 C -0.40208 -0.20532 -0.59062 -0.29295 -0.59201 -0.28833 C -0.59288 -0.28393 -0.4026 -0.18567 -0.15868 -0.06336 C 0.08611 0.05942 0.28611 0.15583 0.28681 0.1519 C 0.28785 0.14728 0.07847 0.04069 -0.16354 -0.07677 C -0.40486 -0.19422 -0.59409 -0.28162 -0.59496 -0.27792 C -0.59566 -0.27399 -0.40312 -0.17318 -0.16076 -0.0518 C 0.08316 0.07005 0.28264 0.16624 0.28368 0.16277 C 0.28472 0.15907 0.07847 0.05387 -0.16666 -0.06567 C -0.40816 -0.18359 -0.596 -0.27145 -0.59809 -0.26775 C -0.59861 -0.26266 -0.40521 -0.16185 -0.16076 -0.03885 C 0.08403 0.08346 0.27934 0.17734 0.28038 0.17364 C 0.28264 0.16901 0.07535 0.06497 -0.16562 -0.05341 C -0.40677 -0.17041 -0.60312 -0.2622 -0.60069 -0.25596 C -0.59861 -0.25018 -0.40781 -0.15168 -0.16389 -0.02844 C 0.08125 0.09456 0.27657 0.18774 0.27778 0.18335 C 0.27969 0.17988 0.08056 0.07907 -0.16128 -0.03839 E">
                                      <p:cBhvr>
                                        <p:cTn id="166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1:36:14Z</dcterms:created>
  <dc:creator>балицкая</dc:creator>
  <dc:description/>
  <dc:language>en-US</dc:language>
  <cp:lastModifiedBy>LEGION</cp:lastModifiedBy>
  <dcterms:modified xsi:type="dcterms:W3CDTF">2015-03-31T07:54:45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r8>9</vt:r8>
  </property>
</Properties>
</file>