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suctio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62A5-714B-46C3-8EF2-4DE3E53612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создал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Энге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062F-3B59-4280-91F0-0856E3478C0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1CB0-2E61-4ED9-BE5D-D1025A61877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 – временная не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– появляется, когда спрос и предложение труда не совпад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35A8-1A0F-4F27-AB2B-9140AE71FD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мини исследование по проблеме отношения к т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2752-68D0-4250-9F68-C86F824D86F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458-F3BE-461F-B562-5FFB30E2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C22-1513-4BA3-9AE4-F5C01194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843-19A3-4E8C-9D6D-46332E58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B98-97B1-4049-BB07-239BF658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7D85-F1D5-4D6A-B2A2-8B5A7E17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A644-0908-44C0-A9B2-CABF8AE6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E075-2DD0-4DB8-B650-91DF77E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3193-B3D8-4FAA-8FEF-2A927C3C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0C37-D7E7-40CE-9F9C-D53FB893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E869-3360-4380-8B87-BF2E13F7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D579-D7F4-4F73-B335-A3A6CA80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792-0A27-4200-BAD5-CB2EE602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1B0E-9504-4976-89F9-2A87A4EF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2620-69C9-43C6-B139-67FE2F23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19F4-78F4-412D-AD35-E7D1BE3E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DD5A-5B69-48D6-B1C7-E3D92AD0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DBF4-655F-4888-92AA-AE3F1D93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AD5-11EC-4A75-8C0E-433ED5DD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C40-8C5E-42C5-A391-D2377D26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ACD-78BC-4115-A149-0C9E88D6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36B-1FBA-49BD-A2F0-B980C0D0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9A2-2B7F-4F60-85DD-631AE7A9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4EE-5D34-4BD0-97D4-42AE2838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433-6832-4912-9BF5-2D35AB94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1C4C-5FF0-48B5-95CD-9324CA20DB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D72B-4FE1-4C77-99D3-CD8BBA48E6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03640" y="3212640"/>
            <a:ext cx="5580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 Энг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16000" y="189000"/>
            <a:ext cx="7559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Труд, занятость безрабо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94" name="Picture 7" descr="50R4"/>
          <p:cNvPicPr/>
          <p:nvPr/>
        </p:nvPicPr>
        <p:blipFill>
          <a:blip r:embed="rId3"/>
          <a:stretch/>
        </p:blipFill>
        <p:spPr>
          <a:xfrm>
            <a:off x="4643280" y="4653000"/>
            <a:ext cx="1344600" cy="22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56R5"/>
          <p:cNvPicPr/>
          <p:nvPr/>
        </p:nvPicPr>
        <p:blipFill>
          <a:blip r:embed="rId4"/>
          <a:stretch/>
        </p:blipFill>
        <p:spPr>
          <a:xfrm>
            <a:off x="0" y="1773360"/>
            <a:ext cx="2484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297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оварь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268280"/>
            <a:ext cx="643104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55640" y="2852640"/>
            <a:ext cx="230364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ру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356000" y="1197000"/>
            <a:ext cx="4248360" cy="1224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товар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284720" y="4076640"/>
            <a:ext cx="4319640" cy="1297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е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услуги)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3059280" y="1773000"/>
            <a:ext cx="122544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059280" y="3357720"/>
            <a:ext cx="115236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835280" y="981000"/>
            <a:ext cx="59036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еж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42920" y="4005360"/>
            <a:ext cx="2305080" cy="93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651640" y="3933720"/>
            <a:ext cx="309564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995640" y="4076640"/>
            <a:ext cx="1081080" cy="433440"/>
          </a:xfrm>
          <a:prstGeom prst="leftRightArrow">
            <a:avLst>
              <a:gd name="adj1" fmla="val 50000"/>
              <a:gd name="adj2" fmla="val 4965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 rot="5400000">
            <a:off x="3924000" y="2637000"/>
            <a:ext cx="1368360" cy="647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692360" y="620640"/>
            <a:ext cx="554508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тураль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3284640"/>
            <a:ext cx="3240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219640" y="3284640"/>
            <a:ext cx="33829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5229360"/>
            <a:ext cx="3168720" cy="934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слу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148360" y="5157720"/>
            <a:ext cx="345600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995640" y="3429000"/>
            <a:ext cx="863640" cy="504720"/>
          </a:xfrm>
          <a:prstGeom prst="leftRightArrow">
            <a:avLst>
              <a:gd name="adj1" fmla="val 50000"/>
              <a:gd name="adj2" fmla="val 34064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851280" y="5516640"/>
            <a:ext cx="1008000" cy="433440"/>
          </a:xfrm>
          <a:prstGeom prst="leftRightArrow">
            <a:avLst>
              <a:gd name="adj1" fmla="val 50000"/>
              <a:gd name="adj2" fmla="val 462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3924000" y="2060640"/>
            <a:ext cx="1152360" cy="431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908000" y="476280"/>
            <a:ext cx="53294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работная пла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2565360"/>
            <a:ext cx="324000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кл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за часы рабо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4221000"/>
            <a:ext cx="309708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временная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88000" y="2492280"/>
            <a:ext cx="414000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плата за изготовленн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количество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4221000"/>
            <a:ext cx="38894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дель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2050560" y="1557360"/>
            <a:ext cx="2016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067280" y="1557360"/>
            <a:ext cx="2376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692360" y="357336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620640"/>
            <a:ext cx="3240000" cy="792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ЩЕТ 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076720" y="620640"/>
            <a:ext cx="3672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Е ИМЕЕТ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68360" y="2421000"/>
            <a:ext cx="46087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БЕЗРАБОТ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5280" y="4221000"/>
            <a:ext cx="331308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ХОЧЕТ НАЙ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788000" y="4221000"/>
            <a:ext cx="388764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арегистриров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 государств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рганах занят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с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572000" y="1557000"/>
            <a:ext cx="237636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H="1" flipV="1">
            <a:off x="1763280" y="1484280"/>
            <a:ext cx="280836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 flipH="1">
            <a:off x="2050920" y="3284640"/>
            <a:ext cx="2376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427640" y="3284640"/>
            <a:ext cx="1944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ри вида безработиц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икционная – временная незаня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ая – появляется, когда спрос и предложение труда не 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ести мини исследование по проблеме отношения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9:49:37Z</dcterms:created>
  <dc:creator>1</dc:creator>
  <dc:description/>
  <dc:language>en-US</dc:language>
  <cp:lastModifiedBy>LEGION</cp:lastModifiedBy>
  <dcterms:modified xsi:type="dcterms:W3CDTF">2014-11-10T11:59:27Z</dcterms:modified>
  <cp:revision>5</cp:revision>
  <dc:subject/>
  <dc:title>Слайд 1</dc:title>
</cp:coreProperties>
</file>