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9E0F-2E71-4F95-AC6B-2B72F951649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99"/>
                </a:solidFill>
                <a:latin typeface="Monotype Corsiva"/>
              </a:rPr>
              <a:t>Ландшафтный</a:t>
            </a:r>
            <a:r>
              <a:rPr b="0" i="1" lang="ru-RU" sz="1600" spc="-1" strike="noStrike">
                <a:solidFill>
                  <a:srgbClr val="ff3399"/>
                </a:solidFill>
                <a:latin typeface="Monotype Corsiva"/>
              </a:rPr>
              <a:t> дизайн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Выполне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Курепнёвой Юл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9CC7-451D-4032-833E-54C5B31FA4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Дизайнерские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F059-9AB9-4B09-A5E3-DE5F7EEEC64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99"/>
                </a:solidFill>
                <a:latin typeface="Monotype Corsiva"/>
              </a:rPr>
              <a:t>Использованные материал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лась материалами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нтерне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0408-BBB5-4BFC-A0D6-B04EB8549F5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99"/>
                </a:solidFill>
                <a:latin typeface="Monotype Corsiva"/>
              </a:rPr>
              <a:t>Ландшафтный дизайн</a:t>
            </a:r>
            <a:r>
              <a:rPr b="1" i="1" lang="ru-RU" sz="32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ff3399"/>
                </a:solidFill>
                <a:latin typeface="Monotype Corsiva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дновременно и искусство и работа по озеленению и благоустройству территории включающее в себя проектирование и создание садово-парковых насаждений, газонов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4B23-D4C7-452E-99EE-2A41D8A2A98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99"/>
                </a:solidFill>
                <a:latin typeface="Monotype Corsiva"/>
              </a:rPr>
              <a:t>Стили ландшафтного дизай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C8EC-20C1-45B4-943D-E88FDCE0F02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Регулярный стиль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д имеет ярко выраженную основную ось композиции — стержень всего распланированного пространства, расположение элементов и конструкций подчинено строгой геометрии и симметр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7E01-8F89-405F-95BD-A7C4ED13DEC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Monotype Corsiva"/>
              </a:rPr>
              <a:t>Английский (пейзажный) сад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естественность в размещении элементов и большую плавность линий, имитируя природный ландшафт: извилистые дорожки, живописные водоемы, "натуральные" композиции из растений, которые высаживаются ярусами (деревья, кустарники, подлесок, цве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7681-05EF-46D5-BFDB-7BAD084A217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Monotype Corsiva"/>
              </a:rPr>
              <a:t>Китайский са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, прежде всего пейзажный сад, где отдельные архитектурные формы несут символическое значен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ландшафта китайского сада подчинено законам фэн-шуй – законам гармонии и балан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8398-B33D-4E95-A99C-7EFFAE7EF5C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Monotype Corsiva"/>
              </a:rPr>
              <a:t>Японский стиль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японском са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граниченном пространстве создается модель мира; она представляет собой уменьшенную копию пейзажа. Основными элементами таких садов являются небольшие озера с арочными мостиками, павильоны с черепичными крышами, композиции из натуральных кам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4FA0-9736-4ADC-8980-840FBE8AA7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Monotype Corsiva"/>
              </a:rPr>
              <a:t>Стиль кантр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брал в себя яркие пятна цветников, заброшенную скамейку в старом фруктовом саду, душистые заросли сирени и жасмина, залитые солнцем зеленые лужайки - в общем, все то, что дарит нашей душе ощущение радости и безмятежности и так привлекает в загородной жизни. Именно это направление ландшафтного дизайна наиболее близко менталитету и наиболее приемлемо для большинства наших отечественных садов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3962-7109-47A3-A322-6A96A1468B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Немного</a:t>
            </a:r>
            <a:r>
              <a:rPr b="0" lang="ru-RU" sz="12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фантаз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BD5B-CC29-466E-AA18-FC66198D08E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16B-E232-4F77-BDA3-750D2D14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1C3A-A38C-404B-8A96-6588D9CC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1DD-3B6C-4288-9041-C237B74C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B2FA-B9BB-47CA-828E-6AB7C842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466D-D104-4CAE-B25A-E5B77E14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7CE5-E350-451F-8DEA-491D30E4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A722-944A-416E-A14F-F579B2DA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73C3-AB49-46C3-AC12-BE9DA137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8B2E-4884-4D59-8E25-9403F869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BDD1-1DF2-4BCA-A7EF-DE2645E9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2D20-8348-4AD5-9AD4-3FC9B891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DD3-198A-4709-AEEC-2FBEEFEF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55C9-2A0D-41CB-A48E-20348BE8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78E2-594A-4749-80ED-24F3C2F6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0B6C-0EA1-4580-84A6-7E8C888B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E3C5-9988-4F1E-BC18-25188B3E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C72D-75F8-478E-AD37-0FDB7D75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219-AC40-4C09-B29B-E5AA86DD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477-0C85-4858-AB96-9745EF0B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B8A-23B9-4131-8DE3-C96D3FF5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B66-29C0-496E-93D2-F4B92572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813-4CFA-4EB5-BA81-19978799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3A7B-75A4-4CAE-9BF0-73F9FCD3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83F-0231-492E-A495-135E3167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6143-1DD9-465D-9EAB-985E5398C9D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6707-859E-4CC3-850E-4471E244B04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0" descr="post-591-1245698642_thumb"/>
          <p:cNvPicPr/>
          <p:nvPr/>
        </p:nvPicPr>
        <p:blipFill>
          <a:blip r:embed="rId1"/>
          <a:stretch/>
        </p:blipFill>
        <p:spPr>
          <a:xfrm>
            <a:off x="0" y="-38160"/>
            <a:ext cx="9252000" cy="6896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99"/>
                </a:solidFill>
                <a:latin typeface="Monotype Corsiva"/>
              </a:rPr>
              <a:t>Ландшафтный</a:t>
            </a:r>
            <a:r>
              <a:rPr b="0" i="1" lang="ru-RU" sz="4000" spc="-1" strike="noStrike">
                <a:solidFill>
                  <a:srgbClr val="ff3399"/>
                </a:solidFill>
                <a:latin typeface="Monotype Corsiva"/>
              </a:rPr>
              <a:t> дизайн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4984560"/>
            <a:ext cx="42591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Выполне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Курепнёвой Юли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Дизайнерские</a:t>
            </a:r>
            <a:r>
              <a:rPr b="0" lang="ru-RU" sz="5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решения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12" descr="0_39f_167ad173_XL"/>
          <p:cNvPicPr/>
          <p:nvPr/>
        </p:nvPicPr>
        <p:blipFill>
          <a:blip r:embed="rId1"/>
          <a:stretch/>
        </p:blipFill>
        <p:spPr>
          <a:xfrm>
            <a:off x="179280" y="1916280"/>
            <a:ext cx="4319640" cy="475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curb-appeal-fall_house-e1286394205512"/>
          <p:cNvPicPr/>
          <p:nvPr/>
        </p:nvPicPr>
        <p:blipFill>
          <a:blip r:embed="rId2"/>
          <a:stretch/>
        </p:blipFill>
        <p:spPr>
          <a:xfrm>
            <a:off x="4643280" y="1557360"/>
            <a:ext cx="4500720" cy="45356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49600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Monotype Corsiva"/>
              </a:rPr>
              <a:t>Использованные материалы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071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ьзовалась материалам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137(1)"/>
          <p:cNvPicPr/>
          <p:nvPr/>
        </p:nvPicPr>
        <p:blipFill>
          <a:blip r:embed="rId1"/>
          <a:stretch/>
        </p:blipFill>
        <p:spPr>
          <a:xfrm>
            <a:off x="1763640" y="2781360"/>
            <a:ext cx="5832720" cy="36208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Ландшафтный дизайн</a:t>
            </a:r>
            <a:r>
              <a:rPr b="1" i="1" lang="ru-RU" sz="60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-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одновременно и искусство и работа по озеленению и благоустройству территории включающее в себя проектирование и создание садово-парковых насаждений, газон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9" descr="6175"/>
          <p:cNvPicPr/>
          <p:nvPr/>
        </p:nvPicPr>
        <p:blipFill>
          <a:blip r:embed="rId1"/>
          <a:stretch/>
        </p:blipFill>
        <p:spPr>
          <a:xfrm>
            <a:off x="5219640" y="371628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landscape6"/>
          <p:cNvPicPr/>
          <p:nvPr/>
        </p:nvPicPr>
        <p:blipFill>
          <a:blip r:embed="rId2"/>
          <a:stretch/>
        </p:blipFill>
        <p:spPr>
          <a:xfrm>
            <a:off x="108000" y="3448080"/>
            <a:ext cx="4824360" cy="322416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Monotype Corsiva"/>
              </a:rPr>
              <a:t>Стили ландшафтного дизайна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4" descr="13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52293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Регулярный стиль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364000" y="177336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ад имеет ярко выраженную основную ось композиции — стержень всего распланированного пространства, расположение элементов и конструкций подчинено строгой геометрии и симметр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100"/>
          <p:cNvPicPr/>
          <p:nvPr/>
        </p:nvPicPr>
        <p:blipFill>
          <a:blip r:embed="rId1"/>
          <a:stretch/>
        </p:blipFill>
        <p:spPr>
          <a:xfrm>
            <a:off x="179280" y="1798560"/>
            <a:ext cx="4969080" cy="47991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Английский (пейзажный) сад</a:t>
            </a:r>
            <a:br>
              <a:rPr sz="4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08000" y="2060640"/>
            <a:ext cx="4535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олагает естественность в размещении элементов и большую плавность линий, имитируя природный ландшафт: извилистые дорожки, живописные водоемы, "натуральные" композиции из растений, которые высаживаются ярусами (деревья, кустарники, подлесок, цветы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0" descr="landscape"/>
          <p:cNvPicPr/>
          <p:nvPr/>
        </p:nvPicPr>
        <p:blipFill>
          <a:blip r:embed="rId1"/>
          <a:stretch/>
        </p:blipFill>
        <p:spPr>
          <a:xfrm>
            <a:off x="395280" y="2060640"/>
            <a:ext cx="4321080" cy="4557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Китайский сад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9183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, прежде всего пейзажный сад, где отдельные архитектурные формы несут символическое значени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ройство ландшафта китайского сада подчинено законам фэн-шуй – законам гармонии и балан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438b1b7b7b4e"/>
          <p:cNvPicPr/>
          <p:nvPr/>
        </p:nvPicPr>
        <p:blipFill>
          <a:blip r:embed="rId1"/>
          <a:stretch/>
        </p:blipFill>
        <p:spPr>
          <a:xfrm>
            <a:off x="250920" y="3500280"/>
            <a:ext cx="4174920" cy="3127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yapon"/>
          <p:cNvPicPr/>
          <p:nvPr/>
        </p:nvPicPr>
        <p:blipFill>
          <a:blip r:embed="rId2"/>
          <a:stretch/>
        </p:blipFill>
        <p:spPr>
          <a:xfrm>
            <a:off x="4356000" y="2852640"/>
            <a:ext cx="4608720" cy="3384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99"/>
                </a:solidFill>
                <a:latin typeface="Monotype Corsiva"/>
              </a:rPr>
              <a:t>Японский стиль</a:t>
            </a:r>
            <a:br>
              <a:rPr sz="40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64000" y="1557000"/>
            <a:ext cx="3780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японском сад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ограниченном пространстве создается модель мира; она представляет собой уменьшенную копию пейзажа. Основными элементами таких садов являются небольшие озера с арочными мостиками, павильоны с черепичными крышами, композиции из натуральных камн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13" descr="0_1c92b_e702ed24_XL"/>
          <p:cNvPicPr/>
          <p:nvPr/>
        </p:nvPicPr>
        <p:blipFill>
          <a:blip r:embed="rId1"/>
          <a:stretch/>
        </p:blipFill>
        <p:spPr>
          <a:xfrm>
            <a:off x="179280" y="90792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0c0d61b4f588"/>
          <p:cNvPicPr/>
          <p:nvPr/>
        </p:nvPicPr>
        <p:blipFill>
          <a:blip r:embed="rId2"/>
          <a:stretch/>
        </p:blipFill>
        <p:spPr>
          <a:xfrm>
            <a:off x="324000" y="3260880"/>
            <a:ext cx="5292720" cy="35971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Стиль кантр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89200" y="1628280"/>
            <a:ext cx="3754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брал в себя яркие пятна цветников, заброшенную скамейку в старом фруктовом саду, душистые заросли сирени и жасмина, залитые солнцем зеленые лужайки - в общем, все то, что дарит нашей душе ощущение радости и безмятежности и так привлекает в загородной жизни. Именно это направление ландшафтного дизайна наиболее близко менталитету и наиболее приемлемо для большинства наших отечественных садовод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13" descr="17"/>
          <p:cNvPicPr/>
          <p:nvPr/>
        </p:nvPicPr>
        <p:blipFill>
          <a:blip r:embed="rId1"/>
          <a:stretch/>
        </p:blipFill>
        <p:spPr>
          <a:xfrm>
            <a:off x="468360" y="3284640"/>
            <a:ext cx="4537080" cy="333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0a1aaaaaa"/>
          <p:cNvPicPr/>
          <p:nvPr/>
        </p:nvPicPr>
        <p:blipFill>
          <a:blip r:embed="rId2"/>
          <a:stretch/>
        </p:blipFill>
        <p:spPr>
          <a:xfrm>
            <a:off x="179280" y="1413000"/>
            <a:ext cx="3348000" cy="2376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Немного</a:t>
            </a:r>
            <a:r>
              <a:rPr b="0" lang="ru-RU" sz="60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фантазии…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10" descr="34"/>
          <p:cNvPicPr/>
          <p:nvPr/>
        </p:nvPicPr>
        <p:blipFill>
          <a:blip r:embed="rId1"/>
          <a:stretch/>
        </p:blipFill>
        <p:spPr>
          <a:xfrm>
            <a:off x="250920" y="170028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u_846864626"/>
          <p:cNvPicPr/>
          <p:nvPr/>
        </p:nvPicPr>
        <p:blipFill>
          <a:blip r:embed="rId2"/>
          <a:stretch/>
        </p:blipFill>
        <p:spPr>
          <a:xfrm>
            <a:off x="2987640" y="3284640"/>
            <a:ext cx="3456000" cy="3362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59268377_9e2bc17d30de"/>
          <p:cNvPicPr/>
          <p:nvPr/>
        </p:nvPicPr>
        <p:blipFill>
          <a:blip r:embed="rId3"/>
          <a:stretch/>
        </p:blipFill>
        <p:spPr>
          <a:xfrm>
            <a:off x="5076720" y="1341360"/>
            <a:ext cx="3905280" cy="2924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5:55:10Z</dcterms:created>
  <dc:creator>User</dc:creator>
  <dc:description/>
  <dc:language>en-US</dc:language>
  <cp:lastModifiedBy>LEGION</cp:lastModifiedBy>
  <dcterms:modified xsi:type="dcterms:W3CDTF">2015-03-31T08:15:58Z</dcterms:modified>
  <cp:revision>36</cp:revision>
  <dc:subject/>
  <dc:title>Слайд 1</dc:title>
</cp:coreProperties>
</file>