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6F27-FC5A-4E9B-88A0-68B0F248F7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ED09-CA4F-4467-820B-C5DD6D9B46F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ивные учебные предме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элективных учебных предм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ставленные ниже варианты учебных планов отдельных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фи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9BF1-F3F5-43D7-8485-1A530F27F74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Техническ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Обслуживающ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Сельскохозяйственный тру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овым для направления «Технология. Техническ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Обслуживающ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Сельскохозяйственны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Растениеводство», «Животновод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76D4-A35E-4C62-AD74-C045607B371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во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48B9-3773-4571-AEA3-5C6EA8F0C17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конструк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текстиль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ремонтно-строительных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пищевых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ереработки и хран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реобразования и использования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ика и технологическое оборудование (элементы машин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71E1-3448-4CF1-BD44-A8BBDD22F6A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зависимо от содержания основного модуля должно предусматриваться изуч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квозных образовательных л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черчения и граф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икладной экономики и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профессий, средства и методы формировани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о-прикладная обработка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проектн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и социальные последствия развития технологи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24D0-CE87-46EB-ACD6-82F3B05CDB0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обучения «Технолог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ит из четырех блоков, которые скомпонованы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ул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модули базируются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EB4E-271A-4001-93DD-738D41679F2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учения в начальной школе (1-4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блок относят к подростковому возрасту (5-8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– к ранней юности (9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ый – к юности (10-11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6EC-CCAB-44D2-AC6F-93AF3929AB6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сущность концепции технологиче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понятия «технология», «образование», «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A47F-790A-44BD-BB2A-6F040D1D930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B69E-64B2-4F34-BAA3-908F14C6D66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1200" spc="-1" strike="noStrike">
                <a:solidFill>
                  <a:srgbClr val="1f497d"/>
                </a:solidFill>
                <a:latin typeface="Futura XBlk BT"/>
              </a:rPr>
              <a:t>10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роектов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од проектом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Цель проектов -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своение содержания предмета «Технология» 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обеспечит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мся: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номическое образова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логическо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информационное обеспече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стетическое образование в сочетании с дизайнерскими навыками и др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Вывод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5027-B762-4D42-A02F-C7F5D103AF7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образовательного стандарта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1-4 кла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н на 4-летний нормативный срок освоения образовательных програм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5-9 кла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 на 5-летний нормативный срок освоения образовательных програм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должительность учебного года – от 34 до 37 недель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ётом экзаменационного периода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9 кл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офильной подготов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оведении учебных занятий по «Технологии» (5-9 классы) осуществляется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еление классов на две групп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B394-8480-454A-8B11-03AB045F567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сти федерального базисного учебного пл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предмет «Технология» построен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 модульному принцип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возможностей образовательного учреждения и потребност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учебного предмета «Технология»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9 класс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ередаются в компонент образовательного учреждения для организации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раеведческой направлен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Краеведение» (8 класс - 1 час в неделю учебного предмета «Технолог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также «География», «Биология», «История», «Искусство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7E8C-E65A-4605-A508-1547DDFB937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CC42-2D8A-4D6F-8926-22DE38BA926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6472-6E00-4FF3-A169-829115A34EF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нее (полное) общее образ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редство дифференциации и индивидуализаци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ход к профильному обучению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углубленное изучение отдельных учебны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преемственность между общим и профессиональным образ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BF38-45AC-4AD5-B856-305B613F7C9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базо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бязательные предм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ьные базовые учебные предметы изучаются по выб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 общеобразовательные учебные предметы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529-7D99-46DE-9E09-959E53B5EA3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618D-56DF-4CB8-82FC-F105FCD3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E908-3035-4619-951A-4A14D2F2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EFB9-6F3B-4CF5-BCFB-85D8600E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2C6F-91D6-493D-B55F-507932B7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347F-0803-4050-AE27-6AE88CDB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8EEB-B9D5-4B66-8DA5-EF5A39E8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06C1-03D2-4F39-86C9-1B0ECEF4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240B-A0F0-4984-9CCC-D1713A36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5B38-25E8-499C-8F40-1C4555D6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443F-E6C2-4449-8CB0-166D36E6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46EB-F05B-4C3E-A124-D6AB7F4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A659-C1B6-4BB4-B630-15A9D4B1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C237-5DCB-4BD4-A80E-ABF0758B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C68E-D812-458F-8187-E5AF847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AF97-22EF-46BC-9A51-B855FA22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D172-AA53-4D73-8795-1BE60205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C3B3-E124-4F55-929D-795DAF69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2990-7E2D-4A5E-AF5F-A180E725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0C84-F492-4764-AE5D-B6A4D335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C181-6847-44BF-855D-A3A9A9DB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2EC1-171E-441D-9B74-21CAE13F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5963-BA52-46A1-8A74-28E5A751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0A84-2E62-4FED-BE4C-966FC10D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C0F7C-456D-46C7-AEFF-544503C2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80E3-4229-4F96-96FB-FD5D4E2532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DBC9-9E12-4F98-8B46-23A873E629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8469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003640" y="5589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подаватель: Курзакова О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лективные учебные предметы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ункции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элективных учебных предмет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ставленные ниже варианты учебных планов отдельных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филе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являют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Техническ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Обслуживающ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Сельскохозяйственный труд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зовым для направления «Технология. Техническ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Обслуживающ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Сельскохозяйственны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Растениеводство», «Животноводство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во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уч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конструкцион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текстиль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ремонтно-строительных рабо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пищевых продук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ереработки и хран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реобразования и использования энер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ика и технологическое оборудование (элементы машиноведени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ультура дом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зависимо от содержания основного модуля должно предусматриваться изуч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возных образовательных лини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льтура и эстетика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учение, обработка, хранение и использование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ы черчения и графи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лементы прикладной экономики и предпринимательст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ир профессий, средства и методы формирования жизненных, профессиональных план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удожественно-прикладная обработка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ворческая проектная деятельн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тория и социальные последствия развития технологии и техн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обучения «Технологии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ит из четырех блоков, которые скомпонованы из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одуле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А модули базируются 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9280" y="189000"/>
            <a:ext cx="87138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иод обучения в начальной школе (1-4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торой блок относят к подростковому возрасту (5-8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ретий – к ранней юности (9 класс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твертый – к юности (10-11 класс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24000" y="549360"/>
            <a:ext cx="8424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/Зада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сущность концепции технологического образов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понятия «технология», «образование», «обуче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187280" y="69228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0280"/>
            <a:ext cx="8351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2000" spc="-1" strike="noStrike">
                <a:solidFill>
                  <a:srgbClr val="e5e5ff"/>
                </a:solidFill>
                <a:latin typeface="Futura XBlk BT"/>
              </a:rPr>
              <a:t>10 </a:t>
            </a: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роектов.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од проектом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 Black"/>
              </a:rPr>
              <a:t>Цель проектов -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своение содержания предмета «Технология»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обеспечит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чащимся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номическое образова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логическо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информационное обеспече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стетическое образование в сочетании с дизайнерскими навыками и др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ывод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Федеральный компонент государственного образовательного стандарта</a:t>
            </a:r>
            <a:br>
              <a:rPr sz="2000"/>
            </a:b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ФЕДЕРАЛЬНЫЙ БАЗИСНЫЙ УЧЕБНЫЙ ПЛАН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6480" y="907920"/>
            <a:ext cx="8328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1-4 классов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иентирован на 4-летний нормативный срок освоения образовательных программ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чаль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5-9 классо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риентирован на 5-летний нормативный срок освоения образовательных программ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основ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должительность учебного года – от 34 до 37 недель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с учётом экзаменационного период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9 класс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офильной подготовк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бучающих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 проведении учебных занятий по «Технологии» (5-9 классы) осуществляется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е классов на две груп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собенности федерального базисного учебного план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й предмет «Технология» построен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 модульному принципу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с учетом возможностей образовательного учреждения и потребностей реги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ы учебного предмета «Технология»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9 класс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ередаются в компонент образовательного учреждения для организа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раеведческой направленности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«Краеведение» (8 класс - 1 час в неделю учебного предмета «Технолог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также «География», «Биология», «История», «Искусство»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400"/>
            </a:b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620640"/>
          <a:ext cx="8435880" cy="6232680"/>
        </p:xfrm>
        <a:graphic>
          <a:graphicData uri="http://schemas.openxmlformats.org/drawingml/2006/table">
            <a:tbl>
              <a:tblPr/>
              <a:tblGrid>
                <a:gridCol w="4478400"/>
                <a:gridCol w="703080"/>
                <a:gridCol w="663840"/>
                <a:gridCol w="649080"/>
                <a:gridCol w="649440"/>
                <a:gridCol w="650880"/>
                <a:gridCol w="641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Количество часов в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и литература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765000"/>
          <a:ext cx="8435880" cy="6004080"/>
        </p:xfrm>
        <a:graphic>
          <a:graphicData uri="http://schemas.openxmlformats.org/drawingml/2006/table">
            <a:tbl>
              <a:tblPr/>
              <a:tblGrid>
                <a:gridCol w="4767120"/>
                <a:gridCol w="479520"/>
                <a:gridCol w="638280"/>
                <a:gridCol w="636480"/>
                <a:gridCol w="638280"/>
                <a:gridCol w="639720"/>
                <a:gridCol w="636480"/>
              </a:tblGrid>
              <a:tr h="2743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оличество часов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Среднее (полное) общее образование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рофильное обучени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ильное обучени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– средство дифференциации и индивидуализации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к профильному обучению позволяе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углубленное изучение отдельных учебных предмет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преемственность между общим и профессиональным образование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28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базовом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обязательные предме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тальные базовые учебные предметы изучаются по выбор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фильные общеобразовательные учебные предметы –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3:23:37Z</dcterms:created>
  <dc:creator>Курзакова О.П.</dc:creator>
  <dc:description/>
  <dc:language>en-US</dc:language>
  <cp:lastModifiedBy>LEGION</cp:lastModifiedBy>
  <dcterms:modified xsi:type="dcterms:W3CDTF">2015-03-31T08:28:53Z</dcterms:modified>
  <cp:revision>18</cp:revision>
  <dc:subject/>
  <dc:title>Слайд 1</dc:title>
</cp:coreProperties>
</file>