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6E4B-3B33-4FA6-AA82-92222C7C32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D420-9DA3-4BD2-8A0A-C8716D1A750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ивные учебные предме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элективных учебных предм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ставленные ниже варианты учебных планов отдельных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фи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C885-9D84-4BAA-9DBF-96B3A4E50BA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Техническ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Обслуживающ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Сельскохозяйственный тру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овым для направления «Технология. Техническ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Обслуживающ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Сельскохозяйственны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Растениеводство», «Животновод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AF12-8AB3-4436-9311-F5CF055BC10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1E2A-009A-4621-982C-86D3F6EA1CD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конструк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тексти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ремонтно-строительных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пищевых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ереработки и хран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реобразования и использования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ика и технологическое оборудование (элементы машин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BCDB-4426-4CBE-B095-D9C128C7067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зависимо от содержания основного модуля должно предусматриваться изуч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квозных образовательных л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черчения и граф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икладной экономики и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профессий, средства и методы формировани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о-прикладная обработка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проектн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и социальные последствия развития технологи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3A8A-6157-4C37-BDC7-93C4E711CEF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обучения «Технолог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ит из четырех блоков, которые скомпонованы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ул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модули базируются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55A9-E7DD-4D0A-8E8D-604DA07B062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учения в начальной школе (1-4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блок относят к подростковому возрасту (5-8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– к ранней юности (9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ый – к юности (10-11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2602-C349-4BE1-9947-E9F9F4B8823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сущность концепции технологиче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понятия «технология», «образование», «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C52C-6FD9-40B1-B70C-B9DDB6B4F03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BF72-1472-4B8F-994F-411E0072ABA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1200" spc="-1" strike="noStrike">
                <a:solidFill>
                  <a:srgbClr val="1f497d"/>
                </a:solidFill>
                <a:latin typeface="Futura XBlk BT"/>
              </a:rPr>
              <a:t>10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роектов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од проектом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Цель проектов -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своение содержания предмета «Технология» 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беспечит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мся: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номическое образова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логическо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информационное обеспече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стетическое образование в сочетании с дизайнерскими навыками и др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Вывод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44C0-8F7E-4E24-9355-17C382532B8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образовательного стандарт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1-4 кла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н на 4-летний нормативный срок освоения образовательных програм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5-9 кла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 на 5-летний нормативный срок освоения образовательных програм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должительность учебного года – от 34 до 37 недель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ётом экзаменационного периода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9 кл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офильной подготов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оведении учебных занятий по «Технологии» (5-9 классы) осуществляется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еление классов на две групп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DDE6-440F-4E04-853D-9CA09FA2D36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сти федерального базисного учебного пл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предмет «Технология» построен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 модульному принцип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возможностей образовательного учреждения и потребност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учебного предмета «Технология»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9 класс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ередаются в компонент образовательного учреждения для организации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раеведческой направлен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Краеведение» (8 класс - 1 час в неделю учебного предмета «Технолог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также «География», «Биология», «История», «Искусство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781C-C78D-4990-8FC2-3FA7D6CF223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11A4-BC03-4D15-BE32-D92980279F4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0C46-9E7E-4922-B83C-5460D95D84D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нее (полное) общее образ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редство дифференциации и индивидуализаци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ход к профильному обучению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углубленное изучение отдельных учебны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преемственность между общим и профессиональным образ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100-CB21-44B8-8B44-CF465581BB3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базо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бязательные предм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базовые учебные предметы изучаются по выб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 общеобразовательные учебные предметы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2071-F384-4E21-AFF0-D49AA08849B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7CBC-1EC9-44DE-88E3-58FF04C7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7F9F-E735-439E-BFBC-FDDAAECB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89D4-D7D0-48B7-985F-EB713EDB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4248-8036-4851-80AF-D7DBF908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C96C-A79D-4904-BC36-69583075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E2BD-91E0-4F26-9CAD-B717735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D01F-E724-4FDF-85E1-21E35F52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36D6-4BF0-4720-A346-F3BD5811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352B-04CB-4021-89E6-47B72920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8921-914B-4868-ABF2-E7493BBE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0BB4-BDA6-4CEC-86ED-3358803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8C65-AFDA-430A-B084-B5B43752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E939-ADB6-4883-B787-D765EF52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2A10-206D-400A-91AA-0C822E45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95D0-5D7D-4669-B1B7-D4B018F4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60AB-FD3A-46C0-8E0D-BADD6E42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C04D-077E-40F6-8330-E24DECAE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75D1-352F-4F4C-A7A4-2F7B4810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DC40-91F6-48C3-8360-E3067E06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4E0E-8C6C-47E1-86CC-A916AC74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B6A1-8830-4687-992A-3D92193D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E091-7559-415F-8CF5-BF63264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A329-2EFA-4C5A-8F5C-3B4D9E0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2ACD-BE15-426E-B640-E9834FC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2C4A-E9E4-49B5-A68A-BDAAA615CE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F20-1BF4-4C41-A616-2E4DF80714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8469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003640" y="558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подаватель: Курзакова О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лективные учебные предметы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ункци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элективных учебных предме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авленные ниже варианты учебных планов отдельных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филе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являют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Техническ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Обслуживающ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Сельскохозяйственный труд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зовым для направления «Технология. Техническ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Обслуживающ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Сельскохозяйственны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Растениеводство», «Животноводство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во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уч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конструкцион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текстиль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ремонтно-строительных рабо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пищевых продук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ереработки и хран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реобразования и использования энер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ка и технологическое оборудование (элементы машиновед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льтура до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зависимо от содержания основного модуля должно предусматриваться изуч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возных образовательных ли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ьтура и эстетика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учение, обработка, хранение и использование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ы черчения и граф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лементы прикладной экономики и предпринимательст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ир профессий, средства и методы формирования жизненных, профессиональных план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-прикладная обработка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ворческая проектная деятель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тория и социальные последствия развития технологии и техн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обучения «Технологии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ит из четырех блоков, которые скомпонованы из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дуле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А модули базируются 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9280" y="189000"/>
            <a:ext cx="87138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иод обучения в начальной школе (1-4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торой блок относят к подростковому возрасту (5-8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етий – к ранней юности (9 класс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твертый – к юности (10-11 класс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549360"/>
            <a:ext cx="8424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/Зад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сущность концепции технологического образов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понятия «технология», «образование», «обуче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87280" y="692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0280"/>
            <a:ext cx="8351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2000" spc="-1" strike="noStrike">
                <a:solidFill>
                  <a:srgbClr val="e5e5ff"/>
                </a:solidFill>
                <a:latin typeface="Futura XBlk BT"/>
              </a:rPr>
              <a:t>10 </a:t>
            </a: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роектов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од проектом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 Black"/>
              </a:rPr>
              <a:t>Цель проектов -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своение содержания предмета «Технология»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беспечит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чащимся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номическое образова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логическо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информационное обеспече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стетическое образование в сочетании с дизайнерскими навыками и др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ывод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Федеральный компонент государственного образовательного стандарта</a:t>
            </a:r>
            <a:br>
              <a:rPr sz="2000"/>
            </a:b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ФЕДЕРАЛЬНЫЙ БАЗИСНЫЙ УЧЕБНЫЙ ПЛАН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6480" y="907920"/>
            <a:ext cx="8328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1-4 классов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иентирован на 4-летний нормативный срок освоения образовательных программ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ль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5-9 классо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риентирован на 5-летний нормативный срок освоения образовательных програм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основ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должительность учебного года – от 34 до 37 недель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с учётом экзаменационного период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9 класс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офильной подготовк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бучающих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проведении учебных занятий по «Технологии» (5-9 классы) осуществляетс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е классов на две груп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собенности федерального базисного учебного пла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й предмет «Технология» построен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модульному принципу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 учетом возможностей образовательного учреждения и потребностей реги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ы учебного предмета «Технология»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9 класс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ередаются в компонент образовательного учреждения для организа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раеведческой направленности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«Краеведение» (8 класс - 1 час в неделю учебного предмета «Технолог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также «География», «Биология», «История», «Искусство»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400"/>
            </a:b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620640"/>
          <a:ext cx="8435880" cy="6232680"/>
        </p:xfrm>
        <a:graphic>
          <a:graphicData uri="http://schemas.openxmlformats.org/drawingml/2006/table">
            <a:tbl>
              <a:tblPr/>
              <a:tblGrid>
                <a:gridCol w="4478400"/>
                <a:gridCol w="703080"/>
                <a:gridCol w="663840"/>
                <a:gridCol w="649080"/>
                <a:gridCol w="649440"/>
                <a:gridCol w="650880"/>
                <a:gridCol w="641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Количество часов в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и литература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765000"/>
          <a:ext cx="8435880" cy="6004080"/>
        </p:xfrm>
        <a:graphic>
          <a:graphicData uri="http://schemas.openxmlformats.org/drawingml/2006/table">
            <a:tbl>
              <a:tblPr/>
              <a:tblGrid>
                <a:gridCol w="4767120"/>
                <a:gridCol w="479520"/>
                <a:gridCol w="638280"/>
                <a:gridCol w="636480"/>
                <a:gridCol w="638280"/>
                <a:gridCol w="639720"/>
                <a:gridCol w="636480"/>
              </a:tblGrid>
              <a:tr h="2743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реднее (полное) общее образование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рофильное обучени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 средство дифференциации и индивидуализации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озволя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углубленное изучение отдельных учебных предмет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преемственность между общим и профессиональным образование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8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азово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бязательные предме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льные базовые учебные предметы изучаются по выбор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фильные общеобразовательные учебные предметы –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3:23:37Z</dcterms:created>
  <dc:creator>Курзакова О.П.</dc:creator>
  <dc:description/>
  <dc:language>en-US</dc:language>
  <cp:lastModifiedBy>LEGION</cp:lastModifiedBy>
  <dcterms:modified xsi:type="dcterms:W3CDTF">2015-03-31T08:28:53Z</dcterms:modified>
  <cp:revision>18</cp:revision>
  <dc:subject/>
  <dc:title>Слайд 1</dc:title>
</cp:coreProperties>
</file>