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6A71-9A10-4FD3-B959-EB53E4FF5D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0212-F11D-41D6-BEC5-78298329395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ивные учебные предме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элективных учебных предм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ставленные ниже варианты учебных планов отдельных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фи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8A1C-3351-41EF-A017-A56C1D3B943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Техническ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Обслуживающ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Сельскохозяйственный тру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овым для направления «Технология. Техническ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Обслуживающ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Сельскохозяйственны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Растениеводство», «Животновод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3484-E1FE-490D-AADF-EFC71217322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во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влад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1206-0C23-4AD9-9A84-47E8B616365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конструк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текстиль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ремонтно-строительных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пищевых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ереработки и хран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реобразования и использования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ика и технологическое оборудование (элементы машин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C905-A5ED-4A8A-8246-61540F6A65F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зависимо от содержания основного модуля должно предусматриваться изуч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квозных образовательных л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черчения и граф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икладной экономики и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профессий, средства и методы формировани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о-прикладная обработка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проектн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и социальные последствия развития технологи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3583-75AF-48BD-9E3E-9D7BC9CEC36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обучения «Технолог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ит из четырех блоков, которые скомпонованы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ул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модули базируются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E752-3F54-42CC-B355-3798E47E6DF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учения в начальной школе (1-4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блок относят к подростковому возрасту (5-8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– к ранней юности (9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ый – к юности (10-11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3009-B3B2-4BD5-884C-AA00455469C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сущность концепции технологиче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понятия «технология», «образование», «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C841-3456-483B-9604-9853FC7813D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541A-59F7-42EA-BC03-F7B202BEFD6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1200" spc="-1" strike="noStrike">
                <a:solidFill>
                  <a:srgbClr val="1f497d"/>
                </a:solidFill>
                <a:latin typeface="Futura XBlk BT"/>
              </a:rPr>
              <a:t>10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роектов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од проектом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Цель проектов -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своение содержания предмета «Технология» 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обеспечит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мся: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номическое образова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логическо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информационное обеспече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стетическое образование в сочетании с дизайнерскими навыками и др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Вывод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8829-F606-4CB8-A48E-52849B05DAA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образовательного стандарта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1-4 кла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н на 4-летний нормативный срок освоения образовательных програм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5-9 кла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 на 5-летний нормативный срок освоения образовательных програм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должительность учебного года – от 34 до 37 недель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ётом экзаменационного периода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9 кл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офильной подготов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оведении учебных занятий по «Технологии» (5-9 классы) осуществляется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еление классов на две групп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6FDF-77C6-4FA6-B389-90B401A5827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енности федерального базисного учебного пл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предмет «Технология» построен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 модульному принцип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возможностей образовательного учреждения и потребностей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учебного предмета «Технология»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9 класс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ередаются в компонент образовательного учреждения для организации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раеведческой направлен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Краеведение» (8 класс - 1 час в неделю учебного предмета «Технолог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также «География», «Биология», «История», «Искусство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47B1-B086-440C-936A-DFD37582A5F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8149-F608-46A6-AA55-9E64D7726C8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A733-65E9-42E7-83CB-8C71C0FF24C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нее (полное) общее образова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редство дифференциации и индивидуализаци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ход к профильному обучению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углубленное изучение отдельных учебны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преемственность между общим и профессиональным образ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C664-92EE-4A0B-9D45-52BF15C4952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базо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бязательные предм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тальные базовые учебные предметы изучаются по выб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 общеобразовательные учебные предметы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ACEF-DADB-4D48-A1F0-D1FBE9EEECF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BAB2-224E-4854-9A0F-176AF9AC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FBE6-ED0F-455E-8EC7-4B30F10F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80D9-6A8F-4F94-B938-0F23FB6F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04C8-1A97-40F4-BFD4-3989E403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E9B7-252C-4DEE-99F3-37140BB6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23D5-24DA-43E7-A9BA-6EB78E67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3DDE-FEB3-4131-9DA6-4C57AB6C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AB15-DFBA-4628-8263-9843B81F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4611-5A78-449E-A83A-D15C0DB6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8086-39AD-4120-AB99-4884E567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9CBE-520A-4C75-BD0D-F2264269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A052-9B2A-4C02-BBB9-9E440D5F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2557-556D-4AB4-9A1B-0AF85848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246C-B627-4082-BE19-CFFDC319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FD2D-C11E-4558-9E41-74CF6483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6E71-55E7-4540-B931-86FA74C3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FB2E-10E6-45A3-ADC5-4ACCF0DA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BE214-68BF-4EF8-A682-89B0C59C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1E76-0988-4DB2-A2AC-31035DF0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18F1B-0678-4207-8887-67CE6915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EDE8-B0BD-429A-8B26-45E70A95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D731-7FB1-4E1F-A93A-64F2DB63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7870D-1561-4B49-9616-05CF1328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8C10-A185-407A-A21D-BD47481B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6C76-8F21-4CC6-B641-92F549ED40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A84C-60B7-4DAF-9DB4-878D964FFA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78469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003640" y="5589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подаватель: Курзакова О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лективные учебные предметы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ункции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элективных учебных предмето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ставленные ниже варианты учебных планов отдельных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филе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являютс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Техническ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Обслуживающ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Сельскохозяйственный труд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зовым для направления «Технология. Техническ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Обслуживающ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Сельскохозяйственны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Растениеводство», «Животноводство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во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влад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т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уч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конструкцион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текстиль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ремонтно-строительных рабо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пищевых продукт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ереработки и хран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реобразования и использования энер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ика и технологическое оборудование (элементы машиноведени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ультура дом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зависимо от содержания основного модуля должно предусматриваться изуче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возных образовательных линий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ультура и эстетика труд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лучение, обработка, хранение и использование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новы черчения и графи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лементы прикладной экономики и предпринимательств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ир профессий, средства и методы формирования жизненных, профессиональных план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Художественно-прикладная обработка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ворческая проектная деятельнос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тория и социальные последствия развития технологии и техн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обучения «Технологии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ит из четырех блоков, которые скомпонованы из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одулей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А модули базируются 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79280" y="189000"/>
            <a:ext cx="871380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иод обучения в начальной школе (1-4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торой блок относят к подростковому возрасту (5-8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ретий – к ранней юности (9 класс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етвертый – к юности (10-11 класс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24000" y="549360"/>
            <a:ext cx="842472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/Зада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сущность концепции технологического образов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понятия «технология», «образование», «обуче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187280" y="69228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60280"/>
            <a:ext cx="83516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2000" spc="-1" strike="noStrike">
                <a:solidFill>
                  <a:srgbClr val="e5e5ff"/>
                </a:solidFill>
                <a:latin typeface="Futura XBlk BT"/>
              </a:rPr>
              <a:t>10 </a:t>
            </a: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роектов.</a:t>
            </a:r>
            <a:br>
              <a:rPr sz="2000"/>
            </a:b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од проектом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 Black"/>
              </a:rPr>
              <a:t>Цель проектов -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своение содержания предмета «Технология»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обеспечит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чащимся: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номическое образова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логическо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информационное обеспече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стетическое образование в сочетании с дизайнерскими навыками и др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0" lang="ru-RU" sz="2000" spc="-1" strike="noStrike">
                <a:solidFill>
                  <a:srgbClr val="e5e5ff"/>
                </a:solidFill>
                <a:latin typeface="Garamond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Вывод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Федеральный компонент государственного образовательного стандарта</a:t>
            </a:r>
            <a:br>
              <a:rPr sz="2000"/>
            </a:b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ФЕДЕРАЛЬНЫЙ БАЗИСНЫЙ УЧЕБНЫЙ ПЛАН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6480" y="907920"/>
            <a:ext cx="8328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1-4 классов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риентирован на 4-летний нормативный срок освоения образовательных программ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чаль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5-9 классо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риентирован на 5-летний нормативный срок освоения образовательных программ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основ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должительность учебного года – от 34 до 37 недель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с учётом экзаменационного периода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9 классе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рофильной подготовк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бучающих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 проведении учебных занятий по «Технологии» (5-9 классы) осуществляется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е классов на две групп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Особенности федерального базисного учебного план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й предмет «Технология» построен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 модульному принципу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с учетом возможностей образовательного учреждения и потребностей регио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ы учебного предмета «Технология»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9 класс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ередаются в компонент образовательного учреждения для организаци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раеведческой направленности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«Краеведение» (8 класс - 1 час в неделю учебного предмета «Технолог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 также «География», «Биология», «История», «Искусство»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400"/>
            </a:b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620640"/>
          <a:ext cx="8435880" cy="6232680"/>
        </p:xfrm>
        <a:graphic>
          <a:graphicData uri="http://schemas.openxmlformats.org/drawingml/2006/table">
            <a:tbl>
              <a:tblPr/>
              <a:tblGrid>
                <a:gridCol w="4478400"/>
                <a:gridCol w="703080"/>
                <a:gridCol w="663840"/>
                <a:gridCol w="649080"/>
                <a:gridCol w="649440"/>
                <a:gridCol w="650880"/>
                <a:gridCol w="641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Количество часов в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и литература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8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765000"/>
          <a:ext cx="8435880" cy="6004080"/>
        </p:xfrm>
        <a:graphic>
          <a:graphicData uri="http://schemas.openxmlformats.org/drawingml/2006/table">
            <a:tbl>
              <a:tblPr/>
              <a:tblGrid>
                <a:gridCol w="4767120"/>
                <a:gridCol w="479520"/>
                <a:gridCol w="638280"/>
                <a:gridCol w="636480"/>
                <a:gridCol w="638280"/>
                <a:gridCol w="639720"/>
                <a:gridCol w="636480"/>
              </a:tblGrid>
              <a:tr h="2743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оличество часов в недел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Среднее (полное) общее образование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рофильное обучени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ильное обучени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– средство дифференциации и индивидуализации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к профильному обучению позволяе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углубленное изучение отдельных учебных предмет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преемственность между общим и профессиональным образование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281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базовом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обязательные предмет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тальные базовые учебные предметы изучаются по выбор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фильные общеобразовательные учебные предметы –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3:23:37Z</dcterms:created>
  <dc:creator>Курзакова О.П.</dc:creator>
  <dc:description/>
  <dc:language>en-US</dc:language>
  <cp:lastModifiedBy>LEGION</cp:lastModifiedBy>
  <dcterms:modified xsi:type="dcterms:W3CDTF">2015-03-31T08:28:53Z</dcterms:modified>
  <cp:revision>18</cp:revision>
  <dc:subject/>
  <dc:title>Слайд 1</dc:title>
</cp:coreProperties>
</file>