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onstantia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6882-4AA2-4930-B607-17D936577D6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ХНОЛОГ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АЯ ПРОГРАМ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ПРЕДМЕТУ «ТЕХНОЛОГИЯ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Е ФГ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940F-2687-4629-B298-3C9F126219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процессе обучения технологии учащиес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знакомя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предметами потребления, потребительной стоимостью продукта тру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материальным изделием или нематериальной услугой, дизайном, проектом, конструкци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механизацией труда и автоматизацией производ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технологической культурой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информационными технологиями в производств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сфере услуг; перспективными технологи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функциональными и стоимостными характеристиками предметов труд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технологий; себестоимостью продукции; экономией сырья, энергии,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производительностью труда; реализацией продук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рекламой, ценой, налогом, доходом и прибыл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едпринимательской деятельностью; бюджетом семь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экологичностью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й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экологическими требованиями к технологиям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устройством, сборкой, управлением и обслуживанием доступных и посильных технико-технологических средств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понятием о научной организации 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да, средствах и методах обеспечения безопасности труд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культурой труда; технологической дисципли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этикой общения на производств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E7AE-9F10-4FAA-84E0-A10EDB5C4C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владеют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выками созидатель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еобразующей, творческой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выками чтения и составл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ехнической и технологическ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кумент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змерения параметров технологического процесса и продукта труда, выбора, моделирования, конструирования, проектирования объекта труда и технологии с использованием компьюте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ными методами и средствами преобразования и использования материалов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нергии и информации, объектов социальной и природной сре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мением распознавать и оценивать свойств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рукционных и природных поделоч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атериал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мением ориентироватьс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значении, применении руч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струмент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испособл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выка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и, организации и планировани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рудовой деятельности на рабочем мест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соблюдения культуры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ыками организации рабочего мес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мением соотносить с личными потребностями и особенностями требования, предъявляемые различными массовыми профессия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одготовке и личным качествам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13EF-F351-45BC-8AF5-384C8A306B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ие разделы программ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Технологии исследовательской и опытнической деятельност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Современное производство и профессиональное образова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E232-E082-4EF5-A979-FFB806D134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сто предмета «Технология» в базисном учебном (образовательном) пл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 «Технология» является необходимым компонентом общего образования школьников. Его содержание предоставляет молодым людям возможность бесконфликтно войти в мир искусственной, созданной людьми среды техники и технологий, которая называется техносферой и является главной составляющей окружающей человека действи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8706-A43D-4A47-BB30-FBC6967252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Технология» в базисном учебном пл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70 учебных часо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обязательного изучения курса «Технолог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том числе: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5 и 6 классах — по 68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ч, из расчета 2 ч в неделю,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7 классе — 34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, из расчета 1 ч в неде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полнительное врем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обучения технологии может быть выделен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 счет резерва времен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базисном учебном (образовательном) пла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няти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8 и 9 классах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гут быть организованы вне обязательной учебной сетки часов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о внеурочное время как дополнительное образование во второй половине д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55BC-6AA6-4C4E-B34C-3410176931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нностные ориентиры содержания предмета «Технолог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владе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рудовыми и технологическими знаниями и умениям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преобразованию и использованию материалов, энергии, информации, необходимыми для создания продуктов труда в соответствии с их предполагаемыми функциональными и эстетическими свойств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мениями ориентироваться в мире професс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ценивать свои профессиональные интересы и склонности к изучаемым видам трудовой деятельности, составлять жизненные и профессиональные пла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выками использова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ных ручных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струментов и прибор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ланирования бюджета домашнего хозяйства; культуры труда, уважительного отношения к труду и результатам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CC24-9AD2-4784-9FEB-5F15A11159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учат  возможн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знакомитьс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основными технологическими понятиям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характеристик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назначением 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ехнологическими свойствами материал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назначением и устройств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яемых ручных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струментов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способлений, машин и оборудо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видами,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емами и последовательностью выполнения технологических операций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лиянием различных технологий обработки материалов и получения продукции на окружающую среду и здоровье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профессиями и специальностя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вязанными с обработкой материалов, созданием изделий из них, получением продук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 значением здорового питания для сохранения своего здоровь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2581-FCE7-4A41-A2EA-49F72AC980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учит возможность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выполнять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трудовые операции и работы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циональн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рганизовывать рабочее место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ходить необходимую информаци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различных источник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меня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структорскую и технологическую д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кументацию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ставлять последовательность выполнен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ческих операций для изготовления изделия или выполнения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бирать сырье, материал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пищевые продукты, инструменты и оборудование для выполнения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струировать, моделировать, изготавлива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дел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полня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заданным критериям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ехнологические операци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использованием ручных инструментов, приспособлений, машин, оборудования, электроприбо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блюдать безопасные приемы труд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правила пользования ручными инструментами, машинами и электрооборудовани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уществля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ступными мерительными средствами, измерительными приборами и визуальн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троль качеств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готавливаемого изделия (детал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ходить и устраня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пущенные д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фект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водить разработку творческого проект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готовления изделия или получения продукта с использованием освоенных технологий и доступных материал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ланировать работ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учетом имеющихся ресурсов и  услов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спределять работ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коллективн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9F9B-060C-4A71-AB7A-70EED3518A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спользова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приобретенны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нания и умения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нимания ценности материальной культуры для жизн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развития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ния эстетической сред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вития творческих способносте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достижения высоких результатов преобразующей творческой деятельности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луч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ехнико-технологически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ведений из разнообразных источник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рганизации индивидуальной и коллективной трудово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зготовления издел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коративно-прикладного искусства для оформления интерье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готовления ил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монта издел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различных материалов с использованием ручных инструментов, приспособлений, машин, оборуд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троля качества выполняемых рабо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рименением мерительных, контрольных и разметочных инструм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полнения безопасных приемов труд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авил электробезопасности, санитарии и гигие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ценки затрат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ых для создания объекта или услуг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строения планов профессионального образования и трудоустро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CBCF-41DF-4964-8C01-5CB980733F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изучения предмета «Технолог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й из важнейших задач второй ступени пропедевтического технологического образования является подготовка обучающихся к осознанному и ответственному выбору жизненного и профессионального пу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учающиеся должны научиться самостоятельно формулировать цели и определять пути их достижения, использовать приобретенный в школе опыт деятельности в реальной жизн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за рамками учебн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B60F-80E6-4928-8A77-2F826A7D49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ЕДЕРАЛЬНЫЙ ГОСУДАРСТВЕННЫЙ ОБРАЗОВАТЕЛЬНЫЙ СТАНДАРТ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СНОВНОГО ОБЩЕГО ОБРАЗ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твержд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азом Министерства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науки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 «17»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екабр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2010 г. №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89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038D-381B-45C3-9345-06C60D4762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технологии в основной школе обеспечивает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стижение результа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ичностных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етапредметны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дметны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D874-028F-417C-9B75-D2B7C0293C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ностные результ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явление познавательных интересов и активн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анной области предметной технологическ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ражение желания учиться и трудиться в промышленном производств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удовлетворения текущих и перспективных потребнос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витие трудолюбия и ответственности за качеств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влад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становками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ормами и правилами научной организац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ственного и физического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ру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амооце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мственных и физически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пособностей для труда 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х сферах с позиций будущей социализации и стратифик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овлени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амоопределения 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бранной сфер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удущ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фессионально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лан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разовательной и профессиональн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арье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ознание необходим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щественно полезного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ру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ак условия безопасной и эффективной социал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ережное отнош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природным и хозяйственным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сур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готовность к рациональному ведению домашнего хозяй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явление технико-технологического и экономического мышл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рганизации свое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амооценка готовности к предпринимательско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сфере технического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751D-5AE2-408D-A5DD-22984D6F23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апредметными результатами 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алгоритмизированное планирован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а познавательно-трудовой д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пределение адекватных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ющимся организационным и материально-техническим условиям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пособов реш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ой или трудов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дачи на основе заданных алгоритм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мбинирование известных алгоритм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ого и технологического творчеств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ситуациях, не предполагающих стандартного примен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го из н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явление инновационного подхода к реш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нию учебных и практически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дач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моделирования изделия или технологического проце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иск новых решений возникше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ой или организационной п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обле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амостоятельная организация и выполнен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ворческих рабо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озданию технических издел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иртуальное и натурное моделирование технических объект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технологических процес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ение примеров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дбор аргументов, формулирование вывод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боснованию технико-технологического и организационного решения;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тражение в устной или письменной форме результатов свое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явление потребностей, проектирование и создание объект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меющих потребительную стоим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бор для реш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знавательных и коммуникатив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дач различных источников 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ключая энциклопедии, словари, интернет-ресурсы и другие базы дан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спользование дополнительной информац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роектировании и создании объектов, имеющих личностную или общественно значимую потребительную стоим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ование и координаци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вместной познавательно-трудовой деятельности с другими ее участник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ивно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ценивание вклада своей познавательно-трудовой деятельн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шение общих задач коллекти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ценивание своей познавательно-трудовой деятельности с точки зрения нравственных, правовых нор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эстетических ценностей по принятым в обществе и коллективе требованиям и принцип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иагностика результатов познавательно-трудовой деятельн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принятым критериям и показател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основание путей и средств устранения ошиб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разрешения противоречий в выполняемых технологических процесс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блюдение норм и правил культуры труда 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ветствии с технологической культурой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блюдение норм и правил безопасности познавательно-трудовой деятельн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озидательного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30DD-0830-4512-91FE-B4CA56AFD1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ными результа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познавательной сфер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циональное использован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ой 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полнитель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ехнической и технологическ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я проектирования и создания объектов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ценка технологических свойств сырь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материалов и областей их приме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риентация в имеющихся и возможных средствах и технологиях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я объектов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ладение алгоритмами и методами реш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х и технико-технологических зада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лассификация видов и назначения методов получения и преобразования материал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энергии, информации, объектов живой природы и социальной среды, а также соответствующих технологий промышленного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спознавание видов, назначения материалов, инструмент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оборудования, применяемого в технологических процесс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ладение кодами и методами чт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пособами графического представления технической, технологической и инструктивн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менение общенаучных зна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предметам естественно-математического цикла в процессе подготовки и осуществления технологических процессов для обоснования и аргументации рациональности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ладение способами научной организации тру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формами деятельности, соответствующими культуре труда и технологической культуре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менение элементов прикладной экономик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босновании технологий и проек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B088-E3A8-48B8-A781-E0D372B9F3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ными результа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трудовой сфере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ланирование технологического процесса 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цесса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дбор материало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учетом характера объекта труда и технолог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ведение необходимых опытов и исследовани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подборе сырья, материалов и проектировании объекта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дбор инструментов и оборудова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 учетом требований технологии и материально-энергетических рес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ектирование последовательности операци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составление операционной карты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полнение технологических операций с соблюдением установленных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рм, стандартов и огранич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блюдение норм и правил безопасности труд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пожарной безопасности, правил санитарии и гигие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блюдение трудовой и технологической дисципли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основание критерие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показателей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ачеств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межуточных и конечных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зультатов тру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бор и использование кодов, средств и видов представления технической и технологической информации и знаковых систем в соответствии с коммуникативной задачей, сферой и ситуацией общ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дбор и применение инструме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ов, приборов и оборудования в технологических процессах с учетом областей их приме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троль промежуточных и конечных результатов тру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 по установленным критериям и показателям с использованием контрольных и измерительных инструм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явление допущенных ошибок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 процессе труда и обоснование способов их испра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кументирование результатов труд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проектн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счет себестоимости продукта труд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мерная экономическая оценк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зможной прибыли с учетом сложившейся ситуации на рынке товаров и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3162-3F1E-4009-952A-1659A4AB69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ными результа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мотивационной сфер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ценивание своей способности и готовности к труду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кретной предметн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ценивание своей способн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готовности к предпринимательск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бор профиля технологической подготовки 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ших классах полной средней школы или профессии в учреждениях начального профессионального или среднего специального обу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раженная готовность к труд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сфере материального производства или сфере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гласование своих потребностей и требований с потребностями и требованиями других участник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вательно-трудов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ознание ответственности за качество резуль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личие экологической культур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босновании объекта труда и выполнении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тремление к экономии и бережлив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сходовании времени, материалов, денежных средств и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24A5-6725-40C6-863E-AB40CB6993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ными результа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эстетической сфер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изайнерское проектирование из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ия или рациональная эстетическая организация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оделирование художественного оформл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а труда и оптимальное планирование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работка варианта рекла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полненного объекта или результатов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стетическое и рациональное оснащение рабочего мест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учетом требований эргономики и научной организаци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циональный выбор рабочего костюм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опрятное содержание рабочей одеж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16BA-DF1F-40E5-80D2-45A859101A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ными результа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коммуникативной сфер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ние рабочей группы для выполнения проект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учетом общности интересов и возможностей будущих членов трудового коллекти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бор знаковых систем и средств для кодирования и оформления информац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коммуник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ормл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ммуникационной и технологическ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кумент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учетом требований действующих нормативов и стандар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убличная презентация и защита проект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елия, продукта труда или услуг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работка вариантов рекламных образов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оганов и лейбл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требительская оце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рительного ряда действующей рекла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8396-F7D0-481C-86FC-AE42D71F48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ными результа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физиолого-психологической сфер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витие моторики и координации движений р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ри работе с ручными инструментами и выполнении операций с помощью машин и механизм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стижение необходимой точности движен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полнении различных технологических опер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блюдение требуемой величины усил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икладываемого к инструменту, с учетом технологических требова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четание образного и логического мышл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проект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DF5C-B094-4FAD-969E-C197182CA4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33"/>
                </a:solidFill>
                <a:latin typeface="Arial Black"/>
              </a:rPr>
              <a:t>standart.edu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85D5-B6AC-4349-93CA-A6DA8F7C45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ая характеристика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ундаментальное  ядро содержания общего образовани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ебования к результатам освоения основной общеобразовательной программы основного обще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деральный  государственный образовательный стандарт основного общего образования второго поко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FFF4-D9A5-4DB1-9A56-062A74C5B8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воляет получить предст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 целя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держан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й стратегии обучения, воспитания и развития учащихс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ет тематические и сюжетные линии курс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ет примерное распределение учебных часов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риант последовательности изучения те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огики учебного процесс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зрастных особенностей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3F1F-B4DC-4C2E-ADA6-7038C044C2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ункции программы «Технология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онно-семантическое нормирование учебного проце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рганизационно-плановое построение содерж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методическое руковод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0A56-B645-480B-9250-9CBDC4A7B7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делы програм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яснительная запис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ое содержание, состоящее из разделов и т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мерное тематическое планир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комендации по оснащению учебн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0A3D-A0AF-48AF-A13A-2CB78088D7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и изучения предмета «Технология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ая цель  - формирование представлений о составляющих техносферы, о современном производстве и о распространенных в нем технолог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CAE3-62FD-45DF-8273-8D4910D886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ая характеристика учебного предмета «Технолог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правле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Индустриальные технологии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Технологии ведения дома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Сельскохозяйственные технологии» (агротехнологии, технологии животноводств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AADB-0918-417C-9495-182F249396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возные образовательные ли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ческая культура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пространенные технологии современного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льтура, эргономика и эстетика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учение, обработка, хранение и использование технической и технологическ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ы черчения, графики, дизай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лементы домашней и прикладной экономики, предприниматель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комство с миром профессий, выбор учащимися жизненных, профессиональных план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лияние технологических процессов на окружающую среду и здоровье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ы технической, творческой, проектн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тория, перспективы и социальные последствия развития технологии и тех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27C1-C910-4C46-9651-C72C752825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C031-D64B-4DB8-AA7E-5BEFADAE7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DE47-BFD3-44DA-80C2-8067C198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F517-2D03-4529-8D8D-9588F6204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F048-1125-42D1-87E8-7DC00CCD4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1C36-AA5A-48B1-993C-386C7162F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9C1DD-2614-4A32-9834-EA6FB181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9687-6AEA-4605-B7D4-C474038C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187F-04F7-415B-8B90-7E0B8FB1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AC1E-79A8-4307-A88F-4894FCCD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DD55-857D-42BC-89C9-B415939D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5C7D-3A7F-4C13-BEE7-F9FB5CFE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21AC-2CCC-4579-989C-0434FCDB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6471-5D85-4894-A047-6A9EC055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1B32-8409-4E5E-97F2-56A09133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BD2B7-65D5-4D6B-9427-B67F37BE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AD36-0FB7-4A41-A8F0-6699D2C9C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64C3-D93C-4A3D-83C8-BBF9C9F61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BC4D3-30CB-4E0E-88E6-EE653502A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1BCC6-B600-4A64-94B1-1CDB280F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C20F9-3180-4C2C-A963-1C77D35E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E0A17-244C-425E-8BAC-40EC6DC2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9FAD4-60C5-4282-A62F-6A05538A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DC40-422F-4B2F-9F62-73FEB32D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6BCB2-5E6C-4DA9-8FA3-669F29B8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E0582-0874-4F7C-8BD9-AA701EF2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0BF3E-EA0B-4B34-A150-F5C967F2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788D4-B16C-4B65-90BE-292D9E09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73F47-5EB4-4BDA-A470-B005F85A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532E3-440A-4166-831F-4530E3EAB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9C7BD-BD71-44B2-8405-F64550C32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3D7CC-0C23-4865-BF35-3C9C7F629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D4F1D-B266-4457-B2C1-CC688051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F17CA-7A6D-4C60-B967-E292C7B0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92C3-340B-4416-B2BE-1ACFAFC6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EA220-9B34-4B38-9977-24FBBE62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97F62-4615-4820-BE80-019B591D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624A2-A1BB-4362-A0CB-725B5B03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2909A-D9E2-4ABD-BB31-CF6F67A9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AC290-6EA5-4004-A189-01E98DB4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7E2B6-94F4-4C06-9B80-5E901B4D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0A241-74CD-4A33-A1AB-4615EA1D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76F46-BF6C-4DE4-83D0-E0CF7E7A3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0BA3A-133B-496B-A9D7-372D680FB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E367-703F-492C-8DC8-50F8BD3A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62AA-3FA1-4861-96BA-A16F44A7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C879-AC60-41BB-89D5-DDAF8A8C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3B78-1B84-4360-9288-32CA7895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11C1-5F80-40AC-B8B0-001EF240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onstantia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0E51-01DC-4B41-B8AD-65213AB6A12A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5E28-8A0A-4459-B7DD-6D72204B391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onstantia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35AA-5C18-40E5-BCB1-669B5E3503CC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DA21-E293-432B-B124-A1C37C3ABDB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onstantia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0ADD-E0C3-41DA-A954-C66FC2CE6AC1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644A-109C-4EA3-8C12-C84AC1404DC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onstantia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2A7B-0432-4D6D-BE7A-85CDD891CA7F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2D6D-E5BD-4C8E-80BD-F45B096BE62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23800" y="500040"/>
            <a:ext cx="8613720" cy="25178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42960" y="3571920"/>
            <a:ext cx="85010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РИМЕРНАЯ ПРОГРАММА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О ПРЕДМЕТУ «ТЕХНОЛОГИЯ»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А ОСНОВЕ ФГОС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Содержимое 3" descr="программа  тех.GIF"/>
          <p:cNvPicPr/>
          <p:nvPr/>
        </p:nvPicPr>
        <p:blipFill>
          <a:blip r:embed="rId2"/>
          <a:stretch/>
        </p:blipFill>
        <p:spPr>
          <a:xfrm>
            <a:off x="0" y="2357280"/>
            <a:ext cx="2714760" cy="409752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704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В процессе обучения технологии учащиеся </a:t>
            </a:r>
            <a:r>
              <a:rPr b="1" lang="ru-RU" sz="4500" spc="-1" strike="noStrike" u="sng">
                <a:solidFill>
                  <a:srgbClr val="04617b"/>
                </a:solidFill>
                <a:uFillTx/>
                <a:latin typeface="Constantia"/>
              </a:rPr>
              <a:t>познакомятся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предметами потребления, потребительной стоимостью продукта труда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, материальным изделием или нематериальной услугой, дизайном, проектом, конструкцией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механизацией труда и автоматизацией производства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; технологической культурой производств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информационными технологиями в производстве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и сфере услуг; перспективными технологиями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функциональными и стоимостными характеристиками предметов труда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и технологий; себестоимостью продукции; экономией сырья, энергии, труд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производительностью труда; реализацией продукции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рекламой, ценой, налогом, доходом и прибылью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;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редпринимательской деятельностью; бюджетом семьи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экологичностью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технологий производств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 экологическими требованиями к технологиям производств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 устройством, сборкой, управлением и обслуживанием доступных и посильных технико-технологических средств производств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понятием о научной организации т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руда, средствах и методах обеспечения безопасности труда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культурой труда; технологической дисциплиной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; этикой общения на производстве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4617b"/>
                </a:solidFill>
                <a:uFillTx/>
                <a:latin typeface="Constantia"/>
              </a:rPr>
              <a:t>овладеют</a:t>
            </a:r>
            <a:r>
              <a:rPr b="1" lang="ru-RU" sz="5000" spc="-1" strike="noStrike" u="sng">
                <a:solidFill>
                  <a:srgbClr val="04617b"/>
                </a:solidFill>
                <a:uFillTx/>
                <a:latin typeface="Constantia"/>
              </a:rPr>
              <a:t>: 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навыками созидательной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преобразующей, творческой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навыками чтения и составления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технической и технологической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документаци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измерения параметров технологического процесса и продукта труда, выбора, моделирования, конструирования, проектирования объекта труда и технологии с использованием компьютер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основными методами и средствами преобразования и использования материалов,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энергии и информации, объектов социальной и природной среды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умением распознавать и оценивать свойства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онструкционных и природных поделочных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материалов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умением ориентироваться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назначении, применении ручных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инструментов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приспособлений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навыками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дготовки, организации и планирования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трудовой деятельности на рабочем месте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; соблюдения культуры труд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авыками организации рабочего мест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умением соотносить с личными потребностями и особенностями требования, предъявляемые различными массовыми профессиями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 подготовке и личным качествам человек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Общие разделы программы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7856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«Технологии исследовательской и опытнической деятельности»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«Современное производство и профессиональное образование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Место предмета «Технология» в базисном учебном (образовательном) плане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0" y="2928600"/>
            <a:ext cx="91440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едмет «Технология» является необходимым компонентом общего образования школьников. Его содержание предоставляет молодым людям возможность бесконфликтно войти в мир искусственной, созданной людьми среды техники и технологий, которая называется техносферой и является главной составляющей окружающей человека действительнос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914400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onstantia"/>
              </a:rPr>
              <a:t>«Технология» в базисном учебном плане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257184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170 учебных часов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для обязательного изучения курса «Технология»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 том числе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в 5 и 6 классах — по 68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ч, из расчета 2 ч в неделю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в 7 классе — 34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ч, из расчета 1 ч в неделю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Дополнительное время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для обучения технологии может быть выделено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за счет резерва времени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 базисном учебном (образовательном) план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Занятия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в 8 и 9 классах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огут быть организованы вне обязательной учебной сетки часов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во внеурочное время как дополнительное образование во второй половине дн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Ценностные ориентиры содержания предмета «Технология»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9346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учащиеся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овладеют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трудовыми и технологическими знаниями и умениями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 преобразованию и использованию материалов, энергии, информации, необходимыми для создания продуктов труда в соответствии с их предполагаемыми функциональными и эстетическими свойствами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умениями ориентироваться в мире профессий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оценивать свои профессиональные интересы и склонности к изучаемым видам трудовой деятельности, составлять жизненные и профессиональные планы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навыками использования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распространенных ручных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инструментов и приборов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планирования бюджета домашнего хозяйства; культуры труда, уважительного отношения к труду и результатам труд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олучат  возможность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 </a:t>
            </a:r>
            <a:r>
              <a:rPr b="1" lang="ru-RU" sz="4500" spc="-1" strike="noStrike" u="sng">
                <a:solidFill>
                  <a:srgbClr val="04617b"/>
                </a:solidFill>
                <a:uFillTx/>
                <a:latin typeface="Constantia"/>
              </a:rPr>
              <a:t>познакомиться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500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с основными технологическими понятиями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и характеристиками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 назначением и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технологическими свойствами материалов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с назначением и устройством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именяемых ручных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инструментов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приспособлений, машин и оборудования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 видами,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приемами и последовательностью выполнения технологических операций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,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влиянием различных технологий обработки материалов и получения продукции на окружающую среду и здоровье человека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с профессиями и специальностями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связанными с обработкой материалов, созданием изделий из них, получением продукции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со значением здорового питания для сохранения своего здоровья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Получит возможность </a:t>
            </a:r>
            <a:r>
              <a:rPr b="1" lang="ru-RU" sz="4000" spc="-1" strike="noStrike" u="sng">
                <a:solidFill>
                  <a:srgbClr val="04617b"/>
                </a:solidFill>
                <a:uFillTx/>
                <a:latin typeface="Constantia"/>
              </a:rPr>
              <a:t>выполнять</a:t>
            </a:r>
            <a:r>
              <a:rPr b="0" lang="ru-RU" sz="4000" spc="-1" strike="noStrike" u="sng">
                <a:solidFill>
                  <a:srgbClr val="04617b"/>
                </a:solidFill>
                <a:uFillTx/>
                <a:latin typeface="Constantia"/>
              </a:rPr>
              <a:t> </a:t>
            </a:r>
            <a:r>
              <a:rPr b="1" lang="ru-RU" sz="4000" spc="-1" strike="noStrike" u="sng">
                <a:solidFill>
                  <a:srgbClr val="04617b"/>
                </a:solidFill>
                <a:uFillTx/>
                <a:latin typeface="Constantia"/>
              </a:rPr>
              <a:t>трудовые операции и работы</a:t>
            </a: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6840" y="1934640"/>
            <a:ext cx="84726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рационально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организовывать рабочее место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находить необходимую информацию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в различных источниках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рименять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конструкторскую и технологическую д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окументацию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оставлять последовательность выполнения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технологических операций для изготовления изделия или выполнения работ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выбирать сырье, материалы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, пищевые продукты, инструменты и оборудование для выполнения работ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конструировать, моделировать, изготавливать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изделия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выполнять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о заданным критериям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технологические операции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с использованием ручных инструментов, приспособлений, машин, оборудования, электроприборов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облюдать безопасные приемы труда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и правила пользования ручными инструментами, машинами и электрооборудованием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о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уществлять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доступными мерительными средствами, измерительными приборами и визуально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контроль качества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изготавливаемого изделия (детали)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находить и устранять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допущенные д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ефекты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роводить разработку творческого проекта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изготовления изделия или получения продукта с использованием освоенных технологий и доступных материалов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ланировать работы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с учетом имеющихся ресурсов и  условий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распределять работу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ри коллективной деятельности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704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 u="sng">
                <a:solidFill>
                  <a:srgbClr val="04617b"/>
                </a:solidFill>
                <a:uFillTx/>
                <a:latin typeface="Constantia"/>
              </a:rPr>
              <a:t>Использовать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  приобретенные </a:t>
            </a:r>
            <a:r>
              <a:rPr b="1" lang="ru-RU" sz="4500" spc="-1" strike="noStrike" u="sng">
                <a:solidFill>
                  <a:srgbClr val="04617b"/>
                </a:solidFill>
                <a:uFillTx/>
                <a:latin typeface="Constantia"/>
              </a:rPr>
              <a:t>знания и умения</a:t>
            </a:r>
            <a:r>
              <a:rPr b="0" lang="ru-RU" sz="4500" spc="-1" strike="noStrike" u="sng">
                <a:solidFill>
                  <a:srgbClr val="04617b"/>
                </a:solidFill>
                <a:uFillTx/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дл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85688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понимания ценности материальной культуры для жизни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развития человек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формирования эстетической среды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ытия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развития творческих способностей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достижения высоких результатов преобразующей творческой деятельности человек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получения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технико-технологических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сведений из разнообразных источников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нформаци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организации индивидуальной и коллективной трудовой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изготовления изделий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декоративно-прикладного искусства для оформления интерьер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зготовления или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ремонта изделий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з различных материалов с использованием ручных инструментов, приспособлений, машин, оборудования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контроля качества выполняемых работ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 применением мерительных, контрольных и разметочных инструментов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выполнения безопасных приемов труда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правил электробезопасности, санитарии и гигиены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оценки затрат,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еобходимых для создания объекта или услуг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построения планов профессионального образования и трудоустройств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Результаты изучения предмета «Технология»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0" y="1935000"/>
            <a:ext cx="91440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дной из важнейших задач второй ступени пропедевтического технологического образования является подготовка обучающихся к осознанному и ответственному выбору жизненного и профессионального пут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результате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обучающиеся должны научиться самостоятельно формулировать цели и определять пути их достижения, использовать приобретенный в школе опыт деятельности в реальной жизн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за рамками учебного процесс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686800" cy="3224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ФЕДЕРАЛЬНЫЙ ГОСУДАРСТВЕННЫЙ ОБРАЗОВАТЕЛЬНЫЙ СТАНДАРТ</a:t>
            </a:r>
            <a:br>
              <a:rPr sz="4000"/>
            </a:b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ОСНОВНОГО ОБЩЕГО ОБРАЗОВАНИЯ</a:t>
            </a:r>
            <a:endParaRPr b="0" lang="en-US" sz="4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4000320"/>
            <a:ext cx="8229600" cy="23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Утвержде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иказом Министерства образова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и науки Российской Федерац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т «17» 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декабря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2010 г. №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1897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272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Изучение технологии в основной школе обеспечивает </a:t>
            </a:r>
            <a:r>
              <a:rPr b="1" lang="ru-RU" sz="4500" spc="-1" strike="noStrike" u="sng">
                <a:solidFill>
                  <a:srgbClr val="04617b"/>
                </a:solidFill>
                <a:uFillTx/>
                <a:latin typeface="Constantia"/>
              </a:rPr>
              <a:t>достижение результатов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3714480"/>
            <a:ext cx="8229600" cy="26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Личностных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Метапредметных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Предметных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onstantia"/>
              </a:rPr>
              <a:t>Личностные результаты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42560" y="1213920"/>
            <a:ext cx="90010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роявление познавательных интересов и активности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данной области предметной технологической деятельност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выражение желания учиться и трудиться в промышленном производстве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ля удовлетворения текущих и перспективных потребностей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развитие трудолюбия и ответственности за качество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воей деятельност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овладени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установками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нормами и правилами научной организации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мственного и физического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труд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самооценк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умственных и физических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способностей для труда в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азличных сферах с позиций будущей социализации и стратификаци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тановление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самоопределения в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выбранной сфере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будущей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рофессиональной деятельности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ланировани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образовательной и профессиональной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карьеры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осознание необходимости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общественно полезного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труд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как условия безопасной и эффективной социализаци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бережное отношени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к природным и хозяйственным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ресурса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готовность к рациональному ведению домашнего хозяйств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роявление технико-технологического и экономического мышления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и организации своей деятельност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самооценка готовности к предпринимательской деятельности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в сфере технического труд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Метапредметными результатами 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71468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алгоритмизированное планирование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роцесса познавательно-трудовой д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определение адекватных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имеющимся организационным и материально-техническим условиям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способов решения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учебной или трудов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задачи на основе заданных алгоритмов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комбинирование известных алгоритмов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технического и технологического творчеств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в ситуациях, не предполагающих стандартного применения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одного из них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проявление инновационного подхода к реш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ению учебных и практически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задач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в процессе моделирования изделия или технологического процесса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поиск новых решений возникшей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технической или организационной п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роблемы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самостоятельная организация и выполнение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различ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творческих работ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о созданию технических изделий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виртуальное и натурное моделирование технических объектов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и технологических процессов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риведение примеров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подбор аргументов, формулирование выводов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о обоснованию технико-технологического и организационного решения;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отражение в устной или письменной форме результатов свое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выявление потребностей, проектирование и создание объектов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, имеющих потребительную стоимость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выбор для решения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познавательных и коммуникатив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задач различных источников 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, включая энциклопедии, словари, интернет-ресурсы и другие базы данных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использование дополнительной информации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ри проектировании и создании объектов, имеющих личностную или общественно значимую потребительную стоимость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согласование и координаци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совместной познавательно-трудовой деятельности с другими ее участниками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объективно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оценивание вклада своей познавательно-трудовой деятельности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в решение общих задач коллектива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оценивание своей познавательно-трудовой деятельности с точки зрения нравственных, правовых норм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, эстетических ценностей по принятым в обществе и коллективе требованиям и принципам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диагностика результатов познавательно-трудовой деятельности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о принятым критериям и показателям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обоснование путей и средств устранения ошибок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или разрешения противоречий в выполняемых технологических процессах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соблюдение норм и правил культуры труда в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соответствии с технологической культурой производства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соблюдение норм и правил безопасности познавательно-трудовой деятельности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и созидательного труда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редметными результатами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В познавательной сфере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рациональное использование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учебной и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дополнительной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технической и технологической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информации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для проектирования и создания объектов труд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оценка технологических свойств сырья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, материалов и областей их применения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ориентация в имеющихся и возможных средствах и технологиях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оздания объектов труд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владение алгоритмами и методами решения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рганизационных и технико-технологических задач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классификация видов и назначения методов получения и преобразования материалов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, энергии, информации, объектов живой природы и социальной среды, а также соответствующих технологий промышленного производств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распознавание видов, назначения материалов, инструментов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и оборудования, применяемого в технологических процессах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владение кодами и методами чтения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и способами графического представления технической, технологической и инструктивной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информации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рименение общенаучных знаний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по предметам естественно-математического цикла в процессе подготовки и осуществления технологических процессов для обоснования и аргументации рациональности деятельности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владение способами научной организации труда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, формами деятельности, соответствующими культуре труда и технологической культуре производств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рименение элементов прикладной экономики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ри обосновании технологий и проектов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редметными результатами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13572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В трудовой сфере: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ланирование технологического процесса и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процесса труда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одбор материалов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с учетом характера объекта труда и технологии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роведение необходимых опытов и исследований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при подборе сырья, материалов и проектировании объекта труда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одбор инструментов и оборудования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 с учетом требований технологии и материально-энергетических ресурсов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роектирование последовательности операций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и составление операционной карты работ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выполнение технологических операций с соблюдением установленных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норм, стандартов и ограничений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соблюдение норм и правил безопасности труда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, пожарной безопасности, правил санитарии и гигиены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соблюдение трудовой и технологической дисциплины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обоснование критериев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и показателей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качества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промежуточных и конечных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результатов тру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да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выбор и использование кодов, средств и видов представления технической и технологической информации и знаковых систем в соответствии с коммуникативной задачей, сферой и ситуацией общения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одбор и применение инструмен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тов, приборов и оборудования в технологических процессах с учетом областей их применения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контроль промежуточных и конечных результатов тру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да по установленным критериям и показателям с использованием контрольных и измерительных инструментов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выявление допущенных ошибок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 в процессе труда и обоснование способов их исправления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документирование результатов труда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 и проектной деятельности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расчет себестоимости продукта труда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римерная экономическая оценка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возможной прибыли с учетом сложившейся ситуации на рынке товаров и услуг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редметными результатами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0" y="1934640"/>
            <a:ext cx="91440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В мотивационной сфере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оценивание своей способности и готовности к труду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конкретной предметной деятельност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оценивание своей способности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готовности к предпринимательской деятельност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выбор профиля технологической подготовки в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тарших классах полной средней школы или профессии в учреждениях начального профессионального или среднего специального обучения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выраженная готовность к труду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в сфере материального производства или сфере услуг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согласование своих потребностей и требований с потребностями и требованиями других участников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знавательно-трудовой деятельност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осознание ответственности за качество результ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ов труд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наличие экологической культуры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и обосновании объекта труда и выполнении работ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стремление к экономии и бережливости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расходовании времени, материалов, денежных средств и труд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редметными результатами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В эстетической сфере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дизайнерское проектирование из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делия или рациональная эстетическая организация работ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моделирование художественного оформления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бъекта труда и оптимальное планирование работ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разработка варианта рекламы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выполненного объекта или результатов труда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эстетическое и рациональное оснащение рабочего места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 учетом требований эргономики и научной организации труда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рациональный выбор рабочего костюма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и опрятное содержание рабочей одежды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редметными результатами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В коммуникативной сфере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формирование рабочей группы для выполнения проекта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 учетом общности интересов и возможностей будущих членов трудового коллектив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выбор знаковых систем и средств для кодирования и оформления информации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процессе коммуникаци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формлени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коммуникационной и технологической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документации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с учетом требований действующих нормативов и стандарто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убличная презентация и защита проекта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зделия, продукта труда или услуг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разработка вариантов рекламных образов,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слоганов и лейбло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отребительская оценк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зрительного ряда действующей реклам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редметными результатами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В физиолого-психологической сфере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развитие моторики и координации движений ру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 при работе с ручными инструментами и выполнении операций с помощью машин и механизмов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достижение необходимой точности движений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и выполнении различных технологических операци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соблюдение требуемой величины усилия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прикладываемого к инструменту, с учетом технологических требовани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сочетание образного и логического мышления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процессе проектной деятельност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Untitled-3"/>
          <p:cNvPicPr/>
          <p:nvPr/>
        </p:nvPicPr>
        <p:blipFill>
          <a:blip r:embed="rId1"/>
          <a:srcRect l="14455" t="0" r="14428" b="0"/>
          <a:stretch/>
        </p:blipFill>
        <p:spPr>
          <a:xfrm>
            <a:off x="0" y="857160"/>
            <a:ext cx="9144000" cy="600084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0033"/>
                </a:solidFill>
                <a:latin typeface="Arial Black"/>
              </a:rPr>
              <a:t>standart.edu.ru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728676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Общая характеристика программы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785600"/>
            <a:ext cx="59292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Фундаментальное  ядро содержания общего образования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Требования к результатам освоения основной общеобразовательной программы основного общего образова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Федеральный  государственный образовательный стандарт основного общего образования второго поколе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4" descr="ФГОС НО"/>
          <p:cNvPicPr/>
          <p:nvPr/>
        </p:nvPicPr>
        <p:blipFill>
          <a:blip r:embed="rId1"/>
          <a:stretch/>
        </p:blipFill>
        <p:spPr>
          <a:xfrm>
            <a:off x="5786280" y="1143000"/>
            <a:ext cx="2136960" cy="33098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b-41-0139-01"/>
          <p:cNvPicPr/>
          <p:nvPr/>
        </p:nvPicPr>
        <p:blipFill>
          <a:blip r:embed="rId2"/>
          <a:stretch/>
        </p:blipFill>
        <p:spPr>
          <a:xfrm>
            <a:off x="6929280" y="2071800"/>
            <a:ext cx="1928880" cy="284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3" name="Содержимое 3" descr="программа  тех.GIF"/>
          <p:cNvPicPr/>
          <p:nvPr/>
        </p:nvPicPr>
        <p:blipFill>
          <a:blip r:embed="rId3"/>
          <a:stretch/>
        </p:blipFill>
        <p:spPr>
          <a:xfrm>
            <a:off x="6286680" y="3714840"/>
            <a:ext cx="2071440" cy="31273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озволяет получить представление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 целях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одержани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бщей стратегии обучения, воспитания и развития учащихся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дает тематические и сюжетные линии курса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ает примерное распределение учебных часов,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ариант последовательности изучения тем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логики учебного процесса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озрастных особенностей учащих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Функции программы «Технология»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информационно-семантическое нормирование учебного процесс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рганизационно-плановое построение содержан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бщеметодическое руководство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Разделы программы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яснительная записк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сновное содержание, состоящее из разделов и те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имерное тематическое планирован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екомендации по оснащению учебного процесс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Цели изучения предмета «Технология» 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357280"/>
            <a:ext cx="822960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сновная цель  - формирование представлений о составляющих техносферы, о современном производстве и о распространенных в нем технология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704520"/>
            <a:ext cx="9144000" cy="208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Общая характеристика учебного предмета «Технология»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292896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Направления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«Индустриальные технологии»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«Технологии ведения дома»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«Сельскохозяйственные технологии» (агротехнологии, технологии животноводства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Сквозные образовательные линии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технологическая культура производств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распространенные технологии современного производств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культура, эргономика и эстетика труд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олучение, обработка, хранение и использование технической и технологической информаци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основы черчения, графики, дизайн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элементы домашней и прикладной экономики, предпринимательств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знакомство с миром профессий, выбор учащимися жизненных, профессиональных плано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лияние технологических процессов на окружающую среду и здоровье человек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методы технической, творческой, проектной деятельност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история, перспективы и социальные последствия развития технологии и техник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7T23:33:56Z</dcterms:created>
  <dc:creator>Admin</dc:creator>
  <dc:description/>
  <dc:language>en-US</dc:language>
  <cp:lastModifiedBy>LEGION</cp:lastModifiedBy>
  <dcterms:modified xsi:type="dcterms:W3CDTF">2015-03-31T08:30:01Z</dcterms:modified>
  <cp:revision>40</cp:revision>
  <dc:subject/>
  <dc:title>ТЕХНОЛОГИЯ</dc:title>
</cp:coreProperties>
</file>