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32.wmf" ContentType="image/x-wmf"/>
  <Override PartName="/ppt/media/image27.wmf" ContentType="image/x-wmf"/>
  <Override PartName="/ppt/media/image24.wmf" ContentType="image/x-wmf"/>
  <Override PartName="/ppt/media/image22.wmf" ContentType="image/x-wmf"/>
  <Override PartName="/ppt/media/image19.jpeg" ContentType="image/jpeg"/>
  <Override PartName="/ppt/media/image21.wmf" ContentType="image/x-wmf"/>
  <Override PartName="/ppt/media/image6.jpeg" ContentType="image/jpeg"/>
  <Override PartName="/ppt/media/image18.jpeg" ContentType="image/jpeg"/>
  <Override PartName="/ppt/media/image17.jpeg" ContentType="image/jpeg"/>
  <Override PartName="/ppt/media/image33.jpeg" ContentType="image/jpeg"/>
  <Override PartName="/ppt/media/image35.jpeg" ContentType="image/jpeg"/>
  <Override PartName="/ppt/media/image10.jpeg" ContentType="image/jpeg"/>
  <Override PartName="/ppt/media/image28.wmf" ContentType="image/x-wmf"/>
  <Override PartName="/ppt/media/image30.png" ContentType="image/png"/>
  <Override PartName="/ppt/media/image37.jpeg" ContentType="image/jpeg"/>
  <Override PartName="/ppt/media/image12.jpeg" ContentType="image/jpeg"/>
  <Override PartName="/ppt/media/image31.gif" ContentType="image/gif"/>
  <Override PartName="/ppt/media/image11.jpeg" ContentType="image/jpeg"/>
  <Override PartName="/ppt/media/image9.jpeg" ContentType="image/jpeg"/>
  <Override PartName="/ppt/media/image23.wmf" ContentType="image/x-wmf"/>
  <Override PartName="/ppt/media/image38.jpeg" ContentType="image/jpeg"/>
  <Override PartName="/ppt/media/image7.jpeg" ContentType="image/jpeg"/>
  <Override PartName="/ppt/media/image34.jpeg" ContentType="image/jpeg"/>
  <Override PartName="/ppt/media/image8.jpeg" ContentType="image/jpeg"/>
  <Override PartName="/ppt/media/image39.jpeg" ContentType="image/jpeg"/>
  <Override PartName="/ppt/media/image5.jpeg" ContentType="image/jpeg"/>
  <Override PartName="/ppt/media/image20.wmf" ContentType="image/x-wmf"/>
  <Override PartName="/ppt/media/image4.jpeg" ContentType="image/jpeg"/>
  <Override PartName="/ppt/media/image13.jpeg" ContentType="image/jpeg"/>
  <Override PartName="/ppt/media/image3.wmf" ContentType="image/x-wmf"/>
  <Override PartName="/ppt/media/image26.wmf" ContentType="image/x-wmf"/>
  <Override PartName="/ppt/media/image36.jpeg" ContentType="image/jpeg"/>
  <Override PartName="/ppt/media/image2.jpeg" ContentType="image/jpeg"/>
  <Override PartName="/ppt/media/image15.jpeg" ContentType="image/jpeg"/>
  <Override PartName="/ppt/media/image25.wmf" ContentType="image/x-wmf"/>
  <Override PartName="/ppt/media/image1.png" ContentType="image/png"/>
  <Override PartName="/ppt/media/image14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3B4A-AC60-4834-8FE0-716E55C7D04C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17AE-F8FD-4EBF-BC33-81C87558BC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1967-2D17-475A-91C7-3477C4BDCB26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B79D-85EF-4037-958F-D6FFD926992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ворческий проект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шк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типина В.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технолог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шей категор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Акбулакского района Оренбургской обла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УКТУРА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2.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Банк идей и 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2.2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2.3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еская 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2.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кономическая 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2.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кологическая 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6C0A-8698-413A-BC3C-8487DFD6E433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7D83-1987-448A-A4EE-C4F19793DFC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Актуальность выбранной те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цель и содержание поставленной задач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ланируемый результа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ежпредметные связ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характеристика источников информации (литератур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борудование и материа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дачи, которые предстоит реши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ть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сать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ить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и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5113-074C-4952-A022-F0A461A03142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760C-6C3A-4B1B-977A-C2C2B774BC3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 идей и 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BEB1-A053-4613-BBAE-B426B7350773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C487-371D-418C-91E0-EEDD3CAEBF3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лагаемая методика и техника выполн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раткий обзор литерату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стория предмета и техники выполн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сследование матери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8FB0-2F7A-450A-A990-08A800F0644F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2BB4-F19F-4F73-BAB4-25DFA27F67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еская 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еск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2237-AA5B-4FA8-8EC0-2EFA27600F7B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50A2-2957-413E-8DC6-8C1809E1FE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ие экономичности  проектируемого издел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рынка сбы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97A9-5A25-4B23-B462-07ECEF98DE76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2DDB-173C-4ECF-8FA5-A6A10888874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ие того, что изготовление и эксплуатация изделия не нанесут вреда окружающей среде и жизнедеятельности челове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FB10-D3C8-403B-9B1A-3310168B3445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2F43-A2D9-4A19-B988-FFC1B139E90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следовательно изложить полученные результа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определить их соотношение с общей целью и задачами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амооценка проделанной рабо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указать пути продол­жения исследования те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дачи, которые предстоит реш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4402-983D-48EA-B5F9-961C5866FF3E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5434-A76A-4814-9C4E-3439F00098E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УКТУРА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E56A-2C59-4F1F-B5DC-5BC736F33055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95F4-534F-43B0-95DE-40496E1320A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 и изделие оценивается во время защиты проекта по следующим критерия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ое совершенств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стетические достоин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опас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ветствие общественным потребностя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бство эксплуат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им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B6F4-4414-4B29-95DB-7DAA207F7F9B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DE14-C034-4017-A88D-06930DB7F03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ВОРЧЕСКИЙ ПРОЕКТ –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это самостоя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ворческая работ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ыполненная под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уководством уч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5CCE-22A6-4100-BC14-6A5D243AEAD2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4CB5-00B3-41D5-A8FF-2289BC55EF1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тика про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тика проектов носит декоративно-прикладной, исследовательский, социальный   характер. При таком разнообразии видов работ многосторонняя проба сил позволяет выявить и развить способности и склонности учащихся, сделать процесс обучения интерес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1824-1899-445A-AE2E-8360B4FB263D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6EF6-3C81-4C50-B5FF-91BD92EBE72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ы проектов 2009-2010 уч.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циальный проек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удьте здоров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узей пуговицы в шко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ворческий проек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ышивка (крест, гладь, изони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язание (крючком, спицам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летение (макраме, лоз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екупаж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изайн (помещения, ландшафт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следовательский проек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оя будущая професс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стория материалов (металл, ткан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оль косметики в жизни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овые направления дизайна (пирсинг, тюнинг, татуировк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6F62-1EEE-4664-80EC-D25AD5B90190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FE51-2920-4E80-9C7A-FA6241FC4B7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ыполнение творческого проекта – одна из сторон воспитания. Оно нацелено на создание детьми нравственной ценности трудового начала жизни»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Лернер П.С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815A-68E9-4E4C-9D3A-46AC3DFFCD2B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4277-1D61-4FBC-B6B1-7D8CEA3288D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ВОРЧЕСКИЙ ПРОЕКТ -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это учебно-трудовое задание, активизирующее деятельность учащихся, в результате которого ими создается продукт, обладающий новиз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5C4F-1C82-41DB-9AAA-31A143869FE0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2DAD-2A17-48FD-B762-688784438F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ВЫПОЛНЕНИЯ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B40F-140B-4A7C-826F-BBBE3ACF659A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6B81-1FB2-497B-BA84-8BB3438BBCA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ап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виться проблема осознания нужд и потребностей во всех сферах деятельности человека (зачем и почему  надо выполнить проект, каково его значение в  жизни общест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вится цель – получение полезного проекта, который может носить как социальный, так и личностный характе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уется технология изготовления, ( подбор инструментов и оборудования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ется последовательность технологических операций (выбор оптимальной технологии изготовления издели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ми деятельности выступает личный опыт, а так же все рабочие инструменты и обору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ами деятельности является приобретение новых знаний, умений, производится самоконтроль и самооцен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D825-FED7-4773-B02D-494B12C80AAB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FDE3-ACDF-4844-8B1D-AB22878620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ВЫПОЛНЕНИЯ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2143-DFE5-4574-B9F9-5502080FC263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2954-6F9C-4BD6-A541-716C83ED342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та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яются технологические операции, корректируется деятельность, производится самоконтроль и самооценка работ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– качественнее и правильнее выполнить трудовые операц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 – приобретение знаний, умений и навы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8736-79AD-4297-8510-D2693306B963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254B-484E-41C6-A918-21C9B49655A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ВЫПОЛНЕНИЯ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738F-0934-4EFD-BE11-B45537E64B37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9750-1643-448F-A4E3-F71A397C19B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тап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дит окончательный контроль и защита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одятся экономические расче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одятся экологические исслед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ируется проделанная работа, устанавливается, результат тр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формляются результа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ится защит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83D6-D2AF-40A9-9066-724DFE278DA5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AEB9-0C93-49A2-B08C-D5B8F0216A8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1CF7-67F8-4DD2-8FAE-B5381B580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DAD3-DEE3-4EA3-8DF4-C5D494D1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B922-C706-40D6-9016-44F874322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8722-DA9F-4990-81B7-76ADEE8C2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63A7-C2AE-4753-AE7B-24128A33C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B00B-1D5A-42CE-B04D-71714C8A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A674-796A-47DC-8EF8-EA347589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6D90-A6DA-43B7-947B-22C62DE3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D94D-6D3C-4E43-BDF6-C5C76A13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4B1E-48EA-43E6-8649-778291AB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F6C8-DEE0-4290-A967-8EFD8F28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E532-8C7C-42E0-BEEF-A982C051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B82E-F9AA-4E8B-8760-C5BF81E9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15FE-B593-4AB2-B919-F2D9DE41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B116-DA32-4096-915D-356DB185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4667-FD54-4F65-91C5-3E097E795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99B6-248A-4B37-B8CB-46658B3D0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76E9-6746-4CD8-9FCC-0BBDDD41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FEB2-7919-4594-A06C-B566976B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2DAF-1657-4FC3-9060-DC8A14AD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4926-F51A-4B3F-B29A-B9A803E7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602A-402F-41A3-A3C9-C9C779F8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9AED-117A-4CE2-8108-C9837D7A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944C-ACC8-46B2-8393-F1C5E206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025D-01A1-4D6D-82C8-245543F3133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6A80-AA5C-4A13-BE9F-619FFA5258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4E79-BC63-4820-B867-1CE615038965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4AD5-A7AD-4157-B393-C8323781C71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image" Target="../media/image30.png"/><Relationship Id="rId13" Type="http://schemas.openxmlformats.org/officeDocument/2006/relationships/image" Target="../media/image30.png"/><Relationship Id="rId14" Type="http://schemas.openxmlformats.org/officeDocument/2006/relationships/image" Target="../media/image30.png"/><Relationship Id="rId15" Type="http://schemas.openxmlformats.org/officeDocument/2006/relationships/image" Target="../media/image30.png"/><Relationship Id="rId16" Type="http://schemas.openxmlformats.org/officeDocument/2006/relationships/image" Target="../media/image30.png"/><Relationship Id="rId17" Type="http://schemas.openxmlformats.org/officeDocument/2006/relationships/image" Target="../media/image31.gif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Місце для номера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EA09-50B3-4959-A07B-0C34983CCB5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484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ccecff"/>
                </a:solidFill>
                <a:latin typeface="Arial"/>
              </a:rPr>
              <a:t>Творческий проект </a:t>
            </a:r>
            <a:br>
              <a:rPr sz="4800"/>
            </a:br>
            <a:r>
              <a:rPr b="0" i="1" lang="ru-RU" sz="4800" spc="-1" strike="noStrike">
                <a:solidFill>
                  <a:srgbClr val="ccecff"/>
                </a:solidFill>
                <a:latin typeface="Arial"/>
              </a:rPr>
              <a:t>в школе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типина В.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технолог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сшей категор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У «Акбулакская средняя общеобразовательная школа №1 Акбулакского района Оренбургской област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5" descr="000_0585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8"/>
          <p:cNvSpPr/>
          <p:nvPr/>
        </p:nvSpPr>
        <p:spPr>
          <a:xfrm>
            <a:off x="-252360" y="396360"/>
            <a:ext cx="996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5499-65F7-4280-B445-661EA43703A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ТРУКТУРА ПРОЕК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Введ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ая ч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2.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Банк идей и предлож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2.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3" action="ppaction://hlinksldjump"/>
              </a:rPr>
              <a:t>Исследование пробл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2.3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ческая ч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2.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Экономическая оце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2.5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Экологическая оце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ло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9" descr="SDC12158"/>
          <p:cNvPicPr/>
          <p:nvPr/>
        </p:nvPicPr>
        <p:blipFill>
          <a:blip r:embed="rId4"/>
          <a:stretch/>
        </p:blipFill>
        <p:spPr>
          <a:xfrm>
            <a:off x="5651640" y="1773360"/>
            <a:ext cx="1417320" cy="20160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0" descr="SDC12160"/>
          <p:cNvPicPr/>
          <p:nvPr/>
        </p:nvPicPr>
        <p:blipFill>
          <a:blip r:embed="rId5"/>
          <a:stretch/>
        </p:blipFill>
        <p:spPr>
          <a:xfrm>
            <a:off x="7308720" y="1773360"/>
            <a:ext cx="1376640" cy="19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4" descr="IMG_1769"/>
          <p:cNvPicPr/>
          <p:nvPr/>
        </p:nvPicPr>
        <p:blipFill>
          <a:blip r:embed="rId6"/>
          <a:stretch/>
        </p:blipFill>
        <p:spPr>
          <a:xfrm>
            <a:off x="5508720" y="4005360"/>
            <a:ext cx="3240000" cy="243036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15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7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7552-1269-4B1B-9110-EB3C64F93C9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Актуальность выбранной те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цель и содержание поставленной задач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ланируемый результа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межпредметные связ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характеристика источников информации (литература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оборудование и материал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задачи, которые предстоит реши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учить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исать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тановить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яв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4" descr="j0299125"/>
          <p:cNvPicPr/>
          <p:nvPr/>
        </p:nvPicPr>
        <p:blipFill>
          <a:blip r:embed="rId1"/>
          <a:stretch/>
        </p:blipFill>
        <p:spPr>
          <a:xfrm>
            <a:off x="7380360" y="429264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5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7935-5D38-4FC1-B53C-842A4B26421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анк идей и предложен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57200" y="2060640"/>
          <a:ext cx="8229600" cy="3889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ея №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ани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ея №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ея №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ея №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Text Box 18"/>
          <p:cNvSpPr/>
          <p:nvPr/>
        </p:nvSpPr>
        <p:spPr>
          <a:xfrm>
            <a:off x="2804040" y="5877000"/>
            <a:ext cx="34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основание выбора идеи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20" descr="j0216588"/>
          <p:cNvPicPr/>
          <p:nvPr/>
        </p:nvPicPr>
        <p:blipFill>
          <a:blip r:embed="rId1"/>
          <a:stretch/>
        </p:blipFill>
        <p:spPr>
          <a:xfrm>
            <a:off x="684360" y="2133720"/>
            <a:ext cx="1609560" cy="18079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1" descr="j0199661"/>
          <p:cNvPicPr/>
          <p:nvPr/>
        </p:nvPicPr>
        <p:blipFill>
          <a:blip r:embed="rId2"/>
          <a:stretch/>
        </p:blipFill>
        <p:spPr>
          <a:xfrm>
            <a:off x="611280" y="4149720"/>
            <a:ext cx="1727280" cy="16700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3" descr="j0090386"/>
          <p:cNvPicPr/>
          <p:nvPr/>
        </p:nvPicPr>
        <p:blipFill>
          <a:blip r:embed="rId3"/>
          <a:stretch/>
        </p:blipFill>
        <p:spPr>
          <a:xfrm>
            <a:off x="4716360" y="4076640"/>
            <a:ext cx="2087640" cy="17877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7" descr="j0195534"/>
          <p:cNvPicPr/>
          <p:nvPr/>
        </p:nvPicPr>
        <p:blipFill>
          <a:blip r:embed="rId4"/>
          <a:stretch/>
        </p:blipFill>
        <p:spPr>
          <a:xfrm>
            <a:off x="4859280" y="2133720"/>
            <a:ext cx="1476360" cy="181764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28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6727-341A-4E45-B066-31C16A7B6EE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сследование проблем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едлагаемая методика и техника выполн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краткий обзор литератур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история предмета и техники выполн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исследование материал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4" descr="j0217698"/>
          <p:cNvPicPr/>
          <p:nvPr/>
        </p:nvPicPr>
        <p:blipFill>
          <a:blip r:embed="rId1"/>
          <a:stretch/>
        </p:blipFill>
        <p:spPr>
          <a:xfrm>
            <a:off x="6516720" y="4037040"/>
            <a:ext cx="2448000" cy="237168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5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F6A5-FBC5-4366-BAA4-5847C6BC9AD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ехнологическая ча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64684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хнологическая кар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4284720" y="2349360"/>
          <a:ext cx="4570200" cy="4104000"/>
        </p:xfrm>
        <a:graphic>
          <a:graphicData uri="http://schemas.openxmlformats.org/drawingml/2006/table">
            <a:tbl>
              <a:tblPr/>
              <a:tblGrid>
                <a:gridCol w="485640"/>
                <a:gridCol w="1214640"/>
                <a:gridCol w="1323720"/>
                <a:gridCol w="1546200"/>
              </a:tblGrid>
              <a:tr h="165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ание опер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афическое изображ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орудование, инструменты, Материал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6" name="Picture 44" descr="j0234266"/>
          <p:cNvPicPr/>
          <p:nvPr/>
        </p:nvPicPr>
        <p:blipFill>
          <a:blip r:embed="rId1"/>
          <a:stretch/>
        </p:blipFill>
        <p:spPr>
          <a:xfrm>
            <a:off x="611280" y="1844640"/>
            <a:ext cx="2319120" cy="2260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45" descr="j0199283"/>
          <p:cNvPicPr/>
          <p:nvPr/>
        </p:nvPicPr>
        <p:blipFill>
          <a:blip r:embed="rId2"/>
          <a:stretch/>
        </p:blipFill>
        <p:spPr>
          <a:xfrm>
            <a:off x="755640" y="4508640"/>
            <a:ext cx="1841400" cy="165420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46"/>
          <p:cNvSpPr/>
          <p:nvPr/>
        </p:nvSpPr>
        <p:spPr>
          <a:xfrm>
            <a:off x="93312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9FF8-46F2-43E3-B600-0212955BF69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кономическая оцен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основание экономичности  проектируемого издели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личие рынка сбы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Picture 7" descr="j0195384"/>
          <p:cNvPicPr/>
          <p:nvPr/>
        </p:nvPicPr>
        <p:blipFill>
          <a:blip r:embed="rId1"/>
          <a:stretch/>
        </p:blipFill>
        <p:spPr>
          <a:xfrm>
            <a:off x="6300720" y="450864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8"/>
          <p:cNvSpPr/>
          <p:nvPr/>
        </p:nvSpPr>
        <p:spPr>
          <a:xfrm>
            <a:off x="100476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72F2-08A3-4C89-9BE5-4105A18F0F4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кологическая оцен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основание того, что изготовление и эксплуатация изделия не нанесут вреда окружающей среде и жизнедеятельности челове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4" descr="j0285360"/>
          <p:cNvPicPr/>
          <p:nvPr/>
        </p:nvPicPr>
        <p:blipFill>
          <a:blip r:embed="rId1"/>
          <a:stretch/>
        </p:blipFill>
        <p:spPr>
          <a:xfrm>
            <a:off x="1042920" y="4724280"/>
            <a:ext cx="1474920" cy="181764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5"/>
          <p:cNvSpPr/>
          <p:nvPr/>
        </p:nvSpPr>
        <p:spPr>
          <a:xfrm>
            <a:off x="1117440" y="18864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0CC2-394E-4616-9D8C-93B51AE3099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оследовательно изложить полученные результат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 определить их соотношение с общей целью и задачами;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амооценка проделанной работ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 указать пути продол­жения исследования тем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задачи, которые предстоит реши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B4CF-A089-4608-A1A3-6C2E79C8AD8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II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ТРУКТУРА ПРОЕК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59" name="Organization Chart 5"/>
          <p:cNvGrpSpPr/>
          <p:nvPr/>
        </p:nvGrpSpPr>
        <p:grpSpPr>
          <a:xfrm>
            <a:off x="457200" y="2133720"/>
            <a:ext cx="8229240" cy="4534920"/>
            <a:chOff x="457200" y="2133720"/>
            <a:chExt cx="8229240" cy="4534920"/>
          </a:xfrm>
        </p:grpSpPr>
        <p:cxnSp>
          <p:nvCxnSpPr>
            <p:cNvPr id="360" name="_s4100"/>
            <p:cNvCxnSpPr>
              <a:stCxn id="361" idx="1"/>
              <a:endCxn id="362" idx="2"/>
            </p:cNvCxnSpPr>
            <p:nvPr/>
          </p:nvCxnSpPr>
          <p:spPr>
            <a:xfrm rot="10800000">
              <a:off x="6701040" y="3266640"/>
              <a:ext cx="284400" cy="249480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63" name="_s4101"/>
            <p:cNvCxnSpPr>
              <a:stCxn id="364" idx="1"/>
              <a:endCxn id="362" idx="2"/>
            </p:cNvCxnSpPr>
            <p:nvPr/>
          </p:nvCxnSpPr>
          <p:spPr>
            <a:xfrm rot="10800000">
              <a:off x="6701040" y="3266640"/>
              <a:ext cx="284400" cy="18165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65" name="_s4102"/>
            <p:cNvCxnSpPr>
              <a:stCxn id="366" idx="1"/>
              <a:endCxn id="362" idx="2"/>
            </p:cNvCxnSpPr>
            <p:nvPr/>
          </p:nvCxnSpPr>
          <p:spPr>
            <a:xfrm rot="10800000">
              <a:off x="6701040" y="3266640"/>
              <a:ext cx="284400" cy="11361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67" name="_s4103"/>
            <p:cNvCxnSpPr>
              <a:stCxn id="368" idx="1"/>
              <a:endCxn id="362" idx="2"/>
            </p:cNvCxnSpPr>
            <p:nvPr/>
          </p:nvCxnSpPr>
          <p:spPr>
            <a:xfrm rot="10800000">
              <a:off x="6701040" y="3266640"/>
              <a:ext cx="284400" cy="4539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69" name="_s4104"/>
            <p:cNvCxnSpPr>
              <a:stCxn id="370" idx="1"/>
              <a:endCxn id="371" idx="2"/>
            </p:cNvCxnSpPr>
            <p:nvPr/>
          </p:nvCxnSpPr>
          <p:spPr>
            <a:xfrm rot="10800000">
              <a:off x="4431960" y="3266640"/>
              <a:ext cx="282600" cy="18165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72" name="_s4105"/>
            <p:cNvCxnSpPr>
              <a:stCxn id="373" idx="1"/>
              <a:endCxn id="371" idx="2"/>
            </p:cNvCxnSpPr>
            <p:nvPr/>
          </p:nvCxnSpPr>
          <p:spPr>
            <a:xfrm rot="10800000">
              <a:off x="4431960" y="3266640"/>
              <a:ext cx="282600" cy="11361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74" name="_s4106"/>
            <p:cNvCxnSpPr>
              <a:stCxn id="375" idx="1"/>
              <a:endCxn id="371" idx="2"/>
            </p:cNvCxnSpPr>
            <p:nvPr/>
          </p:nvCxnSpPr>
          <p:spPr>
            <a:xfrm rot="10800000">
              <a:off x="4431960" y="3266640"/>
              <a:ext cx="282600" cy="4539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76" name="_s4107"/>
            <p:cNvCxnSpPr>
              <a:stCxn id="377" idx="3"/>
              <a:endCxn id="378" idx="2"/>
            </p:cNvCxnSpPr>
            <p:nvPr/>
          </p:nvCxnSpPr>
          <p:spPr>
            <a:xfrm flipV="1">
              <a:off x="2160000" y="3266640"/>
              <a:ext cx="284400" cy="317700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79" name="_s4108"/>
            <p:cNvCxnSpPr>
              <a:stCxn id="380" idx="3"/>
              <a:endCxn id="378" idx="2"/>
            </p:cNvCxnSpPr>
            <p:nvPr/>
          </p:nvCxnSpPr>
          <p:spPr>
            <a:xfrm flipV="1">
              <a:off x="2160000" y="3267000"/>
              <a:ext cx="284400" cy="249480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81" name="_s4109"/>
            <p:cNvCxnSpPr>
              <a:stCxn id="382" idx="3"/>
              <a:endCxn id="378" idx="2"/>
            </p:cNvCxnSpPr>
            <p:nvPr/>
          </p:nvCxnSpPr>
          <p:spPr>
            <a:xfrm flipV="1">
              <a:off x="2160000" y="3267000"/>
              <a:ext cx="284400" cy="18165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83" name="_s4110"/>
            <p:cNvCxnSpPr>
              <a:stCxn id="384" idx="3"/>
              <a:endCxn id="378" idx="2"/>
            </p:cNvCxnSpPr>
            <p:nvPr/>
          </p:nvCxnSpPr>
          <p:spPr>
            <a:xfrm flipV="1">
              <a:off x="2160000" y="3267000"/>
              <a:ext cx="284400" cy="11361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85" name="_s4111"/>
            <p:cNvCxnSpPr>
              <a:stCxn id="386" idx="3"/>
              <a:endCxn id="378" idx="2"/>
            </p:cNvCxnSpPr>
            <p:nvPr/>
          </p:nvCxnSpPr>
          <p:spPr>
            <a:xfrm flipV="1">
              <a:off x="2160000" y="3266640"/>
              <a:ext cx="284400" cy="4539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87" name="_s4112"/>
            <p:cNvCxnSpPr>
              <a:stCxn id="362" idx="0"/>
              <a:endCxn id="388" idx="2"/>
            </p:cNvCxnSpPr>
            <p:nvPr/>
          </p:nvCxnSpPr>
          <p:spPr>
            <a:xfrm flipV="1" rot="16200000">
              <a:off x="5523480" y="1634760"/>
              <a:ext cx="227160" cy="2129760"/>
            </a:xfrm>
            <a:prstGeom prst="bentConnector3">
              <a:avLst>
                <a:gd name="adj1" fmla="val 50317"/>
              </a:avLst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89" name="_s4113"/>
            <p:cNvCxnSpPr>
              <a:stCxn id="371" idx="0"/>
              <a:endCxn id="388" idx="2"/>
            </p:cNvCxnSpPr>
            <p:nvPr/>
          </p:nvCxnSpPr>
          <p:spPr>
            <a:xfrm flipH="1" flipV="1" rot="5400000">
              <a:off x="4389120" y="2629800"/>
              <a:ext cx="227160" cy="140400"/>
            </a:xfrm>
            <a:prstGeom prst="bentConnector3">
              <a:avLst>
                <a:gd name="adj1" fmla="val 50317"/>
              </a:avLst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90" name="_s4114"/>
            <p:cNvCxnSpPr>
              <a:stCxn id="378" idx="0"/>
              <a:endCxn id="388" idx="2"/>
            </p:cNvCxnSpPr>
            <p:nvPr/>
          </p:nvCxnSpPr>
          <p:spPr>
            <a:xfrm flipH="1" flipV="1" rot="5400000">
              <a:off x="3394800" y="1635480"/>
              <a:ext cx="227160" cy="2129040"/>
            </a:xfrm>
            <a:prstGeom prst="bentConnector3">
              <a:avLst>
                <a:gd name="adj1" fmla="val 50317"/>
              </a:avLst>
            </a:prstGeom>
            <a:ln w="28440">
              <a:solidFill>
                <a:srgbClr val="008ae8"/>
              </a:solidFill>
              <a:miter/>
            </a:ln>
          </p:spPr>
        </p:cxnSp>
        <p:sp>
          <p:nvSpPr>
            <p:cNvPr id="388" name="_s4115"/>
            <p:cNvSpPr/>
            <p:nvPr/>
          </p:nvSpPr>
          <p:spPr>
            <a:xfrm>
              <a:off x="3720960" y="2133720"/>
              <a:ext cx="1702800" cy="453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99ff99"/>
              </a:solidFill>
              <a:miter/>
            </a:ln>
            <a:effectLst>
              <a:outerShdw dist="63504" dir="19383909" blurRad="0" rotWithShape="0">
                <a:srgbClr val="99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проек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_s4116"/>
            <p:cNvSpPr/>
            <p:nvPr/>
          </p:nvSpPr>
          <p:spPr>
            <a:xfrm>
              <a:off x="1592280" y="2813760"/>
              <a:ext cx="1702800" cy="453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afe1ff"/>
              </a:solidFill>
              <a:miter/>
            </a:ln>
            <a:effectLst>
              <a:outerShdw dist="63504" dir="19383909" blurRad="0" rotWithShape="0">
                <a:srgbClr val="afe1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Теоретическое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обосновани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_s4117"/>
            <p:cNvSpPr/>
            <p:nvPr/>
          </p:nvSpPr>
          <p:spPr>
            <a:xfrm>
              <a:off x="3579480" y="2813760"/>
              <a:ext cx="1702800" cy="453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afe1ff"/>
              </a:solidFill>
              <a:miter/>
            </a:ln>
            <a:effectLst>
              <a:outerShdw dist="63504" dir="19383909" blurRad="0" rotWithShape="0">
                <a:srgbClr val="afe1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Практическая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часть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_s4118"/>
            <p:cNvSpPr/>
            <p:nvPr/>
          </p:nvSpPr>
          <p:spPr>
            <a:xfrm>
              <a:off x="5850360" y="2813760"/>
              <a:ext cx="1702800" cy="453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afe1ff"/>
              </a:solidFill>
              <a:miter/>
            </a:ln>
            <a:effectLst>
              <a:outerShdw dist="63504" dir="19383909" blurRad="0" rotWithShape="0">
                <a:srgbClr val="afe1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Приложени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_s4119"/>
            <p:cNvSpPr/>
            <p:nvPr/>
          </p:nvSpPr>
          <p:spPr>
            <a:xfrm>
              <a:off x="457200" y="3494160"/>
              <a:ext cx="1702800" cy="4532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Выбо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темы проект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_s4120"/>
            <p:cNvSpPr/>
            <p:nvPr/>
          </p:nvSpPr>
          <p:spPr>
            <a:xfrm>
              <a:off x="457200" y="4174560"/>
              <a:ext cx="1702800" cy="4532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Актуальност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_s4121"/>
            <p:cNvSpPr/>
            <p:nvPr/>
          </p:nvSpPr>
          <p:spPr>
            <a:xfrm>
              <a:off x="457200" y="4854600"/>
              <a:ext cx="1702800" cy="4532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цел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_s4122"/>
            <p:cNvSpPr/>
            <p:nvPr/>
          </p:nvSpPr>
          <p:spPr>
            <a:xfrm>
              <a:off x="458640" y="5535000"/>
              <a:ext cx="1701000" cy="4532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Задачи проект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_s4123"/>
            <p:cNvSpPr/>
            <p:nvPr/>
          </p:nvSpPr>
          <p:spPr>
            <a:xfrm>
              <a:off x="457200" y="6215400"/>
              <a:ext cx="1702800" cy="4532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Гипотез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_s4124"/>
            <p:cNvSpPr/>
            <p:nvPr/>
          </p:nvSpPr>
          <p:spPr>
            <a:xfrm>
              <a:off x="4714920" y="3494160"/>
              <a:ext cx="1702800" cy="45324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Авторска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разработ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_s4125"/>
            <p:cNvSpPr/>
            <p:nvPr/>
          </p:nvSpPr>
          <p:spPr>
            <a:xfrm>
              <a:off x="4714920" y="4174560"/>
              <a:ext cx="1702800" cy="45324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Реализаци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разработк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_s4126"/>
            <p:cNvSpPr/>
            <p:nvPr/>
          </p:nvSpPr>
          <p:spPr>
            <a:xfrm>
              <a:off x="4714920" y="4854600"/>
              <a:ext cx="1702800" cy="45324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Результаты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исследовани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_s4127"/>
            <p:cNvSpPr/>
            <p:nvPr/>
          </p:nvSpPr>
          <p:spPr>
            <a:xfrm>
              <a:off x="6985800" y="3494160"/>
              <a:ext cx="1700640" cy="45324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Анкет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_s4128"/>
            <p:cNvSpPr/>
            <p:nvPr/>
          </p:nvSpPr>
          <p:spPr>
            <a:xfrm>
              <a:off x="6985800" y="4174560"/>
              <a:ext cx="1700640" cy="453240"/>
            </a:xfrm>
            <a:prstGeom prst="rect">
              <a:avLst/>
            </a:prstGeom>
            <a:blipFill rotWithShape="0">
              <a:blip r:embed="rId1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Диаграмм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_s4129"/>
            <p:cNvSpPr/>
            <p:nvPr/>
          </p:nvSpPr>
          <p:spPr>
            <a:xfrm>
              <a:off x="6985800" y="4854600"/>
              <a:ext cx="1698840" cy="453240"/>
            </a:xfrm>
            <a:prstGeom prst="rect">
              <a:avLst/>
            </a:prstGeom>
            <a:blipFill rotWithShape="0">
              <a:blip r:embed="rId1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Таблиц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_s4130"/>
            <p:cNvSpPr/>
            <p:nvPr/>
          </p:nvSpPr>
          <p:spPr>
            <a:xfrm>
              <a:off x="6985800" y="5535000"/>
              <a:ext cx="1700640" cy="453240"/>
            </a:xfrm>
            <a:prstGeom prst="rect">
              <a:avLst/>
            </a:prstGeom>
            <a:blipFill rotWithShape="0">
              <a:blip r:embed="rId1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Фотографи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91" name="Picture 50" descr="j0283209"/>
          <p:cNvPicPr/>
          <p:nvPr/>
        </p:nvPicPr>
        <p:blipFill>
          <a:blip r:embed="rId17"/>
          <a:stretch/>
        </p:blipFill>
        <p:spPr>
          <a:xfrm>
            <a:off x="2627280" y="5013360"/>
            <a:ext cx="1728720" cy="169056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51"/>
          <p:cNvSpPr/>
          <p:nvPr/>
        </p:nvSpPr>
        <p:spPr>
          <a:xfrm>
            <a:off x="1077480" y="137880"/>
            <a:ext cx="686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68F6-3107-49B1-B95D-9DBF8FCCB19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868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ЦЕНКА ПРОЕК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ект и изделие оценивается во время защиты проекта по следующим критерия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ступ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ическое совершенств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стетические достоинс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зопас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ответствие общественным потребностя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добство эксплуат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ч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оим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Picture 4" descr="j0300840"/>
          <p:cNvPicPr/>
          <p:nvPr/>
        </p:nvPicPr>
        <p:blipFill>
          <a:blip r:embed="rId1"/>
          <a:stretch/>
        </p:blipFill>
        <p:spPr>
          <a:xfrm>
            <a:off x="6732720" y="4869000"/>
            <a:ext cx="1814400" cy="152856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5"/>
          <p:cNvSpPr/>
          <p:nvPr/>
        </p:nvSpPr>
        <p:spPr>
          <a:xfrm>
            <a:off x="1149120" y="137880"/>
            <a:ext cx="686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43EE-EB51-4C76-B073-564E296DAAF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77612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ТВОРЧЕСКИЙ ПРОЕКТ –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это самостоятельна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творческая работа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выполненная под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руководством учител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4" descr="j0299125"/>
          <p:cNvPicPr/>
          <p:nvPr/>
        </p:nvPicPr>
        <p:blipFill>
          <a:blip r:embed="rId1"/>
          <a:stretch/>
        </p:blipFill>
        <p:spPr>
          <a:xfrm>
            <a:off x="179280" y="2708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1306080" y="52812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C385-2BC7-490F-93E7-9320076CF24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Тематика проект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атика проектов носит декоративно-прикладной, исследовательский, социальный   характер. При таком разнообразии видов работ многосторонняя проба сил позволяет выявить и развить способности и склонности учащихся, сделать процесс обучения интересн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4" descr="SDC12173"/>
          <p:cNvPicPr/>
          <p:nvPr/>
        </p:nvPicPr>
        <p:blipFill>
          <a:blip r:embed="rId1"/>
          <a:stretch/>
        </p:blipFill>
        <p:spPr>
          <a:xfrm>
            <a:off x="7236000" y="4221000"/>
            <a:ext cx="1728720" cy="23050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SDC12174"/>
          <p:cNvPicPr/>
          <p:nvPr/>
        </p:nvPicPr>
        <p:blipFill>
          <a:blip r:embed="rId2"/>
          <a:stretch/>
        </p:blipFill>
        <p:spPr>
          <a:xfrm>
            <a:off x="5508720" y="4221000"/>
            <a:ext cx="1674720" cy="22323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SDC12178"/>
          <p:cNvPicPr/>
          <p:nvPr/>
        </p:nvPicPr>
        <p:blipFill>
          <a:blip r:embed="rId3"/>
          <a:stretch/>
        </p:blipFill>
        <p:spPr>
          <a:xfrm>
            <a:off x="3780000" y="4221000"/>
            <a:ext cx="1674720" cy="22323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SDC12179"/>
          <p:cNvPicPr/>
          <p:nvPr/>
        </p:nvPicPr>
        <p:blipFill>
          <a:blip r:embed="rId4"/>
          <a:stretch/>
        </p:blipFill>
        <p:spPr>
          <a:xfrm>
            <a:off x="2050920" y="4221000"/>
            <a:ext cx="1675080" cy="22323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8" descr="SDC12186"/>
          <p:cNvPicPr/>
          <p:nvPr/>
        </p:nvPicPr>
        <p:blipFill>
          <a:blip r:embed="rId5"/>
          <a:stretch/>
        </p:blipFill>
        <p:spPr>
          <a:xfrm>
            <a:off x="250920" y="4221000"/>
            <a:ext cx="1665360" cy="220680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9"/>
          <p:cNvSpPr/>
          <p:nvPr/>
        </p:nvSpPr>
        <p:spPr>
          <a:xfrm>
            <a:off x="114912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D742-2468-42B7-B9AC-68FD24B52BD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Темы проектов 2009-2010 уч. го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альный проек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Будьте здоров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узей пуговицы в школ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ворческий проек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ышивка (крест, гладь, изонить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язание (крючком, спицам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летение (макраме, лоз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Декупаж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Дизайн (помещения, ландшафт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следовательский проек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оя будущая професс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История материалов (металл, ткан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Роль косметики в жизни челове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овые направления дизайна (пирсинг, тюнинг, татуировк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3" name="Picture 4" descr="SDC12184"/>
          <p:cNvPicPr/>
          <p:nvPr/>
        </p:nvPicPr>
        <p:blipFill>
          <a:blip r:embed="rId1"/>
          <a:stretch/>
        </p:blipFill>
        <p:spPr>
          <a:xfrm>
            <a:off x="5076720" y="1989000"/>
            <a:ext cx="3888000" cy="338328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5"/>
          <p:cNvSpPr/>
          <p:nvPr/>
        </p:nvSpPr>
        <p:spPr>
          <a:xfrm>
            <a:off x="114912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5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95FC-CBA7-4782-BE45-723D5607E5F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Выполнение творческого проекта – одна из сторон воспитания. Оно нацелено на создание детьми нравственной ценности трудового начала жизни»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Лернер П.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5" descr="SDC11711"/>
          <p:cNvPicPr/>
          <p:nvPr/>
        </p:nvPicPr>
        <p:blipFill>
          <a:blip r:embed="rId1"/>
          <a:stretch/>
        </p:blipFill>
        <p:spPr>
          <a:xfrm>
            <a:off x="971640" y="3284640"/>
            <a:ext cx="7345440" cy="338292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6"/>
          <p:cNvSpPr/>
          <p:nvPr/>
        </p:nvSpPr>
        <p:spPr>
          <a:xfrm>
            <a:off x="114912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CE5B-32ED-474B-A9CB-DBCF083532F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797724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ТВОРЧЕСКИЙ ПРОЕКТ - </a:t>
            </a: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это учебно-трудовое задание, активизирующее деятельность учащихся, в результате которого ими создается продукт, обладающий новизной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6" descr="j0299125"/>
          <p:cNvPicPr/>
          <p:nvPr/>
        </p:nvPicPr>
        <p:blipFill>
          <a:blip r:embed="rId1"/>
          <a:stretch/>
        </p:blipFill>
        <p:spPr>
          <a:xfrm>
            <a:off x="324000" y="4724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7"/>
          <p:cNvSpPr/>
          <p:nvPr/>
        </p:nvSpPr>
        <p:spPr>
          <a:xfrm>
            <a:off x="1150560" y="28044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476B-4756-458B-ACEF-2C980C5CD64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ЭТАП ВЫПОЛНЕНИЯ ПРОЕК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37" name="Organization Chart 5"/>
          <p:cNvGrpSpPr/>
          <p:nvPr/>
        </p:nvGrpSpPr>
        <p:grpSpPr>
          <a:xfrm>
            <a:off x="457200" y="1557360"/>
            <a:ext cx="8228160" cy="4966920"/>
            <a:chOff x="457200" y="1557360"/>
            <a:chExt cx="8228160" cy="4966920"/>
          </a:xfrm>
        </p:grpSpPr>
        <p:cxnSp>
          <p:nvCxnSpPr>
            <p:cNvPr id="238" name="_s1028"/>
            <p:cNvCxnSpPr>
              <a:stCxn id="239" idx="1"/>
              <a:endCxn id="240" idx="2"/>
            </p:cNvCxnSpPr>
            <p:nvPr/>
          </p:nvCxnSpPr>
          <p:spPr>
            <a:xfrm rot="10800000">
              <a:off x="2925000" y="2140920"/>
              <a:ext cx="823320" cy="4093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1" name="_s1029"/>
            <p:cNvCxnSpPr>
              <a:stCxn id="242" idx="1"/>
              <a:endCxn id="240" idx="2"/>
            </p:cNvCxnSpPr>
            <p:nvPr/>
          </p:nvCxnSpPr>
          <p:spPr>
            <a:xfrm rot="10800000">
              <a:off x="2925000" y="2140920"/>
              <a:ext cx="823320" cy="3214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3" name="_s1030"/>
            <p:cNvCxnSpPr>
              <a:stCxn id="244" idx="1"/>
              <a:endCxn id="240" idx="2"/>
            </p:cNvCxnSpPr>
            <p:nvPr/>
          </p:nvCxnSpPr>
          <p:spPr>
            <a:xfrm rot="10800000">
              <a:off x="2925000" y="2140920"/>
              <a:ext cx="823320" cy="2338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5" name="_s1031"/>
            <p:cNvCxnSpPr>
              <a:stCxn id="246" idx="1"/>
              <a:endCxn id="240" idx="2"/>
            </p:cNvCxnSpPr>
            <p:nvPr/>
          </p:nvCxnSpPr>
          <p:spPr>
            <a:xfrm rot="10800000">
              <a:off x="2925000" y="2140920"/>
              <a:ext cx="823320" cy="1461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7" name="_s1032"/>
            <p:cNvCxnSpPr>
              <a:stCxn id="248" idx="1"/>
              <a:endCxn id="240" idx="2"/>
            </p:cNvCxnSpPr>
            <p:nvPr/>
          </p:nvCxnSpPr>
          <p:spPr>
            <a:xfrm rot="10800000">
              <a:off x="2925000" y="2140920"/>
              <a:ext cx="823320" cy="58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40" name="_s1033"/>
            <p:cNvSpPr/>
            <p:nvPr/>
          </p:nvSpPr>
          <p:spPr>
            <a:xfrm>
              <a:off x="457200" y="155736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Организационно-подготовительны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этап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_s1034"/>
            <p:cNvSpPr/>
            <p:nvPr/>
          </p:nvSpPr>
          <p:spPr>
            <a:xfrm>
              <a:off x="3748320" y="243360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Обоснование возникшей проблемы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и потребности.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_s1035"/>
            <p:cNvSpPr/>
            <p:nvPr/>
          </p:nvSpPr>
          <p:spPr>
            <a:xfrm>
              <a:off x="3748320" y="331020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_s1036"/>
            <p:cNvSpPr/>
            <p:nvPr/>
          </p:nvSpPr>
          <p:spPr>
            <a:xfrm>
              <a:off x="3748320" y="418680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_s1037"/>
            <p:cNvSpPr/>
            <p:nvPr/>
          </p:nvSpPr>
          <p:spPr>
            <a:xfrm>
              <a:off x="3748320" y="506340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_s1038"/>
            <p:cNvSpPr/>
            <p:nvPr/>
          </p:nvSpPr>
          <p:spPr>
            <a:xfrm>
              <a:off x="3748320" y="594000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Выбор оборудования,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инструментов и приспособлений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Rectangle 30"/>
          <p:cNvSpPr/>
          <p:nvPr/>
        </p:nvSpPr>
        <p:spPr>
          <a:xfrm>
            <a:off x="4359960" y="4149720"/>
            <a:ext cx="4065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исание внешнего вида моде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31"/>
          <p:cNvSpPr/>
          <p:nvPr/>
        </p:nvSpPr>
        <p:spPr>
          <a:xfrm>
            <a:off x="4790880" y="515772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бор материал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32"/>
          <p:cNvSpPr/>
          <p:nvPr/>
        </p:nvSpPr>
        <p:spPr>
          <a:xfrm>
            <a:off x="5509800" y="328464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бор моде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34" descr="000_0582"/>
          <p:cNvPicPr/>
          <p:nvPr/>
        </p:nvPicPr>
        <p:blipFill>
          <a:blip r:embed="rId1"/>
          <a:stretch/>
        </p:blipFill>
        <p:spPr>
          <a:xfrm>
            <a:off x="250920" y="3213000"/>
            <a:ext cx="2592360" cy="21607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35"/>
          <p:cNvSpPr/>
          <p:nvPr/>
        </p:nvSpPr>
        <p:spPr>
          <a:xfrm>
            <a:off x="726840" y="9144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E8A2-D2AE-4D77-B37D-6D417DF6B62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этап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виться проблема осознания нужд и потребностей во всех сферах деятельности человека (зачем и почему  надо выполнить проект, каково его значение в  жизни общества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вится цель – получение полезного проекта, который может носить как социальный, так и личностный характе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анируется технология изготовления, ( подбор инструментов и оборудования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яется последовательность технологических операций (выбор оптимальной технологии изготовления изделий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едствами деятельности выступает личный опыт, а так же все рабочие инструменты и оборудова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зультатами деятельности является приобретение новых знаний, умений, производится самоконтроль и самооцен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3925-1BA0-4780-B04E-1C22FA1FD33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I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ЭТАП ВЫПОЛНЕНИЯ ПРОЕК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62" name="Organization Chart 16"/>
          <p:cNvGrpSpPr/>
          <p:nvPr/>
        </p:nvGrpSpPr>
        <p:grpSpPr>
          <a:xfrm>
            <a:off x="457200" y="1989000"/>
            <a:ext cx="8228160" cy="4534920"/>
            <a:chOff x="457200" y="1989000"/>
            <a:chExt cx="8228160" cy="4534920"/>
          </a:xfrm>
        </p:grpSpPr>
        <p:cxnSp>
          <p:nvCxnSpPr>
            <p:cNvPr id="263" name="_s2052"/>
            <p:cNvCxnSpPr>
              <a:stCxn id="264" idx="1"/>
              <a:endCxn id="265" idx="2"/>
            </p:cNvCxnSpPr>
            <p:nvPr/>
          </p:nvCxnSpPr>
          <p:spPr>
            <a:xfrm rot="10800000">
              <a:off x="2925000" y="3121920"/>
              <a:ext cx="823320" cy="283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6" name="_s2053"/>
            <p:cNvCxnSpPr>
              <a:stCxn id="267" idx="1"/>
              <a:endCxn id="265" idx="2"/>
            </p:cNvCxnSpPr>
            <p:nvPr/>
          </p:nvCxnSpPr>
          <p:spPr>
            <a:xfrm rot="10800000">
              <a:off x="2925000" y="3121920"/>
              <a:ext cx="823320" cy="1134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65" name="_s2054"/>
            <p:cNvSpPr/>
            <p:nvPr/>
          </p:nvSpPr>
          <p:spPr>
            <a:xfrm>
              <a:off x="457200" y="198900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Технологический этап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_s2055"/>
            <p:cNvSpPr/>
            <p:nvPr/>
          </p:nvSpPr>
          <p:spPr>
            <a:xfrm>
              <a:off x="3748320" y="368964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Выполнение</a:t>
              </a:r>
              <a:r>
                <a:rPr b="1" lang="en-US" sz="29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технологических</a:t>
              </a:r>
              <a:r>
                <a:rPr b="1" lang="en-US" sz="2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операций</a:t>
              </a:r>
              <a:r>
                <a:rPr b="1" lang="en-US" sz="29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_s2056"/>
            <p:cNvSpPr/>
            <p:nvPr/>
          </p:nvSpPr>
          <p:spPr>
            <a:xfrm>
              <a:off x="3748320" y="539028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Соблюдение условий</a:t>
              </a:r>
              <a:r>
                <a:rPr b="1" lang="en-US" sz="2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техники</a:t>
              </a:r>
              <a:r>
                <a:rPr b="1" lang="en-US" sz="2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безопасности и культуры труда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68" name="Picture 26" descr="настя1"/>
          <p:cNvPicPr/>
          <p:nvPr/>
        </p:nvPicPr>
        <p:blipFill>
          <a:blip r:embed="rId1"/>
          <a:stretch/>
        </p:blipFill>
        <p:spPr>
          <a:xfrm>
            <a:off x="6227640" y="1557360"/>
            <a:ext cx="2556000" cy="1917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7" descr="настя"/>
          <p:cNvPicPr/>
          <p:nvPr/>
        </p:nvPicPr>
        <p:blipFill>
          <a:blip r:embed="rId2"/>
          <a:stretch/>
        </p:blipFill>
        <p:spPr>
          <a:xfrm>
            <a:off x="250920" y="507528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8" descr="лена"/>
          <p:cNvPicPr/>
          <p:nvPr/>
        </p:nvPicPr>
        <p:blipFill>
          <a:blip r:embed="rId3"/>
          <a:stretch/>
        </p:blipFill>
        <p:spPr>
          <a:xfrm>
            <a:off x="179280" y="3213000"/>
            <a:ext cx="2400480" cy="180036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29"/>
          <p:cNvSpPr/>
          <p:nvPr/>
        </p:nvSpPr>
        <p:spPr>
          <a:xfrm>
            <a:off x="1083960" y="9648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B2F2-257D-4166-8DB3-4D103608EBD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I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этап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яются технологические операции, корректируется деятельность, производится самоконтроль и самооценка работы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ль – качественнее и правильнее выполнить трудовые операци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зультат – приобретение знаний, умений и навы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4" descr="SDC11284"/>
          <p:cNvPicPr/>
          <p:nvPr/>
        </p:nvPicPr>
        <p:blipFill>
          <a:blip r:embed="rId1"/>
          <a:stretch/>
        </p:blipFill>
        <p:spPr>
          <a:xfrm>
            <a:off x="684360" y="3122640"/>
            <a:ext cx="3958920" cy="29703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SDC11286"/>
          <p:cNvPicPr/>
          <p:nvPr/>
        </p:nvPicPr>
        <p:blipFill>
          <a:blip r:embed="rId2"/>
          <a:stretch/>
        </p:blipFill>
        <p:spPr>
          <a:xfrm>
            <a:off x="4788000" y="3141720"/>
            <a:ext cx="3960720" cy="2970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6"/>
          <p:cNvSpPr/>
          <p:nvPr/>
        </p:nvSpPr>
        <p:spPr>
          <a:xfrm>
            <a:off x="726840" y="136080"/>
            <a:ext cx="686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5A24-D8DB-46FD-A5D6-3154AD44A61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II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ЭТАП ВЫПОЛНЕНИЯ ПРОЕК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82" name="Organization Chart 5"/>
          <p:cNvGrpSpPr/>
          <p:nvPr/>
        </p:nvGrpSpPr>
        <p:grpSpPr>
          <a:xfrm>
            <a:off x="457200" y="1989000"/>
            <a:ext cx="8228160" cy="4534920"/>
            <a:chOff x="457200" y="1989000"/>
            <a:chExt cx="8228160" cy="4534920"/>
          </a:xfrm>
        </p:grpSpPr>
        <p:cxnSp>
          <p:nvCxnSpPr>
            <p:cNvPr id="283" name="_s3076"/>
            <p:cNvCxnSpPr>
              <a:stCxn id="284" idx="1"/>
              <a:endCxn id="285" idx="2"/>
            </p:cNvCxnSpPr>
            <p:nvPr/>
          </p:nvCxnSpPr>
          <p:spPr>
            <a:xfrm rot="10800000">
              <a:off x="2925000" y="3121920"/>
              <a:ext cx="823320" cy="283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6" name="_s3077"/>
            <p:cNvCxnSpPr>
              <a:stCxn id="287" idx="1"/>
              <a:endCxn id="285" idx="2"/>
            </p:cNvCxnSpPr>
            <p:nvPr/>
          </p:nvCxnSpPr>
          <p:spPr>
            <a:xfrm rot="10800000">
              <a:off x="2925000" y="3121920"/>
              <a:ext cx="823320" cy="1134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85" name="_s3078"/>
            <p:cNvSpPr/>
            <p:nvPr/>
          </p:nvSpPr>
          <p:spPr>
            <a:xfrm>
              <a:off x="457200" y="198900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Заключительный этап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_s3079"/>
            <p:cNvSpPr/>
            <p:nvPr/>
          </p:nvSpPr>
          <p:spPr>
            <a:xfrm>
              <a:off x="3748320" y="368964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Оценка проделанной работы.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_s3080"/>
            <p:cNvSpPr/>
            <p:nvPr/>
          </p:nvSpPr>
          <p:spPr>
            <a:xfrm>
              <a:off x="3748320" y="539028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Защита проекта.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8" name="Picture 16" descr="SDC11186"/>
          <p:cNvPicPr/>
          <p:nvPr/>
        </p:nvPicPr>
        <p:blipFill>
          <a:blip r:embed="rId1"/>
          <a:stretch/>
        </p:blipFill>
        <p:spPr>
          <a:xfrm>
            <a:off x="6084720" y="1628640"/>
            <a:ext cx="2664000" cy="19987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7" descr="SDC11001"/>
          <p:cNvPicPr/>
          <p:nvPr/>
        </p:nvPicPr>
        <p:blipFill>
          <a:blip r:embed="rId2"/>
          <a:stretch/>
        </p:blipFill>
        <p:spPr>
          <a:xfrm>
            <a:off x="324000" y="4365720"/>
            <a:ext cx="2520720" cy="189072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18"/>
          <p:cNvSpPr/>
          <p:nvPr/>
        </p:nvSpPr>
        <p:spPr>
          <a:xfrm>
            <a:off x="1044360" y="182160"/>
            <a:ext cx="686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8E8E-BC31-4BB3-A1C3-FEE6EB35A3F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 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III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этап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исходит окончательный контроль и защита проект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одятся экономические расчет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одятся экологические исследова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ализируется проделанная работа, устанавливается, результат тру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формляются результат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изводится защита проек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4" descr="11 б 010"/>
          <p:cNvPicPr/>
          <p:nvPr/>
        </p:nvPicPr>
        <p:blipFill>
          <a:blip r:embed="rId1"/>
          <a:stretch/>
        </p:blipFill>
        <p:spPr>
          <a:xfrm>
            <a:off x="539640" y="4076640"/>
            <a:ext cx="2109960" cy="25099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день моря 3"/>
          <p:cNvPicPr/>
          <p:nvPr/>
        </p:nvPicPr>
        <p:blipFill>
          <a:blip r:embed="rId2"/>
          <a:stretch/>
        </p:blipFill>
        <p:spPr>
          <a:xfrm>
            <a:off x="6588000" y="3357720"/>
            <a:ext cx="2298960" cy="24620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SDC11181"/>
          <p:cNvPicPr/>
          <p:nvPr/>
        </p:nvPicPr>
        <p:blipFill>
          <a:blip r:embed="rId3"/>
          <a:stretch/>
        </p:blipFill>
        <p:spPr>
          <a:xfrm>
            <a:off x="2987640" y="4149720"/>
            <a:ext cx="3311640" cy="24843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SDC11704"/>
          <p:cNvPicPr/>
          <p:nvPr/>
        </p:nvPicPr>
        <p:blipFill>
          <a:blip r:embed="rId4"/>
          <a:stretch/>
        </p:blipFill>
        <p:spPr>
          <a:xfrm>
            <a:off x="7740720" y="907920"/>
            <a:ext cx="1020600" cy="14842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000_0231"/>
          <p:cNvPicPr/>
          <p:nvPr/>
        </p:nvPicPr>
        <p:blipFill>
          <a:blip r:embed="rId5"/>
          <a:stretch/>
        </p:blipFill>
        <p:spPr>
          <a:xfrm>
            <a:off x="250920" y="836640"/>
            <a:ext cx="1942920" cy="106056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9"/>
          <p:cNvSpPr/>
          <p:nvPr/>
        </p:nvSpPr>
        <p:spPr>
          <a:xfrm>
            <a:off x="93312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500" autoRev="1" fill="hold"/>
                                        <p:tgtEl>
                                          <p:spTgt spid="2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500" autoRev="1" fill="hold"/>
                                        <p:tgtEl>
                                          <p:spTgt spid="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4T06:37:30Z</dcterms:created>
  <dc:creator>ПК</dc:creator>
  <dc:description>uchportal.ru</dc:description>
  <dc:language>en-US</dc:language>
  <cp:lastModifiedBy>LEGION</cp:lastModifiedBy>
  <dcterms:modified xsi:type="dcterms:W3CDTF">2015-03-31T08:31:44Z</dcterms:modified>
  <cp:revision>23</cp:revision>
  <dc:subject/>
  <dc:title>Проект по технолог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09000000000001024140</vt:lpwstr>
  </property>
</Properties>
</file>