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7.wmf" ContentType="image/x-wmf"/>
  <Override PartName="/ppt/media/image24.wmf" ContentType="image/x-wmf"/>
  <Override PartName="/ppt/media/image22.wmf" ContentType="image/x-wmf"/>
  <Override PartName="/ppt/media/image19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7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28.wmf" ContentType="image/x-wmf"/>
  <Override PartName="/ppt/media/image30.png" ContentType="image/png"/>
  <Override PartName="/ppt/media/image37.jpeg" ContentType="image/jpeg"/>
  <Override PartName="/ppt/media/image12.jpeg" ContentType="image/jpeg"/>
  <Override PartName="/ppt/media/image31.gif" ContentType="image/gif"/>
  <Override PartName="/ppt/media/image11.jpeg" ContentType="image/jpeg"/>
  <Override PartName="/ppt/media/image9.jpeg" ContentType="image/jpeg"/>
  <Override PartName="/ppt/media/image23.wmf" ContentType="image/x-wmf"/>
  <Override PartName="/ppt/media/image38.jpeg" ContentType="image/jpeg"/>
  <Override PartName="/ppt/media/image7.jpeg" ContentType="image/jpeg"/>
  <Override PartName="/ppt/media/image34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13.jpeg" ContentType="image/jpeg"/>
  <Override PartName="/ppt/media/image3.wmf" ContentType="image/x-wmf"/>
  <Override PartName="/ppt/media/image26.wmf" ContentType="image/x-wmf"/>
  <Override PartName="/ppt/media/image36.jpeg" ContentType="image/jpeg"/>
  <Override PartName="/ppt/media/image2.jpeg" ContentType="image/jpeg"/>
  <Override PartName="/ppt/media/image15.jpeg" ContentType="image/jpeg"/>
  <Override PartName="/ppt/media/image25.wmf" ContentType="image/x-wmf"/>
  <Override PartName="/ppt/media/image1.png" ContentType="image/png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8BEB-5A08-4CD7-BD25-C9C85125B1D5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A0B7-18D6-4235-820A-258A4ECCAC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D0C7-F55B-4672-9B75-2E94058277A6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27FC-5782-4B7E-B367-794DC39DA5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ворческий проект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ипина В.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техноло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ей категор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Акбулакского района Оренбургской обла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анк идей и 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оном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олог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4261-6BCD-49B9-A89B-8F72F09CB4B0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C2F7-F9A3-4D97-BD03-418E1F1D6C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ктуальность выбранной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цель и содержание поставленной задач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ланируемый результа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ежпредметные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характеристика источников информации (литератур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орудование и материа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ачи, которые предстоит реши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ь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4FFA-5030-4283-A609-D4D0EA03AACD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40D6-1A82-4925-987B-B5C379082A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 идей и 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E954-A862-442C-93EA-C1AA0775F9E4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F4F8-5ACA-4622-9ABD-BA7B4C6749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лагаемая методика и техника выполн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аткий обзор литерату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тория предмета и техники выполн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следование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D859-D06D-4F85-8DC8-6BE55E75518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1B64-1D80-40F1-8F58-2F42E31D3D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62D4-6D97-4CAA-A858-630D796EDADB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5842-709A-465D-B0B2-9BEBB19ABC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экономичности  проектируемого издел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рынка сб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D2F8-1F44-475E-8C2C-24E67F98FE6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81FF-24C0-4C75-BC7A-4899C8903F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того, что изготовление и эксплуатация изделия не нанесут вреда окружающей среде и жизнедеятельности чело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9B96-A761-42E5-B3FE-FC39F08F96DD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DEC9-1360-4530-9B9F-2465CD70F7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следовательно изложить полученные результа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пределить их соотношение с общей целью и задачами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амооценка проделанной рабо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указать пути продол­жения исследования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ачи, которые предстоит реш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80A5-1CC1-4862-B792-91278E25D67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C96B-EFAF-413B-B79B-9FF703D521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1F04-3EB3-4E6B-9223-DF22AF00FCA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F4AA-F0EE-4CEF-90F4-C2F081C6ED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и изделие оценивается во время защиты проекта по следующим критери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ое совершен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стетические достоин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опас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ие общественным потребност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бство эксплуат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м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0254-412E-4139-9C1B-B93D8F6C8AE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E293-19F0-44D9-9F9A-A364412CCF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ОРЧЕСКИЙ ПРОЕКТ –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самостоя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ворческая рабо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полненная под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уководством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C039-77C4-4DBE-9877-ACAF26D54494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B289-2212-459A-A985-88A7F1F31D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тика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тика проектов носит декоративно-прикладной, исследовательский, социальный   характер. При таком разнообразии видов работ многосторонняя проба сил позволяет выявить и развить способности и склонности учащихся, сделать процесс обучения интерес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705A-156A-4390-81DD-242DA46D3F6B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CD81-C2D8-43F5-8B57-35EA3EE9B2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ы проектов 2009-2010 уч.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ы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удьте здоро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узей пуговицы в шко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ворчески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шивка (крест, гладь, изони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язание (крючком, спица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летение (макраме, лоз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купа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изайн (помещения, ландшаф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следовательски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оя будущая профес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стория материалов (металл, ткан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оль косметики в жизн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овые направления дизайна (пирсинг, тюнинг, татуиров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C96F-9079-4DAA-8C1A-B71CC572D366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A0CC-E1BA-4FE1-83FD-49B9A38C6A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ыполнение творческого проекта – одна из сторон воспитания. Оно нацелено на создание детьми нравственной ценности трудового начала жизни»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Лернер П.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0AF1-AB09-4A14-98EA-6BEAD4B75F8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1E49-4AEF-43DA-929C-63136A1198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ОРЧЕСКИЙ ПРОЕКТ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учебно-трудовое задание, активизирующее деятельность учащихся, в результате которого ими создается продукт, обладающий новиз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4510-E749-4036-BB87-F11E8C62759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CDB4-7AD1-4D65-A2A4-D2EA7373BB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8D0E-8010-40F8-9AF6-78819EA3DFFB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D4F5-09E4-4C12-B6F7-D6CD6640E2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иться проблема осознания нужд и потребностей во всех сферах деятельности человека (зачем и почему  надо выполнить проект, каково его значение в  жизни обще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ится цель – получение полезного проекта, который может носить как социальный, так и личностный характ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уется технология изготовления, ( подбор инструментов и оборудова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ется последовательность технологических операций (выбор оптимальной технологии изготовления издел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ми деятельности выступает личный опыт, а так же все рабочие инструменты и обору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ами деятельности является приобретение новых знаний, умений, производится самоконтроль и самооцен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45A3-C5C7-4D1E-B6F8-22A143198E0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BB96-4B88-4E52-8F49-E581A87D69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5F05-D2C2-4DDC-8008-6F6944D23C1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EEB2-8F66-4E0F-96EE-8D07CF0684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яются технологические операции, корректируется деятельность, производится самоконтроль и самооценка рабо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– качественнее и правильнее выполнить трудовые опера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 – приобретение знаний, умений и навы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DFD6-D1BD-4643-BE12-8045CFAA3D41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12DB-F0B5-43FE-BF61-3B594EC9F2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753B-774F-4841-9214-61CC55A9891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8F21-7303-4243-96ED-274AE1ACB7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дит окончательный контроль и защита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ятся экономические расче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ятся экологические исслед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ется проделанная работа, устанавливается, результат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ормляются результа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ся защит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3D8C-13C1-432C-A83D-90D4597CB521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9424-4622-4608-AE94-6277B748C1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7637-A633-4EC9-93FB-D2CBA23D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0448-A505-44A2-BCAA-D641563B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985B-C305-4DCA-8751-8CF42721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BFB3-4873-4944-9093-641E9EE0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D3D6-0BE1-4E22-A9A4-98DA2C12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D563-B441-40D9-90E7-6C1D7079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7296-17FD-43D6-B9B5-23770FAE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054A-DD6B-40D8-A244-DC5BC378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5EB6-4C20-4260-903B-3B1D61B7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B99F-2586-4C8D-90D1-6FBFDB9F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C126-17A7-4196-892D-0FF9D6D2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FD44-8AD5-4950-805F-108370E3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736D-06F2-4F41-8C26-34942EAD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C293-6307-4591-9048-5F003920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F520-C6F5-4493-A9D7-13C0DB08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6454-2065-4982-8A2E-7F951F17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B580-1731-4531-BC82-F1E46AF6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2174-EACC-44FC-AB48-38D764A3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D7C-6FA5-4AAE-9949-AB747552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C4C1-6CB7-4C7A-B267-16F3E57D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5C9A-EE62-47C5-9C48-99545726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C641-E32C-4541-B8A5-AB46AED9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5C57-61DF-44FD-9BE9-0800FCF9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B68E-CCAD-471E-8A4F-2C11B080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0F83-6A86-4D1A-8A68-491E9817E24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6279-52F5-4C6B-A7E2-8D364E29B2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C467-98BB-455A-AC7E-75637CB7C8D7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989B-3D95-4676-8DC9-A92E39CFFB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0.png"/><Relationship Id="rId15" Type="http://schemas.openxmlformats.org/officeDocument/2006/relationships/image" Target="../media/image30.png"/><Relationship Id="rId16" Type="http://schemas.openxmlformats.org/officeDocument/2006/relationships/image" Target="../media/image30.png"/><Relationship Id="rId17" Type="http://schemas.openxmlformats.org/officeDocument/2006/relationships/image" Target="../media/image31.gi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Місце для номера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3C55-B895-4FDB-A4C8-2EC74E8EA87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ecff"/>
                </a:solidFill>
                <a:latin typeface="Arial"/>
              </a:rPr>
              <a:t>Творческий проект </a:t>
            </a:r>
            <a:br>
              <a:rPr sz="4800"/>
            </a:br>
            <a:r>
              <a:rPr b="0" i="1" lang="ru-RU" sz="4800" spc="-1" strike="noStrike">
                <a:solidFill>
                  <a:srgbClr val="ccecff"/>
                </a:solidFill>
                <a:latin typeface="Arial"/>
              </a:rPr>
              <a:t>в школ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типина В.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техноло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шей категор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 «Акбулакская средняя общеобразовательная школа №1 Акбулакского района Оренбургской обла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000_0585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-252360" y="396360"/>
            <a:ext cx="99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1E8E-4F1F-4D26-9384-96BABC9E191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ТРУКТУР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ч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Банк идей и предлож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Исследование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ческая ч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кономическая 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кологическая 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9" descr="SDC12158"/>
          <p:cNvPicPr/>
          <p:nvPr/>
        </p:nvPicPr>
        <p:blipFill>
          <a:blip r:embed="rId4"/>
          <a:stretch/>
        </p:blipFill>
        <p:spPr>
          <a:xfrm>
            <a:off x="5651640" y="1773360"/>
            <a:ext cx="1417320" cy="2016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0" descr="SDC12160"/>
          <p:cNvPicPr/>
          <p:nvPr/>
        </p:nvPicPr>
        <p:blipFill>
          <a:blip r:embed="rId5"/>
          <a:stretch/>
        </p:blipFill>
        <p:spPr>
          <a:xfrm>
            <a:off x="7308720" y="1773360"/>
            <a:ext cx="1376640" cy="19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4" descr="IMG_1769"/>
          <p:cNvPicPr/>
          <p:nvPr/>
        </p:nvPicPr>
        <p:blipFill>
          <a:blip r:embed="rId6"/>
          <a:stretch/>
        </p:blipFill>
        <p:spPr>
          <a:xfrm>
            <a:off x="5508720" y="400536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233D-B6B7-42B1-9F08-5AAC63B2CAF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Актуальность выбранной 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цель и содержание поставленной задач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ланируемый результа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межпредметные связ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характеристика источников информации (литератур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борудование и материал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задачи, которые предстоит реши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учить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исат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ановить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яв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4" descr="j0299125"/>
          <p:cNvPicPr/>
          <p:nvPr/>
        </p:nvPicPr>
        <p:blipFill>
          <a:blip r:embed="rId1"/>
          <a:stretch/>
        </p:blipFill>
        <p:spPr>
          <a:xfrm>
            <a:off x="7380360" y="4292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09D8-5536-44C1-BAF1-62BBE212EC7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нк идей и предложен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2060640"/>
          <a:ext cx="8229600" cy="3889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Text Box 18"/>
          <p:cNvSpPr/>
          <p:nvPr/>
        </p:nvSpPr>
        <p:spPr>
          <a:xfrm>
            <a:off x="2804040" y="5877000"/>
            <a:ext cx="34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снование выбора иде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0" descr="j0216588"/>
          <p:cNvPicPr/>
          <p:nvPr/>
        </p:nvPicPr>
        <p:blipFill>
          <a:blip r:embed="rId1"/>
          <a:stretch/>
        </p:blipFill>
        <p:spPr>
          <a:xfrm>
            <a:off x="684360" y="2133720"/>
            <a:ext cx="1609560" cy="1807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j0199661"/>
          <p:cNvPicPr/>
          <p:nvPr/>
        </p:nvPicPr>
        <p:blipFill>
          <a:blip r:embed="rId2"/>
          <a:stretch/>
        </p:blipFill>
        <p:spPr>
          <a:xfrm>
            <a:off x="611280" y="4149720"/>
            <a:ext cx="1727280" cy="1670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3" descr="j0090386"/>
          <p:cNvPicPr/>
          <p:nvPr/>
        </p:nvPicPr>
        <p:blipFill>
          <a:blip r:embed="rId3"/>
          <a:stretch/>
        </p:blipFill>
        <p:spPr>
          <a:xfrm>
            <a:off x="4716360" y="4076640"/>
            <a:ext cx="2087640" cy="17877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7" descr="j0195534"/>
          <p:cNvPicPr/>
          <p:nvPr/>
        </p:nvPicPr>
        <p:blipFill>
          <a:blip r:embed="rId4"/>
          <a:stretch/>
        </p:blipFill>
        <p:spPr>
          <a:xfrm>
            <a:off x="4859280" y="2133720"/>
            <a:ext cx="1476360" cy="18176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28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4460-7C52-4EE4-B09A-4F463D2E2F8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следование пробле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лагаемая методика и техника вы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краткий обзор литерату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история предмета и техники вы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исследование материа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j0217698"/>
          <p:cNvPicPr/>
          <p:nvPr/>
        </p:nvPicPr>
        <p:blipFill>
          <a:blip r:embed="rId1"/>
          <a:stretch/>
        </p:blipFill>
        <p:spPr>
          <a:xfrm>
            <a:off x="6516720" y="403704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2030-EAAC-4F27-9273-1256CAE5A84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хнологическая ча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6468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ологическая ка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284720" y="2349360"/>
          <a:ext cx="4570200" cy="4104000"/>
        </p:xfrm>
        <a:graphic>
          <a:graphicData uri="http://schemas.openxmlformats.org/drawingml/2006/table">
            <a:tbl>
              <a:tblPr/>
              <a:tblGrid>
                <a:gridCol w="485640"/>
                <a:gridCol w="1214640"/>
                <a:gridCol w="1323720"/>
                <a:gridCol w="1546200"/>
              </a:tblGrid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 опер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фическое изображ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орудование, инструменты, Материал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6" name="Picture 44" descr="j0234266"/>
          <p:cNvPicPr/>
          <p:nvPr/>
        </p:nvPicPr>
        <p:blipFill>
          <a:blip r:embed="rId1"/>
          <a:stretch/>
        </p:blipFill>
        <p:spPr>
          <a:xfrm>
            <a:off x="611280" y="1844640"/>
            <a:ext cx="2319120" cy="2260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5" descr="j0199283"/>
          <p:cNvPicPr/>
          <p:nvPr/>
        </p:nvPicPr>
        <p:blipFill>
          <a:blip r:embed="rId2"/>
          <a:stretch/>
        </p:blipFill>
        <p:spPr>
          <a:xfrm>
            <a:off x="755640" y="4508640"/>
            <a:ext cx="1841400" cy="16542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46"/>
          <p:cNvSpPr/>
          <p:nvPr/>
        </p:nvSpPr>
        <p:spPr>
          <a:xfrm>
            <a:off x="933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62D5-08A0-4573-9D9B-7962B745D13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номическая оце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снование экономичности  проектируемого издел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ичие рынка сбы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7" descr="j0195384"/>
          <p:cNvPicPr/>
          <p:nvPr/>
        </p:nvPicPr>
        <p:blipFill>
          <a:blip r:embed="rId1"/>
          <a:stretch/>
        </p:blipFill>
        <p:spPr>
          <a:xfrm>
            <a:off x="6300720" y="450864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8"/>
          <p:cNvSpPr/>
          <p:nvPr/>
        </p:nvSpPr>
        <p:spPr>
          <a:xfrm>
            <a:off x="100476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CE9C-DBF8-40EE-8D3E-691AF7FC211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логическая оце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снование того, что изготовление и эксплуатация изделия не нанесут вреда окружающей среде и жизнедеятельности челове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4" descr="j0285360"/>
          <p:cNvPicPr/>
          <p:nvPr/>
        </p:nvPicPr>
        <p:blipFill>
          <a:blip r:embed="rId1"/>
          <a:stretch/>
        </p:blipFill>
        <p:spPr>
          <a:xfrm>
            <a:off x="1042920" y="4724280"/>
            <a:ext cx="1474920" cy="181764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5"/>
          <p:cNvSpPr/>
          <p:nvPr/>
        </p:nvSpPr>
        <p:spPr>
          <a:xfrm>
            <a:off x="1117440" y="1886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5867-09C3-4D64-9FE2-01F6872EA9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следовательно изложить полученные результа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определить их соотношение с общей целью и задачами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амооценка проделанной рабо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указать пути продол­жения исследования те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задачи, которые предстоит реш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E92B-F3A2-4039-9AB2-70F26EE499B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ТРУКТУР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59" name="Organization Chart 5"/>
          <p:cNvGrpSpPr/>
          <p:nvPr/>
        </p:nvGrpSpPr>
        <p:grpSpPr>
          <a:xfrm>
            <a:off x="457200" y="2133720"/>
            <a:ext cx="8229240" cy="4534920"/>
            <a:chOff x="457200" y="2133720"/>
            <a:chExt cx="8229240" cy="4534920"/>
          </a:xfrm>
        </p:grpSpPr>
        <p:cxnSp>
          <p:nvCxnSpPr>
            <p:cNvPr id="360" name="_s4100"/>
            <p:cNvCxnSpPr>
              <a:stCxn id="361" idx="1"/>
              <a:endCxn id="362" idx="2"/>
            </p:cNvCxnSpPr>
            <p:nvPr/>
          </p:nvCxnSpPr>
          <p:spPr>
            <a:xfrm rot="10800000">
              <a:off x="6701040" y="3266640"/>
              <a:ext cx="284400" cy="24948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3" name="_s4101"/>
            <p:cNvCxnSpPr>
              <a:stCxn id="364" idx="1"/>
              <a:endCxn id="362" idx="2"/>
            </p:cNvCxnSpPr>
            <p:nvPr/>
          </p:nvCxnSpPr>
          <p:spPr>
            <a:xfrm rot="10800000">
              <a:off x="6701040" y="3266640"/>
              <a:ext cx="2844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5" name="_s4102"/>
            <p:cNvCxnSpPr>
              <a:stCxn id="366" idx="1"/>
              <a:endCxn id="362" idx="2"/>
            </p:cNvCxnSpPr>
            <p:nvPr/>
          </p:nvCxnSpPr>
          <p:spPr>
            <a:xfrm rot="10800000">
              <a:off x="6701040" y="3266640"/>
              <a:ext cx="2844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7" name="_s4103"/>
            <p:cNvCxnSpPr>
              <a:stCxn id="368" idx="1"/>
              <a:endCxn id="362" idx="2"/>
            </p:cNvCxnSpPr>
            <p:nvPr/>
          </p:nvCxnSpPr>
          <p:spPr>
            <a:xfrm rot="10800000">
              <a:off x="6701040" y="3266640"/>
              <a:ext cx="2844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9" name="_s4104"/>
            <p:cNvCxnSpPr>
              <a:stCxn id="370" idx="1"/>
              <a:endCxn id="371" idx="2"/>
            </p:cNvCxnSpPr>
            <p:nvPr/>
          </p:nvCxnSpPr>
          <p:spPr>
            <a:xfrm rot="10800000">
              <a:off x="4431960" y="3266640"/>
              <a:ext cx="2826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2" name="_s4105"/>
            <p:cNvCxnSpPr>
              <a:stCxn id="373" idx="1"/>
              <a:endCxn id="371" idx="2"/>
            </p:cNvCxnSpPr>
            <p:nvPr/>
          </p:nvCxnSpPr>
          <p:spPr>
            <a:xfrm rot="10800000">
              <a:off x="4431960" y="3266640"/>
              <a:ext cx="2826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4" name="_s4106"/>
            <p:cNvCxnSpPr>
              <a:stCxn id="375" idx="1"/>
              <a:endCxn id="371" idx="2"/>
            </p:cNvCxnSpPr>
            <p:nvPr/>
          </p:nvCxnSpPr>
          <p:spPr>
            <a:xfrm rot="10800000">
              <a:off x="4431960" y="3266640"/>
              <a:ext cx="2826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6" name="_s4107"/>
            <p:cNvCxnSpPr>
              <a:stCxn id="377" idx="3"/>
              <a:endCxn id="378" idx="2"/>
            </p:cNvCxnSpPr>
            <p:nvPr/>
          </p:nvCxnSpPr>
          <p:spPr>
            <a:xfrm flipV="1">
              <a:off x="2160000" y="3266640"/>
              <a:ext cx="284400" cy="31770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9" name="_s4108"/>
            <p:cNvCxnSpPr>
              <a:stCxn id="380" idx="3"/>
              <a:endCxn id="378" idx="2"/>
            </p:cNvCxnSpPr>
            <p:nvPr/>
          </p:nvCxnSpPr>
          <p:spPr>
            <a:xfrm flipV="1">
              <a:off x="2160000" y="3267000"/>
              <a:ext cx="284400" cy="24948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1" name="_s4109"/>
            <p:cNvCxnSpPr>
              <a:stCxn id="382" idx="3"/>
              <a:endCxn id="378" idx="2"/>
            </p:cNvCxnSpPr>
            <p:nvPr/>
          </p:nvCxnSpPr>
          <p:spPr>
            <a:xfrm flipV="1">
              <a:off x="2160000" y="3267000"/>
              <a:ext cx="2844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3" name="_s4110"/>
            <p:cNvCxnSpPr>
              <a:stCxn id="384" idx="3"/>
              <a:endCxn id="378" idx="2"/>
            </p:cNvCxnSpPr>
            <p:nvPr/>
          </p:nvCxnSpPr>
          <p:spPr>
            <a:xfrm flipV="1">
              <a:off x="2160000" y="3267000"/>
              <a:ext cx="2844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5" name="_s4111"/>
            <p:cNvCxnSpPr>
              <a:stCxn id="386" idx="3"/>
              <a:endCxn id="378" idx="2"/>
            </p:cNvCxnSpPr>
            <p:nvPr/>
          </p:nvCxnSpPr>
          <p:spPr>
            <a:xfrm flipV="1">
              <a:off x="2160000" y="3266640"/>
              <a:ext cx="2844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7" name="_s4112"/>
            <p:cNvCxnSpPr>
              <a:stCxn id="362" idx="0"/>
              <a:endCxn id="388" idx="2"/>
            </p:cNvCxnSpPr>
            <p:nvPr/>
          </p:nvCxnSpPr>
          <p:spPr>
            <a:xfrm flipV="1" rot="16200000">
              <a:off x="5523480" y="1634760"/>
              <a:ext cx="227160" cy="212976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9" name="_s4113"/>
            <p:cNvCxnSpPr>
              <a:stCxn id="371" idx="0"/>
              <a:endCxn id="388" idx="2"/>
            </p:cNvCxnSpPr>
            <p:nvPr/>
          </p:nvCxnSpPr>
          <p:spPr>
            <a:xfrm flipH="1" flipV="1" rot="5400000">
              <a:off x="4389120" y="2629800"/>
              <a:ext cx="227160" cy="14040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90" name="_s4114"/>
            <p:cNvCxnSpPr>
              <a:stCxn id="378" idx="0"/>
              <a:endCxn id="388" idx="2"/>
            </p:cNvCxnSpPr>
            <p:nvPr/>
          </p:nvCxnSpPr>
          <p:spPr>
            <a:xfrm flipH="1" flipV="1" rot="5400000">
              <a:off x="3394800" y="1635480"/>
              <a:ext cx="227160" cy="212904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sp>
          <p:nvSpPr>
            <p:cNvPr id="388" name="_s4115"/>
            <p:cNvSpPr/>
            <p:nvPr/>
          </p:nvSpPr>
          <p:spPr>
            <a:xfrm>
              <a:off x="3720960" y="2133720"/>
              <a:ext cx="1702800" cy="453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ff99"/>
              </a:solidFill>
              <a:miter/>
            </a:ln>
            <a:effectLst>
              <a:outerShdw dist="63504" dir="19383909" blurRad="0" rotWithShape="0">
                <a:srgbClr val="99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роек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_s4116"/>
            <p:cNvSpPr/>
            <p:nvPr/>
          </p:nvSpPr>
          <p:spPr>
            <a:xfrm>
              <a:off x="1592280" y="2813760"/>
              <a:ext cx="1702800" cy="453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Теоретическое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обоснова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_s4117"/>
            <p:cNvSpPr/>
            <p:nvPr/>
          </p:nvSpPr>
          <p:spPr>
            <a:xfrm>
              <a:off x="3579480" y="2813760"/>
              <a:ext cx="1702800" cy="453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рактическая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част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_s4118"/>
            <p:cNvSpPr/>
            <p:nvPr/>
          </p:nvSpPr>
          <p:spPr>
            <a:xfrm>
              <a:off x="5850360" y="2813760"/>
              <a:ext cx="1702800" cy="453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риложе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_s4119"/>
            <p:cNvSpPr/>
            <p:nvPr/>
          </p:nvSpPr>
          <p:spPr>
            <a:xfrm>
              <a:off x="457200" y="3494160"/>
              <a:ext cx="1702800" cy="453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Выбо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темы проек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_s4120"/>
            <p:cNvSpPr/>
            <p:nvPr/>
          </p:nvSpPr>
          <p:spPr>
            <a:xfrm>
              <a:off x="457200" y="4174560"/>
              <a:ext cx="1702800" cy="4532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ктуальност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_s4121"/>
            <p:cNvSpPr/>
            <p:nvPr/>
          </p:nvSpPr>
          <p:spPr>
            <a:xfrm>
              <a:off x="457200" y="4854600"/>
              <a:ext cx="1702800" cy="4532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цел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_s4122"/>
            <p:cNvSpPr/>
            <p:nvPr/>
          </p:nvSpPr>
          <p:spPr>
            <a:xfrm>
              <a:off x="458640" y="5535000"/>
              <a:ext cx="1701000" cy="4532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Задачи проек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_s4123"/>
            <p:cNvSpPr/>
            <p:nvPr/>
          </p:nvSpPr>
          <p:spPr>
            <a:xfrm>
              <a:off x="457200" y="6215400"/>
              <a:ext cx="1702800" cy="4532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Гипотез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_s4124"/>
            <p:cNvSpPr/>
            <p:nvPr/>
          </p:nvSpPr>
          <p:spPr>
            <a:xfrm>
              <a:off x="4714920" y="3494160"/>
              <a:ext cx="1702800" cy="45324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вторска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азработ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_s4125"/>
            <p:cNvSpPr/>
            <p:nvPr/>
          </p:nvSpPr>
          <p:spPr>
            <a:xfrm>
              <a:off x="4714920" y="4174560"/>
              <a:ext cx="1702800" cy="45324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еализаци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азработк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_s4126"/>
            <p:cNvSpPr/>
            <p:nvPr/>
          </p:nvSpPr>
          <p:spPr>
            <a:xfrm>
              <a:off x="4714920" y="4854600"/>
              <a:ext cx="1702800" cy="45324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езультаты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сследова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_s4127"/>
            <p:cNvSpPr/>
            <p:nvPr/>
          </p:nvSpPr>
          <p:spPr>
            <a:xfrm>
              <a:off x="6985800" y="3494160"/>
              <a:ext cx="1700640" cy="45324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нке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_s4128"/>
            <p:cNvSpPr/>
            <p:nvPr/>
          </p:nvSpPr>
          <p:spPr>
            <a:xfrm>
              <a:off x="6985800" y="4174560"/>
              <a:ext cx="1700640" cy="45324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Диаграмм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_s4129"/>
            <p:cNvSpPr/>
            <p:nvPr/>
          </p:nvSpPr>
          <p:spPr>
            <a:xfrm>
              <a:off x="6985800" y="4854600"/>
              <a:ext cx="1698840" cy="45324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Таблиц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_s4130"/>
            <p:cNvSpPr/>
            <p:nvPr/>
          </p:nvSpPr>
          <p:spPr>
            <a:xfrm>
              <a:off x="6985800" y="5535000"/>
              <a:ext cx="1700640" cy="45324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Фотографи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1" name="Picture 50" descr="j0283209"/>
          <p:cNvPicPr/>
          <p:nvPr/>
        </p:nvPicPr>
        <p:blipFill>
          <a:blip r:embed="rId17"/>
          <a:stretch/>
        </p:blipFill>
        <p:spPr>
          <a:xfrm>
            <a:off x="2627280" y="5013360"/>
            <a:ext cx="1728720" cy="169056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51"/>
          <p:cNvSpPr/>
          <p:nvPr/>
        </p:nvSpPr>
        <p:spPr>
          <a:xfrm>
            <a:off x="1077480" y="1378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4D7E-A237-4D93-B941-E92758F7C09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ЦЕНК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 и изделие оценивается во время защиты проекта по следующим критерия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ческое совершен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стетические достоин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опас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ответствие общественным потребност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обство эксплуат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ч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оим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4" descr="j0300840"/>
          <p:cNvPicPr/>
          <p:nvPr/>
        </p:nvPicPr>
        <p:blipFill>
          <a:blip r:embed="rId1"/>
          <a:stretch/>
        </p:blipFill>
        <p:spPr>
          <a:xfrm>
            <a:off x="6732720" y="4869000"/>
            <a:ext cx="1814400" cy="15285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1149120" y="1378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2EE6-9F65-4518-83F8-47C4D3F366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77612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ВОРЧЕСКИЙ ПРОЕКТ –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это самостоятель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творческая работа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выполненная под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руководством учител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j0299125"/>
          <p:cNvPicPr/>
          <p:nvPr/>
        </p:nvPicPr>
        <p:blipFill>
          <a:blip r:embed="rId1"/>
          <a:stretch/>
        </p:blipFill>
        <p:spPr>
          <a:xfrm>
            <a:off x="179280" y="2708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1306080" y="52812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310C-720A-44B9-AA41-5F31A4BC41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матика проект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тика проектов носит декоративно-прикладной, исследовательский, социальный   характер. При таком разнообразии видов работ многосторонняя проба сил позволяет выявить и развить способности и склонности учащихся, сделать процесс обучения интерес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4" descr="SDC12173"/>
          <p:cNvPicPr/>
          <p:nvPr/>
        </p:nvPicPr>
        <p:blipFill>
          <a:blip r:embed="rId1"/>
          <a:stretch/>
        </p:blipFill>
        <p:spPr>
          <a:xfrm>
            <a:off x="7236000" y="4221000"/>
            <a:ext cx="1728720" cy="2305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SDC12174"/>
          <p:cNvPicPr/>
          <p:nvPr/>
        </p:nvPicPr>
        <p:blipFill>
          <a:blip r:embed="rId2"/>
          <a:stretch/>
        </p:blipFill>
        <p:spPr>
          <a:xfrm>
            <a:off x="5508720" y="422100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SDC12178"/>
          <p:cNvPicPr/>
          <p:nvPr/>
        </p:nvPicPr>
        <p:blipFill>
          <a:blip r:embed="rId3"/>
          <a:stretch/>
        </p:blipFill>
        <p:spPr>
          <a:xfrm>
            <a:off x="3780000" y="422100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SDC12179"/>
          <p:cNvPicPr/>
          <p:nvPr/>
        </p:nvPicPr>
        <p:blipFill>
          <a:blip r:embed="rId4"/>
          <a:stretch/>
        </p:blipFill>
        <p:spPr>
          <a:xfrm>
            <a:off x="2050920" y="4221000"/>
            <a:ext cx="1675080" cy="2232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SDC12186"/>
          <p:cNvPicPr/>
          <p:nvPr/>
        </p:nvPicPr>
        <p:blipFill>
          <a:blip r:embed="rId5"/>
          <a:stretch/>
        </p:blipFill>
        <p:spPr>
          <a:xfrm>
            <a:off x="250920" y="4221000"/>
            <a:ext cx="1665360" cy="22068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9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441C-601C-4024-BA78-1559A66B61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мы проектов 2009-2010 уч. г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ы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удьте здоро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узей пуговицы в шко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ки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шивка (крест, гладь, изонит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язание (крючком, спицам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летение (макраме, лоз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екупа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изайн (помещения, ландшафт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следовательски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оя будущая професс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стория материалов (металл, ткан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оль косметики в жизни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овые направления дизайна (пирсинг, тюнинг, татуировк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4" descr="SDC12184"/>
          <p:cNvPicPr/>
          <p:nvPr/>
        </p:nvPicPr>
        <p:blipFill>
          <a:blip r:embed="rId1"/>
          <a:stretch/>
        </p:blipFill>
        <p:spPr>
          <a:xfrm>
            <a:off x="5076720" y="1989000"/>
            <a:ext cx="3888000" cy="33832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5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C275-E9E3-493A-BA0F-04DC9EDEC2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ыполнение творческого проекта – одна из сторон воспитания. Оно нацелено на создание детьми нравственной ценности трудового начала жизни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Лернер П.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SDC11711"/>
          <p:cNvPicPr/>
          <p:nvPr/>
        </p:nvPicPr>
        <p:blipFill>
          <a:blip r:embed="rId1"/>
          <a:stretch/>
        </p:blipFill>
        <p:spPr>
          <a:xfrm>
            <a:off x="971640" y="3284640"/>
            <a:ext cx="7345440" cy="338292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6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146E-ECE3-4F4B-8B6D-8476010F99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797724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ВОРЧЕСКИЙ ПРОЕКТ - 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это учебно-трудовое задание, активизирующее деятельность учащихся, в результате которого ими создается продукт, обладающий новизной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j0299125"/>
          <p:cNvPicPr/>
          <p:nvPr/>
        </p:nvPicPr>
        <p:blipFill>
          <a:blip r:embed="rId1"/>
          <a:stretch/>
        </p:blipFill>
        <p:spPr>
          <a:xfrm>
            <a:off x="324000" y="4724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7"/>
          <p:cNvSpPr/>
          <p:nvPr/>
        </p:nvSpPr>
        <p:spPr>
          <a:xfrm>
            <a:off x="1150560" y="2804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71FF-E674-4B89-A267-C1FD48A7E4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37" name="Organization Chart 5"/>
          <p:cNvGrpSpPr/>
          <p:nvPr/>
        </p:nvGrpSpPr>
        <p:grpSpPr>
          <a:xfrm>
            <a:off x="457200" y="1557360"/>
            <a:ext cx="8228160" cy="4966920"/>
            <a:chOff x="457200" y="1557360"/>
            <a:chExt cx="8228160" cy="4966920"/>
          </a:xfrm>
        </p:grpSpPr>
        <p:cxnSp>
          <p:nvCxnSpPr>
            <p:cNvPr id="238" name="_s1028"/>
            <p:cNvCxnSpPr>
              <a:stCxn id="239" idx="1"/>
              <a:endCxn id="240" idx="2"/>
            </p:cNvCxnSpPr>
            <p:nvPr/>
          </p:nvCxnSpPr>
          <p:spPr>
            <a:xfrm rot="10800000">
              <a:off x="2925000" y="2140920"/>
              <a:ext cx="823320" cy="4093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1" name="_s1029"/>
            <p:cNvCxnSpPr>
              <a:stCxn id="242" idx="1"/>
              <a:endCxn id="240" idx="2"/>
            </p:cNvCxnSpPr>
            <p:nvPr/>
          </p:nvCxnSpPr>
          <p:spPr>
            <a:xfrm rot="10800000">
              <a:off x="2925000" y="2140920"/>
              <a:ext cx="823320" cy="321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3" name="_s1030"/>
            <p:cNvCxnSpPr>
              <a:stCxn id="244" idx="1"/>
              <a:endCxn id="240" idx="2"/>
            </p:cNvCxnSpPr>
            <p:nvPr/>
          </p:nvCxnSpPr>
          <p:spPr>
            <a:xfrm rot="10800000">
              <a:off x="2925000" y="2140920"/>
              <a:ext cx="823320" cy="2338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5" name="_s1031"/>
            <p:cNvCxnSpPr>
              <a:stCxn id="246" idx="1"/>
              <a:endCxn id="240" idx="2"/>
            </p:cNvCxnSpPr>
            <p:nvPr/>
          </p:nvCxnSpPr>
          <p:spPr>
            <a:xfrm rot="10800000">
              <a:off x="2925000" y="2140920"/>
              <a:ext cx="823320" cy="1461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7" name="_s1032"/>
            <p:cNvCxnSpPr>
              <a:stCxn id="248" idx="1"/>
              <a:endCxn id="240" idx="2"/>
            </p:cNvCxnSpPr>
            <p:nvPr/>
          </p:nvCxnSpPr>
          <p:spPr>
            <a:xfrm rot="10800000">
              <a:off x="2925000" y="2140920"/>
              <a:ext cx="823320" cy="58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0" name="_s1033"/>
            <p:cNvSpPr/>
            <p:nvPr/>
          </p:nvSpPr>
          <p:spPr>
            <a:xfrm>
              <a:off x="457200" y="155736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Организационно-подготовительн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этап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_s1034"/>
            <p:cNvSpPr/>
            <p:nvPr/>
          </p:nvSpPr>
          <p:spPr>
            <a:xfrm>
              <a:off x="3748320" y="24336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Обоснование возникшей проблемы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и потребности.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_s1035"/>
            <p:cNvSpPr/>
            <p:nvPr/>
          </p:nvSpPr>
          <p:spPr>
            <a:xfrm>
              <a:off x="3748320" y="33102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1036"/>
            <p:cNvSpPr/>
            <p:nvPr/>
          </p:nvSpPr>
          <p:spPr>
            <a:xfrm>
              <a:off x="3748320" y="41868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1037"/>
            <p:cNvSpPr/>
            <p:nvPr/>
          </p:nvSpPr>
          <p:spPr>
            <a:xfrm>
              <a:off x="3748320" y="50634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1038"/>
            <p:cNvSpPr/>
            <p:nvPr/>
          </p:nvSpPr>
          <p:spPr>
            <a:xfrm>
              <a:off x="3748320" y="59400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Выбор оборудования,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инструментов и приспособлен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Rectangle 30"/>
          <p:cNvSpPr/>
          <p:nvPr/>
        </p:nvSpPr>
        <p:spPr>
          <a:xfrm>
            <a:off x="4359960" y="4149720"/>
            <a:ext cx="4065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исание внешнего вида мод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1"/>
          <p:cNvSpPr/>
          <p:nvPr/>
        </p:nvSpPr>
        <p:spPr>
          <a:xfrm>
            <a:off x="4790880" y="5157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бор материа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32"/>
          <p:cNvSpPr/>
          <p:nvPr/>
        </p:nvSpPr>
        <p:spPr>
          <a:xfrm>
            <a:off x="5509800" y="328464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бор мод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34" descr="000_0582"/>
          <p:cNvPicPr/>
          <p:nvPr/>
        </p:nvPicPr>
        <p:blipFill>
          <a:blip r:embed="rId1"/>
          <a:stretch/>
        </p:blipFill>
        <p:spPr>
          <a:xfrm>
            <a:off x="250920" y="3213000"/>
            <a:ext cx="2592360" cy="2160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5"/>
          <p:cNvSpPr/>
          <p:nvPr/>
        </p:nvSpPr>
        <p:spPr>
          <a:xfrm>
            <a:off x="726840" y="914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9653-F11A-46E9-9A66-1D7E7BAB707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виться проблема осознания нужд и потребностей во всех сферах деятельности человека (зачем и почему  надо выполнить проект, каково его значение в  жизни обществ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вится цель – получение полезного проекта, который может носить как социальный, так и личностный характе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нируется технология изготовления, ( подбор инструментов и оборудован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яется последовательность технологических операций (выбор оптимальной технологии изготовления издели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ствами деятельности выступает личный опыт, а так же все рабочие инструменты и оборудо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ами деятельности является приобретение новых знаний, умений, производится самоконтроль и самооц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5243-ECEE-4F54-88EE-89B47300C0B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2" name="Organization Chart 16"/>
          <p:cNvGrpSpPr/>
          <p:nvPr/>
        </p:nvGrpSpPr>
        <p:grpSpPr>
          <a:xfrm>
            <a:off x="457200" y="1989000"/>
            <a:ext cx="8228160" cy="4534920"/>
            <a:chOff x="457200" y="1989000"/>
            <a:chExt cx="8228160" cy="4534920"/>
          </a:xfrm>
        </p:grpSpPr>
        <p:cxnSp>
          <p:nvCxnSpPr>
            <p:cNvPr id="263" name="_s2052"/>
            <p:cNvCxnSpPr>
              <a:stCxn id="264" idx="1"/>
              <a:endCxn id="265" idx="2"/>
            </p:cNvCxnSpPr>
            <p:nvPr/>
          </p:nvCxnSpPr>
          <p:spPr>
            <a:xfrm rot="10800000">
              <a:off x="2925000" y="3121920"/>
              <a:ext cx="823320" cy="283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6" name="_s2053"/>
            <p:cNvCxnSpPr>
              <a:stCxn id="267" idx="1"/>
              <a:endCxn id="265" idx="2"/>
            </p:cNvCxnSpPr>
            <p:nvPr/>
          </p:nvCxnSpPr>
          <p:spPr>
            <a:xfrm rot="10800000">
              <a:off x="2925000" y="3121920"/>
              <a:ext cx="823320" cy="1134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65" name="_s2054"/>
            <p:cNvSpPr/>
            <p:nvPr/>
          </p:nvSpPr>
          <p:spPr>
            <a:xfrm>
              <a:off x="457200" y="198900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Технологический этап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_s2055"/>
            <p:cNvSpPr/>
            <p:nvPr/>
          </p:nvSpPr>
          <p:spPr>
            <a:xfrm>
              <a:off x="3748320" y="368964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Выполнение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технологических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операций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_s2056"/>
            <p:cNvSpPr/>
            <p:nvPr/>
          </p:nvSpPr>
          <p:spPr>
            <a:xfrm>
              <a:off x="3748320" y="539028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Соблюдение условий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техники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безопасности и культуры труда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8" name="Picture 26" descr="настя1"/>
          <p:cNvPicPr/>
          <p:nvPr/>
        </p:nvPicPr>
        <p:blipFill>
          <a:blip r:embed="rId1"/>
          <a:stretch/>
        </p:blipFill>
        <p:spPr>
          <a:xfrm>
            <a:off x="6227640" y="1557360"/>
            <a:ext cx="2556000" cy="1917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7" descr="настя"/>
          <p:cNvPicPr/>
          <p:nvPr/>
        </p:nvPicPr>
        <p:blipFill>
          <a:blip r:embed="rId2"/>
          <a:stretch/>
        </p:blipFill>
        <p:spPr>
          <a:xfrm>
            <a:off x="250920" y="5075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8" descr="лена"/>
          <p:cNvPicPr/>
          <p:nvPr/>
        </p:nvPicPr>
        <p:blipFill>
          <a:blip r:embed="rId3"/>
          <a:stretch/>
        </p:blipFill>
        <p:spPr>
          <a:xfrm>
            <a:off x="179280" y="3213000"/>
            <a:ext cx="2400480" cy="180036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29"/>
          <p:cNvSpPr/>
          <p:nvPr/>
        </p:nvSpPr>
        <p:spPr>
          <a:xfrm>
            <a:off x="1083960" y="9648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AA83-4419-4B5C-856A-6C98356FA2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яются технологические операции, корректируется деятельность, производится самоконтроль и самооценка работ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– качественнее и правильнее выполнить трудовые операц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зультат – приобретение знаний, умений и навы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4" descr="SDC11284"/>
          <p:cNvPicPr/>
          <p:nvPr/>
        </p:nvPicPr>
        <p:blipFill>
          <a:blip r:embed="rId1"/>
          <a:stretch/>
        </p:blipFill>
        <p:spPr>
          <a:xfrm>
            <a:off x="684360" y="3122640"/>
            <a:ext cx="3958920" cy="2970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SDC11286"/>
          <p:cNvPicPr/>
          <p:nvPr/>
        </p:nvPicPr>
        <p:blipFill>
          <a:blip r:embed="rId2"/>
          <a:stretch/>
        </p:blipFill>
        <p:spPr>
          <a:xfrm>
            <a:off x="4788000" y="314172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6"/>
          <p:cNvSpPr/>
          <p:nvPr/>
        </p:nvSpPr>
        <p:spPr>
          <a:xfrm>
            <a:off x="726840" y="1360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EFF3-59DC-45BD-9088-80D1FB57B0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I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82" name="Organization Chart 5"/>
          <p:cNvGrpSpPr/>
          <p:nvPr/>
        </p:nvGrpSpPr>
        <p:grpSpPr>
          <a:xfrm>
            <a:off x="457200" y="1989000"/>
            <a:ext cx="8228160" cy="4534920"/>
            <a:chOff x="457200" y="1989000"/>
            <a:chExt cx="8228160" cy="4534920"/>
          </a:xfrm>
        </p:grpSpPr>
        <p:cxnSp>
          <p:nvCxnSpPr>
            <p:cNvPr id="283" name="_s3076"/>
            <p:cNvCxnSpPr>
              <a:stCxn id="284" idx="1"/>
              <a:endCxn id="285" idx="2"/>
            </p:cNvCxnSpPr>
            <p:nvPr/>
          </p:nvCxnSpPr>
          <p:spPr>
            <a:xfrm rot="10800000">
              <a:off x="2925000" y="3121920"/>
              <a:ext cx="823320" cy="283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6" name="_s3077"/>
            <p:cNvCxnSpPr>
              <a:stCxn id="287" idx="1"/>
              <a:endCxn id="285" idx="2"/>
            </p:cNvCxnSpPr>
            <p:nvPr/>
          </p:nvCxnSpPr>
          <p:spPr>
            <a:xfrm rot="10800000">
              <a:off x="2925000" y="3121920"/>
              <a:ext cx="823320" cy="1134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5" name="_s3078"/>
            <p:cNvSpPr/>
            <p:nvPr/>
          </p:nvSpPr>
          <p:spPr>
            <a:xfrm>
              <a:off x="457200" y="198900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Заключительный этап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_s3079"/>
            <p:cNvSpPr/>
            <p:nvPr/>
          </p:nvSpPr>
          <p:spPr>
            <a:xfrm>
              <a:off x="3748320" y="368964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Оценка проделанной работы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_s3080"/>
            <p:cNvSpPr/>
            <p:nvPr/>
          </p:nvSpPr>
          <p:spPr>
            <a:xfrm>
              <a:off x="3748320" y="539028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Защита проекта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8" name="Picture 16" descr="SDC11186"/>
          <p:cNvPicPr/>
          <p:nvPr/>
        </p:nvPicPr>
        <p:blipFill>
          <a:blip r:embed="rId1"/>
          <a:stretch/>
        </p:blipFill>
        <p:spPr>
          <a:xfrm>
            <a:off x="6084720" y="162864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7" descr="SDC11001"/>
          <p:cNvPicPr/>
          <p:nvPr/>
        </p:nvPicPr>
        <p:blipFill>
          <a:blip r:embed="rId2"/>
          <a:stretch/>
        </p:blipFill>
        <p:spPr>
          <a:xfrm>
            <a:off x="324000" y="4365720"/>
            <a:ext cx="2520720" cy="18907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8"/>
          <p:cNvSpPr/>
          <p:nvPr/>
        </p:nvSpPr>
        <p:spPr>
          <a:xfrm>
            <a:off x="1044360" y="182160"/>
            <a:ext cx="686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5B7B-1A70-423A-98FD-595F593EE4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II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исходит окончательный контроль и защита проек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ятся экономические расче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ятся экологические исслед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зируется проделанная работа, устанавливается, результат тр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формляются результа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изводится защита про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4" descr="11 б 010"/>
          <p:cNvPicPr/>
          <p:nvPr/>
        </p:nvPicPr>
        <p:blipFill>
          <a:blip r:embed="rId1"/>
          <a:stretch/>
        </p:blipFill>
        <p:spPr>
          <a:xfrm>
            <a:off x="539640" y="4076640"/>
            <a:ext cx="2109960" cy="2509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день моря 3"/>
          <p:cNvPicPr/>
          <p:nvPr/>
        </p:nvPicPr>
        <p:blipFill>
          <a:blip r:embed="rId2"/>
          <a:stretch/>
        </p:blipFill>
        <p:spPr>
          <a:xfrm>
            <a:off x="6588000" y="3357720"/>
            <a:ext cx="2298960" cy="2462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SDC11181"/>
          <p:cNvPicPr/>
          <p:nvPr/>
        </p:nvPicPr>
        <p:blipFill>
          <a:blip r:embed="rId3"/>
          <a:stretch/>
        </p:blipFill>
        <p:spPr>
          <a:xfrm>
            <a:off x="2987640" y="414972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SDC11704"/>
          <p:cNvPicPr/>
          <p:nvPr/>
        </p:nvPicPr>
        <p:blipFill>
          <a:blip r:embed="rId4"/>
          <a:stretch/>
        </p:blipFill>
        <p:spPr>
          <a:xfrm>
            <a:off x="7740720" y="907920"/>
            <a:ext cx="1020600" cy="1484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000_0231"/>
          <p:cNvPicPr/>
          <p:nvPr/>
        </p:nvPicPr>
        <p:blipFill>
          <a:blip r:embed="rId5"/>
          <a:stretch/>
        </p:blipFill>
        <p:spPr>
          <a:xfrm>
            <a:off x="250920" y="836640"/>
            <a:ext cx="1942920" cy="10605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9"/>
          <p:cNvSpPr/>
          <p:nvPr/>
        </p:nvSpPr>
        <p:spPr>
          <a:xfrm>
            <a:off x="933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50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06:37:30Z</dcterms:created>
  <dc:creator>ПК</dc:creator>
  <dc:description>uchportal.ru</dc:description>
  <dc:language>en-US</dc:language>
  <cp:lastModifiedBy>LEGION</cp:lastModifiedBy>
  <dcterms:modified xsi:type="dcterms:W3CDTF">2015-03-31T08:31:44Z</dcterms:modified>
  <cp:revision>23</cp:revision>
  <dc:subject/>
  <dc:title>Проект по техн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9000000000001024140</vt:lpwstr>
  </property>
</Properties>
</file>