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66FD-5E74-454F-ADD7-ABBD26FA2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звание проекта:</a:t>
            </a:r>
            <a:br>
              <a:rPr sz="1200"/>
            </a:b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должение проект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храны здоровья дете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щеобразовательн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ицкая Ирина Леонид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1977-99F9-4C79-B531-DE06632460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новационный потенциал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BB59-8FF3-46D7-93A4-C58926374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Каким специальностям и направлениям подготовки соответствует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рассчитан на студентов ЮФУ (РГУ), получающих специальность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C3D7-2664-47D1-88C0-0252EBE3B0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бщее число испол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95B4-A516-4FD4-9359-0350E5DFA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ая рабо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10) -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 (10) –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- 8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ого: 35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1670-0A7F-4E1F-89E0-6C7501129A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обору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 (сканер, цветной принтер) -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компьютерного класса – 5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монт учебных классов – 1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(муляжей,  мед. инструментария) –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работы с интерактивной доской, мультимедийным оборудованием - 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овки в ведущие учебные заведения РФ по обмену опытом (СПбГПУ) – 3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: 197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CAE9-B12E-4F32-BE24-BCB732273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борудование, необходимое для реализации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ое презентацион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компьютерного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8552-C840-43A2-9407-DB8529B07F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ммерческая перспектив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обучающихся на коммерческой основе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-методической литературы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49E7-6BC3-4862-9C80-7AF8A8681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личие потенциального заказ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азчик: Управление образования г. Ростова-на-До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55C2-F603-4266-BBA3-EF8E07D4F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еречень объектов интеллектуа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21B1-C61D-419A-A236-99449DC8F2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ланируемая в 2008-2009г. реализация результатов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слушателей на коммерческ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4C46-086C-43A6-8D0E-A4F805342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рганизация </a:t>
            </a:r>
            <a:br>
              <a:rPr sz="1600"/>
            </a:b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– головной исполн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ащиты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резвычайной обстановк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о-почвенного факульт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ого федераль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DA9D-A2D0-4F79-9180-7FF2CE301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спектив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является продолжением заявки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 на период до 201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B214-8A0C-41B7-AAB8-F709F54D09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ип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 для ЮФУ: проект по созданию департамента би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8546-2994-4ADE-9E7F-AF86DB8E0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Задел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ы к публик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урса «Основы медицинских знаний и охраны здоровья детей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858F-9DB4-402F-8626-4F8FA5C690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Цель и 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готовка преподавателей дисциплины «Осно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х знаний и охраны здоровья детей» для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 Подготовка учебно-методической базы кур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дготовка к публикации учебников по основным разделам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 разделов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издание учебно-методических пособий по наиболее актуаль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м учебного кур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готовка презентационных программ по лекционному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одготовка базы современных литературных источников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я электронных учебных пособ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создание сайта с целью внешнего привлечения слуш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) с 2009г. набор студентов для обучения на коммерческ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057A-4449-4C65-9944-66A12F407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Актуальность и значим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елью рабо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ADCF-97F2-4EEE-9FED-889DF77CE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Научная и методическая новиз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ный курс не имеет аналогов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требованиям, предъявляемым к современной высшей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CC6D-E669-4821-BE11-BAB782D27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жидаемые результ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учебно-методической ба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по основным разделам УМК (8 разде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наиболее актуальным проблемам дисциплины (не менее 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зентационных материалов к лекционному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курса лекций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тестового контроля знаний (промежуточного и конечног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5C35-6772-4FEE-A0C9-611FEB48A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F37-34D0-407F-9931-92D235D6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92F-3ADC-4B13-9C93-4536956E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4EB-8031-49DB-BB3D-96D94BFE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697-9E05-462C-9104-367E73CA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6D8-321B-4BA1-994B-C540206C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7F6-CC76-46D2-9A9F-12E81D4A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C87-68AF-479F-9329-33BC4ED1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304-9258-469C-A47D-351200D3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BBA-CD82-4679-AC0F-9B48A89F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58D-085A-432A-9CC6-11AC8F2F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BB1-BBCC-4FB5-81B7-168E52A8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D9C-19D8-4C02-B219-5B4991D0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6601-E1DF-42FB-A192-0C103FFBB3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звание проекта: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Calibri"/>
              </a:rPr>
              <a:t>продолжение проекта 2007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охраны здоровья детей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бщеобразовательной шк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по программе дополнительной профессиональной квалификаци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Calibri"/>
              </a:rPr>
              <a:t>Руководител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ницкая Ирина Леонид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.м.н., доц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Инновационный потенциал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Каким специальностям и направлениям подготовки соответствует 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рассчитан на студентов ЮФУ (РГУ), получающих специальность 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олнительной профессиональной квал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бщее число исполн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68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685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ая рабо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10) -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 (10) –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- 80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того: 356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ие обору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техника (сканер, цветной принтер) - 1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рудование компьютерного класса – 5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онт учебных классов – 10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(муляжей,  мед. инструментария) – 5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работы с интерактивной доской, мультимедийным оборудованием - 2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ировки в ведущие учебные заведения РФ по обмену опытом (СПбГПУ) – 3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: 197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борудование, необходимое для реализаци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ьтимедийное презентационн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ащение компьютерного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по кур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Коммерческая перспектив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23587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обучающихся на коммерческой основе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-методической литературы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личие потенциального заказч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20541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азчик: Управление образования г. Ростова-на-Дон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еречень объектов интеллектуальн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собств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09480" y="16444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е УМК и программа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й лекционный кур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грамме УМ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бн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основным разделам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и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тестового контрол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ланируемая в 2008-2009г. реализация результато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слушателей на коммерческой осн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й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– головной исполнит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22827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федра «Основы медицинских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щиты насе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резвычайной обстановк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олого-почвенного факульт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жного федерального универс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рспективное 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 является продолжением заявки 2007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читан на период до 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Тип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авление  для ЮФУ: проект по созданию департамента би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Задел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476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готовлены к публикаци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ентация курса «Основы медицинских знаний и охраны здоровья детей»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Цель: подготовка преподавателей дисциплины «Основ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дицинских знаний и охраны здоровья детей» для работ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чи: Подготовка учебно-методической базы курса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подготовка к публикации учебников по основным разделам курс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8 разделов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издание учебно-методических пособий по наиболее актуальны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облемам учебного курс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подготовка презентационных программ по лекционному курсу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подготовка базы современных литературных источников дл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ормирования электронных учебных пособ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) создание сайта с целью внешнего привлечения слушател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) с 2009г. набор студентов для обучения на коммерческих условия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Актуальность и значим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292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ью раб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учная и методическая новиз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1680" y="19810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нный курс не имеет аналогов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чает требованиям, предъявляемым к современной высше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учебно-методической баз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ики по основным разделам УМК (8 раздел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о-методические пособия по наиболее актуальным проблемам дисциплины (не менее 3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зентационных материалов к лекционному курс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дание курса лекций по дисцип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истемы тестового контроля знаний (промежуточного и конечног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RomaK</cp:lastModifiedBy>
  <dcterms:modified xsi:type="dcterms:W3CDTF">2014-10-31T13:27:1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