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4726-4F78-4261-A58C-8775292D15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Название проекта:</a:t>
            </a:r>
            <a:br>
              <a:rPr sz="1200"/>
            </a:b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должение проекта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храны здоровья детей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щеобразовательной шко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ницкая Ирина Леонид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6D73-4B90-41BC-A66B-FBBB5506A9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нновационный потенциал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CF44-56DF-4B96-8D3C-DC1EAD6DC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Каким специальностям и направлениям подготовки соответствует про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рассчитан на студентов ЮФУ (РГУ), получающих специальность «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подав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ополнительной профессиональной квал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3CB7-B07E-4967-93D3-E751E713B4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бщее число испол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F23F-5C4F-4AAD-ACFE-8D83CDC9D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ая рабо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10) -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(2) – 4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(7) – 4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– 8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варта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 (1) – 2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 (10) – 6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и (8) - 80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того: 356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4AD5-6BA4-45F1-A111-3E909B168F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ОЕКТ С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обору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 (сканер, цветной принтер) -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компьютерного класса – 5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монт учебных классов – 10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(муляжей,  мед. инструментария) – 5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работы с интерактивной доской, мультимедийным оборудованием - 2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ировки в ведущие учебные заведения РФ по обмену опытом (СПбГПУ) – 3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ого: 197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640C-1DA1-4D72-9B19-783FB21ED6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борудование, необходимое для реализации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йное презентацион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тех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ащение компьютерного кла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демонстрационной учебной базы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E62C-5C4B-4C85-ABFD-DA5CBA5082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оммерческая перспектива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обучающихся на коммерческой основе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-методической литературы (200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ADD1-93F4-4792-BA39-AEAE11032C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аличие потенциального заказч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азчик: Управление образования г. Ростова-на-До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67D8-83AB-4F9F-8040-957D4CE7DB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Перечень объектов интеллектуаль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E115-4F00-4FC2-9FD9-248A011C23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ланируемая в 2008-2009г. реализация результатов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слушателей на коммерческ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учебн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84D9-C3F1-4B86-8BED-10A0791AD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Организация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– головной исполн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Основы медицинских зн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защиты насе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резвычайной обстановк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о-почвенного факульт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жного федеральн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2A64-0F6C-4367-8E90-348171905E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спектив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 является продолжением заявки 2007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 на период до 2010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775F-B89C-432B-B451-9062CA531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Тип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те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 для ЮФУ: проект по созданию департамента би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5273-6535-4E51-B17B-2B99D264A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Задел проек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лены к публик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курса «Основы медицинских знаний и охраны здоровья детей»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140A-D0B1-4BA0-9174-DF4DFD7EEB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Цель и задачи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готовка преподавателей дисциплины «Осно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х знаний и охраны здоровья детей» для работ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 Подготовка учебно-методической базы курс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одготовка к публикации учебников по основным разделам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 разделов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издание учебно-методических пособий по наиболее актуаль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м учебного кур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готовка презентационных программ по лекционному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подготовка базы современных литературных источников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я электронных учебных пособ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создание сайта с целью внешнего привлечения слуш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) с 2009г. набор студентов для обучения на коммерческих услов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55E5-9131-407F-B358-5141309DE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Актуальность и значимос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Целью рабо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F9BB-A93D-46AC-B39D-796123731A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Arial"/>
              </a:rPr>
              <a:t>Научная и методическая новиз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нный курс не имеет аналогов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вечает требованиям, предъявляемым к современной высшей шк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A1C1-16F8-4698-9906-6824F5725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Ожидаемые результа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учебно-методической ба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ики по основным разделам УМК (8 разде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наиболее актуальным проблемам дисциплины (не менее 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зентационных материалов к лекционному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ние курса лекций по дисципл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тестового контроля знаний (промежуточного и конечног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4F1C-F9DC-4CCC-92EB-5F6C34DE9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066-1418-491A-8028-16B13FA4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86FD-083F-444A-96FE-E522D961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C40-3A1C-48B7-98EC-88127C32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418-624E-474D-9EE3-E114B7B3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034-3574-4B51-902A-90414370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F5F-965A-4BA6-AC06-4A27F0A9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1F9-1A1C-4B8A-AF6F-B7AFF93E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81B-6C04-4408-BF64-96B25ED0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0F2-B864-45B5-A32B-B43C18A7B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8675-EA11-4A6F-9634-109180F2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A2F-275E-4D68-8291-0E4AA0AB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8EC-E534-4A03-9F59-3B02737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8AF-05D5-49FD-AF28-327006E8E0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звание проекта:</a:t>
            </a:r>
            <a:br>
              <a:rPr sz="2900"/>
            </a:br>
            <a:r>
              <a:rPr b="0" lang="ru-RU" sz="2900" spc="-1" strike="noStrike">
                <a:solidFill>
                  <a:srgbClr val="ff3300"/>
                </a:solidFill>
                <a:latin typeface="Calibri"/>
              </a:rPr>
              <a:t>продолжение проекта 2007 г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охраны здоровья детей»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ля общеобразовательной школы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по программе дополнительной профессиональной квалификации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3300"/>
                </a:solidFill>
                <a:latin typeface="Calibri"/>
              </a:rPr>
              <a:t>Руководител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ницкая Ирина Леонид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.м.н., доцен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Инновационный потенциал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преподавателей новой дисциплины «Основы медицинских знаний и охраны здоровья детей» для работы в общеобразовательной школе по программе дополнительной профессиональной квал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работка принципиально новых учебно-методических материалов, направленных на приобретение необходимых знаний и умений, позволяющих обеспечить, пропаганду здорового образа жизни школьников, создающих условия для нормального роста и развития подрастающего покол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Каким специальностям и направлениям подготовки соответствует прое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 рассчитан на студентов ЮФУ (РГУ), получающих специальность «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осуществляется по программ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дополнительной профессиональной квал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бщее число исполн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1680" y="2435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3 человек (10 преподавателей и 3 лаборанта, из них 2 доцента, 4 кандидата медицинских наук, сотрудников без ученой степени - 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4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ая рабо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10) -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3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и (2) – 4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(7) – 42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– 8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 квартал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ик (1) – 2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чебно-методические пособия  (10) – 600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зентации (8) - 800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того: 3560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РОЕКТ СМ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бретение оборудов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техника (сканер, цветной принтер) - 1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рудование компьютерного класса – 5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монт учебных классов – 10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(муляжей,  мед. инструментария) – 5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 работы с интерактивной доской, мультимедийным оборудованием - 2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андировки в ведущие учебные заведения РФ по обмену опытом (СПбГПУ) – 30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о: 19700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борудование, необходимое для реализаци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имедийное презентационное обеспе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тех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ащение компьютерного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новление демонстрационной учебной базы по кур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Коммерческая перспектива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01680" y="23587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обучающихся на коммерческой основе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из других подразделений ЮФУ, ВУЗв РО, ЮФО для приобретения дополнительной профессиональной квалификации по специальности «преподаватель основ медицинских знаний и охраны здоровья детей»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-методической литературы (2009 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личие потенциального заказч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1680" y="20541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азчик: Управление образования г. Ростова-на-Дон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ание: письмо от 20.12.2007 г. Управления образования г. Ростова-на-Дону о чрезвычайной актуальности подготовки преподавателей дисциплины «Основы медицинских знаний и охраны здоровья детей» для работы в общеобразовательных школах (с выдачей соответствующего удостовере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еречень объектов интеллектуальной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собств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09480" y="1644480"/>
            <a:ext cx="82296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е УМК и программа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ный лекционный кур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программе УМ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ебник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-методические пособия по основным разделам програм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и по курсу «Основы медицинских знаний и охраны здоровья детей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тестового контроля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Планируемая в 2008-2009г. реализация результатов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1680" y="15238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общеобразовательной школы по программе дополнительной профессиональной квалификации с выдачей соответствующего удостовер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бор слушателей на коммерческой осн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икл презентаций (создание сайта) с целью привлечения слушателей других подразделений ЮФУ, ВУЗов РО, ЮФО, для приобретения дополнительной профессиональной квалификации по специальности «преподаватель основ медицинских знаний и охраны здоровья дет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ализация учебной литерату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Организация </a:t>
            </a:r>
            <a:br>
              <a:rPr sz="3600"/>
            </a:br>
            <a:r>
              <a:rPr b="0" lang="ru-RU" sz="3600" spc="-1" strike="noStrike">
                <a:solidFill>
                  <a:srgbClr val="ff3300"/>
                </a:solidFill>
                <a:latin typeface="Calibri"/>
              </a:rPr>
              <a:t>– головной исполнитель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1680" y="22827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федра «Основы медицин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защиты насел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резвычайной обстановк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олого-почвенного факульте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Южного федеральн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спективное план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ект является продолжением заявки 200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читан на период до 2010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 2007г. начато формирование учебно-методической базы (УМК, программа курса, 2 учебника, 7 учебно-методических пособий, презентация лекционного курс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учение студентов по программе проводится с 1992г.(с 2005г. отменена выдача удостоверений о прослушанном курс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Тип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ветствует приоритетному направлению по охране здоровья населения РФ в свете Национального проекта «Здоровье нации» и «Образо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авление  для ЮФУ: проект по созданию департамента би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ностью соответствует требованиям, предъявляемым к разрабатываемым проектам и учебной литературе для высших учебных завед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Задел проек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7476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Опубликованы с 1993 года 52 учебно-методических пособия, 2 учебника, 7 научных тезисов для участия в региональных и международных конференциях, разработаны курсы лекций по всем разделам УМК, тестовый контроль  знаний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Разработан УМК и программа по курсу «Основы медицинских знаний и охраны здоровья детей»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одготовлены к публикации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-    учебники: «Возрастные особенности жизни женщины», «Первая медицинская помощь при основных хирургических заболеваниях и травмах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ебно-методические пособия: «Организация учебного процесса и физическое воспитание школьников», «Питание школьников», «Подготовка и адаптация детей к началу обучения в школе», «Гепатиты», «Вегето-сосудистая дистония» 2 части, «Лихорадка, причины, первая помощь»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езентация курса «Основы медицинских знаний и охраны здоровья детей».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1680" y="13712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Цель: подготовка преподавателей дисциплины «Основ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дицинских знаний и охраны здоровья детей» для работы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общеобразовательных школах (по программе дополнительной профессиональной квалификации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Задачи: Подготовка учебно-методической базы курса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а) подготовка к публикации учебников по основным разделам курс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(8 разделов);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б) издание учебно-методических пособий по наиболее актуальным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облемам учебного курса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) подготовка презентационных программ по лекционному курсу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) подготовка базы современных литературных источников для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формирования электронных учебных пособи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) создание сайта с целью внешнего привлечения слушателей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е) с 2009г. набор студентов для обучения на коммерческих условия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Актуальность и значимос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2920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вычайно актуальной представляется проблема сохранения здоровья детей и подростков как наиболее уязвимых к стрессорным воздействиям в силу несовершенства адаптационных механизм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основных направлениях реформы общеобразовательной школы сказано: «Необходимо, чтобы каждый школьник овладел минимумом знаний в области гигиены и медицины, смолоду знал свой организм и умел поддерживать его в порядке»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ольшинство руководителей СОШ признает необходимость пропаганды здорового образа жизни школьников при отсутствии подготовленных педагогических кад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дельные образовательные школьные программы по данной теме ведутся по исключительно по инициативе педаг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Целью работ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углубленная разработка разделов курса «Основ медицинских знаний и охраны здоровья детей» по охране здоровья ребенка, применение здоровьесберегающих технологий, пропаганда здорового образа жизни школь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Calibri"/>
              </a:rPr>
              <a:t>Научная и методическая новизн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1680" y="19810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нный курс не имеет аналогов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чает требованиям, предъявляемым к современной высшей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рс будет способствовать улучшению качества жизни и здоровья школьников, и населения РФ в цел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Calibri"/>
              </a:rPr>
              <a:t>Ожидаемые результа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168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учебно-методической базы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ики по основным разделам УМК (8 раздел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ебно-методические пособия по наиболее актуальным проблемам дисциплины (не менее 3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зентационных материалов к лекционному курс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дание курса лекций по дисцип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работка системы тестового контроля знаний (промежуточного и конечного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готовка преподавателей дисциплины «Основы медицинских знаний и охраны здоровья детей» для работы общеобразовательной школе (по программе дополнительной профессиональной квалификаци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RomaK</cp:lastModifiedBy>
  <dcterms:modified xsi:type="dcterms:W3CDTF">2014-10-31T13:27:10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