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4898-2E00-490D-A8DE-7274B9365C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звание проекта:</a:t>
            </a:r>
            <a:br>
              <a:rPr sz="1200"/>
            </a:b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должение проекта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храны здоровья дете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щеобразовательн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ицкая Ирина Леонид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C74D-B635-4025-85DD-266ABC823C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нновационный потенциал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287A-0FE0-4A05-9C8D-9D183601C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Каким специальностям и направлениям подготовки соответствует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рассчитан на студентов ЮФУ (РГУ), получающих специальность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7D07-9391-4455-886B-222EFFDF77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бщее число испол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78F9-4EFE-4DEB-9FBF-BBC7F33563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ая рабо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10) -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 (10) –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- 8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ого: 35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4DF7-ECBC-44E7-9683-A2EED8681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обору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 (сканер, цветной принтер) -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компьютерного класса – 5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монт учебных классов – 1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(муляжей,  мед. инструментария) –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работы с интерактивной доской, мультимедийным оборудованием - 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овки в ведущие учебные заведения РФ по обмену опытом (СПбГПУ) – 3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: 197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27A7-FF96-401C-AA13-599C34590F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борудование, необходимое для реализации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ое презентацион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компьютерного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2B1D-050B-4BDD-B4AB-283280050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ммерческая перспектив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обучающихся на коммерческой основе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-методической литературы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4B48-7BEA-470C-B176-BB1B836C90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аличие потенциального заказ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азчик: Управление образования г. Ростова-на-До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A31-3A14-4182-BFA1-7FA623B0A9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еречень объектов интеллектуа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4DCE-9522-4F54-8085-45DA75728C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ланируемая в 2008-2009г. реализация результатов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слушателей на коммерческ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0D67-D1DB-499D-BBBA-CA0C576B7D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рганизация </a:t>
            </a:r>
            <a:br>
              <a:rPr sz="1600"/>
            </a:b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– головной исполн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ащиты нас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резвычайной обстановк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о-почвенного факульт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ого федераль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38A3-9CFE-4B17-AE46-349CC6C80C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спектив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является продолжением заявки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 на период до 201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5279-F5E5-4C8A-A807-1084338C0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ип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 для ЮФУ: проект по созданию департамента би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CC3E-4153-4ABA-BAC0-2A493C9EA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Задел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ы к публик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урса «Основы медицинских знаний и охраны здоровья детей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57E3-6C74-4252-880B-83DAA743D1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Цель и 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готовка преподавателей дисциплины «Осно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х знаний и охраны здоровья детей» для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 Подготовка учебно-методической базы кур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дготовка к публикации учебников по основным разделам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 разделов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издание учебно-методических пособий по наиболее актуаль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м учебного кур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готовка презентационных программ по лекционному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одготовка базы современных литературных источников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я электронных учебных пособ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создание сайта с целью внешнего привлечения слуш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) с 2009г. набор студентов для обучения на коммерческ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7BFE-753E-49D5-A298-0B27F19C11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Актуальность и значим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елью рабо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4645-C815-4871-B4AC-0A7F1872D8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Научная и методическая новиз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ный курс не имеет аналогов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требованиям, предъявляемым к современной высшей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66BD-E94B-4627-AB1C-26F58A84A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жидаемые результ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учебно-методической ба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по основным разделам УМК (8 разде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наиболее актуальным проблемам дисциплины (не менее 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зентационных материалов к лекционному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курса лекций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тестового контроля знаний (промежуточного и конечног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C4EE-25F6-486A-B2CF-CA988AA89C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D84-F721-4927-82F3-615210B1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864-940C-47FC-B129-297E54E0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969-7344-4498-BFE8-3CE4473F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10F-2020-4353-80DF-F05D9EE8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984-F9DD-489D-9303-44478CBE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54A-367A-4B22-B57D-8CF0A1F0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35E-3219-44BB-AAA4-1F778B2A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107-E622-4B28-9979-2E070573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E0A-FA28-4AD7-9762-C0BDA069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286-E90A-4973-9FC0-E671B66D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423-6AD9-44F3-9BA7-0585E961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60E-92AE-4385-8320-22323955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8388-0917-4A10-BA76-9036844EC43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звание проекта:</a:t>
            </a:r>
            <a:br>
              <a:rPr sz="2900"/>
            </a:br>
            <a:r>
              <a:rPr b="0" lang="ru-RU" sz="2900" spc="-1" strike="noStrike">
                <a:solidFill>
                  <a:srgbClr val="ff3300"/>
                </a:solidFill>
                <a:latin typeface="Calibri"/>
              </a:rPr>
              <a:t>продолжение проекта 2007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охраны здоровья детей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общеобразовательной школ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по программе дополнительной профессиональной квалификаци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Calibri"/>
              </a:rPr>
              <a:t>Руководител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ницкая Ирина Леонид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.м.н., доц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Инновационный потенциал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Каким специальностям и направлениям подготовки соответствует 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рассчитан на студентов ЮФУ (РГУ), получающих специальность 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полнительной профессиональной квал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бщее число исполн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680" y="2435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685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ая рабо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10) -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 (10) –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- 80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того: 356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ие обору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техника (сканер, цветной принтер) - 1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рудование компьютерного класса – 5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монт учебных классов – 10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(муляжей,  мед. инструментария) – 5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работы с интерактивной доской, мультимедийным оборудованием - 2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ировки в ведущие учебные заведения РФ по обмену опытом (СПбГПУ) – 3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: 197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борудование, необходимое для реализаци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льтимедийное презентационн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ащение компьютерного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по кур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Коммерческая перспектив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23587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обучающихся на коммерческой основе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-методической литературы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личие потенциального заказч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20541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азчик: Управление образования г. Ростова-на-Дон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еречень объектов интеллектуальн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собств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09480" y="16444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е УМК и программа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й лекционный кур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грамме УМ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ебни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основным разделам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и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тестового контрол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ланируемая в 2008-2009г. реализация результато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слушателей на коммерческой осн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й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рганизация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– головной исполнит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22827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федра «Основы медицинских зн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щиты насе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резвычайной обстановк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олого-почвенного факульт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жного федерального универс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рспективное 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 является продолжением заявки 2007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читан на период до 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Тип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авление  для ЮФУ: проект по созданию департамента би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Задел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476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готовлены к публикаци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ентация курса «Основы медицинских знаний и охраны здоровья детей»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Цель: подготовка преподавателей дисциплины «Основ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дицинских знаний и охраны здоровья детей» для работ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чи: Подготовка учебно-методической базы курса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подготовка к публикации учебников по основным разделам курс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(8 разделов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издание учебно-методических пособий по наиболее актуальным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облемам учебного курс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) подготовка презентационных программ по лекционному курсу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) подготовка базы современных литературных источников дл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ормирования электронных учебных пособи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) создание сайта с целью внешнего привлечения слушател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) с 2009г. набор студентов для обучения на коммерческих условия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Актуальность и значимо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292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Целью рабо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учная и методическая новиз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1680" y="19810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нный курс не имеет аналогов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чает требованиям, предъявляемым к современной высшей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учебно-методической баз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ики по основным разделам УМК (8 раздел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о-методические пособия по наиболее актуальным проблемам дисциплины (не менее 3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зентационных материалов к лекционному курс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дание курса лекций по дисцип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системы тестового контроля знаний (промежуточного и конечног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RomaK</cp:lastModifiedBy>
  <dcterms:modified xsi:type="dcterms:W3CDTF">2014-10-31T13:27:1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