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4EDF4-26AB-497B-8825-844D1E86AC0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Arial"/>
              </a:rPr>
              <a:t>Название проекта:</a:t>
            </a:r>
            <a:br>
              <a:rPr sz="1200"/>
            </a:br>
            <a:r>
              <a:rPr b="0" lang="ru-RU" sz="1200" spc="-1" strike="noStrike">
                <a:solidFill>
                  <a:srgbClr val="ff3300"/>
                </a:solidFill>
                <a:latin typeface="Arial"/>
              </a:rPr>
              <a:t>продолжение проекта 2007 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готовка преподавателей дисциплины «Основы медицинских знани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охраны здоровья детей»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общеобразовательной школ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по программе дополнительной профессиональной квалификаци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Arial"/>
              </a:rPr>
              <a:t>Руководитель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ницкая Ирина Леонидов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.м.н., доцен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BA730-7CC4-400F-93F4-FB9B444F205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Инновационный потенциал проек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готовка преподавателей новой дисциплины «Основы медицинских знаний и охраны здоровья детей» для работы в общеобразовательной школе по программе дополнительной профессиональной квалифик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работка принципиально новых учебно-методических материалов, направленных на приобретение необходимых знаний и умений, позволяющих обеспечить, пропаганду здорового образа жизни школьников, создающих условия для нормального роста и развития подрастающего поколен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8AED8-0A7B-4FB4-B3ED-27346F4393E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3300"/>
                </a:solidFill>
                <a:latin typeface="Arial"/>
              </a:rPr>
              <a:t>Каким специальностям и направлениям подготовки соответствует проек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ект рассчитан на студентов ЮФУ (РГУ), получающих специальность «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Преподавател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готовка преподавателей дисциплины «Основы медицинских знаний и охраны здоровья детей» для общеобразовательной школы осуществляется по программе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дополнительной профессиональной квалифик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CC4A3-DA6E-43CD-BEAC-A6D674DAE37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Arial"/>
              </a:rPr>
              <a:t>Общее число исполнител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3 человек (10 преподавателей и 3 лаборанта, из них 2 доцента, 4 кандидата медицинских наук, сотрудников без ученой степени - 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A274C-FC60-4524-8E5F-2B60FCD1FCB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Arial"/>
              </a:rPr>
              <a:t>Проект сме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ебно-методическая работ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 квартал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ебники (1) – 2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ебно-методические пособия (10) - 6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зентации (8) – 8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 квартал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ебники (2) – 4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ебно-методические пособия (7) – 42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зентации (8) – 8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 квартал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ебники (2) – 4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ебно-методические пособия (7) – 42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зентации (8) – 8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 квартал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ебник (1) – 2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ебно-методические пособия  (10) – 6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зентации (8) - 800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того: 3560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6EE5F-0AB2-4C59-9D2C-AE1A08EEBA0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ПРОЕКТ СМЕ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обретение оборудовани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техника (сканер, цветной принтер) -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компьютерного класса – 5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монт учебных классов – 10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новление демонстрационной учебной базы (муляжей,  мед. инструментария) – 5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учение работы с интерактивной доской, мультимедийным оборудованием - 2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мандировки в ведущие учебные заведения РФ по обмену опытом (СПбГПУ) – 3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того: 197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EACF4-024B-4121-839F-383C19F808E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3300"/>
                </a:solidFill>
                <a:latin typeface="Arial"/>
              </a:rPr>
              <a:t>Оборудование, необходимое для реализации проек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ультимедийное презентационное обеспеч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техн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ащение компьютерного клас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новление демонстрационной учебной базы по курс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64469-4BEC-4AF1-AFCC-3CB0854AFEE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Коммерческая перспектива проек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бор обучающихся на коммерческой основе (2009 г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икл презентаций (создание сайта) с целью привлечения слушателей из других подразделений ЮФУ, ВУЗв РО, ЮФО для приобретения дополнительной профессиональной квалификации по специальности «преподаватель основ медицинских знаний и охраны здоровья детей» (2009 г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ализация учебно-методической литературы (2009 г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390E7-BF8D-487D-8E2C-A66854194B5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Наличие потенциального заказч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азчик: Управление образования г. Ростова-на-Дону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ание: письмо от 20.12.2007 г. Управления образования г. Ростова-на-Дону о чрезвычайной актуальности подготовки преподавателей дисциплины «Основы медицинских знаний и охраны здоровья детей» для работы в общеобразовательных школах (с выдачей соответствующего удостоверения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260EA-D986-4F44-AA80-6437D2BE283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Arial"/>
              </a:rPr>
              <a:t>Перечень объектов интеллектуальной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3300"/>
                </a:solidFill>
                <a:latin typeface="Arial"/>
              </a:rPr>
              <a:t>собствен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1E7B9-ABC9-4982-9D34-7756719C1D7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Планируемая в 2008-2009г. реализация результатов проек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готовка преподавателей дисциплины «Основы медицинских знаний и охраны здоровья детей» для общеобразовательной школы по программе дополнительной профессиональной квалификации с выдачей соответствующего удостовер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бор слушателей на коммерческой основ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икл презентаций (создание сайта) с целью привлечения слушателей других подразделений ЮФУ, ВУЗов РО, ЮФО, для приобретения дополнительной профессиональной квалификации по специальности «преподаватель основ медицинских знаний и охраны здоровья детей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ализация учебной литерату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A9B3F-13CD-47EF-8FA8-291016EF905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3300"/>
                </a:solidFill>
                <a:latin typeface="Arial"/>
              </a:rPr>
              <a:t>Организация </a:t>
            </a:r>
            <a:br>
              <a:rPr sz="1600"/>
            </a:br>
            <a:r>
              <a:rPr b="0" lang="ru-RU" sz="1600" spc="-1" strike="noStrike">
                <a:solidFill>
                  <a:srgbClr val="ff3300"/>
                </a:solidFill>
                <a:latin typeface="Arial"/>
              </a:rPr>
              <a:t>– головной исполнитель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федра «Основы медицинских знани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защиты населен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чрезвычайной обстановке»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иолого-почвенного факультет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Южного федерального университе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9C391-B533-45A9-8927-4AB6E581418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Перспективное планиров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ект является продолжением заявки 2007 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считан на период до 2010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 2007г. начато формирование учебно-методической базы (УМК, программа курса, 2 учебника, 7 учебно-методических пособий, презентация лекционного курс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учение студентов по программе проводится с 1992г.(с 2005г. отменена выдача удостоверений о прослушанном курсе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5FC05-650F-4040-8041-AFC0A0D37C5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Arial"/>
              </a:rPr>
              <a:t>Тип проект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зовательны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ответствует приоритетному направлению по охране здоровья населения РФ в свете Национального проекта «Здоровье нации» и «Образование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правление  для ЮФУ: проект по созданию департамента биолог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ностью соответствует требованиям, предъявляемым к разрабатываемым проектам и учебной литературе для высших учебных завед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9F9D4-004E-4206-9B9A-8EAB26A32E2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Arial"/>
              </a:rPr>
              <a:t>Задел проект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убликованы с 1993 года 52 учебно-методических пособия, 2 учебника, 7 научных тезисов для участия в региональных и международных конференциях, разработаны курсы лекций по всем разделам УМК, тестовый контроль  знани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работан УМК и программа по курсу «Основы медицинских знаний и охраны здоровья детей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готовлены к публикации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   учебники: «Возрастные особенности жизни женщины», «Первая медицинская помощь при основных хирургических заболеваниях и травмах»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ебно-методические пособия: «Организация учебного процесса и физическое воспитание школьников», «Питание школьников», «Подготовка и адаптация детей к началу обучения в школе», «Гепатиты», «Вегето-сосудистая дистония» 2 части, «Лихорадка, причины, первая помощь»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зентация курса «Основы медицинских знаний и охраны здоровья детей»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84CC5-8D0F-4708-8BDA-F0BE78B479C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Arial"/>
              </a:rPr>
              <a:t>Цель и задачи проек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ь: подготовка преподавателей дисциплины «Основ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дицинских знаний и охраны здоровья детей» для работ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общеобразовательных школах (по программе дополнительной профессиональной квалификации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дачи: Подготовка учебно-методической базы курса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) подготовка к публикации учебников по основным разделам курс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8 разделов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) издание учебно-методических пособий по наиболее актуальным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блемам учебного курс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) подготовка презентационных программ по лекционному курсу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) подготовка базы современных литературных источников дл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ирования электронных учебных пособи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) создание сайта с целью внешнего привлечения слушателе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) с 2009г. набор студентов для обучения на коммерческих условиях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45073-4A48-44A1-9DFA-14289852171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Arial"/>
              </a:rPr>
              <a:t>Актуальность и значимость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резвычайно актуальной представляется проблема сохранения здоровья детей и подростков как наиболее уязвимых к стрессорным воздействиям в силу несовершенства адаптационных механизм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основных направлениях реформы общеобразовательной школы сказано: «Необходимо, чтобы каждый школьник овладел минимумом знаний в области гигиены и медицины, смолоду знал свой организм и умел поддерживать его в порядке»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льшинство руководителей СОШ признает необходимость пропаганды здорового образа жизни школьников при отсутствии подготовленных педагогических кадр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дельные образовательные школьные программы по данной теме ведутся по исключительно по инициативе педагог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Целью работы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является углубленная разработка разделов курса «Основ медицинских знаний и охраны здоровья детей» по охране здоровья ребенка, применение здоровьесберегающих технологий, пропаганда здорового образа жизни школьн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738D8-BFAB-48B6-8B7F-3F31C42E425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3300"/>
                </a:solidFill>
                <a:latin typeface="Arial"/>
              </a:rPr>
              <a:t>Научная и методическая новизн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работанный курс не имеет аналогов в Российской Федер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вечает требованиям, предъявляемым к современной высшей школ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урс будет способствовать улучшению качества жизни и здоровья школьников, и населения РФ в цел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DFCBC-37A3-4003-A7A8-9785E2F4182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Arial"/>
              </a:rPr>
              <a:t>Ожидаемые результат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работка учебно-методической баз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ебники по основным разделам УМК (8 разделов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ебно-методические пособия по наиболее актуальным проблемам дисциплины (не менее 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готовка презентационных материалов к лекционному курсу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дание курса лекций по дисциплин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работка системы тестового контроля знаний (промежуточного и конечного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готовка преподавателей дисциплины «Основы медицинских знаний и охраны здоровья детей» для работы общеобразовательной школе (по программе дополнительной профессиональной квалификаци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D793B-CAF5-47EC-A7E1-3E5A4E3604F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80397-8EC5-416F-9A42-76155A0B5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9F5A9-3359-4574-A58E-A897EC1BF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7C5FC-6147-4014-9304-323C011E2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8FAB3-6A33-454E-A3E0-C681F3202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EFF6E-DCB0-496E-942A-14199D38F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19C31-6A0D-464B-BB6E-B5AB64A95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CC58C-4451-40C9-9BF8-A3A6BBDB0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6C790-472A-4D2F-8059-665A6FE59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098D3-E19D-42AF-94DB-E8F17C5A1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E7CD6-6C65-4AC8-AE09-154BC9A3E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9C376-B40F-4847-B523-7F5D89C7A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86D57-2B70-4F4C-A44D-0EF8DD55E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B4CC5-C5F9-4E4E-A2E2-854D63C79FB4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Calibri"/>
              </a:rPr>
              <a:t>Название проекта:</a:t>
            </a:r>
            <a:br>
              <a:rPr sz="2900"/>
            </a:br>
            <a:r>
              <a:rPr b="0" lang="ru-RU" sz="2900" spc="-1" strike="noStrike">
                <a:solidFill>
                  <a:srgbClr val="ff3300"/>
                </a:solidFill>
                <a:latin typeface="Calibri"/>
              </a:rPr>
              <a:t>продолжение проекта 2007 г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Подготовка преподавателей дисциплины «Основы медицинских знаний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и охраны здоровья детей»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для общеобразовательной школы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(по программе дополнительной профессиональной квалификации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3300"/>
                </a:solidFill>
                <a:latin typeface="Calibri"/>
              </a:rPr>
              <a:t>Руководитель: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Виницкая Ирина Леонидовн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к.м.н., доцен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Calibri"/>
              </a:rPr>
              <a:t>Инновационный потенциал проект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301680" y="1523880"/>
            <a:ext cx="8540640" cy="442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дготовка преподавателей новой дисциплины «Основы медицинских знаний и охраны здоровья детей» для работы в общеобразовательной школе по программе дополнительной профессиональной квалификаци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азработка принципиально новых учебно-методических материалов, направленных на приобретение необходимых знаний и умений, позволяющих обеспечить, пропаганду здорового образа жизни школьников, создающих условия для нормального роста и развития подрастающего поколения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Calibri"/>
              </a:rPr>
              <a:t>Каким специальностям и направлениям подготовки соответствует проек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ект рассчитан на студентов ЮФУ (РГУ), получающих специальность «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Преподаватель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дготовка преподавателей дисциплины «Основы медицинских знаний и охраны здоровья детей» для общеобразовательной школы осуществляется по программе 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дополнительной профессиональной квалификац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Calibri"/>
              </a:rPr>
              <a:t>Общее число исполнителе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301680" y="243504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3 человек (10 преподавателей и 3 лаборанта, из них 2 доцента, 4 кандидата медицинских наук, сотрудников без ученой степени - 8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-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Calibri"/>
              </a:rPr>
              <a:t>Проект смет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228600" y="68544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Учебно-методическая работа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1 квартал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учебники (1) – 20000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учебно-методические пособия (10) - 60000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резентации (8) – 8000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2 квартал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учебники (2) – 40000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учебно-методические пособия (7) – 42000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резентации (8) – 8000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3 квартал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учебники (2) – 40000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учебно-методические пособия (7) – 42000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резентации (8) – 8000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4 квартал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Учебник (1) – 20000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Учебно-методические пособия  (10) – 60000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резентации (8) - 80000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Итого: 356000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ПРОЕКТ СМЕТ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иобретение оборудования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ргтехника (сканер, цветной принтер) - 1000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борудование компьютерного класса – 5000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емонт учебных классов – 10000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бновление демонстрационной учебной базы (муляжей,  мед. инструментария) – 500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бучение работы с интерактивной доской, мультимедийным оборудованием - 200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омандировки в ведущие учебные заведения РФ по обмену опытом (СПбГПУ) – 3000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того: 19700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Calibri"/>
              </a:rPr>
              <a:t>Оборудование, необходимое для реализации проект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ультимедийное презентационное обеспече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ргтехни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снащение компьютерного класс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новление демонстрационной учебной базы по курс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Calibri"/>
              </a:rPr>
              <a:t>Коммерческая перспектива проект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301680" y="235872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бор обучающихся на коммерческой основе (2009 г.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Цикл презентаций (создание сайта) с целью привлечения слушателей из других подразделений ЮФУ, ВУЗв РО, ЮФО для приобретения дополнительной профессиональной квалификации по специальности «преподаватель основ медицинских знаний и охраны здоровья детей» (2009 г.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еализация учебно-методической литературы (2009 г.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Calibri"/>
              </a:rPr>
              <a:t>Наличие потенциального заказчик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01680" y="2054160"/>
            <a:ext cx="8540640" cy="442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Заказчик: Управление образования г. Ростова-на-Дону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снование: письмо от 20.12.2007 г. Управления образования г. Ростова-на-Дону о чрезвычайной актуальности подготовки преподавателей дисциплины «Основы медицинских знаний и охраны здоровья детей» для работы в общеобразовательных школах (с выдачей соответствующего удостоверения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Calibri"/>
              </a:rPr>
              <a:t>Перечень объектов интеллектуальной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600" spc="-1" strike="noStrike">
                <a:solidFill>
                  <a:srgbClr val="ff3300"/>
                </a:solidFill>
                <a:latin typeface="Calibri"/>
              </a:rPr>
              <a:t>собственност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Rectangle 4"/>
          <p:cNvSpPr/>
          <p:nvPr/>
        </p:nvSpPr>
        <p:spPr>
          <a:xfrm>
            <a:off x="609480" y="1644480"/>
            <a:ext cx="82296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работанные УМК и программа по курсу «Основы медицинских знаний и охраны здоровья детей»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работанный лекционный кур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 программе УМК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учебники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чебно-методические пособия по основным разделам программ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езентации по курсу «Основы медицинских знаний и охраны здоровья детей»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истема тестового контроля зна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Calibri"/>
              </a:rPr>
              <a:t>Планируемая в 2008-2009г. реализация результатов проект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301680" y="1523880"/>
            <a:ext cx="8540640" cy="442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дготовка преподавателей дисциплины «Основы медицинских знаний и охраны здоровья детей» для общеобразовательной школы по программе дополнительной профессиональной квалификации с выдачей соответствующего удостовере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бор слушателей на коммерческой основ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Цикл презентаций (создание сайта) с целью привлечения слушателей других подразделений ЮФУ, ВУЗов РО, ЮФО, для приобретения дополнительной профессиональной квалификации по специальности «преподаватель основ медицинских знаний и охраны здоровья детей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еализация учебной литератур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Calibri"/>
              </a:rPr>
              <a:t>Организация </a:t>
            </a:r>
            <a:br>
              <a:rPr sz="3600"/>
            </a:br>
            <a:r>
              <a:rPr b="0" lang="ru-RU" sz="3600" spc="-1" strike="noStrike">
                <a:solidFill>
                  <a:srgbClr val="ff3300"/>
                </a:solidFill>
                <a:latin typeface="Calibri"/>
              </a:rPr>
              <a:t>– головной исполнитель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301680" y="2282760"/>
            <a:ext cx="8540640" cy="442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федра «Основы медицинских знаний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 защиты населения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чрезвычайной обстановке»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иолого-почвенного факультет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Южного федерального университе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Перспективное планирова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оект является продолжением заявки 2007 г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ассчитан на период до 2010г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 2007г. начато формирование учебно-методической базы (УМК, программа курса, 2 учебника, 7 учебно-методических пособий, презентация лекционного курса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учение студентов по программе проводится с 1992г.(с 2005г. отменена выдача удостоверений о прослушанном курсе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Calibri"/>
              </a:rPr>
              <a:t>Тип проекта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301680" y="12189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разовательны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оответствует приоритетному направлению по охране здоровья населения РФ в свете Национального проекта «Здоровье нации» и «Образование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правление  для ЮФУ: проект по созданию департамента биологи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лностью соответствует требованиям, предъявляемым к разрабатываемым проектам и учебной литературе для высших учебных заведени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Calibri"/>
              </a:rPr>
              <a:t>Задел проекта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374760" y="12189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Опубликованы с 1993 года 52 учебно-методических пособия, 2 учебника, 7 научных тезисов для участия в региональных и международных конференциях, разработаны курсы лекций по всем разделам УМК, тестовый контроль  знаний.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Разработан УМК и программа по курсу «Основы медицинских знаний и охраны здоровья детей»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Подготовлены к публикации: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-    учебники: «Возрастные особенности жизни женщины», «Первая медицинская помощь при основных хирургических заболеваниях и травмах»;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учебно-методические пособия: «Организация учебного процесса и физическое воспитание школьников», «Питание школьников», «Подготовка и адаптация детей к началу обучения в школе», «Гепатиты», «Вегето-сосудистая дистония» 2 части, «Лихорадка, причины, первая помощь»;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презентация курса «Основы медицинских знаний и охраны здоровья детей». 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Calibri"/>
              </a:rPr>
              <a:t>Цель и задачи проек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301680" y="137124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Цель: подготовка преподавателей дисциплины «Основы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медицинских знаний и охраны здоровья детей» для работы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в общеобразовательных школах (по программе дополнительной профессиональной квалификации)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Задачи: Подготовка учебно-методической базы курса: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а) подготовка к публикации учебников по основным разделам курса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(8 разделов);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б) издание учебно-методических пособий по наиболее актуальным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проблемам учебного курса;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в) подготовка презентационных программ по лекционному курсу;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г) подготовка базы современных литературных источников для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формирования электронных учебных пособий;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д) создание сайта с целью внешнего привлечения слушателей;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е) с 2009г. набор студентов для обучения на коммерческих условиях.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Calibri"/>
              </a:rPr>
              <a:t>Актуальность и значимость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301680" y="129204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резвычайно актуальной представляется проблема сохранения здоровья детей и подростков как наиболее уязвимых к стрессорным воздействиям в силу несовершенства адаптационных механизмов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основных направлениях реформы общеобразовательной школы сказано: «Необходимо, чтобы каждый школьник овладел минимумом знаний в области гигиены и медицины, смолоду знал свой организм и умел поддерживать его в порядке»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Большинство руководителей СОШ признает необходимость пропаганды здорового образа жизни школьников при отсутствии подготовленных педагогических кадро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тдельные образовательные школьные программы по данной теме ведутся по исключительно по инициативе педагого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Целью работы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является углубленная разработка разделов курса «Основ медицинских знаний и охраны здоровья детей» по охране здоровья ребенка, применение здоровьесберегающих технологий, пропаганда здорового образа жизни школьни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Calibri"/>
              </a:rPr>
              <a:t>Научная и методическая новизна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301680" y="1981080"/>
            <a:ext cx="8540640" cy="442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зработанный курс не имеет аналогов в Российской Федерац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твечает требованиям, предъявляемым к современной высшей школ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урс будет способствовать улучшению качества жизни и здоровья школьников, и населения РФ в цело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Calibri"/>
              </a:rPr>
              <a:t>Ожидаемые результаты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301680" y="12189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Разработка учебно-методической базы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Учебники по основным разделам УМК (8 разделов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Учебно-методические пособия по наиболее актуальным проблемам дисциплины (не менее 30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одготовка презентационных материалов к лекционному курсу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Издание курса лекций по дисциплине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Разработка системы тестового контроля знаний (промежуточного и конечного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одготовка преподавателей дисциплины «Основы медицинских знаний и охраны здоровья детей» для работы общеобразовательной школе (по программе дополнительной профессиональной квалификации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1</dc:creator>
  <dc:description/>
  <dc:language>en-US</dc:language>
  <cp:lastModifiedBy>RomaK</cp:lastModifiedBy>
  <dcterms:modified xsi:type="dcterms:W3CDTF">2014-10-31T13:27:10Z</dcterms:modified>
  <cp:revision>6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