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18.gif" ContentType="image/gif"/>
  <Override PartName="/ppt/media/image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361F7-2A2B-4350-8245-B88E3BEB2E7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Банки на рынке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онные операции ба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8D9F5-98CA-43EE-AC25-E94E058E4A1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Структура портфеля ценных бумаг банков</a:t>
            </a:r>
            <a:r>
              <a:rPr b="1" lang="en-US" sz="1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(март 2008 г.): что предпочитают банки</a:t>
            </a:r>
            <a:r>
              <a:rPr b="1" lang="en-US" sz="1200" spc="-1" strike="noStrike">
                <a:solidFill>
                  <a:srgbClr val="ffc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B099C-D848-4F78-98E5-EF6D7539027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Структура портфеля долговых обязательств банков, март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E55B5-0FA2-4EBA-A949-1A2FD78A69F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Структура портфеля акций банковского сект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41D1A-C415-4C0C-8121-C18F3BD8451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Структура портфеля контрольного участия банковского сектор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март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04363-2562-4FD8-B67A-97CA828D367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Крупнейшие держатели облиг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ED972-9814-4C44-9248-E48038CB208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Кто самые консервативные инвесторы</a:t>
            </a:r>
            <a:r>
              <a:rPr b="1" lang="en-US" sz="1200" spc="-1" strike="noStrike">
                <a:solidFill>
                  <a:srgbClr val="ffc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A4DEE-EEDC-4C61-9117-8809F50CA70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Зависимость вложений в облигации от размера банка </a:t>
            </a:r>
            <a:br>
              <a:rPr sz="12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доля в активах и размер активов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5286F-F770-429C-B7E7-5CF2960DA54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Крупнейшие держатели ак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05766-D0EE-4952-9705-8E6220B6318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Являются ли наши банки инвестиционными</a:t>
            </a:r>
            <a:r>
              <a:rPr b="1" lang="en-US" sz="1200" spc="-1" strike="noStrike">
                <a:solidFill>
                  <a:srgbClr val="ffc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3EB46-4AF4-49B8-AF11-B9A4C6E4F36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Рейтинг инвестиционных банков, март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FFF63-8D4A-4F8F-A576-B813E079AAE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Банки на рынке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1303E-0EC0-4078-8FE3-3FAF46F0382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Полезная ссыл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cbonds.info/ru/rus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A0970-4EBC-412B-A748-C41B22FABEA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Банк как эмит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2B15D-B1D4-4CFB-AF55-286FBD2153A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Место ценных бумаг в банковских пассивах, 2004-08 г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4AE95-EA8E-44DF-869E-EAE7E57CB77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Отраслевая структура публичных предложений акций российских комп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989A-298C-442F-A73E-028420EA19B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Структура пассивных операций с ценными бумаг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05062-B59D-43DA-A89C-4209239809B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Выпущенные долговые бумаги, март 2008</a:t>
            </a:r>
            <a:r>
              <a:rPr b="1" lang="ru-RU" sz="1600" spc="-1" strike="noStrike">
                <a:solidFill>
                  <a:srgbClr val="ffc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E584F-F079-41DA-8FAC-0015A34E18F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Полезная ссыл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компаний "РЕГИОН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ексельный рыно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region.ru/AboutGroup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49E49-49CD-44D3-8BDA-D2AA0074C2F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Раскрыт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жеквартальные отчеты по ценным бумаг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бщения об изменении положения эмитента и о сосредоточении в одних руках более 20% эмиссионных ценных бумаг любого ви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7DCAC-0623-4AAC-96AD-68D05C56289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Доверительные оп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ичное размещение ценных бумаг (организация выпуска, андеррайтин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ение реестра акционеров и регистрация сделок с ценными бумаг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активами п поручению кли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позитарное обслужи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A6683-07C8-4F8A-BF35-207FD9B21F9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Общие фонды банковского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щие фонды банковского управления (ОФБУ) – инвестиционный продукт, который предлагается банками на основе правил Банка России. ОФБУ признается имущественный комплекс, состоящий из имущества, передаваемого в доверительное управление разными лицами. Инвестор, вкладывая свои средства в ОФБУ, получает сертификат долевого участия, который не является ценной бумагой. Требования к составу и структуре активов ОФБУ более либеральны, чем требования к ПИФ. На 2008 г. управлением ОФБУ занимались 34 ба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6919D-6F5C-4D03-BC0E-8F7A002A489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000"/>
                </a:solidFill>
                <a:latin typeface="Calibri"/>
              </a:rPr>
              <a:t>Требования к банкам: наличие лицензии профессионального участника рынка ценных бумаг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ензия дил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ензия депозита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ензия на доверительное упр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ензия на брокерское обслужи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5615B-D097-49D8-80C1-8E75A0ADF99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Уче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000"/>
                </a:solidFill>
                <a:latin typeface="Calibri"/>
              </a:rPr>
              <a:t>Депозитар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ывает услуги по учету и удостоверению прав на ценные бумаги, учету и удостоверению передачи ценных бумаг, а также по хранению ценных бумаг (при документарной форме выпуска). Он осуществляет свою деятельность на основе договора с собственником ценных бумаг либо лицом, имеющим иные права в отношении ценных бумаг (депозитарный договор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000"/>
                </a:solidFill>
                <a:latin typeface="Calibri"/>
              </a:rPr>
              <a:t>Регистратор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профессиональный участник рынка ценных бумаг, осуществляющий деятельность по ведению реестра владельцев именных ценных бумаг (сбор, фиксация, обработка, хранение и предоставление данных, составляющих систему ведения реестра владельцев ценных бумаг). Регистратор работает на основании договора с эмитентом ценных бумаг; лица, открывающие счета в реестре, не заключают договор с  регистрато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8DA06-3248-4BD0-89B1-3E1F5F39AF9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Лицензии регистраторов и депозитари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C3B3A-33C2-46DA-BB1B-DE30E25B738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йтинг депозитарие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DEB8B-F5D3-4FF2-B8F9-F6E91CA20CD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Полезная ссыл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ональная Ассоциация Регистраторов, Трансфер-Агентов и Депозитариев (ПАРТА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partad.r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1E3FC-515B-4A66-8B78-8C228AF97DD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Оборот по брокерским счет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41579-A805-4C5A-90D0-5470E6974AF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Полезные ссыл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ациональная ассоциация участников фондового рынка» (НАУФО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naufor.ru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ациональное Рейтинговое Агентство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ra-national.r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C6C2A-67F4-4DC1-A53B-C36ACC79C62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Риски по ценным бумаг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игации Банка России – 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. ценные бумаги РФ – 1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ные бумаги субъектов РФ – 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Макс. объем портфеля = 25% капитала банк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Макс. объем вложений в одного эмитента = 10% капитала банк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1B056-7039-491F-8250-34861D49DED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000"/>
                </a:solidFill>
                <a:latin typeface="Calibri"/>
              </a:rPr>
              <a:t>Структура рыночного риска банковского сектора </a:t>
            </a:r>
            <a:br>
              <a:rPr sz="16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рыночный риск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 изменения рыночной цены активов или обязательст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621C4-AD66-4567-8F49-2127A89A018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Индекс ММВБ, 2003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F2228-3282-4025-A16F-25B6AC7B385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Полезные ссыл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micex.r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rts.ru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FFC75-5557-49D9-AAE7-0662205018A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Лицензии профессиональных посред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buClr>
                <a:srgbClr val="00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керская деятельность сама по себе не предполагает учет прав клиентов на ценные бумаги, поэтому брокерам, желающим осуществлять такой учет, необходимо получать отдельную лицензию на депозитарную деятель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buClr>
                <a:srgbClr val="00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лерской деятельностью признаются только такие операции купли-продажи ценных бумаг, которые сопровождаются публичным объявлением цен покупки и/или продажи, поэтому освобождаются от регулирования компании и граждане, которые регулярно совершают операции с ценными бумагами, в том числе даже публично предлагают купить или продать ценные бумаги, однако при этом не объявляют це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buClr>
                <a:srgbClr val="00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ерительное управление ценными бумагами формально отличается от доверительного управления паевыми инвестиционными фондами и негосударственными пенсионными фондами, что выражается в существовании двух разных типов лицензий на эти сходные виды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B2A97-C1AE-4F05-840B-1E1DC69CA7F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Банк</a:t>
            </a:r>
            <a:r>
              <a:rPr b="1" lang="en-US" sz="1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в</a:t>
            </a:r>
            <a:r>
              <a:rPr b="1" lang="en-US" sz="1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роли инвестора: </a:t>
            </a:r>
            <a:br>
              <a:rPr sz="1200"/>
            </a:b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портфель ценных бумаг, 1999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7B6C7-4BC7-48BE-AA6C-BDCC0A4F1CC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Инвестиционные операции ба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и деятель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версификация актив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ширение источников дох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ание ликвид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вестиционный портфель бан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набор ценных бумаг, формируемый с определенными целями (в координатах риск-доходност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7B51-5743-479C-9589-401DB03DACE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Инвестиционная поли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улировка ц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инвестиционного портф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миты по типам ценных бумаг (эмитенты, виды бумаг, сро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ядок и условия торговли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chang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C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фика сделок (валютные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DR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21086-0893-4D24-88E4-D2402AFE4CF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Банковский портфель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Торговый портфел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бумаги для перепродажи в течение 6 месяцев, по договорам «репо» и займ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Инвестиционный портфель</a:t>
            </a:r>
            <a:r>
              <a:rPr b="0" lang="ru-RU" sz="1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бумаги для получения инвестиционного дохода, со сроком хранения в портфеле более 6 месяце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Портфель контрольного участ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0%, позволяющий влиять на управление в компании-эмитент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5FC8D-9966-40D9-8392-0C59FA55D33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Учет ценных бумаг на балансе ба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E976D-D518-44B3-8662-4F99916DD4A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4C74B-BE5A-4F06-87BB-1EB39EF28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D4B18-139E-463F-8430-4C45E6E7D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5709A-7F11-4C8D-99F7-CFDDBDAC6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D0284-1BFD-44DC-937E-747799B6F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984C0-4C5C-4142-8D17-DDA0ACA86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9B214-12AC-4FBE-8DBB-2CA4EF5FB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C9D55-5198-4E1B-A7C7-6AA991E3C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1053E-B869-4E26-9333-E61A8FB96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42AD0-D296-43AB-9E3F-79EDEAF4B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68C11-7AFB-4C88-A947-95B187960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981E6-C02C-4242-A02B-6DE74FD5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8D8A1-E05C-4CA0-A370-581EB1AF4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006DB-66D4-4A3D-8B6E-61481B7A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AB1D7-63D3-4B8C-9221-CBE0094E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F74EC-DCDE-4155-B2DF-67236C45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66A6E-C2DD-472B-81F2-8E033125A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44FB6-271A-4660-A0A5-CFD2FBF24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FF85F-4F62-4F1E-BD9C-434319561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47B4E-CE86-43DB-99AA-EDDFF995A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BABB5-3CA8-4D4E-A261-06C807C60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F42A5-58B1-4A8F-B4A0-5956F58CC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721B6-A987-4A0C-B621-6551873B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166C9-26EF-47A9-9EA7-9ACBA746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274BB-4338-4006-BE0F-4B7FD794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D4C53-0D48-4270-A03E-28D2F73A555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F3B15-37C0-482E-AFF0-0C769E2B963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714680"/>
            <a:ext cx="7772400" cy="1714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000"/>
                </a:solidFill>
                <a:latin typeface="Tahoma"/>
              </a:rPr>
              <a:t>Банки на рынке ценных бумаг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142640" y="3885840"/>
            <a:ext cx="70009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вестиционные операции банк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c000"/>
                </a:solidFill>
                <a:latin typeface="Tahoma"/>
              </a:rPr>
              <a:t>Структура портфеля ценных бумаг банков</a:t>
            </a:r>
            <a:r>
              <a:rPr b="1" lang="en-US" sz="2500" spc="-1" strike="noStrike">
                <a:solidFill>
                  <a:srgbClr val="ffc000"/>
                </a:solidFill>
                <a:latin typeface="Tahoma"/>
              </a:rPr>
              <a:t> </a:t>
            </a:r>
            <a:r>
              <a:rPr b="1" lang="ru-RU" sz="2500" spc="-1" strike="noStrike">
                <a:solidFill>
                  <a:srgbClr val="ffc000"/>
                </a:solidFill>
                <a:latin typeface="Tahoma"/>
              </a:rPr>
              <a:t>(март 2008 г.): что предпочитают банки</a:t>
            </a:r>
            <a:r>
              <a:rPr b="1" lang="en-US" sz="2500" spc="-1" strike="noStrike">
                <a:solidFill>
                  <a:srgbClr val="ffc000"/>
                </a:solidFill>
                <a:latin typeface="Tahoma"/>
              </a:rPr>
              <a:t>?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3" name="Диаграмма 6" descr=""/>
          <p:cNvPicPr/>
          <p:nvPr/>
        </p:nvPicPr>
        <p:blipFill>
          <a:blip r:embed="rId1"/>
          <a:stretch/>
        </p:blipFill>
        <p:spPr>
          <a:xfrm>
            <a:off x="493560" y="1639800"/>
            <a:ext cx="8083800" cy="429732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c000"/>
                </a:solidFill>
                <a:latin typeface="Tahoma"/>
              </a:rPr>
              <a:t>Структура портфеля долговых обязательств банков, март 2008</a:t>
            </a:r>
            <a:endParaRPr b="0" lang="en-US" sz="2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6" name="Диаграмма 46" descr=""/>
          <p:cNvPicPr/>
          <p:nvPr/>
        </p:nvPicPr>
        <p:blipFill>
          <a:blip r:embed="rId1"/>
          <a:stretch/>
        </p:blipFill>
        <p:spPr>
          <a:xfrm>
            <a:off x="281160" y="1279440"/>
            <a:ext cx="8442000" cy="494532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c000"/>
                </a:solidFill>
                <a:latin typeface="Tahoma"/>
              </a:rPr>
              <a:t>Структура портфеля акций банковского сектора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9" name="Диаграмма 31" descr=""/>
          <p:cNvPicPr/>
          <p:nvPr/>
        </p:nvPicPr>
        <p:blipFill>
          <a:blip r:embed="rId1"/>
          <a:stretch/>
        </p:blipFill>
        <p:spPr>
          <a:xfrm>
            <a:off x="208080" y="1494000"/>
            <a:ext cx="8515080" cy="444312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18440" cy="93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ahoma"/>
              </a:rPr>
              <a:t>Структура портфеля контрольного участия банковского сектора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, март 2008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2" name="Диаграмма 22" descr=""/>
          <p:cNvPicPr/>
          <p:nvPr/>
        </p:nvPicPr>
        <p:blipFill>
          <a:blip r:embed="rId1"/>
          <a:stretch/>
        </p:blipFill>
        <p:spPr>
          <a:xfrm>
            <a:off x="493560" y="1420920"/>
            <a:ext cx="8229600" cy="451620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ahoma"/>
              </a:rPr>
              <a:t>Крупнейшие держатели облигаций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85840" y="1285920"/>
          <a:ext cx="8501040" cy="5151240"/>
        </p:xfrm>
        <a:graphic>
          <a:graphicData uri="http://schemas.openxmlformats.org/drawingml/2006/table">
            <a:tbl>
              <a:tblPr/>
              <a:tblGrid>
                <a:gridCol w="714240"/>
                <a:gridCol w="3000600"/>
                <a:gridCol w="2660400"/>
                <a:gridCol w="2125800"/>
              </a:tblGrid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c2e7c"/>
                          </a:solidFill>
                          <a:latin typeface="Times New Roman"/>
                          <a:ea typeface="Times New Roman"/>
                        </a:rPr>
                        <a:t>#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c2e7c"/>
                          </a:solidFill>
                          <a:latin typeface="Times New Roman"/>
                          <a:ea typeface="Calibri"/>
                        </a:rPr>
                        <a:t>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c2e7c"/>
                          </a:solidFill>
                          <a:latin typeface="Times New Roman"/>
                          <a:ea typeface="Times New Roman"/>
                        </a:rPr>
                        <a:t>Облигации, млн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c2e7c"/>
                          </a:solidFill>
                          <a:latin typeface="Times New Roman"/>
                          <a:ea typeface="Times New Roman"/>
                        </a:rPr>
                        <a:t>Доля в активах, 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бер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34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68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Т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9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азпром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90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анк Москв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36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ити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99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Юникредитбанк (ММБ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5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йффайзен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9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ралси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44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мос-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79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68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ТБ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53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</a:tbl>
          </a:graphicData>
        </a:graphic>
      </p:graphicFrame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c000"/>
                </a:solidFill>
                <a:latin typeface="Tahoma"/>
              </a:rPr>
              <a:t>Кто самые консервативные инвесторы</a:t>
            </a:r>
            <a:r>
              <a:rPr b="1" lang="en-US" sz="2500" spc="-1" strike="noStrike">
                <a:solidFill>
                  <a:srgbClr val="ffc000"/>
                </a:solidFill>
                <a:latin typeface="Tahoma"/>
              </a:rPr>
              <a:t>?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28760" y="709560"/>
          <a:ext cx="8229600" cy="5943600"/>
        </p:xfrm>
        <a:graphic>
          <a:graphicData uri="http://schemas.openxmlformats.org/drawingml/2006/table">
            <a:tbl>
              <a:tblPr/>
              <a:tblGrid>
                <a:gridCol w="571320"/>
                <a:gridCol w="3543480"/>
                <a:gridCol w="2057400"/>
                <a:gridCol w="2057400"/>
              </a:tblGrid>
              <a:tr h="559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c2e7c"/>
                          </a:solidFill>
                          <a:latin typeface="Times New Roman"/>
                          <a:ea typeface="Times New Roman"/>
                        </a:rPr>
                        <a:t>#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c2e7c"/>
                          </a:solidFill>
                          <a:latin typeface="Times New Roman"/>
                          <a:ea typeface="Calibri"/>
                        </a:rPr>
                        <a:t>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c2e7c"/>
                          </a:solidFill>
                          <a:latin typeface="Times New Roman"/>
                          <a:ea typeface="Times New Roman"/>
                        </a:rPr>
                        <a:t>Облигации, млн 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c2e7c"/>
                          </a:solidFill>
                          <a:latin typeface="Times New Roman"/>
                          <a:ea typeface="Times New Roman"/>
                        </a:rPr>
                        <a:t>Доля в активах,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5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лебо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5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усский земе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4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5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рас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92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5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ранспортный инвестицион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58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низ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29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5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Ф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9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5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жтраст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5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Юг-инвест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8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5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елдор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8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5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и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84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5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крыт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5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вер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8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58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4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5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веро-Восточный инвестицион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54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ити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299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</a:tbl>
          </a:graphicData>
        </a:graphic>
      </p:graphicFrame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365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ahoma"/>
              </a:rPr>
              <a:t>Зависимость вложений в облигации от размера банка </a:t>
            </a:r>
            <a:br>
              <a:rPr sz="3200"/>
            </a:b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(доля в активах и размер активов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1" name="Диаграмма 3" descr=""/>
          <p:cNvPicPr/>
          <p:nvPr/>
        </p:nvPicPr>
        <p:blipFill>
          <a:blip r:embed="rId1"/>
          <a:stretch/>
        </p:blipFill>
        <p:spPr>
          <a:xfrm>
            <a:off x="420840" y="1639800"/>
            <a:ext cx="8229600" cy="458496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ahoma"/>
              </a:rPr>
              <a:t>Крупнейшие держатели акций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85840" y="1285920"/>
          <a:ext cx="8501040" cy="5151240"/>
        </p:xfrm>
        <a:graphic>
          <a:graphicData uri="http://schemas.openxmlformats.org/drawingml/2006/table">
            <a:tbl>
              <a:tblPr/>
              <a:tblGrid>
                <a:gridCol w="714240"/>
                <a:gridCol w="3000600"/>
                <a:gridCol w="2660400"/>
                <a:gridCol w="2125800"/>
              </a:tblGrid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c2e7c"/>
                          </a:solidFill>
                          <a:latin typeface="Times New Roman"/>
                          <a:ea typeface="Times New Roman"/>
                        </a:rPr>
                        <a:t>#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c2e7c"/>
                          </a:solidFill>
                          <a:latin typeface="Times New Roman"/>
                          <a:ea typeface="Calibri"/>
                        </a:rPr>
                        <a:t>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c2e7c"/>
                          </a:solidFill>
                          <a:latin typeface="Times New Roman"/>
                          <a:ea typeface="Times New Roman"/>
                        </a:rPr>
                        <a:t>Акции, млн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c2e7c"/>
                          </a:solidFill>
                          <a:latin typeface="Times New Roman"/>
                          <a:ea typeface="Times New Roman"/>
                        </a:rPr>
                        <a:t>Доля в активах, 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ВТ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18017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68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Газпром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8927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Сбер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8566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Уралси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316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Банк Москв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197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Петрокоммерц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1597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Юникредит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112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Российский креди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107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КИТ Финан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1037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68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ВТБ-Северо-Запа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100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</a:tbl>
          </a:graphicData>
        </a:graphic>
      </p:graphicFrame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357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ahoma"/>
              </a:rPr>
              <a:t>Являются ли наши банки инвестиционными</a:t>
            </a:r>
            <a:r>
              <a:rPr b="1" lang="en-US" sz="2400" spc="-1" strike="noStrike">
                <a:solidFill>
                  <a:srgbClr val="ffc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785880" y="714240"/>
          <a:ext cx="7372440" cy="5943600"/>
        </p:xfrm>
        <a:graphic>
          <a:graphicData uri="http://schemas.openxmlformats.org/drawingml/2006/table">
            <a:tbl>
              <a:tblPr/>
              <a:tblGrid>
                <a:gridCol w="571320"/>
                <a:gridCol w="2928960"/>
                <a:gridCol w="1928880"/>
                <a:gridCol w="194328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c2e7c"/>
                          </a:solidFill>
                          <a:latin typeface="Times New Roman"/>
                          <a:ea typeface="Times New Roman"/>
                        </a:rPr>
                        <a:t>#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c2e7c"/>
                          </a:solidFill>
                          <a:latin typeface="Times New Roman"/>
                          <a:ea typeface="Calibri"/>
                        </a:rPr>
                        <a:t>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c2e7c"/>
                          </a:solidFill>
                          <a:latin typeface="Times New Roman"/>
                          <a:ea typeface="Times New Roman"/>
                        </a:rPr>
                        <a:t>Акции, млн 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c2e7c"/>
                          </a:solidFill>
                          <a:latin typeface="Times New Roman"/>
                          <a:ea typeface="Times New Roman"/>
                        </a:rPr>
                        <a:t>Доля в активах,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пита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йский креди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4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о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4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нерготранс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6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одный креди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рыт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9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маз-инвест 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йкреди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ржа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ый инвестицион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й 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Г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8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17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</a:tbl>
          </a:graphicData>
        </a:graphic>
      </p:graphicFrame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36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c000"/>
                </a:solidFill>
                <a:latin typeface="Tahoma"/>
              </a:rPr>
              <a:t>Рейтинг инвестиционных банков, март 2008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214200" y="863640"/>
          <a:ext cx="8643960" cy="5149800"/>
        </p:xfrm>
        <a:graphic>
          <a:graphicData uri="http://schemas.openxmlformats.org/drawingml/2006/table">
            <a:tbl>
              <a:tblPr/>
              <a:tblGrid>
                <a:gridCol w="428760"/>
                <a:gridCol w="1595520"/>
                <a:gridCol w="1047600"/>
                <a:gridCol w="1000080"/>
                <a:gridCol w="1143000"/>
                <a:gridCol w="3429000"/>
              </a:tblGrid>
              <a:tr h="5857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редни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, млн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эмитент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мисс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мисс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48096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Группа ВТ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0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ФК Система, 1; Россельхозбанк, 6; ТрансКонтейнер, 1; ВТБ 24, 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8096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Банк Москв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6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 Москвы, 2; Микояновский мясокомбинат, 2; ЭйрЮнион Эр Эр Джи, 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4813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Тройка Диалог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0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ВАЗ, БО-2; АВТОВАЗ, БО-1; Еврокоммерц, 5; ТГК-10, 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67284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Росбан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22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ФК Система, 1; Дальневосточная генерирующая компания, 1; Калмыкия, 31001; Калужская область, 34003;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Мосфинагентст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60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ва, 49; Москва, 45; Москва, 4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8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Газпромбан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ИЖК, 11; ТрансКонтейнер, 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48096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8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НОМОС-БАН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льневосточная генерирующая компания, 1; НОМОС-БАНК, 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8096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8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КИТ-Финан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ИЖК, 11; Дальневосточная генерирующая компания, 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-1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Банк Союз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 Союз, 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-1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Ситибан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ИЖК, 1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</a:tbl>
          </a:graphicData>
        </a:graphic>
      </p:graphicFrame>
      <p:sp>
        <p:nvSpPr>
          <p:cNvPr id="191" name="Прямоугольник 6"/>
          <p:cNvSpPr/>
          <p:nvPr/>
        </p:nvSpPr>
        <p:spPr>
          <a:xfrm>
            <a:off x="233280" y="6286680"/>
            <a:ext cx="45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http://www.cbonds.info/rus/ib/index.phtm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85840" y="277920"/>
            <a:ext cx="8400960" cy="107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Tahoma"/>
              </a:rPr>
              <a:t>Банки на рынке ценных бумаг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7" name="Рисунок SmartArt 6" descr=""/>
          <p:cNvPicPr/>
          <p:nvPr/>
        </p:nvPicPr>
        <p:blipFill>
          <a:blip r:embed="rId1"/>
          <a:stretch/>
        </p:blipFill>
        <p:spPr>
          <a:xfrm>
            <a:off x="438120" y="1584360"/>
            <a:ext cx="8255160" cy="456084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c000"/>
                </a:solidFill>
                <a:latin typeface="Tahoma"/>
              </a:rPr>
              <a:t>Полезная ссылк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Tahoma"/>
              </a:rPr>
              <a:t>http://www.cbonds.info/ru/rus/ 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6" descr="http://www.cbonds.info/design/cbonds_logo_rus.gif"/>
          <p:cNvPicPr/>
          <p:nvPr/>
        </p:nvPicPr>
        <p:blipFill>
          <a:blip r:embed="rId1"/>
          <a:stretch/>
        </p:blipFill>
        <p:spPr>
          <a:xfrm>
            <a:off x="2571840" y="3071880"/>
            <a:ext cx="2981160" cy="92880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c000"/>
                </a:solidFill>
                <a:latin typeface="Tahoma"/>
              </a:rPr>
              <a:t>Банк как эмитент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98" name="Diagram 3"/>
          <p:cNvGrpSpPr/>
          <p:nvPr/>
        </p:nvGrpSpPr>
        <p:grpSpPr>
          <a:xfrm>
            <a:off x="1441440" y="1758960"/>
            <a:ext cx="6188040" cy="3297240"/>
            <a:chOff x="1441440" y="1758960"/>
            <a:chExt cx="6188040" cy="3297240"/>
          </a:xfrm>
        </p:grpSpPr>
        <p:sp>
          <p:nvSpPr>
            <p:cNvPr id="199" name="_s1028"/>
            <p:cNvSpPr/>
            <p:nvPr/>
          </p:nvSpPr>
          <p:spPr>
            <a:xfrm>
              <a:off x="3699000" y="2344680"/>
              <a:ext cx="1673280" cy="16747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46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0" name="_s1029"/>
            <p:cNvSpPr/>
            <p:nvPr/>
          </p:nvSpPr>
          <p:spPr>
            <a:xfrm>
              <a:off x="3699000" y="1758960"/>
              <a:ext cx="167328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Привлечение 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собственного 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капитала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(обыкновенные и 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привилегированные акции)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1" name="_s1030"/>
            <p:cNvSpPr/>
            <p:nvPr/>
          </p:nvSpPr>
          <p:spPr>
            <a:xfrm>
              <a:off x="4249800" y="3298680"/>
              <a:ext cx="1673280" cy="1675080"/>
            </a:xfrm>
            <a:prstGeom prst="ellipse">
              <a:avLst/>
            </a:prstGeom>
            <a:solidFill>
              <a:srgbClr val="ebf25a">
                <a:alpha val="50000"/>
              </a:srgbClr>
            </a:solidFill>
            <a:ln w="4680">
              <a:solidFill>
                <a:srgbClr val="ebf2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2" name="_s1031"/>
            <p:cNvSpPr/>
            <p:nvPr/>
          </p:nvSpPr>
          <p:spPr>
            <a:xfrm>
              <a:off x="5956200" y="4637160"/>
              <a:ext cx="167328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Эмиссия средне- и 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долгосрочных 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обязательств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(ноты, облигации)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3" name="_s1032"/>
            <p:cNvSpPr/>
            <p:nvPr/>
          </p:nvSpPr>
          <p:spPr>
            <a:xfrm>
              <a:off x="3147840" y="3298680"/>
              <a:ext cx="1673280" cy="1675080"/>
            </a:xfrm>
            <a:prstGeom prst="ellipse">
              <a:avLst/>
            </a:prstGeom>
            <a:solidFill>
              <a:srgbClr val="f2aa68">
                <a:alpha val="50000"/>
              </a:srgbClr>
            </a:solidFill>
            <a:ln w="4680">
              <a:solidFill>
                <a:srgbClr val="f2aa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4" name="_s1033"/>
            <p:cNvSpPr/>
            <p:nvPr/>
          </p:nvSpPr>
          <p:spPr>
            <a:xfrm>
              <a:off x="1441440" y="4638600"/>
              <a:ext cx="167328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Эмиссия обязательств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денежного рынка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(векселя, сертификаты)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ahoma"/>
              </a:rPr>
              <a:t>Место ценных бумаг в банковских пассивах, 2004-08 гг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07" name="Диаграмма 3" descr=""/>
          <p:cNvPicPr/>
          <p:nvPr/>
        </p:nvPicPr>
        <p:blipFill>
          <a:blip r:embed="rId1"/>
          <a:stretch/>
        </p:blipFill>
        <p:spPr>
          <a:xfrm>
            <a:off x="420840" y="1566720"/>
            <a:ext cx="8369280" cy="501012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ahoma"/>
              </a:rPr>
              <a:t>Отраслевая структура публичных предложений акций российских компаний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357120" y="1643040"/>
          <a:ext cx="8358120" cy="3646440"/>
        </p:xfrm>
        <a:graphic>
          <a:graphicData uri="http://schemas.openxmlformats.org/drawingml/2006/table">
            <a:tbl>
              <a:tblPr/>
              <a:tblGrid>
                <a:gridCol w="500040"/>
                <a:gridCol w="4500720"/>
                <a:gridCol w="3357360"/>
              </a:tblGrid>
              <a:tr h="680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асль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в общем объеме размещений, 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ая деятельность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ительство, недвижимость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аллурги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ЭК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мацевтическая промышленность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ческая промышленность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говл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0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</a:tbl>
          </a:graphicData>
        </a:graphic>
      </p:graphicFrame>
      <p:sp>
        <p:nvSpPr>
          <p:cNvPr id="211" name="Прямоугольник 4"/>
          <p:cNvSpPr/>
          <p:nvPr/>
        </p:nvSpPr>
        <p:spPr>
          <a:xfrm>
            <a:off x="332280" y="5500800"/>
            <a:ext cx="30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Источник: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www.offering.ru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c000"/>
                </a:solidFill>
                <a:latin typeface="Tahoma"/>
              </a:rPr>
              <a:t>Структура пассивных операций с ценными бумагами</a:t>
            </a:r>
            <a:endParaRPr b="0" lang="en-US" sz="2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14" name="Диаграмма 4" descr=""/>
          <p:cNvPicPr/>
          <p:nvPr/>
        </p:nvPicPr>
        <p:blipFill>
          <a:blip r:embed="rId1"/>
          <a:stretch/>
        </p:blipFill>
        <p:spPr>
          <a:xfrm>
            <a:off x="208080" y="920880"/>
            <a:ext cx="8582040" cy="572904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ahoma"/>
              </a:rPr>
              <a:t>Выпущенные долговые бумаги, март 2008</a:t>
            </a:r>
            <a:r>
              <a:rPr b="1" lang="ru-RU" sz="2500" spc="-1" strike="noStrike">
                <a:solidFill>
                  <a:srgbClr val="ffc000"/>
                </a:solidFill>
                <a:latin typeface="Tahoma"/>
              </a:rPr>
              <a:t> 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428760" y="642960"/>
          <a:ext cx="8229600" cy="6122880"/>
        </p:xfrm>
        <a:graphic>
          <a:graphicData uri="http://schemas.openxmlformats.org/drawingml/2006/table">
            <a:tbl>
              <a:tblPr/>
              <a:tblGrid>
                <a:gridCol w="714240"/>
                <a:gridCol w="3286080"/>
                <a:gridCol w="4229280"/>
              </a:tblGrid>
              <a:tr h="560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ыпущенные ценные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бумаги, % пассив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И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0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оскоммерц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ованск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лебо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69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враз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оссийский креди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69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верный морской пу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едеральный депозит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кспресс-креди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0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кстро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есве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69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усский ипотеч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достроите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69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циональный космическ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аврическ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</a:tbl>
          </a:graphicData>
        </a:graphic>
      </p:graphicFrame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c000"/>
                </a:solidFill>
                <a:latin typeface="Tahoma"/>
              </a:rPr>
              <a:t>Полезная ссылк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71680" y="1571760"/>
            <a:ext cx="403848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руппа компаний "РЕГИОН"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вексельный рынок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http://www.region.ru/AboutGroup/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Picture 10" descr="Регион"/>
          <p:cNvPicPr/>
          <p:nvPr/>
        </p:nvPicPr>
        <p:blipFill>
          <a:blip r:embed="rId1"/>
          <a:stretch/>
        </p:blipFill>
        <p:spPr>
          <a:xfrm>
            <a:off x="5076720" y="1700280"/>
            <a:ext cx="3167280" cy="285408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c000"/>
                </a:solidFill>
                <a:latin typeface="Tahoma"/>
              </a:rPr>
              <a:t>Раскрытие информаци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жеквартальные отчеты по ценным бумага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общения об изменении положения эмитента и о сосредоточении в одних руках более 20% эмиссионных ценных бумаг любого вид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c000"/>
                </a:solidFill>
                <a:latin typeface="Tahoma"/>
              </a:rPr>
              <a:t>Доверительные операци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вичное размещение ценных бумаг (организация выпуска, андеррайтинг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едение реестра акционеров и регистрация сделок с ценными бумага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правление активами п поручению клиен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епозитарное обслужив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36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ahoma"/>
              </a:rPr>
              <a:t>Общие фонды банковского управления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428760" y="3786120"/>
          <a:ext cx="8286480" cy="1886040"/>
        </p:xfrm>
        <a:graphic>
          <a:graphicData uri="http://schemas.openxmlformats.org/drawingml/2006/table">
            <a:tbl>
              <a:tblPr/>
              <a:tblGrid>
                <a:gridCol w="4120920"/>
                <a:gridCol w="1041480"/>
                <a:gridCol w="1041480"/>
                <a:gridCol w="1041480"/>
                <a:gridCol w="1041120"/>
              </a:tblGrid>
              <a:tr h="314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казате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личество фонд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 т.ч. рублевы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 т.ч. валютны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627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тоимость чистых активов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млрд руб.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,8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,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,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1,0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Прямоугольник 4"/>
          <p:cNvSpPr/>
          <p:nvPr/>
        </p:nvSpPr>
        <p:spPr>
          <a:xfrm>
            <a:off x="342360" y="6357960"/>
            <a:ext cx="433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www.naufor.ru/tree.asp?n=653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Прямоугольник 4"/>
          <p:cNvSpPr/>
          <p:nvPr/>
        </p:nvSpPr>
        <p:spPr>
          <a:xfrm>
            <a:off x="500040" y="857160"/>
            <a:ext cx="8215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Общие фонды банковского управления (ОФБУ) – инвестиционный продукт, который предлагается банками на основе правил Банка России. ОФБУ признается имущественный комплекс, состоящий из имущества, передаваемого в доверительное управление разными лицами. Инвестор, вкладывая свои средства в ОФБУ, получает сертификат долевого участия, который не является ценной бумагой. Требования к составу и структуре активов ОФБУ более либеральны, чем требования к ПИФ. На 2008 г. управлением ОФБУ занимались 34 бан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c000"/>
                </a:solidFill>
                <a:latin typeface="Tahoma"/>
              </a:rPr>
              <a:t>Требования к банкам: наличие лицензии профессионального участника рынка ценных бумаг</a:t>
            </a:r>
            <a:endParaRPr b="0" lang="en-US" sz="3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229600" cy="26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цензия диле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цензия депозитар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цензия на доверительное управл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цензия на брокерское обслужив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c000"/>
                </a:solidFill>
                <a:latin typeface="Tahoma"/>
              </a:rPr>
              <a:t>Учетная систем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Tahoma"/>
              </a:rPr>
              <a:t>Депозитарий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казывает услуги по учету и удостоверению прав на ценные бумаги, учету и удостоверению передачи ценных бумаг, а также по хранению ценных бумаг (при документарной форме выпуска). Он осуществляет свою деятельность на основе договора с собственником ценных бумаг либо лицом, имеющим иные права в отношении ценных бумаг (депозитарный договор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Tahoma"/>
              </a:rPr>
              <a:t>Регистратор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– профессиональный участник рынка ценных бумаг, осуществляющий деятельность по ведению реестра владельцев именных ценных бумаг (сбор, фиксация, обработка, хранение и предоставление данных, составляющих систему ведения реестра владельцев ценных бумаг). Регистратор работает на основании договора с эмитентом ценных бумаг; лица, открывающие счета в реестре, не заключают договор с  регистратор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ahoma"/>
              </a:rPr>
              <a:t>Лицензии регистраторов и депозитариев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38" name="Диаграмма 3" descr=""/>
          <p:cNvPicPr/>
          <p:nvPr/>
        </p:nvPicPr>
        <p:blipFill>
          <a:blip r:embed="rId1"/>
          <a:stretch/>
        </p:blipFill>
        <p:spPr>
          <a:xfrm>
            <a:off x="420840" y="1566720"/>
            <a:ext cx="8442000" cy="487044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cc"/>
                </a:solidFill>
                <a:latin typeface="Tahoma"/>
              </a:rPr>
              <a:t>Рейтинг депозитариев России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285840" y="1214280"/>
          <a:ext cx="8229600" cy="4832640"/>
        </p:xfrm>
        <a:graphic>
          <a:graphicData uri="http://schemas.openxmlformats.org/drawingml/2006/table">
            <a:tbl>
              <a:tblPr/>
              <a:tblGrid>
                <a:gridCol w="471240"/>
                <a:gridCol w="2271960"/>
                <a:gridCol w="1371600"/>
                <a:gridCol w="1371600"/>
                <a:gridCol w="1371600"/>
                <a:gridCol w="1371600"/>
              </a:tblGrid>
              <a:tr h="649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ПОЗИТАР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оимость контролируемого имущества, руб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.ч. стоимость чистых активов ИФ и ПИФ, руб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.ч. средств пенсионных резервов, руб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.ч. средств пенсионных накоплений, руб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436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ЪЕДИНЕННАЯ ДЕПОЗИТАРНАЯ КОМПА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7 354 712 67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 967 821 74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3 386 890 9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ЕЦДЕП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1 261 558 59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 075 349 7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0 398 683 9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787 524 93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АРАНТ СД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9 159 316 39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5 126 906 37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 447 228 5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325 311 1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649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ВЫЙ СПЕЦИАЛИЗИРОВАННЫЙ ДЕПОЗИТАР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 172 493 38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 844 822 04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153 335 58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4 335 75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ПОЗИТАРИЙ ИРКО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8 750 254 4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 697 068 88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977 330 79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 854 7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36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ЕЦИАЛИЗИРОВАННЫЙ ДЕПОЗИТАРНЫЙ ЦЕНТ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 355 518 2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 355 518 2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РОСБАН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1 980 732 60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1 980 732 60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36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ДЕПОЗИТАРНАЯ КОМПАНИЯ УРАЛСИ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8 431 989 78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8 088 801 28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43 188 5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БАНК ВТ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2 646 805 19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2 646 805 19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ГАЗПРОМБАН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 610 117 43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 908 354 64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701 762 79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</a:tbl>
          </a:graphicData>
        </a:graphic>
      </p:graphicFrame>
      <p:sp>
        <p:nvSpPr>
          <p:cNvPr id="242" name="Прямоугольник 5"/>
          <p:cNvSpPr/>
          <p:nvPr/>
        </p:nvSpPr>
        <p:spPr>
          <a:xfrm>
            <a:off x="253800" y="6286680"/>
            <a:ext cx="408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www.safedepo.ru/reyting.ph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c000"/>
                </a:solidFill>
                <a:latin typeface="Tahoma"/>
              </a:rPr>
              <a:t>Полезная ссылк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фессиональная Ассоциация Регистраторов, Трансфер-Агентов и Депозитариев (ПАРТАД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http://www.partad.ru/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Picture 6" descr="http://www.partad.ru/gif/partadnew.gif"/>
          <p:cNvPicPr/>
          <p:nvPr/>
        </p:nvPicPr>
        <p:blipFill>
          <a:blip r:embed="rId1"/>
          <a:stretch/>
        </p:blipFill>
        <p:spPr>
          <a:xfrm>
            <a:off x="4929120" y="1857240"/>
            <a:ext cx="2635200" cy="1571760"/>
          </a:xfrm>
          <a:prstGeom prst="rect">
            <a:avLst/>
          </a:prstGeom>
          <a:ln w="0">
            <a:noFill/>
          </a:ln>
        </p:spPr>
      </p:pic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c000"/>
                </a:solidFill>
                <a:latin typeface="Tahoma"/>
              </a:rPr>
              <a:t>Оборот по брокерским счетам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457200" y="1600200"/>
          <a:ext cx="8229600" cy="4802040"/>
        </p:xfrm>
        <a:graphic>
          <a:graphicData uri="http://schemas.openxmlformats.org/drawingml/2006/table">
            <a:tbl>
              <a:tblPr/>
              <a:tblGrid>
                <a:gridCol w="614520"/>
                <a:gridCol w="3500280"/>
                <a:gridCol w="2057400"/>
                <a:gridCol w="2057400"/>
              </a:tblGrid>
              <a:tr h="631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№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Банк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борот в декабре 2007, тыс.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борот в декабре 2006, тыс.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ВЯЗЬ-БАНК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85 755 62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4 558 71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ОМОС-БАНК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97 939 84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9 191 87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701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БАНК КРЕДИТ СВИСС (МОСКВА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6 379 46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2 752 3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ТБ 2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5 159 17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6 133 98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ТБ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3 432 09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 103 64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ОБИНБАНК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31 291 66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 268 92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ЛЬФА-БАНК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6 706 72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7 505 88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ЛЕФКО-БАНК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2 829 44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5 707 32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ТРОЙКРЕДИТ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5 960 19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 240 94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РГРЭСБАНК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3 510 96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 668 7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</a:tbl>
          </a:graphicData>
        </a:graphic>
      </p:graphicFrame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c000"/>
                </a:solidFill>
                <a:latin typeface="Tahoma"/>
              </a:rPr>
              <a:t>Полезные ссылк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Национальная ассоциация участников фондового рынка» (НАУФОР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http://www.naufor.ru/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Национальное Рейтинговое Агентство»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ttp://www.ra-national.ru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3" name="Picture 4" descr="headline"/>
          <p:cNvPicPr/>
          <p:nvPr/>
        </p:nvPicPr>
        <p:blipFill>
          <a:blip r:embed="rId1"/>
          <a:stretch/>
        </p:blipFill>
        <p:spPr>
          <a:xfrm>
            <a:off x="4716360" y="1844640"/>
            <a:ext cx="4038840" cy="10080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logo"/>
          <p:cNvPicPr/>
          <p:nvPr/>
        </p:nvPicPr>
        <p:blipFill>
          <a:blip r:embed="rId2"/>
          <a:stretch/>
        </p:blipFill>
        <p:spPr>
          <a:xfrm>
            <a:off x="5076720" y="3789360"/>
            <a:ext cx="3382920" cy="1071720"/>
          </a:xfrm>
          <a:prstGeom prst="rect">
            <a:avLst/>
          </a:prstGeom>
          <a:ln w="0">
            <a:noFill/>
          </a:ln>
        </p:spPr>
      </p:pic>
      <p:sp>
        <p:nvSpPr>
          <p:cNvPr id="2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c000"/>
                </a:solidFill>
                <a:latin typeface="Tahoma"/>
              </a:rPr>
              <a:t>Риски по ценным бумагам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8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лигации Банка России – 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ос. ценные бумаги РФ – 1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енные бумаги субъектов РФ – 2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акс. объем портфеля = 25% капитала бан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акс. объем вложений в одного эмитента = 10% капитала бан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57120" y="277920"/>
            <a:ext cx="83296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ahoma"/>
              </a:rPr>
              <a:t>Структура рыночного риска банковского сектора </a:t>
            </a:r>
            <a:br>
              <a:rPr sz="24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рыночный риск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иск изменения рыночной цены активов или обязательств)</a:t>
            </a: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60" name="Диаграмма 4" descr=""/>
          <p:cNvPicPr/>
          <p:nvPr/>
        </p:nvPicPr>
        <p:blipFill>
          <a:blip r:embed="rId1"/>
          <a:stretch/>
        </p:blipFill>
        <p:spPr>
          <a:xfrm>
            <a:off x="281160" y="1352520"/>
            <a:ext cx="8442000" cy="5084640"/>
          </a:xfrm>
          <a:prstGeom prst="rect">
            <a:avLst/>
          </a:prstGeom>
          <a:ln w="0">
            <a:noFill/>
          </a:ln>
        </p:spPr>
      </p:pic>
      <p:sp>
        <p:nvSpPr>
          <p:cNvPr id="2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Tahoma"/>
              </a:rPr>
              <a:t>Индекс ММВБ, 2003-2008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428760" y="1285920"/>
          <a:ext cx="8429400" cy="86184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4572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602000"/>
                          </a:solidFill>
                          <a:latin typeface="Arial"/>
                          <a:ea typeface="Times New Roman"/>
                        </a:rPr>
                        <a:t>1 день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602000"/>
                          </a:solidFill>
                          <a:latin typeface="Arial"/>
                          <a:ea typeface="Times New Roman"/>
                        </a:rPr>
                        <a:t>1 мес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602000"/>
                          </a:solidFill>
                          <a:latin typeface="Arial"/>
                          <a:ea typeface="Times New Roman"/>
                        </a:rPr>
                        <a:t>6 мес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602000"/>
                          </a:solidFill>
                          <a:latin typeface="Arial"/>
                          <a:ea typeface="Times New Roman"/>
                        </a:rPr>
                        <a:t>1 год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602000"/>
                          </a:solidFill>
                          <a:latin typeface="Arial"/>
                          <a:ea typeface="Times New Roman"/>
                        </a:rPr>
                        <a:t>5 лет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4046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56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.98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64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.07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0.77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</a:tbl>
          </a:graphicData>
        </a:graphic>
      </p:graphicFrame>
      <p:pic>
        <p:nvPicPr>
          <p:cNvPr id="264" name="Picture 3" descr="http://stocks.investfunds.ru/graph/stocks_indicator.php?&amp;period=6&amp;ticker=216&amp;width=265&amp;rnd=0.7357080677281389"/>
          <p:cNvPicPr/>
          <p:nvPr/>
        </p:nvPicPr>
        <p:blipFill>
          <a:blip r:embed="rId1"/>
          <a:stretch/>
        </p:blipFill>
        <p:spPr>
          <a:xfrm>
            <a:off x="1714680" y="2357280"/>
            <a:ext cx="5214600" cy="3505320"/>
          </a:xfrm>
          <a:prstGeom prst="rect">
            <a:avLst/>
          </a:prstGeom>
          <a:ln w="0">
            <a:noFill/>
          </a:ln>
        </p:spPr>
      </p:pic>
      <p:sp>
        <p:nvSpPr>
          <p:cNvPr id="265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c000"/>
                </a:solidFill>
                <a:latin typeface="Tahoma"/>
              </a:rPr>
              <a:t>Полезные ссылк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6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http://www.micex.ru/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http://www.rts.ru/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8" name="Picture 7" descr="Московская межбанковская валютная биржа"/>
          <p:cNvPicPr/>
          <p:nvPr/>
        </p:nvPicPr>
        <p:blipFill>
          <a:blip r:embed="rId1"/>
          <a:stretch/>
        </p:blipFill>
        <p:spPr>
          <a:xfrm>
            <a:off x="5148360" y="1844640"/>
            <a:ext cx="3095640" cy="16239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9" descr="logo_rts1"/>
          <p:cNvPicPr/>
          <p:nvPr/>
        </p:nvPicPr>
        <p:blipFill>
          <a:blip r:embed="rId2"/>
          <a:stretch/>
        </p:blipFill>
        <p:spPr>
          <a:xfrm>
            <a:off x="5148360" y="3933720"/>
            <a:ext cx="3456000" cy="1020960"/>
          </a:xfrm>
          <a:prstGeom prst="rect">
            <a:avLst/>
          </a:prstGeom>
          <a:ln w="0">
            <a:noFill/>
          </a:ln>
        </p:spPr>
      </p:pic>
      <p:sp>
        <p:nvSpPr>
          <p:cNvPr id="2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ahoma"/>
              </a:rPr>
              <a:t>Лицензии профессиональных посредников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28760" y="1000080"/>
          <a:ext cx="8229600" cy="1744560"/>
        </p:xfrm>
        <a:graphic>
          <a:graphicData uri="http://schemas.openxmlformats.org/drawingml/2006/table">
            <a:tbl>
              <a:tblPr/>
              <a:tblGrid>
                <a:gridCol w="5043240"/>
                <a:gridCol w="1143000"/>
                <a:gridCol w="1000080"/>
                <a:gridCol w="1043280"/>
              </a:tblGrid>
              <a:tr h="436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деятельност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436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керск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37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4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352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лерск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3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39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436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ение ценными бумагам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16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</a:tbl>
          </a:graphicData>
        </a:graphic>
      </p:graphicFrame>
      <p:sp>
        <p:nvSpPr>
          <p:cNvPr id="144" name="Прямоугольник 4"/>
          <p:cNvSpPr/>
          <p:nvPr/>
        </p:nvSpPr>
        <p:spPr>
          <a:xfrm>
            <a:off x="405360" y="2928960"/>
            <a:ext cx="285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Источник: ФСФР Росси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85840" y="3357720"/>
            <a:ext cx="857232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рокерская деятельность сама по себе не предполагает учет прав клиентов на ценные бумаги, поэтому брокерам, желающим осуществлять такой учет, необходимо получать отдельную лицензию на депозитарную деятельность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лерской деятельностью признаются только такие операции купли-продажи ценных бумаг, которые сопровождаются публичным объявлением цен покупки и/или продажи, поэтому освобождаются от регулирования компании и граждане, которые регулярно совершают операции с ценными бумагами, в том числе даже публично предлагают купить или продать ценные бумаги, однако при этом не объявляют цен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верительное управление ценными бумагами формально отличается от доверительного управления паевыми инвестиционными фондами и негосударственными пенсионными фондами, что выражается в существовании двух разных типов лицензий на эти сходные виды деятельности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c000"/>
                </a:solidFill>
                <a:latin typeface="Tahoma"/>
              </a:rPr>
              <a:t>Банк</a:t>
            </a:r>
            <a:r>
              <a:rPr b="1" lang="en-US" sz="2200" spc="-1" strike="noStrike">
                <a:solidFill>
                  <a:srgbClr val="ffc000"/>
                </a:solidFill>
                <a:latin typeface="Tahoma"/>
              </a:rPr>
              <a:t> </a:t>
            </a:r>
            <a:r>
              <a:rPr b="1" lang="ru-RU" sz="2200" spc="-1" strike="noStrike">
                <a:solidFill>
                  <a:srgbClr val="ffc000"/>
                </a:solidFill>
                <a:latin typeface="Tahoma"/>
              </a:rPr>
              <a:t>в</a:t>
            </a:r>
            <a:r>
              <a:rPr b="1" lang="en-US" sz="2200" spc="-1" strike="noStrike">
                <a:solidFill>
                  <a:srgbClr val="ffc000"/>
                </a:solidFill>
                <a:latin typeface="Tahoma"/>
              </a:rPr>
              <a:t> </a:t>
            </a:r>
            <a:r>
              <a:rPr b="1" lang="ru-RU" sz="2200" spc="-1" strike="noStrike">
                <a:solidFill>
                  <a:srgbClr val="ffc000"/>
                </a:solidFill>
                <a:latin typeface="Tahoma"/>
              </a:rPr>
              <a:t>роли инвестора: </a:t>
            </a:r>
            <a:br>
              <a:rPr sz="2200"/>
            </a:br>
            <a:r>
              <a:rPr b="1" lang="ru-RU" sz="2200" spc="-1" strike="noStrike">
                <a:solidFill>
                  <a:srgbClr val="ffc000"/>
                </a:solidFill>
                <a:latin typeface="Tahoma"/>
              </a:rPr>
              <a:t>портфель ценных бумаг, 1999-2008</a:t>
            </a:r>
            <a:endParaRPr b="0" lang="en-US" sz="2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8" name="Диаграмма 6" descr=""/>
          <p:cNvPicPr/>
          <p:nvPr/>
        </p:nvPicPr>
        <p:blipFill>
          <a:blip r:embed="rId1"/>
          <a:stretch/>
        </p:blipFill>
        <p:spPr>
          <a:xfrm>
            <a:off x="420840" y="1352520"/>
            <a:ext cx="8302320" cy="451188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ahoma"/>
              </a:rPr>
              <a:t>Инвестиционные операции банков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Цели деятельност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иверсификация актив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ширение источников дохо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держание ликвид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Инвестиционный портфель банк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набор ценных бумаг, формируемый с определенными целями (в координатах риск-доходность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c000"/>
                </a:solidFill>
                <a:latin typeface="Tahoma"/>
              </a:rPr>
              <a:t>Инвестиционная политик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ормулировка цел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руктура инвестиционного портфел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миты по типам ценных бумаг (эмитенты, виды бумаг, срок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рядок и условия торговли 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change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TC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пецифика сделок (валютные,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DR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.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57120" y="277920"/>
            <a:ext cx="83296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ahoma"/>
              </a:rPr>
              <a:t>Банковский портфель ценных бумаг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ahoma"/>
              </a:rPr>
              <a:t>Торговый портфель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бумаги для перепродажи в течение 6 месяцев, по договорам «репо» и займа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ahoma"/>
              </a:rPr>
              <a:t>Инвестиционный портфель</a:t>
            </a:r>
            <a:r>
              <a:rPr b="0" lang="ru-RU" sz="3200" spc="-1" strike="noStrike">
                <a:solidFill>
                  <a:srgbClr val="ffc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бумаги для получения инвестиционного дохода, со сроком хранения в портфеле более 6 месяцев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ahoma"/>
              </a:rPr>
              <a:t>Портфель контрольного участия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10%, позволяющий влиять на управление в компании-эмитенте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c000"/>
                </a:solidFill>
                <a:latin typeface="Tahoma"/>
              </a:rPr>
              <a:t>Учет ценных бумаг на балансе банка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85840" y="907920"/>
          <a:ext cx="8400960" cy="5821560"/>
        </p:xfrm>
        <a:graphic>
          <a:graphicData uri="http://schemas.openxmlformats.org/drawingml/2006/table">
            <a:tbl>
              <a:tblPr/>
              <a:tblGrid>
                <a:gridCol w="1285920"/>
                <a:gridCol w="6000480"/>
                <a:gridCol w="1114560"/>
              </a:tblGrid>
              <a:tr h="569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че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ктив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асси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лговые обязательства,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обретенные для перепродажи и по договорам займ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котируемые долговые обязательст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тируемые долговые обязательства, приобретенные для инвестиров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копленный купонный (процентный) доход по долговым обязательства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сроченные долговые обязательст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кции, приобретенные для перепродажи и по договорам займ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котируемые ак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тируемые акции, приобретенные для инвестиров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чие счета по операциям с ценными бумагам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12-5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чтенные вексел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1T18:43:04Z</dcterms:created>
  <dc:creator>Sergey Moiseev</dc:creator>
  <dc:description/>
  <dc:language>en-US</dc:language>
  <cp:lastModifiedBy>LEGION</cp:lastModifiedBy>
  <dcterms:modified xsi:type="dcterms:W3CDTF">2014-11-10T12:06:18Z</dcterms:modified>
  <cp:revision>53</cp:revision>
  <dc:subject/>
  <dc:title>Банки на рынке ценных бумаг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621000000000001023620</vt:lpwstr>
  </property>
</Properties>
</file>