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19.jpeg" ContentType="image/jpeg"/>
  <Override PartName="/ppt/media/image5.png" ContentType="image/png"/>
  <Override PartName="/ppt/media/image10.png" ContentType="image/png"/>
  <Override PartName="/ppt/media/image18.gif" ContentType="image/gif"/>
  <Override PartName="/ppt/media/image4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8EE0A-C5B6-4C23-A088-BDF07B878298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000"/>
                </a:solidFill>
                <a:latin typeface="Calibri"/>
              </a:rPr>
              <a:t>Банки на рынке ценных бума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вестиционные операции бан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3A406-BE0E-40BC-8B2E-49B2573E5D23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000"/>
                </a:solidFill>
                <a:latin typeface="Calibri"/>
              </a:rPr>
              <a:t>Структура портфеля ценных бумаг банков</a:t>
            </a:r>
            <a:r>
              <a:rPr b="1" lang="en-US" sz="12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c000"/>
                </a:solidFill>
                <a:latin typeface="Calibri"/>
              </a:rPr>
              <a:t>(март 2008 г.): что предпочитают банки</a:t>
            </a:r>
            <a:r>
              <a:rPr b="1" lang="en-US" sz="1200" spc="-1" strike="noStrike">
                <a:solidFill>
                  <a:srgbClr val="ffc000"/>
                </a:solidFill>
                <a:latin typeface="Calibri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A0133-ED6F-42D3-9DAB-FD2EB0EED8F4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000"/>
                </a:solidFill>
                <a:latin typeface="Calibri"/>
              </a:rPr>
              <a:t>Структура портфеля долговых обязательств банков, март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6F3CA-E9CD-4D16-87E0-EA9896A3B365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000"/>
                </a:solidFill>
                <a:latin typeface="Calibri"/>
              </a:rPr>
              <a:t>Структура портфеля акций банковского секто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0FA7C-60E0-4279-B802-9EBF07193276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000"/>
                </a:solidFill>
                <a:latin typeface="Calibri"/>
              </a:rPr>
              <a:t>Структура портфеля контрольного участия банковского сектор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март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5FD7C-22C0-4FAC-92A6-407583AA8A1C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000"/>
                </a:solidFill>
                <a:latin typeface="Calibri"/>
              </a:rPr>
              <a:t>Крупнейшие держатели облигац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75929-1AAF-4986-B88E-2CDE0C8879EF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000"/>
                </a:solidFill>
                <a:latin typeface="Calibri"/>
              </a:rPr>
              <a:t>Кто самые консервативные инвесторы</a:t>
            </a:r>
            <a:r>
              <a:rPr b="1" lang="en-US" sz="1200" spc="-1" strike="noStrike">
                <a:solidFill>
                  <a:srgbClr val="ffc000"/>
                </a:solidFill>
                <a:latin typeface="Calibri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511FC-5585-49B4-80F0-29AF360DE8C7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000"/>
                </a:solidFill>
                <a:latin typeface="Calibri"/>
              </a:rPr>
              <a:t>Зависимость вложений в облигации от размера банка </a:t>
            </a:r>
            <a:br>
              <a:rPr sz="1200"/>
            </a:b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(доля в активах и размер активов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6D0EF-11B6-4B69-B62F-1215A1F556EE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000"/>
                </a:solidFill>
                <a:latin typeface="Calibri"/>
              </a:rPr>
              <a:t>Крупнейшие держатели акц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44F28-C861-4FB7-87EB-D35D177524FA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000"/>
                </a:solidFill>
                <a:latin typeface="Calibri"/>
              </a:rPr>
              <a:t>Являются ли наши банки инвестиционными</a:t>
            </a:r>
            <a:r>
              <a:rPr b="1" lang="en-US" sz="1200" spc="-1" strike="noStrike">
                <a:solidFill>
                  <a:srgbClr val="ffc000"/>
                </a:solidFill>
                <a:latin typeface="Calibri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DD786-0F1D-465E-825E-525E08C9C974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000"/>
                </a:solidFill>
                <a:latin typeface="Calibri"/>
              </a:rPr>
              <a:t>Рейтинг инвестиционных банков, март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BA48D-B35A-4FFD-B576-12C2E87B58D0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000"/>
                </a:solidFill>
                <a:latin typeface="Calibri"/>
              </a:rPr>
              <a:t>Банки на рынке ценных бума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FA59E-743A-4303-B3D3-008D1B680B45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000"/>
                </a:solidFill>
                <a:latin typeface="Calibri"/>
              </a:rPr>
              <a:t>Полезная ссыл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www.cbonds.info/ru/rus/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7031E-EA75-43BD-8A6A-881CA4DD07D2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000"/>
                </a:solidFill>
                <a:latin typeface="Calibri"/>
              </a:rPr>
              <a:t>Банк как эмитен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E648B-28F1-4CD4-BD91-6CF4326138C3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000"/>
                </a:solidFill>
                <a:latin typeface="Calibri"/>
              </a:rPr>
              <a:t>Место ценных бумаг в банковских пассивах, 2004-08 г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1B815-5731-46F0-A333-6D2E7B450649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000"/>
                </a:solidFill>
                <a:latin typeface="Calibri"/>
              </a:rPr>
              <a:t>Отраслевая структура публичных предложений акций российских компа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5AB53-C83F-4095-A75E-29F5C6A50F78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000"/>
                </a:solidFill>
                <a:latin typeface="Calibri"/>
              </a:rPr>
              <a:t>Структура пассивных операций с ценными бумаг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25AF5-F9A8-4B63-B2E7-F3DDDB177539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000"/>
                </a:solidFill>
                <a:latin typeface="Calibri"/>
              </a:rPr>
              <a:t>Выпущенные долговые бумаги, март 2008</a:t>
            </a:r>
            <a:r>
              <a:rPr b="1" lang="ru-RU" sz="1600" spc="-1" strike="noStrike">
                <a:solidFill>
                  <a:srgbClr val="ffc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15638-77E7-45EB-A632-3A3A8392D170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000"/>
                </a:solidFill>
                <a:latin typeface="Calibri"/>
              </a:rPr>
              <a:t>Полезная ссыл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уппа компаний "РЕГИОН"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вексельный рынок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www.region.ru/AboutGroup/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A8B4F-3C0E-40E2-A33C-C0B63E32CD4C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000"/>
                </a:solidFill>
                <a:latin typeface="Calibri"/>
              </a:rPr>
              <a:t>Раскрытие информ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жеквартальные отчеты по ценным бумаг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общения об изменении положения эмитента и о сосредоточении в одних руках более 20% эмиссионных ценных бумаг любого ви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4FA51-7CB6-4D53-9C2D-50E8EC307635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000"/>
                </a:solidFill>
                <a:latin typeface="Calibri"/>
              </a:rPr>
              <a:t>Доверительные опер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вичное размещение ценных бумаг (организация выпуска, андеррайтинг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дение реестра акционеров и регистрация сделок с ценными бумаг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равление активами п поручению клиен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позитарное обслужи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5C5BD-3B58-4896-ABA6-2021E16439D5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000"/>
                </a:solidFill>
                <a:latin typeface="Calibri"/>
              </a:rPr>
              <a:t>Общие фонды банковского управ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Общие фонды банковского управления (ОФБУ) – инвестиционный продукт, который предлагается банками на основе правил Банка России. ОФБУ признается имущественный комплекс, состоящий из имущества, передаваемого в доверительное управление разными лицами. Инвестор, вкладывая свои средства в ОФБУ, получает сертификат долевого участия, который не является ценной бумагой. Требования к составу и структуре активов ОФБУ более либеральны, чем требования к ПИФ. На 2008 г. управлением ОФБУ занимались 34 бан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5EB79-2978-4155-AEF7-42534F9FCCBC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000"/>
                </a:solidFill>
                <a:latin typeface="Calibri"/>
              </a:rPr>
              <a:t>Требования к банкам: наличие лицензии профессионального участника рынка ценных бумаг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цензия диле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цензия депозитар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цензия на доверительное управл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цензия на брокерское обслужи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78285-0280-46FB-82F2-0E93B3422115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000"/>
                </a:solidFill>
                <a:latin typeface="Calibri"/>
              </a:rPr>
              <a:t>Учетная систе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c000"/>
                </a:solidFill>
                <a:latin typeface="Calibri"/>
              </a:rPr>
              <a:t>Депозитарий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казывает услуги по учету и удостоверению прав на ценные бумаги, учету и удостоверению передачи ценных бумаг, а также по хранению ценных бумаг (при документарной форме выпуска). Он осуществляет свою деятельность на основе договора с собственником ценных бумаг либо лицом, имеющим иные права в отношении ценных бумаг (депозитарный договор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c000"/>
                </a:solidFill>
                <a:latin typeface="Calibri"/>
              </a:rPr>
              <a:t>Регистратор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профессиональный участник рынка ценных бумаг, осуществляющий деятельность по ведению реестра владельцев именных ценных бумаг (сбор, фиксация, обработка, хранение и предоставление данных, составляющих систему ведения реестра владельцев ценных бумаг). Регистратор работает на основании договора с эмитентом ценных бумаг; лица, открывающие счета в реестре, не заключают договор с  регистратор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DADEC-B9D2-4D22-BFC1-4F157096B5C1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000"/>
                </a:solidFill>
                <a:latin typeface="Calibri"/>
              </a:rPr>
              <a:t>Лицензии регистраторов и депозитарие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53E96-4A91-41A1-8111-869249575120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йтинг депозитариев Росс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01BB5-9836-48F0-ACF4-B1E72F02173D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000"/>
                </a:solidFill>
                <a:latin typeface="Calibri"/>
              </a:rPr>
              <a:t>Полезная ссыл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фессиональная Ассоциация Регистраторов, Трансфер-Агентов и Депозитариев (ПАРТАД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www.partad.r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104AD-7CE6-4633-A67E-0401CA2427B1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000"/>
                </a:solidFill>
                <a:latin typeface="Calibri"/>
              </a:rPr>
              <a:t>Оборот по брокерским счета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C8FA9-E36A-4F40-8774-FDD163CE0F14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000"/>
                </a:solidFill>
                <a:latin typeface="Calibri"/>
              </a:rPr>
              <a:t>Полезные ссыл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Национальная ассоциация участников фондового рынка» (НАУФОР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www.naufor.ru/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Национальное Рейтинговое Агентство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ra-national.r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39B42-4E78-4FCB-8006-1F1B149900B3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000"/>
                </a:solidFill>
                <a:latin typeface="Calibri"/>
              </a:rPr>
              <a:t>Риски по ценным бумаг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лигации Банка России – 0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. ценные бумаги РФ – 10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ные бумаги субъектов РФ – 20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Макс. объем портфеля = 25% капитала банка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Макс. объем вложений в одного эмитента = 10% капитала банка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4B69D-2BA5-4408-81F6-9F021DDD0BCA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c000"/>
                </a:solidFill>
                <a:latin typeface="Calibri"/>
              </a:rPr>
              <a:t>Структура рыночного риска банковского сектора </a:t>
            </a:r>
            <a:br>
              <a:rPr sz="16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рыночный риск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иск изменения рыночной цены активов или обязательств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FE73D-A26A-472C-984F-BA38A25B90C7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000"/>
                </a:solidFill>
                <a:latin typeface="Calibri"/>
              </a:rPr>
              <a:t>Индекс ММВБ, 2003-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EE54C-8AB7-497B-8F2D-257878E2AC0D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000"/>
                </a:solidFill>
                <a:latin typeface="Calibri"/>
              </a:rPr>
              <a:t>Полезные ссыл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www.micex.r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www.rts.ru/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99E37-781C-4F82-AA5B-7D9BF7A9FE06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000"/>
                </a:solidFill>
                <a:latin typeface="Calibri"/>
              </a:rPr>
              <a:t>Лицензии профессиональных посредни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buClr>
                <a:srgbClr val="00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окерская деятельность сама по себе не предполагает учет прав клиентов на ценные бумаги, поэтому брокерам, желающим осуществлять такой учет, необходимо получать отдельную лицензию на депозитарную деятельност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buClr>
                <a:srgbClr val="00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лерской деятельностью признаются только такие операции купли-продажи ценных бумаг, которые сопровождаются публичным объявлением цен покупки и/или продажи, поэтому освобождаются от регулирования компании и граждане, которые регулярно совершают операции с ценными бумагами, в том числе даже публично предлагают купить или продать ценные бумаги, однако при этом не объявляют цен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buClr>
                <a:srgbClr val="00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верительное управление ценными бумагами формально отличается от доверительного управления паевыми инвестиционными фондами и негосударственными пенсионными фондами, что выражается в существовании двух разных типов лицензий на эти сходные виды деятельн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AA6E7-E55B-478A-84EC-E1C98AF35D09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000"/>
                </a:solidFill>
                <a:latin typeface="Calibri"/>
              </a:rPr>
              <a:t>Банк</a:t>
            </a:r>
            <a:r>
              <a:rPr b="1" lang="en-US" sz="12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c000"/>
                </a:solidFill>
                <a:latin typeface="Calibri"/>
              </a:rPr>
              <a:t>в</a:t>
            </a:r>
            <a:r>
              <a:rPr b="1" lang="en-US" sz="12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c000"/>
                </a:solidFill>
                <a:latin typeface="Calibri"/>
              </a:rPr>
              <a:t>роли инвестора: </a:t>
            </a:r>
            <a:br>
              <a:rPr sz="1200"/>
            </a:br>
            <a:r>
              <a:rPr b="1" lang="ru-RU" sz="1200" spc="-1" strike="noStrike">
                <a:solidFill>
                  <a:srgbClr val="ffc000"/>
                </a:solidFill>
                <a:latin typeface="Calibri"/>
              </a:rPr>
              <a:t>портфель ценных бумаг, 1999-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7241E-5465-4E0F-A816-A88658DD8E80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000"/>
                </a:solidFill>
                <a:latin typeface="Calibri"/>
              </a:rPr>
              <a:t>Инвестиционные операции бан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Цели деятельност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версификация актив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ширение источников дох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держание ликвид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нвестиционный портфель банк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набор ценных бумаг, формируемый с определенными целями (в координатах риск-доходность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36192-2DD4-48FC-9278-DD550267647C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000"/>
                </a:solidFill>
                <a:latin typeface="Calibri"/>
              </a:rPr>
              <a:t>Инвестиционная полит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улировка цел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уктура инвестиционного портфел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миты по типам ценных бумаг (эмитенты, виды бумаг, срок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рядок и условия торговли (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change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TC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ецифика сделок (валютные,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DR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.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9F340-47F3-40E8-B9BA-F58864D57FD5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000"/>
                </a:solidFill>
                <a:latin typeface="Calibri"/>
              </a:rPr>
              <a:t>Банковский портфель ценных бума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000"/>
                </a:solidFill>
                <a:latin typeface="Calibri"/>
              </a:rPr>
              <a:t>Торговый портфель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бумаги для перепродажи в течение 6 месяцев, по договорам «репо» и займа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000"/>
                </a:solidFill>
                <a:latin typeface="Calibri"/>
              </a:rPr>
              <a:t>Инвестиционный портфель</a:t>
            </a:r>
            <a:r>
              <a:rPr b="0" lang="ru-RU" sz="12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бумаги для получения инвестиционного дохода, со сроком хранения в портфеле более 6 месяцев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000"/>
                </a:solidFill>
                <a:latin typeface="Calibri"/>
              </a:rPr>
              <a:t>Портфель контрольного участия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10%, позволяющий влиять на управление в компании-эмитент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DC55D-386B-461D-AFC1-851795EA2E86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000"/>
                </a:solidFill>
                <a:latin typeface="Calibri"/>
              </a:rPr>
              <a:t>Учет ценных бумаг на балансе бан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0945B-6C7C-4AFD-A6F5-C1AE932F4D51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7B3AE8-05D0-4B44-90BF-704A8F587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445DA4-E5E1-4494-B79E-723BAD62E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5FCA35-CF73-4410-A15F-470DAD7B9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9FEF79-A1E2-47A2-A7DF-997E2232D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6FA09-34AC-405D-B17A-E5244F596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0FB7C-0A73-4584-84AE-2714929EC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ED0F1-B237-4980-94A4-9F56C3AB4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0A51E-21DF-40DA-BA33-FDA532B97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DAAAB-0B40-4854-B06C-15EC9041B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AA9EC-B72E-4160-B4FF-E49A100D5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7AB93-6E01-4141-983B-FA120A474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B9FC3C-FC02-4CCC-A553-9A3B3DEA9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046F6-AB43-4B43-A9AA-8D214CA30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00025-D261-413B-85A3-C52897EF7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8D45A-777C-408A-9940-DDD0E296A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2E0C4-7479-4DB3-82B0-1814FB981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604AD-5CA6-4A43-AD2C-D7AF347E7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200424-FA8E-4C71-A2E3-FC6F3B970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633A73-6DBC-4F86-8470-7764A65B4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3E8B51-3F5A-400C-BC4D-A2D095F0A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438A92-624C-4FF4-9EB4-AF4DA2869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D64FBC-80BD-4192-A840-D013DF037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DE4EB2-A183-4BDA-86CB-2429F656A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AA91B3-4765-43BA-978A-D1A926BF1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FB0C9-5368-44D8-8D39-F54AF3134DF3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B9509-FA26-4909-95D5-2DB9B0D60CE8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1714680"/>
            <a:ext cx="7772400" cy="17143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c000"/>
                </a:solidFill>
                <a:latin typeface="Tahoma"/>
              </a:rPr>
              <a:t>Банки на рынке ценных бумаг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142640" y="3885840"/>
            <a:ext cx="700092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нвестиционные операции банко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c000"/>
                </a:solidFill>
                <a:latin typeface="Tahoma"/>
              </a:rPr>
              <a:t>Структура портфеля ценных бумаг банков</a:t>
            </a:r>
            <a:r>
              <a:rPr b="1" lang="en-US" sz="2500" spc="-1" strike="noStrike">
                <a:solidFill>
                  <a:srgbClr val="ffc000"/>
                </a:solidFill>
                <a:latin typeface="Tahoma"/>
              </a:rPr>
              <a:t> </a:t>
            </a:r>
            <a:r>
              <a:rPr b="1" lang="ru-RU" sz="2500" spc="-1" strike="noStrike">
                <a:solidFill>
                  <a:srgbClr val="ffc000"/>
                </a:solidFill>
                <a:latin typeface="Tahoma"/>
              </a:rPr>
              <a:t>(март 2008 г.): что предпочитают банки</a:t>
            </a:r>
            <a:r>
              <a:rPr b="1" lang="en-US" sz="2500" spc="-1" strike="noStrike">
                <a:solidFill>
                  <a:srgbClr val="ffc000"/>
                </a:solidFill>
                <a:latin typeface="Tahoma"/>
              </a:rPr>
              <a:t>?</a:t>
            </a:r>
            <a:endParaRPr b="0" lang="en-US" sz="25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63" name="Диаграмма 6" descr=""/>
          <p:cNvPicPr/>
          <p:nvPr/>
        </p:nvPicPr>
        <p:blipFill>
          <a:blip r:embed="rId1"/>
          <a:stretch/>
        </p:blipFill>
        <p:spPr>
          <a:xfrm>
            <a:off x="493560" y="1639800"/>
            <a:ext cx="8083800" cy="4297320"/>
          </a:xfrm>
          <a:prstGeom prst="rect">
            <a:avLst/>
          </a:prstGeom>
          <a:ln w="0">
            <a:noFill/>
          </a:ln>
        </p:spPr>
      </p:pic>
      <p:sp>
        <p:nvSpPr>
          <p:cNvPr id="1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c000"/>
                </a:solidFill>
                <a:latin typeface="Tahoma"/>
              </a:rPr>
              <a:t>Структура портфеля долговых обязательств банков, март 2008</a:t>
            </a:r>
            <a:endParaRPr b="0" lang="en-US" sz="2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66" name="Диаграмма 46" descr=""/>
          <p:cNvPicPr/>
          <p:nvPr/>
        </p:nvPicPr>
        <p:blipFill>
          <a:blip r:embed="rId1"/>
          <a:stretch/>
        </p:blipFill>
        <p:spPr>
          <a:xfrm>
            <a:off x="281160" y="1279440"/>
            <a:ext cx="8442000" cy="4945320"/>
          </a:xfrm>
          <a:prstGeom prst="rect">
            <a:avLst/>
          </a:prstGeom>
          <a:ln w="0">
            <a:noFill/>
          </a:ln>
        </p:spPr>
      </p:pic>
      <p:sp>
        <p:nvSpPr>
          <p:cNvPr id="1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c000"/>
                </a:solidFill>
                <a:latin typeface="Tahoma"/>
              </a:rPr>
              <a:t>Структура портфеля акций банковского сектора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69" name="Диаграмма 31" descr=""/>
          <p:cNvPicPr/>
          <p:nvPr/>
        </p:nvPicPr>
        <p:blipFill>
          <a:blip r:embed="rId1"/>
          <a:stretch/>
        </p:blipFill>
        <p:spPr>
          <a:xfrm>
            <a:off x="208080" y="1494000"/>
            <a:ext cx="8515080" cy="4443120"/>
          </a:xfrm>
          <a:prstGeom prst="rect">
            <a:avLst/>
          </a:prstGeom>
          <a:ln w="0">
            <a:noFill/>
          </a:ln>
        </p:spPr>
      </p:pic>
      <p:sp>
        <p:nvSpPr>
          <p:cNvPr id="1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218440" cy="936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Tahoma"/>
              </a:rPr>
              <a:t>Структура портфеля контрольного участия банковского сектора</a:t>
            </a: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, март 2008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72" name="Диаграмма 22" descr=""/>
          <p:cNvPicPr/>
          <p:nvPr/>
        </p:nvPicPr>
        <p:blipFill>
          <a:blip r:embed="rId1"/>
          <a:stretch/>
        </p:blipFill>
        <p:spPr>
          <a:xfrm>
            <a:off x="493560" y="1420920"/>
            <a:ext cx="8229600" cy="4516200"/>
          </a:xfrm>
          <a:prstGeom prst="rect">
            <a:avLst/>
          </a:prstGeom>
          <a:ln w="0">
            <a:noFill/>
          </a:ln>
        </p:spPr>
      </p:pic>
      <p:sp>
        <p:nvSpPr>
          <p:cNvPr id="1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Tahoma"/>
              </a:rPr>
              <a:t>Крупнейшие держатели облигаций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285840" y="1285920"/>
          <a:ext cx="8501040" cy="5151240"/>
        </p:xfrm>
        <a:graphic>
          <a:graphicData uri="http://schemas.openxmlformats.org/drawingml/2006/table">
            <a:tbl>
              <a:tblPr/>
              <a:tblGrid>
                <a:gridCol w="714240"/>
                <a:gridCol w="3000600"/>
                <a:gridCol w="2660400"/>
                <a:gridCol w="2125800"/>
              </a:tblGrid>
              <a:tr h="4683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c2e7c"/>
                          </a:solidFill>
                          <a:latin typeface="Times New Roman"/>
                          <a:ea typeface="Times New Roman"/>
                        </a:rPr>
                        <a:t>#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c2e7c"/>
                          </a:solidFill>
                          <a:latin typeface="Times New Roman"/>
                          <a:ea typeface="Calibri"/>
                        </a:rPr>
                        <a:t>Банк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c2e7c"/>
                          </a:solidFill>
                          <a:latin typeface="Times New Roman"/>
                          <a:ea typeface="Times New Roman"/>
                        </a:rPr>
                        <a:t>Облигации, млн руб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c2e7c"/>
                          </a:solidFill>
                          <a:latin typeface="Times New Roman"/>
                          <a:ea typeface="Times New Roman"/>
                        </a:rPr>
                        <a:t>Доля в активах, 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4683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бербанк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342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  <a:tr h="4680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ТБ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292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</a:tr>
              <a:tr h="4683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азпромбанк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290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  <a:tr h="4683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Банк Москв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436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</a:tr>
              <a:tr h="4683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итибанк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99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  <a:tr h="4683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Юникредитбанк (ММБ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5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</a:tr>
              <a:tr h="4683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айффайзенбанк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98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  <a:tr h="4683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ралсиб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44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</a:tr>
              <a:tr h="4683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омос-банк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79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  <a:tr h="4680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ТБ2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53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</a:tr>
            </a:tbl>
          </a:graphicData>
        </a:graphic>
      </p:graphicFrame>
      <p:sp>
        <p:nvSpPr>
          <p:cNvPr id="17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28760" y="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c000"/>
                </a:solidFill>
                <a:latin typeface="Tahoma"/>
              </a:rPr>
              <a:t>Кто самые консервативные инвесторы</a:t>
            </a:r>
            <a:r>
              <a:rPr b="1" lang="en-US" sz="2500" spc="-1" strike="noStrike">
                <a:solidFill>
                  <a:srgbClr val="ffc000"/>
                </a:solidFill>
                <a:latin typeface="Tahoma"/>
              </a:rPr>
              <a:t>?</a:t>
            </a:r>
            <a:endParaRPr b="0" lang="en-US" sz="25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428760" y="709560"/>
          <a:ext cx="8229600" cy="5943600"/>
        </p:xfrm>
        <a:graphic>
          <a:graphicData uri="http://schemas.openxmlformats.org/drawingml/2006/table">
            <a:tbl>
              <a:tblPr/>
              <a:tblGrid>
                <a:gridCol w="571320"/>
                <a:gridCol w="3543480"/>
                <a:gridCol w="2057400"/>
                <a:gridCol w="2057400"/>
              </a:tblGrid>
              <a:tr h="5598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2c2e7c"/>
                          </a:solidFill>
                          <a:latin typeface="Times New Roman"/>
                          <a:ea typeface="Times New Roman"/>
                        </a:rPr>
                        <a:t>#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2c2e7c"/>
                          </a:solidFill>
                          <a:latin typeface="Times New Roman"/>
                          <a:ea typeface="Calibri"/>
                        </a:rPr>
                        <a:t>Банк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2c2e7c"/>
                          </a:solidFill>
                          <a:latin typeface="Times New Roman"/>
                          <a:ea typeface="Times New Roman"/>
                        </a:rPr>
                        <a:t>Облигации, млн руб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2c2e7c"/>
                          </a:solidFill>
                          <a:latin typeface="Times New Roman"/>
                          <a:ea typeface="Times New Roman"/>
                        </a:rPr>
                        <a:t>Доля в активах, 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3592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Хлебобанк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37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  <a:tr h="3592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усский земельны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74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</a:tr>
              <a:tr h="3592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рас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92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  <a:tr h="3592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ранспортный инвестиционны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13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</a:tr>
              <a:tr h="3589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енизбанк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29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  <a:tr h="3592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БФ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79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</a:tr>
              <a:tr h="3592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ежтрастбанк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9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  <a:tr h="3592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Юг-инвестбанк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18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</a:tr>
              <a:tr h="3592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Желдорбанк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85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  <a:tr h="3592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бибанк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84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</a:tr>
              <a:tr h="3592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ткрыти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51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  <a:tr h="3592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вер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58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</a:tr>
              <a:tr h="3589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Б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42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  <a:tr h="3592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еверо-Восточный инвестиционны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38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</a:tr>
              <a:tr h="3546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итибанк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299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</a:tbl>
          </a:graphicData>
        </a:graphic>
      </p:graphicFrame>
      <p:sp>
        <p:nvSpPr>
          <p:cNvPr id="17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365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Tahoma"/>
              </a:rPr>
              <a:t>Зависимость вложений в облигации от размера банка </a:t>
            </a:r>
            <a:br>
              <a:rPr sz="3200"/>
            </a:b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(доля в активах и размер активов)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81" name="Диаграмма 3" descr=""/>
          <p:cNvPicPr/>
          <p:nvPr/>
        </p:nvPicPr>
        <p:blipFill>
          <a:blip r:embed="rId1"/>
          <a:stretch/>
        </p:blipFill>
        <p:spPr>
          <a:xfrm>
            <a:off x="420840" y="1639800"/>
            <a:ext cx="8229600" cy="4584960"/>
          </a:xfrm>
          <a:prstGeom prst="rect">
            <a:avLst/>
          </a:prstGeom>
          <a:ln w="0">
            <a:noFill/>
          </a:ln>
        </p:spPr>
      </p:pic>
      <p:sp>
        <p:nvSpPr>
          <p:cNvPr id="182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Tahoma"/>
              </a:rPr>
              <a:t>Крупнейшие держатели акций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285840" y="1285920"/>
          <a:ext cx="8501040" cy="5151240"/>
        </p:xfrm>
        <a:graphic>
          <a:graphicData uri="http://schemas.openxmlformats.org/drawingml/2006/table">
            <a:tbl>
              <a:tblPr/>
              <a:tblGrid>
                <a:gridCol w="714240"/>
                <a:gridCol w="3000600"/>
                <a:gridCol w="2660400"/>
                <a:gridCol w="2125800"/>
              </a:tblGrid>
              <a:tr h="4683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c2e7c"/>
                          </a:solidFill>
                          <a:latin typeface="Times New Roman"/>
                          <a:ea typeface="Times New Roman"/>
                        </a:rPr>
                        <a:t>#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c2e7c"/>
                          </a:solidFill>
                          <a:latin typeface="Times New Roman"/>
                          <a:ea typeface="Calibri"/>
                        </a:rPr>
                        <a:t>Банк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c2e7c"/>
                          </a:solidFill>
                          <a:latin typeface="Times New Roman"/>
                          <a:ea typeface="Times New Roman"/>
                        </a:rPr>
                        <a:t>Акции, млн руб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c2e7c"/>
                          </a:solidFill>
                          <a:latin typeface="Times New Roman"/>
                          <a:ea typeface="Times New Roman"/>
                        </a:rPr>
                        <a:t>Доля в активах, 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4683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602000"/>
                          </a:solidFill>
                          <a:latin typeface="Times New Roman"/>
                          <a:ea typeface="Calibri"/>
                        </a:rPr>
                        <a:t>ВТБ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892e00"/>
                          </a:solidFill>
                          <a:latin typeface="Times New Roman"/>
                          <a:ea typeface="Times New Roman"/>
                        </a:rPr>
                        <a:t>18017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892e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  <a:tr h="4680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602000"/>
                          </a:solidFill>
                          <a:latin typeface="Times New Roman"/>
                          <a:ea typeface="Calibri"/>
                        </a:rPr>
                        <a:t>Газпромбанк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892e00"/>
                          </a:solidFill>
                          <a:latin typeface="Times New Roman"/>
                          <a:ea typeface="Times New Roman"/>
                        </a:rPr>
                        <a:t>8927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892e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</a:tr>
              <a:tr h="4683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602000"/>
                          </a:solidFill>
                          <a:latin typeface="Times New Roman"/>
                          <a:ea typeface="Calibri"/>
                        </a:rPr>
                        <a:t>Сбербанк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892e00"/>
                          </a:solidFill>
                          <a:latin typeface="Times New Roman"/>
                          <a:ea typeface="Times New Roman"/>
                        </a:rPr>
                        <a:t>8566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892e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  <a:tr h="4683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602000"/>
                          </a:solidFill>
                          <a:latin typeface="Times New Roman"/>
                          <a:ea typeface="Calibri"/>
                        </a:rPr>
                        <a:t>Уралсиб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892e00"/>
                          </a:solidFill>
                          <a:latin typeface="Times New Roman"/>
                          <a:ea typeface="Times New Roman"/>
                        </a:rPr>
                        <a:t>3162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892e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</a:tr>
              <a:tr h="4683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602000"/>
                          </a:solidFill>
                          <a:latin typeface="Times New Roman"/>
                          <a:ea typeface="Calibri"/>
                        </a:rPr>
                        <a:t>Банк Москв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892e00"/>
                          </a:solidFill>
                          <a:latin typeface="Times New Roman"/>
                          <a:ea typeface="Times New Roman"/>
                        </a:rPr>
                        <a:t>1972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892e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  <a:tr h="4683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602000"/>
                          </a:solidFill>
                          <a:latin typeface="Times New Roman"/>
                          <a:ea typeface="Calibri"/>
                        </a:rPr>
                        <a:t>Петрокоммерц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892e00"/>
                          </a:solidFill>
                          <a:latin typeface="Times New Roman"/>
                          <a:ea typeface="Times New Roman"/>
                        </a:rPr>
                        <a:t>1597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892e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</a:tr>
              <a:tr h="4683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602000"/>
                          </a:solidFill>
                          <a:latin typeface="Times New Roman"/>
                          <a:ea typeface="Calibri"/>
                        </a:rPr>
                        <a:t>Юникредитбанк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892e00"/>
                          </a:solidFill>
                          <a:latin typeface="Times New Roman"/>
                          <a:ea typeface="Times New Roman"/>
                        </a:rPr>
                        <a:t>1123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892e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  <a:tr h="4683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602000"/>
                          </a:solidFill>
                          <a:latin typeface="Times New Roman"/>
                          <a:ea typeface="Calibri"/>
                        </a:rPr>
                        <a:t>Российский креди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892e00"/>
                          </a:solidFill>
                          <a:latin typeface="Times New Roman"/>
                          <a:ea typeface="Times New Roman"/>
                        </a:rPr>
                        <a:t>1075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892e00"/>
                          </a:solidFill>
                          <a:latin typeface="Times New Roman"/>
                          <a:ea typeface="Times New Roman"/>
                        </a:rPr>
                        <a:t>5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</a:tr>
              <a:tr h="4683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602000"/>
                          </a:solidFill>
                          <a:latin typeface="Times New Roman"/>
                          <a:ea typeface="Calibri"/>
                        </a:rPr>
                        <a:t>КИТ Финанс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892e00"/>
                          </a:solidFill>
                          <a:latin typeface="Times New Roman"/>
                          <a:ea typeface="Times New Roman"/>
                        </a:rPr>
                        <a:t>1037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892e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  <a:tr h="4680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602000"/>
                          </a:solidFill>
                          <a:latin typeface="Times New Roman"/>
                          <a:ea typeface="Calibri"/>
                        </a:rPr>
                        <a:t>ВТБ-Северо-Запад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892e00"/>
                          </a:solidFill>
                          <a:latin typeface="Times New Roman"/>
                          <a:ea typeface="Times New Roman"/>
                        </a:rPr>
                        <a:t>1005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892e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</a:tr>
            </a:tbl>
          </a:graphicData>
        </a:graphic>
      </p:graphicFrame>
      <p:sp>
        <p:nvSpPr>
          <p:cNvPr id="1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3574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Tahoma"/>
              </a:rPr>
              <a:t>Являются ли наши банки инвестиционными</a:t>
            </a:r>
            <a:r>
              <a:rPr b="1" lang="en-US" sz="2400" spc="-1" strike="noStrike">
                <a:solidFill>
                  <a:srgbClr val="ffc000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785880" y="714240"/>
          <a:ext cx="7372440" cy="5943600"/>
        </p:xfrm>
        <a:graphic>
          <a:graphicData uri="http://schemas.openxmlformats.org/drawingml/2006/table">
            <a:tbl>
              <a:tblPr/>
              <a:tblGrid>
                <a:gridCol w="571320"/>
                <a:gridCol w="2928960"/>
                <a:gridCol w="1928880"/>
                <a:gridCol w="1943280"/>
              </a:tblGrid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2c2e7c"/>
                          </a:solidFill>
                          <a:latin typeface="Times New Roman"/>
                          <a:ea typeface="Times New Roman"/>
                        </a:rPr>
                        <a:t>#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2c2e7c"/>
                          </a:solidFill>
                          <a:latin typeface="Times New Roman"/>
                          <a:ea typeface="Calibri"/>
                        </a:rPr>
                        <a:t>Банк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2c2e7c"/>
                          </a:solidFill>
                          <a:latin typeface="Times New Roman"/>
                          <a:ea typeface="Times New Roman"/>
                        </a:rPr>
                        <a:t>Акции, млн руб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2c2e7c"/>
                          </a:solidFill>
                          <a:latin typeface="Times New Roman"/>
                          <a:ea typeface="Times New Roman"/>
                        </a:rPr>
                        <a:t>Доля в активах, 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пита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2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ссийский креди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75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Б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4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ссобанк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3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4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нерготрансбанк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6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</a:tr>
              <a:tr h="3711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родный креди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2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крыти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9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маз-инвест банк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йкреди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2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ржав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вый инвестиционны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й банк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9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ГБ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8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</a:tr>
              <a:tr h="3711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ТБ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017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</a:tbl>
          </a:graphicData>
        </a:graphic>
      </p:graphicFrame>
      <p:sp>
        <p:nvSpPr>
          <p:cNvPr id="1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4363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c000"/>
                </a:solidFill>
                <a:latin typeface="Tahoma"/>
              </a:rPr>
              <a:t>Рейтинг инвестиционных банков, март 2008</a:t>
            </a:r>
            <a:endParaRPr b="0" lang="en-US" sz="25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214200" y="863640"/>
          <a:ext cx="8643960" cy="5149800"/>
        </p:xfrm>
        <a:graphic>
          <a:graphicData uri="http://schemas.openxmlformats.org/drawingml/2006/table">
            <a:tbl>
              <a:tblPr/>
              <a:tblGrid>
                <a:gridCol w="428760"/>
                <a:gridCol w="1595520"/>
                <a:gridCol w="1047600"/>
                <a:gridCol w="1000080"/>
                <a:gridCol w="1143000"/>
                <a:gridCol w="3429000"/>
              </a:tblGrid>
              <a:tr h="585720"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#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редник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ъем, млн.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б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-во эмитентов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-во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мисси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мисси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480960"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602000"/>
                          </a:solidFill>
                          <a:latin typeface="Times New Roman"/>
                          <a:ea typeface="Calibri"/>
                        </a:rPr>
                        <a:t>Группа ВТБ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,000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ФК Система, 1; Россельхозбанк, 6; ТрансКонтейнер, 1; ВТБ 24, 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  <a:tr h="480960"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602000"/>
                          </a:solidFill>
                          <a:latin typeface="Times New Roman"/>
                          <a:ea typeface="Calibri"/>
                        </a:rPr>
                        <a:t>Банк Москвы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,600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нк Москвы, 2; Микояновский мясокомбинат, 2; ЭйрЮнион Эр Эр Джи, 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</a:tr>
              <a:tr h="481320"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602000"/>
                          </a:solidFill>
                          <a:latin typeface="Times New Roman"/>
                          <a:ea typeface="Calibri"/>
                        </a:rPr>
                        <a:t>Тройка Диалог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,000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ТОВАЗ, БО-2; АВТОВАЗ, БО-1; Еврокоммерц, 5; ТГК-10, 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  <a:tr h="672840"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602000"/>
                          </a:solidFill>
                          <a:latin typeface="Times New Roman"/>
                          <a:ea typeface="Calibri"/>
                        </a:rPr>
                        <a:t>Росбанк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22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ФК Система, 1; Дальневосточная генерирующая компания, 1; Калмыкия, 31001; Калужская область, 34003;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</a:tr>
              <a:tr h="371520"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602000"/>
                          </a:solidFill>
                          <a:latin typeface="Times New Roman"/>
                          <a:ea typeface="Calibri"/>
                        </a:rPr>
                        <a:t>Мосфинагентство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604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сква, 49; Москва, 45; Москва, 46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  <a:tr h="371520"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-8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602000"/>
                          </a:solidFill>
                          <a:latin typeface="Times New Roman"/>
                          <a:ea typeface="Calibri"/>
                        </a:rPr>
                        <a:t>Газпромбанк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500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ИЖК, 11; ТрансКонтейнер, 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</a:tr>
              <a:tr h="480960"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-8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602000"/>
                          </a:solidFill>
                          <a:latin typeface="Times New Roman"/>
                          <a:ea typeface="Calibri"/>
                        </a:rPr>
                        <a:t>НОМОС-БАНК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500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льневосточная генерирующая компания, 1; НОМОС-БАНК, 8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  <a:tr h="480960"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-8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602000"/>
                          </a:solidFill>
                          <a:latin typeface="Times New Roman"/>
                          <a:ea typeface="Calibri"/>
                        </a:rPr>
                        <a:t>КИТ-Финанс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500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ИЖК, 11; Дальневосточная генерирующая компания, 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</a:tr>
              <a:tr h="371520"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-10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602000"/>
                          </a:solidFill>
                          <a:latin typeface="Times New Roman"/>
                          <a:ea typeface="Calibri"/>
                        </a:rPr>
                        <a:t>Банк Союз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000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нк Союз, 4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  <a:tr h="371520"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-10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602000"/>
                          </a:solidFill>
                          <a:latin typeface="Times New Roman"/>
                          <a:ea typeface="Calibri"/>
                        </a:rPr>
                        <a:t>Ситибанк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000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ИЖК, 1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47520" marR="47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</a:tr>
            </a:tbl>
          </a:graphicData>
        </a:graphic>
      </p:graphicFrame>
      <p:sp>
        <p:nvSpPr>
          <p:cNvPr id="191" name="Прямоугольник 6"/>
          <p:cNvSpPr/>
          <p:nvPr/>
        </p:nvSpPr>
        <p:spPr>
          <a:xfrm>
            <a:off x="233280" y="6286680"/>
            <a:ext cx="451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http://www.cbonds.info/rus/ib/index.phtm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85840" y="277920"/>
            <a:ext cx="8400960" cy="1079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000"/>
                </a:solidFill>
                <a:latin typeface="Tahoma"/>
              </a:rPr>
              <a:t>Банки на рынке ценных бумаг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7" name="Рисунок SmartArt 6" descr=""/>
          <p:cNvPicPr/>
          <p:nvPr/>
        </p:nvPicPr>
        <p:blipFill>
          <a:blip r:embed="rId1"/>
          <a:stretch/>
        </p:blipFill>
        <p:spPr>
          <a:xfrm>
            <a:off x="438120" y="1584360"/>
            <a:ext cx="8255160" cy="4560840"/>
          </a:xfrm>
          <a:prstGeom prst="rect">
            <a:avLst/>
          </a:prstGeom>
          <a:ln w="0">
            <a:noFill/>
          </a:ln>
        </p:spPr>
      </p:pic>
      <p:sp>
        <p:nvSpPr>
          <p:cNvPr id="1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c000"/>
                </a:solidFill>
                <a:latin typeface="Tahoma"/>
              </a:rPr>
              <a:t>Полезная ссылка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4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ffffff"/>
                </a:solidFill>
                <a:latin typeface="Tahoma"/>
              </a:rPr>
              <a:t>http://www.cbonds.info/ru/rus/ 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5" name="Picture 6" descr="http://www.cbonds.info/design/cbonds_logo_rus.gif"/>
          <p:cNvPicPr/>
          <p:nvPr/>
        </p:nvPicPr>
        <p:blipFill>
          <a:blip r:embed="rId1"/>
          <a:stretch/>
        </p:blipFill>
        <p:spPr>
          <a:xfrm>
            <a:off x="2571840" y="3071880"/>
            <a:ext cx="2981160" cy="928800"/>
          </a:xfrm>
          <a:prstGeom prst="rect">
            <a:avLst/>
          </a:prstGeom>
          <a:ln w="0">
            <a:noFill/>
          </a:ln>
        </p:spPr>
      </p:pic>
      <p:sp>
        <p:nvSpPr>
          <p:cNvPr id="19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601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c000"/>
                </a:solidFill>
                <a:latin typeface="Tahoma"/>
              </a:rPr>
              <a:t>Банк как эмитент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grpSp>
        <p:nvGrpSpPr>
          <p:cNvPr id="198" name="Diagram 3"/>
          <p:cNvGrpSpPr/>
          <p:nvPr/>
        </p:nvGrpSpPr>
        <p:grpSpPr>
          <a:xfrm>
            <a:off x="1441440" y="1758960"/>
            <a:ext cx="6188040" cy="3297240"/>
            <a:chOff x="1441440" y="1758960"/>
            <a:chExt cx="6188040" cy="3297240"/>
          </a:xfrm>
        </p:grpSpPr>
        <p:sp>
          <p:nvSpPr>
            <p:cNvPr id="199" name="_s1028"/>
            <p:cNvSpPr/>
            <p:nvPr/>
          </p:nvSpPr>
          <p:spPr>
            <a:xfrm>
              <a:off x="3699000" y="2344680"/>
              <a:ext cx="1673280" cy="167472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46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0" name="_s1029"/>
            <p:cNvSpPr/>
            <p:nvPr/>
          </p:nvSpPr>
          <p:spPr>
            <a:xfrm>
              <a:off x="3699000" y="1758960"/>
              <a:ext cx="1673280" cy="41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ff"/>
                  </a:solidFill>
                  <a:latin typeface="Arial"/>
                </a:rPr>
                <a:t>Привлечение </a:t>
              </a:r>
              <a:endParaRPr b="0" lang="en-US" sz="25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ff"/>
                  </a:solidFill>
                  <a:latin typeface="Arial"/>
                </a:rPr>
                <a:t>собственного </a:t>
              </a:r>
              <a:endParaRPr b="0" lang="en-US" sz="25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ff"/>
                  </a:solidFill>
                  <a:latin typeface="Arial"/>
                </a:rPr>
                <a:t>капитала</a:t>
              </a:r>
              <a:endParaRPr b="0" lang="en-US" sz="25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ff"/>
                  </a:solidFill>
                  <a:latin typeface="Arial"/>
                </a:rPr>
                <a:t>(обыкновенные и </a:t>
              </a:r>
              <a:endParaRPr b="0" lang="en-US" sz="25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ff"/>
                  </a:solidFill>
                  <a:latin typeface="Arial"/>
                </a:rPr>
                <a:t>привилегированные акции)</a:t>
              </a:r>
              <a:endParaRPr b="0" lang="en-US" sz="25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1" name="_s1030"/>
            <p:cNvSpPr/>
            <p:nvPr/>
          </p:nvSpPr>
          <p:spPr>
            <a:xfrm>
              <a:off x="4249800" y="3298680"/>
              <a:ext cx="1673280" cy="1675080"/>
            </a:xfrm>
            <a:prstGeom prst="ellipse">
              <a:avLst/>
            </a:prstGeom>
            <a:solidFill>
              <a:srgbClr val="ebf25a">
                <a:alpha val="50000"/>
              </a:srgbClr>
            </a:solidFill>
            <a:ln w="4680">
              <a:solidFill>
                <a:srgbClr val="ebf2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2" name="_s1031"/>
            <p:cNvSpPr/>
            <p:nvPr/>
          </p:nvSpPr>
          <p:spPr>
            <a:xfrm>
              <a:off x="5956200" y="4637160"/>
              <a:ext cx="1673280" cy="41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ff"/>
                  </a:solidFill>
                  <a:latin typeface="Arial"/>
                </a:rPr>
                <a:t>Эмиссия средне- и </a:t>
              </a:r>
              <a:endParaRPr b="0" lang="en-US" sz="25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ff"/>
                  </a:solidFill>
                  <a:latin typeface="Arial"/>
                </a:rPr>
                <a:t>долгосрочных </a:t>
              </a:r>
              <a:endParaRPr b="0" lang="en-US" sz="25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ff"/>
                  </a:solidFill>
                  <a:latin typeface="Arial"/>
                </a:rPr>
                <a:t>обязательств</a:t>
              </a:r>
              <a:endParaRPr b="0" lang="en-US" sz="25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ff"/>
                  </a:solidFill>
                  <a:latin typeface="Arial"/>
                </a:rPr>
                <a:t>(ноты, облигации)</a:t>
              </a:r>
              <a:endParaRPr b="0" lang="en-US" sz="25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3" name="_s1032"/>
            <p:cNvSpPr/>
            <p:nvPr/>
          </p:nvSpPr>
          <p:spPr>
            <a:xfrm>
              <a:off x="3147840" y="3298680"/>
              <a:ext cx="1673280" cy="1675080"/>
            </a:xfrm>
            <a:prstGeom prst="ellipse">
              <a:avLst/>
            </a:prstGeom>
            <a:solidFill>
              <a:srgbClr val="f2aa68">
                <a:alpha val="50000"/>
              </a:srgbClr>
            </a:solidFill>
            <a:ln w="4680">
              <a:solidFill>
                <a:srgbClr val="f2aa6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4" name="_s1033"/>
            <p:cNvSpPr/>
            <p:nvPr/>
          </p:nvSpPr>
          <p:spPr>
            <a:xfrm>
              <a:off x="1441440" y="4638600"/>
              <a:ext cx="1673280" cy="41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ff"/>
                  </a:solidFill>
                  <a:latin typeface="Arial"/>
                </a:rPr>
                <a:t>Эмиссия обязательств</a:t>
              </a:r>
              <a:endParaRPr b="0" lang="en-US" sz="25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ff"/>
                  </a:solidFill>
                  <a:latin typeface="Arial"/>
                </a:rPr>
                <a:t>денежного рынка</a:t>
              </a:r>
              <a:endParaRPr b="0" lang="en-US" sz="25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ffff"/>
                  </a:solidFill>
                  <a:latin typeface="Arial"/>
                </a:rPr>
                <a:t>(векселя, сертификаты)</a:t>
              </a:r>
              <a:endParaRPr b="0" lang="en-US" sz="25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Tahoma"/>
              </a:rPr>
              <a:t>Место ценных бумаг в банковских пассивах, 2004-08 гг.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207" name="Диаграмма 3" descr=""/>
          <p:cNvPicPr/>
          <p:nvPr/>
        </p:nvPicPr>
        <p:blipFill>
          <a:blip r:embed="rId1"/>
          <a:stretch/>
        </p:blipFill>
        <p:spPr>
          <a:xfrm>
            <a:off x="420840" y="1566720"/>
            <a:ext cx="8369280" cy="5010120"/>
          </a:xfrm>
          <a:prstGeom prst="rect">
            <a:avLst/>
          </a:prstGeom>
          <a:ln w="0">
            <a:noFill/>
          </a:ln>
        </p:spPr>
      </p:pic>
      <p:sp>
        <p:nvSpPr>
          <p:cNvPr id="208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Tahoma"/>
              </a:rPr>
              <a:t>Отраслевая структура публичных предложений акций российских компаний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357120" y="1643040"/>
          <a:ext cx="8358120" cy="3646440"/>
        </p:xfrm>
        <a:graphic>
          <a:graphicData uri="http://schemas.openxmlformats.org/drawingml/2006/table">
            <a:tbl>
              <a:tblPr/>
              <a:tblGrid>
                <a:gridCol w="500040"/>
                <a:gridCol w="4500720"/>
                <a:gridCol w="3357360"/>
              </a:tblGrid>
              <a:tr h="6800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расль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я в общем объеме размещений, %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3715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нансовая деятельность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  <a:tr h="3715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ительство, недвижимость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</a:tr>
              <a:tr h="3700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таллургия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  <a:tr h="3715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ЭК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</a:tr>
              <a:tr h="3697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армацевтическая промышленность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  <a:tr h="3715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имическая промышленность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</a:tr>
              <a:tr h="3697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орговля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  <a:tr h="3708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нспорт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</a:tr>
            </a:tbl>
          </a:graphicData>
        </a:graphic>
      </p:graphicFrame>
      <p:sp>
        <p:nvSpPr>
          <p:cNvPr id="211" name="Прямоугольник 4"/>
          <p:cNvSpPr/>
          <p:nvPr/>
        </p:nvSpPr>
        <p:spPr>
          <a:xfrm>
            <a:off x="332280" y="5500800"/>
            <a:ext cx="309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Источник: </a:t>
            </a: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www.offering.ru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601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c000"/>
                </a:solidFill>
                <a:latin typeface="Tahoma"/>
              </a:rPr>
              <a:t>Структура пассивных операций с ценными бумагами</a:t>
            </a:r>
            <a:endParaRPr b="0" lang="en-US" sz="2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214" name="Диаграмма 4" descr=""/>
          <p:cNvPicPr/>
          <p:nvPr/>
        </p:nvPicPr>
        <p:blipFill>
          <a:blip r:embed="rId1"/>
          <a:stretch/>
        </p:blipFill>
        <p:spPr>
          <a:xfrm>
            <a:off x="208080" y="920880"/>
            <a:ext cx="8582040" cy="5729040"/>
          </a:xfrm>
          <a:prstGeom prst="rect">
            <a:avLst/>
          </a:prstGeom>
          <a:ln w="0">
            <a:noFill/>
          </a:ln>
        </p:spPr>
      </p:pic>
      <p:sp>
        <p:nvSpPr>
          <p:cNvPr id="2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428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000"/>
                </a:solidFill>
                <a:latin typeface="Tahoma"/>
              </a:rPr>
              <a:t>Выпущенные долговые бумаги, март 2008</a:t>
            </a:r>
            <a:r>
              <a:rPr b="1" lang="ru-RU" sz="2500" spc="-1" strike="noStrike">
                <a:solidFill>
                  <a:srgbClr val="ffc000"/>
                </a:solidFill>
                <a:latin typeface="Tahoma"/>
              </a:rPr>
              <a:t> </a:t>
            </a:r>
            <a:endParaRPr b="0" lang="en-US" sz="25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428760" y="642960"/>
          <a:ext cx="8229600" cy="6122880"/>
        </p:xfrm>
        <a:graphic>
          <a:graphicData uri="http://schemas.openxmlformats.org/drawingml/2006/table">
            <a:tbl>
              <a:tblPr/>
              <a:tblGrid>
                <a:gridCol w="714240"/>
                <a:gridCol w="3286080"/>
                <a:gridCol w="4229280"/>
              </a:tblGrid>
              <a:tr h="560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№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Банк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Выпущенные ценные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бумаги, % пассивов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3711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И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  <a:tr h="3700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оскоммерцбанк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Ховански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Хлебобанк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</a:tr>
              <a:tr h="3697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Евразбанк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оссийский креди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</a:tr>
              <a:tr h="3697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еверный морской пут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Федеральный депозитны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Экспресс-креди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  <a:tr h="3700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Экстробанк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ересве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  <a:tr h="3697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усский ипотечны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удостроительны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  <a:tr h="3697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циональный космически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аврически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</a:tbl>
          </a:graphicData>
        </a:graphic>
      </p:graphicFrame>
      <p:sp>
        <p:nvSpPr>
          <p:cNvPr id="2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c000"/>
                </a:solidFill>
                <a:latin typeface="Tahoma"/>
              </a:rPr>
              <a:t>Полезная ссылка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71680" y="1571760"/>
            <a:ext cx="4038480" cy="264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Группа компаний "РЕГИОН"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(вексельный рынок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http://www.region.ru/AboutGroup/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1" name="Picture 10" descr="Регион"/>
          <p:cNvPicPr/>
          <p:nvPr/>
        </p:nvPicPr>
        <p:blipFill>
          <a:blip r:embed="rId1"/>
          <a:stretch/>
        </p:blipFill>
        <p:spPr>
          <a:xfrm>
            <a:off x="5076720" y="1700280"/>
            <a:ext cx="3167280" cy="2854080"/>
          </a:xfrm>
          <a:prstGeom prst="rect">
            <a:avLst/>
          </a:prstGeom>
          <a:ln w="0">
            <a:noFill/>
          </a:ln>
        </p:spPr>
      </p:pic>
      <p:sp>
        <p:nvSpPr>
          <p:cNvPr id="2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c000"/>
                </a:solidFill>
                <a:latin typeface="Tahoma"/>
              </a:rPr>
              <a:t>Раскрытие информации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3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Ежеквартальные отчеты по ценным бумага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ообщения об изменении положения эмитента и о сосредоточении в одних руках более 20% эмиссионных ценных бумаг любого вид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c000"/>
                </a:solidFill>
                <a:latin typeface="Tahoma"/>
              </a:rPr>
              <a:t>Доверительные операции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ервичное размещение ценных бумаг (организация выпуска, андеррайтинг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едение реестра акционеров и регистрация сделок с ценными бумагам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правление активами п поручению клиент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епозитарное обслуживани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4363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Tahoma"/>
              </a:rPr>
              <a:t>Общие фонды банковского управления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428760" y="3786120"/>
          <a:ext cx="8286480" cy="1886040"/>
        </p:xfrm>
        <a:graphic>
          <a:graphicData uri="http://schemas.openxmlformats.org/drawingml/2006/table">
            <a:tbl>
              <a:tblPr/>
              <a:tblGrid>
                <a:gridCol w="4120920"/>
                <a:gridCol w="1041480"/>
                <a:gridCol w="1041480"/>
                <a:gridCol w="1041480"/>
                <a:gridCol w="1041120"/>
              </a:tblGrid>
              <a:tr h="3146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оказател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00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00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00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00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</a:tr>
              <a:tr h="3146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оличество фондов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0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4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5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6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</a:tr>
              <a:tr h="3146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 т.ч. рублевы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9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9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0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</a:tr>
              <a:tr h="3146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 т.ч. валютны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</a:tr>
              <a:tr h="6274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тоимость чистых активов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млрд руб.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7,8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7,0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2,1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1,0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1" name="Прямоугольник 4"/>
          <p:cNvSpPr/>
          <p:nvPr/>
        </p:nvSpPr>
        <p:spPr>
          <a:xfrm>
            <a:off x="342360" y="6357960"/>
            <a:ext cx="433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ttp://www.naufor.ru/tree.asp?n=653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Прямоугольник 4"/>
          <p:cNvSpPr/>
          <p:nvPr/>
        </p:nvSpPr>
        <p:spPr>
          <a:xfrm>
            <a:off x="500040" y="857160"/>
            <a:ext cx="82152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Общие фонды банковского управления (ОФБУ) – инвестиционный продукт, который предлагается банками на основе правил Банка России. ОФБУ признается имущественный комплекс, состоящий из имущества, передаваемого в доверительное управление разными лицами. Инвестор, вкладывая свои средства в ОФБУ, получает сертификат долевого участия, который не является ценной бумагой. Требования к составу и структуре активов ОФБУ более либеральны, чем требования к ПИФ. На 2008 г. управлением ОФБУ занимались 34 банк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2430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ffc000"/>
                </a:solidFill>
                <a:latin typeface="Tahoma"/>
              </a:rPr>
              <a:t>Требования к банкам: наличие лицензии профессионального участника рынка ценных бумаг</a:t>
            </a:r>
            <a:endParaRPr b="0" lang="en-US" sz="35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852640"/>
            <a:ext cx="8229600" cy="26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Лицензия дилер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Лицензия депозитар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Лицензия на доверительное управлени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Лицензия на брокерское обслуживани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c000"/>
                </a:solidFill>
                <a:latin typeface="Tahoma"/>
              </a:rPr>
              <a:t>Учетная система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000"/>
                </a:solidFill>
                <a:latin typeface="Tahoma"/>
              </a:rPr>
              <a:t>Депозитарий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казывает услуги по учету и удостоверению прав на ценные бумаги, учету и удостоверению передачи ценных бумаг, а также по хранению ценных бумаг (при документарной форме выпуска). Он осуществляет свою деятельность на основе договора с собственником ценных бумаг либо лицом, имеющим иные права в отношении ценных бумаг (депозитарный договор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000"/>
                </a:solidFill>
                <a:latin typeface="Tahoma"/>
              </a:rPr>
              <a:t>Регистратор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– профессиональный участник рынка ценных бумаг, осуществляющий деятельность по ведению реестра владельцев именных ценных бумаг (сбор, фиксация, обработка, хранение и предоставление данных, составляющих систему ведения реестра владельцев ценных бумаг). Регистратор работает на основании договора с эмитентом ценных бумаг; лица, открывающие счета в реестре, не заключают договор с  регистратором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" name="Місце для нижнього колонтитула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Tahoma"/>
              </a:rPr>
              <a:t>Лицензии регистраторов и депозитариев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238" name="Диаграмма 3" descr=""/>
          <p:cNvPicPr/>
          <p:nvPr/>
        </p:nvPicPr>
        <p:blipFill>
          <a:blip r:embed="rId1"/>
          <a:stretch/>
        </p:blipFill>
        <p:spPr>
          <a:xfrm>
            <a:off x="420840" y="1566720"/>
            <a:ext cx="8442000" cy="4870440"/>
          </a:xfrm>
          <a:prstGeom prst="rect">
            <a:avLst/>
          </a:prstGeom>
          <a:ln w="0">
            <a:noFill/>
          </a:ln>
        </p:spPr>
      </p:pic>
      <p:sp>
        <p:nvSpPr>
          <p:cNvPr id="239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cc"/>
                </a:solidFill>
                <a:latin typeface="Tahoma"/>
              </a:rPr>
              <a:t>Рейтинг депозитариев России</a:t>
            </a:r>
            <a:endParaRPr b="0" lang="en-US" sz="25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285840" y="1214280"/>
          <a:ext cx="8229600" cy="4832640"/>
        </p:xfrm>
        <a:graphic>
          <a:graphicData uri="http://schemas.openxmlformats.org/drawingml/2006/table">
            <a:tbl>
              <a:tblPr/>
              <a:tblGrid>
                <a:gridCol w="471240"/>
                <a:gridCol w="2271960"/>
                <a:gridCol w="1371600"/>
                <a:gridCol w="1371600"/>
                <a:gridCol w="1371600"/>
                <a:gridCol w="1371600"/>
              </a:tblGrid>
              <a:tr h="6494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ЕПОЗИТАРИ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оимость контролируемого имущества, руб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.ч. стоимость чистых активов ИФ и ПИФ, руб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.ч. средств пенсионных резервов, руб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.ч. средств пенсионных накоплений, руб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4366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ЪЕДИНЕННАЯ ДЕПОЗИТАРНАЯ КОМПАН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7 354 712 67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3 967 821 74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3 386 890 92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  <a:tr h="3715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ПЕЦДЕП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1 261 558 59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6 075 349 71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0 398 683 94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 787 524 93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</a:tr>
              <a:tr h="3697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АРАНТ СДК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9 159 316 39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5 126 906 37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 447 228 51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 325 311 12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  <a:tr h="6494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ЕРВЫЙ СПЕЦИАЛИЗИРОВАННЫЙ ДЕПОЗИТАРИ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3 172 493 38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1 844 822 04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153 335 58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4 335 75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</a:tr>
              <a:tr h="3711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ЕПОЗИТАРИЙ ИРКО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8 750 254 41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6 697 068 88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977 330 79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5 854 72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  <a:tr h="4366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ПЕЦИАЛИЗИРОВАННЫЙ ДЕПОЗИТАРНЫЙ ЦЕНТР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 355 518 20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 355 518 20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</a:tr>
              <a:tr h="3700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РОСБАНК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21 980 732 60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21 980 732 60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  <a:tr h="4363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ДЕПОЗИТАРНАЯ КОМПАНИЯ УРАЛСИБ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8 431 989 78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8 088 801 28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343 188 50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</a:tr>
              <a:tr h="3715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БАНК ВТБ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2 646 805 19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2 646 805 19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  <a:tr h="3700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ГАЗПРОМБАНК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5 610 117 43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4 908 354 64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701 762 79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</a:tr>
            </a:tbl>
          </a:graphicData>
        </a:graphic>
      </p:graphicFrame>
      <p:sp>
        <p:nvSpPr>
          <p:cNvPr id="242" name="Прямоугольник 5"/>
          <p:cNvSpPr/>
          <p:nvPr/>
        </p:nvSpPr>
        <p:spPr>
          <a:xfrm>
            <a:off x="253800" y="6286680"/>
            <a:ext cx="408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ttp://www.safedepo.ru/reyting.php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c000"/>
                </a:solidFill>
                <a:latin typeface="Tahoma"/>
              </a:rPr>
              <a:t>Полезная ссылка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офессиональная Ассоциация Регистраторов, Трансфер-Агентов и Депозитариев (ПАРТАД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http://www.partad.ru/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6" name="Picture 6" descr="http://www.partad.ru/gif/partadnew.gif"/>
          <p:cNvPicPr/>
          <p:nvPr/>
        </p:nvPicPr>
        <p:blipFill>
          <a:blip r:embed="rId1"/>
          <a:stretch/>
        </p:blipFill>
        <p:spPr>
          <a:xfrm>
            <a:off x="4929120" y="1857240"/>
            <a:ext cx="2635200" cy="1571760"/>
          </a:xfrm>
          <a:prstGeom prst="rect">
            <a:avLst/>
          </a:prstGeom>
          <a:ln w="0">
            <a:noFill/>
          </a:ln>
        </p:spPr>
      </p:pic>
      <p:sp>
        <p:nvSpPr>
          <p:cNvPr id="2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c000"/>
                </a:solidFill>
                <a:latin typeface="Tahoma"/>
              </a:rPr>
              <a:t>Оборот по брокерским счетам 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457200" y="1600200"/>
          <a:ext cx="8229600" cy="4802040"/>
        </p:xfrm>
        <a:graphic>
          <a:graphicData uri="http://schemas.openxmlformats.org/drawingml/2006/table">
            <a:tbl>
              <a:tblPr/>
              <a:tblGrid>
                <a:gridCol w="614520"/>
                <a:gridCol w="3500280"/>
                <a:gridCol w="2057400"/>
                <a:gridCol w="2057400"/>
              </a:tblGrid>
              <a:tr h="6310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№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Банк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Оборот в декабре 2007, тыс. руб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Оборот в декабре 2006, тыс. руб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3855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СВЯЗЬ-БАНК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85 755 624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4 558 71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  <a:tr h="3855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НОМОС-БАНК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97 939 843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69 191 871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</a:tr>
              <a:tr h="7016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БАНК КРЕДИТ СВИСС (МОСКВА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66 379 469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42 752 30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  <a:tr h="3855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4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ВТБ 24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65 159 173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76 133 98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</a:tr>
              <a:tr h="3855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5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ВТБ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43 432 091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8 103 642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  <a:tr h="3855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6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СОБИНБАНК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31 291 665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1 268 927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</a:tr>
              <a:tr h="3855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7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АЛЬФА-БАНК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16 706 727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87 505 885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  <a:tr h="3855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8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ЛЕФКО-БАНК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62 829 44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5 707 321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</a:tr>
              <a:tr h="3855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9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СТРОЙКРЕДИТ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45 960 195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8 240 947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  <a:tr h="3855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ОРГРЭСБАНК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43 510 96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7 668 70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</a:tr>
            </a:tbl>
          </a:graphicData>
        </a:graphic>
      </p:graphicFrame>
      <p:sp>
        <p:nvSpPr>
          <p:cNvPr id="2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c000"/>
                </a:solidFill>
                <a:latin typeface="Tahoma"/>
              </a:rPr>
              <a:t>Полезные ссылки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«Национальная ассоциация участников фондового рынка» (НАУФОР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http://www.naufor.ru/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«Национальное Рейтинговое Агентство»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ttp://www.ra-national.ru/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3" name="Picture 4" descr="headline"/>
          <p:cNvPicPr/>
          <p:nvPr/>
        </p:nvPicPr>
        <p:blipFill>
          <a:blip r:embed="rId1"/>
          <a:stretch/>
        </p:blipFill>
        <p:spPr>
          <a:xfrm>
            <a:off x="4716360" y="1844640"/>
            <a:ext cx="4038840" cy="100800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5" descr="logo"/>
          <p:cNvPicPr/>
          <p:nvPr/>
        </p:nvPicPr>
        <p:blipFill>
          <a:blip r:embed="rId2"/>
          <a:stretch/>
        </p:blipFill>
        <p:spPr>
          <a:xfrm>
            <a:off x="5076720" y="3789360"/>
            <a:ext cx="3382920" cy="1071720"/>
          </a:xfrm>
          <a:prstGeom prst="rect">
            <a:avLst/>
          </a:prstGeom>
          <a:ln w="0">
            <a:noFill/>
          </a:ln>
        </p:spPr>
      </p:pic>
      <p:sp>
        <p:nvSpPr>
          <p:cNvPr id="2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c000"/>
                </a:solidFill>
                <a:latin typeface="Tahoma"/>
              </a:rPr>
              <a:t>Риски по ценным бумагам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8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блигации Банка России – 0%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гос. ценные бумаги РФ – 10%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ценные бумаги субъектов РФ – 20%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акс. объем портфеля = 25% капитала банк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акс. объем вложений в одного эмитента = 10% капитала банк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57120" y="277920"/>
            <a:ext cx="832968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Tahoma"/>
              </a:rPr>
              <a:t>Структура рыночного риска банковского сектора </a:t>
            </a:r>
            <a:br>
              <a:rPr sz="24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(рыночный риск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риск изменения рыночной цены активов или обязательств)</a:t>
            </a:r>
            <a:endParaRPr b="0" lang="en-US" sz="1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260" name="Диаграмма 4" descr=""/>
          <p:cNvPicPr/>
          <p:nvPr/>
        </p:nvPicPr>
        <p:blipFill>
          <a:blip r:embed="rId1"/>
          <a:stretch/>
        </p:blipFill>
        <p:spPr>
          <a:xfrm>
            <a:off x="281160" y="1352520"/>
            <a:ext cx="8442000" cy="5084640"/>
          </a:xfrm>
          <a:prstGeom prst="rect">
            <a:avLst/>
          </a:prstGeom>
          <a:ln w="0">
            <a:noFill/>
          </a:ln>
        </p:spPr>
      </p:pic>
      <p:sp>
        <p:nvSpPr>
          <p:cNvPr id="2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000"/>
                </a:solidFill>
                <a:latin typeface="Tahoma"/>
              </a:rPr>
              <a:t>Индекс ММВБ, 2003-2008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263" name=""/>
          <p:cNvGraphicFramePr/>
          <p:nvPr/>
        </p:nvGraphicFramePr>
        <p:xfrm>
          <a:off x="428760" y="1285920"/>
          <a:ext cx="8429400" cy="861840"/>
        </p:xfrm>
        <a:graphic>
          <a:graphicData uri="http://schemas.openxmlformats.org/drawingml/2006/table">
            <a:tbl>
              <a:tblPr/>
              <a:tblGrid>
                <a:gridCol w="1685880"/>
                <a:gridCol w="1685880"/>
                <a:gridCol w="1685880"/>
                <a:gridCol w="1685880"/>
                <a:gridCol w="1685880"/>
              </a:tblGrid>
              <a:tr h="45720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500" spc="-1" strike="noStrike">
                          <a:solidFill>
                            <a:srgbClr val="602000"/>
                          </a:solidFill>
                          <a:latin typeface="Arial"/>
                          <a:ea typeface="Times New Roman"/>
                        </a:rPr>
                        <a:t>1 день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500" spc="-1" strike="noStrike">
                          <a:solidFill>
                            <a:srgbClr val="602000"/>
                          </a:solidFill>
                          <a:latin typeface="Arial"/>
                          <a:ea typeface="Times New Roman"/>
                        </a:rPr>
                        <a:t>1 мес.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500" spc="-1" strike="noStrike">
                          <a:solidFill>
                            <a:srgbClr val="602000"/>
                          </a:solidFill>
                          <a:latin typeface="Arial"/>
                          <a:ea typeface="Times New Roman"/>
                        </a:rPr>
                        <a:t>6 мес.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500" spc="-1" strike="noStrike">
                          <a:solidFill>
                            <a:srgbClr val="602000"/>
                          </a:solidFill>
                          <a:latin typeface="Arial"/>
                          <a:ea typeface="Times New Roman"/>
                        </a:rPr>
                        <a:t>1 год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500" spc="-1" strike="noStrike">
                          <a:solidFill>
                            <a:srgbClr val="602000"/>
                          </a:solidFill>
                          <a:latin typeface="Arial"/>
                          <a:ea typeface="Times New Roman"/>
                        </a:rPr>
                        <a:t>5 лет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40464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56%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.98%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.64%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.07%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80.77%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</a:tbl>
          </a:graphicData>
        </a:graphic>
      </p:graphicFrame>
      <p:pic>
        <p:nvPicPr>
          <p:cNvPr id="264" name="Picture 3" descr="http://stocks.investfunds.ru/graph/stocks_indicator.php?&amp;period=6&amp;ticker=216&amp;width=265&amp;rnd=0.7357080677281389"/>
          <p:cNvPicPr/>
          <p:nvPr/>
        </p:nvPicPr>
        <p:blipFill>
          <a:blip r:embed="rId1"/>
          <a:stretch/>
        </p:blipFill>
        <p:spPr>
          <a:xfrm>
            <a:off x="1714680" y="2357280"/>
            <a:ext cx="5214600" cy="3505320"/>
          </a:xfrm>
          <a:prstGeom prst="rect">
            <a:avLst/>
          </a:prstGeom>
          <a:ln w="0">
            <a:noFill/>
          </a:ln>
        </p:spPr>
      </p:pic>
      <p:sp>
        <p:nvSpPr>
          <p:cNvPr id="265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c000"/>
                </a:solidFill>
                <a:latin typeface="Tahoma"/>
              </a:rPr>
              <a:t>Полезные ссылки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368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http://www.micex.ru/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http://www.rts.ru/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68" name="Picture 7" descr="Московская межбанковская валютная биржа"/>
          <p:cNvPicPr/>
          <p:nvPr/>
        </p:nvPicPr>
        <p:blipFill>
          <a:blip r:embed="rId1"/>
          <a:stretch/>
        </p:blipFill>
        <p:spPr>
          <a:xfrm>
            <a:off x="5148360" y="1844640"/>
            <a:ext cx="3095640" cy="162396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9" descr="logo_rts1"/>
          <p:cNvPicPr/>
          <p:nvPr/>
        </p:nvPicPr>
        <p:blipFill>
          <a:blip r:embed="rId2"/>
          <a:stretch/>
        </p:blipFill>
        <p:spPr>
          <a:xfrm>
            <a:off x="5148360" y="3933720"/>
            <a:ext cx="3456000" cy="1020960"/>
          </a:xfrm>
          <a:prstGeom prst="rect">
            <a:avLst/>
          </a:prstGeom>
          <a:ln w="0">
            <a:noFill/>
          </a:ln>
        </p:spPr>
      </p:pic>
      <p:sp>
        <p:nvSpPr>
          <p:cNvPr id="2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5792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Tahoma"/>
              </a:rPr>
              <a:t>Лицензии профессиональных посредников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428760" y="1000080"/>
          <a:ext cx="8229600" cy="1744560"/>
        </p:xfrm>
        <a:graphic>
          <a:graphicData uri="http://schemas.openxmlformats.org/drawingml/2006/table">
            <a:tbl>
              <a:tblPr/>
              <a:tblGrid>
                <a:gridCol w="5043240"/>
                <a:gridCol w="1143000"/>
                <a:gridCol w="1000080"/>
                <a:gridCol w="1043280"/>
              </a:tblGrid>
              <a:tr h="4366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д деятельност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4363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рокерска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37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4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44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  <a:tr h="4352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лерска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3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39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4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7"/>
                    </a:solidFill>
                  </a:tcPr>
                </a:tc>
              </a:tr>
              <a:tr h="4363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правление ценными бумагам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0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1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16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dcb"/>
                    </a:solidFill>
                  </a:tcPr>
                </a:tc>
              </a:tr>
            </a:tbl>
          </a:graphicData>
        </a:graphic>
      </p:graphicFrame>
      <p:sp>
        <p:nvSpPr>
          <p:cNvPr id="144" name="Прямоугольник 4"/>
          <p:cNvSpPr/>
          <p:nvPr/>
        </p:nvSpPr>
        <p:spPr>
          <a:xfrm>
            <a:off x="405360" y="2928960"/>
            <a:ext cx="285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Источник: ФСФР Росси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Rectangle 3"/>
          <p:cNvSpPr/>
          <p:nvPr/>
        </p:nvSpPr>
        <p:spPr>
          <a:xfrm>
            <a:off x="285840" y="3357720"/>
            <a:ext cx="8572320" cy="32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рокерская деятельность сама по себе не предполагает учет прав клиентов на ценные бумаги, поэтому брокерам, желающим осуществлять такой учет, необходимо получать отдельную лицензию на депозитарную деятельность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илерской деятельностью признаются только такие операции купли-продажи ценных бумаг, которые сопровождаются публичным объявлением цен покупки и/или продажи, поэтому освобождаются от регулирования компании и граждане, которые регулярно совершают операции с ценными бумагами, в том числе даже публично предлагают купить или продать ценные бумаги, однако при этом не объявляют цен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верительное управление ценными бумагами формально отличается от доверительного управления паевыми инвестиционными фондами и негосударственными пенсионными фондами, что выражается в существовании двух разных типов лицензий на эти сходные виды деятельности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c000"/>
                </a:solidFill>
                <a:latin typeface="Tahoma"/>
              </a:rPr>
              <a:t>Банк</a:t>
            </a:r>
            <a:r>
              <a:rPr b="1" lang="en-US" sz="2200" spc="-1" strike="noStrike">
                <a:solidFill>
                  <a:srgbClr val="ffc000"/>
                </a:solidFill>
                <a:latin typeface="Tahoma"/>
              </a:rPr>
              <a:t> </a:t>
            </a:r>
            <a:r>
              <a:rPr b="1" lang="ru-RU" sz="2200" spc="-1" strike="noStrike">
                <a:solidFill>
                  <a:srgbClr val="ffc000"/>
                </a:solidFill>
                <a:latin typeface="Tahoma"/>
              </a:rPr>
              <a:t>в</a:t>
            </a:r>
            <a:r>
              <a:rPr b="1" lang="en-US" sz="2200" spc="-1" strike="noStrike">
                <a:solidFill>
                  <a:srgbClr val="ffc000"/>
                </a:solidFill>
                <a:latin typeface="Tahoma"/>
              </a:rPr>
              <a:t> </a:t>
            </a:r>
            <a:r>
              <a:rPr b="1" lang="ru-RU" sz="2200" spc="-1" strike="noStrike">
                <a:solidFill>
                  <a:srgbClr val="ffc000"/>
                </a:solidFill>
                <a:latin typeface="Tahoma"/>
              </a:rPr>
              <a:t>роли инвестора: </a:t>
            </a:r>
            <a:br>
              <a:rPr sz="2200"/>
            </a:br>
            <a:r>
              <a:rPr b="1" lang="ru-RU" sz="2200" spc="-1" strike="noStrike">
                <a:solidFill>
                  <a:srgbClr val="ffc000"/>
                </a:solidFill>
                <a:latin typeface="Tahoma"/>
              </a:rPr>
              <a:t>портфель ценных бумаг, 1999-2008</a:t>
            </a:r>
            <a:endParaRPr b="0" lang="en-US" sz="2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48" name="Диаграмма 6" descr=""/>
          <p:cNvPicPr/>
          <p:nvPr/>
        </p:nvPicPr>
        <p:blipFill>
          <a:blip r:embed="rId1"/>
          <a:stretch/>
        </p:blipFill>
        <p:spPr>
          <a:xfrm>
            <a:off x="420840" y="1352520"/>
            <a:ext cx="8302320" cy="4511880"/>
          </a:xfrm>
          <a:prstGeom prst="rect">
            <a:avLst/>
          </a:prstGeom>
          <a:ln w="0">
            <a:noFill/>
          </a:ln>
        </p:spPr>
      </p:pic>
      <p:sp>
        <p:nvSpPr>
          <p:cNvPr id="1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Tahoma"/>
              </a:rPr>
              <a:t>Инвестиционные операции банков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Цели деятельности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иверсификация активо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асширение источников доход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ддержание ликвидност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Инвестиционный портфель банка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– набор ценных бумаг, формируемый с определенными целями (в координатах риск-доходность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c000"/>
                </a:solidFill>
                <a:latin typeface="Tahoma"/>
              </a:rPr>
              <a:t>Инвестиционная политика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Формулировка целе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труктура инвестиционного портфел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Лимиты по типам ценных бумаг (эмитенты, виды бумаг, сроки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рядок и условия торговли (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change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TC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пецифика сделок (валютные,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DR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,..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57120" y="277920"/>
            <a:ext cx="832968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Tahoma"/>
              </a:rPr>
              <a:t>Банковский портфель ценных бумаг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Tahoma"/>
              </a:rPr>
              <a:t>Торговый портфель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(бумаги для перепродажи в течение 6 месяцев, по договорам «репо» и займа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Tahoma"/>
              </a:rPr>
              <a:t>Инвестиционный портфель</a:t>
            </a:r>
            <a:r>
              <a:rPr b="0" lang="ru-RU" sz="3200" spc="-1" strike="noStrike">
                <a:solidFill>
                  <a:srgbClr val="ffc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(бумаги для получения инвестиционного дохода, со сроком хранения в портфеле более 6 месяцев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Tahoma"/>
              </a:rPr>
              <a:t>Портфель контрольного участия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(10%, позволяющий влиять на управление в компании-эмитенте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c000"/>
                </a:solidFill>
                <a:latin typeface="Tahoma"/>
              </a:rPr>
              <a:t>Учет ценных бумаг на балансе банка</a:t>
            </a:r>
            <a:endParaRPr b="0" lang="en-US" sz="25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285840" y="907920"/>
          <a:ext cx="8400960" cy="5821560"/>
        </p:xfrm>
        <a:graphic>
          <a:graphicData uri="http://schemas.openxmlformats.org/drawingml/2006/table">
            <a:tbl>
              <a:tblPr/>
              <a:tblGrid>
                <a:gridCol w="1285920"/>
                <a:gridCol w="6000480"/>
                <a:gridCol w="1114560"/>
              </a:tblGrid>
              <a:tr h="5698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че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именовани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ктив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/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ассив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</a:tr>
              <a:tr h="5209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0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олговые обязательства,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иобретенные для перепродажи и по договорам займ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0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котируемые долговые обязательств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0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тируемые долговые обязательства, приобретенные для инвестирован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0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копленный купонный (процентный) доход по долговым обязательствам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0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осроченные долговые обязательств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0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кции, приобретенные для перепродажи и по договорам займ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0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котируемые акци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0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тируемые акции, приобретенные для инвестирован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0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очие счета по операциям с ценными бумагам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12-51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чтенные вексел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3300"/>
                      </a:solidFill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31T18:43:04Z</dcterms:created>
  <dc:creator>Sergey Moiseev</dc:creator>
  <dc:description/>
  <dc:language>en-US</dc:language>
  <cp:lastModifiedBy>LEGION</cp:lastModifiedBy>
  <dcterms:modified xsi:type="dcterms:W3CDTF">2014-11-10T12:06:18Z</dcterms:modified>
  <cp:revision>53</cp:revision>
  <dc:subject/>
  <dc:title>Банки на рынке ценных бумаг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8621000000000001023620</vt:lpwstr>
  </property>
</Properties>
</file>