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D37A-AC9D-4590-8F11-C5EFE87D1C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Работа с бума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"Оригам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3CAA-E54F-460A-AC4F-78648411B1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5458-9D21-438E-BF1E-2032F2A79B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6. Сложи внутрь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6104-421C-45C9-A972-97041A0B57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7. Загни углы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0807-9EFF-428D-8B84-DF472AE9AC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44C0-5471-4132-B05F-087C44C54C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лодец! Открытка гото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95B4-1792-4CD8-A995-FC52B7B256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Используемые 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1594-DFB1-4F4E-A659-5090B48596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риг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яп., букв.: «сложенная бумага»)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искусство складывания фигур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бумаги. Искусство оригами своими корнями уходит в древний Кита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 была открыта бум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FEEF-5FF7-4344-9069-D58FD9EB58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99330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кажите, почему мой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пит без подушки, ест без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Зимой без валенок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А если рад - хвостом вил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8108-747C-4E15-AC4F-4D4AECBFC3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62BF-E565-40F9-A24D-B1ECB29DDF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лан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Изготовь детали апп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риклей детали к основе откры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Оформи открытку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59B9-9700-4D1D-9EB6-3C309385AC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Для изготовления головы возьми квадрат из цвет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8913-B0DA-415B-81E3-BB7BBDD198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оложи квадрат белой стороной кверху и перегни его по диагон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403B-C379-48A5-ACA3-3221913872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Загни  правый и левый верхние углы. Как ты уже догадался, это будут уши нашей соба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C7C5-0BD4-4605-B53D-56BCDB276D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Полностью раскрой ушки и загни нижний угол заготовки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3F0A-CC88-4677-83DF-4130888973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ED5-A4C4-47BF-ADD0-E9824C34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B2C-EBB6-4281-9454-6845A5FC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833-5AC4-41DE-88E8-334FEE8D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A26-063F-4078-89B6-38C60751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03E-A510-40A8-BE50-9DCD3617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063-C176-416B-90B2-11C50213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2D6-13B0-405C-B6A6-18F97A22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2B6-E7CA-4EDE-B176-8749F30A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069-9126-444E-95CA-326EDF7E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6FC-8782-439D-98F2-59A4952A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116A-B7B9-4A14-B038-576F41E5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92D-2ED7-40E9-B39B-E4E2F0D6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C406-C81A-4084-B2A6-D7865252DC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119700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Работа с бумаг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Тех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"Оригам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050920" y="3789360"/>
            <a:ext cx="49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50000">
                      <a:srgbClr val="008000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                             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50000">
                    <a:srgbClr val="008000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84360" y="436572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Демьянова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Елена   Юр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916360" y="5516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читель начальных классов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МОУ СОШ №1 г. Тверь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ре"/>
          <p:cNvPicPr/>
          <p:nvPr/>
        </p:nvPicPr>
        <p:blipFill>
          <a:blip r:embed="rId1"/>
          <a:stretch/>
        </p:blipFill>
        <p:spPr>
          <a:xfrm>
            <a:off x="3027240" y="198108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2659200">
            <a:off x="4787640" y="3500280"/>
            <a:ext cx="344520" cy="801720"/>
          </a:xfrm>
          <a:custGeom>
            <a:avLst/>
            <a:gdLst>
              <a:gd name="textAreaLeft" fmla="*/ 46080 w 344520"/>
              <a:gd name="textAreaRight" fmla="*/ 298440 w 344520"/>
              <a:gd name="textAreaTop" fmla="*/ 140040 h 801720"/>
              <a:gd name="textAreaBottom" fmla="*/ 58140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6" descr="спа"/>
          <p:cNvPicPr/>
          <p:nvPr/>
        </p:nvPicPr>
        <p:blipFill>
          <a:blip r:embed="rId1"/>
          <a:stretch/>
        </p:blipFill>
        <p:spPr>
          <a:xfrm>
            <a:off x="826920" y="17002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6. Сложи внутрь уго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 rot="14988600">
            <a:off x="2993040" y="4936320"/>
            <a:ext cx="504720" cy="658800"/>
          </a:xfrm>
          <a:custGeom>
            <a:avLst/>
            <a:gdLst>
              <a:gd name="textAreaLeft" fmla="*/ 67320 w 504720"/>
              <a:gd name="textAreaRight" fmla="*/ 437400 w 504720"/>
              <a:gd name="textAreaTop" fmla="*/ 115200 h 658800"/>
              <a:gd name="textAreaBottom" fmla="*/ 477720 h 65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329840" y="602136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0" descr="пр"/>
          <p:cNvPicPr/>
          <p:nvPr/>
        </p:nvPicPr>
        <p:blipFill>
          <a:blip r:embed="rId2"/>
          <a:stretch/>
        </p:blipFill>
        <p:spPr>
          <a:xfrm>
            <a:off x="5076720" y="17002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7. Загни углы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1964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9" descr="а"/>
          <p:cNvPicPr/>
          <p:nvPr/>
        </p:nvPicPr>
        <p:blipFill>
          <a:blip r:embed="rId1"/>
          <a:stretch/>
        </p:blipFill>
        <p:spPr>
          <a:xfrm>
            <a:off x="3132000" y="184464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Молодец! Открытка готов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на сайт"/>
          <p:cNvPicPr/>
          <p:nvPr/>
        </p:nvPicPr>
        <p:blipFill>
          <a:blip r:embed="rId1"/>
          <a:stretch/>
        </p:blipFill>
        <p:spPr>
          <a:xfrm>
            <a:off x="3132000" y="198108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Используемые 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76280" cy="46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719880" y="4149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48040" y="321300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Загадка:  http://www.dogster.ru/cicero/humor/1027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49480" y="23572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словицы: http://www.doggies.ru/articl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2771640" y="4437000"/>
            <a:ext cx="36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езентацию подготовила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Демьянова Елена Юрьевна,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учитель начальных классов 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МОУ СОШ №1 г. Твери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1607400">
            <a:off x="6372360" y="2060280"/>
            <a:ext cx="241272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084pic"/>
          <p:cNvPicPr/>
          <p:nvPr/>
        </p:nvPicPr>
        <p:blipFill>
          <a:blip r:embed="rId3"/>
          <a:stretch/>
        </p:blipFill>
        <p:spPr>
          <a:xfrm>
            <a:off x="3851280" y="2781360"/>
            <a:ext cx="1944720" cy="18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20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робка"/>
          <p:cNvPicPr/>
          <p:nvPr/>
        </p:nvPicPr>
        <p:blipFill>
          <a:blip r:embed="rId5"/>
          <a:stretch/>
        </p:blipFill>
        <p:spPr>
          <a:xfrm rot="20893200">
            <a:off x="1979280" y="2852280"/>
            <a:ext cx="1646280" cy="17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 rot="1903800">
            <a:off x="5796000" y="4076640"/>
            <a:ext cx="297972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95280" y="549360"/>
            <a:ext cx="711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Ориг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яп., букв.: «сложенная бумага») 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ее искусство складывания фигур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бумаги. Искусство оригами своими корнями уходит в древний Кита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и была открыта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2087pic"/>
          <p:cNvPicPr/>
          <p:nvPr/>
        </p:nvPicPr>
        <p:blipFill>
          <a:blip r:embed="rId7"/>
          <a:stretch/>
        </p:blipFill>
        <p:spPr>
          <a:xfrm rot="19031400">
            <a:off x="610920" y="4508280"/>
            <a:ext cx="1834920" cy="19159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755640" y="47628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гадай загадку</a:t>
            </a:r>
            <a:endParaRPr b="1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92360" y="1989000"/>
            <a:ext cx="56181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кажите, почему мой друг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ит без подушки, ест без рук.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ой без валенок гуляет,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А если рад - хвостом виляет?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4211640" y="5300640"/>
            <a:ext cx="410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latin typeface="Propisi"/>
              </a:rPr>
              <a:t>Собака</a:t>
            </a:r>
            <a:endParaRPr b="0" i="1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latin typeface="Propisi"/>
              <a:ea typeface="Propis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042920" y="62064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1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003300"/>
              </a:solidFill>
              <a:latin typeface="Georgia"/>
              <a:ea typeface="Georgia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1916280"/>
            <a:ext cx="741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</p:txBody>
      </p:sp>
      <p:pic>
        <p:nvPicPr>
          <p:cNvPr id="71" name="Picture 6" descr="дай лапу"/>
          <p:cNvPicPr/>
          <p:nvPr/>
        </p:nvPicPr>
        <p:blipFill>
          <a:blip r:embed="rId1"/>
          <a:stretch/>
        </p:blipFill>
        <p:spPr>
          <a:xfrm>
            <a:off x="4067280" y="4005360"/>
            <a:ext cx="2106360" cy="2160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80808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Propisi"/>
              </a:rPr>
              <a:t>             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808080"/>
                  </a:gs>
                  <a:gs pos="100000">
                    <a:srgbClr val="ffff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198108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 Изготовь детали аппл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 Приклей детали к основе откры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 Оформи открытку 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1. Для изготовления головы возьми квадрат из 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3" descr="ап"/>
          <p:cNvPicPr/>
          <p:nvPr/>
        </p:nvPicPr>
        <p:blipFill>
          <a:blip r:embed="rId1"/>
          <a:stretch/>
        </p:blipFill>
        <p:spPr>
          <a:xfrm>
            <a:off x="2843280" y="2133720"/>
            <a:ext cx="3424320" cy="3516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2. Положи квадрат белой стороной кверху и перегни его по диагон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ре"/>
          <p:cNvPicPr/>
          <p:nvPr/>
        </p:nvPicPr>
        <p:blipFill>
          <a:blip r:embed="rId1"/>
          <a:stretch/>
        </p:blipFill>
        <p:spPr>
          <a:xfrm>
            <a:off x="1830240" y="1981080"/>
            <a:ext cx="54817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 Загни  правый и левый верхние углы. Как ты уже догадался, это будут уши нашей соба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" descr="ы"/>
          <p:cNvPicPr/>
          <p:nvPr/>
        </p:nvPicPr>
        <p:blipFill>
          <a:blip r:embed="rId1"/>
          <a:stretch/>
        </p:blipFill>
        <p:spPr>
          <a:xfrm>
            <a:off x="2190600" y="2023920"/>
            <a:ext cx="4762800" cy="4029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4. Полностью раскрой ушки и 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5" descr="вт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2:45Z</dcterms:modified>
  <cp:revision>38</cp:revision>
  <dc:subject/>
  <dc:title>PowerPoint Presentation</dc:title>
</cp:coreProperties>
</file>