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9.gif" ContentType="image/gif"/>
  <Override PartName="/ppt/media/image13.jpeg" ContentType="image/jpeg"/>
  <Override PartName="/ppt/media/image19.png" ContentType="image/png"/>
  <Override PartName="/ppt/media/image1.png" ContentType="image/png"/>
  <Override PartName="/ppt/media/image18.jpeg" ContentType="image/jpeg"/>
  <Override PartName="/ppt/media/image7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12AAB-B663-4695-95A4-77EEE8E28085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Propisi"/>
              </a:rPr>
              <a:t>Работа с бумаг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Propisi"/>
              </a:rPr>
              <a:t>Техн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Propis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Propisi"/>
              </a:rPr>
              <a:t>"Оригами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A5A82-6A27-476A-A555-034CC3E3D633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5. Для изготовления туловища собаки возьми квадратный лист бумаги,  сложи его по диагонали и развер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01DFF-D350-4155-BAD5-D4945BC9F1AF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6. Сложи внутрь угол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0D5B8-F545-463E-A38F-EE94A3CA5E92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7. Загни углы наза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A6990-DA0B-43E8-B83B-19A354988233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8. Склей детали. Получилась собака. Она может быть весёлой или серьёзной. Для этого собаку можно украсить, приклеить ей глаза, нос и язык, в общем, дать волю фантаз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60DEC-BA27-43BD-8C9A-0ECE4E47689F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Молодец! Открытка готова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5476A-96C9-44ED-8C1A-3C2859096E78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cc0000"/>
                </a:solidFill>
                <a:uFillTx/>
                <a:latin typeface="Calibri"/>
              </a:rPr>
              <a:t>Используемые Интернет-ресурс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DCDF5-C99C-4F2A-B5AF-6BDB9E3FB38C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3300"/>
                </a:solidFill>
                <a:latin typeface="Calibri"/>
              </a:rPr>
              <a:t>Оригам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(яп., букв.: «сложенная бумага») —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ревнее искусство складывания фигурок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 бумаги. Искусство оригами своими корнями уходит в древний Китай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де и была открыта бумаг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7D9FE-BD66-4A72-B526-0710A4368C75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200" spc="-1" strike="noStrike">
                <a:solidFill>
                  <a:srgbClr val="993300"/>
                </a:solidFill>
                <a:latin typeface="Arial"/>
                <a:ea typeface="Arial"/>
              </a:rPr>
              <a:t>Отгадай загадк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Georgia"/>
              </a:rPr>
              <a:t>Скажите, почему мой дру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Georgia"/>
              </a:rPr>
              <a:t>Спит без подушки, ест без ру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Georgia"/>
              </a:rPr>
              <a:t>Зимой без валенок гуляет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Georgia"/>
              </a:rPr>
              <a:t>А если рад - хвостом виляет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EEF60-C293-4586-B22F-E6DCFE56EE57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200" spc="-1" strike="noStrike">
                <a:solidFill>
                  <a:srgbClr val="003300"/>
                </a:solidFill>
                <a:latin typeface="Georgia"/>
              </a:rPr>
              <a:t>Пословицы и поговор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Propisi"/>
              </a:rPr>
              <a:t>Собака - друг чело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Propisi"/>
              </a:rPr>
              <a:t>Собака  лает, ветер  носи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A2AC6-FDDB-45F0-84BF-3D7E80A48E2A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0000"/>
                </a:solidFill>
                <a:latin typeface="Calibri"/>
              </a:rPr>
              <a:t>                        </a:t>
            </a: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План работ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1. Изготовь детали апплик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2. Приклей детали к основе открыт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3. Оформи открытку са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975F0-C467-48B1-831E-4A56BB0DA09E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1. Для изготовления головы возьми квадрат из цветной бумаг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B4D6B-6CCE-4C3B-B413-D5374021D12C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2. Положи квадрат белой стороной кверху и перегни его по диагона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F70F0-41A7-4590-A789-7E783C0E172C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3. Загни  правый и левый верхние углы. Как ты уже догадался, это будут уши нашей соба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2FCCA-B077-41C8-9015-2EEFCC680ABD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4. Полностью раскрой ушки и загни нижний угол заготовки наза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BBEB5-7EBD-432C-82B4-BF1D2966996E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C0E93-E46B-4B68-8A8B-7C0190BD2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31353-C854-4F14-876A-C52C73F91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9AF53-9BFE-463A-B4E1-E17A796A8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2318D-38AE-492D-B124-897F6C829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B29E4-5D7B-454B-B673-33BCD8948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12D98-CA32-4E2E-859F-9CD8D823F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F9B83-4DF4-4674-AF54-7B5CEC2D6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80D2C-7243-43D8-81C8-6D03E892C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4EE01-5035-4B64-904E-ECE4D7718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3EEF3-871B-4E18-8C89-17FD0A51F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6A37B-10D9-451B-BF72-579852C1C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0E042-A610-4F93-BD2D-93176288D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B6385-E14E-4DCB-85B6-118C2EF7D4C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2"/>
          <p:cNvSpPr txBox="1"/>
          <p:nvPr/>
        </p:nvSpPr>
        <p:spPr>
          <a:xfrm>
            <a:off x="1042920" y="1197000"/>
            <a:ext cx="6769080" cy="23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7600"/>
                    </a:gs>
                  </a:gsLst>
                  <a:lin ang="5400000"/>
                </a:gradFill>
                <a:latin typeface="Propisi"/>
              </a:rPr>
              <a:t>Работа с бумагой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ff00"/>
                  </a:gs>
                  <a:gs pos="100000">
                    <a:srgbClr val="007600"/>
                  </a:gs>
                </a:gsLst>
                <a:lin ang="5400000"/>
              </a:gradFill>
              <a:latin typeface="Propisi"/>
              <a:ea typeface="Propis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7600"/>
                    </a:gs>
                  </a:gsLst>
                  <a:lin ang="5400000"/>
                </a:gradFill>
                <a:latin typeface="Propisi"/>
              </a:rPr>
              <a:t>Техника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ff00"/>
                  </a:gs>
                  <a:gs pos="100000">
                    <a:srgbClr val="007600"/>
                  </a:gs>
                </a:gsLst>
                <a:lin ang="5400000"/>
              </a:gradFill>
              <a:latin typeface="Propisi"/>
              <a:ea typeface="Propis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7600"/>
                    </a:gs>
                  </a:gsLst>
                  <a:lin ang="5400000"/>
                </a:gradFill>
                <a:latin typeface="Propisi"/>
              </a:rPr>
              <a:t> </a:t>
            </a: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7600"/>
                    </a:gs>
                  </a:gsLst>
                  <a:lin ang="5400000"/>
                </a:gradFill>
                <a:latin typeface="Propisi"/>
              </a:rPr>
              <a:t>"Оригами"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ff00"/>
                  </a:gs>
                  <a:gs pos="100000">
                    <a:srgbClr val="007600"/>
                  </a:gs>
                </a:gsLst>
                <a:lin ang="5400000"/>
              </a:gradFill>
              <a:latin typeface="Propisi"/>
              <a:ea typeface="Propisi"/>
            </a:endParaRPr>
          </a:p>
        </p:txBody>
      </p:sp>
      <p:sp>
        <p:nvSpPr>
          <p:cNvPr id="49" name="WordArt 3"/>
          <p:cNvSpPr txBox="1"/>
          <p:nvPr/>
        </p:nvSpPr>
        <p:spPr>
          <a:xfrm>
            <a:off x="2050920" y="3789360"/>
            <a:ext cx="496908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cc99"/>
                    </a:gs>
                    <a:gs pos="50000">
                      <a:srgbClr val="008000"/>
                    </a:gs>
                    <a:gs pos="100000">
                      <a:srgbClr val="00cc99"/>
                    </a:gs>
                  </a:gsLst>
                  <a:lin ang="5400000"/>
                </a:gradFill>
                <a:latin typeface="Arial"/>
              </a:rPr>
              <a:t>                              </a:t>
            </a:r>
            <a:endParaRPr b="1" i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cc99"/>
                  </a:gs>
                  <a:gs pos="50000">
                    <a:srgbClr val="008000"/>
                  </a:gs>
                  <a:gs pos="100000">
                    <a:srgbClr val="00cc99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2484360" y="4365720"/>
            <a:ext cx="378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00"/>
                </a:solidFill>
                <a:latin typeface="Times New Roman"/>
              </a:rPr>
              <a:t>Демьянова </a:t>
            </a:r>
            <a:br>
              <a:rPr sz="2800"/>
            </a:br>
            <a:r>
              <a:rPr b="1" i="1" lang="ru-RU" sz="2800" spc="-1" strike="noStrike">
                <a:solidFill>
                  <a:srgbClr val="003300"/>
                </a:solidFill>
                <a:latin typeface="Times New Roman"/>
              </a:rPr>
              <a:t>Елена   Юрьевн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WordArt 5"/>
          <p:cNvSpPr txBox="1"/>
          <p:nvPr/>
        </p:nvSpPr>
        <p:spPr>
          <a:xfrm>
            <a:off x="2916360" y="5516640"/>
            <a:ext cx="302400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808080"/>
                </a:solidFill>
                <a:latin typeface="Arial"/>
              </a:rPr>
              <a:t>учитель начальных классов</a:t>
            </a:r>
            <a:endParaRPr b="0" i="1" lang="en-US" sz="1800" spc="1" strike="noStrike">
              <a:ln w="9360">
                <a:solidFill>
                  <a:srgbClr val="003300"/>
                </a:solidFill>
                <a:miter/>
              </a:ln>
              <a:solidFill>
                <a:srgbClr val="80808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808080"/>
                </a:solidFill>
                <a:latin typeface="Arial"/>
              </a:rPr>
              <a:t>МОУ СОШ №1 г. Тверь</a:t>
            </a:r>
            <a:endParaRPr b="0" i="1" lang="en-US" sz="1800" spc="1" strike="noStrike">
              <a:ln w="9360">
                <a:solidFill>
                  <a:srgbClr val="003300"/>
                </a:solidFill>
                <a:miter/>
              </a:ln>
              <a:solidFill>
                <a:srgbClr val="808080"/>
              </a:solidFill>
              <a:latin typeface="Arial"/>
              <a:ea typeface="Arial"/>
            </a:endParaRPr>
          </a:p>
        </p:txBody>
      </p:sp>
      <p:sp>
        <p:nvSpPr>
          <p:cNvPr id="5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12" descr="ре"/>
          <p:cNvPicPr/>
          <p:nvPr/>
        </p:nvPicPr>
        <p:blipFill>
          <a:blip r:embed="rId1"/>
          <a:stretch/>
        </p:blipFill>
        <p:spPr>
          <a:xfrm>
            <a:off x="3027240" y="1981080"/>
            <a:ext cx="3089520" cy="411480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Times New Roman"/>
              </a:rPr>
              <a:t>5. Для изготовления туловища собаки возьми квадратный лист бумаги,  сложи его по диагонали и разверн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AutoShape 10"/>
          <p:cNvSpPr/>
          <p:nvPr/>
        </p:nvSpPr>
        <p:spPr>
          <a:xfrm rot="2659200">
            <a:off x="4787640" y="3500280"/>
            <a:ext cx="344520" cy="801720"/>
          </a:xfrm>
          <a:custGeom>
            <a:avLst/>
            <a:gdLst>
              <a:gd name="textAreaLeft" fmla="*/ 46080 w 344520"/>
              <a:gd name="textAreaRight" fmla="*/ 298440 w 344520"/>
              <a:gd name="textAreaTop" fmla="*/ 140040 h 801720"/>
              <a:gd name="textAreaBottom" fmla="*/ 581400 h 801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80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6" descr="спа"/>
          <p:cNvPicPr/>
          <p:nvPr/>
        </p:nvPicPr>
        <p:blipFill>
          <a:blip r:embed="rId1"/>
          <a:stretch/>
        </p:blipFill>
        <p:spPr>
          <a:xfrm>
            <a:off x="826920" y="1700280"/>
            <a:ext cx="3084840" cy="41148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Times New Roman"/>
              </a:rPr>
              <a:t>6. Сложи внутрь уголк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AutoShape 7"/>
          <p:cNvSpPr/>
          <p:nvPr/>
        </p:nvSpPr>
        <p:spPr>
          <a:xfrm rot="14988600">
            <a:off x="2993040" y="4936320"/>
            <a:ext cx="504720" cy="658800"/>
          </a:xfrm>
          <a:custGeom>
            <a:avLst/>
            <a:gdLst>
              <a:gd name="textAreaLeft" fmla="*/ 67320 w 504720"/>
              <a:gd name="textAreaRight" fmla="*/ 437400 w 504720"/>
              <a:gd name="textAreaTop" fmla="*/ 115200 h 658800"/>
              <a:gd name="textAreaBottom" fmla="*/ 477720 h 65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80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8"/>
          <p:cNvSpPr/>
          <p:nvPr/>
        </p:nvSpPr>
        <p:spPr>
          <a:xfrm>
            <a:off x="1329840" y="6021360"/>
            <a:ext cx="681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Times New Roman"/>
              </a:rPr>
              <a:t>Загни нижний угол заготовки наза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Picture 30" descr="пр"/>
          <p:cNvPicPr/>
          <p:nvPr/>
        </p:nvPicPr>
        <p:blipFill>
          <a:blip r:embed="rId2"/>
          <a:stretch/>
        </p:blipFill>
        <p:spPr>
          <a:xfrm>
            <a:off x="5076720" y="1700280"/>
            <a:ext cx="3086280" cy="4114800"/>
          </a:xfrm>
          <a:prstGeom prst="rect">
            <a:avLst/>
          </a:prstGeom>
          <a:ln w="0">
            <a:noFill/>
          </a:ln>
        </p:spPr>
      </p:pic>
      <p:sp>
        <p:nvSpPr>
          <p:cNvPr id="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Times New Roman"/>
              </a:rPr>
              <a:t>7. Загни углы наза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8"/>
          <p:cNvSpPr/>
          <p:nvPr/>
        </p:nvSpPr>
        <p:spPr>
          <a:xfrm>
            <a:off x="3419640" y="328464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Picture 29" descr="а"/>
          <p:cNvPicPr/>
          <p:nvPr/>
        </p:nvPicPr>
        <p:blipFill>
          <a:blip r:embed="rId1"/>
          <a:stretch/>
        </p:blipFill>
        <p:spPr>
          <a:xfrm>
            <a:off x="3132000" y="1844640"/>
            <a:ext cx="3089520" cy="4114800"/>
          </a:xfrm>
          <a:prstGeom prst="rect">
            <a:avLst/>
          </a:prstGeom>
          <a:ln w="0">
            <a:noFill/>
          </a:ln>
        </p:spPr>
      </p:pic>
      <p:sp>
        <p:nvSpPr>
          <p:cNvPr id="10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9640" y="292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Times New Roman"/>
              </a:rPr>
              <a:t>8. Склей детали. Получилась собака. Она может быть весёлой или серьёзной. Для этого собаку можно украсить, приклеить ей глаза, нос и язык, в общем, дать волю фантазии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Times New Roman"/>
              </a:rPr>
              <a:t>Молодец! Открытка готова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Picture 9" descr="на сайт"/>
          <p:cNvPicPr/>
          <p:nvPr/>
        </p:nvPicPr>
        <p:blipFill>
          <a:blip r:embed="rId1"/>
          <a:stretch/>
        </p:blipFill>
        <p:spPr>
          <a:xfrm>
            <a:off x="3132000" y="1981080"/>
            <a:ext cx="2880000" cy="4114800"/>
          </a:xfrm>
          <a:prstGeom prst="rect">
            <a:avLst/>
          </a:prstGeom>
          <a:ln w="0">
            <a:noFill/>
          </a:ln>
        </p:spPr>
      </p:pic>
      <p:sp>
        <p:nvSpPr>
          <p:cNvPr id="1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cc0000"/>
                </a:solidFill>
                <a:uFillTx/>
                <a:latin typeface="Times New Roman"/>
              </a:rPr>
              <a:t>Используемые Интернет-ресурс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Picture 4" descr=""/>
          <p:cNvPicPr/>
          <p:nvPr/>
        </p:nvPicPr>
        <p:blipFill>
          <a:blip r:embed="rId1"/>
          <a:stretch/>
        </p:blipFill>
        <p:spPr>
          <a:xfrm>
            <a:off x="324000" y="549360"/>
            <a:ext cx="476280" cy="46656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7"/>
          <p:cNvSpPr/>
          <p:nvPr/>
        </p:nvSpPr>
        <p:spPr>
          <a:xfrm>
            <a:off x="3719880" y="414972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Tahom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Rectangle 8"/>
          <p:cNvSpPr/>
          <p:nvPr/>
        </p:nvSpPr>
        <p:spPr>
          <a:xfrm>
            <a:off x="248040" y="3213000"/>
            <a:ext cx="700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Times New Roman"/>
              </a:rPr>
              <a:t>Загадка:  http://www.dogster.ru/cicero/humor/1027</a:t>
            </a:r>
            <a:r>
              <a:rPr b="1" lang="ru-RU" sz="1800" spc="-1" strike="noStrike">
                <a:solidFill>
                  <a:srgbClr val="cc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9"/>
          <p:cNvSpPr/>
          <p:nvPr/>
        </p:nvSpPr>
        <p:spPr>
          <a:xfrm>
            <a:off x="249480" y="2357280"/>
            <a:ext cx="597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Times New Roman"/>
              </a:rPr>
              <a:t>Пословицы: http://www.doggies.ru/articles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WordArt 10"/>
          <p:cNvSpPr txBox="1"/>
          <p:nvPr/>
        </p:nvSpPr>
        <p:spPr>
          <a:xfrm>
            <a:off x="2771640" y="4437000"/>
            <a:ext cx="367344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00cc99"/>
                </a:solidFill>
                <a:latin typeface="Arial"/>
              </a:rPr>
              <a:t>Презентацию подготовила</a:t>
            </a:r>
            <a:endParaRPr b="0" i="1" lang="en-US" sz="2000" spc="1" strike="noStrike">
              <a:ln w="9360">
                <a:solidFill>
                  <a:srgbClr val="ff0000"/>
                </a:solidFill>
                <a:miter/>
              </a:ln>
              <a:solidFill>
                <a:srgbClr val="00cc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00cc99"/>
                </a:solidFill>
                <a:latin typeface="Arial"/>
              </a:rPr>
              <a:t>Демьянова Елена Юрьевна,</a:t>
            </a:r>
            <a:endParaRPr b="0" i="1" lang="en-US" sz="2000" spc="1" strike="noStrike">
              <a:ln w="9360">
                <a:solidFill>
                  <a:srgbClr val="ff0000"/>
                </a:solidFill>
                <a:miter/>
              </a:ln>
              <a:solidFill>
                <a:srgbClr val="00cc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00cc99"/>
                </a:solidFill>
                <a:latin typeface="Arial"/>
              </a:rPr>
              <a:t>учитель начальных классов </a:t>
            </a:r>
            <a:endParaRPr b="0" i="1" lang="en-US" sz="2000" spc="1" strike="noStrike">
              <a:ln w="9360">
                <a:solidFill>
                  <a:srgbClr val="ff0000"/>
                </a:solidFill>
                <a:miter/>
              </a:ln>
              <a:solidFill>
                <a:srgbClr val="00cc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00cc99"/>
                </a:solidFill>
                <a:latin typeface="Arial"/>
              </a:rPr>
              <a:t>МОУ СОШ №1 г. Твери</a:t>
            </a:r>
            <a:endParaRPr b="0" i="1" lang="en-US" sz="2000" spc="1" strike="noStrike">
              <a:ln w="9360">
                <a:solidFill>
                  <a:srgbClr val="ff0000"/>
                </a:solidFill>
                <a:miter/>
              </a:ln>
              <a:solidFill>
                <a:srgbClr val="00cc99"/>
              </a:solidFill>
              <a:latin typeface="Arial"/>
              <a:ea typeface="Arial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 rot="1607400">
            <a:off x="6372360" y="2060280"/>
            <a:ext cx="2412720" cy="17287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3" descr=""/>
          <p:cNvPicPr/>
          <p:nvPr/>
        </p:nvPicPr>
        <p:blipFill>
          <a:blip r:embed="rId2"/>
          <a:stretch/>
        </p:blipFill>
        <p:spPr>
          <a:xfrm>
            <a:off x="3564000" y="4797360"/>
            <a:ext cx="1800000" cy="18003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" descr="1084pic"/>
          <p:cNvPicPr/>
          <p:nvPr/>
        </p:nvPicPr>
        <p:blipFill>
          <a:blip r:embed="rId3"/>
          <a:stretch/>
        </p:blipFill>
        <p:spPr>
          <a:xfrm>
            <a:off x="3851280" y="2781360"/>
            <a:ext cx="1944720" cy="18828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5" descr=""/>
          <p:cNvPicPr/>
          <p:nvPr/>
        </p:nvPicPr>
        <p:blipFill>
          <a:blip r:embed="rId4"/>
          <a:stretch/>
        </p:blipFill>
        <p:spPr>
          <a:xfrm>
            <a:off x="6588000" y="0"/>
            <a:ext cx="2556000" cy="20638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6" descr="коробка"/>
          <p:cNvPicPr/>
          <p:nvPr/>
        </p:nvPicPr>
        <p:blipFill>
          <a:blip r:embed="rId5"/>
          <a:stretch/>
        </p:blipFill>
        <p:spPr>
          <a:xfrm rot="20893200">
            <a:off x="1979280" y="2852280"/>
            <a:ext cx="1646280" cy="17002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8" descr=""/>
          <p:cNvPicPr/>
          <p:nvPr/>
        </p:nvPicPr>
        <p:blipFill>
          <a:blip r:embed="rId6"/>
          <a:stretch/>
        </p:blipFill>
        <p:spPr>
          <a:xfrm rot="1903800">
            <a:off x="5796000" y="4076640"/>
            <a:ext cx="2979720" cy="198144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9"/>
          <p:cNvSpPr/>
          <p:nvPr/>
        </p:nvSpPr>
        <p:spPr>
          <a:xfrm>
            <a:off x="395280" y="549360"/>
            <a:ext cx="7110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3300"/>
                </a:solidFill>
                <a:latin typeface="Times New Roman"/>
              </a:rPr>
              <a:t>Оригам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(яп., букв.: «сложенная бумага») 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ревнее искусство складывания фигурок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з бумаги. Искусство оригами своими корнями уходит в древний Китай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где и была открыта бумаг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10" descr="2087pic"/>
          <p:cNvPicPr/>
          <p:nvPr/>
        </p:nvPicPr>
        <p:blipFill>
          <a:blip r:embed="rId7"/>
          <a:stretch/>
        </p:blipFill>
        <p:spPr>
          <a:xfrm rot="19031400">
            <a:off x="610920" y="4508280"/>
            <a:ext cx="1834920" cy="1915920"/>
          </a:xfrm>
          <a:prstGeom prst="rect">
            <a:avLst/>
          </a:prstGeom>
          <a:ln w="0">
            <a:noFill/>
          </a:ln>
        </p:spPr>
      </p:pic>
      <p:sp>
        <p:nvSpPr>
          <p:cNvPr id="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6" nodeType="afterEffect" fill="hold" presetClass="entr" presetID="2" presetSubtype="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3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WordArt 3"/>
          <p:cNvSpPr txBox="1"/>
          <p:nvPr/>
        </p:nvSpPr>
        <p:spPr>
          <a:xfrm>
            <a:off x="755640" y="476280"/>
            <a:ext cx="446400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993300"/>
                </a:solidFill>
                <a:latin typeface="Arial"/>
              </a:rPr>
              <a:t>Отгадай загадку</a:t>
            </a:r>
            <a:endParaRPr b="1" i="1" lang="en-US" sz="2400" spc="1" strike="noStrike">
              <a:ln w="9360">
                <a:solidFill>
                  <a:srgbClr val="ffff00"/>
                </a:solidFill>
                <a:miter/>
              </a:ln>
              <a:solidFill>
                <a:srgbClr val="993300"/>
              </a:solidFill>
              <a:latin typeface="Arial"/>
              <a:ea typeface="Arial"/>
            </a:endParaRPr>
          </a:p>
        </p:txBody>
      </p:sp>
      <p:sp>
        <p:nvSpPr>
          <p:cNvPr id="64" name="WordArt 4"/>
          <p:cNvSpPr txBox="1"/>
          <p:nvPr/>
        </p:nvSpPr>
        <p:spPr>
          <a:xfrm>
            <a:off x="1692360" y="1989000"/>
            <a:ext cx="5618160" cy="208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Georgia"/>
              </a:rPr>
              <a:t>Скажите, почему мой друг</a:t>
            </a:r>
            <a:endParaRPr b="0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Georgia"/>
              </a:rPr>
              <a:t>Спит без подушки, ест без рук.</a:t>
            </a:r>
            <a:endParaRPr b="0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Georgia"/>
              </a:rPr>
              <a:t>Зимой без валенок гуляет,</a:t>
            </a:r>
            <a:endParaRPr b="0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Georgia"/>
              </a:rPr>
              <a:t>А если рад - хвостом виляет?</a:t>
            </a:r>
            <a:endParaRPr b="0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  <p:sp>
        <p:nvSpPr>
          <p:cNvPr id="65" name="WordArt 6"/>
          <p:cNvSpPr txBox="1"/>
          <p:nvPr/>
        </p:nvSpPr>
        <p:spPr>
          <a:xfrm>
            <a:off x="4211640" y="5300640"/>
            <a:ext cx="410364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993300"/>
                  </a:solidFill>
                  <a:miter/>
                </a:ln>
                <a:solidFill>
                  <a:srgbClr val="ff6600"/>
                </a:solidFill>
                <a:latin typeface="Propisi"/>
              </a:rPr>
              <a:t>Собака</a:t>
            </a:r>
            <a:endParaRPr b="0" i="1" lang="en-US" sz="2400" spc="1" strike="noStrike">
              <a:ln w="9360">
                <a:solidFill>
                  <a:srgbClr val="993300"/>
                </a:solidFill>
                <a:miter/>
              </a:ln>
              <a:solidFill>
                <a:srgbClr val="ff6600"/>
              </a:solidFill>
              <a:latin typeface="Propisi"/>
              <a:ea typeface="Propisi"/>
            </a:endParaRPr>
          </a:p>
        </p:txBody>
      </p:sp>
      <p:sp>
        <p:nvSpPr>
          <p:cNvPr id="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0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9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8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WordArt 4"/>
          <p:cNvSpPr txBox="1"/>
          <p:nvPr/>
        </p:nvSpPr>
        <p:spPr>
          <a:xfrm>
            <a:off x="1042920" y="620640"/>
            <a:ext cx="71280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ff6600"/>
                  </a:solidFill>
                  <a:miter/>
                </a:ln>
                <a:solidFill>
                  <a:srgbClr val="003300"/>
                </a:solidFill>
                <a:latin typeface="Georgia"/>
              </a:rPr>
              <a:t>Пословицы и поговорки</a:t>
            </a:r>
            <a:endParaRPr b="1" i="1" lang="en-US" sz="2400" spc="1" strike="noStrike">
              <a:ln w="9360">
                <a:solidFill>
                  <a:srgbClr val="ff6600"/>
                </a:solidFill>
                <a:miter/>
              </a:ln>
              <a:solidFill>
                <a:srgbClr val="003300"/>
              </a:solidFill>
              <a:latin typeface="Georgia"/>
              <a:ea typeface="Georgia"/>
            </a:endParaRPr>
          </a:p>
        </p:txBody>
      </p:sp>
      <p:sp>
        <p:nvSpPr>
          <p:cNvPr id="70" name="WordArt 5"/>
          <p:cNvSpPr txBox="1"/>
          <p:nvPr/>
        </p:nvSpPr>
        <p:spPr>
          <a:xfrm>
            <a:off x="826920" y="1916280"/>
            <a:ext cx="7417080" cy="16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993300"/>
                  </a:solidFill>
                  <a:miter/>
                </a:ln>
                <a:solidFill>
                  <a:srgbClr val="ffffff"/>
                </a:solidFill>
                <a:latin typeface="Propisi"/>
              </a:rPr>
              <a:t>Собака - друг человека</a:t>
            </a:r>
            <a:endParaRPr b="1" lang="en-US" sz="4000" spc="1" strike="noStrike">
              <a:ln w="9360">
                <a:solidFill>
                  <a:srgbClr val="993300"/>
                </a:solidFill>
                <a:miter/>
              </a:ln>
              <a:solidFill>
                <a:srgbClr val="ffffff"/>
              </a:solidFill>
              <a:latin typeface="Propisi"/>
              <a:ea typeface="Propis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993300"/>
                  </a:solidFill>
                  <a:miter/>
                </a:ln>
                <a:solidFill>
                  <a:srgbClr val="ffffff"/>
                </a:solidFill>
                <a:latin typeface="Propisi"/>
              </a:rPr>
              <a:t>Собака  лает, ветер  носит</a:t>
            </a:r>
            <a:endParaRPr b="1" lang="en-US" sz="4000" spc="1" strike="noStrike">
              <a:ln w="9360">
                <a:solidFill>
                  <a:srgbClr val="993300"/>
                </a:solidFill>
                <a:miter/>
              </a:ln>
              <a:solidFill>
                <a:srgbClr val="ffffff"/>
              </a:solidFill>
              <a:latin typeface="Propisi"/>
              <a:ea typeface="Propisi"/>
            </a:endParaRPr>
          </a:p>
        </p:txBody>
      </p:sp>
      <p:pic>
        <p:nvPicPr>
          <p:cNvPr id="71" name="Picture 6" descr="дай лапу"/>
          <p:cNvPicPr/>
          <p:nvPr/>
        </p:nvPicPr>
        <p:blipFill>
          <a:blip r:embed="rId1"/>
          <a:stretch/>
        </p:blipFill>
        <p:spPr>
          <a:xfrm>
            <a:off x="4067280" y="4005360"/>
            <a:ext cx="2106360" cy="2160360"/>
          </a:xfrm>
          <a:prstGeom prst="rect">
            <a:avLst/>
          </a:prstGeom>
          <a:ln w="0">
            <a:noFill/>
          </a:ln>
        </p:spPr>
      </p:pic>
      <p:sp>
        <p:nvSpPr>
          <p:cNvPr id="7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0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6" nodeType="after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1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WordArt 3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50000">
                      <a:srgbClr val="80808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Propisi"/>
              </a:rPr>
              <a:t>                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50000">
                    <a:srgbClr val="808080"/>
                  </a:gs>
                  <a:gs pos="100000">
                    <a:srgbClr val="ffff00"/>
                  </a:gs>
                </a:gsLst>
                <a:lin ang="5400000"/>
              </a:gradFill>
              <a:latin typeface="Propisi"/>
              <a:ea typeface="Propisi"/>
            </a:endParaRPr>
          </a:p>
        </p:txBody>
      </p:sp>
      <p:sp>
        <p:nvSpPr>
          <p:cNvPr id="74" name="Rectangle 4"/>
          <p:cNvSpPr/>
          <p:nvPr/>
        </p:nvSpPr>
        <p:spPr>
          <a:xfrm>
            <a:off x="684360" y="3141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610920" y="1981080"/>
            <a:ext cx="8281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0000"/>
                </a:solidFill>
                <a:latin typeface="Times New Roman"/>
              </a:rPr>
              <a:t>                        </a:t>
            </a:r>
            <a:r>
              <a:rPr b="1" lang="ru-RU" sz="3600" spc="-1" strike="noStrike">
                <a:solidFill>
                  <a:srgbClr val="cc0000"/>
                </a:solidFill>
                <a:latin typeface="Times New Roman"/>
              </a:rPr>
              <a:t>План работы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00"/>
                </a:solidFill>
                <a:latin typeface="Times New Roman"/>
              </a:rPr>
              <a:t>1. Изготовь детали аппликаци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00"/>
                </a:solidFill>
                <a:latin typeface="Times New Roman"/>
              </a:rPr>
              <a:t>2. Приклей детали к основе открытк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00"/>
                </a:solidFill>
                <a:latin typeface="Times New Roman"/>
              </a:rPr>
              <a:t>3. Оформи открытку сам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Times New Roman"/>
              </a:rPr>
              <a:t>1. Для изготовления головы возьми квадрат из цветной бумаг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Picture 13" descr="ап"/>
          <p:cNvPicPr/>
          <p:nvPr/>
        </p:nvPicPr>
        <p:blipFill>
          <a:blip r:embed="rId1"/>
          <a:stretch/>
        </p:blipFill>
        <p:spPr>
          <a:xfrm>
            <a:off x="2843280" y="2133720"/>
            <a:ext cx="3424320" cy="3516120"/>
          </a:xfrm>
          <a:prstGeom prst="rect">
            <a:avLst/>
          </a:prstGeom>
          <a:ln w="0">
            <a:noFill/>
          </a:ln>
        </p:spPr>
      </p:pic>
      <p:sp>
        <p:nvSpPr>
          <p:cNvPr id="7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Times New Roman"/>
              </a:rPr>
              <a:t>2. Положи квадрат белой стороной кверху и перегни его по диагонал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Picture 12" descr="ре"/>
          <p:cNvPicPr/>
          <p:nvPr/>
        </p:nvPicPr>
        <p:blipFill>
          <a:blip r:embed="rId1"/>
          <a:stretch/>
        </p:blipFill>
        <p:spPr>
          <a:xfrm>
            <a:off x="1830240" y="1981080"/>
            <a:ext cx="5481720" cy="4114800"/>
          </a:xfrm>
          <a:prstGeom prst="rect">
            <a:avLst/>
          </a:prstGeom>
          <a:ln w="0">
            <a:noFill/>
          </a:ln>
        </p:spPr>
      </p:pic>
      <p:sp>
        <p:nvSpPr>
          <p:cNvPr id="8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Times New Roman"/>
              </a:rPr>
              <a:t>3. Загни  правый и левый верхние углы. Как ты уже догадался, это будут уши нашей собак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Picture 12" descr="ы"/>
          <p:cNvPicPr/>
          <p:nvPr/>
        </p:nvPicPr>
        <p:blipFill>
          <a:blip r:embed="rId1"/>
          <a:stretch/>
        </p:blipFill>
        <p:spPr>
          <a:xfrm>
            <a:off x="2190600" y="2023920"/>
            <a:ext cx="4762800" cy="4029120"/>
          </a:xfrm>
          <a:prstGeom prst="rect">
            <a:avLst/>
          </a:prstGeom>
          <a:ln w="0">
            <a:noFill/>
          </a:ln>
        </p:spPr>
      </p:pic>
      <p:sp>
        <p:nvSpPr>
          <p:cNvPr id="8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Times New Roman"/>
              </a:rPr>
              <a:t>4. Полностью раскрой ушки и загни нижний угол заготовки наза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15" descr="вт"/>
          <p:cNvPicPr/>
          <p:nvPr/>
        </p:nvPicPr>
        <p:blipFill>
          <a:blip r:embed="rId1"/>
          <a:stretch/>
        </p:blipFill>
        <p:spPr>
          <a:xfrm>
            <a:off x="2190600" y="2252520"/>
            <a:ext cx="4762800" cy="3571920"/>
          </a:xfrm>
          <a:prstGeom prst="rect">
            <a:avLst/>
          </a:prstGeom>
          <a:ln w="0">
            <a:noFill/>
          </a:ln>
        </p:spPr>
      </p:pic>
      <p:sp>
        <p:nvSpPr>
          <p:cNvPr id="8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5-03-31T08:32:45Z</dcterms:modified>
  <cp:revision>38</cp:revision>
  <dc:subject/>
  <dc:title>PowerPoint Presentation</dc:title>
</cp:coreProperties>
</file>