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image13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ACCA-84D8-46F8-9B4D-D36CA03C296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Работа с бума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Тех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"Оригам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5C00-057D-41EF-8C52-6F3AB20213C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5. Для изготовления туловища собаки возьми квадратный лист бумаги,  сложи его по диагонали и развер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6147-3C8D-4133-BBD1-F7F99DEA93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6. Сложи внутрь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D7CE-DF40-4898-9E52-80CD7F986D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7. Загни углы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0E85-2A83-4EB6-BA02-4FF7AC196D0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8. Склей детали. Получилась собака. Она может быть весёлой или серьёзной. Для этого собаку можно украсить, приклеить ей глаза, нос и язык, в общем, дать волю фант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89B5-57CC-47D3-B866-B543CF2A5B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олодец! Открытка готов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BC38-A0CF-4802-9E8A-8D5EADC593E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Используемые Интернет-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09AC-5112-4CE3-A786-3DC983638B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Ориг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яп., букв.: «сложенная бумага») 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е искусство складывания фигур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бумаги. Искусство оригами своими корнями уходит в древний Кита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и была открыта бум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7201-D60B-433D-92FB-B71455D42E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99330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Скажите, почему мой д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Спит без подушки, ест без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Зимой без валенок гуля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А если рад - хвостом виля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F058-8C68-4583-8463-5D6C07F82ED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3300"/>
                </a:solidFill>
                <a:latin typeface="Georgia"/>
              </a:rPr>
              <a:t>Пословицы и погов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ropisi"/>
              </a:rPr>
              <a:t>Собака - друг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ropisi"/>
              </a:rPr>
              <a:t>Собака  лает, ветер  нос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4134-CB3F-4A91-ABDE-1DFC41DB601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лан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Изготовь детали апп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Приклей детали к основе откры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Оформи открытку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D915-65F3-4975-988A-0CEEDC7822D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Для изготовления головы возьми квадрат из цвет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94D1-335D-4800-AF99-26341055F7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Положи квадрат белой стороной кверху и перегни его по диагон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61FF-18E0-4FF8-A1DC-8A874BCEA58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Загни  правый и левый верхние углы. Как ты уже догадался, это будут уши нашей соба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DBB2-6F49-4101-ADD7-7F82F9D58B8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4. Полностью раскрой ушки и загни нижний угол заготовки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2EC2-8B0B-4871-B1F1-80F5F1F4428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3482-4A36-41EF-BB61-818AE32E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7DE-3899-46F3-8F4B-5C4391CA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39D-99CE-4536-BF68-92FBAAD2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D47-A109-4D29-A834-977628D6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9ED-9A6F-47F3-977D-BDF6B189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5FF-6FAE-457D-9BF9-BED15725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1E28-ED35-4CC5-9F98-478181AC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56F-7E34-4B2C-AC5F-17BEA0FF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857-4622-4B0C-9D1A-6DAED041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B18-FD2D-453D-BB76-ACADD038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144-1BA1-491A-8E08-4F3AC8AD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DED-500A-45E5-8485-71F3B227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5BDE-61D8-4521-86A5-C92A01E273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042920" y="1197000"/>
            <a:ext cx="6769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Работа с бумаго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Техн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"Оригами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2050920" y="3789360"/>
            <a:ext cx="49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50000">
                      <a:srgbClr val="008000"/>
                    </a:gs>
                    <a:gs pos="100000">
                      <a:srgbClr val="00cc99"/>
                    </a:gs>
                  </a:gsLst>
                  <a:lin ang="5400000"/>
                </a:gradFill>
                <a:latin typeface="Arial"/>
              </a:rPr>
              <a:t>                             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50000">
                    <a:srgbClr val="008000"/>
                  </a:gs>
                  <a:gs pos="100000">
                    <a:srgbClr val="00cc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484360" y="4365720"/>
            <a:ext cx="37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Демьянова 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Елена   Юр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2916360" y="551664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учитель начальных классов</a:t>
            </a:r>
            <a:endParaRPr b="0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МОУ СОШ №1 г. Тверь</a:t>
            </a:r>
            <a:endParaRPr b="0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2" descr="ре"/>
          <p:cNvPicPr/>
          <p:nvPr/>
        </p:nvPicPr>
        <p:blipFill>
          <a:blip r:embed="rId1"/>
          <a:stretch/>
        </p:blipFill>
        <p:spPr>
          <a:xfrm>
            <a:off x="3027240" y="1981080"/>
            <a:ext cx="308952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5. Для изготовления туловища собаки возьми квадратный лист бумаги,  сложи его по диагонали и развер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0"/>
          <p:cNvSpPr/>
          <p:nvPr/>
        </p:nvSpPr>
        <p:spPr>
          <a:xfrm rot="2659200">
            <a:off x="4787640" y="3500280"/>
            <a:ext cx="344520" cy="801720"/>
          </a:xfrm>
          <a:custGeom>
            <a:avLst/>
            <a:gdLst>
              <a:gd name="textAreaLeft" fmla="*/ 46080 w 344520"/>
              <a:gd name="textAreaRight" fmla="*/ 298440 w 344520"/>
              <a:gd name="textAreaTop" fmla="*/ 140040 h 801720"/>
              <a:gd name="textAreaBottom" fmla="*/ 581400 h 80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6" descr="спа"/>
          <p:cNvPicPr/>
          <p:nvPr/>
        </p:nvPicPr>
        <p:blipFill>
          <a:blip r:embed="rId1"/>
          <a:stretch/>
        </p:blipFill>
        <p:spPr>
          <a:xfrm>
            <a:off x="826920" y="1700280"/>
            <a:ext cx="308484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6. Сложи внутрь угол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7"/>
          <p:cNvSpPr/>
          <p:nvPr/>
        </p:nvSpPr>
        <p:spPr>
          <a:xfrm rot="14988600">
            <a:off x="2993040" y="4936320"/>
            <a:ext cx="504720" cy="658800"/>
          </a:xfrm>
          <a:custGeom>
            <a:avLst/>
            <a:gdLst>
              <a:gd name="textAreaLeft" fmla="*/ 67320 w 504720"/>
              <a:gd name="textAreaRight" fmla="*/ 437400 w 504720"/>
              <a:gd name="textAreaTop" fmla="*/ 115200 h 658800"/>
              <a:gd name="textAreaBottom" fmla="*/ 477720 h 65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329840" y="6021360"/>
            <a:ext cx="68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Загни нижний угол заготовки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0" descr="пр"/>
          <p:cNvPicPr/>
          <p:nvPr/>
        </p:nvPicPr>
        <p:blipFill>
          <a:blip r:embed="rId2"/>
          <a:stretch/>
        </p:blipFill>
        <p:spPr>
          <a:xfrm>
            <a:off x="5076720" y="170028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7. Загни углы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3419640" y="3284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9" descr="а"/>
          <p:cNvPicPr/>
          <p:nvPr/>
        </p:nvPicPr>
        <p:blipFill>
          <a:blip r:embed="rId1"/>
          <a:stretch/>
        </p:blipFill>
        <p:spPr>
          <a:xfrm>
            <a:off x="3132000" y="1844640"/>
            <a:ext cx="308952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8. Склей детали. Получилась собака. Она может быть весёлой или серьёзной. Для этого собаку можно украсить, приклеить ей глаза, нос и язык, в общем, дать волю фантаз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Молодец! Открытка готова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на сайт"/>
          <p:cNvPicPr/>
          <p:nvPr/>
        </p:nvPicPr>
        <p:blipFill>
          <a:blip r:embed="rId1"/>
          <a:stretch/>
        </p:blipFill>
        <p:spPr>
          <a:xfrm>
            <a:off x="3132000" y="1981080"/>
            <a:ext cx="28800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Times New Roman"/>
              </a:rPr>
              <a:t>Используемые 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76280" cy="46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3719880" y="41497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248040" y="3213000"/>
            <a:ext cx="70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Загадка:  http://www.dogster.ru/cicero/humor/1027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49480" y="235728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словицы: http://www.doggies.ru/articl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10"/>
          <p:cNvSpPr txBox="1"/>
          <p:nvPr/>
        </p:nvSpPr>
        <p:spPr>
          <a:xfrm>
            <a:off x="2771640" y="4437000"/>
            <a:ext cx="367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Презентацию подготовила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Демьянова Елена Юрьевна,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учитель начальных классов 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МОУ СОШ №1 г. Твери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 rot="1607400">
            <a:off x="6372360" y="2060280"/>
            <a:ext cx="2412720" cy="172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564000" y="4797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1084pic"/>
          <p:cNvPicPr/>
          <p:nvPr/>
        </p:nvPicPr>
        <p:blipFill>
          <a:blip r:embed="rId3"/>
          <a:stretch/>
        </p:blipFill>
        <p:spPr>
          <a:xfrm>
            <a:off x="3851280" y="2781360"/>
            <a:ext cx="1944720" cy="1882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6588000" y="0"/>
            <a:ext cx="2556000" cy="206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коробка"/>
          <p:cNvPicPr/>
          <p:nvPr/>
        </p:nvPicPr>
        <p:blipFill>
          <a:blip r:embed="rId5"/>
          <a:stretch/>
        </p:blipFill>
        <p:spPr>
          <a:xfrm rot="20893200">
            <a:off x="1979280" y="2852280"/>
            <a:ext cx="1646280" cy="170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6"/>
          <a:stretch/>
        </p:blipFill>
        <p:spPr>
          <a:xfrm rot="1903800">
            <a:off x="5796000" y="4076640"/>
            <a:ext cx="2979720" cy="1981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395280" y="549360"/>
            <a:ext cx="711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Ориг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яп., букв.: «сложенная бумага») 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евнее искусство складывания фигур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бумаги. Искусство оригами своими корнями уходит в древний Кита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и была открыта бума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" descr="2087pic"/>
          <p:cNvPicPr/>
          <p:nvPr/>
        </p:nvPicPr>
        <p:blipFill>
          <a:blip r:embed="rId7"/>
          <a:stretch/>
        </p:blipFill>
        <p:spPr>
          <a:xfrm rot="19031400">
            <a:off x="610920" y="4508280"/>
            <a:ext cx="1834920" cy="19159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755640" y="476280"/>
            <a:ext cx="446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гадай загадку</a:t>
            </a:r>
            <a:endParaRPr b="1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1692360" y="1989000"/>
            <a:ext cx="561816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кажите, почему мой друг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пит без подушки, ест без рук.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Зимой без валенок гуляет,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А если рад - хвостом виляет?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5" name="WordArt 6"/>
          <p:cNvSpPr txBox="1"/>
          <p:nvPr/>
        </p:nvSpPr>
        <p:spPr>
          <a:xfrm>
            <a:off x="4211640" y="5300640"/>
            <a:ext cx="4103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latin typeface="Propisi"/>
              </a:rPr>
              <a:t>Собака</a:t>
            </a:r>
            <a:endParaRPr b="0" i="1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latin typeface="Propisi"/>
              <a:ea typeface="Propis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1042920" y="620640"/>
            <a:ext cx="712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3300"/>
                </a:solidFill>
                <a:latin typeface="Georgia"/>
              </a:rPr>
              <a:t>Пословицы и поговорки</a:t>
            </a:r>
            <a:endParaRPr b="1" i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003300"/>
              </a:solidFill>
              <a:latin typeface="Georgia"/>
              <a:ea typeface="Georgia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826920" y="1916280"/>
            <a:ext cx="7417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Propisi"/>
              </a:rPr>
              <a:t>Собака - друг человека</a:t>
            </a:r>
            <a:endParaRPr b="1" lang="en-US" sz="40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Propisi"/>
              </a:rPr>
              <a:t>Собака  лает, ветер  носит</a:t>
            </a:r>
            <a:endParaRPr b="1" lang="en-US" sz="40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Propisi"/>
              <a:ea typeface="Propisi"/>
            </a:endParaRPr>
          </a:p>
        </p:txBody>
      </p:sp>
      <p:pic>
        <p:nvPicPr>
          <p:cNvPr id="71" name="Picture 6" descr="дай лапу"/>
          <p:cNvPicPr/>
          <p:nvPr/>
        </p:nvPicPr>
        <p:blipFill>
          <a:blip r:embed="rId1"/>
          <a:stretch/>
        </p:blipFill>
        <p:spPr>
          <a:xfrm>
            <a:off x="4067280" y="4005360"/>
            <a:ext cx="2106360" cy="21603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80808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Propisi"/>
              </a:rPr>
              <a:t>               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808080"/>
                  </a:gs>
                  <a:gs pos="100000">
                    <a:srgbClr val="ffff00"/>
                  </a:gs>
                </a:gsLst>
                <a:lin ang="5400000"/>
              </a:gradFill>
              <a:latin typeface="Propisi"/>
              <a:ea typeface="Propisi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4360" y="31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0920" y="1981080"/>
            <a:ext cx="828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     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План рабо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1. Изготовь детали апплик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2. Приклей детали к основе откры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. Оформи открытку с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1. Для изготовления головы возьми квадрат из цветной бума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3" descr="ап"/>
          <p:cNvPicPr/>
          <p:nvPr/>
        </p:nvPicPr>
        <p:blipFill>
          <a:blip r:embed="rId1"/>
          <a:stretch/>
        </p:blipFill>
        <p:spPr>
          <a:xfrm>
            <a:off x="2843280" y="2133720"/>
            <a:ext cx="3424320" cy="3516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2. Положи квадрат белой стороной кверху и перегни его по диагона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" descr="ре"/>
          <p:cNvPicPr/>
          <p:nvPr/>
        </p:nvPicPr>
        <p:blipFill>
          <a:blip r:embed="rId1"/>
          <a:stretch/>
        </p:blipFill>
        <p:spPr>
          <a:xfrm>
            <a:off x="1830240" y="1981080"/>
            <a:ext cx="548172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3. Загни  правый и левый верхние углы. Как ты уже догадался, это будут уши нашей соба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" descr="ы"/>
          <p:cNvPicPr/>
          <p:nvPr/>
        </p:nvPicPr>
        <p:blipFill>
          <a:blip r:embed="rId1"/>
          <a:stretch/>
        </p:blipFill>
        <p:spPr>
          <a:xfrm>
            <a:off x="2190600" y="2023920"/>
            <a:ext cx="4762800" cy="40291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4. Полностью раскрой ушки и загни нижний угол заготовки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5" descr="вт"/>
          <p:cNvPicPr/>
          <p:nvPr/>
        </p:nvPicPr>
        <p:blipFill>
          <a:blip r:embed="rId1"/>
          <a:stretch/>
        </p:blipFill>
        <p:spPr>
          <a:xfrm>
            <a:off x="2190600" y="225252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8:32:45Z</dcterms:modified>
  <cp:revision>38</cp:revision>
  <dc:subject/>
  <dc:title>PowerPoint Presentation</dc:title>
</cp:coreProperties>
</file>