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gif" ContentType="image/gif"/>
  <Override PartName="/ppt/media/image13.jpeg" ContentType="image/jpeg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4947-82C2-43A8-A09E-F2B2B447BE2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Работа с бумаг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Тех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Propisi"/>
              </a:rPr>
              <a:t>"Оригами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EDA40-A55D-4B74-ABA5-157979BAA23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1215C-DAD8-42FE-85F5-C1F773C7588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6. Сложи внутрь угол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9DA50-80A8-4345-832F-4321075DF925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7. Загни углы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F7471-E8DF-4327-A54D-6954052EABC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2F861-F687-4B80-BDDC-E5095BDB862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Молодец! Открытка готова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065BE-78DF-425D-8C0F-6AF28306DCB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 u="sng">
                <a:solidFill>
                  <a:srgbClr val="cc0000"/>
                </a:solidFill>
                <a:uFillTx/>
                <a:latin typeface="Calibri"/>
              </a:rPr>
              <a:t>Используемые Интернет-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414F0-539A-484E-B6A4-29F9E2EA251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Оригам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(яп., букв.: «сложенная бумага») —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евнее искусство складывания фигурок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 бумаги. Искусство оригами своими корнями уходит в древний Кита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и была открыта бумаг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B797-C212-4B5C-B776-517C1556B14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993300"/>
                </a:solidFill>
                <a:latin typeface="Arial"/>
                <a:ea typeface="Arial"/>
              </a:rPr>
              <a:t>Отгадай загад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кажите, почему мой др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Спит без подушки, ест без рук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Зимой без валенок гуляет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Georgia"/>
              </a:rPr>
              <a:t>А если рад - хвостом виляет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179E7-75BE-4ABC-813A-64EBDAADD0C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200" spc="-1" strike="noStrike"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895CE-ECDF-44F8-9E02-B3DA02E6EED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c0000"/>
                </a:solidFill>
                <a:latin typeface="Calibri"/>
              </a:rPr>
              <a:t>                        </a:t>
            </a: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План работ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Изготовь детали апплик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риклей детали к основе открыт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Оформи открытку с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E897E-1671-43F5-830A-03A464A2CB9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1. Для изготовления головы возьми квадрат из цветной бума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5EBCB-EA55-4FB0-87E9-AEE3B7E65C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2. Положи квадрат белой стороной кверху и перегни его по диагона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6B05-BEC3-4B8B-A37D-3C496B3ED8C8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3. Загни  правый и левый верхние углы. Как ты уже догадался, это будут уши нашей соба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36A4-1F7D-442E-82A1-43B4AE3F4D0B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0000"/>
                </a:solidFill>
                <a:latin typeface="Calibri"/>
              </a:rPr>
              <a:t>4. Полностью раскрой ушки и загни нижний угол заготовки наза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7D781-A60D-4897-8073-835B006FCDD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2B0F-8F29-4429-9C49-A8B1F8638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E90C-CA86-458F-A0AE-103319DA0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E057-A9AF-4148-A23D-A1767FA370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F608B-D75D-417E-91DF-897C238EF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DC97-8E1D-4BC9-A104-FD492105E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7130-97CA-44E1-A005-7F1EA9EE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CCFA-CA17-4B11-934D-26BCE687F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3D77-8FAC-48E2-9D27-6954A4C13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68887-1331-4909-B50C-C9FF0CD09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9CF1-2D94-454C-BA3F-50CE3FF6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D572-7CCD-4341-A7A9-D742CD31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618C-CEE1-4EE5-8FD1-668B64D5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4C593-F711-4C6A-B1D9-FC5F4DC0C5E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2"/>
          <p:cNvSpPr txBox="1"/>
          <p:nvPr/>
        </p:nvSpPr>
        <p:spPr>
          <a:xfrm>
            <a:off x="1042920" y="1197000"/>
            <a:ext cx="676908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Работа с бумагой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Техник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7600"/>
                    </a:gs>
                  </a:gsLst>
                  <a:lin ang="5400000"/>
                </a:gradFill>
                <a:latin typeface="Propisi"/>
              </a:rPr>
              <a:t>"Оригами"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00"/>
                  </a:gs>
                  <a:gs pos="100000">
                    <a:srgbClr val="0076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49" name="WordArt 3"/>
          <p:cNvSpPr txBox="1"/>
          <p:nvPr/>
        </p:nvSpPr>
        <p:spPr>
          <a:xfrm>
            <a:off x="2050920" y="3789360"/>
            <a:ext cx="496908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50000">
                      <a:srgbClr val="008000"/>
                    </a:gs>
                    <a:gs pos="100000">
                      <a:srgbClr val="00cc99"/>
                    </a:gs>
                  </a:gsLst>
                  <a:lin ang="5400000"/>
                </a:gradFill>
                <a:latin typeface="Arial"/>
              </a:rPr>
              <a:t>                              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50000">
                    <a:srgbClr val="008000"/>
                  </a:gs>
                  <a:gs pos="100000">
                    <a:srgbClr val="00cc99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2484360" y="4365720"/>
            <a:ext cx="37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Демьянова </a:t>
            </a:r>
            <a:br>
              <a:rPr sz="2800"/>
            </a:br>
            <a:r>
              <a:rPr b="1" i="1" lang="ru-RU" sz="2800" spc="-1" strike="noStrike">
                <a:solidFill>
                  <a:srgbClr val="003300"/>
                </a:solidFill>
                <a:latin typeface="Times New Roman"/>
              </a:rPr>
              <a:t>Елена   Юрьев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5"/>
          <p:cNvSpPr txBox="1"/>
          <p:nvPr/>
        </p:nvSpPr>
        <p:spPr>
          <a:xfrm>
            <a:off x="2916360" y="5516640"/>
            <a:ext cx="302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учитель начальных классов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3300"/>
                  </a:solidFill>
                  <a:miter/>
                </a:ln>
                <a:solidFill>
                  <a:srgbClr val="808080"/>
                </a:solidFill>
                <a:latin typeface="Arial"/>
              </a:rPr>
              <a:t>МОУ СОШ №1 г. Тверь</a:t>
            </a:r>
            <a:endParaRPr b="0" i="1" lang="en-US" sz="1800" spc="1" strike="noStrike">
              <a:ln w="9360">
                <a:solidFill>
                  <a:srgbClr val="003300"/>
                </a:solidFill>
                <a:miter/>
              </a:ln>
              <a:solidFill>
                <a:srgbClr val="808080"/>
              </a:solidFill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12" descr="ре"/>
          <p:cNvPicPr/>
          <p:nvPr/>
        </p:nvPicPr>
        <p:blipFill>
          <a:blip r:embed="rId1"/>
          <a:stretch/>
        </p:blipFill>
        <p:spPr>
          <a:xfrm>
            <a:off x="3027240" y="198108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5. Для изготовления туловища собаки возьми квадратный лист бумаги,  сложи его по диагонали и разверн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10"/>
          <p:cNvSpPr/>
          <p:nvPr/>
        </p:nvSpPr>
        <p:spPr>
          <a:xfrm rot="2659200">
            <a:off x="4787640" y="3500280"/>
            <a:ext cx="344520" cy="801720"/>
          </a:xfrm>
          <a:custGeom>
            <a:avLst/>
            <a:gdLst>
              <a:gd name="textAreaLeft" fmla="*/ 46080 w 344520"/>
              <a:gd name="textAreaRight" fmla="*/ 298440 w 344520"/>
              <a:gd name="textAreaTop" fmla="*/ 140040 h 801720"/>
              <a:gd name="textAreaBottom" fmla="*/ 581400 h 801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6" descr="спа"/>
          <p:cNvPicPr/>
          <p:nvPr/>
        </p:nvPicPr>
        <p:blipFill>
          <a:blip r:embed="rId1"/>
          <a:stretch/>
        </p:blipFill>
        <p:spPr>
          <a:xfrm>
            <a:off x="826920" y="1700280"/>
            <a:ext cx="3084840" cy="41148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6. Сложи внутрь угол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7"/>
          <p:cNvSpPr/>
          <p:nvPr/>
        </p:nvSpPr>
        <p:spPr>
          <a:xfrm rot="14988600">
            <a:off x="2993040" y="4936320"/>
            <a:ext cx="504720" cy="658800"/>
          </a:xfrm>
          <a:custGeom>
            <a:avLst/>
            <a:gdLst>
              <a:gd name="textAreaLeft" fmla="*/ 67320 w 504720"/>
              <a:gd name="textAreaRight" fmla="*/ 437400 w 504720"/>
              <a:gd name="textAreaTop" fmla="*/ 115200 h 658800"/>
              <a:gd name="textAreaBottom" fmla="*/ 477720 h 65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1329840" y="6021360"/>
            <a:ext cx="68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Picture 30" descr="пр"/>
          <p:cNvPicPr/>
          <p:nvPr/>
        </p:nvPicPr>
        <p:blipFill>
          <a:blip r:embed="rId2"/>
          <a:stretch/>
        </p:blipFill>
        <p:spPr>
          <a:xfrm>
            <a:off x="5076720" y="1700280"/>
            <a:ext cx="3086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7. Загни углы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8"/>
          <p:cNvSpPr/>
          <p:nvPr/>
        </p:nvSpPr>
        <p:spPr>
          <a:xfrm>
            <a:off x="3419640" y="3284640"/>
            <a:ext cx="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29" descr="а"/>
          <p:cNvPicPr/>
          <p:nvPr/>
        </p:nvPicPr>
        <p:blipFill>
          <a:blip r:embed="rId1"/>
          <a:stretch/>
        </p:blipFill>
        <p:spPr>
          <a:xfrm>
            <a:off x="3132000" y="1844640"/>
            <a:ext cx="3089520" cy="411480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Times New Roman"/>
              </a:rPr>
              <a:t>8. Склей детали. Получилась собака. Она может быть весёлой или серьёзной. Для этого собаку можно украсить, приклеить ей глаза, нос и язык, в общем, дать волю фантаз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Молодец! Открытка готова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6" name="Picture 9" descr="на сайт"/>
          <p:cNvPicPr/>
          <p:nvPr/>
        </p:nvPicPr>
        <p:blipFill>
          <a:blip r:embed="rId1"/>
          <a:stretch/>
        </p:blipFill>
        <p:spPr>
          <a:xfrm>
            <a:off x="3132000" y="1981080"/>
            <a:ext cx="2880000" cy="411480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55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cc0000"/>
                </a:solidFill>
                <a:uFillTx/>
                <a:latin typeface="Times New Roman"/>
              </a:rPr>
              <a:t>Используемые Интернет-ресурс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324000" y="549360"/>
            <a:ext cx="476280" cy="46656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7"/>
          <p:cNvSpPr/>
          <p:nvPr/>
        </p:nvSpPr>
        <p:spPr>
          <a:xfrm>
            <a:off x="3719880" y="4149720"/>
            <a:ext cx="3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248040" y="3213000"/>
            <a:ext cx="700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Загадка:  http://www.dogster.ru/cicero/humor/1027</a:t>
            </a:r>
            <a:r>
              <a:rPr b="1" lang="ru-RU" sz="1800" spc="-1" strike="noStrike">
                <a:solidFill>
                  <a:srgbClr val="cc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49480" y="2357280"/>
            <a:ext cx="59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Times New Roman"/>
              </a:rPr>
              <a:t>Пословицы: http://www.doggies.ru/articl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WordArt 10"/>
          <p:cNvSpPr txBox="1"/>
          <p:nvPr/>
        </p:nvSpPr>
        <p:spPr>
          <a:xfrm>
            <a:off x="2771640" y="4437000"/>
            <a:ext cx="367344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Презентацию подготовила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Демьянова Елена Юрьевна,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учитель начальных классов 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cc99"/>
                </a:solidFill>
                <a:latin typeface="Arial"/>
              </a:rPr>
              <a:t>МОУ СОШ №1 г. Твери</a:t>
            </a:r>
            <a:endParaRPr b="0" i="1" lang="en-US" sz="2000" spc="1" strike="noStrike">
              <a:ln w="9360">
                <a:solidFill>
                  <a:srgbClr val="ff0000"/>
                </a:solidFill>
                <a:miter/>
              </a:ln>
              <a:solidFill>
                <a:srgbClr val="00cc99"/>
              </a:solidFill>
              <a:latin typeface="Arial"/>
              <a:ea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 rot="1607400">
            <a:off x="6372360" y="2060280"/>
            <a:ext cx="2412720" cy="17287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3564000" y="4797360"/>
            <a:ext cx="1800000" cy="1800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" descr="1084pic"/>
          <p:cNvPicPr/>
          <p:nvPr/>
        </p:nvPicPr>
        <p:blipFill>
          <a:blip r:embed="rId3"/>
          <a:stretch/>
        </p:blipFill>
        <p:spPr>
          <a:xfrm>
            <a:off x="3851280" y="2781360"/>
            <a:ext cx="1944720" cy="18828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5" descr=""/>
          <p:cNvPicPr/>
          <p:nvPr/>
        </p:nvPicPr>
        <p:blipFill>
          <a:blip r:embed="rId4"/>
          <a:stretch/>
        </p:blipFill>
        <p:spPr>
          <a:xfrm>
            <a:off x="6588000" y="0"/>
            <a:ext cx="2556000" cy="2063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6" descr="коробка"/>
          <p:cNvPicPr/>
          <p:nvPr/>
        </p:nvPicPr>
        <p:blipFill>
          <a:blip r:embed="rId5"/>
          <a:stretch/>
        </p:blipFill>
        <p:spPr>
          <a:xfrm rot="20893200">
            <a:off x="1979280" y="2852280"/>
            <a:ext cx="1646280" cy="17002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8" descr=""/>
          <p:cNvPicPr/>
          <p:nvPr/>
        </p:nvPicPr>
        <p:blipFill>
          <a:blip r:embed="rId6"/>
          <a:stretch/>
        </p:blipFill>
        <p:spPr>
          <a:xfrm rot="1903800">
            <a:off x="5796000" y="4076640"/>
            <a:ext cx="2979720" cy="198144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395280" y="549360"/>
            <a:ext cx="711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3300"/>
                </a:solidFill>
                <a:latin typeface="Times New Roman"/>
              </a:rPr>
              <a:t>Оригам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яп., букв.: «сложенная бумага») —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ревнее искусство складывания фигур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з бумаги. Искусство оригами своими корнями уходит в древний Китай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где и была открыта бума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10" descr="2087pic"/>
          <p:cNvPicPr/>
          <p:nvPr/>
        </p:nvPicPr>
        <p:blipFill>
          <a:blip r:embed="rId7"/>
          <a:stretch/>
        </p:blipFill>
        <p:spPr>
          <a:xfrm rot="19031400">
            <a:off x="610920" y="4508280"/>
            <a:ext cx="1834920" cy="1915920"/>
          </a:xfrm>
          <a:prstGeom prst="rect">
            <a:avLst/>
          </a:prstGeom>
          <a:ln w="0">
            <a:noFill/>
          </a:ln>
        </p:spPr>
      </p:pic>
      <p:sp>
        <p:nvSpPr>
          <p:cNvPr id="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WordArt 3"/>
          <p:cNvSpPr txBox="1"/>
          <p:nvPr/>
        </p:nvSpPr>
        <p:spPr>
          <a:xfrm>
            <a:off x="755640" y="476280"/>
            <a:ext cx="4464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993300"/>
                </a:solidFill>
                <a:latin typeface="Arial"/>
              </a:rPr>
              <a:t>Отгадай загадку</a:t>
            </a:r>
            <a:endParaRPr b="1" i="1" lang="en-US" sz="2400" spc="1" strike="noStrike">
              <a:ln w="9360">
                <a:solidFill>
                  <a:srgbClr val="ffff00"/>
                </a:solidFill>
                <a:miter/>
              </a:ln>
              <a:solidFill>
                <a:srgbClr val="993300"/>
              </a:solidFill>
              <a:latin typeface="Arial"/>
              <a:ea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1692360" y="1989000"/>
            <a:ext cx="5618160" cy="208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кажите, почему мой друг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Спит без подушки, ест без рук.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Зимой без валенок гуляет,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Georgia"/>
              </a:rPr>
              <a:t>А если рад - хвостом виляет?</a:t>
            </a:r>
            <a:endParaRPr b="0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Georgia"/>
              <a:ea typeface="Georgia"/>
            </a:endParaRPr>
          </a:p>
        </p:txBody>
      </p:sp>
      <p:sp>
        <p:nvSpPr>
          <p:cNvPr id="65" name="WordArt 6"/>
          <p:cNvSpPr txBox="1"/>
          <p:nvPr/>
        </p:nvSpPr>
        <p:spPr>
          <a:xfrm>
            <a:off x="4211640" y="5300640"/>
            <a:ext cx="4103640" cy="93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6600"/>
                </a:solidFill>
                <a:latin typeface="Propisi"/>
              </a:rPr>
              <a:t>Собака</a:t>
            </a:r>
            <a:endParaRPr b="0" i="1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6600"/>
              </a:solidFill>
              <a:latin typeface="Propisi"/>
              <a:ea typeface="Propisi"/>
            </a:endParaRPr>
          </a:p>
        </p:txBody>
      </p:sp>
      <p:sp>
        <p:nvSpPr>
          <p:cNvPr id="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8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14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WordArt 4"/>
          <p:cNvSpPr txBox="1"/>
          <p:nvPr/>
        </p:nvSpPr>
        <p:spPr>
          <a:xfrm>
            <a:off x="1042920" y="620640"/>
            <a:ext cx="712800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ff6600"/>
                  </a:solidFill>
                  <a:miter/>
                </a:ln>
                <a:solidFill>
                  <a:srgbClr val="003300"/>
                </a:solidFill>
                <a:latin typeface="Georgia"/>
              </a:rPr>
              <a:t>Пословицы и поговорки</a:t>
            </a:r>
            <a:endParaRPr b="1" i="1" lang="en-US" sz="2400" spc="1" strike="noStrike">
              <a:ln w="9360">
                <a:solidFill>
                  <a:srgbClr val="ff6600"/>
                </a:solidFill>
                <a:miter/>
              </a:ln>
              <a:solidFill>
                <a:srgbClr val="003300"/>
              </a:solidFill>
              <a:latin typeface="Georgia"/>
              <a:ea typeface="Georgia"/>
            </a:endParaRPr>
          </a:p>
        </p:txBody>
      </p:sp>
      <p:sp>
        <p:nvSpPr>
          <p:cNvPr id="70" name="WordArt 5"/>
          <p:cNvSpPr txBox="1"/>
          <p:nvPr/>
        </p:nvSpPr>
        <p:spPr>
          <a:xfrm>
            <a:off x="826920" y="1916280"/>
            <a:ext cx="7417080" cy="165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- друг человека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ffff"/>
                </a:solidFill>
                <a:latin typeface="Propisi"/>
              </a:rPr>
              <a:t>Собака  лает, ветер  носит</a:t>
            </a:r>
            <a:endParaRPr b="1" lang="en-US" sz="4000" spc="1" strike="noStrike">
              <a:ln w="9360">
                <a:solidFill>
                  <a:srgbClr val="993300"/>
                </a:solidFill>
                <a:miter/>
              </a:ln>
              <a:solidFill>
                <a:srgbClr val="ffffff"/>
              </a:solidFill>
              <a:latin typeface="Propisi"/>
              <a:ea typeface="Propisi"/>
            </a:endParaRPr>
          </a:p>
        </p:txBody>
      </p:sp>
      <p:pic>
        <p:nvPicPr>
          <p:cNvPr id="71" name="Picture 6" descr="дай лапу"/>
          <p:cNvPicPr/>
          <p:nvPr/>
        </p:nvPicPr>
        <p:blipFill>
          <a:blip r:embed="rId1"/>
          <a:stretch/>
        </p:blipFill>
        <p:spPr>
          <a:xfrm>
            <a:off x="4067280" y="4005360"/>
            <a:ext cx="2106360" cy="216036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0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6" nodeType="after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WordArt 3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80808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Propisi"/>
              </a:rPr>
              <a:t>                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808080"/>
                  </a:gs>
                  <a:gs pos="100000">
                    <a:srgbClr val="ffff00"/>
                  </a:gs>
                </a:gsLst>
                <a:lin ang="5400000"/>
              </a:gradFill>
              <a:latin typeface="Propisi"/>
              <a:ea typeface="Propisi"/>
            </a:endParaRPr>
          </a:p>
        </p:txBody>
      </p:sp>
      <p:sp>
        <p:nvSpPr>
          <p:cNvPr id="74" name="Rectangle 4"/>
          <p:cNvSpPr/>
          <p:nvPr/>
        </p:nvSpPr>
        <p:spPr>
          <a:xfrm>
            <a:off x="684360" y="3141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610920" y="1981080"/>
            <a:ext cx="8281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0000"/>
                </a:solidFill>
                <a:latin typeface="Times New Roman"/>
              </a:rPr>
              <a:t>                        </a:t>
            </a: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План работы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1. Изготовь детали апплика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2. Приклей детали к основе открытк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0000"/>
                </a:solidFill>
                <a:latin typeface="Times New Roman"/>
              </a:rPr>
              <a:t>3. Оформи открытку са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1. Для изготовления головы возьми квадрат из цветной бумаг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3" descr="ап"/>
          <p:cNvPicPr/>
          <p:nvPr/>
        </p:nvPicPr>
        <p:blipFill>
          <a:blip r:embed="rId1"/>
          <a:stretch/>
        </p:blipFill>
        <p:spPr>
          <a:xfrm>
            <a:off x="2843280" y="2133720"/>
            <a:ext cx="3424320" cy="351612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2. Положи квадрат белой стороной кверху и перегни его по диагонал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2" descr="ре"/>
          <p:cNvPicPr/>
          <p:nvPr/>
        </p:nvPicPr>
        <p:blipFill>
          <a:blip r:embed="rId1"/>
          <a:stretch/>
        </p:blipFill>
        <p:spPr>
          <a:xfrm>
            <a:off x="1830240" y="1981080"/>
            <a:ext cx="5481720" cy="411480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3. Загни  правый и левый верхние углы. Как ты уже догадался, это будут уши нашей собак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2" descr="ы"/>
          <p:cNvPicPr/>
          <p:nvPr/>
        </p:nvPicPr>
        <p:blipFill>
          <a:blip r:embed="rId1"/>
          <a:stretch/>
        </p:blipFill>
        <p:spPr>
          <a:xfrm>
            <a:off x="2190600" y="2023920"/>
            <a:ext cx="4762800" cy="402912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00"/>
                </a:solidFill>
                <a:latin typeface="Times New Roman"/>
              </a:rPr>
              <a:t>4. Полностью раскрой ушки и загни нижний угол заготовки 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Picture 15" descr="вт"/>
          <p:cNvPicPr/>
          <p:nvPr/>
        </p:nvPicPr>
        <p:blipFill>
          <a:blip r:embed="rId1"/>
          <a:stretch/>
        </p:blipFill>
        <p:spPr>
          <a:xfrm>
            <a:off x="2190600" y="2252520"/>
            <a:ext cx="4762800" cy="3571920"/>
          </a:xfrm>
          <a:prstGeom prst="rect">
            <a:avLst/>
          </a:prstGeom>
          <a:ln w="0">
            <a:noFill/>
          </a:ln>
        </p:spPr>
      </p:pic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3-31T08:32:45Z</dcterms:modified>
  <cp:revision>38</cp:revision>
  <dc:subject/>
  <dc:title>PowerPoint Presentation</dc:title>
</cp:coreProperties>
</file>