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_rels/slideMaster6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7.jpeg" ContentType="image/jpeg"/>
  <Override PartName="/ppt/media/image28.jpeg" ContentType="image/jpeg"/>
  <Override PartName="/ppt/media/image8.jpeg" ContentType="image/jpeg"/>
  <Override PartName="/ppt/media/image10.jpeg" ContentType="image/jpeg"/>
  <Override PartName="/ppt/media/image29.jpeg" ContentType="image/jpeg"/>
  <Override PartName="/ppt/media/image27.jpeg" ContentType="image/jpeg"/>
  <Override PartName="/ppt/media/type.wav" ContentType="audio/x-wav"/>
  <Override PartName="/ppt/media/image6.jpeg" ContentType="image/jpeg"/>
  <Override PartName="/ppt/media/breeze.wav" ContentType="audio/x-wav"/>
  <Override PartName="/ppt/media/image5.jpeg" ContentType="image/jpeg"/>
  <Override PartName="/ppt/media/image26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1.jpeg" ContentType="image/jpeg"/>
  <Override PartName="/ppt/media/image22.jpeg" ContentType="image/jpeg"/>
  <Override PartName="/ppt/media/image12.jpeg" ContentType="image/jpeg"/>
  <Override PartName="/ppt/media/wind.wav" ContentType="audio/x-wav"/>
  <Override PartName="/ppt/media/image16.jpeg" ContentType="image/jpeg"/>
  <Override PartName="/ppt/media/image13.jpeg" ContentType="image/jpeg"/>
  <Override PartName="/ppt/media/image14.jpeg" ContentType="image/jpeg"/>
  <Override PartName="/ppt/media/image15.jpeg" ContentType="image/jpeg"/>
  <Override PartName="/ppt/media/image17.jpeg" ContentType="image/jpeg"/>
  <Override PartName="/ppt/media/image18.jpeg" ContentType="image/jpeg"/>
  <Override PartName="/ppt/slideLayouts/_rels/slideLayout81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</p:sldMasterIdLst>
  <p:notesMasterIdLst>
    <p:notesMasterId r:id="rId19"/>
  </p:notes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notesMaster" Target="notesMasters/notesMaster1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 type="dt" idx="5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 type="ftr" idx="5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 type="sldNum" idx="5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152B52-8F1D-409F-B292-55FA81BCAAB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ционально - региональный компонен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уроках технолог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ь МОУ СОШ № 61 г. Тюмени Валентина Александровна  Николайчук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2F91E-B18E-496B-B1F1-A43CFEC758C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Создание изделий из текстильных и поделочных материалов (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аппликац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br>
              <a:rPr sz="1200"/>
            </a:b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моя деревня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от мой дом родной,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абушка там ждет меня -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верь скорей открой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8426E-FC32-42F1-A9FD-DADFFE86810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зделий из текстильных и поделочных материалов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(декоративные сувениры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A02898-072A-4ED8-AB87-00D75426E83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зделий из текстильных и поделочных материалов (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ручная вышивка в технике кре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рковь – храм - собор и бытность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дания, что режут глаз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ким б ты ни был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ры иль исповеданья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е  объединяет нас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удь ты русский или мусульманин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ядом мы всегд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, отчизна, и воспоминанья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забуду никогда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139FC-8B40-4098-8181-675F234BF07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зделий из текстильных и поделочных материалов (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ручная вышивка в технике крес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BBA94-FB5D-4F70-BE46-4A7B6C026B50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дел: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роектная деятельность учащихс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Если ребенку ближе очарование Востока с его философией и загадочностью, он может заняться изготовлением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Фантазийного дерева из бисера «Бонсай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(древнее японское искусство)</a:t>
            </a:r>
            <a:br>
              <a:rPr sz="16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Есть деревья с листочками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То береза, сосна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ихта есть и с иголками елоч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А у нас из блестящего бисера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еобычная красот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И пусть ветер неистово серди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Ураган налетает и буря ревет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Это дерево никогда не сломается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Пусть оно не живое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Но все же живе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C6673D-7CE0-485E-884D-AAC3F5A431D4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дел: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ехнология ведения домашнего хозяйств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Формирование культуры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человеческих отношений, освоение умений и знаний в области социальной этики, восстановление и упрочение национальных и семейных тради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Национальные и региональные тради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ри оформлении интерьера жилых помещ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Национальные праздник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обряды, национальная одеж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Региональные 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Национальные  традиции сервировки сто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BE229-D2A4-4E31-B130-B3FA7B8782D9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дел:   </a:t>
            </a: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Традиции народов и национальносте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Празднование «Масленницы» и «Проводы русской зимы»,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зготовление и торговля разными вкусностями, когда все вместе, не зависимо от национальности,  с удовольствием участвуют в мероприятиях, способствующих  единению детей многих национальностей, узнают, сравнивают и сопоставляют традиции и обычаи.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B1301-3E66-48CF-BA15-09E2525D48F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ОЛОГ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Предмет – лучше в школе нашей нет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Вот где можно развернуться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Показать авторите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И национальный и региональны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Мы  всегда  внедряем  компонен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32F2-6AA8-4101-BE29-9C10769ECCD3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едмет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– Технолог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Шить, кроить, готовить вкусн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В доме делать все искусно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стол гостям сервирова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и как должно их принять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вот об этом на уроках мы стремимся все узнать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86AE07-D43D-4B16-A344-01D266F0A8BE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лин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Наша школа много национальн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66ff"/>
                </a:solidFill>
                <a:latin typeface="Calibri"/>
              </a:rPr>
              <a:t>              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ff66ff"/>
                </a:solidFill>
                <a:latin typeface="Calibri"/>
              </a:rPr>
              <a:t> </a:t>
            </a:r>
            <a:r>
              <a:rPr b="1" lang="ru-RU" sz="1100" spc="-1" strike="noStrike">
                <a:solidFill>
                  <a:srgbClr val="ff66ff"/>
                </a:solidFill>
                <a:latin typeface="Calibri"/>
              </a:rPr>
              <a:t>(18 национальностей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ма одних из  последних уроков по кулинарии – приготовление любимых блю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учающиеся с удовольствием готовят  и угощают  товарищей своими национальными блюд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накомят их с  особенностями приготовления национальных блюд, их оформлением и способами подач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казывают о традициях разных народов, национальных праздниках и обряд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CB298-27CD-4706-A07D-1855FD275031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лина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Русская кух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ша рисовая с сухофрукто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Руси каша была самой важной едой – основным блюдом, которым питались люди, независимо от своего социального положения. Без каши не обходился ни один праздник, ей слагали песни и воздавали хвалу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Татарская кух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ак-Чак(тат. чәк-чәк, башк. сәк-сәк) — восточная сладость, представляющая собой изделия из теста с мёдом, и популярная у тюркских народов, особенно в Татарстане и Башкортостане (считается национальным татарским и башкирским блюд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FCDA-7760-48C3-8203-9740C7D6E74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лина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Узбекская кух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плов, манты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шанье всех кушаний — плов.  Существует несколько десятков видов этого блюда: в зависимости от местности — самаркандский,  бухарский, ферганский и другие, в зависимости от назначения и времени года — праздничный,  обыкновенный, летний,  зимний, весенний и т. 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Абхазская кухня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(отварное мясо с острым соусом)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ая кухня абхазов, сохранившая самобытные черты до наших дней, складывалась в процессе многовековой истории народа. Она, свидетельствует об устоявшихся привычках, вкусах, порядке употребления самой пищи и т. д.,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A0031-111A-4A60-9E41-C094EFE7D94C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Кулинария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Армянская кух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ля народной кухни по-прежнему характерно обжаривание мяса на вертеле над раскаленными углями или же варка его большими куск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радиционный хлеб-лаваш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66ff"/>
                </a:solidFill>
                <a:latin typeface="Calibri"/>
              </a:rPr>
              <a:t>Украинская кухня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рщ — классическое свекольное  блюдо, используется в славянских странах, странах восточной и центральной Европы, в частности Украине, России, Польше, Белоруссии, Румынии, Молдав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 борщу можно подать пампушки с чесноком, то есть маленькие булочки, выпеченные из дрожжевого теста. После выпечки пампушки немного охладить, натереть толченым чесноко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4655D-478D-4DEE-8BDA-6F26BEEBCAD8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Кулинар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Calibri"/>
              </a:rPr>
              <a:t>Грузинская кухня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Суп харчо - это грузинский суп из говядины с рисом и грецкими орехами, приготовленный на специальной кислой основе — тклапи—засушенного на солнце пюре из сливы ткемали (алычи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Calibri"/>
              </a:rPr>
              <a:t>Азербайджанская кухня</a:t>
            </a: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юдо из мяса – чахохбил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то блюдо готовят из курицы, иногда - из баранины. Следует отметить, что особенность его приготовления заключается в так называемом сухом обжаривании мяса, без добавления масла или сала, и в тушении без добавления воды. Саму жидкость дают овощи, как правило помидоры, с которыми готовят чахохбили.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18EF6-8319-4977-9C86-A5373B1043A6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изделий из текстильных и поделочных материалов </a:t>
            </a:r>
            <a:r>
              <a:rPr b="0" lang="ru-RU" sz="1200" spc="-1" strike="noStrike">
                <a:solidFill>
                  <a:srgbClr val="ff66ff"/>
                </a:solidFill>
                <a:latin typeface="Calibri"/>
              </a:rPr>
              <a:t>(изготовление изделий с учетом национальных особенностей и тради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03B80-DCB8-419D-8A5B-D6ECC3BA4CFA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Раздел:</a:t>
            </a: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Создание изделий из текстильных и поделочных материалов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                                                 </a:t>
            </a:r>
            <a:r>
              <a:rPr b="0" lang="ru-RU" sz="1600" spc="-1" strike="noStrike">
                <a:solidFill>
                  <a:srgbClr val="ff66ff"/>
                </a:solidFill>
                <a:latin typeface="Calibri"/>
              </a:rPr>
              <a:t>(аппликация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ние лоскутных картин - аппликаций дает полный простор для творческой фантазии художни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Лоскутное шитье издавна известно многим народам. Из пестрых и однотонных кусочков ткани, выкроенных по шаблонам, мастерицы составляют самые разные композиции - мозаичные узоры. Недаром этот вид творчества у нас называют ситцевой или лоскутной мозаик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колепные образцы лоскутных изделий шили мастерицы севера Скандинавии, Русского севера и Сибири, запада США. В Америке лоскутная техника постепенно из необходимости превратилась в любимое занятие очень многих людей и стала национальным видом декоративно-прикладного искусств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57337-B580-4E8C-B62E-9C37E5FD0E97}" type="slidenum">
              <a:rPr b="0" lang="uk-UA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869BE-D9F4-4405-A527-EED517A8DC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D46A4-C0D3-43EB-A750-71F070EC5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1D09F5B-5CB4-4092-994B-D207F50A90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0D5907C-557D-4382-8E74-37E393979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ACACE5-6C12-40DF-B7CF-1168CBFD5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D2D93-ED3E-48BB-A439-C1931B45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D3B0FFD-C548-4832-AA66-7D496D020B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28D41A-98A0-485E-A1D0-E48C2BAAF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B27329-5DFF-498D-8361-E83D74ED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439F19-6FE0-48B0-B007-FF6A2A128B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B8FA748-5299-4D67-8457-3B1032AB1B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DA8A1-04F5-4720-8196-4E2677E878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8A94-AC0D-432B-8B84-4FFD72FAA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30E36D7-E272-4569-AA93-85DC6CE77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185B49F-ABB8-4DE7-86D4-1D0A958A9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D986F9-F0DB-4E9E-996F-DD7399EB6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6C6D5-4348-40BA-B082-AE4B5695C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967B8E-42A9-48AD-9FF0-61572E7D3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E222F5-2462-496D-A6AC-236F75245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6A2F38C-CA54-4EFF-AB22-EE0EBCE10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DEBAD5F-709D-4E0A-B85E-FB13D2A79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08EF92-D00D-4277-8E4B-B55FB2C3B4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0B2CB6-FD22-424B-A6F5-F76DD1715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14C7-8D88-4268-A76B-6E52E71D5A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E087F4-07B5-46C8-ABF2-57B3BD7E58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88CCF5-922D-492E-BE73-69E31E12C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9E0285B-EBD2-4155-9598-409CA6078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8A0C61-1B45-4DBF-BD9C-A9DCC3296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2AF9ACF-AFAF-4A41-9DB9-792B89CC6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EE1FE11-D4F5-4C3C-BF11-440626348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03DCC02-58ED-4BBD-A8D9-B9A7A3A99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112DEB-9BD7-4339-B752-4168FC18C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E281D-8105-4D7E-8FB0-E26441418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EEA0905-61E2-4573-9C9D-429A0C4AC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D4933-A5F3-4CB1-A036-899A6954B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A53410-37B0-4277-ADDD-EECFA68869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E59ED8-0C6C-47F8-AB6C-7B7BA49A6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FECDB4-2C6A-454B-8999-579562C7E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404F293-049B-42C2-A70E-B60176D23C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CE9FCF-84B8-4733-8F76-34031767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E01F26-55A7-423C-A225-EF69C75EF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1F4A62B-C344-4E57-BF1C-2CC5A509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A69009-915D-4EB4-B4BE-E9C8FC1EB8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16ACD56-E313-4006-9753-457B4A263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4D81C47-5918-4C71-9EF9-E5520E769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459CD-8AC9-45BE-A6F2-A77A8078CD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8AAAC0-D8DB-4885-A8F9-09DC51783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6484BC-FCDD-4F0F-814D-35178A557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86039-D164-42E1-99D1-DECF9C12F6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7CAE38-94D1-4827-9872-115C969DA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DE84B9-FC97-41DE-9334-1762F1306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3B97D26-FB85-42C9-9979-D9FC2E2B8E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F5607C-1E8B-4D88-A6D5-384F925D8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FD9238-FCFD-45CB-AF54-93B26CE452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9570AA-278A-4ADF-B1FC-DFDEF5258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0E3EE2-9C59-445A-9123-B55C0E2D9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D11C3-3FF1-49B2-B12C-D34BAA7414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9CE42FA-D8EA-43A5-9706-8EE3A7C77C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9BB42C-6B96-4F84-B23E-1CC2CB98A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16EAE8C-1B3A-4A97-B93C-BF5C5AEF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D4B0A5F-AA99-4CC5-8FB6-3445DA393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A769FD3-0B2A-4D2B-BC09-6D56508B3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DFA197F-074C-46CF-A5CE-BB89DA38D9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AFC663A-E805-4BA7-A3D0-4AC761526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CFA21B9-A045-4A88-96F7-ADD880AC7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371505A-206F-4735-BE84-C50022FFD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E670E1-1806-4320-873D-5BD941540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A10977-F680-42E4-9006-A0170A938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ABE634F-765F-46D1-8D46-8B2714F9B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9618D7E-3735-42A3-934B-E86B1E91F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EB42FEC-97F8-4B37-BE42-FB3276C0F6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418FF3F-FEF7-4567-8165-8E03D276F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696B3D2-2CE9-46EC-8DD3-D2CEF476E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606D7BA-A3A8-45FF-94CB-069EC942E8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4B5559-53CD-4803-B4B0-949F6D752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D3A651-AB9F-4839-981D-071AD87EF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6331D5-920D-41EC-B6A0-D5121B229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664B85D-9C47-4BE3-A3DA-6C06D33BE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46738-A267-4F50-8DFA-6055CBCA5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FE0AACF-72A4-4E81-8296-8F203CA94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1A2530B-968E-4E9A-9588-6634864ECA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9BC1FA4-F461-44B3-B939-4A7DDE87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1452DF-3552-4714-8674-A3D287A3F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EFFA749-6B63-423B-A40C-DA85D63D9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9F7FE5D-8FC3-4CA2-8A21-C5590611A4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37BC897-6713-43BD-B02A-9965EC3911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502AC31-F77B-4568-8394-3CB340868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85E6036-7C5F-4923-B117-7A543165A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1664AED-E024-4715-9762-1F2845BDDE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156C1-4614-4F97-B026-294E4F3914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12D046-3F70-4E82-969D-655C651BA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9EF19FA-7B63-4B70-83BF-D6AA7E4A09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0DCFEA-2790-43D6-822F-105C9303A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5D38882-65D8-4B5C-8C96-81D79E518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3165359-73B7-4094-85BB-8E533ECE9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CE32CCC-6078-43EE-9C5B-7EE8EAA71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4E72165-33FC-4D1D-92B4-633B16223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EB5640F-A675-4E4D-824C-1C09282135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04EE9A4-CECD-4F69-98A3-753422086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CCF5B6-7F80-46F0-B834-91EA86899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C9FA6-1D36-4E26-A2D5-C0E113A73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B3B7AED-5850-4F2A-BB8B-F94BD63AC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A4AE679-EFFE-40C7-80F7-78C341FBC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5F18B0-679E-4BA9-AEBA-A7FCB0BF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4BE6DDB-8B96-4753-A32B-DCACE9367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D9E7E4-1862-496B-8607-61E0EAF74F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390F038-3B45-4DB5-922C-75929A100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7F53E22-A9B8-450D-A3EB-6AC79D26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170B64-1435-47AE-B4BD-590289392F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7BDA9DE-2B7D-4F15-B193-38B15A5A73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3726505-55A1-4940-A1C7-FBF84C43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1C1C-4A74-44D7-8977-FB99D2A58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B6F57-04EC-4618-B554-537B7E9977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EA13399-DF81-4ADA-B0B6-57629EAC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261C72-D53C-4B88-BC5C-EBD9FC195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A64DB53-ED43-4C32-A17A-6BE4B7BEA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AFB7848-E25E-4F96-9E4A-09AF7F901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B7972A6-BAED-4ABC-99FC-9CBAFA104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0CD8-A530-4605-AFD3-A20CA98DE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1B4A48-74F7-4E75-B80F-97074C84C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3B781-021B-4C78-AB9C-A80B6F437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F8EA-FA3B-4749-9AC3-6B14644F3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1D664-CBEA-4BB6-9E7C-B473D2F3F5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27EE58E-E674-4A67-8107-017C03E01A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6A622F-C091-4215-919B-4FF47EFE8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3857C6-698C-4519-A7BE-0D69D16A0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120441-30B8-4A13-A6E9-146D05955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D1E4-933A-4840-A51B-A5245F5E6D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9C2C5-0F53-4D20-9508-9728E9FAE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4EBAF7-C97D-4838-BD3E-74C043B0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E91CBC-9F6A-4389-AB98-2B34245EA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46914F-4F79-4332-971A-96F8586F2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DCB257F-4D2A-4225-BE27-3DF0BD806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AF89B8-8BA7-4C7E-8D21-7756876E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A04F7A-A040-4864-B890-3EC2597D2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8FD914-3E42-44C7-80EE-6DD117C41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66D418-77A9-49D1-BB97-31D5D321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F2BAE7E-2C54-4548-B21B-6B9045F043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9423-88A4-4329-B795-BAF65DF1B7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D29F1E-B6D7-477A-82B3-D3EB71B5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76DA7-FF37-456E-9EB4-A8837E826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AB76E7-79B4-44AA-AA85-0C22663F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5ABCCD8-855B-4D76-84E0-750F4EBE9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7C6E3F-6E1C-4EEF-AFD4-09392E919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856FF9-7CE1-494B-ADBE-FF787BC97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A317E1-4865-44A5-96E5-22DF95E20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908BA7-C63E-48D6-9AFC-C733CD5E73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7001E7-9E5D-49D5-A338-15781188D5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D7C7486-9DE1-47E0-97C9-96D71D1431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14EBA-FC12-44B3-A1E8-90328686C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79ACE03-69D4-462D-873F-C8A03E158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81BC5D5-0EF7-4231-BA95-65C6B98C20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55E33C5-46D6-478F-BA1A-A3CB801E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34BBD9-B76D-49B8-9E8F-E225F35CA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05A2E9-7B7B-466F-AD45-87CF6C55E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559C63-236A-4A71-9CB5-FC3FFBEB4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158B0-83D7-40A6-906A-77A255B18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EA6901-3E22-4471-8DA8-59AC28EB6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5C05FA-1370-464C-B0DF-A22C59B04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97A2D7-9B77-4355-8AC3-D3F800346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79E58-44F0-4C7A-9C14-E1A045740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BEBD624-8BDC-4FB1-ACE8-23EB9D54DC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F9F59A5-0F74-491E-81AC-99FD683EAA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A39E19-F639-488F-AD78-A00B4EA4E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EEA9ABC-8466-402E-B9FF-5B62C5ED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DFA01E-C8F1-4E31-91DA-2155660A73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8382941-AC9E-4A97-AFF1-3054FDD0C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CA0610-5C82-421A-A129-FDF9D58E3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8AE0D3-720E-4302-BF0E-34E9B1791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FC96D0-0297-43FE-9B1D-57C2733EF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91772A-F9C5-4A10-B803-EB6704A35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BF3B3-50F2-430E-B197-58FBBB933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E2792B-6CA0-42C5-A5E4-00B5DB96C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51B432-E9AF-424C-8632-4323C3B1BC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9005E16-0FB4-46B1-A29A-FACC0EC7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FE1567-D6E2-4AFF-A6E7-277393859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8AC358-DC7E-4C1B-99D7-BC374EB58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6C3DED-2489-4700-9B12-E9524593F4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4D90911-6CC5-4CA1-B9CA-80F02437B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4D537-2EC2-4BE4-A2BE-CDE208983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83A7526-32D1-433B-8018-F4133F8E3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6654DA-84E3-4341-BA99-5FDB71299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29153-4EFC-4B36-8CE5-0AC8F3D63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F39F664-6BE6-4AD0-BAA7-8C462725A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1837C4-0619-4867-A3BE-740A7D5DA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B505B2-5582-44BC-B5B2-55C345492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47ACCB9-56A3-4C41-AC90-748725D2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B1BC8F-599B-4ADF-805E-405F8EA9E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EB3EB4-247F-4FAF-ADB3-160BE288B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4B5A3A9-62CA-4B2A-8944-6C4BED3B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009BB1-3E48-4B5E-8C0F-9DCDA958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66A251-6922-47BD-AC56-27E66A57E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21988-43EC-468E-9569-FDD18C01ED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6C21-25CD-4A03-9CF0-5E484AA6FB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D7BBCE-9BD0-4E17-945C-628837B1C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12F009-24A2-47CD-BF17-AB0395B63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B9D07B4-52C1-4381-9B52-E14C07ACF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14170C-85A0-45E4-9ACA-0BC30BF56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4FDF4D9-F39D-4DE2-9796-F201BDE1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CF33FD-CB3A-432A-A9F6-1C60321FB5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E3CCFF-25F3-4BF3-BB27-1AFF54C7ED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EB5E86-58AB-4BA3-BC21-A8356556EE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D4999E1-5BE6-4257-9190-B9F71D17C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E2890-5A88-422A-B8B2-27F4DCCCA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A5F9-9755-40BB-AE34-C6FC7D1994D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098E49-5029-4D81-9C61-9843A73E1B2B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E64508-4995-4646-AB3E-35FE766D2B5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392530-F8B3-4880-B6CF-992CA9177F41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2B185-397B-423C-8D2D-A5ECE76D328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85D0-6816-43DC-9D0A-3ECD33546854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7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8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6536ED-E04E-4FF3-9F49-868CF7620019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8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9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6973A-EA1D-4AF4-88FE-BE613BB1123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330DFA-FA8D-4660-B56D-BD69D8A0CDC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FF652-48CE-45C1-8536-5C9C9E9BD8D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480B2-7704-4E42-A7D1-94CCDF2C277E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5FCEA5-78D9-491E-A183-111B1B617ED3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32583-5D1A-4D69-B752-DA6C9D01E6E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08A08-678C-40AD-99EB-293E989F5D76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6B2B7-EDBE-4F67-A362-164F16B26E7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0925A-F4D9-4D7E-A4D0-AB67C5B2D0C2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A48FF-7D3A-4CD5-92C3-91DCF4374BC0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2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49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93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audio" Target="../media/breeze.wav"/><Relationship Id="rId3" Type="http://schemas.openxmlformats.org/officeDocument/2006/relationships/slideLayout" Target="../slideLayouts/slideLayout145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93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81.xml"/><Relationship Id="rId6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breeze.wav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2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57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2.png"/><Relationship Id="rId4" Type="http://schemas.openxmlformats.org/officeDocument/2006/relationships/audio" Target="../media/type.wav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2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8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image" Target="../media/image2.png"/><Relationship Id="rId4" Type="http://schemas.openxmlformats.org/officeDocument/2006/relationships/audio" Target="../media/breeze.wav"/><Relationship Id="rId5" Type="http://schemas.openxmlformats.org/officeDocument/2006/relationships/slideLayout" Target="../slideLayouts/slideLayout18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2.png"/><Relationship Id="rId4" Type="http://schemas.openxmlformats.org/officeDocument/2006/relationships/audio" Target="../media/wind.wav"/><Relationship Id="rId5" Type="http://schemas.openxmlformats.org/officeDocument/2006/relationships/slideLayout" Target="../slideLayouts/slideLayout169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2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25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2.png"/><Relationship Id="rId3" Type="http://schemas.openxmlformats.org/officeDocument/2006/relationships/audio" Target="../media/breeze.wav"/><Relationship Id="rId4" Type="http://schemas.openxmlformats.org/officeDocument/2006/relationships/slideLayout" Target="../slideLayouts/slideLayout145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685800" y="476280"/>
            <a:ext cx="7772400" cy="3029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ационально - региональный компонент </a:t>
            </a:r>
            <a:br>
              <a:rPr sz="4400"/>
            </a:b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на уроках технологии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1371600" y="4292280"/>
            <a:ext cx="7448400" cy="134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читель МОУ СОШ № 61 г. Тюмени Валентина Александровна  Николайчук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06" name="~PP23928.WAV" descr=""/>
          <p:cNvPicPr/>
          <p:nvPr/>
        </p:nvPicPr>
        <p:blipFill>
          <a:blip r:embed="rId1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0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7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4500720" cy="256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Создание изделий из текстильных и поделочных материалов (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аппликация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)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от моя деревня,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Вот мой дом родной,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Бабушка там ждет меня - 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Дверь скорей открой.</a:t>
            </a:r>
            <a:br>
              <a:rPr sz="2400"/>
            </a:b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2" name="Picture 10" descr="DSC01431"/>
          <p:cNvPicPr/>
          <p:nvPr/>
        </p:nvPicPr>
        <p:blipFill>
          <a:blip r:embed="rId1"/>
          <a:srcRect l="15502" t="0" r="11073" b="0"/>
          <a:stretch/>
        </p:blipFill>
        <p:spPr>
          <a:xfrm>
            <a:off x="5219640" y="0"/>
            <a:ext cx="3924360" cy="335772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7" descr="DSC01429"/>
          <p:cNvPicPr/>
          <p:nvPr/>
        </p:nvPicPr>
        <p:blipFill>
          <a:blip r:embed="rId2"/>
          <a:stretch/>
        </p:blipFill>
        <p:spPr>
          <a:xfrm>
            <a:off x="179280" y="2997360"/>
            <a:ext cx="5688000" cy="3860640"/>
          </a:xfrm>
          <a:prstGeom prst="rect">
            <a:avLst/>
          </a:prstGeom>
          <a:ln w="0">
            <a:noFill/>
          </a:ln>
        </p:spPr>
      </p:pic>
      <p:pic>
        <p:nvPicPr>
          <p:cNvPr id="754" name="Национально региональный266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0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1" fill="hold"/>
                                        <p:tgtEl>
                                          <p:spTgt spid="75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4608720" cy="115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оздание изделий из текстильных и поделочных материалов 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(декоративные сувениры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57" name="Picture 9" descr="DSC01437"/>
          <p:cNvPicPr/>
          <p:nvPr/>
        </p:nvPicPr>
        <p:blipFill>
          <a:blip r:embed="rId1"/>
          <a:stretch/>
        </p:blipFill>
        <p:spPr>
          <a:xfrm>
            <a:off x="5614920" y="3618000"/>
            <a:ext cx="3529080" cy="324000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14" descr="DSC01105"/>
          <p:cNvPicPr/>
          <p:nvPr/>
        </p:nvPicPr>
        <p:blipFill>
          <a:blip r:embed="rId2"/>
          <a:stretch/>
        </p:blipFill>
        <p:spPr>
          <a:xfrm>
            <a:off x="4643280" y="189000"/>
            <a:ext cx="3529080" cy="324000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7" descr="Фото025"/>
          <p:cNvPicPr/>
          <p:nvPr/>
        </p:nvPicPr>
        <p:blipFill>
          <a:blip r:embed="rId3"/>
          <a:stretch/>
        </p:blipFill>
        <p:spPr>
          <a:xfrm>
            <a:off x="0" y="1601640"/>
            <a:ext cx="4537080" cy="5256360"/>
          </a:xfrm>
          <a:prstGeom prst="rect">
            <a:avLst/>
          </a:prstGeom>
          <a:ln w="0">
            <a:noFill/>
          </a:ln>
        </p:spPr>
      </p:pic>
      <p:sp>
        <p:nvSpPr>
          <p:cNvPr id="7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24" dur="indefinite" restart="never" nodeType="tmRoot">
          <p:childTnLst>
            <p:seq>
              <p:cTn id="325" dur="indefinite" nodeType="mainSeq">
                <p:childTnLst>
                  <p:par>
                    <p:cTn id="326" nodeType="clickEffect" fill="hold">
                      <p:stCondLst>
                        <p:cond delay="0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оздание изделий из текстильных и поделочных материалов (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ручная вышивка в технике крест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0" y="1197000"/>
            <a:ext cx="4067280" cy="54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Церковь – храм - собор и бытность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Здания, что режут глаз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Каким б ты ни был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еры иль исповеданья-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Все  объединяет нас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Будь ты русский или мусульманин,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ядом мы всегда,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Дом, отчизна, и воспоминанья -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Не забуду никогда…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63" name="Picture 13" descr="DSC01427"/>
          <p:cNvPicPr/>
          <p:nvPr/>
        </p:nvPicPr>
        <p:blipFill>
          <a:blip r:embed="rId1"/>
          <a:srcRect l="4921" t="5536" r="12303" b="5536"/>
          <a:stretch/>
        </p:blipFill>
        <p:spPr>
          <a:xfrm>
            <a:off x="4211640" y="1341360"/>
            <a:ext cx="4681440" cy="5256360"/>
          </a:xfrm>
          <a:prstGeom prst="rect">
            <a:avLst/>
          </a:prstGeom>
          <a:ln w="0">
            <a:noFill/>
          </a:ln>
        </p:spPr>
      </p:pic>
      <p:sp>
        <p:nvSpPr>
          <p:cNvPr id="7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0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7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3" dur="1000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7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6" nodeType="clickEffect" fill="hold">
                      <p:stCondLst>
                        <p:cond delay="indefinite"/>
                      </p:stCondLst>
                      <p:childTnLst>
                        <p:par>
                          <p:cTn id="3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0" dur="1000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1000" fill="hold"/>
                                        <p:tgtEl>
                                          <p:spTgt spid="7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7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nodeType="clickEffect" fill="hold">
                      <p:stCondLst>
                        <p:cond delay="indefinite"/>
                      </p:stCondLst>
                      <p:childTnLst>
                        <p:par>
                          <p:cTn id="3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4" dur="1000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76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1" dur="1000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2" dur="1000" fill="hold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76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1000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76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nodeType="clickEffect" fill="hold">
                      <p:stCondLst>
                        <p:cond delay="indefinite"/>
                      </p:stCondLst>
                      <p:childTnLst>
                        <p:par>
                          <p:cTn id="3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5" dur="1000"/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76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nodeType="clickEffect" fill="hold">
                      <p:stCondLst>
                        <p:cond delay="indefinite"/>
                      </p:stCondLst>
                      <p:childTnLst>
                        <p:par>
                          <p:cTn id="3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/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76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оздание изделий из текстильных и поделочных материалов (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ручная вышивка в технике крест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66" name="Picture 7" descr="DSC01422"/>
          <p:cNvPicPr/>
          <p:nvPr/>
        </p:nvPicPr>
        <p:blipFill>
          <a:blip r:embed="rId1"/>
          <a:srcRect l="4429" t="0" r="0" b="0"/>
          <a:stretch/>
        </p:blipFill>
        <p:spPr>
          <a:xfrm>
            <a:off x="112680" y="1700280"/>
            <a:ext cx="4890960" cy="4465440"/>
          </a:xfrm>
          <a:prstGeom prst="rect">
            <a:avLst/>
          </a:prstGeom>
          <a:ln w="0">
            <a:noFill/>
          </a:ln>
        </p:spPr>
      </p:pic>
      <p:pic>
        <p:nvPicPr>
          <p:cNvPr id="767" name="Picture 8" descr="DSC01424"/>
          <p:cNvPicPr/>
          <p:nvPr/>
        </p:nvPicPr>
        <p:blipFill>
          <a:blip r:embed="rId2"/>
          <a:stretch/>
        </p:blipFill>
        <p:spPr>
          <a:xfrm>
            <a:off x="5219640" y="1413000"/>
            <a:ext cx="3745080" cy="2663640"/>
          </a:xfrm>
          <a:prstGeom prst="rect">
            <a:avLst/>
          </a:prstGeom>
          <a:ln w="0">
            <a:noFill/>
          </a:ln>
        </p:spPr>
      </p:pic>
      <p:pic>
        <p:nvPicPr>
          <p:cNvPr id="768" name="Picture 10" descr="DSC01417"/>
          <p:cNvPicPr/>
          <p:nvPr/>
        </p:nvPicPr>
        <p:blipFill>
          <a:blip r:embed="rId3"/>
          <a:srcRect l="0" t="5906" r="4429" b="0"/>
          <a:stretch/>
        </p:blipFill>
        <p:spPr>
          <a:xfrm>
            <a:off x="5346720" y="4232160"/>
            <a:ext cx="3797280" cy="2436840"/>
          </a:xfrm>
          <a:prstGeom prst="rect">
            <a:avLst/>
          </a:prstGeom>
          <a:ln w="0">
            <a:noFill/>
          </a:ln>
        </p:spPr>
      </p:pic>
      <p:sp>
        <p:nvSpPr>
          <p:cNvPr id="7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здел: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Проектная деятельность учащихс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700000" y="765000"/>
            <a:ext cx="4032360" cy="583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ahoma"/>
              </a:rPr>
              <a:t>Если ребенку ближе очарование Востока с его философией и загадочностью, он может заняться изготовлением 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Фантазийного дерева из бисера «Бонсай»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(древнее японское искусство)</a:t>
            </a:r>
            <a:br>
              <a:rPr sz="24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Есть деревья с листочками 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То береза, сосна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ихта есть и с иголками елоч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А у нас из блестящего бисера -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Необычная красота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И пусть ветер неистово сердитс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Ураган налетает и буря ревет,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Это дерево никогда не сломается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Пусть оно не живое,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Tahoma"/>
              </a:rPr>
              <a:t>Но все же живет!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 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2" name="Содержимое 6" descr="Фото019.jpg"/>
          <p:cNvPicPr/>
          <p:nvPr/>
        </p:nvPicPr>
        <p:blipFill>
          <a:blip r:embed="rId1"/>
          <a:stretch/>
        </p:blipFill>
        <p:spPr>
          <a:xfrm>
            <a:off x="179280" y="1197000"/>
            <a:ext cx="2448000" cy="2952720"/>
          </a:xfrm>
          <a:prstGeom prst="rect">
            <a:avLst/>
          </a:prstGeom>
          <a:ln w="0">
            <a:noFill/>
          </a:ln>
        </p:spPr>
      </p:pic>
      <p:pic>
        <p:nvPicPr>
          <p:cNvPr id="773" name="Содержимое 7" descr="Фото018.jpg"/>
          <p:cNvPicPr/>
          <p:nvPr/>
        </p:nvPicPr>
        <p:blipFill>
          <a:blip r:embed="rId2"/>
          <a:stretch/>
        </p:blipFill>
        <p:spPr>
          <a:xfrm>
            <a:off x="6516720" y="3573360"/>
            <a:ext cx="2376360" cy="3132360"/>
          </a:xfrm>
          <a:prstGeom prst="rect">
            <a:avLst/>
          </a:prstGeom>
          <a:ln w="0">
            <a:noFill/>
          </a:ln>
        </p:spPr>
      </p:pic>
      <p:sp>
        <p:nvSpPr>
          <p:cNvPr id="7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413" dur="indefinite" restart="never" nodeType="tmRoot">
          <p:childTnLst>
            <p:seq>
              <p:cTn id="414" dur="indefinite" nodeType="mainSeq">
                <p:childTnLst>
                  <p:par>
                    <p:cTn id="415" nodeType="clickEffect" fill="hold">
                      <p:stCondLst>
                        <p:cond delay="0"/>
                      </p:stCondLst>
                      <p:childTnLst>
                        <p:par>
                          <p:cTn id="4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nodeType="clickEffect" fill="hold">
                      <p:stCondLst>
                        <p:cond delay="indefinite"/>
                      </p:stCondLst>
                      <p:childTnLst>
                        <p:par>
                          <p:cTn id="4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nodeType="clickEffect" fill="hold">
                      <p:stCondLst>
                        <p:cond delay="indefinite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nodeType="clickEffect" fill="hold">
                      <p:stCondLst>
                        <p:cond delay="indefinite"/>
                      </p:stCondLst>
                      <p:childTnLst>
                        <p:par>
                          <p:cTn id="4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nodeType="clickEffect" fill="hold">
                      <p:stCondLst>
                        <p:cond delay="indefinite"/>
                      </p:stCondLst>
                      <p:childTnLst>
                        <p:par>
                          <p:cTn id="4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nodeType="clickEffect" fill="hold">
                      <p:stCondLst>
                        <p:cond delay="indefinite"/>
                      </p:stCondLst>
                      <p:childTnLst>
                        <p:par>
                          <p:cTn id="4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nodeType="clickEffect" fill="hold">
                      <p:stCondLst>
                        <p:cond delay="indefinite"/>
                      </p:stCondLst>
                      <p:childTnLst>
                        <p:par>
                          <p:cTn id="4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nodeType="clickEffect" fill="hold">
                      <p:stCondLst>
                        <p:cond delay="indefinite"/>
                      </p:stCondLst>
                      <p:childTnLst>
                        <p:par>
                          <p:cTn id="5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nodeType="clickEffect" fill="hold">
                      <p:stCondLst>
                        <p:cond delay="indefinite"/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  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Технология ведения домашнего хозяйства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250560" y="1196640"/>
            <a:ext cx="3384360" cy="51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Tahoma"/>
              </a:rPr>
              <a:t>Формирование культуры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человеческих отношений, освоение умений и знаний в области социальной этики, восстановление и упрочение национальных и семейных традиц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Tahoma"/>
              </a:rPr>
              <a:t>Национальные и региональные традици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при оформлении интерьера жилых помещений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Tahoma"/>
              </a:rPr>
              <a:t>Национальные праздник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 обряды, национальная одежд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Tahoma"/>
              </a:rPr>
              <a:t>Региональные и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Национальные  традиции сервировки стола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77" name="Picture 0" descr="люлька"/>
          <p:cNvPicPr/>
          <p:nvPr/>
        </p:nvPicPr>
        <p:blipFill>
          <a:blip r:embed="rId1"/>
          <a:stretch/>
        </p:blipFill>
        <p:spPr>
          <a:xfrm>
            <a:off x="4067280" y="907920"/>
            <a:ext cx="4608360" cy="2837160"/>
          </a:xfrm>
          <a:prstGeom prst="rect">
            <a:avLst/>
          </a:prstGeom>
          <a:ln w="0">
            <a:noFill/>
          </a:ln>
        </p:spPr>
      </p:pic>
      <p:pic>
        <p:nvPicPr>
          <p:cNvPr id="778" name="Picture 1" descr="комната"/>
          <p:cNvPicPr/>
          <p:nvPr/>
        </p:nvPicPr>
        <p:blipFill>
          <a:blip r:embed="rId2"/>
          <a:stretch/>
        </p:blipFill>
        <p:spPr>
          <a:xfrm>
            <a:off x="4067280" y="3933720"/>
            <a:ext cx="4681440" cy="2924280"/>
          </a:xfrm>
          <a:prstGeom prst="rect">
            <a:avLst/>
          </a:prstGeom>
          <a:ln w="0">
            <a:noFill/>
          </a:ln>
        </p:spPr>
      </p:pic>
      <p:sp>
        <p:nvSpPr>
          <p:cNvPr id="7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0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2000" fill="hold"/>
                                        <p:tgtEl>
                                          <p:spTgt spid="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nodeType="clickEffect" fill="hold">
                      <p:stCondLst>
                        <p:cond delay="indefinite"/>
                      </p:stCondLst>
                      <p:childTnLst>
                        <p:par>
                          <p:cTn id="5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nodeType="clickEffect" fill="hold">
                      <p:stCondLst>
                        <p:cond delay="indefinite"/>
                      </p:stCondLst>
                      <p:childTnLst>
                        <p:par>
                          <p:cTn id="5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nodeType="clickEffect" fill="hold">
                      <p:stCondLst>
                        <p:cond delay="indefinite"/>
                      </p:stCondLst>
                      <p:childTnLst>
                        <p:par>
                          <p:cTn id="5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здел:   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Традиции народов и национальностей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3059280" y="691920"/>
            <a:ext cx="6084720" cy="187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66ff"/>
                </a:solidFill>
                <a:latin typeface="Tahoma"/>
              </a:rPr>
              <a:t>Празднование «Масленницы» и «Проводы русской зимы»,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изготовление и торговля разными вкусностями, когда все вместе, не зависимо от национальности,  с удовольствием участвуют в мероприятиях, способствующих  единению детей многих национальностей, узнают, сравнивают и сопоставляют традиции и обычаи.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82" name="Рисунок 2" descr="D:\Documents\8-В\торговля 2.jpg"/>
          <p:cNvPicPr/>
          <p:nvPr/>
        </p:nvPicPr>
        <p:blipFill>
          <a:blip r:embed="rId1"/>
          <a:srcRect l="12114" t="0" r="0" b="0"/>
          <a:stretch/>
        </p:blipFill>
        <p:spPr>
          <a:xfrm>
            <a:off x="179280" y="1844640"/>
            <a:ext cx="3227400" cy="4861080"/>
          </a:xfrm>
          <a:prstGeom prst="rect">
            <a:avLst/>
          </a:prstGeom>
          <a:ln w="0">
            <a:noFill/>
          </a:ln>
        </p:spPr>
      </p:pic>
      <p:pic>
        <p:nvPicPr>
          <p:cNvPr id="783" name="Рисунок 1" descr="D:\Documents\8-В\чучело пасхи.jpg"/>
          <p:cNvPicPr/>
          <p:nvPr/>
        </p:nvPicPr>
        <p:blipFill>
          <a:blip r:embed="rId2"/>
          <a:srcRect l="24160" t="0" r="0" b="16159"/>
          <a:stretch/>
        </p:blipFill>
        <p:spPr>
          <a:xfrm>
            <a:off x="3203640" y="3114720"/>
            <a:ext cx="2349360" cy="3743280"/>
          </a:xfrm>
          <a:prstGeom prst="rect">
            <a:avLst/>
          </a:prstGeom>
          <a:ln w="0">
            <a:noFill/>
          </a:ln>
        </p:spPr>
      </p:pic>
      <p:pic>
        <p:nvPicPr>
          <p:cNvPr id="784" name="Picture 3" descr="D:\Documents\8-В\торг. 2.jpg"/>
          <p:cNvPicPr/>
          <p:nvPr/>
        </p:nvPicPr>
        <p:blipFill>
          <a:blip r:embed="rId3"/>
          <a:srcRect l="9431" t="0" r="0" b="0"/>
          <a:stretch/>
        </p:blipFill>
        <p:spPr>
          <a:xfrm>
            <a:off x="5580000" y="2708280"/>
            <a:ext cx="3384720" cy="4149720"/>
          </a:xfrm>
          <a:prstGeom prst="rect">
            <a:avLst/>
          </a:prstGeom>
          <a:ln w="0">
            <a:noFill/>
          </a:ln>
        </p:spPr>
      </p:pic>
      <p:sp>
        <p:nvSpPr>
          <p:cNvPr id="7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0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6" dur="5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1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2" dur="500" fill="hold"/>
                                        <p:tgtEl>
                                          <p:spTgt spid="7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e5ffff"/>
                </a:solidFill>
                <a:latin typeface="Tahoma"/>
              </a:rPr>
              <a:t>ТЕХНОЛОГИЯ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Предмет – лучше в школе нашей нет!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Вот где можно развернуться,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Показать авторите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И национальный и региональный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66ff"/>
                </a:solidFill>
                <a:latin typeface="Tahoma"/>
              </a:rPr>
              <a:t>Мы  всегда  внедряем  компонент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573" dur="indefinite" restart="never" nodeType="tmRoot">
          <p:childTnLst>
            <p:seq>
              <p:cTn id="574" dur="indefinite" nodeType="mainSeq">
                <p:childTnLst>
                  <p:par>
                    <p:cTn id="575" nodeType="clickEffect" fill="hold">
                      <p:stCondLst>
                        <p:cond delay="0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8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8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8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2" dur="800" fill="hold"/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9" dur="1000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0" dur="10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7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nodeType="clickEffect" fill="hold">
                      <p:stCondLst>
                        <p:cond delay="indefinite"/>
                      </p:stCondLst>
                      <p:childTnLst>
                        <p:par>
                          <p:cTn id="5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6" dur="1000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7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1000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4" dur="1000" fill="hold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1000" fill="hold"/>
                                        <p:tgtEl>
                                          <p:spTgt spid="7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6" nodeType="clickEffect" fill="hold">
                      <p:stCondLst>
                        <p:cond delay="indefinite"/>
                      </p:stCondLst>
                      <p:childTnLst>
                        <p:par>
                          <p:cTn id="6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1" dur="1000" fill="hold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2" dur="1000" fill="hold"/>
                                        <p:tgtEl>
                                          <p:spTgt spid="7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7" dur="1000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7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3635280" y="188640"/>
            <a:ext cx="5051520" cy="718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Предмет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– Технология </a:t>
            </a:r>
            <a:endParaRPr b="0" lang="en-US" sz="28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259920"/>
            <a:ext cx="339408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Шить, кроить, готовить вкусно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В доме делать все искусно,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стол гостям сервировать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и как должно их принять –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  </a:t>
            </a:r>
            <a:r>
              <a:rPr b="0" lang="ru-RU" sz="2800" spc="-1" strike="noStrike">
                <a:solidFill>
                  <a:srgbClr val="ff66ff"/>
                </a:solidFill>
                <a:latin typeface="Tahoma"/>
              </a:rPr>
              <a:t>вот об этом на уроках мы стремимся все узнать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0" name="Picture 8" descr="стол экибана"/>
          <p:cNvPicPr/>
          <p:nvPr/>
        </p:nvPicPr>
        <p:blipFill>
          <a:blip r:embed="rId1"/>
          <a:stretch/>
        </p:blipFill>
        <p:spPr>
          <a:xfrm>
            <a:off x="3924360" y="1268280"/>
            <a:ext cx="5219640" cy="4753080"/>
          </a:xfrm>
          <a:prstGeom prst="rect">
            <a:avLst/>
          </a:prstGeom>
          <a:ln w="0">
            <a:noFill/>
          </a:ln>
        </p:spPr>
      </p:pic>
      <p:pic>
        <p:nvPicPr>
          <p:cNvPr id="711" name="~PP2392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1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1" fill="hold"/>
                                        <p:tgtEl>
                                          <p:spTgt spid="7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68000" y="259920"/>
            <a:ext cx="5327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3600" spc="-1" strike="noStrike">
                <a:solidFill>
                  <a:srgbClr val="e5ffff"/>
                </a:solidFill>
                <a:latin typeface="Tahoma"/>
              </a:rPr>
              <a:t>Кулинария</a:t>
            </a:r>
            <a:endParaRPr b="0" lang="en-US" sz="36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867280" y="333000"/>
            <a:ext cx="3097440" cy="626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Наша школа много национальн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Tahoma"/>
              </a:rPr>
              <a:t>              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ff"/>
                </a:solidFill>
                <a:latin typeface="Tahoma"/>
              </a:rPr>
              <a:t> </a:t>
            </a:r>
            <a:r>
              <a:rPr b="1" lang="ru-RU" sz="1600" spc="-1" strike="noStrike">
                <a:solidFill>
                  <a:srgbClr val="ff66ff"/>
                </a:solidFill>
                <a:latin typeface="Tahoma"/>
              </a:rPr>
              <a:t>(18 национальностей)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ема одних из  последних уроков по кулинарии – приготовление любимых блю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Обучающиеся с удовольствием готовят  и угощают  товарищей своими национальными блюда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Знакомят их с  особенностями приготовления национальных блюд, их оформлением и способами подач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Рассказывают о традициях разных народов, национальных праздниках и обрядах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15" name="Picture 10" descr="Изображение3в 001"/>
          <p:cNvPicPr/>
          <p:nvPr/>
        </p:nvPicPr>
        <p:blipFill>
          <a:blip r:embed="rId1"/>
          <a:srcRect l="0" t="7395" r="0" b="7352"/>
          <a:stretch/>
        </p:blipFill>
        <p:spPr>
          <a:xfrm>
            <a:off x="0" y="1700280"/>
            <a:ext cx="5867280" cy="4392720"/>
          </a:xfrm>
          <a:prstGeom prst="rect">
            <a:avLst/>
          </a:prstGeom>
          <a:ln w="0">
            <a:noFill/>
          </a:ln>
        </p:spPr>
      </p:pic>
      <p:pic>
        <p:nvPicPr>
          <p:cNvPr id="716" name="Национально региональный26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1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0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" dur="1" fill="hold"/>
                                        <p:tgtEl>
                                          <p:spTgt spid="71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7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7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7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7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7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7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7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250560" y="188640"/>
            <a:ext cx="8435880" cy="36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Кулинар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179280" y="836640"/>
            <a:ext cx="4316400" cy="568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Рус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аша рисовая с сухофрукто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На Руси каша была самой важной едой – основным блюдом, которым питались люди, независимо от своего социального положения. Без каши не обходился ни один праздник, ей слагали песни и воздавали хвалу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Татар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ак-Чак(тат. чәк-чәк, башк. сәк-сәк) — восточная сладость, представляющая собой изделия из теста с мёдом, и популярная у тюркских народов, особенно в Татарстане и Башкортостане (считается национальным татарским и башкирским блюдом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0" name="Picture 11" descr="русская, каша"/>
          <p:cNvPicPr/>
          <p:nvPr/>
        </p:nvPicPr>
        <p:blipFill>
          <a:blip r:embed="rId1"/>
          <a:stretch/>
        </p:blipFill>
        <p:spPr>
          <a:xfrm>
            <a:off x="4500720" y="836640"/>
            <a:ext cx="4319280" cy="2663640"/>
          </a:xfrm>
          <a:prstGeom prst="rect">
            <a:avLst/>
          </a:prstGeom>
          <a:ln w="0">
            <a:noFill/>
          </a:ln>
        </p:spPr>
      </p:pic>
      <p:pic>
        <p:nvPicPr>
          <p:cNvPr id="721" name="Picture 14" descr="чак-чак"/>
          <p:cNvPicPr/>
          <p:nvPr/>
        </p:nvPicPr>
        <p:blipFill>
          <a:blip r:embed="rId2"/>
          <a:stretch/>
        </p:blipFill>
        <p:spPr>
          <a:xfrm>
            <a:off x="4500720" y="3860640"/>
            <a:ext cx="4248000" cy="2737080"/>
          </a:xfrm>
          <a:prstGeom prst="rect">
            <a:avLst/>
          </a:prstGeom>
          <a:ln w="0">
            <a:noFill/>
          </a:ln>
        </p:spPr>
      </p:pic>
      <p:pic>
        <p:nvPicPr>
          <p:cNvPr id="722" name="Национально региональный262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0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" dur="1" fill="hold"/>
                                        <p:tgtEl>
                                          <p:spTgt spid="72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1000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7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7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7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7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nodeType="clickEffect" fill="hold">
                      <p:stCondLst>
                        <p:cond delay="indefinite"/>
                      </p:stCondLst>
                      <p:childTnLst>
                        <p:par>
                          <p:cTn id="1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1000"/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7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23640" y="188640"/>
            <a:ext cx="367164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Кулинар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647960" y="333000"/>
            <a:ext cx="424476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Узбек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плов, манты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ушанье всех кушаний — плов.  Существует несколько десятков видов этого блюда: в зависимости от местности — самаркандский,  бухарский, ферганский и другие, в зависимости от назначения и времени года — праздничный,  обыкновенный, летний,  зимний, весенний и т. д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Абхазская кухня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(отварное мясо с острым соусом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адиционная кухня абхазов, сохранившая самобытные черты до наших дней, складывалась в процессе многовековой истории народа. Она, свидетельствует об устоявшихся привычках, вкусах, порядке употребления самой пищи и т. д.,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26" name="Picture 8" descr="плов"/>
          <p:cNvPicPr/>
          <p:nvPr/>
        </p:nvPicPr>
        <p:blipFill>
          <a:blip r:embed="rId1"/>
          <a:stretch/>
        </p:blipFill>
        <p:spPr>
          <a:xfrm>
            <a:off x="826920" y="907920"/>
            <a:ext cx="3313440" cy="2449800"/>
          </a:xfrm>
          <a:prstGeom prst="rect">
            <a:avLst/>
          </a:prstGeom>
          <a:ln w="0">
            <a:noFill/>
          </a:ln>
        </p:spPr>
      </p:pic>
      <p:pic>
        <p:nvPicPr>
          <p:cNvPr id="727" name="Picture 9" descr="абхазия"/>
          <p:cNvPicPr/>
          <p:nvPr/>
        </p:nvPicPr>
        <p:blipFill>
          <a:blip r:embed="rId2"/>
          <a:stretch/>
        </p:blipFill>
        <p:spPr>
          <a:xfrm>
            <a:off x="826920" y="3789360"/>
            <a:ext cx="3313440" cy="2519280"/>
          </a:xfrm>
          <a:prstGeom prst="rect">
            <a:avLst/>
          </a:prstGeom>
          <a:ln w="0">
            <a:noFill/>
          </a:ln>
        </p:spPr>
      </p:pic>
      <p:pic>
        <p:nvPicPr>
          <p:cNvPr id="728" name="Национально региональный263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0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" fill="hold"/>
                                        <p:tgtEl>
                                          <p:spTgt spid="72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7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7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1000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7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7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000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72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1000"/>
                                        <p:tgtEl>
                                          <p:spTgt spid="7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7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72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PlaceHolder 1"/>
          <p:cNvSpPr>
            <a:spLocks noGrp="1"/>
          </p:cNvSpPr>
          <p:nvPr>
            <p:ph type="title"/>
          </p:nvPr>
        </p:nvSpPr>
        <p:spPr>
          <a:xfrm>
            <a:off x="395280" y="189000"/>
            <a:ext cx="842472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Кулинар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1" name="PlaceHolder 2"/>
          <p:cNvSpPr>
            <a:spLocks noGrp="1"/>
          </p:cNvSpPr>
          <p:nvPr>
            <p:ph/>
          </p:nvPr>
        </p:nvSpPr>
        <p:spPr>
          <a:xfrm>
            <a:off x="4648320" y="765000"/>
            <a:ext cx="431640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Армян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Для народной кухни по-прежнему характерно обжаривание мяса на вертеле над раскаленными углями или же варка его большими кусками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Традиционный хлеб-лаваш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Украин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Борщ — классическое свекольное  блюдо, используется в славянских странах, странах восточной и центральной Европы, в частности Украине, России, Польше, Белоруссии, Румынии, Молдави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К борщу можно подать пампушки с чесноком, то есть маленькие булочки, выпеченные из дрожжевого теста. После выпечки пампушки немного охладить, натереть толченым чесноко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2" name="Picture 9" descr="б-щ"/>
          <p:cNvPicPr/>
          <p:nvPr/>
        </p:nvPicPr>
        <p:blipFill>
          <a:blip r:embed="rId1"/>
          <a:stretch/>
        </p:blipFill>
        <p:spPr>
          <a:xfrm>
            <a:off x="611280" y="3933720"/>
            <a:ext cx="3529080" cy="266400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1" descr="шаш"/>
          <p:cNvPicPr/>
          <p:nvPr/>
        </p:nvPicPr>
        <p:blipFill>
          <a:blip r:embed="rId2"/>
          <a:stretch/>
        </p:blipFill>
        <p:spPr>
          <a:xfrm>
            <a:off x="611280" y="836640"/>
            <a:ext cx="3529080" cy="2736720"/>
          </a:xfrm>
          <a:prstGeom prst="rect">
            <a:avLst/>
          </a:prstGeom>
          <a:ln w="0">
            <a:noFill/>
          </a:ln>
        </p:spPr>
      </p:pic>
      <p:pic>
        <p:nvPicPr>
          <p:cNvPr id="734" name="Национально региональный264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0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" fill="hold"/>
                                        <p:tgtEl>
                                          <p:spTgt spid="73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7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7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7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7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7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1000"/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7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0" y="189000"/>
            <a:ext cx="4114800" cy="50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4000" spc="-1" strike="noStrike">
                <a:solidFill>
                  <a:srgbClr val="e5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e5ffff"/>
                </a:solidFill>
                <a:latin typeface="Tahoma"/>
              </a:rPr>
              <a:t>Кулинария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250560" y="476280"/>
            <a:ext cx="4244760" cy="61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Грузинская кухн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уп харчо - это грузинский суп из говядины с рисом и грецкими орехами, приготовленный на специальной кислой основе — тклапи—засушенного на солнце пюре из сливы ткемали (алычи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66ff"/>
                </a:solidFill>
                <a:latin typeface="Tahoma"/>
              </a:rPr>
              <a:t>Азербайджанская кухня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людо из мяса – чахохбили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Это блюдо готовят из курицы, иногда - из баранины. Следует отметить, что особенность его приготовления заключается в так называемом сухом обжаривании мяса, без добавления масла или сала, и в тушении без добавления воды. Саму жидкость дают овощи, как правило помидоры, с которыми готовят чахохбили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38" name="Picture 8" descr="чахохбили"/>
          <p:cNvPicPr/>
          <p:nvPr/>
        </p:nvPicPr>
        <p:blipFill>
          <a:blip r:embed="rId1"/>
          <a:stretch/>
        </p:blipFill>
        <p:spPr>
          <a:xfrm>
            <a:off x="4643280" y="4114800"/>
            <a:ext cx="3961080" cy="24098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1" descr="борщ"/>
          <p:cNvPicPr/>
          <p:nvPr/>
        </p:nvPicPr>
        <p:blipFill>
          <a:blip r:embed="rId2"/>
          <a:stretch/>
        </p:blipFill>
        <p:spPr>
          <a:xfrm>
            <a:off x="4643280" y="1052640"/>
            <a:ext cx="3961080" cy="2592360"/>
          </a:xfrm>
          <a:prstGeom prst="rect">
            <a:avLst/>
          </a:prstGeom>
          <a:ln w="0">
            <a:noFill/>
          </a:ln>
        </p:spPr>
      </p:pic>
      <p:pic>
        <p:nvPicPr>
          <p:cNvPr id="740" name="Национально региональный265.WAV" descr=""/>
          <p:cNvPicPr/>
          <p:nvPr/>
        </p:nvPicPr>
        <p:blipFill>
          <a:blip r:embed="rId3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nodeType="clickEffect" fill="hold">
                      <p:stCondLst>
                        <p:cond delay="0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1" fill="hold"/>
                                        <p:tgtEl>
                                          <p:spTgt spid="74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1000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0" fill="hold"/>
                                        <p:tgtEl>
                                          <p:spTgt spid="7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/>
                                        <p:tgtEl>
                                          <p:spTgt spid="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73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7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7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73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7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7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73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nodeType="clickEffect" fill="hold">
                      <p:stCondLst>
                        <p:cond delay="indefinite"/>
                      </p:stCondLst>
                      <p:childTnLst>
                        <p:par>
                          <p:cTn id="2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7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7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73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2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800" spc="-1" strike="noStrike">
                <a:solidFill>
                  <a:srgbClr val="e5ffff"/>
                </a:solidFill>
                <a:latin typeface="Tahoma"/>
              </a:rPr>
              <a:t>  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Создание изделий из текстильных и поделочных материалов 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(изготовление изделий с учетом национальных особенностей и традиций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pic>
        <p:nvPicPr>
          <p:cNvPr id="743" name="Picture 2" descr="D:\Documents\мисс школьница\DSC00260.JPG"/>
          <p:cNvPicPr/>
          <p:nvPr/>
        </p:nvPicPr>
        <p:blipFill>
          <a:blip r:embed="rId1"/>
          <a:stretch/>
        </p:blipFill>
        <p:spPr>
          <a:xfrm>
            <a:off x="755640" y="1268280"/>
            <a:ext cx="7993080" cy="5589720"/>
          </a:xfrm>
          <a:prstGeom prst="rect">
            <a:avLst/>
          </a:prstGeom>
          <a:ln w="0">
            <a:noFill/>
          </a:ln>
        </p:spPr>
      </p:pic>
      <p:pic>
        <p:nvPicPr>
          <p:cNvPr id="744" name="Национально региональный258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4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nodeType="clickEffect" fill="hold">
                      <p:stCondLst>
                        <p:cond delay="0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" fill="hold"/>
                                        <p:tgtEl>
                                          <p:spTgt spid="7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1125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e5ffff"/>
                </a:solidFill>
                <a:latin typeface="Tahoma"/>
              </a:rPr>
              <a:t>Раздел:</a:t>
            </a: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Создание изделий из текстильных и поделочных материалов</a:t>
            </a:r>
            <a:br>
              <a:rPr sz="2400"/>
            </a:br>
            <a:r>
              <a:rPr b="0" lang="ru-RU" sz="2400" spc="-1" strike="noStrike">
                <a:solidFill>
                  <a:srgbClr val="e5ffff"/>
                </a:solidFill>
                <a:latin typeface="Tahoma"/>
              </a:rPr>
              <a:t>                                                 </a:t>
            </a:r>
            <a:r>
              <a:rPr b="0" lang="ru-RU" sz="2400" spc="-1" strike="noStrike">
                <a:solidFill>
                  <a:srgbClr val="ff66ff"/>
                </a:solidFill>
                <a:latin typeface="Tahoma"/>
              </a:rPr>
              <a:t>(аппликация)</a:t>
            </a:r>
            <a:endParaRPr b="0" lang="en-US" sz="2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250920" y="907920"/>
            <a:ext cx="44654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Создание лоскутных картин - аппликаций дает полный простор для творческой фантазии художни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Лоскутное шитье издавна известно многим народам. Из пестрых и однотонных кусочков ткани, выкроенных по шаблонам, мастерицы составляют самые разные композиции - мозаичные узоры. Недаром этот вид творчества у нас называют ситцевой или лоскутной мозаик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ликолепные образцы лоскутных изделий шили мастерицы севера Скандинавии, Русского севера и Сибири, запада США. В Америке лоскутная техника постепенно из необходимости превратилась в любимое занятие очень многих людей и стала национальным видом декоративно-прикладного искусств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48" name="Picture 5" descr="DSC01433"/>
          <p:cNvPicPr/>
          <p:nvPr/>
        </p:nvPicPr>
        <p:blipFill>
          <a:blip r:embed="rId1"/>
          <a:srcRect l="17717" t="0" r="2215" b="0"/>
          <a:stretch/>
        </p:blipFill>
        <p:spPr>
          <a:xfrm>
            <a:off x="4648320" y="1844640"/>
            <a:ext cx="4495680" cy="4176720"/>
          </a:xfrm>
          <a:prstGeom prst="rect">
            <a:avLst/>
          </a:prstGeom>
          <a:ln w="0">
            <a:noFill/>
          </a:ln>
        </p:spPr>
      </p:pic>
      <p:pic>
        <p:nvPicPr>
          <p:cNvPr id="749" name="Национально региональный272.WAV" descr=""/>
          <p:cNvPicPr/>
          <p:nvPr/>
        </p:nvPicPr>
        <p:blipFill>
          <a:blip r:embed="rId2"/>
          <a:stretch/>
        </p:blipFill>
        <p:spPr>
          <a:xfrm>
            <a:off x="8632800" y="63468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7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nodeType="clickEffect" fill="hold">
                      <p:stCondLst>
                        <p:cond delay="0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7" dur="1" fill="hold"/>
                                        <p:tgtEl>
                                          <p:spTgt spid="74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2000" fill="hold"/>
                                        <p:tgtEl>
                                          <p:spTgt spid="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nodeType="clickEffect" fill="hold">
                      <p:stCondLst>
                        <p:cond delay="indefinite"/>
                      </p:stCondLst>
                      <p:childTnLst>
                        <p:par>
                          <p:cTn id="3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08T13:09:49Z</dcterms:created>
  <dc:creator>XP</dc:creator>
  <dc:description/>
  <dc:language>en-US</dc:language>
  <cp:lastModifiedBy>LEGION</cp:lastModifiedBy>
  <dcterms:modified xsi:type="dcterms:W3CDTF">2015-03-31T08:33:13Z</dcterms:modified>
  <cp:revision>120</cp:revision>
  <dc:subject/>
  <dc:title>Слайд 1</dc:title>
</cp:coreProperties>
</file>