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type.wav" ContentType="audio/x-wav"/>
  <Override PartName="/ppt/media/image6.jpeg" ContentType="image/jpeg"/>
  <Override PartName="/ppt/media/breeze.wav" ContentType="audio/x-wav"/>
  <Override PartName="/ppt/media/image5.jpeg" ContentType="image/jpeg"/>
  <Override PartName="/ppt/media/image2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wind.wav" ContentType="audio/x-wav"/>
  <Override PartName="/ppt/media/image16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E968-B1A6-49DA-AE94-72E8F30CBFD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 - региональный компонен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ках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У СОШ № 61 г. Тюмени Валентина Александровна  Николайч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19B9-78C4-4FB8-91CE-55CE2A01D3F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Создание изделий из текстильных и поделочных материалов (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апплик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моя деревн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мой дом родно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бушка там ждет меня 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рь скорей откро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ED21-4BEA-44C6-9C51-DB8E7DF8149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зделий из текстильных и поделочных материалов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(декоративные сувени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54A2-E4ED-4AE2-A340-3CFA8C638DC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зделий из текстильных и поделочных материалов (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ручная вышивка в технике кре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рковь – храм - собор и быт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ания, что режут глаз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 б ты ни бы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ы иль исповеданья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 объединяет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ь ты русский или мусульмани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ом мы всег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, отчизна, и воспоминанья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забуду никог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6192-E8CF-44DE-8BEF-6822BB71C44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зделий из текстильных и поделочных материалов (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ручная вышивка в технике кре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645E-55D8-4F08-A304-619C67EC6EA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ная деятельность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сли ребенку ближе очарование Востока с его философией и загадочностью, он может заняться изготовлением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Фантазийного дерева из бисера «Бонса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древнее японское искусство)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ть деревья с листочками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о береза, сос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ихта есть и с иголками елоч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 у нас из блестящего бисера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обычная крас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пусть ветер неистово серди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раган налетает и буря рев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дерево никогда не слома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усть оно не живо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 все же живе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1654-F435-4E7B-8F84-3AA85BC38B6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: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ология ведения домашнего хозяй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Формирование культу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ловеческих отношений, освоение умений и знаний в области социальной этики, восстановление и упрочение национальных и семейных тради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Национальные и региональные тради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оформлении интерьера жилых помещ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Национальные празд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обряды, национальная одеж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Региональные 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циональные  традиции сервировки сто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F5F9-46D0-41FD-B566-4196976778F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адиции народов и национально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Празднование «Масленницы» и «Проводы русской зимы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зготовление и торговля разными вкусностями, когда все вместе, не зависимо от национальности,  с удовольствием участвуют в мероприятиях, способствующих  единению детей многих национальностей, узнают, сравнивают и сопоставляют традиции и обыча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4FCB-7D28-4FDD-B542-606BF348B28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Предмет – лучше в школе нашей не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от где можно развернуть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Показать автори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И национальный и региональ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Мы  всегда  внедряем  компон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B3E7-5D0C-4640-875C-06B651C94F8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Техн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Шить, кроить, готовить вкусн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 доме делать все искусн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стол гостям сервиро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и как должно их принят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от об этом на уроках мы стремимся все узн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A01A-D9B8-4E94-8F18-B6DFF585E7A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Наша школа много националь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66ff"/>
                </a:solidFill>
                <a:latin typeface="Calibri"/>
              </a:rPr>
              <a:t>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66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66ff"/>
                </a:solidFill>
                <a:latin typeface="Calibri"/>
              </a:rPr>
              <a:t>(18 национальностей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одних из  последних уроков по кулинарии – приготовление любимых блю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ающиеся с удовольствием готовят  и угощают  товарищей своими национальными блюд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ят их с  особенностями приготовления национальных блюд, их оформлением и способами по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ывают о традициях разных народов, национальных праздниках и обря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56C2-8F96-4A64-8A43-5004B3CF857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Рус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а рисовая с сухофрук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уси каша была самой важной едой – основным блюдом, которым питались люди, независимо от своего социального положения. Без каши не обходился ни один праздник, ей слагали песни и воздавали хвалу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Татар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к-Чак(тат. чәк-чәк, башк. сәк-сәк) — восточная сладость, представляющая собой изделия из теста с мёдом, и популярная у тюркских народов, особенно в Татарстане и Башкортостане (считается национальным татарским и башкирским блюд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D064-5BAE-49EC-ABC4-7AEBE39D90C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Узбек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плов, манты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шанье всех кушаний — плов.  Существует несколько десятков видов этого блюда: в зависимости от местности — самаркандский,  бухарский, ферганский и другие, в зависимости от назначения и времени года — праздничный,  обыкновенный, летний,  зимний, весенний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Абхазская кухн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отварное мясо с острым соусом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ая кухня абхазов, сохранившая самобытные черты до наших дней, складывалась в процессе многовековой истории народа. Она, свидетельствует об устоявшихся привычках, вкусах, порядке употребления самой пищи и т. д.,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D8A8-9D28-47DF-AD8B-66398B2A99A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Армян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родной кухни по-прежнему характерно обжаривание мяса на вертеле над раскаленными углями или же варка его большими кус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ый хлеб-лав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Украин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щ — классическое свекольное  блюдо, используется в славянских странах, странах восточной и центральной Европы, в частности Украине, России, Польше, Белоруссии, Румынии, Молда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борщу можно подать пампушки с чесноком, то есть маленькие булочки, выпеченные из дрожжевого теста. После выпечки пампушки немного охладить, натереть толченым чесно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B975-5B8B-4934-A2F1-4CAA93269C4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Calibri"/>
              </a:rPr>
              <a:t>Грузинская кухн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уп харчо - это грузинский суп из говядины с рисом и грецкими орехами, приготовленный на специальной кислой основе — тклапи—засушенного на солнце пюре из сливы ткемали (алыч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Calibri"/>
              </a:rPr>
              <a:t>Азербайджанская кухня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юдо из мяса – чахохб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блюдо готовят из курицы, иногда - из баранины. Следует отметить, что особенность его приготовления заключается в так называемом сухом обжаривании мяса, без добавления масла или сала, и в тушении без добавления воды. Саму жидкость дают овощи, как правило помидоры, с которыми готовят чахохбил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AF36-D503-44BF-85BE-5AD7FD64E87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зделий из текстильных и поделочных материалов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(изготовление изделий с учетом национальных особенностей и тради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6EC4-6E2D-40CE-9ADF-F44768BFBB7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Создание изделий из текстильных и поделочных материало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ru-RU" sz="1600" spc="-1" strike="noStrike">
                <a:solidFill>
                  <a:srgbClr val="ff66ff"/>
                </a:solidFill>
                <a:latin typeface="Calibri"/>
              </a:rPr>
              <a:t>(аппликаци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лоскутных картин - аппликаций дает полный простор для творческой фантазии худож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скутное шитье издавна известно многим народам. Из пестрых и однотонных кусочков ткани, выкроенных по шаблонам, мастерицы составляют самые разные композиции - мозаичные узоры. Недаром этот вид творчества у нас называют ситцевой или лоскутной моза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олепные образцы лоскутных изделий шили мастерицы севера Скандинавии, Русского севера и Сибири, запада США. В Америке лоскутная техника постепенно из необходимости превратилась в любимое занятие очень многих людей и стала национальным видом декоративно-прикладного искус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47EB-F158-46FB-9614-266F9C40851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17B8-4EA9-40C0-A61C-AD548A37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B4E-92FA-426F-AD21-3C73C125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CD1F3-508B-4F47-AF7C-BB079FB4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F1371-2A15-48AF-94F0-BDF29A2E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0CA0C-39C1-4224-81E9-71EB3BE4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F38D5-7E13-4CDE-8994-E8E9721F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C6A28-5631-4A6E-9AC1-C9729616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4A665-D6BE-45A0-B18D-2E85CDB1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91276-15F5-475A-9A83-87FAE408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DCEB3-D0E5-4A9D-829A-6C073182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49109-4DD5-4226-B262-BEAD3434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937F1-40EC-48DA-822B-8A145613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9806-3246-4116-837C-BC29C1BE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B2A77-41A1-451C-B9AD-AEF052E9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D70E8-6553-40DC-B60F-F3FA6C9B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5FBE7-3C64-4F1E-B1FA-13675C8B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5A484-6BD0-4D65-9E72-9C202041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5C62F-0690-48DE-8F9B-FA221AB1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AFF2D-1DFB-495B-ADDE-DD67D2D1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9533A-0F9D-4D4F-820C-875CC77B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9177C-99AE-4802-A0DC-10265294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8C4A4-9CB5-49FE-B266-35FB9B4C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0968A-D491-47F1-BA2C-CE97481E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98B-7CD3-4D2E-A925-31A7D134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2E646-E027-453C-B1E0-12A2598C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98972-2E87-4164-9EB4-7B8A9A58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9C42D-4537-45CC-A270-DD31C2A3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4EC47-E60F-4922-8F73-07AB5E5E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7A619-4B06-4E34-B8D9-18F44CA9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16437-B055-4995-96B6-3A80C1A2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82395-178C-47C2-A070-6C5015E8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0343B-604E-4F99-8678-4DE3151C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CB22F-E29E-4D68-A39E-78EAF80A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4D692-AB0C-43C3-BB58-6320CA39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3DE3-E3D8-484D-9BEB-D67A043D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26D57-4B01-486D-A529-13DE688B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20540-FF7F-4B9F-9F9C-337FFAD9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B1AEC-F2DB-46A8-9F55-51EE3EB4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70ECA-1BF4-4235-AFB3-F8A3644E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BE624-F15B-4825-861A-D6D05E04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29D06-9BA7-4671-BE8B-F7637DD0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9C203-F197-403F-AB94-41FEEFC9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376D2-C0DE-4A1F-B4EE-540011AB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E0942-825D-4B07-9849-1B7A60ED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715DC-7949-4AD7-B8C3-282400B3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45F5-418D-4A42-8B5A-A39D1DA1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72675-04C0-452C-96F1-F4350CCF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7ECE6-3388-4ACD-AA17-40A65C4E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D3E60-8917-4B35-B101-F7EEF87B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3E5F5-EF89-4B36-8502-CE55A751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277F3-0A87-4110-BB54-C1BF45BF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90CA9-1684-4E3B-9D10-35717F8C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E43EC-4513-430F-A7D3-F7099865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A7E6A-A568-4E9F-B9CF-BB798AF2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D24147-390C-40D7-89C2-06978D9F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47441-2BE8-4AFA-97DC-A08B54F2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ADC1-ABDE-40A7-A97E-3D2433E1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2F1CD6-86E8-498D-B784-A9ED64FA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549E2-A680-42D9-9ED0-8DDD6FB5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76ED4-8CD9-4C31-A658-FE321218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A0E37-8562-401A-86D3-7426E2BF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427C7-C6C6-44D9-ABC9-828A1372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95C1B-8598-4AD7-98CB-BE908C8B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F03C36-7A56-4002-B802-1E03FB1B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AE6872-C62B-4E10-91B3-092C3930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3D9E5E-CE9F-4521-93E9-72027C3D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28AB51-316C-4E84-BC91-BA77BAC1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DF8A-FF0F-4047-B0A7-6CAA1E1B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69637B-F15C-40F1-9BA0-D1F64390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A715A0-F2FF-412D-A689-EA67B94B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AF7B8-EB81-425E-8BA8-EF3B6038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4D6872-1F75-45D8-A5AD-FEB0888C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C7A798-C8CD-4558-B6CF-57B90799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1F0B9-A6FB-468A-BEF8-A99167EA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94FB3-91D0-43CF-9883-1957822E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9B0CD-6F76-4174-B58E-86E92804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BD188-B232-4042-927D-0E0F238C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C0DE1A-B173-4B1C-858A-1523BD6C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CA92-6748-4A7E-8198-FEE33D06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EB8FCA-37BF-46F9-BB93-5D219083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B89061-214F-419B-AF39-41AA2083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B6EAB5-7DD3-4FF5-996D-2299C727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DB1038-6CE6-4893-8FAC-BE9891BD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F7E5FD-B3C7-4870-974E-4F5A0875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5038AC-F3F9-4A89-BF73-050308B7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BB0D49-2CE0-47B3-84C4-E9628CD1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282B57-F970-4C25-8B33-044EFEC0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FC90B4-2255-4E71-90B0-8D4C88D8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EE22EC-DA6D-45CE-A3ED-C6E9D550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901A-490E-48B4-8207-E3356A9F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4FD641-4E05-49D9-B94C-73E5AE5A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C94617-CF32-4B26-8424-D1CADF22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44F947-476A-41AC-87BE-EDA9E5C0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564297-23C8-4A04-A7B9-594A4C9B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F82F62-5F96-487F-ACEB-918105F0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A2BF56-1BBF-4810-B637-3F3D8692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3389FE-9852-442D-A14F-71245468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200597-E043-4A61-AE2F-89B92015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1E98F2-C48C-4283-B436-C1EA51FF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A3851C-A0AF-4B0F-BED6-C3FA1464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1230-5EB5-4D3F-B2F7-39E6648D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E51F52-E772-496E-9C3C-8B138A8E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0084A9-BDED-48FF-91F0-A3EA9D13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C943E2-E85A-462F-82B5-EECA83E8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209395-B62A-4DC8-B2CC-3210D730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F14046-5D30-41C1-9CBB-D1797098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2DB6A3-4035-4516-8635-9E7D7683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50DBD3-CC44-4905-982E-114CEB8C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EACED7-F8B2-4DC7-8590-134B4C2A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4D6B18-7645-493F-B319-4F3B7912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8146B0-306F-4C8F-8AAC-AD5E22B8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0DE0-B138-4CBE-ADAD-32DBF9B0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C7CB-6E6F-4364-AE5D-72F91DA7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140135-C291-44D2-BA3E-06616F89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38E836-D204-45D7-8A6B-43E22FE7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7159FD-2E2B-4B2F-8C6F-E704127C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0B8749-9113-41E4-A479-60E4745B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F04ACF-8AA9-4099-BC06-760B94E9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758E-EB2B-4EF4-9FB4-FB898597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8CE8-0FCA-45EC-B00A-49D21517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92E4-DFA6-40CE-A24F-39E2A57F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D154-71B3-480A-A993-E9151EDB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6327A-CE59-45B6-A63D-388F23AF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586D6-8279-4667-8E19-3AECD0F6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D8831-754F-4225-B659-998EDD16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3E06F-62A2-4B56-A6B1-7EBB7BCF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138C9-EA09-47DD-A550-C72A9DCA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1C5-8E39-4FE2-A85E-88F906C1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9EE38-5C0E-4C77-B061-7BC207AB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54B81-97EB-42F4-9597-DC308F30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24222-4893-4878-8C9C-E4D1F406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8B515-85D2-4E3A-96B0-5BAF68B3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9B1C7-5942-41FE-ADAB-0267E11E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F7314-1681-434C-B572-86C64989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78C39-339C-45B7-B62B-59EEDEB0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55363-216B-4B71-80C7-196E5742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BC703-5334-4520-B82A-C1FD2210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6890C-2840-426C-8F28-E67717B2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F3C1-2446-43F5-9BAA-B443415D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59A23-7611-4117-90D5-76552916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6F49F-53FC-4702-9295-DF601967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975A0-4849-4414-956E-7A80542A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880EE-B6A8-484F-8F89-A54BEA9F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DDEAA-666F-4EE2-8734-A0D46336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EC3A1-0BDA-4813-AD5F-7E95160C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2046D-44F5-4846-9C29-EF84022B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B51FC-CDDB-459F-9337-834B27FB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26755-167E-471F-ABF1-FF5AC138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5ED36-CB9C-445E-99E5-D16C88B9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349-20F9-49E2-9186-52A42498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DC3B0-048A-4850-952B-3DBDCDA4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C5899-8B10-478C-A44F-44F2B0F8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A548D-FE9A-43AA-8678-4D932149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8D742-D24A-4302-80CD-28FF3350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F1821-E40B-46BC-BB7A-15D0A234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3FE51-B42A-4E55-9F55-C5E60F45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2882F-69BF-4921-A25D-A9526860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14652-3116-4BC4-A9C4-1A6EC064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9929F-5F75-4F9E-B81C-EF5FED32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0DF23-93F6-4C90-A151-B6DE398C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74C8-BA20-4458-9DFC-AC9C5D2C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DB36E-4562-4295-A39D-9511D90D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BE596-9D8B-4963-9405-29015DBD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B1D29-B8C0-4F2F-B541-61BBF4A9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BA314-3B55-4EB6-A0D1-8EEA0182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E3994-E9F4-4611-A1CE-3C078D3A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82227-43E1-4373-9836-FB50CE2A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3F322-F043-4C35-ACFF-8969E765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34C28-25E5-407F-94B1-D8BED8B3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EEDE9-A7FA-4542-93FC-7696E4EB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8F0DB-F549-436D-A3E9-256641B2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0C8-2432-4F5D-8DD4-E0C29D4A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6CD1B-BA11-4500-8539-F9750E4C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F2BBD-826E-48FE-B340-CF88FB8D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E6110-B260-4956-9280-5BE2BB46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51EBC-3FBF-4CC3-8370-C27B04D3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37D4D-876C-4E3E-810B-EB988C0B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2509C-83B7-4363-9D5E-1B30D58F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1DF96-DF35-4438-9369-D5644E47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4129A-5451-4496-9E41-E2B71F1C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54AD8-4242-4BB1-93AE-DE78A505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7E593-3E07-4C2A-A580-BB744BB0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3571-07AF-420A-BFA3-8D2DD340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E0142-AE6D-471A-94AA-8B82EAA4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C0E01-5BBC-4DF2-9F22-38631A30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B528A-3042-4192-8DA5-18A174A5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621E9-D6E2-45BC-AF49-5B975D4B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17E34-85A8-4B67-8067-185A86DF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27553-6FDD-4012-8DC3-53AA76E3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933A7-5C1F-425B-ADA5-0D2C9B9D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39504-B067-4FD3-BEA6-1E273B7D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F78F7-5BF6-4871-9A09-FB617987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BC720-0C21-4003-98B1-3A2289C8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5FB-6FDF-46A6-A51D-8244DABC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491D3-CE2A-482D-BCCA-F452FECD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1DA9D-A565-40CA-A094-ADE1D016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C27CD-BD7C-4B23-B53F-A75A2AE2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78EE2-E2E7-4E57-A457-91187D8A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9DCE6-9698-46FA-B8F5-434B2E8C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3C993-E8ED-4A9B-ACF4-A79A9D6B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49D90-B7BF-4DD7-8A51-6B3E1AFB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6E26B-FB21-489B-BD60-4CDD81DB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29B3B-FAC9-4962-A989-E41F7398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17AA8-5EAD-45F4-8B1B-58429DFA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911E-8F7A-480C-BA28-661A01ECE85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52E8-86D2-45BF-9740-58FBACBD71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F6C3-7492-4D57-B668-BE65041CC9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846C-4B55-46C9-812C-7C4E5CF7717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57A1-C5A5-489F-B324-D3F5C39AC9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5C45-98FA-4126-AC6C-8E3B47ACE0E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719D-EDD5-4044-911F-365C8FA870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A935-ACAC-4188-ABAE-6156B50766E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AA1E-6DF1-4F7D-9109-1619AFF206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4791-68DC-485E-8149-622BB4F947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277A-48DF-426A-A60A-0FAAC2A1D6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EF77-E184-4CC8-8E63-47A61A320EB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D1C9-085C-4E40-8F60-28405A7A9B0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AC6D-C84A-4355-B204-B6E54D30FF5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BCEA-5C2F-4816-AC01-6B0FCE21259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8FBA-5DCF-4680-BD88-B29591C79F7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78BD-0B52-4766-AEAD-35CAF2E666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9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9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0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ционально - региональный компонент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 уроках технолог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1371600" y="4292280"/>
            <a:ext cx="74484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МОУ СОШ № 61 г. Тюмени Валентина Александровна  Николайчу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6" name="~PP23928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0072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Создание изделий из текстильных и поделочных материалов (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аппликация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)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от моя деревня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от мой дом родной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Бабушка там ждет меня -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Дверь скорей открой.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2" name="Picture 10" descr="DSC01431"/>
          <p:cNvPicPr/>
          <p:nvPr/>
        </p:nvPicPr>
        <p:blipFill>
          <a:blip r:embed="rId1"/>
          <a:srcRect l="15502" t="0" r="11073" b="0"/>
          <a:stretch/>
        </p:blipFill>
        <p:spPr>
          <a:xfrm>
            <a:off x="5219640" y="0"/>
            <a:ext cx="3924360" cy="33577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" descr="DSC01429"/>
          <p:cNvPicPr/>
          <p:nvPr/>
        </p:nvPicPr>
        <p:blipFill>
          <a:blip r:embed="rId2"/>
          <a:stretch/>
        </p:blipFill>
        <p:spPr>
          <a:xfrm>
            <a:off x="179280" y="2997360"/>
            <a:ext cx="5688000" cy="3860640"/>
          </a:xfrm>
          <a:prstGeom prst="rect">
            <a:avLst/>
          </a:prstGeom>
          <a:ln w="0">
            <a:noFill/>
          </a:ln>
        </p:spPr>
      </p:pic>
      <p:pic>
        <p:nvPicPr>
          <p:cNvPr id="754" name="Национально региональный266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7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4608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ие изделий из текстильных и поделочных материалов 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(декоративные сувениры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7" name="Picture 9" descr="DSC01437"/>
          <p:cNvPicPr/>
          <p:nvPr/>
        </p:nvPicPr>
        <p:blipFill>
          <a:blip r:embed="rId1"/>
          <a:stretch/>
        </p:blipFill>
        <p:spPr>
          <a:xfrm>
            <a:off x="5614920" y="3618000"/>
            <a:ext cx="3529080" cy="32400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4" descr="DSC01105"/>
          <p:cNvPicPr/>
          <p:nvPr/>
        </p:nvPicPr>
        <p:blipFill>
          <a:blip r:embed="rId2"/>
          <a:stretch/>
        </p:blipFill>
        <p:spPr>
          <a:xfrm>
            <a:off x="4643280" y="189000"/>
            <a:ext cx="3529080" cy="32400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7" descr="Фото025"/>
          <p:cNvPicPr/>
          <p:nvPr/>
        </p:nvPicPr>
        <p:blipFill>
          <a:blip r:embed="rId3"/>
          <a:stretch/>
        </p:blipFill>
        <p:spPr>
          <a:xfrm>
            <a:off x="0" y="1601640"/>
            <a:ext cx="4537080" cy="5256360"/>
          </a:xfrm>
          <a:prstGeom prst="rect">
            <a:avLst/>
          </a:prstGeom>
          <a:ln w="0">
            <a:noFill/>
          </a:ln>
        </p:spPr>
      </p:pic>
      <p:sp>
        <p:nvSpPr>
          <p:cNvPr id="7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ие изделий из текстильных и поделочных материалов (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ручная вышивка в технике крест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06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рковь – храм - собор и бытнос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дания, что режут глаз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м б ты ни был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ы иль исповеданья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  объединяет на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дь ты русский или мусульманин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ядом мы всегд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м, отчизна, и воспоминанья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забуду никогд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3" name="Picture 13" descr="DSC01427"/>
          <p:cNvPicPr/>
          <p:nvPr/>
        </p:nvPicPr>
        <p:blipFill>
          <a:blip r:embed="rId1"/>
          <a:srcRect l="4921" t="5536" r="12303" b="5536"/>
          <a:stretch/>
        </p:blipFill>
        <p:spPr>
          <a:xfrm>
            <a:off x="4211640" y="1341360"/>
            <a:ext cx="4681440" cy="5256360"/>
          </a:xfrm>
          <a:prstGeom prst="rect">
            <a:avLst/>
          </a:prstGeom>
          <a:ln w="0">
            <a:noFill/>
          </a:ln>
        </p:spPr>
      </p:pic>
      <p:sp>
        <p:nvSpPr>
          <p:cNvPr id="7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ие изделий из текстильных и поделочных материалов (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ручная вышивка в технике крест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6" name="Picture 7" descr="DSC01422"/>
          <p:cNvPicPr/>
          <p:nvPr/>
        </p:nvPicPr>
        <p:blipFill>
          <a:blip r:embed="rId1"/>
          <a:srcRect l="4429" t="0" r="0" b="0"/>
          <a:stretch/>
        </p:blipFill>
        <p:spPr>
          <a:xfrm>
            <a:off x="112680" y="1700280"/>
            <a:ext cx="4890960" cy="44654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8" descr="DSC01424"/>
          <p:cNvPicPr/>
          <p:nvPr/>
        </p:nvPicPr>
        <p:blipFill>
          <a:blip r:embed="rId2"/>
          <a:stretch/>
        </p:blipFill>
        <p:spPr>
          <a:xfrm>
            <a:off x="5219640" y="1413000"/>
            <a:ext cx="3745080" cy="26636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0" descr="DSC01417"/>
          <p:cNvPicPr/>
          <p:nvPr/>
        </p:nvPicPr>
        <p:blipFill>
          <a:blip r:embed="rId3"/>
          <a:srcRect l="0" t="5906" r="4429" b="0"/>
          <a:stretch/>
        </p:blipFill>
        <p:spPr>
          <a:xfrm>
            <a:off x="5346720" y="4232160"/>
            <a:ext cx="3797280" cy="2436840"/>
          </a:xfrm>
          <a:prstGeom prst="rect">
            <a:avLst/>
          </a:prstGeom>
          <a:ln w="0">
            <a:noFill/>
          </a:ln>
        </p:spPr>
      </p:pic>
      <p:sp>
        <p:nvSpPr>
          <p:cNvPr id="7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роектная деятельность учащихс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700000" y="765000"/>
            <a:ext cx="4032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Если ребенку ближе очарование Востока с его философией и загадочностью, он может заняться изготовлением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Фантазийного дерева из бисера «Бонса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древнее японское искусство)</a:t>
            </a:r>
            <a:br>
              <a:rPr sz="24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Есть деревья с листочками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о береза, сосн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ихта есть и с иголками елоч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 у нас из блестящего бисера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еобычная красо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 пусть ветер неистово сердитс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Ураган налетает и буря ревет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Это дерево никогда не сломаетс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усть оно не живо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о все же живет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2" name="Содержимое 6" descr="Фото019.jpg"/>
          <p:cNvPicPr/>
          <p:nvPr/>
        </p:nvPicPr>
        <p:blipFill>
          <a:blip r:embed="rId1"/>
          <a:stretch/>
        </p:blipFill>
        <p:spPr>
          <a:xfrm>
            <a:off x="179280" y="1197000"/>
            <a:ext cx="2448000" cy="2952720"/>
          </a:xfrm>
          <a:prstGeom prst="rect">
            <a:avLst/>
          </a:prstGeom>
          <a:ln w="0">
            <a:noFill/>
          </a:ln>
        </p:spPr>
      </p:pic>
      <p:pic>
        <p:nvPicPr>
          <p:cNvPr id="773" name="Содержимое 7" descr="Фото018.jpg"/>
          <p:cNvPicPr/>
          <p:nvPr/>
        </p:nvPicPr>
        <p:blipFill>
          <a:blip r:embed="rId2"/>
          <a:stretch/>
        </p:blipFill>
        <p:spPr>
          <a:xfrm>
            <a:off x="6516720" y="3573360"/>
            <a:ext cx="2376360" cy="3132360"/>
          </a:xfrm>
          <a:prstGeom prst="rect">
            <a:avLst/>
          </a:prstGeom>
          <a:ln w="0">
            <a:noFill/>
          </a:ln>
        </p:spPr>
      </p:pic>
      <p:sp>
        <p:nvSpPr>
          <p:cNvPr id="7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  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Технология ведения домашнего хозяйств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338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Формирование культу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человеческих отношений, освоение умений и знаний в области социальной этики, восстановление и упрочение национальных и семейных традиц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Национальные и региональные традици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и оформлении интерьера жилых помещ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Национальные праздник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обряды, национальная одеж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Региональные 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циональные  традиции сервировки стол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7" name="Picture 0" descr="люлька"/>
          <p:cNvPicPr/>
          <p:nvPr/>
        </p:nvPicPr>
        <p:blipFill>
          <a:blip r:embed="rId1"/>
          <a:stretch/>
        </p:blipFill>
        <p:spPr>
          <a:xfrm>
            <a:off x="4067280" y="907920"/>
            <a:ext cx="4608360" cy="283716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1" descr="комната"/>
          <p:cNvPicPr/>
          <p:nvPr/>
        </p:nvPicPr>
        <p:blipFill>
          <a:blip r:embed="rId2"/>
          <a:stretch/>
        </p:blipFill>
        <p:spPr>
          <a:xfrm>
            <a:off x="4067280" y="3933720"/>
            <a:ext cx="4681440" cy="2924280"/>
          </a:xfrm>
          <a:prstGeom prst="rect">
            <a:avLst/>
          </a:prstGeom>
          <a:ln w="0">
            <a:noFill/>
          </a:ln>
        </p:spPr>
      </p:pic>
      <p:sp>
        <p:nvSpPr>
          <p:cNvPr id="7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  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Традиции народов и национальностей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59280" y="691920"/>
            <a:ext cx="608472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Празднование «Масленницы» и «Проводы русской зимы»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зготовление и торговля разными вкусностями, когда все вместе, не зависимо от национальности,  с удовольствием участвуют в мероприятиях, способствующих  единению детей многих национальностей, узнают, сравнивают и сопоставляют традиции и обыча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2" name="Рисунок 2" descr="D:\Documents\8-В\торговля 2.jpg"/>
          <p:cNvPicPr/>
          <p:nvPr/>
        </p:nvPicPr>
        <p:blipFill>
          <a:blip r:embed="rId1"/>
          <a:srcRect l="12114" t="0" r="0" b="0"/>
          <a:stretch/>
        </p:blipFill>
        <p:spPr>
          <a:xfrm>
            <a:off x="179280" y="1844640"/>
            <a:ext cx="3227400" cy="4861080"/>
          </a:xfrm>
          <a:prstGeom prst="rect">
            <a:avLst/>
          </a:prstGeom>
          <a:ln w="0">
            <a:noFill/>
          </a:ln>
        </p:spPr>
      </p:pic>
      <p:pic>
        <p:nvPicPr>
          <p:cNvPr id="783" name="Рисунок 1" descr="D:\Documents\8-В\чучело пасхи.jpg"/>
          <p:cNvPicPr/>
          <p:nvPr/>
        </p:nvPicPr>
        <p:blipFill>
          <a:blip r:embed="rId2"/>
          <a:srcRect l="24160" t="0" r="0" b="16159"/>
          <a:stretch/>
        </p:blipFill>
        <p:spPr>
          <a:xfrm>
            <a:off x="3203640" y="3114720"/>
            <a:ext cx="2349360" cy="374328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3" descr="D:\Documents\8-В\торг. 2.jpg"/>
          <p:cNvPicPr/>
          <p:nvPr/>
        </p:nvPicPr>
        <p:blipFill>
          <a:blip r:embed="rId3"/>
          <a:srcRect l="9431" t="0" r="0" b="0"/>
          <a:stretch/>
        </p:blipFill>
        <p:spPr>
          <a:xfrm>
            <a:off x="5580000" y="2708280"/>
            <a:ext cx="3384720" cy="4149720"/>
          </a:xfrm>
          <a:prstGeom prst="rect">
            <a:avLst/>
          </a:prstGeom>
          <a:ln w="0">
            <a:noFill/>
          </a:ln>
        </p:spPr>
      </p:pic>
      <p:sp>
        <p:nvSpPr>
          <p:cNvPr id="7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ХНОЛОГ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Предмет – лучше в школе нашей нет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Вот где можно развернутьс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Показать авторит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И национальный и региональ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Мы  всегда  внедряем  компонен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635280" y="188640"/>
            <a:ext cx="5051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Предмет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– Технология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3394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Шить, кроить, готовить вкусно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В доме делать все искусно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стол гостям сервиров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и как должно их принять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вот об этом на уроках мы стремимся все узн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0" name="Picture 8" descr="стол экибана"/>
          <p:cNvPicPr/>
          <p:nvPr/>
        </p:nvPicPr>
        <p:blipFill>
          <a:blip r:embed="rId1"/>
          <a:stretch/>
        </p:blipFill>
        <p:spPr>
          <a:xfrm>
            <a:off x="3924360" y="1268280"/>
            <a:ext cx="5219640" cy="4753080"/>
          </a:xfrm>
          <a:prstGeom prst="rect">
            <a:avLst/>
          </a:prstGeom>
          <a:ln w="0">
            <a:noFill/>
          </a:ln>
        </p:spPr>
      </p:pic>
      <p:pic>
        <p:nvPicPr>
          <p:cNvPr id="711" name="~PP2392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7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327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867280" y="333000"/>
            <a:ext cx="3097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Наша школа много националь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Tahoma"/>
              </a:rPr>
              <a:t>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66ff"/>
                </a:solidFill>
                <a:latin typeface="Tahoma"/>
              </a:rPr>
              <a:t>(18 национальностей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ма одних из  последних уроков по кулинарии – приготовление любимых блю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учающиеся с удовольствием готовят  и угощают  товарищей своими национальными блюд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накомят их с  особенностями приготовления национальных блюд, их оформлением и способами подач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сказывают о традициях разных народов, национальных праздниках и обряд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5" name="Picture 10" descr="Изображение3в 001"/>
          <p:cNvPicPr/>
          <p:nvPr/>
        </p:nvPicPr>
        <p:blipFill>
          <a:blip r:embed="rId1"/>
          <a:srcRect l="0" t="7395" r="0" b="7352"/>
          <a:stretch/>
        </p:blipFill>
        <p:spPr>
          <a:xfrm>
            <a:off x="0" y="1700280"/>
            <a:ext cx="5867280" cy="4392720"/>
          </a:xfrm>
          <a:prstGeom prst="rect">
            <a:avLst/>
          </a:prstGeom>
          <a:ln w="0">
            <a:noFill/>
          </a:ln>
        </p:spPr>
      </p:pic>
      <p:pic>
        <p:nvPicPr>
          <p:cNvPr id="716" name="Национально региональный26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7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358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Рус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ша рисовая с сухофрук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Руси каша была самой важной едой – основным блюдом, которым питались люди, независимо от своего социального положения. Без каши не обходился ни один праздник, ей слагали песни и воздавали хвалу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Татар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к-Чак(тат. чәк-чәк, башк. сәк-сәк) — восточная сладость, представляющая собой изделия из теста с мёдом, и популярная у тюркских народов, особенно в Татарстане и Башкортостане (считается национальным татарским и башкирским блюдом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0" name="Picture 11" descr="русская, каша"/>
          <p:cNvPicPr/>
          <p:nvPr/>
        </p:nvPicPr>
        <p:blipFill>
          <a:blip r:embed="rId1"/>
          <a:stretch/>
        </p:blipFill>
        <p:spPr>
          <a:xfrm>
            <a:off x="4500720" y="836640"/>
            <a:ext cx="4319280" cy="266364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14" descr="чак-чак"/>
          <p:cNvPicPr/>
          <p:nvPr/>
        </p:nvPicPr>
        <p:blipFill>
          <a:blip r:embed="rId2"/>
          <a:stretch/>
        </p:blipFill>
        <p:spPr>
          <a:xfrm>
            <a:off x="4500720" y="3860640"/>
            <a:ext cx="4248000" cy="2737080"/>
          </a:xfrm>
          <a:prstGeom prst="rect">
            <a:avLst/>
          </a:prstGeom>
          <a:ln w="0">
            <a:noFill/>
          </a:ln>
        </p:spPr>
      </p:pic>
      <p:pic>
        <p:nvPicPr>
          <p:cNvPr id="722" name="Национально региональный262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3671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647960" y="333000"/>
            <a:ext cx="42447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Узбек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лов, мант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шанье всех кушаний — плов.  Существует несколько десятков видов этого блюда: в зависимости от местности — самаркандский,  бухарский, ферганский и другие, в зависимости от назначения и времени года — праздничный,  обыкновенный, летний,  зимний, весенний и т. 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Абхазская кухн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отварное мясо с острым соусом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адиционная кухня абхазов, сохранившая самобытные черты до наших дней, складывалась в процессе многовековой истории народа. Она, свидетельствует об устоявшихся привычках, вкусах, порядке употребления самой пищи и т. д.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6" name="Picture 8" descr="плов"/>
          <p:cNvPicPr/>
          <p:nvPr/>
        </p:nvPicPr>
        <p:blipFill>
          <a:blip r:embed="rId1"/>
          <a:stretch/>
        </p:blipFill>
        <p:spPr>
          <a:xfrm>
            <a:off x="826920" y="907920"/>
            <a:ext cx="3313440" cy="244980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9" descr="абхазия"/>
          <p:cNvPicPr/>
          <p:nvPr/>
        </p:nvPicPr>
        <p:blipFill>
          <a:blip r:embed="rId2"/>
          <a:stretch/>
        </p:blipFill>
        <p:spPr>
          <a:xfrm>
            <a:off x="826920" y="3789360"/>
            <a:ext cx="3313440" cy="2519280"/>
          </a:xfrm>
          <a:prstGeom prst="rect">
            <a:avLst/>
          </a:prstGeom>
          <a:ln w="0">
            <a:noFill/>
          </a:ln>
        </p:spPr>
      </p:pic>
      <p:pic>
        <p:nvPicPr>
          <p:cNvPr id="728" name="Национально региональный263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" fill="hold"/>
                                        <p:tgtEl>
                                          <p:spTgt spid="7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648320" y="765000"/>
            <a:ext cx="43164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Армян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народной кухни по-прежнему характерно обжаривание мяса на вертеле над раскаленными углями или же варка его большими куск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адиционный хлеб-лава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Украин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рщ — классическое свекольное  блюдо, используется в славянских странах, странах восточной и центральной Европы, в частности Украине, России, Польше, Белоруссии, Румынии, Молдав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борщу можно подать пампушки с чесноком, то есть маленькие булочки, выпеченные из дрожжевого теста. После выпечки пампушки немного охладить, натереть толченым чеснок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2" name="Picture 9" descr="б-щ"/>
          <p:cNvPicPr/>
          <p:nvPr/>
        </p:nvPicPr>
        <p:blipFill>
          <a:blip r:embed="rId1"/>
          <a:stretch/>
        </p:blipFill>
        <p:spPr>
          <a:xfrm>
            <a:off x="611280" y="3933720"/>
            <a:ext cx="3529080" cy="2664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1" descr="шаш"/>
          <p:cNvPicPr/>
          <p:nvPr/>
        </p:nvPicPr>
        <p:blipFill>
          <a:blip r:embed="rId2"/>
          <a:stretch/>
        </p:blipFill>
        <p:spPr>
          <a:xfrm>
            <a:off x="611280" y="836640"/>
            <a:ext cx="3529080" cy="2736720"/>
          </a:xfrm>
          <a:prstGeom prst="rect">
            <a:avLst/>
          </a:prstGeom>
          <a:ln w="0">
            <a:noFill/>
          </a:ln>
        </p:spPr>
      </p:pic>
      <p:pic>
        <p:nvPicPr>
          <p:cNvPr id="734" name="Национально региональный264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7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0" y="189000"/>
            <a:ext cx="4114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50560" y="476280"/>
            <a:ext cx="42447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Грузин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п харчо - это грузинский суп из говядины с рисом и грецкими орехами, приготовленный на специальной кислой основе — тклапи—засушенного на солнце пюре из сливы ткемали (алычи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Азербайджанская кухня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людо из мяса – чахохбил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 блюдо готовят из курицы, иногда - из баранины. Следует отметить, что особенность его приготовления заключается в так называемом сухом обжаривании мяса, без добавления масла или сала, и в тушении без добавления воды. Саму жидкость дают овощи, как правило помидоры, с которыми готовят чахохбил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8" name="Picture 8" descr="чахохбили"/>
          <p:cNvPicPr/>
          <p:nvPr/>
        </p:nvPicPr>
        <p:blipFill>
          <a:blip r:embed="rId1"/>
          <a:stretch/>
        </p:blipFill>
        <p:spPr>
          <a:xfrm>
            <a:off x="4643280" y="4114800"/>
            <a:ext cx="3961080" cy="24098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1" descr="борщ"/>
          <p:cNvPicPr/>
          <p:nvPr/>
        </p:nvPicPr>
        <p:blipFill>
          <a:blip r:embed="rId2"/>
          <a:stretch/>
        </p:blipFill>
        <p:spPr>
          <a:xfrm>
            <a:off x="4643280" y="1052640"/>
            <a:ext cx="3961080" cy="2592360"/>
          </a:xfrm>
          <a:prstGeom prst="rect">
            <a:avLst/>
          </a:prstGeom>
          <a:ln w="0">
            <a:noFill/>
          </a:ln>
        </p:spPr>
      </p:pic>
      <p:pic>
        <p:nvPicPr>
          <p:cNvPr id="740" name="Национально региональный265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" fill="hold"/>
                                        <p:tgtEl>
                                          <p:spTgt spid="7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ие изделий из текстильных и поделочных материалов 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(изготовление изделий с учетом национальных особенностей и традиций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3" name="Picture 2" descr="D:\Documents\мисс школьница\DSC00260.JPG"/>
          <p:cNvPicPr/>
          <p:nvPr/>
        </p:nvPicPr>
        <p:blipFill>
          <a:blip r:embed="rId1"/>
          <a:stretch/>
        </p:blipFill>
        <p:spPr>
          <a:xfrm>
            <a:off x="755640" y="1268280"/>
            <a:ext cx="7993080" cy="5589720"/>
          </a:xfrm>
          <a:prstGeom prst="rect">
            <a:avLst/>
          </a:prstGeom>
          <a:ln w="0">
            <a:noFill/>
          </a:ln>
        </p:spPr>
      </p:pic>
      <p:pic>
        <p:nvPicPr>
          <p:cNvPr id="744" name="Национально региональный25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Создание изделий из текстильных и поделочных материалов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(аппликация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465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здание лоскутных картин - аппликаций дает полный простор для творческой фантазии художн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оскутное шитье издавна известно многим народам. Из пестрых и однотонных кусочков ткани, выкроенных по шаблонам, мастерицы составляют самые разные композиции - мозаичные узоры. Недаром этот вид творчества у нас называют ситцевой или лоскутной мозаи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ликолепные образцы лоскутных изделий шили мастерицы севера Скандинавии, Русского севера и Сибири, запада США. В Америке лоскутная техника постепенно из необходимости превратилась в любимое занятие очень многих людей и стала национальным видом декоративно-прикладного искус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8" name="Picture 5" descr="DSC01433"/>
          <p:cNvPicPr/>
          <p:nvPr/>
        </p:nvPicPr>
        <p:blipFill>
          <a:blip r:embed="rId1"/>
          <a:srcRect l="17717" t="0" r="2215" b="0"/>
          <a:stretch/>
        </p:blipFill>
        <p:spPr>
          <a:xfrm>
            <a:off x="4648320" y="1844640"/>
            <a:ext cx="4495680" cy="4176720"/>
          </a:xfrm>
          <a:prstGeom prst="rect">
            <a:avLst/>
          </a:prstGeom>
          <a:ln w="0">
            <a:noFill/>
          </a:ln>
        </p:spPr>
      </p:pic>
      <p:pic>
        <p:nvPicPr>
          <p:cNvPr id="749" name="Национально региональный272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3:09:49Z</dcterms:created>
  <dc:creator>XP</dc:creator>
  <dc:description/>
  <dc:language>en-US</dc:language>
  <cp:lastModifiedBy>LEGION</cp:lastModifiedBy>
  <dcterms:modified xsi:type="dcterms:W3CDTF">2015-03-31T08:33:13Z</dcterms:modified>
  <cp:revision>120</cp:revision>
  <dc:subject/>
  <dc:title>Слайд 1</dc:title>
</cp:coreProperties>
</file>