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breeze.wav" ContentType="audio/x-wav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570-9715-4D2F-AC33-96F4B5897C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 - региональный компоне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СОШ № 61 г. Тюмени Валентина Александровна  Николай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7CCF-869A-4976-9FF4-07D2092EA4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аппл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я деревн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й дом родн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там ждет меня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скорей отк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660C-38BB-48A0-A85A-2BC38F6C73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декоративные сувен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B51F-BCA5-4E84-9DB9-254E4691F6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– храм - собор и быт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ания, что режут гла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б ты ни бы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ы иль исповеданья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 объединя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ты русский или мусульмани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ом мы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отчизна, и воспоминанья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уду ни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DB3F-F925-4080-822E-0E34B4CBD3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AC2-9822-4FBF-9AFA-5D3596D5D2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Фантазийного дерева из бисера «Бонса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древнее японское искусство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ть деревья с листочкам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 береза, сос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хта есть и с иголками е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у нас из блестящего бисер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ычная крас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пусть ветер неистово серди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аган налетает и буря рев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дерево никогда не слом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усть оно не жив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 все же жив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03E-4E7C-435D-BBAA-A8F3366D11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ведения домашнего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Формирование 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и региональные трад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интерьера жилых поме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празд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ряды, национальная оде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егиональные 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циональные  традиции сервировки ст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5D02-A8D6-44BA-840C-EC383ABF7D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народов и наци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азднование «Масленницы» и «Проводы русской зим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4A1F-26C8-45CE-B3A0-73945886F4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едмет – лучше в школе нашей н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где можно разверну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оказать автор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национальный и региона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Мы  всегда  внедряем 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0DF4-E195-4001-B313-081C12DEEA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ехн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Шить, кроить, готовить в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 доме делать все ис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тол гостям серв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как должно их принят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об этом на уроках мы стремимся все узн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71B9-16A6-4AE8-8B44-8F50A75376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Наша школа много национ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(18 национальностей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одних из  последних уроков по кулинарии – приготовление любимых блю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ывают о традициях разных народов, национальных праздниках и обр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42F0-FF10-448A-B738-AD11E0514F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Рус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 рисовая с сухофр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Татар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B34-172E-42D6-89E7-587968E701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збек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лов, ман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бхазская кух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отварное мясо с острым соус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6B1-5391-4FED-B2F5-50C3E95753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рмя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хлеб-лав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краи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6960-1D9D-41A8-8041-47F1417665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Грузинская кух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Азербайджанская кухня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юдо из мяса – чахохб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837-BC8B-417B-9E23-1916D4D5E5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изготовление изделий с учетом национальных особенностей и тради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2926-CE33-4A1A-81D3-A4B8F3B776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(аппликац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9A38-8C06-4040-BC1E-FAB3D77EEB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E71-622B-4832-BE1E-08D62441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386-B92F-437B-837B-35AD740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8D238-000E-454F-9E83-A75DA8D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60967-99C4-491E-8B5B-DD017BAC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1A3AB-DA6B-4477-976F-9B8A03B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F92E6-70A8-4788-92AF-46E56CD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F9103-C4AC-4F39-A62F-50DABF8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06000-BD4E-4CA4-B075-2D24268E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5BA8F-92B8-47A5-BCD4-9505BAE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B058-4B94-4150-A973-3FCC0FB7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F1D83-812F-4BC0-99FD-3FFBF5D5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8477-9788-4EA1-9B6A-F41C4465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7DB-74E0-481B-BEFD-2C139C53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68B03-2B82-4980-B6D8-6D000BB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4CBC7-605F-44D4-A6D9-167578B8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F0BBC-066B-4EEE-8ADD-361377D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E17E2-5FF5-4C51-B9DA-238FBBD9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A8526-1DB0-47F9-93C5-CD05ABF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99529-3FE3-4AD1-ADF0-369B993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3A9DC-36E8-4F31-BABC-A7143BB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6FE69-5951-4FAA-AE91-F4093D1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75965-3724-4D24-A6CF-E49CD9C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9876D-C35F-4FF9-A2FB-B0CBF84A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083-2638-4C07-96DE-578A1A26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DA87A-68F6-4F4B-BA97-55EC5A56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55CA-A112-4F19-8B90-059AFF0E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6E28B-5A56-46A3-8B7A-2A4EC583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C4E50-3F13-4321-8BC5-974D9D9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5DE3C-E2E6-47C4-BB5C-DE5611F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93782-3940-44D9-94FA-34802CD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1F6B6-2E3C-4B85-85F6-B62A802F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E6917-C8BF-44D3-AD60-D3FEEE6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95F1-0ED0-43E6-A703-0D0B5D8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9D94-C0AE-4E45-BA26-1CC7763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CD16-F7D7-4A67-A6B2-520009EA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8D6F1-612F-453B-8BF7-76A9D0C0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BB8AE-10D0-4088-ADA7-60656A1B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36688-DFF6-44E8-B840-5C199D1A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A9A77-64FE-4E1D-A1B8-50E79805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ED5B4-F4EC-4136-9634-17316631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70C7-346C-4ACB-A909-7CCA96A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ED6E0-9E3F-4FE4-A70C-C8B17B4D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5ACDB-61A7-497A-8A3A-CEBF5C11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E7F8A-6C13-4373-B7E8-C3FF27E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C4EB0-3695-4B5A-9221-0C14060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FC0E-7111-4BC5-8C41-DCE8B273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6C20D-2C62-4FF9-B147-B675596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ABA69-9418-443E-BF3E-ABE5041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21D55-E50E-454A-9140-4F14872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01AB2-9F28-4582-896A-F02F2E6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F3E00-7829-4542-B25B-1EF04EED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EE22D-7E6F-4A57-955A-BB016FF2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ED09D-4F1B-4237-B799-BC076FD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C2086-17C2-4633-98E1-30D386EC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6F71F-AAA7-43DB-ACA5-EA95A32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2C4C2-53E8-441D-A103-302A8714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8F96-689B-4EA8-8727-54FB5A91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0BEEF-EDB8-44F0-9F08-89D8C71D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A7864-6CE4-4364-852E-14FEA807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A80E0-0757-46C1-8E96-83FFDC0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7591C-1EFD-4C88-B86F-6D7AE74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10C2C-3A69-47D7-B615-E422EAB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AE2E1-3B93-43BA-A2ED-21DDD728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2E99A-FDA6-4FFF-881C-D4658934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3F8F2-9C0D-4383-84E3-DF147ECC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D68FF-63B1-4FBD-B20D-340D7DE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A0234-2ADB-47D4-8382-B027657F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BCDD-202C-4F7E-BBCD-73D6BA9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925DF-097B-443C-9A72-0CA837F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A0621-2B2F-45F6-B428-ECDED975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A1CC5-EF43-4C6C-9869-19EE05A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25E00-B65B-4D7B-8FF5-332D34A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50D7B-0D8E-4BD5-92D9-FB0063F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8F15E-EB5A-4FB1-95A0-15CA82E5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6A3B3-E35D-458B-924E-2263D06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919E5-EF78-4E89-A170-9265111F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DF5B2-2F2D-43CE-B8A4-DCA82E17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4F5FA-1B19-4E31-B273-9639FA14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0A4F-EE42-42DA-A0BE-D8D19369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D9793-A337-4A03-B308-6122B791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57D3D-84E6-4FEF-A825-2BF0E64D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CB681-C2CC-4913-B4FC-FA0B0D6C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2EC2B-2E89-4A0B-8040-D36EDF2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294FC-F37C-4155-87AA-E58C8C4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5106A-D5F1-4A1B-8FD3-AA73B22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64ADF-AE0C-4030-A7CB-090A62E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873FF-240F-4F10-A073-7919E05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5D56F-5D68-4416-AA9D-8950BF3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89032-4A57-4AB6-ABEF-2E49E692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55E-B09A-4FD7-B3BD-8BBB39EF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CF82E-925C-44C6-85A1-5C896979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EAC9C-3427-467C-9177-8059594A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C94A1-FD6E-4792-AEC0-C680F23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CBA46-3BB7-4612-B06A-1FA88D8B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CC9DF-45CA-4EB4-AFCD-DE636E4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9FA26-986A-4266-B62C-FDFB77A6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A175C-07AD-4FDD-A10B-C5F1D6D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7625A-A3D1-4D82-B81C-52CAE72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7DDDD-CF1B-4CD8-BBD9-D9505AB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8FBC1-4A4E-463B-A4FD-D56092B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35F-B166-4068-BC94-8B17943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18103-7353-4EBA-A386-7E827F6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E9D59-BD6B-47D6-93CC-50E4CCB5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A30E8-39D0-4566-B3C6-9B90408C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7BF2D-4299-4C5B-B958-818D6E70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A883A-C597-4BB9-99B1-F2246063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7E4B8-039F-4235-B866-4DC9C2B8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90FFE-F8AF-4407-B747-38F271D6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05EC1-55FD-4CFD-A682-7BC52D87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B2F87-1825-451A-B8FC-B9F609F3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993AD-5824-452A-A0AD-38557B2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877-181F-4E59-A0AF-CDC3A31D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6749-9836-4D80-8B85-4BF1DC7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26CE0-0DD3-441F-958B-A0E372E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A825C-DDCC-465E-8118-190FDDE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CF967-D285-49C8-BA52-DA538869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5D022-4239-4A50-BBD4-9D6ADB6D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E3A59-1E23-47BC-836B-C37F8BAC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2051-A273-4D26-A519-A7235C3C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C1F-E5A8-4CCB-AF3D-23305CA3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C437-CA57-4774-BE42-4FA11535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EF1-2017-4FF3-819F-7F0924E9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B396-139E-4795-8473-E6D4D3F9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9F82-80B3-4DA3-B0F9-AFC5AB65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88F7-FBBB-4CE4-BF79-1CD7551D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0F64-6E08-4082-8903-883B44EA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FBC9-842A-4D7F-85EC-09A044D8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016-4B4B-44DC-8123-6421DC7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D7A5-BEBB-46CF-A07C-59343E8A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D520-33FA-4E1A-875D-D9ACB30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0EE0-6ECE-4CD1-9FD6-34B3852C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B03F-4FA1-492C-A6B0-D8E912B1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27F2-D475-4CD2-9EEF-A47232E8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4B07-009C-49A7-9DC0-F3229644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71A5-496E-47BA-965F-D071993F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36F6-6EC9-4349-815F-A28112BA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4245-354D-4BF4-96E4-8262910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2029-05DD-41CD-A765-9C365A08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F3E-D82F-44C0-84DA-F95BE831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2EF7-E06C-42D2-9B0F-AD13A25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125C-98DF-4290-B54C-C0BAFE94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FBC3-6B4E-4B92-850E-F39276B9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B4F7-0D8A-4180-988F-D3F2F80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E273-381B-4CB1-AA36-B4FBFFF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D149-6FFB-4929-85C1-64FA278D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0758-3CD9-481F-9A56-896CC7F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6D8C-B30C-439C-AC49-BB69CD05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1E28-F65E-4B20-AD92-7D0F5E5F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CA0C-E9BF-4029-98EF-53A5EF54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958-674D-4EDD-AB4E-800406E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A328-9857-4F7B-8399-DA5579CF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F5C8-791B-4F43-AEB5-20D25EE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4B08-5BE7-4F9C-8211-0A38946F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7F05-1E84-43F1-9647-E757419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3559-0FF9-40D7-AFC4-510650A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CD5CA-3628-472F-8984-F3001D76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7FD7-F60D-4A5D-9054-4B87AFE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AD44-615C-40D1-A6B0-A917B26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9D54-4251-4211-94E9-69F4CF63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AC33-0FA4-4B67-8F32-598AD081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91E-A697-453B-8A20-7A6BE69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DFE48-EF57-44D3-9C08-B303891F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E686-6B66-47B7-85B9-3E588598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98FAB-D6C8-4E12-A969-36669C2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FBE24-66B8-4FA2-A8C3-F33856E8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59C5-7430-4258-BAEE-49F1D87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8F21D-9151-4A96-8398-B4BE6A2E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AC259-C4E3-4B96-ACC9-5FC6B1B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A03E5-BC3B-46A4-9F2E-08562EC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6EB94-85D0-43A0-B7A2-55B3279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F876-8662-443F-9314-B084029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F0B-E19C-4AE3-8F3A-9AC8A65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8889-5AE7-47F6-BB2D-95CBE7C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0A78-8555-4FCE-92B3-E0962F8F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78D1B-A32B-41D8-8D30-2B6BD47D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A799-F073-4B9A-87D6-DF0A581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8669-5D33-4995-B755-F4ECE51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83D7-722C-4F9F-AB75-DBC0D0AF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5F4B-F61E-44B1-8325-955F705C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8AAC-C915-45EF-B780-9752EA6F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9811-94F0-4746-9E5B-8EA24C34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7FFC-A6D1-429A-8452-9C2F5CD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AA9-9EA8-4D0A-BD16-C226163C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1399-496F-43AF-B544-1C66B37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E8BC9-D69A-4977-BBAD-ADCCE00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98592-2A66-4DD7-AFBF-3DA09E22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530E-05E3-452C-BCE5-7EE0E59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2337E-4C41-4015-8AFC-35D19402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75F9-0DC1-467F-9D7A-BD612272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6A1EB-57D1-4154-B331-2ED32307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3F463-57A4-4A8C-A8A6-F0CE35D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953BF-2DD4-495C-BEF4-82DE466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FD946-63D7-42D3-B9F7-18AD5AC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713-7ECB-41E2-8B88-8A30522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79414-6687-4F43-96C5-036495E8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9212-6BE8-4F90-B62B-D75C1C1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7D75-5DE0-4716-93D0-9F616A3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D2BE-2EC6-4973-9AFF-09329FF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6D66F-B9BC-4FA4-B579-59197733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CB41-A570-48DD-AC59-E855FD17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6C7B-4334-483B-8C69-3DB61D96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83A88-1CB8-4746-BD7F-F9748950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2FFF-7412-4BC8-BF81-96918DB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4815D-EE49-41D6-BEA4-5BB94BBA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30D6-99A8-433C-BE64-FB939EB64E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430-0AD3-496A-A78D-7928B1ABB7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DE8-5563-4A5F-BD32-F267036682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0723-0B70-487D-A833-698F858865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87B2-A6A2-4C3C-A5A5-BED6937DBF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F53D-1E98-47F6-966F-05D5D1E8BE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D537-41F1-4E67-9690-27C9A76A2D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CA00-2E27-4999-873C-D7064CEB2B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DAA9-6B64-44AF-85CC-1F5BBA5440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AD6-49D7-4C98-8DCF-0766928C50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913F-28D9-465D-9669-D2D0828054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8D57-08C7-475E-8B20-3ABF451268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85AE-0D8B-43F3-8376-E083DC6A88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A43D-10F9-4BF0-923B-E36672ED56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F9B1-4F40-498E-907A-4910E45E07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7EFC-0D77-48B5-8A1C-B971D13665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313-6A2D-4810-AB6B-532141A9D5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ционально - региональный компонент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уроках 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7448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ОУ СОШ № 61 г. Тюмени Валентина Александровна  Николайч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~PP239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аппликация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я деревня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й дом родной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абушка там ждет меня -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верь скорей открой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2" name="Picture 10" descr="DSC01431"/>
          <p:cNvPicPr/>
          <p:nvPr/>
        </p:nvPicPr>
        <p:blipFill>
          <a:blip r:embed="rId1"/>
          <a:srcRect l="15502" t="0" r="11073" b="0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DSC01429"/>
          <p:cNvPicPr/>
          <p:nvPr/>
        </p:nvPicPr>
        <p:blipFill>
          <a:blip r:embed="rId2"/>
          <a:stretch/>
        </p:blipFill>
        <p:spPr>
          <a:xfrm>
            <a:off x="179280" y="2997360"/>
            <a:ext cx="56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54" name="Национально региональный26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6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декоративные сувениры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7" name="Picture 9" descr="DSC01437"/>
          <p:cNvPicPr/>
          <p:nvPr/>
        </p:nvPicPr>
        <p:blipFill>
          <a:blip r:embed="rId1"/>
          <a:stretch/>
        </p:blipFill>
        <p:spPr>
          <a:xfrm>
            <a:off x="5614920" y="3618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DSC01105"/>
          <p:cNvPicPr/>
          <p:nvPr/>
        </p:nvPicPr>
        <p:blipFill>
          <a:blip r:embed="rId2"/>
          <a:stretch/>
        </p:blipFill>
        <p:spPr>
          <a:xfrm>
            <a:off x="4643280" y="189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Фото025"/>
          <p:cNvPicPr/>
          <p:nvPr/>
        </p:nvPicPr>
        <p:blipFill>
          <a:blip r:embed="rId3"/>
          <a:stretch/>
        </p:blipFill>
        <p:spPr>
          <a:xfrm>
            <a:off x="0" y="1601640"/>
            <a:ext cx="4537080" cy="5256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рковь – храм - собор и быт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ания, что режут глаз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б ты ни бы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ы иль исповеданья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 объединяе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ь ты русский или мусульман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ом мы всег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, отчизна, и воспоминанья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забуду никог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Picture 13" descr="DSC01427"/>
          <p:cNvPicPr/>
          <p:nvPr/>
        </p:nvPicPr>
        <p:blipFill>
          <a:blip r:embed="rId1"/>
          <a:srcRect l="4921" t="5536" r="12303" b="5536"/>
          <a:stretch/>
        </p:blipFill>
        <p:spPr>
          <a:xfrm>
            <a:off x="4211640" y="1341360"/>
            <a:ext cx="4681440" cy="5256360"/>
          </a:xfrm>
          <a:prstGeom prst="rect">
            <a:avLst/>
          </a:prstGeom>
          <a:ln w="0">
            <a:noFill/>
          </a:ln>
        </p:spPr>
      </p:pic>
      <p:sp>
        <p:nvSpPr>
          <p:cNvPr id="7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6" name="Picture 7" descr="DSC01422"/>
          <p:cNvPicPr/>
          <p:nvPr/>
        </p:nvPicPr>
        <p:blipFill>
          <a:blip r:embed="rId1"/>
          <a:srcRect l="4429" t="0" r="0" b="0"/>
          <a:stretch/>
        </p:blipFill>
        <p:spPr>
          <a:xfrm>
            <a:off x="112680" y="1700280"/>
            <a:ext cx="4890960" cy="446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DSC01424"/>
          <p:cNvPicPr/>
          <p:nvPr/>
        </p:nvPicPr>
        <p:blipFill>
          <a:blip r:embed="rId2"/>
          <a:stretch/>
        </p:blipFill>
        <p:spPr>
          <a:xfrm>
            <a:off x="5219640" y="141300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DSC01417"/>
          <p:cNvPicPr/>
          <p:nvPr/>
        </p:nvPicPr>
        <p:blipFill>
          <a:blip r:embed="rId3"/>
          <a:srcRect l="0" t="5906" r="4429" b="0"/>
          <a:stretch/>
        </p:blipFill>
        <p:spPr>
          <a:xfrm>
            <a:off x="5346720" y="4232160"/>
            <a:ext cx="3797280" cy="2436840"/>
          </a:xfrm>
          <a:prstGeom prst="rect">
            <a:avLst/>
          </a:prstGeom>
          <a:ln w="0">
            <a:noFill/>
          </a:ln>
        </p:spPr>
      </p:pic>
      <p:sp>
        <p:nvSpPr>
          <p:cNvPr id="7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ная деятельность учащих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700000" y="76500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Фантазийного дерева из бисера «Бонса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древнее японское искусство)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ть деревья с листочками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о береза, сос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ихта есть и с иголками ело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 у нас из блестящего бисера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обычная крас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пусть ветер неистово серди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ган налетает и буря рев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дерево никогда не сломае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усть оно не жив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все же жив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Содержимое 6" descr="Фото019.jpg"/>
          <p:cNvPicPr/>
          <p:nvPr/>
        </p:nvPicPr>
        <p:blipFill>
          <a:blip r:embed="rId1"/>
          <a:stretch/>
        </p:blipFill>
        <p:spPr>
          <a:xfrm>
            <a:off x="179280" y="119700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773" name="Содержимое 7" descr="Фото01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376360" cy="3132360"/>
          </a:xfrm>
          <a:prstGeom prst="rect">
            <a:avLst/>
          </a:prstGeom>
          <a:ln w="0">
            <a:noFill/>
          </a:ln>
        </p:spPr>
      </p:pic>
      <p:sp>
        <p:nvSpPr>
          <p:cNvPr id="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хнология ведения домашнего хозяй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Формирование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и региональные тради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оформлении интерьера жилых помещ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празд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бряды, национальная одеж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Региональные 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циональные  традиции сервировки сто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0" descr="люлька"/>
          <p:cNvPicPr/>
          <p:nvPr/>
        </p:nvPicPr>
        <p:blipFill>
          <a:blip r:embed="rId1"/>
          <a:stretch/>
        </p:blipFill>
        <p:spPr>
          <a:xfrm>
            <a:off x="4067280" y="907920"/>
            <a:ext cx="4608360" cy="28371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комната"/>
          <p:cNvPicPr/>
          <p:nvPr/>
        </p:nvPicPr>
        <p:blipFill>
          <a:blip r:embed="rId2"/>
          <a:stretch/>
        </p:blipFill>
        <p:spPr>
          <a:xfrm>
            <a:off x="4067280" y="3933720"/>
            <a:ext cx="4681440" cy="2924280"/>
          </a:xfrm>
          <a:prstGeom prst="rect">
            <a:avLst/>
          </a:prstGeom>
          <a:ln w="0">
            <a:noFill/>
          </a:ln>
        </p:spPr>
      </p:pic>
      <p:sp>
        <p:nvSpPr>
          <p:cNvPr id="7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радиции народов и националь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59280" y="691920"/>
            <a:ext cx="608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Празднование «Масленницы» и «Проводы русской зимы»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Рисунок 2" descr="D:\Documents\8-В\торговля 2.jpg"/>
          <p:cNvPicPr/>
          <p:nvPr/>
        </p:nvPicPr>
        <p:blipFill>
          <a:blip r:embed="rId1"/>
          <a:srcRect l="12114" t="0" r="0" b="0"/>
          <a:stretch/>
        </p:blipFill>
        <p:spPr>
          <a:xfrm>
            <a:off x="179280" y="1844640"/>
            <a:ext cx="3227400" cy="486108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1" descr="D:\Documents\8-В\чучело пасхи.jpg"/>
          <p:cNvPicPr/>
          <p:nvPr/>
        </p:nvPicPr>
        <p:blipFill>
          <a:blip r:embed="rId2"/>
          <a:srcRect l="24160" t="0" r="0" b="16159"/>
          <a:stretch/>
        </p:blipFill>
        <p:spPr>
          <a:xfrm>
            <a:off x="3203640" y="3114720"/>
            <a:ext cx="2349360" cy="3743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D:\Documents\8-В\торг. 2.jpg"/>
          <p:cNvPicPr/>
          <p:nvPr/>
        </p:nvPicPr>
        <p:blipFill>
          <a:blip r:embed="rId3"/>
          <a:srcRect l="9431" t="0" r="0" b="0"/>
          <a:stretch/>
        </p:blipFill>
        <p:spPr>
          <a:xfrm>
            <a:off x="5580000" y="2708280"/>
            <a:ext cx="3384720" cy="414972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редмет – лучше в школе нашей не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Вот где можно развернуть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оказать автор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И национальный и региона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Мы  всегда  внедряем  компон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35280" y="188640"/>
            <a:ext cx="5051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едме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– Технология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3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Шить, кроить, готовить в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 доме делать все ис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тол гостям серв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и как должно их принят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т об этом на уроках мы стремимся все узн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8" descr="стол экибана"/>
          <p:cNvPicPr/>
          <p:nvPr/>
        </p:nvPicPr>
        <p:blipFill>
          <a:blip r:embed="rId1"/>
          <a:stretch/>
        </p:blipFill>
        <p:spPr>
          <a:xfrm>
            <a:off x="3924360" y="1268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711" name="~PP2392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67280" y="333000"/>
            <a:ext cx="30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Наша школа много наци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(18 национальност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одних из  последних уроков по кулинарии – приготовление любим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ывают о традициях разных народов, национальных праздниках и обр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5" name="Picture 10" descr="Изображение3в 001"/>
          <p:cNvPicPr/>
          <p:nvPr/>
        </p:nvPicPr>
        <p:blipFill>
          <a:blip r:embed="rId1"/>
          <a:srcRect l="0" t="7395" r="0" b="7352"/>
          <a:stretch/>
        </p:blipFill>
        <p:spPr>
          <a:xfrm>
            <a:off x="0" y="1700280"/>
            <a:ext cx="5867280" cy="4392720"/>
          </a:xfrm>
          <a:prstGeom prst="rect">
            <a:avLst/>
          </a:prstGeom>
          <a:ln w="0">
            <a:noFill/>
          </a:ln>
        </p:spPr>
      </p:pic>
      <p:pic>
        <p:nvPicPr>
          <p:cNvPr id="716" name="Национально региональный26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Рус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ша рисовая с сухофрук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Татар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0" name="Picture 11" descr="русская, каша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26636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чак-чак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722" name="Национально региональный262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збек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лов, ма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бхазская кух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варное мясо с острым соусо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8" descr="плов"/>
          <p:cNvPicPr/>
          <p:nvPr/>
        </p:nvPicPr>
        <p:blipFill>
          <a:blip r:embed="rId1"/>
          <a:stretch/>
        </p:blipFill>
        <p:spPr>
          <a:xfrm>
            <a:off x="826920" y="907920"/>
            <a:ext cx="3313440" cy="2449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абхазия"/>
          <p:cNvPicPr/>
          <p:nvPr/>
        </p:nvPicPr>
        <p:blipFill>
          <a:blip r:embed="rId2"/>
          <a:stretch/>
        </p:blipFill>
        <p:spPr>
          <a:xfrm>
            <a:off x="826920" y="3789360"/>
            <a:ext cx="3313440" cy="2519280"/>
          </a:xfrm>
          <a:prstGeom prst="rect">
            <a:avLst/>
          </a:prstGeom>
          <a:ln w="0">
            <a:noFill/>
          </a:ln>
        </p:spPr>
      </p:pic>
      <p:pic>
        <p:nvPicPr>
          <p:cNvPr id="728" name="Национально региональный26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316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рмя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й хлеб-лава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кра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9" descr="б-щ"/>
          <p:cNvPicPr/>
          <p:nvPr/>
        </p:nvPicPr>
        <p:blipFill>
          <a:blip r:embed="rId1"/>
          <a:stretch/>
        </p:blipFill>
        <p:spPr>
          <a:xfrm>
            <a:off x="611280" y="393372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шаш"/>
          <p:cNvPicPr/>
          <p:nvPr/>
        </p:nvPicPr>
        <p:blipFill>
          <a:blip r:embed="rId2"/>
          <a:stretch/>
        </p:blipFill>
        <p:spPr>
          <a:xfrm>
            <a:off x="611280" y="83664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734" name="Национально региональный26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0" y="18900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Груз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зербайджанская кухн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юдо из мяса – чахохб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чахохбили"/>
          <p:cNvPicPr/>
          <p:nvPr/>
        </p:nvPicPr>
        <p:blipFill>
          <a:blip r:embed="rId1"/>
          <a:stretch/>
        </p:blipFill>
        <p:spPr>
          <a:xfrm>
            <a:off x="4643280" y="4114800"/>
            <a:ext cx="3961080" cy="2409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борщ"/>
          <p:cNvPicPr/>
          <p:nvPr/>
        </p:nvPicPr>
        <p:blipFill>
          <a:blip r:embed="rId2"/>
          <a:stretch/>
        </p:blipFill>
        <p:spPr>
          <a:xfrm>
            <a:off x="4643280" y="1052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740" name="Национально региональный26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изготовление изделий с учетом национальных особенностей и традици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3" name="Picture 2" descr="D:\Documents\мисс школьница\DSC00260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5589720"/>
          </a:xfrm>
          <a:prstGeom prst="rect">
            <a:avLst/>
          </a:prstGeom>
          <a:ln w="0">
            <a:noFill/>
          </a:ln>
        </p:spPr>
      </p:pic>
      <p:pic>
        <p:nvPicPr>
          <p:cNvPr id="744" name="Национально региональный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аппликац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46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Picture 5" descr="DSC01433"/>
          <p:cNvPicPr/>
          <p:nvPr/>
        </p:nvPicPr>
        <p:blipFill>
          <a:blip r:embed="rId1"/>
          <a:srcRect l="17717" t="0" r="2215" b="0"/>
          <a:stretch/>
        </p:blipFill>
        <p:spPr>
          <a:xfrm>
            <a:off x="4648320" y="1844640"/>
            <a:ext cx="4495680" cy="4176720"/>
          </a:xfrm>
          <a:prstGeom prst="rect">
            <a:avLst/>
          </a:prstGeom>
          <a:ln w="0">
            <a:noFill/>
          </a:ln>
        </p:spPr>
      </p:pic>
      <p:pic>
        <p:nvPicPr>
          <p:cNvPr id="749" name="Национально региональный27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09:49Z</dcterms:created>
  <dc:creator>XP</dc:creator>
  <dc:description/>
  <dc:language>en-US</dc:language>
  <cp:lastModifiedBy>LEGION</cp:lastModifiedBy>
  <dcterms:modified xsi:type="dcterms:W3CDTF">2015-03-31T08:33:13Z</dcterms:modified>
  <cp:revision>120</cp:revision>
  <dc:subject/>
  <dc:title>Слайд 1</dc:title>
</cp:coreProperties>
</file>