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B79B-A87E-4FDD-A9B3-E5E1DF260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а 4. Соединения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нятие 4/3</a:t>
            </a:r>
            <a:br>
              <a:rPr sz="16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кция № 13. Резьбовые соединения (РС)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18EF-76C2-4E17-A3E8-E9B8D59D50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13.1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ияние профильного угла резьбы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/2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величину приведённых коэффициента и угла т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6901-B89D-4ACC-835D-82E11D5232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ПД винтовой п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едущем вращательном дви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DF2D-6557-4DC9-8DD5-26F98DEEC7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порение резьбовы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топорение резьбового соединения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менение любого из приёмов борьбы с самоотвинчиванием резьбовых соединен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стопор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) создание повышенных усилий трения между витками резьб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инта и гайки (пружинные шайбы, гайки с контргайками, предварительно обжатые гайки, гайки с пластмассовой вставкой, свинчивание на краску или клей и т.п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 жёсткая взаимная фиксация свинченных дета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руг относительно друга (шплинты и корончатые гайки, обвязка проволокой, отгибные шайбы с усиками, пружинные кольца с усом, кернение в резьбу, обварка в резьбу и т.п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) фиксация резьбовых деталей относительно скрепляемых дета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отгибные шайбы на корпус, закрепление головки болта в канавке корпуса или фланца, прихватка к корпусу или фланцу сваркой и т.п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3BAA-6596-48EF-98A4-2ABFC89A74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порение резьбовых соединени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. 13.11. Некоторые способы стопорения резьбовых соединени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кой пружинной шайбы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ужинная шайба в свободном состоянии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онная гайка со шплинтом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гибная шайба с усом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вязка болтов проволокой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клёпывание выступающего конца болта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ернение в резьбу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хватка сваркой в резьбу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67B4-099B-4496-856D-D15CA2D80A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ностной расчёт РС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значение прочностных характеристик стальных крепёжных резьбовых деталей стандартизовано и состоит из двух цифр, разделённых точкой (в некоторых документах точка не ставится): первая цифра представляет предел прочности материала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ыраженный в МПа и поделённый на 100; вторая цифра (стоящая после точки) равна отношению предела текуче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атериала к его пределу прочности умноженному на 10. В стандарте представлен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 классов прочност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4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4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5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5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6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6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6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8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0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2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4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обозначения стандартного болта в спецификации к сборочному чертежу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олт М10-6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0.58.ГОСТ 7798-7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обых требованиях к материалу в обозначение вводится марка стали, например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олт М10-6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0.58-4Х13. ГОСТ 7798-7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необходима повышенная кислотостойкость бол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5CF3-0A1C-4F8D-BE0D-CC947E07CA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жке резьбового соединения и в процессе его последующей работы в деталях соединения действуют сам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нообразные напря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Так, например, под действием осевой силы в болтовом соединении сечение тела болта нагружен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ягивающими напряжения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переходной области между телом и головкой возникаю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сательные напря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в витках резьб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яжения изги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дновременно. Таким образом,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элементов резьбового соединения является основным критерием работоспособ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Часто наблюд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ы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ла винта в области первых одного-двух витков резьбы, считая от опорного торца гайки. У соединений с мелкими резьбами возможен срез витков резьб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ные болты, винты шпильки, гайки с крупными шагами спроектированы по условия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внопро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о есть таким образом, что разрушение по любому из видов напряжений может произойти приметно при одной и той же нагрузке на соединение. Это условие позволя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варительный (проектный) расчёт соединения выполнять в упрощенном вариант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41B5-8C09-428C-84F6-55FFECF050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етные схемы и форм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ий диаметр резьбы резьбового стержня по заданному внешнему усилию выбирают по формул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63B3-3728-4B5F-8661-5C0C4D3C93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таблицы стандартных резьб по данному внутреннему диаметру и выбранному шагу резьбы можно подобрать необходимый диаметр стержн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D80B-FC40-42D0-AC22-F0F429D81C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случае тело болта нагружается перерезывающей силой, и диаметр призонной части болта определяется из расчёта на срез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плоскостей среза;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(0,2…0,3)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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допускаемые напряжения материала болта на срез. За диаметр резьбовой части болта принимают ближайший стандартный диаметр резьбы, меньший диаметра цилиндрической ч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3849-D6D9-4410-935B-4913B525DA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сложными расчетными схемами резьбовых соединений являются статически неопределимые схемы. В таких схемах долю нагрузки, приходящейся на каждый болт (винт, шпильку), определить непосредственно из уравнений статики (уравнений равновесия) не представляется возможным. Расчёт таких резьбовых соединений выполняется с учётом дополнительных условий, наиболее часто таким дополнительным условием является условие совместности деформаций, учитывающее как деформацию резьбовых деталей соединения, так и деформацию соединяемых деталей. Наиболее часто встречающимися задачами такого рода можно считать 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расчет группового соединения, воспринимающего моментную нагрузк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верка способности соединения воспринимать переменную нагрузк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оверка соединения на нераскрытие сты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роверка соединения на восприятие температурной нагруз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A23C-B56E-4D2F-89DC-66DFFC67D5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зьбовые соедине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это разборные соединения с применением резьбовых крепёжных деталей (винтов, болтов, шпилек, гаек) или резьбовых элементов, выполненных на самих  соединяемых дета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признаком резьбового соединения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ичие резьб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тя бы на некоторых из деталей, входящих в соедин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зьбой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называют совокупность чередующихся выступов и впадин определённого профиля, расположенны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 винтовой лин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на поверхности тела вращения (обычно цилиндра или конус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5F59-6D7C-4F08-99BD-B7CD4A27DD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борке соединения (рис. 13.15 а) каждый из болтов нагружается усилием затяжки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од действием этого усилия болт получает удлин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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тягиваемые детали сжимаются, получая укороч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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атливость болта и стягиваемых деталей, соответственно. Податливость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особность деформироваться, свойство противоположное жёсткости, в системе СИ его размерность м/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заполнения ресивера газом под давлением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о стремится оторвать крышку от цилиндра ресивера, дополнительно нагружая болты резьбового соединения и одновременно разгружая сжатые при затяжке болтов детали. Величина приходящейся на каждый болт нагрузки найдётся из с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D259-E76C-4524-9718-7DF702B909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нутренний диаметр ресивера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авление газа в ресивере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болтов, крепящих крышку ресивера. Под действием этого усилия болт получит дополнительное удлин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 как сжимаемые детали и болт с гайкой находятся в непосредственном контакте, то на эту же величину возрастёт длина сжатых деталей, напряжения сжатия в которых за счёт этого уменьша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ю рабочей нагрузки, затраченную на удлинение болта, обозначим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читается «хи»), тогда на удлинение сжатых деталей будет затрачена    оставшаяся (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часть рабочей нагрузки. Условие совместности деформации в этом случае запишется 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удлинение болта равное удлинению стягиваемых деталей;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атливость болта;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атливость соединяемых дета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авенства (13.16) получ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ая нагрузка на болт в этом случа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B950-6DA3-4617-A37B-9D2390BEEA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я (13.18) и (13.19), видим, что чем выше податливость болта  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), тем меньшая доля рабочей нагрузки приходится непосредственно на бол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ектном приближённом расчёте приним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альных и чугунных деталей, стягиваемых без прокладки,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0,2…0,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аких же деталей, но при наличии между ними упругой прокладки, (поранит, картон, тонкая листовая резина и т.п.)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0,4…0,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сть деформации стягиваемых деталей и болтов будет сохраться до тех пор, пока удлинение сжатых деталей, вызванное рабочей нагрузкой, не сравняется по величине с их укорочением, созданным при предварительной затяжке резьбы, то есть до момента, к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евышении рабочей нагрузкой значения, полученного в (13.20), крышка ресивера отойдёт от фланца корпуса (освободит прокладку) и между стягиваемым деталями появится зазор, то есть произойдё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крытие сты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рушится плотность соедин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8F75-B0A0-493B-AC7C-A4267B1329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актических расчетах с целью обеспечения нераскрытия стыка приним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эффициент запаса затяжки болтового соединения: при статической  нагрузке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1,25…2,0,  при  меняющейся  нагрузке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2,5…4,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честве расчётной нагрузки болта с учётом напряжений кручения, возникающих при затяжке соединения, при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с учетом (13.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E0E7-B464-4A3F-99E8-3BEE2385B1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. 13.1. Образование винтовой линии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 и треугольной резьбы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метр несущего цилиндра (наружный диаметр резьб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д винтовой ли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одъёма винтовой ли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CA6D-87BE-4A04-B962-C174DE4C09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стоин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озможность создания больших осевых нагрузок при малых усилиях на инструмен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возможность фиксации в затянутом состоянии (самоторможени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удобство сборки и разборки с применением стандартных инстр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ростота конструкции и возможность точного изгото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наличие широкой номенклатуры стандартных крепёжных изделий (винты, болты гайк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низкая стоимость крепёжных изделий благодаря массовости и высокой степени автоматизации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малые габариты в сравнении с соединяемыми дета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ысокая концентрация напряжений в дне резьбовой канав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значительные энергопотери в подвижных резьбовых соединениях (низкий КПД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большая неравномерность распределения нагрузки по виткам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склонность к самоотвинчнванию при знакопеременных нагруз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слабление соединения и быстрый износ резьбы при частых сборках и разбор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0FA2-3E50-4070-9CD2-881FC711D5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резь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сплуатационном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начени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епёжная, крепёжно-уплотняющая, ходовая (для преобразования движения), специальная (например, ниппельная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форме поверх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есущей резьбу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илиндрическая и коническ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форме профи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ы в поперечном сечении нарезки (рис. 13.2)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угольная, трапецеидальная, упорная, прямоугольная, кругл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расположени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руж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внутрення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еличине ша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резк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рмальная (с крупным шагом нарезки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лкая (с уменьшенным шагом нарезки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по направлению нарезк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ав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именяется чаще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е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по числу заходов (по количеству параллельных гребешков движущихся вдоль одной и той же винтовой линии)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дно-, двух-, трёх-, и т.д., многозах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сходн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трической систем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р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юймо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4C02-C37D-4FA5-B7FB-350DFB0C1D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юймо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репёжна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внешнему виду подобна метрической. Профиль дюймовой резьбы в диаметральном сечении имеет вид равнобедренного треугольника с углом при вершине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место шага для этой резьбы задаё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ло витков (ниток) на один дюй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ины (1 дюйм = 25,4 м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368D-6970-45AE-B938-3890CA56F7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зьба мет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геометрические парамет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трическ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ьбы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минальный диаметр резьбы (наружный диаметр болта или винта) обозначается букво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цифрой, равной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в мм, например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2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нутренний диаметр резьбы гай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утренний диаметр резьбы ви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редний диаметр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аг резьбы – расстояние между соседними гребнями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д резьбы – расстояние между соседними гребнями резьбы, принадлежащими одному гребню нарез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рофиля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одъёма рез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ормальных (с крупными шагами) метрических резьб, имеющих диаметр в интервале 2…68 мм, внутренний диаметр можно вычислить по эмпирической форму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EA88-5E7E-4F87-9237-2F5AC52023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лы в Р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движения гайки вверх при вращении винта по часовой стрелке с угловой скоростью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тангенциальная сила на витках винта и осевая сила на витках гайки связаны соотноше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00FC-5F04-4581-A5F9-46049D417A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едставленных соотношений видно, что с точки зрения удержания резьбового соединени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тянутом положении наиболее надёжной является метрическая 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 точки зрения уменьшения потерь энерг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подвижных винтовых кинематических парах наилучшей является прямоугольная 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м. табл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A39F-EA4A-4B57-A9B6-E23DD9BA08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5D7F-BA8E-45CA-8A1E-2AD78A1F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84E-E673-4B25-8962-7C20C695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C96-7467-445F-93E7-CFD8CC97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00F-AFAD-45D2-AE26-99E98793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90D7-F45F-41AF-A8CA-43997784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1919-D318-48FA-A9FC-7C358664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0854-BA78-40A8-ADEA-4E0075AA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E692-1CA7-4C28-A465-929190BD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0F5C-BFC1-4E44-8011-D76B0D8A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A45C-C173-4ACA-94CB-020E9EE4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B06C-7523-421F-9468-6D7B386F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AAF-69EA-48CE-89CB-673672C1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5472-7EB1-4607-9FEB-0CDCDDBD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F971-1E94-49D3-9F72-F25E3634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1EFE-EBC6-4C90-B421-4E067970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E3B4-447F-4C2F-99A6-6D72FC70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826A-F558-4207-A2DA-508BC0AB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F65-7EB6-441E-9C4D-5B687F6C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D18-3F9C-4007-A960-2CDE6803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767-5C69-4DC7-AA46-F83FB0C5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139-01F8-40D5-8D44-885FBFF2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483-5EE4-4D05-BD84-B0CB5DCE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E20-B179-4AAB-B514-DD497726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285-942B-4FF0-B99C-C4CB0B61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71A4-EA79-43CD-996D-FB26E323DC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E8A7-A1ED-4F26-9C66-7C105632A32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ма 4. Соедин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нятие 4/3</a:t>
            </a:r>
            <a:br>
              <a:rPr sz="32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екция № 13. Резьбовые соединения (РС)</a:t>
            </a:r>
            <a:br>
              <a:rPr sz="32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50920" y="2046240"/>
            <a:ext cx="849780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ы, изложенные в лек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я и кинематика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лы в РС, передача энергии, стопорение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чностной расчёт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чебная литератур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тали машин и подъемное оборудование. Под  рук.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.И. Мельнико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М.: Воениздат, 1980. стр. 299-32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.Г. Кукли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др. Детали машин: Учебник для техникумов / Н.Г. Куклин, Г.С. Куклина, В.К. житков.- 5-е изд., перераб. и допол.- М.: Илекса, 1999.- с. 48…7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ловьев В.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етали машин (Курс лекций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часть). - Новосибирск: НВИ, 1997. стр. 30-7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блица 13.1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лияние профильного угла резьбы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/2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 величину приведённых коэффициента и угла тр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648320" y="2616120"/>
          <a:ext cx="4194000" cy="14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616120"/>
                    <a:ext cx="4194000" cy="1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34"/>
          <p:cNvGraphicFramePr/>
          <p:nvPr/>
        </p:nvGraphicFramePr>
        <p:xfrm>
          <a:off x="5114880" y="4957920"/>
          <a:ext cx="3260880" cy="109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1" name="Object 1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4880" y="4957920"/>
                    <a:ext cx="3260880" cy="1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50920" y="1341360"/>
          <a:ext cx="8713800" cy="5410440"/>
        </p:xfrm>
        <a:graphic>
          <a:graphicData uri="http://schemas.openxmlformats.org/drawingml/2006/table">
            <a:tbl>
              <a:tblPr/>
              <a:tblGrid>
                <a:gridCol w="1473120"/>
                <a:gridCol w="1984320"/>
                <a:gridCol w="1068480"/>
                <a:gridCol w="2093760"/>
                <a:gridCol w="2094120"/>
              </a:tblGrid>
              <a:tr h="366120">
                <a:tc gridSpan="2"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ьб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2,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а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едённые показ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ительный коэффициент трения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'/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едённый угол трения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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градус., при фактическом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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6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ямоуго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р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юйм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пецеида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0" rIns="36000" tIns="36000" bIns="360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рная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дняя гра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няя гра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гл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ПД винтовой пар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9179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ведущем вращательном дви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5508720" y="1197000"/>
                <a:ext cx="30240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Text Box 6"/>
          <p:cNvSpPr/>
          <p:nvPr/>
        </p:nvSpPr>
        <p:spPr>
          <a:xfrm>
            <a:off x="250920" y="3357720"/>
            <a:ext cx="49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ведущем поступательном дви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5580000" y="2924280"/>
                <a:ext cx="295128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ψ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1" name="Text Box 9"/>
          <p:cNvSpPr/>
          <p:nvPr/>
        </p:nvSpPr>
        <p:spPr>
          <a:xfrm>
            <a:off x="324000" y="4581360"/>
            <a:ext cx="856908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Если угол подъема винтовой линии резьбы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≤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Tahoma"/>
              </a:rPr>
              <a:t>’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иведенного угла трения,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еобразование поступательного движения во вращательное невозмож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опорение резьбовых соединен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0" y="836640"/>
            <a:ext cx="9144000" cy="59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Стопорение резьбового соединения 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применение любого из приёмов борьбы с самоотвинчиванием резьбовых соединени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Виды стопорени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) создание повышенных усилий трения между витками резьбы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винта и гайки (пружинные шайбы, гайки с контргайками, предварительно обжатые гайки, гайки с пластмассовой вставкой, свинчивание на краску или клей и т.п.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2) жёсткая взаимная фиксация свинченных детал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друг относительно друга (шплинты и корончатые гайки, обвязка проволокой, отгибные шайбы с усиками, пружинные кольца с усом, кернение в резьбу, обварка в резьбу и т.п.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3) фиксация резьбовых деталей относительно скрепляемых детал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(отгибные шайбы на корпус, закрепление головки болта в канавке корпуса или фланца, прихватка к корпусу или фланцу сваркой и т.п.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опорение резьбовых соединен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67" name="Picture 4" descr="СоедРез(стопор)"/>
          <p:cNvPicPr/>
          <p:nvPr/>
        </p:nvPicPr>
        <p:blipFill>
          <a:blip r:embed="rId1"/>
          <a:stretch/>
        </p:blipFill>
        <p:spPr>
          <a:xfrm>
            <a:off x="2340000" y="981000"/>
            <a:ext cx="4392720" cy="38894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6"/>
          <p:cNvSpPr/>
          <p:nvPr/>
        </p:nvSpPr>
        <p:spPr>
          <a:xfrm>
            <a:off x="324000" y="4941720"/>
            <a:ext cx="8569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1. Некоторые способы стопорения резьбовых соединений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становкой пружинной шайбы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ужинная шайба в свободном состоянии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ронная гайка со шплинтом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гибная шайба с усом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вязка болтов проволокой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клёпывание выступающего конца болта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ж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ернение в резьбу;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хватка сваркой в резьбу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рочностной расчёт РС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означение прочностных характеристик стальных крепёжных резьбовых деталей стандартизовано и состоит из двух цифр, разделённых точкой (в некоторых документах точка не ставится): первая цифра представляет предел прочности материала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выраженный в МПа и поделённый на 100; вторая цифра (стоящая после точки) равна отношению предела текучести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материала к его пределу прочности умноженному на 10. В стандарте представлены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2 классов прочности: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3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4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4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5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5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6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6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6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8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0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2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4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мер обозначения стандартного болта в спецификации к сборочному чертежу: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Болт М10-6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100.58.ГОСТ 7798-70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 особых требованиях к материалу в обозначение вводится марка стали, например: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Болт М10-6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100.58-4Х13. ГОСТ 7798-70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(необходима повышенная кислотостойкость болта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затяжке резьбового соединения и в процессе его последующей работы в деталях соединения действуют самые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нообразные напряж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Так, например, под действием осевой силы в болтовом соединении сечение тела болта нагружено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стягивающими напряжения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в переходной области между телом и головкой возникаю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сательные напряж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в витках резьбы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пряжения изги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мят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рез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дновременно. Таким образом,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очность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элементов резьбового соединения является основным критерием работоспособ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Часто наблюдае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ры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ела винта в области первых одного-двух витков резьбы, считая от опорного торца гайки. У соединений с мелкими резьбами возможен срез витков резь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ндартные болты, винты шпильки, гайки с крупными шагами спроектированы по условиям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внопроч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то есть таким образом, что разрушение по любому из видов напряжений может произойти приметно при одной и той же нагрузке на соединение. Это условие позволяе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дварительный (проектный) расчёт соединения выполнять в упрощенном варианте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четные схемы и формул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76" name="Picture 4" descr="СоедРез(РазрывРасчет)"/>
          <p:cNvPicPr/>
          <p:nvPr/>
        </p:nvPicPr>
        <p:blipFill>
          <a:blip r:embed="rId1"/>
          <a:stretch/>
        </p:blipFill>
        <p:spPr>
          <a:xfrm>
            <a:off x="324000" y="1052640"/>
            <a:ext cx="3095640" cy="26859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6"/>
          <p:cNvSpPr/>
          <p:nvPr/>
        </p:nvSpPr>
        <p:spPr>
          <a:xfrm>
            <a:off x="179280" y="3933720"/>
            <a:ext cx="349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2. Болтовое соединение, нагруженное растягивающей сило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3635280" y="1052640"/>
            <a:ext cx="51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утрений диаметр резьбы резьбового стержня по заданному внешнему усилию выбирают по формул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8"/>
              <p:cNvSpPr txBox="1"/>
              <p:nvPr/>
            </p:nvSpPr>
            <p:spPr>
              <a:xfrm>
                <a:off x="5076720" y="2492280"/>
                <a:ext cx="2087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σ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1" name="Text Box 10"/>
          <p:cNvSpPr/>
          <p:nvPr/>
        </p:nvSpPr>
        <p:spPr>
          <a:xfrm>
            <a:off x="3635280" y="3789360"/>
            <a:ext cx="5329440" cy="28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силие воспринимаемое резьбовым соединение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внутренний диаметр резьбовой части стержн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допускаемые напряжения для материала стержня при растяжен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4" descr="СоедРез(СдвигРасчет)"/>
          <p:cNvPicPr/>
          <p:nvPr/>
        </p:nvPicPr>
        <p:blipFill>
          <a:blip r:embed="rId1"/>
          <a:stretch/>
        </p:blipFill>
        <p:spPr>
          <a:xfrm>
            <a:off x="250920" y="260280"/>
            <a:ext cx="3457440" cy="30006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7"/>
          <p:cNvSpPr/>
          <p:nvPr/>
        </p:nvSpPr>
        <p:spPr>
          <a:xfrm>
            <a:off x="0" y="3429000"/>
            <a:ext cx="3816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3. Болтовое соединение, нагруженное поперечной сил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тали от взаимного смещения удерживаются силой тре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4284720" y="26028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4211640" y="189000"/>
            <a:ext cx="47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утрений диаметр резьбы резьбового стержня по заданному внешнему усилию выбирают по формул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10"/>
              <p:cNvSpPr txBox="1"/>
              <p:nvPr/>
            </p:nvSpPr>
            <p:spPr>
              <a:xfrm>
                <a:off x="5003640" y="1844640"/>
                <a:ext cx="30974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σ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9" name="Text Box 12"/>
          <p:cNvSpPr/>
          <p:nvPr/>
        </p:nvSpPr>
        <p:spPr>
          <a:xfrm>
            <a:off x="4356000" y="2997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4140360" y="3357720"/>
            <a:ext cx="47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коэффициент трения для контактирующих поверхностей деталей, остальные величины определены выш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0" y="5013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я таблицы стандартных резьб по данному внутреннему диаметру и выбранному шагу резьбы можно подобрать необходимый диаметр стержня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5"/>
              <p:cNvSpPr txBox="1"/>
              <p:nvPr/>
            </p:nvSpPr>
            <p:spPr>
              <a:xfrm>
                <a:off x="2987640" y="6021360"/>
                <a:ext cx="252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СоедРез(СрезРасчет)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283032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179280" y="299736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4. Соединение деталей призонным болтом, нагруженное поперечной сило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4067280" y="260280"/>
            <a:ext cx="50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4246560" y="260280"/>
            <a:ext cx="489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м случае тело болта нагружается перерезывающей силой, и диаметр призонной части болта определяется из расчёта на срез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9"/>
              <p:cNvSpPr txBox="1"/>
              <p:nvPr/>
            </p:nvSpPr>
            <p:spPr>
              <a:xfrm>
                <a:off x="5076720" y="1628640"/>
                <a:ext cx="244944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1" name="Text Box 11"/>
          <p:cNvSpPr/>
          <p:nvPr/>
        </p:nvSpPr>
        <p:spPr>
          <a:xfrm>
            <a:off x="4390920" y="3068640"/>
            <a:ext cx="4753080" cy="27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число плоскостей срез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(0,2…0,3)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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допускаемые напряжения материала болта на срез. За диаметр резьбовой части болта принимают ближайший стандартный диаметр резьбы, меньший диаметра цилиндрической ча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01680" y="189000"/>
            <a:ext cx="85406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е сложными расчетными схемами резьбовых соединений являются статически неопределимые схемы. В таких схемах долю нагрузки, приходящейся на каждый болт (винт, шпильку), определить непосредственно из уравнений статики (уравнений равновесия) не представляется возможным. Расчёт таких резьбовых соединений выполняется с учётом дополнительных условий, наиболее часто таким дополнительным условием является условие совместности деформаций, учитывающее как деформацию резьбовых деталей соединения, так и деформацию соединяемых деталей. Наиболее часто встречающимися задачами такого рода можно считать задач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расчет группового соединения, воспринимающего моментную нагрузк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проверка способности соединения воспринимать переменную нагрузк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проверка соединения на нераскрытие сты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проверка соединения на восприятие температурной нагруз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Определения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езьбовые соединения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– это разборные соединения с применением резьбовых крепёжных деталей (винтов, болтов, шпилек, гаек) или резьбовых элементов, выполненных на самих  соединяемых детал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м признаком резьбового соединения является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личие резьб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хотя бы на некоторых из деталей, входящих в соедин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езьбой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называют совокупность чередующихся выступов и впадин определённого профиля, расположенных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 винтовой лини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на поверхности тела вращения (обычно цилиндра или конуса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4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честве примера рассмотрим расчет стыкового соединения крышки с корпусом ресивера (рис.13.15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6" name="Picture 5" descr="СоедРез(СтыкРасчет)"/>
          <p:cNvPicPr/>
          <p:nvPr/>
        </p:nvPicPr>
        <p:blipFill>
          <a:blip r:embed="rId1"/>
          <a:stretch/>
        </p:blipFill>
        <p:spPr>
          <a:xfrm>
            <a:off x="0" y="692280"/>
            <a:ext cx="3419640" cy="277812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6"/>
          <p:cNvSpPr/>
          <p:nvPr/>
        </p:nvSpPr>
        <p:spPr>
          <a:xfrm>
            <a:off x="0" y="357336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с. 13.15. Болтовое соединение корпуса и крышки ресиве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3419640" y="692280"/>
            <a:ext cx="5724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борке соединения (рис. 13.15 а) каждый из болтов нагружается усилием затяжки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Под действием этого усилия болт получает удлин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стягиваемые детали сжимаются, получая укороч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гд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датливость болта и стягиваемых деталей, соответственно. Податливость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пособность деформироваться, свойство противоположное жёсткости, в системе СИ его размерность м/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0" y="4437000"/>
            <a:ext cx="9144000" cy="23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заполнения ресивера газом под давлением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но стремится оторвать крышку от цилиндра ресивера, дополнительно нагружая болты резьбового соединения и одновременно разгружая сжатые при затяжке болтов детали. Величина приходящейся на каждый болт нагрузки найдётся из соотнош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9"/>
              <p:cNvSpPr txBox="1"/>
              <p:nvPr/>
            </p:nvSpPr>
            <p:spPr>
              <a:xfrm>
                <a:off x="3635280" y="5973840"/>
                <a:ext cx="19702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0" y="0"/>
            <a:ext cx="9144000" cy="73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внутренний диаметр ресивера;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давление газа в ресивере;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число болтов, крепящих крышку ресивера. Под действием этого усилия болт получит дополнительное удлин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так как сжимаемые детали и болт с гайкой находятся в непосредственном контакте, то на эту же величину возрастёт длина сжатых деталей, напряжения сжатия в которых за счёт этого уменьша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ю рабочей нагрузки, затраченную на удлинение болта, обозначим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читается «хи»), тогда на удлинение сжатых деталей будет затрачена    оставшаяся (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часть рабочей нагрузки. Условие совместности деформации в этом случае запишется ка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удлинение болта равное удлинению стягиваемых деталей;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датливость болта;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датливость соединяемых дета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равенства (13.16) получа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ая нагрузка на болт в этом случа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9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5"/>
              <p:cNvSpPr txBox="1"/>
              <p:nvPr/>
            </p:nvSpPr>
            <p:spPr>
              <a:xfrm>
                <a:off x="1476360" y="3500280"/>
                <a:ext cx="563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=</m:t>
                    </m:r>
                    <m:r>
                      <m:t xml:space="preserve">χ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7"/>
              <p:cNvSpPr txBox="1"/>
              <p:nvPr/>
            </p:nvSpPr>
            <p:spPr>
              <a:xfrm>
                <a:off x="2484360" y="5348160"/>
                <a:ext cx="2835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2843280" y="6262560"/>
                <a:ext cx="2641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χ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0" y="0"/>
            <a:ext cx="914400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ируя (13.18) и (13.19), видим, что чем выше податливость болта   (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), тем меньшая доля рабочей нагрузки приходится непосредственно на бол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роектном приближённом расчёте принимаю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стальных и чугунных деталей, стягиваемых без прокладки,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0,2…0,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таких же деталей, но при наличии между ними упругой прокладки, (поранит, картон, тонкая листовая резина и т.п.)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0,4…0,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ость деформации стягиваемых деталей и болтов будет сохраться до тех пор, пока удлинение сжатых деталей, вызванное рабочей нагрузкой, не сравняется по величине с их укорочением, созданным при предварительной затяжке резьбы, то есть до момента, ког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5"/>
              <p:cNvSpPr txBox="1"/>
              <p:nvPr/>
            </p:nvSpPr>
            <p:spPr>
              <a:xfrm>
                <a:off x="19080" y="311040"/>
                <a:ext cx="2298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Rectangle 8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7"/>
              <p:cNvSpPr txBox="1"/>
              <p:nvPr/>
            </p:nvSpPr>
            <p:spPr>
              <a:xfrm>
                <a:off x="2843280" y="3933720"/>
                <a:ext cx="320652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δl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Δl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χ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F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F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χ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26" name="Text Box 9"/>
          <p:cNvSpPr/>
          <p:nvPr/>
        </p:nvSpPr>
        <p:spPr>
          <a:xfrm>
            <a:off x="0" y="5300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ревышении рабочей нагрузкой значения, полученного в (13.20), крышка ресивера отойдёт от фланца корпуса (освободит прокладку) и между стягиваемым деталями появится зазор, то есть произойдё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скрытие сты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рушится плотность соедин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4"/>
          <p:cNvSpPr/>
          <p:nvPr/>
        </p:nvSpPr>
        <p:spPr>
          <a:xfrm>
            <a:off x="0" y="0"/>
            <a:ext cx="914400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актических расчетах с целью обеспечения нераскрытия стыка приним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коэффициент запаса затяжки болтового соединения: при статической  нагрузке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1,25…2,0,  при  меняющейся  нагрузке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2,5…4,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честве расчётной нагрузки болта с учётом напряжений кручения, возникающих при затяжке соединения, приним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 учетом (13.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3.24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5"/>
              <p:cNvSpPr txBox="1"/>
              <p:nvPr/>
            </p:nvSpPr>
            <p:spPr>
              <a:xfrm>
                <a:off x="3059280" y="0"/>
                <a:ext cx="2936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7"/>
              <p:cNvSpPr txBox="1"/>
              <p:nvPr/>
            </p:nvSpPr>
            <p:spPr>
              <a:xfrm>
                <a:off x="2484360" y="1197000"/>
                <a:ext cx="3826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т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9"/>
              <p:cNvSpPr txBox="1"/>
              <p:nvPr/>
            </p:nvSpPr>
            <p:spPr>
              <a:xfrm>
                <a:off x="2916360" y="3645000"/>
                <a:ext cx="3368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3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χ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Rectangle 1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1"/>
              <p:cNvSpPr txBox="1"/>
              <p:nvPr/>
            </p:nvSpPr>
            <p:spPr>
              <a:xfrm>
                <a:off x="2050920" y="4581360"/>
                <a:ext cx="47721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,3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т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0" y="6254640"/>
            <a:ext cx="91440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  <a:ea typeface="Lucida Sans Unicode"/>
              </a:rPr>
              <a:t>Успехов в учебе!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  <a:ea typeface="Lucida Sans Unicode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СоедРез(ВлинРезьба)"/>
          <p:cNvPicPr/>
          <p:nvPr/>
        </p:nvPicPr>
        <p:blipFill>
          <a:blip r:embed="rId1"/>
          <a:stretch/>
        </p:blipFill>
        <p:spPr>
          <a:xfrm>
            <a:off x="755640" y="260280"/>
            <a:ext cx="7916760" cy="33004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7"/>
          <p:cNvSpPr/>
          <p:nvPr/>
        </p:nvSpPr>
        <p:spPr>
          <a:xfrm>
            <a:off x="826920" y="3788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. Образование винтовой линии (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 и треугольной резьбы (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755640" y="4797360"/>
            <a:ext cx="770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метр несущего цилиндра (наружный диаметр резьб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д винтовой лин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гол подъёма винтовой ли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Достоинства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1) возможность создания больших осевых нагрузок при малых усилиях на инструменте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2) возможность фиксации в затянутом состоянии (самоторможение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3) удобство сборки и разборки с применением стандартных инструментов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4) простота конструкции и возможность точного изготовления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5) наличие широкой номенклатуры стандартных крепёжных изделий (винты, болты гайки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6) низкая стоимость крепёжных изделий благодаря массовости и высокой степени автоматизации производства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7) малые габариты в сравнении с соединяемыми деталями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Недостатки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1) высокая концентрация напряжений в дне резьбовой канавки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2) значительные энергопотери в подвижных резьбовых соединениях (низкий КПД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3) большая неравномерность распределения нагрузки по виткам резьбы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4) склонность к самоотвинчнванию при знакопеременных нагрузках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5) ослабление соединения и быстрый износ резьбы при частых сборках и разборках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40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Классификация резьб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785520"/>
            <a:ext cx="91440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эксплуатационному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назначению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крепёжная, крепёжно-уплотняющая, ходовая (для преобразования движения), специальная (например, ниппельная)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форме поверхност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несущей резьбу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цилиндрическая и коническ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форме профил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езьбы в поперечном сечении нарезки (рис. 13.2) 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треугольная, трапецеидальная, упорная, прямоугольная, кругл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расположению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наружн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внутрення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величине шаг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нарезки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нормальная (с крупным шагом нарезки)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мелкая (с уменьшенным шагом нарезки)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6) по направлению нарезки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прав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применяется чаще) 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лев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7) по числу заходов (по количеству параллельных гребешков движущихся вдоль одной и той же винтовой линии)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одно-, двух-, трёх-, и т.д., многозаходн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8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исходной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метрической систем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метрическ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дюймов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СоедРез(ВидыРезьб)"/>
          <p:cNvPicPr/>
          <p:nvPr/>
        </p:nvPicPr>
        <p:blipFill>
          <a:blip r:embed="rId1"/>
          <a:stretch/>
        </p:blipFill>
        <p:spPr>
          <a:xfrm>
            <a:off x="0" y="260280"/>
            <a:ext cx="4643280" cy="1293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СоедРез(РезьбаМетр)"/>
          <p:cNvPicPr/>
          <p:nvPr/>
        </p:nvPicPr>
        <p:blipFill>
          <a:blip r:embed="rId2"/>
          <a:stretch/>
        </p:blipFill>
        <p:spPr>
          <a:xfrm>
            <a:off x="4716360" y="189000"/>
            <a:ext cx="4427640" cy="21780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250920" y="1773360"/>
            <a:ext cx="43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2. различные профили резьб: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треуго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трапециеда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порный;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ямоуго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руглы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4716360" y="242100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3. Профиль нарезк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трической резь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4716360" y="3429000"/>
            <a:ext cx="41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юймов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репёжна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 внешнему виду подобна метрической. Профиль дюймовой резьбы в диаметральном сечении имеет вид равнобедренного треугольника с углом при вершине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= 55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Вместо шага для этой резьбы задаё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исло витков (ниток) на один дюй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лины (1 дюйм = 25,4 м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3" descr="СоедРез(РезьбаТрубТрап)"/>
          <p:cNvPicPr/>
          <p:nvPr/>
        </p:nvPicPr>
        <p:blipFill>
          <a:blip r:embed="rId3"/>
          <a:srcRect l="0" t="0" r="51629" b="0"/>
          <a:stretch/>
        </p:blipFill>
        <p:spPr>
          <a:xfrm>
            <a:off x="250920" y="3789360"/>
            <a:ext cx="4021200" cy="18003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6"/>
          <p:cNvSpPr/>
          <p:nvPr/>
        </p:nvSpPr>
        <p:spPr>
          <a:xfrm>
            <a:off x="250920" y="580536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4. Профиль нарезк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рубной резьб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557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Резьба метрическа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5" name="Picture 4" descr="СоедРез(РезьбаМетр)"/>
          <p:cNvPicPr/>
          <p:nvPr/>
        </p:nvPicPr>
        <p:blipFill>
          <a:blip r:embed="rId1"/>
          <a:stretch/>
        </p:blipFill>
        <p:spPr>
          <a:xfrm>
            <a:off x="4716360" y="765000"/>
            <a:ext cx="4427640" cy="21798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7"/>
          <p:cNvSpPr/>
          <p:nvPr/>
        </p:nvSpPr>
        <p:spPr>
          <a:xfrm>
            <a:off x="0" y="981000"/>
            <a:ext cx="471636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ные геометрические парамет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етричес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зьбы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оминальный диаметр резьбы (наружный диаметр болта или винта) обозначается буквой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цифрой, равной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 мм, например,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8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2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0" y="2852640"/>
            <a:ext cx="9144000" cy="34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внутренний диаметр резьбы гай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нутренний диаметр резьбы вин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редний диаметр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шаг резьбы – расстояние между соседними гребнями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ход резьбы – расстояние между соседними гребнями резьбы, принадлежащими одному гребню нарез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 профиля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 подъёма резьб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нормальных (с крупными шагами) метрических резьб, имеющих диаметр в интервале 2…68 мм, внутренний диаметр можно вычислить по эмпирической формул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9"/>
              <p:cNvSpPr txBox="1"/>
              <p:nvPr/>
            </p:nvSpPr>
            <p:spPr>
              <a:xfrm>
                <a:off x="3276720" y="6093000"/>
                <a:ext cx="251928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28303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илы в РС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Picture 4" descr="СоедРез(силы)"/>
          <p:cNvPicPr/>
          <p:nvPr/>
        </p:nvPicPr>
        <p:blipFill>
          <a:blip r:embed="rId1"/>
          <a:stretch/>
        </p:blipFill>
        <p:spPr>
          <a:xfrm>
            <a:off x="0" y="1052640"/>
            <a:ext cx="5184720" cy="29480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7"/>
          <p:cNvSpPr/>
          <p:nvPr/>
        </p:nvSpPr>
        <p:spPr>
          <a:xfrm>
            <a:off x="684360" y="4076640"/>
            <a:ext cx="35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с. 13.9. Силы в винтов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инематической пар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5292720" y="260280"/>
            <a:ext cx="385128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рость движения гайки вверх при вращении винта по часовой стрелке с угловой скоростью </a:t>
            </a:r>
            <a:r>
              <a:rPr b="1" i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9"/>
              <p:cNvSpPr txBox="1"/>
              <p:nvPr/>
            </p:nvSpPr>
            <p:spPr>
              <a:xfrm>
                <a:off x="5423040" y="1557360"/>
                <a:ext cx="3481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Н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11"/>
          <p:cNvSpPr/>
          <p:nvPr/>
        </p:nvSpPr>
        <p:spPr>
          <a:xfrm>
            <a:off x="5364000" y="2205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ла трения в витках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12"/>
              <p:cNvSpPr txBox="1"/>
              <p:nvPr/>
            </p:nvSpPr>
            <p:spPr>
              <a:xfrm>
                <a:off x="5788080" y="2708280"/>
                <a:ext cx="23209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Text Box 14"/>
          <p:cNvSpPr/>
          <p:nvPr/>
        </p:nvSpPr>
        <p:spPr>
          <a:xfrm>
            <a:off x="5435640" y="3645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- коэффициент трения в витках резьб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250920" y="4797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гда тангенциальная сила на витках винта и осевая сила на витках гайки связаны соотношением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6"/>
              <p:cNvSpPr txBox="1"/>
              <p:nvPr/>
            </p:nvSpPr>
            <p:spPr>
              <a:xfrm>
                <a:off x="2765520" y="5445000"/>
                <a:ext cx="35416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Text Box 19"/>
          <p:cNvSpPr/>
          <p:nvPr/>
        </p:nvSpPr>
        <p:spPr>
          <a:xfrm>
            <a:off x="179280" y="638172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395280" y="6308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угол трения в витках резьб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СоедРез(силыПрямТреуг)"/>
          <p:cNvPicPr/>
          <p:nvPr/>
        </p:nvPicPr>
        <p:blipFill>
          <a:blip r:embed="rId1"/>
          <a:stretch/>
        </p:blipFill>
        <p:spPr>
          <a:xfrm>
            <a:off x="179280" y="189000"/>
            <a:ext cx="3324240" cy="344628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6"/>
          <p:cNvSpPr/>
          <p:nvPr/>
        </p:nvSpPr>
        <p:spPr>
          <a:xfrm>
            <a:off x="179280" y="3789360"/>
            <a:ext cx="3097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0. Силы на витках резьбы при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0:</a:t>
            </a:r>
            <a:br>
              <a:rPr sz="20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ямоугольная резьба;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реугольная резьб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3708360" y="18900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ведённый коэффициент трения для треугольной резьб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8"/>
              <p:cNvSpPr txBox="1"/>
              <p:nvPr/>
            </p:nvSpPr>
            <p:spPr>
              <a:xfrm>
                <a:off x="5076720" y="836640"/>
                <a:ext cx="251964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Text Box 10"/>
          <p:cNvSpPr/>
          <p:nvPr/>
        </p:nvSpPr>
        <p:spPr>
          <a:xfrm>
            <a:off x="3708360" y="234936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приведённый угол тр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1"/>
              <p:cNvSpPr txBox="1"/>
              <p:nvPr/>
            </p:nvSpPr>
            <p:spPr>
              <a:xfrm>
                <a:off x="5003640" y="2997360"/>
                <a:ext cx="2737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Text Box 13"/>
          <p:cNvSpPr/>
          <p:nvPr/>
        </p:nvSpPr>
        <p:spPr>
          <a:xfrm>
            <a:off x="3780000" y="3716280"/>
            <a:ext cx="518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представленных соотношений видно, что с точки зрения удержания резьбового соединения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затянутом положении наиболее надёжной является метрическая 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с точки зрения уменьшения потерь энергии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подвижных винтовых кинематических парах наилучшей является прямоугольная 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см. табл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8:09:10Z</dcterms:created>
  <dc:creator>Владлен В. Коробков</dc:creator>
  <dc:description/>
  <dc:language>en-US</dc:language>
  <cp:lastModifiedBy>LEGION</cp:lastModifiedBy>
  <dcterms:modified xsi:type="dcterms:W3CDTF">2015-03-31T08:34:58Z</dcterms:modified>
  <cp:revision>42</cp:revision>
  <dc:subject/>
  <dc:title>Тема 4. Соединения Занятие 4/3 Лекция № 13</dc:title>
</cp:coreProperties>
</file>