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D6B8-B661-4D83-89DE-D2EA87924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4. Соединения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е 4/3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ция № 13. Резьбовые соединения (РС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D01E-22FA-4349-A227-A0941384C4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3.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ияние профильного угла резьбы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/2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еличину приведённых коэффициента и угла т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6FC7-944A-46F4-9E43-E22B6D8172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ПД винтовой п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едущем вращательном дви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6BA2-A2DC-4968-9E98-F626159BAF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стопо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9993-0201-44D8-BEC8-18FEB92693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. 13.11. Некоторые способы стопорения резьбовых соединени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кой пружинной шайбы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ужинная шайба в свободном состоянии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ная гайка со шплинт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гибная шайба с ус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язка болтов проволокой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клёпывание выступающего конца болта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рнение в резьбу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хватка сваркой в резьбу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AD02-DE8E-403B-B902-985871E1F1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ной расчёт РС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териала к его пределу прочности умноженному на 10. В стандарте представлен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классов проч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8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0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2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4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.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-4Х13. 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необходима повышенная кислотостойкость бол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E409-1383-4026-B002-0ECC1D216E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нообраз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ягивающими напряжени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переходной области между телом и головкой возника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сатель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в витках резьб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яжения изги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дновременно. Таким образом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асто наблюд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ы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внопр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D996-B215-4637-B596-208C40EA7E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ные схемы и форм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ий диаметр резьбы резьбового стержня по заданному внешнему усилию выбирают по форму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4FE-45F3-480F-A144-87E39FAE4A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4AFD-CFCB-4519-A076-EE8C2D8910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случае тело болта нагружается перерезывающей силой, и диаметр призонной части болта определяется из расчёта на срез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плоскостей среза;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(0,2…0,3)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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53B3-8F26-4C9F-99A3-A4EEE2025B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счет группового соединения, воспринимающего моментную нагрузк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верка способности соединения воспринимать переменную нагрузк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оверка соединения на нераскрытие сты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верка соединения на восприятие температурной нагруз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9607-91D7-4FA1-AD0D-80F3CFB106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вые соедин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признаком резьбового соединения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ичие резь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тя бы на некоторых из деталей, входящих в соедин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винтовой лин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 поверхности тела вращения (обычно цилиндра или кону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4D02-EABD-4210-8177-CB1B8419DE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действием этого усилия болт получает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тягиваемые детали сжимаются, получая укороч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атливость болта и стягиваемых деталей, соответственно. Податливость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ресивера газом под давлением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2017-D9B1-47B6-A8F3-D1646B04DE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сивера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авление газа в ресивере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ю рабочей нагрузки, затраченную на удлинение болта, обозначим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часть рабочей нагрузки. Условие совместности деформации в этом случае запишется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удлинение болта равное удлинению стягиваемых деталей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болта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соединяемых де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венства (13.16) получ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ая нагрузка на болт в этом случа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E2D2-9A16-4D76-A60F-9D35E7404C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я (13.18) и (13.19), видим, что чем выше податливость болта  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), тем меньшая доля рабочей нагрузки приходится непосредственно на бол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ектном приближённом расчёте приним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альных и чугунных деталей, стягиваемых без прокладки,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2…0,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4…0,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крытие сты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ушится плотность соеди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4198-72AE-4556-921D-3925FEE6D0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актических расчетах с целью обеспечения нераскрытия стыка приним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,25…2,0,  при  меняющейся  нагрузке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2,5…4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с учетом 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81E-6213-4856-90BB-5138AA44E8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. 13.1. Образование винтовой линии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и треугольной резьбы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 несущего цилиндра (наружный диаметр резьб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д винтовой ли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винтовой ли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172-0529-483E-8947-AD71E8B366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озможность создания больших осевых нагрузок при малых усилиях на инстр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озможность фиксации в затянутом состоянии (самоторможени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удобство сборки и разборки с применением стандартных инстр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стота конструкции и возможность точного изгото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наличие широкой номенклатуры стандартных крепёжных изделий (винты, болты гайк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малые габариты в сравнении с соединяемыми дета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ысокая концентрация напряжений в дне резьбовой канав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значительные энергопотери в подвижных резьбовых соединениях (низкий КП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большая неравномерность распределения нагрузки по виткам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склонность к самоотвинчнванию при знакопеременных нагруз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слабление соединения и быстрый износ резьбы при частых сборках и разбор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0522-9376-4D56-BC40-A1712ED572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резь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луатационном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нач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оверх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сущей резьбу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илиндрическая и кон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рофи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ы в поперечном сечении нарезки (рис. 13.2)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угольная, трапецеидальная, упорная, прямоугольная, кругл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располож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руж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внутрення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еличине ша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рмальная (с крупным шагом нарезки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лкая (с уменьшенным шагом нарезки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по направлению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в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меняется чаще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но-, двух-, трёх-, и т.д., многозах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ходн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рической сис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р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906-1D00-4A0D-B618-7B4984F256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епёжн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место шага для этой резьбы задаё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 витков (ниток) на один дюй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ины (1 дюйм = 25,4 м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CBC9-072A-48EB-8916-31C971D64A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 мет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геометр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трическ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ьбы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цифрой, равной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в мм, например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2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зьбы га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утренний диаметр резьбы ви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редний диаметр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аг резьбы – расстояние между соседними гребнями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рофиля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рез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B93-DE97-4A8E-8C14-56FB1EA0C9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лы в 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A45B-65EE-49C7-98F3-96FB14DC51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тянутом положении наиболее надёжной является метрическ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 точки зрения уменьшения потерь энерг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м. таб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8165-A1B6-41A8-B88A-5D06ADE50F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8F4-6967-46BB-A4EA-0231ED73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08B-5E9D-43B8-AA9E-B0036E08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181-C30B-43F0-99AA-F9AE3828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B12-DEEA-40F6-8F0E-4B268940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3155-9236-489B-B287-8D8EB623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35C6-5C2C-4E5D-9289-539B4158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862E-948A-494A-95AE-C90D1A7D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DDFD-0F04-4D3B-9187-D2E2080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6358-DEC6-444A-868C-0AB6648B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FDA8-C3EA-4336-B3A3-DF6B3C34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3B28-AAD1-4C71-ACDD-2453F0A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D5A-FD51-4134-92E5-4AC9AB8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CCAD-D774-4533-BC33-02D9F403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5BCE-795C-4B12-BCED-5565636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793A-BBD7-4384-A2CA-1F64E995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FD0-025D-456D-A4AE-8B3CE3C2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A103-E9DB-4BF8-88BD-BC42468C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2F1-D877-4FC2-A3E4-61BF081B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ADA-9E57-4F28-9377-A07B0B8B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C39-9FA8-4C92-9504-EB6DB39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87A-3862-46E8-B38E-129C91AC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C21-021E-44D2-A043-61AF40E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465-8B90-47FB-A224-C7766FF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A5C-9F41-4903-874D-7AE1D6A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EA3A-EA17-41E5-BFE0-1EEE6C4319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822-7AF3-41E7-A86A-C4A9FA3828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ма 4. Соедин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нятие 4/3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кция № 13. Резьбовые соединения (РС)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50920" y="2046240"/>
            <a:ext cx="8497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, изложенные в лек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я и кинематика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лы в РС, передача энергии, стопорение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чностной расчёт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еб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али машин и подъемное оборудование. Под  рук.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.И. Мельнико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М.: Воениздат, 1980. стр. 299-32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.Г. Кукл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др. Детали машин: Учебник для техникумов / Н.Г. Куклин, Г.С. Куклина, В.К. житков.- 5-е изд., перераб. и допол.- М.: Илекса, 1999.- с. 48…7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ловьев В.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тали машин (Курс лекций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ь). - Новосибирск: НВИ, 1997. стр. 30-7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блица 13.1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ияние профильного угла резьбы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/2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величину приведённых коэффициента и угла тр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648320" y="2616120"/>
          <a:ext cx="4194000" cy="1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16120"/>
                    <a:ext cx="4194000" cy="1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34"/>
          <p:cNvGraphicFramePr/>
          <p:nvPr/>
        </p:nvGraphicFramePr>
        <p:xfrm>
          <a:off x="5114880" y="4957920"/>
          <a:ext cx="3260880" cy="10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1" name="Object 1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4880" y="4957920"/>
                    <a:ext cx="3260880" cy="1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50920" y="1341360"/>
          <a:ext cx="8713800" cy="5410440"/>
        </p:xfrm>
        <a:graphic>
          <a:graphicData uri="http://schemas.openxmlformats.org/drawingml/2006/table">
            <a:tbl>
              <a:tblPr/>
              <a:tblGrid>
                <a:gridCol w="1473120"/>
                <a:gridCol w="1984320"/>
                <a:gridCol w="1068480"/>
                <a:gridCol w="2093760"/>
                <a:gridCol w="2094120"/>
              </a:tblGrid>
              <a:tr h="366120"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ь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2,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е 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ый коэффициент трения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'/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й угол трения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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градус., при фактическом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оуго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р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юйм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пецеид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0" rIns="36000" tIns="36000" bIns="360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рна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ПД винтовой пар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9179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вращ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508720" y="1197000"/>
                <a:ext cx="3024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 Box 6"/>
          <p:cNvSpPr/>
          <p:nvPr/>
        </p:nvSpPr>
        <p:spPr>
          <a:xfrm>
            <a:off x="250920" y="335772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поступ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5580000" y="2924280"/>
                <a:ext cx="295128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Text Box 9"/>
          <p:cNvSpPr/>
          <p:nvPr/>
        </p:nvSpPr>
        <p:spPr>
          <a:xfrm>
            <a:off x="324000" y="4581360"/>
            <a:ext cx="85690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угол подъема винтовой линии резьбы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≤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Tahoma"/>
              </a:rPr>
              <a:t>’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иведенного угла трения,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еобразование поступательного движения во вращательное невозмож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0" y="836640"/>
            <a:ext cx="9144000" cy="59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иды стопоре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7" name="Picture 4" descr="СоедРез(стопор)"/>
          <p:cNvPicPr/>
          <p:nvPr/>
        </p:nvPicPr>
        <p:blipFill>
          <a:blip r:embed="rId1"/>
          <a:stretch/>
        </p:blipFill>
        <p:spPr>
          <a:xfrm>
            <a:off x="2340000" y="981000"/>
            <a:ext cx="4392720" cy="38894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324000" y="4941720"/>
            <a:ext cx="8569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1. Некоторые способы стопорения резьбовых соединений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тановкой пружинной шайбы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ужинная шайба в свободном состоянии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онная гайка со шплинт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гибная шайба с ус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язка болтов проволокой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клёпывание выступающего конца болта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ернение в резьбу;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хватка сваркой в резьб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чностной расчёт РС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материала к его пределу прочности умноженному на 10. В стандарте представлены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2 классов прочности: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3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6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8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0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2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4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.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-4Х13. 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необходима повышенная кислотостойкость болта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нообраз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тягивающими напряж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 переходной области между телом и головкой возника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сатель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в витках резьбы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пряжения изги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мят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е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дновременно. Таким образом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чност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Часто наблюд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ы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внопр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четные схемы и формул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6" name="Picture 4" descr="СоедРез(РазрывРасчет)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26859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"/>
          <p:cNvSpPr/>
          <p:nvPr/>
        </p:nvSpPr>
        <p:spPr>
          <a:xfrm>
            <a:off x="179280" y="3933720"/>
            <a:ext cx="34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2. Болтовое соединение, нагруженное растягивающе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3635280" y="105264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5076720" y="2492280"/>
                <a:ext cx="2087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1" name="Text Box 10"/>
          <p:cNvSpPr/>
          <p:nvPr/>
        </p:nvSpPr>
        <p:spPr>
          <a:xfrm>
            <a:off x="3635280" y="3789360"/>
            <a:ext cx="532944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силие воспринимаемое резьбовым соединение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зьбовой части стержн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допускаемые напряжения для материала стержня при растяже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СоедРез(СдвигРасчет)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3000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0" y="3429000"/>
            <a:ext cx="3816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3. Болтовое соединение, нагруженное поперечной сил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али от взаимного смещения удерживаются силой тр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428472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211640" y="18900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0"/>
              <p:cNvSpPr txBox="1"/>
              <p:nvPr/>
            </p:nvSpPr>
            <p:spPr>
              <a:xfrm>
                <a:off x="5003640" y="1844640"/>
                <a:ext cx="30974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9" name="Text Box 12"/>
          <p:cNvSpPr/>
          <p:nvPr/>
        </p:nvSpPr>
        <p:spPr>
          <a:xfrm>
            <a:off x="4356000" y="299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4140360" y="3357720"/>
            <a:ext cx="47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трения для контактирующих поверхностей деталей, остальные величины определены выш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2987640" y="6021360"/>
                <a:ext cx="252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СоедРез(СрезРасчет)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303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179280" y="299736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4. Соединение деталей призонным болтом, нагруженное поперечно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067280" y="260280"/>
            <a:ext cx="50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4246560" y="260280"/>
            <a:ext cx="48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случае тело болта нагружается перерезывающей силой, и диаметр призонной части болта определяется из расчёта на срез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9"/>
              <p:cNvSpPr txBox="1"/>
              <p:nvPr/>
            </p:nvSpPr>
            <p:spPr>
              <a:xfrm>
                <a:off x="5076720" y="1628640"/>
                <a:ext cx="24494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1" name="Text Box 11"/>
          <p:cNvSpPr/>
          <p:nvPr/>
        </p:nvSpPr>
        <p:spPr>
          <a:xfrm>
            <a:off x="4390920" y="3068640"/>
            <a:ext cx="4753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плоскостей срез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(0,2…0,3)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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расчет группового соединения, воспринимающего моментную нагрузк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проверка способности соединения воспринимать переменную нагруз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проверка соединения на нераскрытие сты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проверка соединения на восприятие температурной нагруз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пределени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вые соединения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м признаком резьбового соединения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личие резьб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хотя бы на некоторых из деталей, входящих в соедин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й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винтовой лини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 поверхности тела вращения (обычно цилиндра или конуса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примера рассмотрим расчет стыкового соединения крышки с корпусом ресивера (рис.13.1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6" name="Picture 5" descr="СоедРез(СтыкРасчет)"/>
          <p:cNvPicPr/>
          <p:nvPr/>
        </p:nvPicPr>
        <p:blipFill>
          <a:blip r:embed="rId1"/>
          <a:stretch/>
        </p:blipFill>
        <p:spPr>
          <a:xfrm>
            <a:off x="0" y="692280"/>
            <a:ext cx="3419640" cy="27781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357336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15. Болтовое соединение корпуса и крышки ресиве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419640" y="692280"/>
            <a:ext cx="5724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од действием этого усилия болт получает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тягиваемые детали сжимаются, получая укороч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датливость болта и стягиваемых деталей, соответственно. Податливость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0" y="4437000"/>
            <a:ext cx="914400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заполнения ресивера газом под давлени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9"/>
              <p:cNvSpPr txBox="1"/>
              <p:nvPr/>
            </p:nvSpPr>
            <p:spPr>
              <a:xfrm>
                <a:off x="3635280" y="5973840"/>
                <a:ext cx="19702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0" y="0"/>
            <a:ext cx="9144000" cy="73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сивера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давление газа в ресивере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ю рабочей нагрузки, затраченную на удлинение болта, обозначим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часть рабочей нагрузки. Условие совместности деформации в этом случае запишется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длинение болта равное удлинению стягиваемых деталей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болта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соединяемых дета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равенства (13.16) получ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ая нагрузка на болт в эт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9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5"/>
              <p:cNvSpPr txBox="1"/>
              <p:nvPr/>
            </p:nvSpPr>
            <p:spPr>
              <a:xfrm>
                <a:off x="1476360" y="3500280"/>
                <a:ext cx="563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=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2484360" y="5348160"/>
                <a:ext cx="283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2843280" y="6262560"/>
                <a:ext cx="264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0" y="0"/>
            <a:ext cx="91440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(13.18) и (13.19), видим, что чем выше податливость болта   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), тем меньшая доля рабочей нагрузки приходится непосредственно на бол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ектном приближённом расчёте принима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стальных и чугунных деталей, стягиваемых без прокладки,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2…0,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4…0,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19080" y="311040"/>
                <a:ext cx="2298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8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2843280" y="3933720"/>
                <a:ext cx="32065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δl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Δl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26" name="Text Box 9"/>
          <p:cNvSpPr/>
          <p:nvPr/>
        </p:nvSpPr>
        <p:spPr>
          <a:xfrm>
            <a:off x="0" y="530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крытие сты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рушится плотность соедин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0"/>
            <a:ext cx="914400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актических расчетах с целью обеспечения нераскрытия стыка приним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1,25…2,0,  при  меняющейся  нагрузке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2,5…4,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 учетом 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3.2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3059280" y="0"/>
                <a:ext cx="2936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7"/>
              <p:cNvSpPr txBox="1"/>
              <p:nvPr/>
            </p:nvSpPr>
            <p:spPr>
              <a:xfrm>
                <a:off x="2484360" y="1197000"/>
                <a:ext cx="3826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9"/>
              <p:cNvSpPr txBox="1"/>
              <p:nvPr/>
            </p:nvSpPr>
            <p:spPr>
              <a:xfrm>
                <a:off x="2916360" y="3645000"/>
                <a:ext cx="3368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2050920" y="4581360"/>
                <a:ext cx="47721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0" y="6254640"/>
            <a:ext cx="914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Успехов в учебе!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СоедРез(ВлинРезьба)"/>
          <p:cNvPicPr/>
          <p:nvPr/>
        </p:nvPicPr>
        <p:blipFill>
          <a:blip r:embed="rId1"/>
          <a:stretch/>
        </p:blipFill>
        <p:spPr>
          <a:xfrm>
            <a:off x="755640" y="260280"/>
            <a:ext cx="7916760" cy="3300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7"/>
          <p:cNvSpPr/>
          <p:nvPr/>
        </p:nvSpPr>
        <p:spPr>
          <a:xfrm>
            <a:off x="826920" y="3788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. Образование винтовой линии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 и треугольной резьбы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755640" y="4797360"/>
            <a:ext cx="770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метр несущего цилиндра (наружный диаметр резьб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д винтовой ли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гол подъёма винтовой ли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остоинства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озможность создания больших осевых нагрузок при малых усилиях на инструмент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возможность фиксации в затянутом состоянии (самоторможение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удобство сборки и разборки с применением стандартных инструмент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простота конструкции и возможность точного изготовле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наличие широкой номенклатуры стандартных крепёжных изделий (винты, болты гайки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7) малые габариты в сравнении с соединяемыми деталям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Недостатки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ысокая концентрация напряжений в дне резьбовой канав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значительные энергопотери в подвижных резьбовых соединениях (низкий КПД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большая неравномерность распределения нагрузки по виткам резьб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склонность к самоотвинчнванию при знакопеременных нагрузка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ослабление соединения и быстрый износ резьбы при частых сборках и разборка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лассификация резьб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эксплуатационном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знач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оверх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несущей резьбу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цилиндрическая и коническ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рофил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ы в поперечном сечении нарезки (рис. 13.2) 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треугольная, трапецеидальная, упорная, прямоугольная, кругл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располож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аружн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внутрення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величине шаг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ормальная (с крупным шагом нарезки)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лкая (с уменьшенным шагом нарезки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по направлению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ав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применяется чаще) 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ле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одно-, двух-, трёх-, и т.д., многозаходн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сходной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трической систем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трическ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СоедРез(ВидыРезьб)"/>
          <p:cNvPicPr/>
          <p:nvPr/>
        </p:nvPicPr>
        <p:blipFill>
          <a:blip r:embed="rId1"/>
          <a:stretch/>
        </p:blipFill>
        <p:spPr>
          <a:xfrm>
            <a:off x="0" y="260280"/>
            <a:ext cx="4643280" cy="1293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СоедРез(РезьбаМетр)"/>
          <p:cNvPicPr/>
          <p:nvPr/>
        </p:nvPicPr>
        <p:blipFill>
          <a:blip r:embed="rId2"/>
          <a:stretch/>
        </p:blipFill>
        <p:spPr>
          <a:xfrm>
            <a:off x="4716360" y="189000"/>
            <a:ext cx="4427640" cy="217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250920" y="1773360"/>
            <a:ext cx="43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2. различные профили резьб: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е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апециеда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порный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ямо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угл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716360" y="2421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3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рической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4716360" y="342900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епёжна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= 55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место шага для этой резьбы задаё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сло витков (ниток) на один дюй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ины (1 дюйм = 25,4 м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3" descr="СоедРез(РезьбаТрубТрап)"/>
          <p:cNvPicPr/>
          <p:nvPr/>
        </p:nvPicPr>
        <p:blipFill>
          <a:blip r:embed="rId3"/>
          <a:srcRect l="0" t="0" r="51629" b="0"/>
          <a:stretch/>
        </p:blipFill>
        <p:spPr>
          <a:xfrm>
            <a:off x="250920" y="3789360"/>
            <a:ext cx="4021200" cy="1800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6"/>
          <p:cNvSpPr/>
          <p:nvPr/>
        </p:nvSpPr>
        <p:spPr>
          <a:xfrm>
            <a:off x="250920" y="58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4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убной резьб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557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езьба метрическа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4" descr="СоедРез(РезьбаМетр)"/>
          <p:cNvPicPr/>
          <p:nvPr/>
        </p:nvPicPr>
        <p:blipFill>
          <a:blip r:embed="rId1"/>
          <a:stretch/>
        </p:blipFill>
        <p:spPr>
          <a:xfrm>
            <a:off x="4716360" y="765000"/>
            <a:ext cx="4427640" cy="21798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0" y="981000"/>
            <a:ext cx="47163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ные геометрические парамет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етричес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зьбы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цифрой, равной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 мм, например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2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0" y="2852640"/>
            <a:ext cx="91440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внутренний диаметр резьбы гай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утренний диаметр резьбы ви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редний диаметр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шаг резьбы – расстояние между соседними гребнями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рофиля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одъёма резьб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3276720" y="6093000"/>
                <a:ext cx="251928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28303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илы в Р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4" descr="СоедРез(силы)"/>
          <p:cNvPicPr/>
          <p:nvPr/>
        </p:nvPicPr>
        <p:blipFill>
          <a:blip r:embed="rId1"/>
          <a:stretch/>
        </p:blipFill>
        <p:spPr>
          <a:xfrm>
            <a:off x="0" y="1052640"/>
            <a:ext cx="5184720" cy="29480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684360" y="407664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9. Силы в винтов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нематической пар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292720" y="260280"/>
            <a:ext cx="3851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5423040" y="1557360"/>
                <a:ext cx="3481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1"/>
          <p:cNvSpPr/>
          <p:nvPr/>
        </p:nvSpPr>
        <p:spPr>
          <a:xfrm>
            <a:off x="5364000" y="220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трения в витках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2"/>
              <p:cNvSpPr txBox="1"/>
              <p:nvPr/>
            </p:nvSpPr>
            <p:spPr>
              <a:xfrm>
                <a:off x="5788080" y="2708280"/>
                <a:ext cx="2320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Text Box 14"/>
          <p:cNvSpPr/>
          <p:nvPr/>
        </p:nvSpPr>
        <p:spPr>
          <a:xfrm>
            <a:off x="5435640" y="36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- коэффициент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50920" y="4797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6"/>
              <p:cNvSpPr txBox="1"/>
              <p:nvPr/>
            </p:nvSpPr>
            <p:spPr>
              <a:xfrm>
                <a:off x="2765520" y="5445000"/>
                <a:ext cx="3541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Text Box 19"/>
          <p:cNvSpPr/>
          <p:nvPr/>
        </p:nvSpPr>
        <p:spPr>
          <a:xfrm>
            <a:off x="179280" y="638172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95280" y="6308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угол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СоедРез(силыПрямТреуг)"/>
          <p:cNvPicPr/>
          <p:nvPr/>
        </p:nvPicPr>
        <p:blipFill>
          <a:blip r:embed="rId1"/>
          <a:stretch/>
        </p:blipFill>
        <p:spPr>
          <a:xfrm>
            <a:off x="179280" y="189000"/>
            <a:ext cx="3324240" cy="34462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6"/>
          <p:cNvSpPr/>
          <p:nvPr/>
        </p:nvSpPr>
        <p:spPr>
          <a:xfrm>
            <a:off x="179280" y="3789360"/>
            <a:ext cx="3097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0. Силы на витках резьбы 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0: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ямоугольная резьба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реугольная резь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708360" y="189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едённый коэффициент трения для треугольной резьб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8"/>
              <p:cNvSpPr txBox="1"/>
              <p:nvPr/>
            </p:nvSpPr>
            <p:spPr>
              <a:xfrm>
                <a:off x="5076720" y="836640"/>
                <a:ext cx="25196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0"/>
          <p:cNvSpPr/>
          <p:nvPr/>
        </p:nvSpPr>
        <p:spPr>
          <a:xfrm>
            <a:off x="3708360" y="234936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приведённый угол тр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1"/>
              <p:cNvSpPr txBox="1"/>
              <p:nvPr/>
            </p:nvSpPr>
            <p:spPr>
              <a:xfrm>
                <a:off x="5003640" y="2997360"/>
                <a:ext cx="2737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Text Box 13"/>
          <p:cNvSpPr/>
          <p:nvPr/>
        </p:nvSpPr>
        <p:spPr>
          <a:xfrm>
            <a:off x="3780000" y="3716280"/>
            <a:ext cx="51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затянутом положении наиболее надёжной является метрическ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 точки зрения уменьшения потерь энерги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м. табл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8:09:10Z</dcterms:created>
  <dc:creator>Владлен В. Коробков</dc:creator>
  <dc:description/>
  <dc:language>en-US</dc:language>
  <cp:lastModifiedBy>LEGION</cp:lastModifiedBy>
  <dcterms:modified xsi:type="dcterms:W3CDTF">2015-03-31T08:34:58Z</dcterms:modified>
  <cp:revision>42</cp:revision>
  <dc:subject/>
  <dc:title>Тема 4. Соединения Занятие 4/3 Лекция № 13</dc:title>
</cp:coreProperties>
</file>