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wind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click.wav" ContentType="audio/x-wav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D109-EC94-4762-8FA9-9E2078A115E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мы презентации 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анье металла слесарной ножов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ка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A3CA-E339-4485-B9B8-256E19A2772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  человека корми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Лень портит!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мелые руки не знают,    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уки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4304-0CFD-4053-86BF-4A5B4FD64D1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езание металла слесарной ножовко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азрезания заготовок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ртового проката примен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чную слесарную ножов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тно ножовки – тонкая 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 из твердой стали, на од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ке которой нанесены зуб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овидной формы. Кажд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уб представляет резец. Ножовочное полотно долж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надежно закреплено в рам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е натяжным винтом, а зубь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авлены в сторону, проти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ную ру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3380-B624-4184-B746-ED86DB36F98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тупая к работе, следует отрегулировать натяжения полотна в ножовочной рамке и прочно закрепить заготовку в тисках. Слишком сильное натяжение полотна, как и слишком слабое, может привести к его поломке. По разметочной риске делают неглубокий пропил трехгранным напильником. Это обеспечит точное направление движения полотна. Ножовкой можно 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ь полосовой материал т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 том случае, если на 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щину укладывается т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олее зубьев полотна. Б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е тонкий материал закреп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яют между деревян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у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BD7F-1988-4BD2-A03A-5C35467E5AD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 разрезании дли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готовок не всег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дается довести резание до конца из-за т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что рамка станка упирается в их торец. Тог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лотно поворачивается по отношению к рам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е на 90С и продолжают работу. Заготовки ф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нного профиля( уголок, швеллер и др.)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разрезании ножовкой рекомендуется закреп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лять в деревянных нагубниках. В начале раз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ния полосового и квадратного проката ножо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у наклоняют слегка впе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7CAE-83D8-4BEA-B64C-AB6B6FE777B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нужно прин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ельную позу: стать вполоб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а к тискам, левую ногу пост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ь вперед и ступни распол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ть под углом друг к другу. 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овку во время резания держ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мя руками. Перемещение осу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ствляется только руками, 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 остается неподвиж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зволяет экономить сил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высокое каче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9F82-E837-44CF-B239-73D062E6F40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ножовки впе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рабочим, т.к. в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зубья полотна реж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, а движение назад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остым. При движе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жовки вперед ее слег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жимают вниз, обра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выполняют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жима. Ход ножовки дол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 быть полным, что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тно изнашивалось ра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ерно по всей дли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ть ножовку нуж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но, без рывков, ри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91C2-F670-445D-BC73-9AC89E91DC9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убка метал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кой разделяют заготовку на части, удаляют лишний металл(припуск). Осущест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яется эта операция с п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ью зубила и мол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ущая часть зубила, ка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го другого реж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а, имеет фор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а. Угол заострения з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сит от твердости обраб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ваемого металла: чем тверже металл, там угол з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ения бол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A01A-2E91-4E84-8CD3-5AC9D352161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рубкой заготовку закрепляют в тисках немного левее правого края губок, чтобы оставалось место для установки зубила. Молоток бойком влево кладут на верстак справа от тисков, а зубило- слева, режущей частью на себя. На рабочем месте для рубки должна быть установлена защитная сетка(или экран) для защиты окружающих от осколков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убки очень важно принять правильную рабочую позу. Стоять следует прямо, корпус тела должен быть развернут по отношению к тискам, правое плечо должно находиться против головки зубила. Левая нога для устойчивости должна быть выдвинута вперед, тело опирается на правую н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E642-D9B7-40CD-8FE9-E897067B7CC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ило и молоток держат так, чтобы ударная часть и край ру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ятки выступали на 15…30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ку в тисках можно выполня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точным рискам и по уровню губок тисков. В первом случае заготовку устанавлив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т так, чтобы разметочная риска находилась на 1,5…2 мм выше губок тисков. Зубило помещают под углом 30…40 к обрабатываемой поверхности. После каждого удара зубило возвращают в исход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455C-C746-4DAB-A299-C4FCA013E81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1DF-31DF-448F-8DE3-EF61C52B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86B-80DA-47E0-ADAB-A6395D28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443E-8AE4-47ED-968C-63A72286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3105-DDBF-4C2A-8CA6-D48F666F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A5BE4-F163-4AE1-9A9D-02D12413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2ACB6-CC1A-4150-B145-750A4961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77E98-4E6C-48F9-A81E-C9F6F6B4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BF798-36B7-4B2F-B437-B1764539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F9397-118D-4C5A-B6A1-24F1C7B7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31118-3498-42B1-852A-4EBC31BE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D3E76-CF4B-47C5-97A4-90F97F8A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FF5-B6F4-4AFA-9778-233C22D8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804C7-DC20-41A2-8099-6A922B6E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F929E-C482-4999-903D-5FA52654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9214E-5902-41E3-A9B4-1BB5E620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F8490-2908-4433-B62B-AE04F152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3DBE9-F63D-49AE-8D21-92A1E361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96B-E507-459A-AECE-D89EAB23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6E5-50B0-405C-AF32-366A74F1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E63-A95B-474A-AEE5-ED87FF15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0832-3BC7-4145-9CCB-10104E48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1DD-C758-4626-A30D-8ADD8244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4BE4-C104-4B7A-A032-3288F7C2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F47-DF9E-4122-AD4E-03CBE774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32DD-BE13-4924-AE4C-0D80A5DAC3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8CF0-A90D-4857-A595-F2041F2099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audio" Target="file:///tmp/home/.config/libreoffice/4/user/gallery/click.wav" TargetMode="External"/><Relationship Id="rId4" Type="http://schemas.microsoft.com/office/2007/relationships/media" Target="file:///tmp/home/.config/libreoffice/4/user/gallery/click.wav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мы презентации 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анье металла слесарной ножов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бка метал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37396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Труд  человека кормит,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а Лень портит!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Умелые руки не знают,      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куки!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56000" y="3186000"/>
            <a:ext cx="4788000" cy="3672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connected_multiple"/>
          <p:cNvPicPr/>
          <p:nvPr/>
        </p:nvPicPr>
        <p:blipFill>
          <a:blip r:embed="rId1"/>
          <a:stretch/>
        </p:blipFill>
        <p:spPr>
          <a:xfrm>
            <a:off x="5076720" y="3789360"/>
            <a:ext cx="3856320" cy="287964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/>
          <p:cNvSpPr/>
          <p:nvPr/>
        </p:nvSpPr>
        <p:spPr>
          <a:xfrm>
            <a:off x="3132000" y="2708280"/>
            <a:ext cx="432000" cy="433440"/>
          </a:xfrm>
          <a:custGeom>
            <a:avLst/>
            <a:gdLst>
              <a:gd name="textAreaLeft" fmla="*/ 100800 w 432000"/>
              <a:gd name="textAreaRight" fmla="*/ 331200 w 432000"/>
              <a:gd name="textAreaTop" fmla="*/ 45720 h 433440"/>
              <a:gd name="textAreaBottom" fmla="*/ 274320 h 433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5580000" y="2349360"/>
            <a:ext cx="289080" cy="432000"/>
          </a:xfrm>
          <a:custGeom>
            <a:avLst/>
            <a:gdLst>
              <a:gd name="textAreaLeft" fmla="*/ 67320 w 289080"/>
              <a:gd name="textAreaRight" fmla="*/ 221760 w 289080"/>
              <a:gd name="textAreaTop" fmla="*/ 45360 h 432000"/>
              <a:gd name="textAreaBottom" fmla="*/ 273600 h 432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1332000" y="3141720"/>
            <a:ext cx="360360" cy="287280"/>
          </a:xfrm>
          <a:custGeom>
            <a:avLst/>
            <a:gdLst>
              <a:gd name="textAreaLeft" fmla="*/ 83880 w 360360"/>
              <a:gd name="textAreaRight" fmla="*/ 276480 w 360360"/>
              <a:gd name="textAreaTop" fmla="*/ 30240 h 287280"/>
              <a:gd name="textAreaBottom" fmla="*/ 181800 h 287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3419640" y="4653000"/>
            <a:ext cx="433080" cy="431640"/>
          </a:xfrm>
          <a:custGeom>
            <a:avLst/>
            <a:gdLst>
              <a:gd name="textAreaLeft" fmla="*/ 100800 w 433080"/>
              <a:gd name="textAreaRight" fmla="*/ 331920 w 433080"/>
              <a:gd name="textAreaTop" fmla="*/ 45360 h 431640"/>
              <a:gd name="textAreaBottom" fmla="*/ 273240 h 431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3708360" y="549360"/>
            <a:ext cx="433440" cy="360360"/>
          </a:xfrm>
          <a:custGeom>
            <a:avLst/>
            <a:gdLst>
              <a:gd name="textAreaLeft" fmla="*/ 100800 w 433440"/>
              <a:gd name="textAreaRight" fmla="*/ 332280 w 43344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6948000" y="907920"/>
            <a:ext cx="71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2"/>
          <a:stretch/>
        </p:blipFill>
        <p:spPr>
          <a:xfrm>
            <a:off x="6659640" y="3429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524720" y="5734080"/>
            <a:ext cx="790560" cy="79056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3"/>
          <p:cNvSpPr/>
          <p:nvPr/>
        </p:nvSpPr>
        <p:spPr>
          <a:xfrm>
            <a:off x="971640" y="5157720"/>
            <a:ext cx="504720" cy="432000"/>
          </a:xfrm>
          <a:custGeom>
            <a:avLst/>
            <a:gdLst>
              <a:gd name="textAreaLeft" fmla="*/ 117720 w 504720"/>
              <a:gd name="textAreaRight" fmla="*/ 387000 w 504720"/>
              <a:gd name="textAreaTop" fmla="*/ 45360 h 432000"/>
              <a:gd name="textAreaBottom" fmla="*/ 273600 h 432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6804000" y="981000"/>
            <a:ext cx="432000" cy="360360"/>
          </a:xfrm>
          <a:custGeom>
            <a:avLst/>
            <a:gdLst>
              <a:gd name="textAreaLeft" fmla="*/ 100800 w 432000"/>
              <a:gd name="textAreaRight" fmla="*/ 331200 w 43200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0" y="476280"/>
            <a:ext cx="395280" cy="360360"/>
          </a:xfrm>
          <a:custGeom>
            <a:avLst/>
            <a:gdLst>
              <a:gd name="textAreaLeft" fmla="*/ 92160 w 395280"/>
              <a:gd name="textAreaRight" fmla="*/ 303120 w 39528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471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Резание металла слесарной ножовкой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46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разрезания заготовок и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ртового проката применя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чную слесарную ножов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отно ножовки – тонкая л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 из твердой стали, на од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омке которой нанесены зуб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иновидной формы. Кажд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уб представляет резец. Ножовочное полотно долж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ть надежно закреплено в рам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е натяжным винтом, а зубь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авлены в сторону, против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ожную руч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2" descr="kozm_sles_67"/>
          <p:cNvPicPr/>
          <p:nvPr/>
        </p:nvPicPr>
        <p:blipFill>
          <a:blip r:embed="rId1"/>
          <a:stretch/>
        </p:blipFill>
        <p:spPr>
          <a:xfrm>
            <a:off x="4643280" y="1916280"/>
            <a:ext cx="4032360" cy="4032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333360"/>
            <a:ext cx="41749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ступая к работе, следует отрегулировать натяжения полотна в ножовочной рамке и прочно закрепить заготовку в тисках. Слишком сильное натяжение полотна, как и слишком слабое, может привести к его поломке. По разметочной риске делают неглубокий пропил трехгранным напильником. Это обеспечит точное направление движения полотна. Ножовкой можно ре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ть полосовой материал то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 в том случае, если на е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лщину укладывается тр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более зубьев полотна. Б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е тонкий материал закреп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яют между деревянны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рус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292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6" descr="kozm_sles_67_1"/>
          <p:cNvPicPr/>
          <p:nvPr/>
        </p:nvPicPr>
        <p:blipFill>
          <a:blip r:embed="rId1"/>
          <a:stretch/>
        </p:blipFill>
        <p:spPr>
          <a:xfrm>
            <a:off x="4716360" y="333360"/>
            <a:ext cx="4248360" cy="45356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lick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40384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ри разрезании длинны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заготовок не всег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удается довести резание до конца из-за того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что рамка станка упирается в их торец. Тог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олотно поворачивается по отношению к рам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е на 90С и продолжают работу. Заготовки фа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онного профиля( уголок, швеллер и др.) пр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азрезании ножовкой рекомендуется закреп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лять в деревянных нагубниках. В начале разре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зания полосового и квадратного проката ножов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у наклоняют слегка впере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8" descr="st_11_4"/>
          <p:cNvPicPr/>
          <p:nvPr/>
        </p:nvPicPr>
        <p:blipFill>
          <a:blip r:embed="rId1"/>
          <a:stretch/>
        </p:blipFill>
        <p:spPr>
          <a:xfrm>
            <a:off x="5219640" y="1125360"/>
            <a:ext cx="3414600" cy="35276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время работы нужно приня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ельную позу: стать вполоб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та к тискам, левую ногу поста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ть вперед и ступни распол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ть под углом друг к другу. Н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овку во время резания держа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вумя руками. Перемещение осу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ществляется только руками, 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рпус остается неподвиж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позволяет экономить силы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еспечивает высокое качеств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" name="Organization Chart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11" name="Picture 27" descr="kozm_sles_67_1"/>
          <p:cNvPicPr/>
          <p:nvPr/>
        </p:nvPicPr>
        <p:blipFill>
          <a:blip r:embed="rId1"/>
          <a:stretch/>
        </p:blipFill>
        <p:spPr>
          <a:xfrm>
            <a:off x="4356000" y="476280"/>
            <a:ext cx="4788000" cy="6121440"/>
          </a:xfrm>
          <a:prstGeom prst="rect">
            <a:avLst/>
          </a:prstGeom>
          <a:ln w="9360">
            <a:solidFill>
              <a:srgbClr val="010199"/>
            </a:solidFill>
            <a:miter/>
          </a:ln>
        </p:spPr>
      </p:pic>
      <p:sp>
        <p:nvSpPr>
          <p:cNvPr id="112" name="AutoShape 28"/>
          <p:cNvSpPr/>
          <p:nvPr/>
        </p:nvSpPr>
        <p:spPr>
          <a:xfrm>
            <a:off x="6443640" y="3716280"/>
            <a:ext cx="2449440" cy="2017800"/>
          </a:xfrm>
          <a:prstGeom prst="leftArrow">
            <a:avLst>
              <a:gd name="adj1" fmla="val 50000"/>
              <a:gd name="adj2" fmla="val 30348"/>
            </a:avLst>
          </a:prstGeom>
          <a:solidFill>
            <a:srgbClr val="ffcc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29"/>
          <p:cNvSpPr/>
          <p:nvPr/>
        </p:nvSpPr>
        <p:spPr>
          <a:xfrm rot="1432800">
            <a:off x="5148000" y="1413000"/>
            <a:ext cx="936360" cy="1152360"/>
          </a:xfrm>
          <a:prstGeom prst="downArrow">
            <a:avLst>
              <a:gd name="adj1" fmla="val 30407"/>
              <a:gd name="adj2" fmla="val 7494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30"/>
          <p:cNvSpPr/>
          <p:nvPr/>
        </p:nvSpPr>
        <p:spPr>
          <a:xfrm>
            <a:off x="1619280" y="260280"/>
            <a:ext cx="417672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Это важно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0"/>
            <a:ext cx="4248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жение ножовки впер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вляется рабочим, т.к. в э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ремя зубья полотна режу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алл, а движение назад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лостым. При движе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жовки вперед ее слег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жимают вниз, обрат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жение выполняют бе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жима. Ход ножовки дол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н быть полным, чтоб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отно изнашивалось рав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мерно по всей длин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гать ножовку нуж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авно, без рывков, рит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ч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cd_sam_297"/>
          <p:cNvPicPr/>
          <p:nvPr/>
        </p:nvPicPr>
        <p:blipFill>
          <a:blip r:embed="rId1"/>
          <a:stretch/>
        </p:blipFill>
        <p:spPr>
          <a:xfrm>
            <a:off x="4572000" y="333360"/>
            <a:ext cx="4392720" cy="561672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ahoma"/>
              </a:rPr>
              <a:t>Рубка металл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4614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бкой разделяют заготовку на части, удаляют лишний металл(припуск). Осуществ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яется эта операция с п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щью зубила и молот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жущая часть зубила, как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бого другого режущ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струмента, имеет фор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ина. Угол заострения з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сит от твердости обраб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ываемого металла: чем тверже металл, там угол з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трения больш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932360" y="1700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tb_714"/>
          <p:cNvPicPr/>
          <p:nvPr/>
        </p:nvPicPr>
        <p:blipFill>
          <a:blip r:embed="rId1"/>
          <a:stretch/>
        </p:blipFill>
        <p:spPr>
          <a:xfrm>
            <a:off x="5005440" y="723960"/>
            <a:ext cx="4162320" cy="5715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64216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рубкой заготовку закрепляют в тисках немного левее правого края губок, чтобы оставалось место для установки зубила. Молоток бойком влево кладут на верстак справа от тисков, а зубило- слева, режущей частью на себя. На рабочем месте для рубки должна быть установлена защитная сетка(или экран) для защиты окружающих от осколков метал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время рубки очень важно принять правильную рабочую позу. Стоять следует прямо, корпус тела должен быть развернут по отношению к тискам, правое плечо должно находиться против головки зубила. Левая нога для устойчивости должна быть выдвинута вперед, тело опирается на правую ног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259920"/>
            <a:ext cx="4316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убило и молоток держат так, чтобы ударная часть и край ру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ятки выступали на 15…30 м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бку в тисках можно выполня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разметочным рискам и по уровню губок тисков. В первом случае заготовку устанавлива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ют так, чтобы разметочная риска находилась на 1,5…2 мм выше губок тисков. Зубило помещают под углом 30…40 к обрабатываемой поверхности. После каждого удара зубило возвращают в исходное полож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10552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7" descr="kozm_sles_72 "/>
          <p:cNvPicPr/>
          <p:nvPr/>
        </p:nvPicPr>
        <p:blipFill>
          <a:blip r:embed="rId1"/>
          <a:stretch/>
        </p:blipFill>
        <p:spPr>
          <a:xfrm>
            <a:off x="5003640" y="620640"/>
            <a:ext cx="4140360" cy="49690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13:38:42Z</dcterms:created>
  <dc:creator>Миша и Саша</dc:creator>
  <dc:description/>
  <dc:language>en-US</dc:language>
  <cp:lastModifiedBy>LEGION</cp:lastModifiedBy>
  <dcterms:modified xsi:type="dcterms:W3CDTF">2015-03-31T08:35:19Z</dcterms:modified>
  <cp:revision>7</cp:revision>
  <dc:subject/>
  <dc:title>Темы презентац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