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25A3-926E-4304-8977-841749CD2F6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ы презентации 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анье металла слесарной ножов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а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2BD1-4515-4786-9B06-179AB88268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  человека корми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Лень портит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мелые руки не знают,   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уки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2BC5-C3E7-4939-9D4E-AB98C0D428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зание металла слесарной ножовк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зрезания заготовок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ртового проката примен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чную слесарную ножов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тно ножовки – тонкая 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из твердой стали, на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ке которой нанесены зуб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овидной формы. Кажд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надежно закреплено в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 натяжным винтом, а зуб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ы в сторону, проти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ную ру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D989-67D1-4261-ABCB-6866C2E308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ь полосовой материал т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 том случае, если на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щину укладывается 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олее зубьев полотна. 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е тонкий материал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ют между деревян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у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1577-7A20-4E0C-B54E-4797EA8415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разрезании дли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готовок не всег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у наклоняют слегка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09D6-E27B-4DDC-9CF8-2271C4F4D6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нужно прин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ельную позу: стать вполо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а к тискам, левую ногу пос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ь вперед и ступни распол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ть под углом друг к другу. 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овку во время резания держ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я руками. Перемещение ос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ствляется только руками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 остается неподвиж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зволяет экономить сил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высокое ка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3663-43EF-4F8E-9C52-559426FD3B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ножовки впе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рабочим, т.к. в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зубья полотна реж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, а движение наза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стым. При движ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жовки вперед ее слег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мают вниз, обра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ыполняют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. Ход ножовки до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 быть полным, чт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тно изнашивалось ра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но по всей дли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ь ножовку ну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но, без рывков, р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1B38-AC61-4151-B3FE-B57A63F17B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убка мет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ой разделяют заготовку на части, удаляют лишний металл(припуск). Осущест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ется эта операция с п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ью зубила и мол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ущая часть зубила, ка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го другого реж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, имеет фор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а. Угол заострения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ит от твердости обраб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ваемого металла: чем тверже металл, там угол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ния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EC45-2D3F-40AA-873D-1E21887790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CA83-C803-4C3A-AF99-CBC7A31B4D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ило и молоток держат так, чтобы ударная часть и край р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ятки выступали на 15…3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у в тисках можно выполня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B5D-A1E6-4C6F-9BD5-6A7D38F839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188-6EF8-4D99-A568-759E0E37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0A9-B6DD-4A39-9E2A-B25F4E2A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853-CB3A-4536-BE93-7E507AEC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BE7-6651-42B7-91AD-F5C40000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172A5-F79E-49D1-96FF-D268EC78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BB9D7-92B0-4206-B67C-090B5560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03377-3D07-41D8-B901-0DB1DF7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19D0A-533A-44F6-8097-0C3FF72F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CE3C9-57AE-498C-8AD6-C5A2228B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D8ACB-FF41-46AF-87EE-92F7224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C9DF1-14AD-4518-BADF-E539005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C83-B491-40F9-8343-F5B90240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F9C59-A623-4462-BB5A-D3936033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3C8AB-DEBA-4FA3-814A-0CC77CA0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02B5C-F3D5-4D92-8F8E-4AB08A2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51F47-652E-4795-8686-00D995BC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CF75F-4913-4008-B6BE-AB7D884F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C75-ECF7-40DE-9FEA-5B8BEB7D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919-A150-4331-97E1-912CEA85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BDD-E7BE-409F-AE56-9D0555BC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1E2-78E8-4A68-9701-EBD059D5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986-BAA3-4204-B9F6-750C63C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068-F6EE-43F4-9236-B1539B43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774-4ABE-44FE-BF34-7D5DB7CB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6710-CC2C-430E-8A03-086B7207A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4DA8-F4B4-4FBA-A235-F58010B213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click.wav" TargetMode="External"/><Relationship Id="rId4" Type="http://schemas.microsoft.com/office/2007/relationships/media" Target="file:///tmp/home/.config/libreoffice/4/user/gallery/click.wav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ы презентации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анье металла слесарной ножов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бка мет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Труд  человека кормит,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 Лень портит!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мелые руки не знают,   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куки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6000" y="3186000"/>
            <a:ext cx="4788000" cy="367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connected_multiple"/>
          <p:cNvPicPr/>
          <p:nvPr/>
        </p:nvPicPr>
        <p:blipFill>
          <a:blip r:embed="rId1"/>
          <a:stretch/>
        </p:blipFill>
        <p:spPr>
          <a:xfrm>
            <a:off x="5076720" y="3789360"/>
            <a:ext cx="385632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3132000" y="2708280"/>
            <a:ext cx="432000" cy="433440"/>
          </a:xfrm>
          <a:custGeom>
            <a:avLst/>
            <a:gdLst>
              <a:gd name="textAreaLeft" fmla="*/ 100800 w 432000"/>
              <a:gd name="textAreaRight" fmla="*/ 331200 w 432000"/>
              <a:gd name="textAreaTop" fmla="*/ 45720 h 433440"/>
              <a:gd name="textAreaBottom" fmla="*/ 274320 h 433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580000" y="2349360"/>
            <a:ext cx="289080" cy="432000"/>
          </a:xfrm>
          <a:custGeom>
            <a:avLst/>
            <a:gdLst>
              <a:gd name="textAreaLeft" fmla="*/ 67320 w 289080"/>
              <a:gd name="textAreaRight" fmla="*/ 221760 w 28908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332000" y="3141720"/>
            <a:ext cx="360360" cy="287280"/>
          </a:xfrm>
          <a:custGeom>
            <a:avLst/>
            <a:gdLst>
              <a:gd name="textAreaLeft" fmla="*/ 83880 w 360360"/>
              <a:gd name="textAreaRight" fmla="*/ 276480 w 360360"/>
              <a:gd name="textAreaTop" fmla="*/ 30240 h 287280"/>
              <a:gd name="textAreaBottom" fmla="*/ 181800 h 28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3419640" y="4653000"/>
            <a:ext cx="433080" cy="431640"/>
          </a:xfrm>
          <a:custGeom>
            <a:avLst/>
            <a:gdLst>
              <a:gd name="textAreaLeft" fmla="*/ 100800 w 433080"/>
              <a:gd name="textAreaRight" fmla="*/ 331920 w 43308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708360" y="549360"/>
            <a:ext cx="433440" cy="360360"/>
          </a:xfrm>
          <a:custGeom>
            <a:avLst/>
            <a:gdLst>
              <a:gd name="textAreaLeft" fmla="*/ 100800 w 433440"/>
              <a:gd name="textAreaRight" fmla="*/ 332280 w 43344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6948000" y="907920"/>
            <a:ext cx="71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524720" y="57340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3"/>
          <p:cNvSpPr/>
          <p:nvPr/>
        </p:nvSpPr>
        <p:spPr>
          <a:xfrm>
            <a:off x="971640" y="5157720"/>
            <a:ext cx="504720" cy="432000"/>
          </a:xfrm>
          <a:custGeom>
            <a:avLst/>
            <a:gdLst>
              <a:gd name="textAreaLeft" fmla="*/ 117720 w 504720"/>
              <a:gd name="textAreaRight" fmla="*/ 387000 w 50472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804000" y="981000"/>
            <a:ext cx="432000" cy="360360"/>
          </a:xfrm>
          <a:custGeom>
            <a:avLst/>
            <a:gdLst>
              <a:gd name="textAreaLeft" fmla="*/ 100800 w 432000"/>
              <a:gd name="textAreaRight" fmla="*/ 331200 w 43200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0" y="476280"/>
            <a:ext cx="395280" cy="360360"/>
          </a:xfrm>
          <a:custGeom>
            <a:avLst/>
            <a:gdLst>
              <a:gd name="textAreaLeft" fmla="*/ 92160 w 395280"/>
              <a:gd name="textAreaRight" fmla="*/ 303120 w 39528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71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езание металла слесарной ножовко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зрезания заготовок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ртового проката применя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чную слесарную ножов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тно ножовки – тонкая л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 из твердой стали, на од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ке которой нанесены зуб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овидной формы. Кажд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надежно закреплено в рам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е натяжным винтом, а зуб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в сторону, против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ную ру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2" descr="kozm_sles_67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41749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ть полосовой материал т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 в том случае, если на е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щину укладывается т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олее зубьев полотна. 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е тонкий материал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ют между деревянны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ус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kozm_sles_67_1"/>
          <p:cNvPicPr/>
          <p:nvPr/>
        </p:nvPicPr>
        <p:blipFill>
          <a:blip r:embed="rId1"/>
          <a:stretch/>
        </p:blipFill>
        <p:spPr>
          <a:xfrm>
            <a:off x="4716360" y="333360"/>
            <a:ext cx="4248360" cy="4535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lick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разрезании длин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готовок не всег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у наклоняют слегка впере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t_11_4"/>
          <p:cNvPicPr/>
          <p:nvPr/>
        </p:nvPicPr>
        <p:blipFill>
          <a:blip r:embed="rId1"/>
          <a:stretch/>
        </p:blipFill>
        <p:spPr>
          <a:xfrm>
            <a:off x="5219640" y="1125360"/>
            <a:ext cx="341460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работы нужно прин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ельную позу: стать вполо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та к тискам, левую ногу пост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ь вперед и ступни распол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ть под углом друг к другу. 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вку во время резания держа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умя руками. Перемещение осу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ствляется только руками, 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пус остается неподвиж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позволяет экономить силы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ивает высокое качест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1" name="Picture 27" descr="kozm_sles_67_1"/>
          <p:cNvPicPr/>
          <p:nvPr/>
        </p:nvPicPr>
        <p:blipFill>
          <a:blip r:embed="rId1"/>
          <a:stretch/>
        </p:blipFill>
        <p:spPr>
          <a:xfrm>
            <a:off x="4356000" y="476280"/>
            <a:ext cx="4788000" cy="6121440"/>
          </a:xfrm>
          <a:prstGeom prst="rect">
            <a:avLst/>
          </a:prstGeom>
          <a:ln w="9360">
            <a:solidFill>
              <a:srgbClr val="010199"/>
            </a:solidFill>
            <a:miter/>
          </a:ln>
        </p:spPr>
      </p:pic>
      <p:sp>
        <p:nvSpPr>
          <p:cNvPr id="112" name="AutoShape 28"/>
          <p:cNvSpPr/>
          <p:nvPr/>
        </p:nvSpPr>
        <p:spPr>
          <a:xfrm>
            <a:off x="6443640" y="3716280"/>
            <a:ext cx="2449440" cy="2017800"/>
          </a:xfrm>
          <a:prstGeom prst="leftArrow">
            <a:avLst>
              <a:gd name="adj1" fmla="val 50000"/>
              <a:gd name="adj2" fmla="val 30348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29"/>
          <p:cNvSpPr/>
          <p:nvPr/>
        </p:nvSpPr>
        <p:spPr>
          <a:xfrm rot="1432800">
            <a:off x="5148000" y="1413000"/>
            <a:ext cx="936360" cy="1152360"/>
          </a:xfrm>
          <a:prstGeom prst="downArrow">
            <a:avLst>
              <a:gd name="adj1" fmla="val 30407"/>
              <a:gd name="adj2" fmla="val 7494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1619280" y="260280"/>
            <a:ext cx="417672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то важ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424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ножовки впер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яется рабочим, т.к. в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я зубья полотна реж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, а движение назад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стым. При движ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овки вперед ее слег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жимают вниз, обра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выполняют б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жима. Ход ножовки дол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 быть полным, чтоб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о изнашивалось ра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мерно по всей длин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гать ножовку ну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вно, без рывков, ри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cd_sam_297"/>
          <p:cNvPicPr/>
          <p:nvPr/>
        </p:nvPicPr>
        <p:blipFill>
          <a:blip r:embed="rId1"/>
          <a:stretch/>
        </p:blipFill>
        <p:spPr>
          <a:xfrm>
            <a:off x="4572000" y="33336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Рубка метал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614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бкой разделяют заготовку на части, удаляют лишний металл(припуск). Осущест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яется эта операция с п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щью зубила и моло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жущая часть зубила, как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го другого режущ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а, имеет фор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а. Угол заострения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сит от твердости обраб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ваемого металла: чем тверже металл, там угол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ения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2360" y="1700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tb_714"/>
          <p:cNvPicPr/>
          <p:nvPr/>
        </p:nvPicPr>
        <p:blipFill>
          <a:blip r:embed="rId1"/>
          <a:stretch/>
        </p:blipFill>
        <p:spPr>
          <a:xfrm>
            <a:off x="5005440" y="72396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4316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било и молоток держат так, чтобы ударная часть и край р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ятки выступали на 15…30 м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бку в тисках можно выполн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kozm_sles_72 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3:38:42Z</dcterms:created>
  <dc:creator>Миша и Саша</dc:creator>
  <dc:description/>
  <dc:language>en-US</dc:language>
  <cp:lastModifiedBy>LEGION</cp:lastModifiedBy>
  <dcterms:modified xsi:type="dcterms:W3CDTF">2015-03-31T08:35:19Z</dcterms:modified>
  <cp:revision>7</cp:revision>
  <dc:subject/>
  <dc:title>Темы презентац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