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F834-0D52-4E39-B868-5BB23510C8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ВОРЧЕСКИЙ ПРОЕКТ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 подготовке и оформлении пояснительной записки к проекту по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Михайлова Светлана Анато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307C-6C4D-4557-A32A-6981C5DC67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перечислить используемые в ходе выполнения проект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орудование и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421F-8E83-496E-AC3C-C725CE0A8F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формулировк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 необходимо перейти к указанию конкрет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зучить..., описать..., установить..., выявить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8DDD-E1E6-4142-ADC3-B2378C74DB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й главе проект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начало исследования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4796-E9AC-4B0F-BA5A-8003D9F17B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ующей глав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поисковой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разработ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банк идей и предло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решению проблемы, рассматриваемой в проекте. Важно д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ъективную оценк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ждому из предлагаемых вариа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 этом можно воспользоваться рядом определенных крите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267F-6768-42AD-84FB-489BBC405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ехнологическая часть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еречень этапов, технологическую карт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B35D-F35E-4A5C-B108-FDB7E6D6FB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арианты оформления</a:t>
            </a:r>
            <a:br>
              <a:rPr sz="12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-й вариан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C47B-7B3E-4AEC-AC2A-1AC814BE57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3BDF-7F23-486F-AE3A-81504A7D7E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необходимо рассмотр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номическую и экологическую 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. В экономической части представля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ый расчет затрат на изготовл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уемого изделия. Здесь же представля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ект рекламы и маркетингово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след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71CB-DA11-424E-9981-48BA57A9CF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необходимо удел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логической оценке проек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ю того, что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A4B6-8EC3-4ADF-8083-3C3EAF6D4D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возможно с использованием отход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AF34-8D70-408C-B4BA-8028B74933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оставляющие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ект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оретической и практичес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й частью проекта явл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яснительная запис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актическ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нкретна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дель, изделие макет, видеофиль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66E7-05E8-4C6A-B6E9-7F06ED6EC4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лав основной части долж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очно соответствовать теме работы и полностью ее раскры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59A7-8042-4BF6-A940-617BC94D4D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1ADF-4A97-4175-911C-1CB4330F0B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заключения принято помеща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иблиографический список использованной литератур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2CF9-66AC-4289-80CC-7F843598F9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я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екст, таблицы, графики, карты, рисунк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630F-6099-461B-89D6-FFF14A62E3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приложение должно начинаться с нового листа (страницы) с указани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правом верхнем угл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"Приложение" и им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матический заголов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F1EA-9F41-4A63-967E-53BAF0BC63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раниц, на которых даются приложения, должна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 и продолжать общую нумерацию основного текс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C27D-F49C-4DB7-98BB-BA88DC2DA1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 выполн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укописным, машинописны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ом ил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помощью компьют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A00D-9153-4047-8BDF-F3406D277A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ллюст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оекте должны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нумерован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бычно бывае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иллюстрацию необходимо снабди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дрисуночной подпис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должна соответствовать ее содержанию и основному тек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20A0-FD60-4965-BEFC-B56DF6D462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спользован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Морозова, Н.Г.Кравченко, О.В.Павлова, Технология, 5-11 класс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гоград, издательство «Учитель»,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9169-C87D-4D86-BEE6-26101E16FD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одержание пояснительной запис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Титуль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Огл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Главы основн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Список использованн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B60E-7450-4328-BE37-C5A439D493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0600-2E32-4956-AFC9-991276DEA6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Если необходимо конкретизировать название  работы, то можно 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ижнем поле указываются место и год выполнения работы (без слова "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30B0-9937-4C48-91A1-650924D3C7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кст следует писать или печатать, соблюдая следующие размеры по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е — не менее 3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е — не менее 1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хнее — не менее 15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ее — не менее 2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A0BE-7E2C-4BF2-8A86-89F09A03E8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1BBA-B30D-4EDF-91EC-DF356499A8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вед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обосновывает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нной темы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держание поставленных задач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уютс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ланируемый результат и основные проблем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ые в проек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4AD4-7FED-447C-B784-A233C5142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ва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межпредметные связ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общаетс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у предназначен про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 чем состоит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го новизн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ведении также да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арактеристика основных источников получения информаци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фициальных, научных, литературных, библиографически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2354-6487-45E7-8FEA-E826ED58E3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440-C75C-401C-9D3B-0144F7FF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2B1-E8B7-4913-9322-F43D9F20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B6E-3F7B-4893-A1C7-791FAFD9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32B-20F4-4590-9E69-917E2A4B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AEF-7EF8-4295-B996-BF4B8817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948-6425-4BA0-8DA8-937F2326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8EA-0C77-4722-8ACD-9915E919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A67-8EE7-416F-A552-29440091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729-F6AA-434C-9BF6-E3F336EB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D9F-4856-458D-AEE5-4954ED09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02D-C15B-41B5-ADCC-E47D0EAC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DDE-0A75-419D-B793-41D7F020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F5C4-511C-4A44-9C98-784AB3EA6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о подготовке и оформлении пояснительной записки к проекту по техн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Михайлова Светлана Анато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ВОРЧЕСКИЙ ПРОЕКТ ПО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тельно перечислить используемые в ходе выполнения проекта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орудование и материа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ктуа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формулиров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 необходимо перейти к указанию конкрет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зучить..., описать..., установить..., выявить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т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ервой главе проекта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начало исследования)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й глав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поисковой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работ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анк идей и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решению проблемы, рассматриваемой в проекте. Важно д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ивную оценк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аждому из предлагаемых вариа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этом можно воспользоваться рядом определенных критери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хнологическая част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еречень этапов, технологическую карт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арианты оформления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-й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438280"/>
          <a:ext cx="8915400" cy="3048120"/>
        </p:xfrm>
        <a:graphic>
          <a:graphicData uri="http://schemas.openxmlformats.org/drawingml/2006/table">
            <a:tbl>
              <a:tblPr/>
              <a:tblGrid>
                <a:gridCol w="820800"/>
                <a:gridCol w="2455920"/>
                <a:gridCol w="2590560"/>
                <a:gridCol w="304812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ки, 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-й вариан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2514600"/>
        </p:xfrm>
        <a:graphic>
          <a:graphicData uri="http://schemas.openxmlformats.org/drawingml/2006/table">
            <a:tbl>
              <a:tblPr/>
              <a:tblGrid>
                <a:gridCol w="471600"/>
                <a:gridCol w="1977840"/>
                <a:gridCol w="1139760"/>
                <a:gridCol w="2814840"/>
                <a:gridCol w="1825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к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ее необходимо рассмотр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ономическую и экологическую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. В экономической части представляе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олный расчет затрат на изготовлени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емого изделия. Здесь же представляю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оект рекламы и маркетингово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сследов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е внимание необходимо удели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кологической оценке проек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нованию того, что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озможно с использованием отходов произво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ляющ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оретической и практичес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оретической частью проекта явл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практическо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нкретна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дель, изделие макет, видеофиль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лав основной части долж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чно соответствовать теме работы и полностью ее раскрыв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ключения принято помеща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иблиографический список использованной литератур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текст, таблицы, графики, карты, рисунки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приложение должно начинаться с нового листа (страницы) с указани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правом верхнем угл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"Приложение" и им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тический 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ц, на которых даются приложения, должна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 и продолжать общую нумерацию основного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 выполн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укописным, машинописны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ом ил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 помощью компью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ллюст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екте должны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нумерован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обычно быва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ую иллюстрацию необходимо снабди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рисуночной подпис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ая должна соответствовать ее содержанию и основному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212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Морозова, Н.Г.Кравченко, О.В.Павлова, Технология, 5-11 клас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ая деятельность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, издательство «Учитель»,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держание пояснительной запи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 Титульный л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Огл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 В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 Главы основной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 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Список использованной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7. Прилож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итуль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необходимо конкретизировать название  работы, то можно д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ижнем поле указываются место и год выполнения работы (без слова "год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 следует писать или печатать, соблюдая следующие размеры п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вое — не менее 3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е — не менее 1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хнее — не менее 15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жнее — не менее 2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м обосновыв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ранной темы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одержание поставленных задач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ируютс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ланируемый результат и основные пробле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 проек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азываю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межпредметные связ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ообщается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у предназначен проек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в чем состоит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его новизн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ведении также дае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характеристика основных источников получения информации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фициальных, научных, литературных, библиографических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8:0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