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71EE-9F21-438F-8D5B-8DDB9C7676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ВОРЧЕСКИЙ ПРОЕКТ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 подготовке и оформлении пояснительной записки к проекту по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Михайлова Светлана Анато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F3CC-EEB6-461D-80F3-AE058294A0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перечислить используемые в ходе выполнения проект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орудование и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7B17-0006-4409-BDF7-FE6EAABB0B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формулировк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 необходимо перейти к указанию конкрет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зучить..., описать..., установить..., выявить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8553-14E6-489A-9A3F-34C8BAD834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й главе проект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начало исследования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836B-CDCD-4D78-B17B-AF2D1BC44C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ующей глав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поисковой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разработ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банк идей и предло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решению проблемы, рассматриваемой в проекте. Важно д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ъективную оценк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ждому из предлагаемых вариа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 этом можно воспользоваться рядом определенных крите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A9C6-3AAE-4906-AF34-8E536EEB8D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ехнологическая часть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еречень этапов, технологическую карт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64C3-CAA7-47D3-8C2C-AC09D9BA98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арианты оформления</a:t>
            </a:r>
            <a:br>
              <a:rPr sz="12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-й вариан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BB77-AAB9-41A1-92FE-D6462D2DCC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6AF9-679E-4496-8566-6B8657BB18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необходимо рассмотр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номическую и экологическую 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. В экономической части представля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ый расчет затрат на изготовл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уемого изделия. Здесь же представля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ект рекламы и маркетингово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след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3233-BFE2-4EEC-993F-EFCBEFA09E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необходимо удел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логической оценке проек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ю того, что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195C-C791-4BF1-B5D1-133831382C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возможно с использованием отход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BC56-4F23-49CA-A8E4-9581E9DEAF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оставляющие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ект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оретической и практичес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й частью проекта явл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яснительная запис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актическ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нкретна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дель, изделие макет, видеофиль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1E3F-40F5-4813-A0A9-BE6547657B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лав основной части долж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очно соответствовать теме работы и полностью ее раскры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D018-1C29-4658-A955-8DFC108041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аключ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01A5-9DBC-484A-ADDF-170340A556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заключения принято помеща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иблиографический список использованной литератур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0407-16D7-452F-A439-B6B371911C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я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екст, таблицы, графики, карты, рисунк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0B90-752D-43AB-95A8-4B08C2C0F0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приложение должно начинаться с нового листа (страницы) с указани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правом верхнем угл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"Приложение" и им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матический заголов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EDC1-2C83-4A16-BAF2-4746C6F478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раниц, на которых даются приложения, должна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 и продолжать общую нумерацию основного текс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53D5-C904-40C8-B021-B3279C2034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 выполн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укописным, машинописны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ом ил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помощью компьют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FF20-DE83-499C-BD83-957360727C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ллюст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оекте должны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нумерован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бычно бывае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иллюстрацию необходимо снабди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дрисуночной подпис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должна соответствовать ее содержанию и основному тек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6974-5E63-488C-B1DF-2E36497AB9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спользован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Морозова, Н.Г.Кравченко, О.В.Павлова, Технология, 5-11 класс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гоград, издательство «Учитель»,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49FA-C3FC-48E4-BD67-819D225ED7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одержание пояснительной запис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Титуль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Огл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Главы основн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Список использованн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1814-DD14-4622-B564-5CBBBA9C90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итуль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B847-8ADE-4FFB-8604-D9CD24E682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Если необходимо конкретизировать название  работы, то можно 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ижнем поле указываются место и год выполнения работы (без слова "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5BD6-3FFE-42FB-8766-8B4F02308B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кст следует писать или печатать, соблюдая следующие размеры по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е — не менее 3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е — не менее 1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хнее — не менее 15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жнее — не менее 2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76E8-D82D-4BEE-94A9-E7EEB34441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5B40-F5B7-4CC3-AE11-545F3D9A1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вед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обосновывает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актуальность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нной темы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держание поставленных задач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уютс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ланируемый результат и основные проблем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ые в проек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24DE-B4BB-4901-B880-8EF6193007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ва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межпредметные связ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общаетс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у предназначен про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 чем состоит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го новизн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ведении также да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арактеристика основных источников получения информаци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фициальных, научных, литературных, библиографически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1C15-A497-4EE7-8D97-92A6907495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8A9-CA02-4400-8476-22767E8C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EFE-6FFB-4E85-9284-CA85BE4E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C07-7FA6-466F-953B-4857988F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E5A-B47B-4D23-86FB-6EAF26DB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692-C802-40BB-A6B0-F0E41715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D76-7332-4589-8B6C-8334F3B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5B2-55ED-4FFD-97EF-2513973D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DC6-3917-4A12-A941-11251BDA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0C2-C3DE-49CB-88FE-F767B5CA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9D0-0A7D-45DD-856F-155D0213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768-604F-4854-9508-BA1C1673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D65-558B-47C2-B278-F21E4DD5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ABD5-3E78-4A0F-8AD8-EE3ECD79E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о подготовке и оформлении пояснительной записки к проекту по техноло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Михайлова Светлана Анатол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ВОРЧЕСКИЙ ПРОЕКТ ПО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тельно перечислить используемые в ходе выполнения проекта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орудование и материа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ктуаль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формулиров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 необходимо перейти к указанию конкрет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зучить..., описать..., установить..., выявить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т.п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ервой главе проекта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(начало исследования)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едующей глав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поисковой)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работ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анк идей и предлож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решению проблемы, рассматриваемой в проекте. Важно д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ъективную оценк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аждому из предлагаемых вариа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этом можно воспользоваться рядом определенных критери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хнологическая част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еречень этапов, технологическую карт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арианты оформления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-й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438280"/>
          <a:ext cx="8915400" cy="3048120"/>
        </p:xfrm>
        <a:graphic>
          <a:graphicData uri="http://schemas.openxmlformats.org/drawingml/2006/table">
            <a:tbl>
              <a:tblPr/>
              <a:tblGrid>
                <a:gridCol w="820800"/>
                <a:gridCol w="2455920"/>
                <a:gridCol w="2590560"/>
                <a:gridCol w="304812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ки, 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-й вариан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2514600"/>
        </p:xfrm>
        <a:graphic>
          <a:graphicData uri="http://schemas.openxmlformats.org/drawingml/2006/table">
            <a:tbl>
              <a:tblPr/>
              <a:tblGrid>
                <a:gridCol w="471600"/>
                <a:gridCol w="1977840"/>
                <a:gridCol w="1139760"/>
                <a:gridCol w="2814840"/>
                <a:gridCol w="182556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к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ее необходимо рассмотр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кономическую и экологическую оце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. В экономической части представляе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олный расчет затрат на изготовлени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уемого изделия. Здесь же представляю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роект рекламы и маркетингово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сследов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ое внимание необходимо уделит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кологической оценке проек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снованию того, что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возможно с использованием отходов произво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ставляющ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оретической и практичес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оретической частью проекта явл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практическо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нкретна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дель, изделие макет, видеофиль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лав основной части долж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чно соответствовать теме работы и полностью ее раскрыва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ключения принято помеща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иблиографический список использованной литератур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текст, таблицы, графики, карты, рисунки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приложение должно начинаться с нового листа (страницы) с указани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правом верхнем угл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"Приложение" и им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тический заголо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иц, на которых даются приложения, должна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 и продолжать общую нумерацию основного тек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 выполн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укописным, машинописны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ом ил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 помощью компью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ллюст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екте должны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нумерован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обычно бывае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ую иллюстрацию необходимо снабди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рисуночной подпис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ая должна соответствовать ее содержанию и основному тек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2120" y="24382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Морозова, Н.Г.Кравченко, О.В.Павлова, Технология, 5-11 клас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ая деятельность учащих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гоград, издательство «Учитель»,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держание пояснительной запи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. Титульный л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Огл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. В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. Главы основной ч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5. 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6. Список использованной литера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7. Приложе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итуль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необходимо конкретизировать название  работы, то можно д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ижнем поле указываются место и год выполнения работы (без слова "год"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ст следует писать или печатать, соблюдая следующие размеры п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вое — не менее 3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е — не менее 1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хнее — не менее 15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жнее — не менее 2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вед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ем обосновывает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актуальность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ранной темы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одержание поставленных задач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ируютс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ланируемый результат и основные проблем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мые в проек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азываю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межпредметные связ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ообщается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у предназначен проек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в чем состоит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его новизн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ведении также дае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характеристика основных источников получения информации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фициальных, научных, литературных, библиографических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8:0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