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23AC-9D3B-4225-A8BE-CB91DA5C23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ВОРЧЕСКИЙ ПРОЕКТ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 подготовке и оформлении пояснительной записки к проекту по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Михайлова Светлана Анато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8915-BB44-494C-A834-A0B9E27DF1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перечислить используемые в ходе выполнения проект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орудование и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3668-3CC4-49B5-8609-02C7C50AE8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формулировк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 необходимо перейти к указанию конкрет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зучить..., описать..., установить..., выявить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B699-2F03-46C3-A492-A2E6C3ECAC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й главе проект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начало исследования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22BA-24F4-4FE1-A5DC-B695CAB1F0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й глав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поисковой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разработ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банк идей и предло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решению проблемы, рассматриваемой в проекте. Важно д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ъективную оценк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ждому из предлагаемых вариа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 этом можно воспользоваться рядом определенных крите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877B-90D3-44C5-8077-0348FA7AC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ехнологическая часть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еречень этапов, технологическую карт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1F98-1F8A-49D4-953A-0624B84EF2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арианты оформления</a:t>
            </a:r>
            <a:br>
              <a:rPr sz="12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-й вариан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51C-4AFC-4D53-A7BD-03564CA4A0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3F0B-2B88-410F-A92C-7A3503B989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необходимо рассмотр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номическую и экологическую 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. В экономической части представля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ый расчет затрат на изготовл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уемого изделия. Здесь же представля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ект рекламы и маркетингово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след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4FAE-5F97-4EB0-A83A-364EBC6E1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необходимо удел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логической оценке проек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ю того, что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6153-A984-4F6C-8D42-FC42D0F770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возможно с использованием отход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A5C2-20AA-4171-8E9E-4493531D7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оставляющ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оретической и практичес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й частью проекта явл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яснительная запи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актическ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нкретна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дель, изделие макет, видеофиль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06F4-63F0-47EE-A73F-1D47A411D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лав основной части долж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очно соответствовать теме работы и полностью ее раскры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CAF2-7649-470A-927E-00879E087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94E-033C-4F38-BFCB-D5D418A6C3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заключения принято помеща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иблиографический список использованной литератур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7BB-2C16-43E6-AFAB-C5F6DF9B24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я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екст, таблицы, графики, карты, рисунк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C26D-E14B-4D00-AB30-73B273F16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приложение должно начинаться с нового листа (страницы) с указани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правом верхнем угл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"Приложение" и им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матический заголов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BAD3-7286-4B63-9D60-224633ACC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раниц, на которых даются приложения, должна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 и продолжать общую нумерацию основного текс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422-DA83-4BC0-8CC5-E060EFDAF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 выполн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укописным, машинописны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ом ил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помощью компьют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AC46-5DB5-4FB6-84C8-CDBE01520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ллюст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оекте должны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нумерован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бычно бывае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иллюстрацию необходимо снабди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дрисуночной подпис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должна соответствовать ее содержанию и основному тек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84B-6828-4A5C-8D65-16037264F0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спользован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Морозова, Н.Г.Кравченко, О.В.Павлова, Технология, 5-11 класс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гоград, издательство «Учитель»,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96A0-17FF-4E02-8465-92F69A818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одержание пояснительной запис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Титуль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Огл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Главы основ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Список использованн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007C-79E7-4672-B63D-59FAAC9E55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01E0-2F39-4BE4-9224-B2FBEF8CD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Если необходимо конкретизировать название  работы, то можно 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ижнем поле указываются место и год выполнения работы (без слова "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DC98-A9C1-416A-B894-78FD07E1E0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кст следует писать или печатать, соблюдая следующие размеры по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е — не менее 3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е — не менее 1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хнее — не менее 15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ее — не менее 2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1D77-CA11-495C-9405-EE521FB65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0101-9065-4ED2-ACD9-CB71443E8F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обосновывае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нной темы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держание поставленных задач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уютс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ланируемый результат и основные проблем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ые в проек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47F-42D8-43E0-B1F5-FC854EF9B8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ва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межпредметные связ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общаетс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у предназначен про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 чем состоит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го новизн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ведении также да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арактеристика основных источников получения информаци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фициальных, научных, литературных, библиографически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CEEA-8E43-40D6-8313-DE78BDF586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66C-1631-432F-9A88-AC014EAA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E70-1856-4973-9D75-2913B307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655-84DE-4860-A0C7-4DEA82E4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5B3-8E59-4025-ABEF-7036E9DC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E7A-92B9-4D2F-8941-D023854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5BF-DC8D-4F4B-9A38-9DADBE1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4EB-86BB-4F6F-AD30-C2409C7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5C2-DBE5-4C64-8680-6208ADB5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405-74B3-407A-B357-9A080FE6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E4B-4929-41C0-AC79-AD1269D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EFE-0EFC-4060-9263-825B1C5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615-C6AD-4130-9C42-04DC2A3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E1C-1C05-4467-88B6-46AA81D06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подготовке и оформлении пояснительной записки к проекту по техн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Михайлова 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ВОРЧЕСКИЙ ПРОЕКТ ПО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работ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рианты оформления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438280"/>
          <a:ext cx="8915400" cy="30481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"Приложение" и им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ом ил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ычно быва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Морозова, Н.Г.Кравченко, О.В.Павлова, Технология, 5-11 клас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, издательство «Учитель»,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еобходимо конкретизировать название  работы, то можно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одержание поставленных задач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жпредметные связ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его новиз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фициальных, научных, литературных, библиографических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8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