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wmf" ContentType="image/x-wmf"/>
  <Override PartName="/ppt/media/image14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6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E24D-B930-4B56-B28F-7EC8BE8C4E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а безопаснос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ах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Михайлова С.А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D19C-31FB-4B70-A142-F6188876DB84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швейной маши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CA0D-6D78-455B-BA29-C0FA021DFB9A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брать волосы под косын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работой убрать с платформы машины посторонние предметы, закрепить иглу и лап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жде чем стачивать изделие, проверить, не осталась ли в нем булавка или игол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B5E4-5CAE-491B-9E40-8054E7F8A8B0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ремя работы не наклоняться близко к движущемуся стержню иг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80D8-FAFC-4761-987F-0C87634C9917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ить к ученицам, работающим на машинах, не отвлекать их от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ручной машине ручку махового колеса крутит только сам работа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EE23-58B2-4072-9BBF-A99688B2D0C5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абинете трудового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ходить в кабинет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началом работы одеть спецодеж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0E06-5EFC-4059-B1B7-3799F4144BEA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ть работу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льзя отвлекать работающих однокласс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97E5-F05E-4379-9054-22E66D243524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получении травмы учащийся должен немедленно обратиться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DC06-11B1-4474-B778-D1ABA6B52A6F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работе с тка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B361-CF70-40D8-8648-0A1696D916D0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ейте только с наперст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кройки к ткани прикрепляйте острыми концами            булавок в направлении от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аклоняйтесь близко к движущимся частям швейной ма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8209-A87E-438E-ABAF-54B1DB2B2853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ите пальцы рук около лапки швейной машины во избежание прокола их иг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ткусывайте нитки зубами, а отрезайте их ножниц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266B-3619-4684-B1FA-AB422D2CDB28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с электрическим утюг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ставляйте включенный утюг в сеть без присмо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ключайте и выключайте утюг сухими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вьте утюг на термоизоляционную подстав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9A57-C0FD-47BA-8E8D-D1421E71459B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нормальной работой утюга, о всех неисправностях сообщайте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тем, чтобы подошва утюга не касалась шн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лючайте утюг только за ви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B911-98EC-456F-A626-A6172F3B5E2C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A41-8420-4430-B891-3CBC2BE0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D8E-0EF7-4F3E-9245-BCB07098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FF2-6C03-46B5-99E1-1E531944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EDF-3E1A-431C-AFF6-A01B5F32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4B62-14ED-4E50-BFC4-8AA4913F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5E8A-1551-4A33-AEC2-10531899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6863-45A1-4133-A5E7-06A7CE9A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0672-D7E7-4CCB-BE86-4B25DFE4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EEAA-B9DE-45C5-B496-C12D8219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9C72-E3F2-43D7-B5CB-ED58BB97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E304-32BD-4686-BFBF-52D3BF7C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242-10BC-419B-BEA5-E70DF602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21FD-1F25-4B42-811B-3E310A35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3D6C-72E4-4BA4-9084-51FEF0FE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6C74-9695-4A71-98C6-80096567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46FC-5234-40E7-9CC6-04692ED3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2FA7-E0E3-4381-A715-434C99ED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079-163B-44E8-856C-2AB9EB63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1EB-8425-431E-818E-2D23DF68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590-BA77-4058-9C99-20794CFD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1FF2-CF74-4235-B7ED-956A3EEB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288-D162-4E0D-980A-1B94A75F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209-7E83-4A81-8CFF-1D6FEA50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8CD-CBD7-4578-A699-BDB04CC7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4A65-AD0B-4241-B307-E975138616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EE21-7A3D-4B26-9145-BB31CEE81173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-237960"/>
            <a:ext cx="7772400" cy="27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Техника безопасности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на уроках технологи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508428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Автор: Михайлова С.А.,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2" name="Picture 21" descr="j0232859[1]"/>
          <p:cNvPicPr/>
          <p:nvPr/>
        </p:nvPicPr>
        <p:blipFill>
          <a:blip r:embed="rId1"/>
          <a:stretch/>
        </p:blipFill>
        <p:spPr>
          <a:xfrm rot="2652000">
            <a:off x="1042560" y="76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9" descr="j0250979[1]"/>
          <p:cNvPicPr/>
          <p:nvPr/>
        </p:nvPicPr>
        <p:blipFill>
          <a:blip r:embed="rId2"/>
          <a:stretch/>
        </p:blipFill>
        <p:spPr>
          <a:xfrm>
            <a:off x="2556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j0295065[1]"/>
          <p:cNvPicPr/>
          <p:nvPr/>
        </p:nvPicPr>
        <p:blipFill>
          <a:blip r:embed="rId3"/>
          <a:stretch/>
        </p:blipFill>
        <p:spPr>
          <a:xfrm rot="2496600">
            <a:off x="4211280" y="692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4" descr="j0283462[1]"/>
          <p:cNvPicPr/>
          <p:nvPr/>
        </p:nvPicPr>
        <p:blipFill>
          <a:blip r:embed="rId4"/>
          <a:stretch/>
        </p:blipFill>
        <p:spPr>
          <a:xfrm>
            <a:off x="766764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j0234096[1]"/>
          <p:cNvPicPr/>
          <p:nvPr/>
        </p:nvPicPr>
        <p:blipFill>
          <a:blip r:embed="rId5"/>
          <a:stretch/>
        </p:blipFill>
        <p:spPr>
          <a:xfrm>
            <a:off x="6084720" y="692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0920" y="330120"/>
            <a:ext cx="8342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при работе на швейной машине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6" name="Picture 4" descr="MCj04359910000[1]"/>
          <p:cNvPicPr/>
          <p:nvPr/>
        </p:nvPicPr>
        <p:blipFill>
          <a:blip r:embed="rId1"/>
          <a:stretch/>
        </p:blipFill>
        <p:spPr>
          <a:xfrm>
            <a:off x="2571840" y="2286000"/>
            <a:ext cx="4062240" cy="3495600"/>
          </a:xfrm>
          <a:prstGeom prst="rect">
            <a:avLst/>
          </a:prstGeom>
          <a:ln w="38160">
            <a:solidFill>
              <a:srgbClr val="8383a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85800" y="1071720"/>
            <a:ext cx="77724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Убрать волосы под косын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работой убрать с платформы машины посторонние предметы, закрепить иглу и лап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ежде чем стачивать изделие, проверить, не осталась ли в нем булавка или игол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о время работы не наклоняться близко к движущемуся стержню игл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1" name="Picture 4" descr="MCj02813010000[1]"/>
          <p:cNvPicPr/>
          <p:nvPr/>
        </p:nvPicPr>
        <p:blipFill>
          <a:blip r:embed="rId3"/>
          <a:stretch/>
        </p:blipFill>
        <p:spPr>
          <a:xfrm>
            <a:off x="6443640" y="4437000"/>
            <a:ext cx="2104920" cy="163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MCj02904170000[1]"/>
          <p:cNvPicPr/>
          <p:nvPr/>
        </p:nvPicPr>
        <p:blipFill>
          <a:blip r:embed="rId4"/>
          <a:stretch/>
        </p:blipFill>
        <p:spPr>
          <a:xfrm>
            <a:off x="1476360" y="4365720"/>
            <a:ext cx="1528920" cy="163512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подходить к ученицам, работающим на машинах, не отвлекать их от работ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работе на ручной машине ручку махового колеса крутит только сам работающий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5" name="Picture 4" descr="logotip"/>
          <p:cNvPicPr/>
          <p:nvPr/>
        </p:nvPicPr>
        <p:blipFill>
          <a:blip r:embed="rId3"/>
          <a:stretch/>
        </p:blipFill>
        <p:spPr>
          <a:xfrm>
            <a:off x="3857760" y="4071960"/>
            <a:ext cx="2384280" cy="199224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330120"/>
            <a:ext cx="84852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в кабинете трудового обучения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ходить в кабинет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началом работы одеть спецодежд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ачинать работу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льзя отвлекать работающих однокласснико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80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получении травмы учащийся должен немедленно обратиться к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4" name="Рисунок 4" descr="aptechka.jpg"/>
          <p:cNvPicPr/>
          <p:nvPr/>
        </p:nvPicPr>
        <p:blipFill>
          <a:blip r:embed="rId2"/>
          <a:stretch/>
        </p:blipFill>
        <p:spPr>
          <a:xfrm>
            <a:off x="3143160" y="3000240"/>
            <a:ext cx="2619360" cy="27892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56760" y="330120"/>
            <a:ext cx="859644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тканью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0" y="2286000"/>
            <a:ext cx="6678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8" name="Рисунок 6" descr="01484f093584.jpg"/>
          <p:cNvPicPr/>
          <p:nvPr/>
        </p:nvPicPr>
        <p:blipFill>
          <a:blip r:embed="rId3"/>
          <a:stretch/>
        </p:blipFill>
        <p:spPr>
          <a:xfrm>
            <a:off x="357120" y="4572000"/>
            <a:ext cx="2071800" cy="18702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571320"/>
            <a:ext cx="77724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Шейте только с наперстко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ыкройки к ткани прикрепляйте острыми концами            булавок в направлении от себ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наклоняйтесь близко к движущимся частям швейной машин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1" name="Рисунок 6" descr="3531898.jpg"/>
          <p:cNvPicPr/>
          <p:nvPr/>
        </p:nvPicPr>
        <p:blipFill>
          <a:blip r:embed="rId4"/>
          <a:stretch/>
        </p:blipFill>
        <p:spPr>
          <a:xfrm>
            <a:off x="3643200" y="4643280"/>
            <a:ext cx="2357640" cy="17146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7" descr="48827632_1.jpg"/>
          <p:cNvPicPr/>
          <p:nvPr/>
        </p:nvPicPr>
        <p:blipFill>
          <a:blip r:embed="rId5"/>
          <a:stretch/>
        </p:blipFill>
        <p:spPr>
          <a:xfrm>
            <a:off x="1143000" y="4467240"/>
            <a:ext cx="1881360" cy="21337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8" descr="imgB.jpg"/>
          <p:cNvPicPr/>
          <p:nvPr/>
        </p:nvPicPr>
        <p:blipFill>
          <a:blip r:embed="rId6"/>
          <a:stretch/>
        </p:blipFill>
        <p:spPr>
          <a:xfrm>
            <a:off x="6858000" y="4429080"/>
            <a:ext cx="1714680" cy="198936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держите пальцы рук около лапки швейной машины во избежание прокола их иглой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откусывайте нитки зубами, а отрезайте их ножницам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6" name="Рисунок 5" descr="T04534-DUR1771.jpg"/>
          <p:cNvPicPr/>
          <p:nvPr/>
        </p:nvPicPr>
        <p:blipFill>
          <a:blip r:embed="rId4"/>
          <a:stretch/>
        </p:blipFill>
        <p:spPr>
          <a:xfrm>
            <a:off x="6143760" y="4357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6" descr="q4.jpg"/>
          <p:cNvPicPr/>
          <p:nvPr/>
        </p:nvPicPr>
        <p:blipFill>
          <a:blip r:embed="rId5"/>
          <a:stretch/>
        </p:blipFill>
        <p:spPr>
          <a:xfrm>
            <a:off x="857160" y="4286160"/>
            <a:ext cx="2192400" cy="227988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330120"/>
            <a:ext cx="8558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электрическим утюгом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7140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оставляйте включенный утюг в сеть без присмот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ключайте и выключайте утюг сухими рукам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тавьте утюг на термоизоляционную подстав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1" name="Рисунок 5" descr="PHILIPS%20GC-3109_enl.jpg"/>
          <p:cNvPicPr/>
          <p:nvPr/>
        </p:nvPicPr>
        <p:blipFill>
          <a:blip r:embed="rId4"/>
          <a:stretch/>
        </p:blipFill>
        <p:spPr>
          <a:xfrm>
            <a:off x="5857920" y="4429080"/>
            <a:ext cx="2523960" cy="205092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нормальной работой утюга, о всех неисправностях сообщайте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тем, чтобы подошва утюга не касалась шну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Отключайте утюг только за вил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7:00:47Z</dcterms:created>
  <dc:creator>user</dc:creator>
  <dc:description/>
  <dc:language>en-US</dc:language>
  <cp:lastModifiedBy>LEGION</cp:lastModifiedBy>
  <dcterms:modified xsi:type="dcterms:W3CDTF">2015-03-31T08:39:45Z</dcterms:modified>
  <cp:revision>9</cp:revision>
  <dc:subject/>
  <dc:title>Техника безопасности на уроках технологии</dc:title>
</cp:coreProperties>
</file>