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9.wmf" ContentType="image/x-wmf"/>
  <Override PartName="/ppt/media/image14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7D47-6FB2-4EBF-9CC4-2DB00629A1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ка безопасност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уроках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Михайлова С.А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7065-800E-4748-9B8D-1D98381D657B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швейной маши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CD43-92F2-40B8-92A8-4067C1D0CB68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брать волосы под косын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работой убрать с платформы машины посторонние предметы, закрепить иглу и лап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жде чем стачивать изделие, проверить, не осталась ли в нем булавка или игол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19B9-DFFB-4C3A-AF0C-608796994D1B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 время работы не наклоняться близко к движущемуся стержню иг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298D-1325-4E4D-9DF7-B41CECC18E32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ить к ученицам, работающим на машинах, не отвлекать их от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на ручной машине ручку махового колеса крутит только сам работающ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8830-CB75-4B5B-8344-52D5171903BC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кабинете трудов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ходить в кабинет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началом работы одеть спецодеж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DB0D-6397-4840-8586-06540ABCB83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ть работу можно только с разрешения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льзя отвлекать работающих однокласс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89C1-9A34-41AA-B09F-EDD926665162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получении травмы учащийся должен немедленно обратиться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116D-5E5B-4A29-87C0-7384239F01E0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рукция  по технике безопасност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работе с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59C9-0117-4148-8582-3DC9DB0C01D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ейте только с наперст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кройки к ткани прикрепляйте острыми концами            булавок в направлении от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аклоняйтесь близко к движущимся частям швейной ма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713D-6AD7-4FA0-8D13-C4A604F28C32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держите пальцы рук около лапки швейной машины во избежание прокола их иг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ткусывайте нитки зубами, а отрезайте их ножниц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D73C-FCAB-4C45-AB72-DCE122508256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работе с электрическим утюг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оставляйте включенный утюг в сеть без присмо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йте и выключайте утюг сухими р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вьте утюг на термоизоляционную подстав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6FF1-EC8C-4E61-B44C-F3E5BE4DBFD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нормальной работой утюга, о всех неисправностях сообщайте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ите за тем, чтобы подошва утюга не касалась шн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лючайте утюг только за ви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8950-1642-4787-9D6E-28F0A0814A37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DA9-C35E-4057-B999-E48FFB8A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81D-2A94-4405-B9C7-E279C3E2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778D-8CAD-4A30-ABF2-100EA6C7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48E-29E5-4295-B7BE-030B834E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EBF92-A2CC-4A88-A31D-1F985349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2BB4-96B3-45CE-AB3E-EC4CB3A6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63A1-0C1D-4745-B3A5-9A4A1C49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87E0-755B-4BDE-A4EA-C8FD10ED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E488-089E-4C4A-99B6-B7505F51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B9E3-073F-4262-AEDB-0FD52662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43D7-455C-420E-8227-461EDF0D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2BC4-C280-41CD-BC8D-18DBBCA9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897C-A75A-4CF4-8A5A-8E980869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2621-6E57-41B5-B409-E89EFF4D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A2D9-7010-40D3-A788-289F1A13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A987-3831-43C3-BBB4-14962B5A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D09A-7046-4E4E-988C-75946221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9FE-7E2A-486A-9AE3-CC5E5113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482-E9DE-4E08-A59E-7917C1ED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079-3EB1-4B60-8EEF-EE55CA29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A4C-707E-4F74-AB91-B6EBEE03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78D-3FC1-47A3-A096-97AF112B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C9E-9C4F-4DA9-832B-BF20C1EF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6FE-5586-4A12-AFB7-A7234E98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AA97-679C-40B6-9E79-265CFBE72B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E6FB-0041-4BE6-AE54-333F0EB23B08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23796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Техника безопасности</a:t>
            </a: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на уроках технологии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Автор: Михайлова С.А.,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383ad"/>
                </a:solidFill>
                <a:latin typeface="Times New Roman"/>
              </a:rPr>
              <a:t>Учитель технологии МОУ «Пушкиногорская средняя общеобразовательная школа имени А.С.Пушкина»</a:t>
            </a:r>
            <a:endParaRPr b="0" lang="en-US" sz="16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52" name="Picture 21" descr="j0232859[1]"/>
          <p:cNvPicPr/>
          <p:nvPr/>
        </p:nvPicPr>
        <p:blipFill>
          <a:blip r:embed="rId1"/>
          <a:stretch/>
        </p:blipFill>
        <p:spPr>
          <a:xfrm rot="2652000">
            <a:off x="1042560" y="76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9" descr="j0250979[1]"/>
          <p:cNvPicPr/>
          <p:nvPr/>
        </p:nvPicPr>
        <p:blipFill>
          <a:blip r:embed="rId2"/>
          <a:stretch/>
        </p:blipFill>
        <p:spPr>
          <a:xfrm>
            <a:off x="2556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4211280" y="692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4" descr="j0283462[1]"/>
          <p:cNvPicPr/>
          <p:nvPr/>
        </p:nvPicPr>
        <p:blipFill>
          <a:blip r:embed="rId4"/>
          <a:stretch/>
        </p:blipFill>
        <p:spPr>
          <a:xfrm>
            <a:off x="766764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j0234096[1]"/>
          <p:cNvPicPr/>
          <p:nvPr/>
        </p:nvPicPr>
        <p:blipFill>
          <a:blip r:embed="rId5"/>
          <a:stretch/>
        </p:blipFill>
        <p:spPr>
          <a:xfrm>
            <a:off x="6084720" y="692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0920" y="330120"/>
            <a:ext cx="8342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и работе на швейной машине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86" name="Picture 4" descr="MCj04359910000[1]"/>
          <p:cNvPicPr/>
          <p:nvPr/>
        </p:nvPicPr>
        <p:blipFill>
          <a:blip r:embed="rId1"/>
          <a:stretch/>
        </p:blipFill>
        <p:spPr>
          <a:xfrm>
            <a:off x="2571840" y="2286000"/>
            <a:ext cx="4062240" cy="3495600"/>
          </a:xfrm>
          <a:prstGeom prst="rect">
            <a:avLst/>
          </a:prstGeom>
          <a:ln w="38160">
            <a:solidFill>
              <a:srgbClr val="8383a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Убрать волосы под косын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работой убрать с платформы машины посторонние предметы, закрепить иглу и лап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ежде чем стачивать изделие, проверить, не осталась ли в нем булавка или игол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о время работы не наклоняться близко к движущемуся стержню игл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4" descr="MCj02813010000[1]"/>
          <p:cNvPicPr/>
          <p:nvPr/>
        </p:nvPicPr>
        <p:blipFill>
          <a:blip r:embed="rId3"/>
          <a:stretch/>
        </p:blipFill>
        <p:spPr>
          <a:xfrm>
            <a:off x="6443640" y="4437000"/>
            <a:ext cx="2104920" cy="1636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MCj02904170000[1]"/>
          <p:cNvPicPr/>
          <p:nvPr/>
        </p:nvPicPr>
        <p:blipFill>
          <a:blip r:embed="rId4"/>
          <a:stretch/>
        </p:blipFill>
        <p:spPr>
          <a:xfrm>
            <a:off x="1476360" y="4365720"/>
            <a:ext cx="1528920" cy="16351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подходить к ученицам, работающим на машинах, не отвлекать их от раб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работе на ручной машине ручку махового колеса крутит только сам работаю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5" name="Picture 4" descr="logotip"/>
          <p:cNvPicPr/>
          <p:nvPr/>
        </p:nvPicPr>
        <p:blipFill>
          <a:blip r:embed="rId3"/>
          <a:stretch/>
        </p:blipFill>
        <p:spPr>
          <a:xfrm>
            <a:off x="3857760" y="4071960"/>
            <a:ext cx="2384280" cy="199224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0120"/>
            <a:ext cx="848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кабинете трудового обучения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ходить в кабинет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еред началом работы одеть спецодежд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ачинать работу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льзя отвлекать работающих однокласснико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При получении травмы учащийся должен немедленно обратиться к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4" name="Рисунок 4" descr="aptechka.jpg"/>
          <p:cNvPicPr/>
          <p:nvPr/>
        </p:nvPicPr>
        <p:blipFill>
          <a:blip r:embed="rId2"/>
          <a:stretch/>
        </p:blipFill>
        <p:spPr>
          <a:xfrm>
            <a:off x="3143160" y="3000240"/>
            <a:ext cx="2619360" cy="27892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6760" y="330120"/>
            <a:ext cx="859644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тканью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6678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68" name="Рисунок 6" descr="01484f093584.jpg"/>
          <p:cNvPicPr/>
          <p:nvPr/>
        </p:nvPicPr>
        <p:blipFill>
          <a:blip r:embed="rId3"/>
          <a:stretch/>
        </p:blipFill>
        <p:spPr>
          <a:xfrm>
            <a:off x="357120" y="4572000"/>
            <a:ext cx="2071800" cy="18702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57132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Шейте только с наперстко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кройки к ткани прикрепляйте острыми концами            булавок в направлении от себ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наклоняйтесь близко к движущимся частям швейной машин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1" name="Рисунок 6" descr="3531898.jpg"/>
          <p:cNvPicPr/>
          <p:nvPr/>
        </p:nvPicPr>
        <p:blipFill>
          <a:blip r:embed="rId4"/>
          <a:stretch/>
        </p:blipFill>
        <p:spPr>
          <a:xfrm>
            <a:off x="3643200" y="464328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7" descr="48827632_1.jpg"/>
          <p:cNvPicPr/>
          <p:nvPr/>
        </p:nvPicPr>
        <p:blipFill>
          <a:blip r:embed="rId5"/>
          <a:stretch/>
        </p:blipFill>
        <p:spPr>
          <a:xfrm>
            <a:off x="1143000" y="4467240"/>
            <a:ext cx="1881360" cy="21337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8" descr="imgB.jpg"/>
          <p:cNvPicPr/>
          <p:nvPr/>
        </p:nvPicPr>
        <p:blipFill>
          <a:blip r:embed="rId6"/>
          <a:stretch/>
        </p:blipFill>
        <p:spPr>
          <a:xfrm>
            <a:off x="6858000" y="4429080"/>
            <a:ext cx="1714680" cy="198936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держите пальцы рук около лапки швейной машины во избежание прокола их игл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383ad"/>
                </a:solidFill>
                <a:latin typeface="Times New Roman"/>
              </a:rPr>
              <a:t>Не откусывайте нитки зубами, а отрезайте их ножница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76" name="Рисунок 5" descr="T04534-DUR1771.jpg"/>
          <p:cNvPicPr/>
          <p:nvPr/>
        </p:nvPicPr>
        <p:blipFill>
          <a:blip r:embed="rId4"/>
          <a:stretch/>
        </p:blipFill>
        <p:spPr>
          <a:xfrm>
            <a:off x="61437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6" descr="q4.jpg"/>
          <p:cNvPicPr/>
          <p:nvPr/>
        </p:nvPicPr>
        <p:blipFill>
          <a:blip r:embed="rId5"/>
          <a:stretch/>
        </p:blipFill>
        <p:spPr>
          <a:xfrm>
            <a:off x="857160" y="4286160"/>
            <a:ext cx="2192400" cy="227988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8558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электрическим утюгом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Не оставляйте включенный утюг в сеть без присмо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ключайте и выключайте утюг сухими рук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тавьте утюг на термоизоляционную подстав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1" name="Рисунок 5" descr="PHILIPS%20GC-3109_enl.jpg"/>
          <p:cNvPicPr/>
          <p:nvPr/>
        </p:nvPicPr>
        <p:blipFill>
          <a:blip r:embed="rId4"/>
          <a:stretch/>
        </p:blipFill>
        <p:spPr>
          <a:xfrm>
            <a:off x="5857920" y="4429080"/>
            <a:ext cx="2523960" cy="2050920"/>
          </a:xfrm>
          <a:prstGeom prst="rect">
            <a:avLst/>
          </a:prstGeom>
          <a:ln w="0">
            <a:noFill/>
          </a:ln>
        </p:spPr>
      </p:pic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нормальной работой утюга, о всех неисправностях сообщайте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Следите за тем, чтобы подошва утюга не касалась шну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Отключайте утюг только за вил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383ad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LEGION</cp:lastModifiedBy>
  <dcterms:modified xsi:type="dcterms:W3CDTF">2015-03-31T08:39:45Z</dcterms:modified>
  <cp:revision>9</cp:revision>
  <dc:subject/>
  <dc:title>Техника безопасности на уроках технологии</dc:title>
</cp:coreProperties>
</file>