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C265-B4A4-47DF-BCAF-D1908D905E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ах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Михайлова С.А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1AE1-D533-4833-B08C-AB4F7236F5A0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швейной маши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2593-7471-4E30-B792-17905613DAD0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брать волосы под косы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работой убрать с платформы машины посторонние предметы, закрепить иглу и лап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жде чем стачивать изделие, проверить, не осталась ли в нем булавка или игол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AC0B-DC47-4242-9267-3838B9CCC7F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ремя работы не наклоняться близко к движущемуся стержню иг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C6F6-0219-4AC3-96CF-60487A411F73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ить к ученицам, работающим на машинах, не отвлекать их от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ручной машине ручку махового колеса крутит только сам работа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0C64-5EC1-4466-997A-983FAA42AD4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бинете трудов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ходить в кабинет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началом работы одеть спецодеж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2F6A-0F30-492E-BD5A-3CF5080E9A42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ть работу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льзя отвлекать работающих однокласс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59B5-1010-4960-A167-39389725327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олучении травмы учащийся должен немедленно обратиться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ADCC-E76B-4FBE-BBC2-EB3DE1504A5B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работе с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706F-F593-41A1-B385-9B06EC4BEAE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ейте только с наперст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кройки к ткани прикрепляйте острыми концами            булавок в направлении от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аклоняйтесь близко к движущимся частям швейной ма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194D-9F90-4B17-BCA8-C62B836985CF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ите пальцы рук около лапки швейной машины во избежание прокола их иг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ткусывайте нитки зубами, а отрезайте их ножни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A5BB-C867-4885-8DF2-66303406EBEB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с электрическим утю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ставляйте включенный утюг в сеть без присмо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йте и выключайте утюг сухими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вьте утюг на термоизоляционную подста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B304-F20E-4917-9060-7EA501E46AF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нормальной работой утюга, о всех неисправностях сообщайте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тем, чтобы подошва утюга не касалась шн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лючайте утюг только за ви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B2FA-508E-407A-80B2-7A4259E9A8DC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BE8-7871-4C50-931A-E6D3F4E9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397-5440-4A3C-A4AF-17411328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427-AB92-490A-954C-C6B7E040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E44-7011-4F04-A995-743D6973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EA46-B174-472E-8FE6-BF9EFE8E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8C37-5DA7-4B1F-9275-8329D232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CB4B-DA14-43EF-9026-2DAD211F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3554-34E1-460A-890A-D07D0145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BC2F-F115-4CBF-A081-F9EB99A6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0246-DE26-4B4C-9FB1-83175F36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1B9B-E258-4E9C-BE82-BACC66D5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FFA-2CAD-4719-8E3C-22FC75A7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63E0-1E62-41A6-BE21-8BC77FAC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B2A3-2B1B-4AF3-9A7B-D16AD961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1E24-97EA-4E6A-B637-452FC09A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E673-90C3-4340-841B-D50FAE4D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D34B-5BD3-4650-B5CC-E98A36C9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AEC-6EB0-4D37-95AC-45FAB2F8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C71-8A73-486B-855E-9ABA60F2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82C-2D79-4423-BD9C-9551C2D1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1BC-F4CC-4885-B0D7-C986125C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383-D8E5-4ED0-8FED-78CD260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C1D-A8F1-4648-9256-C228F25B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A8E-6EA9-4676-B9D9-063BADA2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3619-0A43-407B-9787-668D7A3B1E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01BB-B83A-4E8D-AF2A-FB8039911C9E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23796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Техника безопасности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а уроках технолог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Автор: Михайлова С.А.,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2" name="Picture 21" descr="j0232859[1]"/>
          <p:cNvPicPr/>
          <p:nvPr/>
        </p:nvPicPr>
        <p:blipFill>
          <a:blip r:embed="rId1"/>
          <a:stretch/>
        </p:blipFill>
        <p:spPr>
          <a:xfrm rot="2652000">
            <a:off x="1042560" y="76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9" descr="j0250979[1]"/>
          <p:cNvPicPr/>
          <p:nvPr/>
        </p:nvPicPr>
        <p:blipFill>
          <a:blip r:embed="rId2"/>
          <a:stretch/>
        </p:blipFill>
        <p:spPr>
          <a:xfrm>
            <a:off x="2556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4211280" y="692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4" descr="j0283462[1]"/>
          <p:cNvPicPr/>
          <p:nvPr/>
        </p:nvPicPr>
        <p:blipFill>
          <a:blip r:embed="rId4"/>
          <a:stretch/>
        </p:blipFill>
        <p:spPr>
          <a:xfrm>
            <a:off x="766764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j0234096[1]"/>
          <p:cNvPicPr/>
          <p:nvPr/>
        </p:nvPicPr>
        <p:blipFill>
          <a:blip r:embed="rId5"/>
          <a:stretch/>
        </p:blipFill>
        <p:spPr>
          <a:xfrm>
            <a:off x="6084720" y="692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0920" y="330120"/>
            <a:ext cx="8342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и работе на швейной машине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6" name="Picture 4" descr="MCj04359910000[1]"/>
          <p:cNvPicPr/>
          <p:nvPr/>
        </p:nvPicPr>
        <p:blipFill>
          <a:blip r:embed="rId1"/>
          <a:stretch/>
        </p:blipFill>
        <p:spPr>
          <a:xfrm>
            <a:off x="2571840" y="2286000"/>
            <a:ext cx="4062240" cy="3495600"/>
          </a:xfrm>
          <a:prstGeom prst="rect">
            <a:avLst/>
          </a:prstGeom>
          <a:ln w="38160">
            <a:solidFill>
              <a:srgbClr val="8383a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Убрать волосы под косын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работой убрать с платформы машины посторонние предметы, закрепить иглу и лап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ежде чем стачивать изделие, проверить, не осталась ли в нем булавка или игол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о время работы не наклоняться близко к движущемуся стержню игл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4" descr="MCj02813010000[1]"/>
          <p:cNvPicPr/>
          <p:nvPr/>
        </p:nvPicPr>
        <p:blipFill>
          <a:blip r:embed="rId3"/>
          <a:stretch/>
        </p:blipFill>
        <p:spPr>
          <a:xfrm>
            <a:off x="6443640" y="4437000"/>
            <a:ext cx="2104920" cy="163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MCj02904170000[1]"/>
          <p:cNvPicPr/>
          <p:nvPr/>
        </p:nvPicPr>
        <p:blipFill>
          <a:blip r:embed="rId4"/>
          <a:stretch/>
        </p:blipFill>
        <p:spPr>
          <a:xfrm>
            <a:off x="1476360" y="4365720"/>
            <a:ext cx="1528920" cy="16351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подходить к ученицам, работающим на машинах, не отвлекать их от раб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работе на ручной машине ручку махового колеса крутит только сам работающ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Picture 4" descr="logotip"/>
          <p:cNvPicPr/>
          <p:nvPr/>
        </p:nvPicPr>
        <p:blipFill>
          <a:blip r:embed="rId3"/>
          <a:stretch/>
        </p:blipFill>
        <p:spPr>
          <a:xfrm>
            <a:off x="3857760" y="4071960"/>
            <a:ext cx="2384280" cy="19922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0120"/>
            <a:ext cx="8485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кабинете трудового обучения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ходить в кабинет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началом работы одеть спецодежд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ачинать работу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льзя отвлекать работающих однокласснико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получении травмы учащийся должен немедленно обратиться к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4" name="Рисунок 4" descr="aptechka.jpg"/>
          <p:cNvPicPr/>
          <p:nvPr/>
        </p:nvPicPr>
        <p:blipFill>
          <a:blip r:embed="rId2"/>
          <a:stretch/>
        </p:blipFill>
        <p:spPr>
          <a:xfrm>
            <a:off x="3143160" y="3000240"/>
            <a:ext cx="261936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6760" y="330120"/>
            <a:ext cx="859644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тканью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6678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8" name="Рисунок 6" descr="01484f093584.jpg"/>
          <p:cNvPicPr/>
          <p:nvPr/>
        </p:nvPicPr>
        <p:blipFill>
          <a:blip r:embed="rId3"/>
          <a:stretch/>
        </p:blipFill>
        <p:spPr>
          <a:xfrm>
            <a:off x="357120" y="4572000"/>
            <a:ext cx="2071800" cy="18702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571320"/>
            <a:ext cx="77724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Шейте только с наперстко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кройки к ткани прикрепляйте острыми концами            булавок в направлении от себ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наклоняйтесь близко к движущимся частям швейной машин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Рисунок 6" descr="3531898.jpg"/>
          <p:cNvPicPr/>
          <p:nvPr/>
        </p:nvPicPr>
        <p:blipFill>
          <a:blip r:embed="rId4"/>
          <a:stretch/>
        </p:blipFill>
        <p:spPr>
          <a:xfrm>
            <a:off x="3643200" y="464328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7" descr="48827632_1.jpg"/>
          <p:cNvPicPr/>
          <p:nvPr/>
        </p:nvPicPr>
        <p:blipFill>
          <a:blip r:embed="rId5"/>
          <a:stretch/>
        </p:blipFill>
        <p:spPr>
          <a:xfrm>
            <a:off x="1143000" y="4467240"/>
            <a:ext cx="18813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imgB.jpg"/>
          <p:cNvPicPr/>
          <p:nvPr/>
        </p:nvPicPr>
        <p:blipFill>
          <a:blip r:embed="rId6"/>
          <a:stretch/>
        </p:blipFill>
        <p:spPr>
          <a:xfrm>
            <a:off x="6858000" y="4429080"/>
            <a:ext cx="1714680" cy="198936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держите пальцы рук около лапки швейной машины во избежание прокола их игл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откусывайте нитки зубами, а отрезайте их ножницам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6" name="Рисунок 5" descr="T04534-DUR1771.jpg"/>
          <p:cNvPicPr/>
          <p:nvPr/>
        </p:nvPicPr>
        <p:blipFill>
          <a:blip r:embed="rId4"/>
          <a:stretch/>
        </p:blipFill>
        <p:spPr>
          <a:xfrm>
            <a:off x="6143760" y="435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q4.jpg"/>
          <p:cNvPicPr/>
          <p:nvPr/>
        </p:nvPicPr>
        <p:blipFill>
          <a:blip r:embed="rId5"/>
          <a:stretch/>
        </p:blipFill>
        <p:spPr>
          <a:xfrm>
            <a:off x="857160" y="4286160"/>
            <a:ext cx="2192400" cy="227988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8558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электрическим утюгом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оставляйте включенный утюг в сеть без присмот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ключайте и выключайте утюг сухими рук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тавьте утюг на термоизоляционную подстав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1" name="Рисунок 5" descr="PHILIPS%20GC-3109_enl.jpg"/>
          <p:cNvPicPr/>
          <p:nvPr/>
        </p:nvPicPr>
        <p:blipFill>
          <a:blip r:embed="rId4"/>
          <a:stretch/>
        </p:blipFill>
        <p:spPr>
          <a:xfrm>
            <a:off x="5857920" y="4429080"/>
            <a:ext cx="2523960" cy="205092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нормальной работой утюга, о всех неисправностях сообщайте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тем, чтобы подошва утюга не касалась шну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Отключайте утюг только за вил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LEGION</cp:lastModifiedBy>
  <dcterms:modified xsi:type="dcterms:W3CDTF">2015-03-31T08:39:45Z</dcterms:modified>
  <cp:revision>9</cp:revision>
  <dc:subject/>
  <dc:title>Техника безопасности на уроках технологии</dc:title>
</cp:coreProperties>
</file>