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7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7CCE-AA29-4515-A0C2-7DDFD7F2194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по переработке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FE3C-B0D6-4688-9907-61849893A2B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ПРИНЦИПА  УПРАВЛЕНИЯ ОТХОДАМИ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FB4D-4619-497B-9686-1A2ABA2CE7A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ПРИНЦИПА  УПРАВЛЕНИЯ ОТХОДАМИ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2F64-977F-40A5-80A5-06EEAAEAA9B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хнологические реш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правлению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B73F-7178-44F3-BDB1-F813062824C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различных реш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правлению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3F7F-1B25-4936-A6D4-033921EE722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инструменты управления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ехнологические инстр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меньшение количества упаков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нижение содержания вредных веществ в конечном продук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мену вредных/ опасных веществ и материалов в продукте на менее опас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длинение срока жизни продук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менение дизайна продукта на более экологи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использование экологически чистых материалов; соз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дуктов с максимальными возможностями повтор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пользования и вторичной переработки и т.п.).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•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вторное 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065A-F3CC-4B0F-BE05-F2BEAD1C3CF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хнологические решения по утилизации 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4351-92BA-4D2D-AFAD-D787F8B6418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НЦИПИАЛЬНЫЕ ПОДХОД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 ПЕРЕРАБОТКЕ ОТХОД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четыре возможности по переработке от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захоронение на полиго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жигание, реже пиролиз и прочие высокотемпературны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омпост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ортировка с целью вторичного использования, утилизации и рецикл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з данных видов обладает своими достоинствами и недоста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2BEE-6C41-4917-BCB9-7D190450B33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ХНОЛОГИИ ВЫСОКОТЕМПЕРАТУРНОЙ ПЕРЕРАБОТКИ ОТХОДОВ (сжигание с </a:t>
            </a:r>
            <a:r>
              <a:rPr b="0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учением</a:t>
            </a: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энергии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отходов сокращается до 5%, а вес – до 25% от начального объема. Таким образом, снижается потребность в площадях для захоро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когененерационные установки позволяют утилизировать до 80% запаса энергии в отх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 тонна несортированного бытового мусора по теплотворности соответствует ¼ т мазу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сжигания отходов прекращается выброс в атмосферу метана, образующегося на свалках и являющегося причиной парникового эффекта в 20 раз более значительной, чем двуокись угле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сжигания могут быть использованы при производстве строительных материалов; отходы сжигания органических веществ можно использовать в качестве удоб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AF9C-EB6B-4BE6-A549-489CD4CE8C2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мпост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новным преимуществам компостирования можно отне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продукта, имеющего частичный рынок сбыта, хотя и ограниченный экологическими требован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объема отходов, отправляемых на полиг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о небольшие капиталов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имость с рециклизацией и системами производства топлива из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недостатком компостирования является получение экологически небезопасного продукта, содержащего вредные вещества, главным образом, тяжёлые металлы, загрязняющие почву. Очистка компоста связана со значительными затратами, а следовательно и удорожанием продукта, а подчас невозможна вообщ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0409-E927-48AB-A347-4AEBC01373E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хоронение на полиго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E599-792C-4D0D-BF26-83A66CCF200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ение 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Я (от греч . techne - искусство, мастерство, умение и ...логия), совокупность методов обработки, изготовления, изменения состояния, свойств, формы сырья, материала или полуфабриката, осуществляемых в процессе производства продукции; научная дисциплина, изучающая физические, химические, механические и др. закономерности, действующие в технологических процессах. Технологией называют также сами операции добычи, обработки, транспортировки, хранения, контроля, являющиеся частью общего производствен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ОСБЕРЕГАЮЩАЯ ТЕХНОЛОГИЯ , обеспечивает получение готового продукта производства или его части либо без отходов материалов (безотходный технологический процесс), либо с минимальными отходами, не утилизируемыми в данном, а также в каких-либо других видах производства (малоотходный технологический процес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ОСБЕРЕГАЮЩАЯ ТЕХНОЛОГИЯ , обобщенное название технологий, в которых технологический процесс обеспечивается при минимальном расходе энергии, затратах на основные и вспомогательные материалы, заработную плату рабочим основного производства при заданном качестве и требуемой производительност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ТХОДНАЯ ТЕХНОЛОГИЯ , термин, часто употребляемый в литературе для обозначения малоотходных технологических проце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4FA0-8F0E-4A90-88E0-F443C50BF28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ВОДНЫЙ АНАЛИЗ ОСНОВНЫХ ТЕХНОЛОГИЧЕСКИХ РЕШЕНИЙ ПО ПЕРЕРАБОТКЕ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2270-8C1B-4EC4-9E89-1FAE7B1F260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ся на основании Положения о ведении ГРТИО, утв. постановлением Министерства природных ресурсов и охраны окружающей среды Республики Беларусь от 28.03.2002 г.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ТИО представляет собой информационную систему,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ключающую перечень технических, технологических, экономических, природоохранных сведений о технолог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спользованию отходов, их разработчиках и местах внед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ся на основании Положения о ведении ГРТИО, утв. постановлением Министерства природных ресурсов и охраны окружающей среды Республики Беларусь от 28.03.2002 г.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ТИО представляет собой информационную систему,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ключающую перечень технических, технологических, экономических, природоохранных сведений о технолог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спользованию отходов, их разработчиках и местах внед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A832-CF2C-4763-8009-9D3864917A6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1DD1-304F-40E8-8176-A68B1C3A835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олучение информации ГРТИО имеют государственные органы, организации и гражд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информации государственного реестра государственным органам, за исключением территориальных органов Министерства природных ресурсов и охраны окружающей среды Республики Беларусь, организациям и гражданам осуществляется на платн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платы за предоставление информации государственного реестра определяется органом ведения государственного реестра в соответствии с законодательством Республики Белару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AC78-CD04-404B-A33F-00F11DF6FA9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по использованию отходов (ГРТИ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Объектами государственной регистрации в ГРТИО являются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использованию отходов в Республике Беларусь и иностранных государствах, как внедренные, так и не внедр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ами государственной регистрации являются собственники технологий по использованию отходов или лица, ими уполномоч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регистрация может быть добровольной или обязате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регистрация технологий по использованию отходов осуществляется на основании регистрационных карт технологий по использованию отходов (далее - регистрационная кар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еобходимости органом ведения ГРТИО могут быть истребованы другие документы о технологиях по использованию от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9916-B05F-4B2A-899F-6F564B7A3D7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4808-E431-4733-8289-DCD9BA7FD2B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7A54-F6DC-4C47-9E0C-31C1F1C3195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032E-9C3E-4F61-88AB-4C0DD608654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реестр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спользованию отходов (ГРТИ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4F86-139D-4291-8F10-E675EDDE539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— вещества или предметы, образующиеся в процессе осуществления экономической деятельности, жизнедеятельности человека и не имеющие определенного предназначения по месту их образования либо утратившие полностью или частично свои потребительские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потребления — отходы, образующиеся в процессе жизнедеятельности человека, не связанной с осуществлением экономической деятельности, отходы, образующиеся в гаражных кооперативах, садоводческих товариществах и иных потребительских кооперативах, а также уличный и дворовый смет, образующийся на территориях общего пользования населенных пун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ходы производства — отходы, образующиеся в процессе осуществления юридическими лицами и индивидуальными предпринимателями экономической деятельности (производства продукции, энергии, выполнения работ, оказания услуг), побочные и сопутствующие продукты добычи и обогащения полезных ископае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отходы — отходы, содержащие в своем составе вещества, обладающие каким-либо опасным свойством или их совокупностью, в таких количестве и виде, что эти отходы сами по себе либо при вступлении в контакт с другими веществами могут представлять непосредственную или потенциальную опасность причинения вреда окружающей среде, здоровью граждан, имуществу вследствие их вредн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116B-377F-4F62-B474-B9E0FA01358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отходов — совокупность отходов, имеющих общие признаки и классифицируемых в соответствии с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нтаризация отходов — деятельность по определению количественных и качественных показателей отходов в целях учета отходов и установления нормативов их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отходов — применение отходов для производства продукции, энергии, выполнения работ, оказания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щение с отходами — деятельность, связанная с образованием отходов, их сбором, разделением по видам отходов, удалением, хранением, захоронением, перевозкой, обезвреживанием и (или) использованием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7263-178C-4824-98EE-5D085A1DD3F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захоронения отходов — полигоны и иные сооружения, предназначенные для захороне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обезвреживания отходов — сооружения (комплекс сооружений) и оборудование, предназначенные для обезврежива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по использованию отходов — сооружения (комплекс сооружений) и оборудование, предназначенные для использова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хранения отходов — сооружения (комплекс сооружений), предназначенные для хране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51B8-1192-4A99-BBED-88142E10F2F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ходы. Основные опреде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. Размещение отходов — хранение или захоронение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 Места временного хранения отходов — специальное оборудование (контейнеры, урны и т.п.), площадки и иные места, предназначенные для временного хранения от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. Санкционированное захоронение отходов — захоронение отходов в санкционированных местах захоро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. Санкционированное хранение отходов — хранение отходов в санкционированных местах хра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. Санкционированные места захоронения отходов — объекты захоронения отходов, определенные собственнику отходов для их захоронения в соответствии с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. Санкционированные места хранения отходов — объекты хранения отходов или места временного хранения отходов, определенные собственнику отходов для их хранения в соответствии с настоящим Законом и иными актами законодательства об обращении с от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77C1-5754-4480-8ECA-9D68D3F3287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91B4-E3B0-48C3-937E-D246C7AAF90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 СИСТЕМЫ УПРАЛЕНИЯ ОТХ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3EB5-1CE6-40D8-AEE7-B1AC79D9FDD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ПРИНЦИПА  УПРАВЛЕНИЯ ОТХОДАМИ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4EEE-44AC-4401-9BAC-FEC19B18D09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B55-8264-4ACE-9A2A-D45D97F8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9B8B-3CE4-4EB0-A1C2-3F3D50F7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C947-BB8C-4B2C-B6E6-9F835A6A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036A-AB31-4D6E-A6E8-915CD89C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99D5-6952-47F9-B79D-8DBEB43E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9126-4318-45DD-B9D6-EC844C3C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74C7-4464-45B5-9693-D0033125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F634-6FBF-4583-AE82-460A98F6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9D47-2A2B-40A5-886A-11EDDD88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11DC-1252-451A-95D4-28E3AD4C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16D8-FB68-4ABF-AB38-05D68D31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2CCC-70E6-466F-BB15-B02E57C9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5711-25D8-4D41-81C7-5947DF12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A833-FA75-4F1E-8A49-382393E2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2F21-D581-49CE-927B-AE95A935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6BE6-DF18-4EBD-8A84-5FF29A9C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4323-F67D-42D3-8A11-73812F2F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6A2F-219F-4D29-8F92-2C5225A8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0F20-B30D-4A05-AD09-B1548570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6064-C73B-40E2-BCEF-BC729111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7DE4-508D-4A10-9F06-3F8B77F9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664A-0C65-4E2E-8EA3-A83F1B7D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44B8-5A69-4995-81F5-A0F27AA7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3E06-E63C-437C-83F4-FA578ACC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54E0-BC56-4856-BA07-7B135CD6EA4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2D1B-5B77-4356-A3FF-4E25EDD0E78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4572000" y="328428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убрицкий Вадим Славомирович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в сектором нормирования и обращения с отходам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УП «Бел НИЦ «Экологи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396040" y="5660640"/>
            <a:ext cx="30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тел/факс (8017) 3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34-76-09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-mail: promeco@tut.b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90280" y="1260000"/>
            <a:ext cx="7671600" cy="134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Технологии по переработке отходов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143000" y="1449360"/>
            <a:ext cx="7238880" cy="5408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3256560" y="54360"/>
            <a:ext cx="583272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РИ ПРИНЦИПА  УПРАВЛЕНИЯ ОТХОДАМИ В ЕС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7429680" cy="4425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802800" y="803160"/>
            <a:ext cx="7842600" cy="56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РИ ПРИНЦИПА  УПРАВЛЕНИЯ ОТХОДАМИ В ЕС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0" descr="цветная пирамида"/>
          <p:cNvPicPr/>
          <p:nvPr/>
        </p:nvPicPr>
        <p:blipFill>
          <a:blip r:embed="rId1"/>
          <a:stretch/>
        </p:blipFill>
        <p:spPr>
          <a:xfrm>
            <a:off x="2009880" y="1700280"/>
            <a:ext cx="5978520" cy="5157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29132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сновные технологические решения </a:t>
            </a:r>
            <a:br>
              <a:rPr sz="2800"/>
            </a:b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 управлению отходам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0" descr="минупрмеры"/>
          <p:cNvPicPr/>
          <p:nvPr/>
        </p:nvPicPr>
        <p:blipFill>
          <a:blip r:embed="rId1"/>
          <a:stretch/>
        </p:blipFill>
        <p:spPr>
          <a:xfrm>
            <a:off x="971640" y="1773360"/>
            <a:ext cx="7705800" cy="4867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972360" y="548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отношение различных решений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 управлению отходами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826920" y="1700280"/>
            <a:ext cx="799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хнологические инструмент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уменьшение количества упаковки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снижение содержания вредных веществ в конечном продукте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замену вредных/ опасных веществ и материалов в продукте на менее опасные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удлинение срока жизни продукта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изменение дизайна продукта на более экологичны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(использование экологически чистых материалов; созд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продуктов с максимальными возможностями повторног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использования и вторичной переработки и т.п.).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971640" y="5229360"/>
            <a:ext cx="53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торное использов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45360" y="1026720"/>
            <a:ext cx="718092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ехнологические инструменты управления отходам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76360" y="1768320"/>
            <a:ext cx="6792840" cy="4050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972000" y="621360"/>
            <a:ext cx="7343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сновные технологические решения по утилизации  отходов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54836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ИНЦИПИАЛЬНЫЕ ПОДХОДЫ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 ПЕРЕРАБОТКЕ ОТХОДОВ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71280" y="21333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уществует четыре возможности по переработке отходов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. захоронение на полигонах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 сжигание, реже пиролиз и прочие высокотемпературные процессы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 компостировани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 сортировка с целью вторичного использования, утилизации и рециклинг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ждый из данных видов обладает своими достоинствами и недостатк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05680" y="50040"/>
            <a:ext cx="778032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ХНОЛОГИИ ВЫСОКОТЕМПЕРАТУРНОЙ ПЕРЕРАБОТКИ ОТХОДОВ (сжигание с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учением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энергии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0920" y="765000"/>
            <a:ext cx="8064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м отходов сокращается до 5%, а вес – до 25% от начального объема. Таким образом, снижается потребность в площадях для захорон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овременные когененерационные установки позволяют утилизировать до 80% запаса энергии в отходах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дна тонна несортированного бытового мусора по теплотворности соответствует ¼ т мазут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сле сжигания отходов прекращается выброс в атмосферу метана, образующегося на свалках и являющегося причиной парникового эффекта в 20 раз более значительной, чем двуокись углерод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тходы сжигания могут быть использованы при производстве строительных материалов; отходы сжигания органических веществ можно использовать в качестве удобр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1058760" y="5378400"/>
            <a:ext cx="7628040" cy="1251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1"/>
          <p:cNvSpPr/>
          <p:nvPr/>
        </p:nvSpPr>
        <p:spPr>
          <a:xfrm>
            <a:off x="826920" y="4041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ледует отметить, что метод сжигания в настоящее время является капиталоемким. Прибыль, полученная от утилизации тепловой и электрической энергии компенсирует, в лучшем случае, 60% расходов на капитальные вложения и эксплуатационные затраты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367360" y="216000"/>
            <a:ext cx="54172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мпостирование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00000" y="764640"/>
            <a:ext cx="76932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 основным преимуществам компостирования можно отнести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изводство продукта, имеющего частичный рынок сбыта, хотя и ограниченный экологическими требованиям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нижение объема отходов, отправляемых на полигон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тносительно небольшие капиталовложения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вместимость с рециклизацией и системами производства топлива из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новным недостатком компостирования является получение экологически небезопасного продукта, содержащего вредные вещества, главным образом, тяжёлые металлы, загрязняющие почву. Очистка компоста связана со значительными затратами, а следовательно и удорожанием продукта, а подчас невозможна вообщ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826920" y="4813560"/>
            <a:ext cx="7993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Опыт показывает, что использование продукта компостирования требует значительного контроля со стороны экологических и санитарно-эпидемиологических служб. Компост может применяться для удобрения древесно-кустарниковой растительности, парков, газонов, но не для удобрения культур, используемых в пищу. Компост Минского мусороперерабатывающего завода использовался для засыпки промежуточных и верхнего слоев отходов в процессе рекультивации полигона ТБО «Тростенец» и полигона промотходов «Прудище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809120" cy="6124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3524040" y="291960"/>
            <a:ext cx="4627080" cy="44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хоронение на полигонах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78320" y="1075320"/>
            <a:ext cx="7878600" cy="31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пределение технолог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26560" y="1628640"/>
            <a:ext cx="8055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ЕХНОЛОГИЯ (от греч . techne - искусство, мастерство, умение и ...логия), совокупность методов обработки, изготовления, изменения состояния, свойств, формы сырья, материала или полуфабриката, осуществляемых в процессе производства продукции; научная дисциплина, изучающая физические, химические, механические и др. закономерности, действующие в технологических процессах. Технологией называют также сами операции добычи, обработки, транспортировки, хранения, контроля, являющиеся частью общего производственного процесс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ТЕРИАЛОСБЕРЕГАЮЩАЯ ТЕХНОЛОГИЯ , обеспечивает получение готового продукта производства или его части либо без отходов материалов (безотходный технологический процесс), либо с минимальными отходами, не утилизируемыми в данном, а также в каких-либо других видах производства (малоотходный технологический процесс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ЕСУРСОСБЕРЕГАЮЩАЯ ТЕХНОЛОГИЯ , обобщенное название технологий, в которых технологический процесс обеспечивается при минимальном расходе энергии, затратах на основные и вспомогательные материалы, заработную плату рабочим основного производства при заданном качестве и требуемой производительности труд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БЕЗОТХОДНАЯ ТЕХНОЛОГИЯ , термин, часто употребляемый в литературе для обозначения малоотходных технологических процесс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risunok-_pererabotka_othodov"/>
          <p:cNvPicPr/>
          <p:nvPr/>
        </p:nvPicPr>
        <p:blipFill>
          <a:blip r:embed="rId1"/>
          <a:stretch/>
        </p:blipFill>
        <p:spPr>
          <a:xfrm>
            <a:off x="252360" y="907920"/>
            <a:ext cx="8891640" cy="5830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093040" y="46440"/>
            <a:ext cx="7004160" cy="64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ОДНЫЙ АНАЛИЗ ОСНОВНЫХ ТЕХНОЛОГИЧЕСКИХ РЕШЕНИЙ ПО ПЕРЕРАБОТКЕ ОТХОДОВ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1916280"/>
            <a:ext cx="805500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едётся на основании Положения о ведении ГРТИО, утв. постановлением Министерства природных ресурсов и охраны окружающей среды Республики Беларусь от 28.03.2002 г. № 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ТИО представляет собой информационную систему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ключающую перечень технических, технологических, экономических, природоохранных сведений о технологиях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о использованию отходов, их разработчиках и местах внедре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2764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1" name="Picture 9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920000" cy="50641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аво на получение информации ГРТИО имеют государственные органы, организации и граждан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едоставление информации государственного реестра государственным органам, за исключением территориальных органов Министерства природных ресурсов и охраны окружающей среды Республики Беларусь, организациям и гражданам осуществляется на платной основ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мер платы за предоставление информации государственного реестра определяется органом ведения государственного реестра в соответствии с законодательством Республики Беларус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Объектами государственной регистрации в ГРТИО являются технологии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по использованию отходов в Республике Беларусь и иностранных государствах, как внедренные, так и не внедренны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убъектами государственной регистрации являются собственники технологий по использованию отходов или лица, ими уполномоченны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осударственная регистрация может быть добровольной или обязательно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осударственная регистрация технологий по использованию отходов осуществляется на основании регистрационных карт технологий по использованию отходов (далее - регистрационная карта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необходимости органом ведения ГРТИО могут быть истребованы другие документы о технологиях по использованию отходов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99280" y="621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271880" y="52920"/>
            <a:ext cx="7818840" cy="73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617840" y="938160"/>
            <a:ext cx="6702120" cy="586116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82720" y="55800"/>
            <a:ext cx="7813440" cy="77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332000" y="868320"/>
            <a:ext cx="7056360" cy="59896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972360" y="764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1"/>
          <a:stretch/>
        </p:blipFill>
        <p:spPr>
          <a:xfrm>
            <a:off x="900000" y="2192400"/>
            <a:ext cx="7842240" cy="46656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115280" y="261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Государственный реестр технологий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использованию отходов (ГРТИО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1403280" y="1298520"/>
            <a:ext cx="6985080" cy="55166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5327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ходы — вещества или предметы, образующиеся в процессе осуществления экономической деятельности, жизнедеятельности человека и не имеющие определенного предназначения по месту их образования либо утратившие полностью или частично свои потребительские свойств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ходы потребления — отходы, образующиеся в процессе жизнедеятельности человека, не связанной с осуществлением экономической деятельности, отходы, образующиеся в гаражных кооперативах, садоводческих товариществах и иных потребительских кооперативах, а также уличный и дворовый смет, образующийся на территориях общего пользования населенных пунктов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ходы производства — отходы, образующиеся в процессе осуществления юридическими лицами и индивидуальными предпринимателями экономической деятельности (производства продукции, энергии, выполнения работ, оказания услуг), побочные и сопутствующие продукты добычи и обогащения полезных ископаемых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пасные отходы — отходы, содержащие в своем составе вещества, обладающие каким-либо опасным свойством или их совокупностью, в таких количестве и виде, что эти отходы сами по себе либо при вступлении в контакт с другими веществами могут представлять непосредственную или потенциальную опасность причинения вреда окружающей среде, здоровью граждан, имуществу вследствие их вредного воздейств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59280" y="660600"/>
            <a:ext cx="784404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07480" y="522000"/>
            <a:ext cx="7390440" cy="6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1557360"/>
            <a:ext cx="83059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д отходов — совокупность отходов, имеющих общие признаки и классифицируемых в соответствии с настоящим Законом и иными актами законодательства об обращении с отход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вентаризация отходов — деятельность по определению количественных и качественных показателей отходов в целях учета отходов и установления нормативов их образов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спользование отходов — применение отходов для производства продукции, энергии, выполнения работ, оказания услуг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ращение с отходами — деятельность, связанная с образованием отходов, их сбором, разделением по видам отходов, удалением, хранением, захоронением, перевозкой, обезвреживанием и (или) использованием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42920" y="2060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захоронения отходов — полигоны и иные сооружения, предназначенные для захороне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обезвреживания отходов — сооружения (комплекс сооружений) и оборудование, предназначенные для обезврежива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по использованию отходов — сооружения (комплекс сооружений) и оборудование, предназначенные для использова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ъекты хранения отходов — сооружения (комплекс сооружений), предназначенные для хранения от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32640" y="882360"/>
            <a:ext cx="7390440" cy="6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280" y="1241280"/>
            <a:ext cx="8388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4. Размещение отходов — хранение или захоронение отход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10. Места временного хранения отходов — специальное оборудование (контейнеры, урны и т.п.), площадки и иные места, предназначенные для временного хранения отход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5. Санкционированное захоронение отходов — захоронение отходов в санкционированных местах захоро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6. Санкционированное хранение отходов — хранение отходов в санкционированных местах хранения отходов в порядке, установленном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7. Санкционированные места захоронения отходов — объекты захоронения отходов, определенные собственнику отходов для их захоронения в соответствии с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8. Санкционированные места хранения отходов — объекты хранения отходов или места временного хранения отходов, определенные собственнику отходов для их хранения в соответствии с настоящим Законом и иными актами законодательства об обращении с отход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1000" y="45000"/>
            <a:ext cx="6934680" cy="62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тходы. Основные определени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826920" y="1793880"/>
            <a:ext cx="7990200" cy="3933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335040" y="58320"/>
            <a:ext cx="5750640" cy="80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правление отхода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794360" cy="565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512280" y="43560"/>
            <a:ext cx="8265600" cy="60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КТУАЛЬНОСТЬ СИСТЕМЫ УПРАЛЕНИЯ ОТХОДАМИ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8118720" cy="4498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РИ ПРИНЦИПА  УПРАВЛЕНИЯ ОТХОДАМИ В ЕС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21:32:46Z</dcterms:created>
  <dc:creator>ddd</dc:creator>
  <dc:description>ekolog.na.by</dc:description>
  <dc:language>en-US</dc:language>
  <cp:lastModifiedBy>LEGION</cp:lastModifiedBy>
  <dcterms:modified xsi:type="dcterms:W3CDTF">2015-03-31T08:41:08Z</dcterms:modified>
  <cp:revision>117</cp:revision>
  <dc:subject/>
  <dc:title>Использование отх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404000000000001024140</vt:lpwstr>
  </property>
</Properties>
</file>