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52F0-1CAB-441F-8CFF-F742100FBC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1688-FADB-4B29-AC44-FEBEF92C07E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E62A-34C9-485E-8A16-F45B4722A22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BA0C-5295-4EB2-9B80-419B965B212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3FAF-D4B9-46D3-BCA1-7C0AF083DFD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различн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871-F516-4F1B-B22B-ADECD3B324A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инструменты управ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хнологические инстр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меньшение количества упаков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содержания вредных веществ в конечном продук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ну вредных/ опасных веществ и материалов в продукте на менее опас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длинение срока жизни продук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менение дизайна продукта на более эколог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спользование экологически чистых материалов; со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ов с максимальными возможностями повто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пользования и вторичной переработки и т.п.)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втор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F962-BAAA-493F-B96E-75D8A0DAD6A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по утилизации 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AB00-092B-4295-8CCC-9080256472E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ИАЛЬНЫЕ ПОДХОД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ЕРЕРАБОТКЕ ОТХО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четыре возможности по переработке от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ахоронение на полиго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жигание, реже пиролиз и прочие высокотемператур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мпост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ртировка с целью вторичного использования, утилизации и рецик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данных видов обладает своими достоинствами и недоста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68FB-C2BB-4E01-AE31-9512C8BA4D5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9287-DF0B-4F6D-8239-D8E97A042E3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имуществам компостирования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объема отходов, отправляемых на полиг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небольшие капиталов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имость с рециклизацией и системами производства топлива из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3A35-C8B7-4630-8A10-738A9649A53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4419-EDCC-49A8-B218-C0AD22CFE60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281-7386-46F2-B5C9-0E2AB99A7E4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ДНЫЙ АНАЛИЗ ОСНОВНЫХ ТЕХНОЛОГИЧЕСКИХ РЕШЕНИЙ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443-3943-422E-8D2C-E46B7250267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636A-198C-4711-A756-3AEC660E31E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EAF5-C267-479A-8FDE-9D6B76BD0AE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3523-AD46-4339-A5BE-839E92CA7C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Объектами государственной регистрации в ГРТИО являются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может быть добровольной или обяз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1278-89EA-4D5F-9F93-C12C39394F4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C4B5-8F45-435A-B13A-14F9EBD9F5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521B-A4C0-4C79-A9B0-18660EDA71F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440B-883D-4740-A23F-364B191652C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CAF6-BE02-4F4A-9339-2A2FA7B6F01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A335-0C78-4C3B-B436-4CC5688D7BC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0382-E4B4-4CB3-84D7-E2A9CD4DBD4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DE4F-A626-4891-85F3-A18135D90CE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. Размещение отходов — хранение или захоронение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259A-C8BE-4012-B6DB-868C61123CD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65AE-57D3-4897-BD25-A85B6E85A41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СИСТЕМЫ УПРА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F17B-B817-451E-AA3D-19BCAD7758D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F518-9060-4CD7-B564-C91A28F1D7E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8A7-A7E9-4B50-9DB7-644D9005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291-2855-4A19-A1BD-AB704A43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55E-D320-4D78-B806-6DC0B627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50B-0AA7-4547-83B0-7B30DB95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08C2-D1E7-4D32-90D4-9DDF7D1E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0801-E4F5-4AE4-BB46-5B60C46A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037B-993C-4197-AC24-A5FFF0F6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B659-6A54-4E34-8BCB-55ABA6C8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1EEE-B2EF-4DA8-A553-17C494D7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CCB8-F817-42FD-A114-39DA2F45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22BD-F988-463B-A817-EAC9BB9A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C0E-B283-4FBE-A4F0-4CF7CD6F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DBB5-29E3-4D86-A924-BF7E00D2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E098-D791-49C9-934C-FEF301E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6B3-FE77-4955-A61E-62FF76FC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8350-124D-49A4-B929-4E0E2DA4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8BA7-D768-4EDC-BF25-67D5694B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EB9-0087-42AB-BA6C-1A0E56B8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39B-21BF-4429-8CB6-CB55539A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A00-FD18-4FB9-9191-E7F56AE8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8B8-7DE9-478C-8DE6-BB3B4261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CFF-5A09-4112-BCFC-96D4126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F79-EB4D-44EF-BB48-C44AB38D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C38-52C1-49EB-8A0F-5937C5F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FC9A-3285-48E1-80A1-C2E4144849D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DD5F-F54C-4D09-B7A5-C01C6CA155E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0" y="3284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убрицкий Вадим Славомирович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в сектором нормирования и обращения с отходам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УП «Бел НИЦ «Эколог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96040" y="5660640"/>
            <a:ext cx="30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л/факс (8017) 3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4-76-0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-mail: promeco@tut.b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Технологии по переработке отходо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143000" y="1449360"/>
            <a:ext cx="7238880" cy="540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256560" y="54360"/>
            <a:ext cx="5832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29680" cy="4425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0" descr="цветная пирамида"/>
          <p:cNvPicPr/>
          <p:nvPr/>
        </p:nvPicPr>
        <p:blipFill>
          <a:blip r:embed="rId1"/>
          <a:stretch/>
        </p:blipFill>
        <p:spPr>
          <a:xfrm>
            <a:off x="2009880" y="1700280"/>
            <a:ext cx="5978520" cy="515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0" descr="минупрмеры"/>
          <p:cNvPicPr/>
          <p:nvPr/>
        </p:nvPicPr>
        <p:blipFill>
          <a:blip r:embed="rId1"/>
          <a:stretch/>
        </p:blipFill>
        <p:spPr>
          <a:xfrm>
            <a:off x="971640" y="1773360"/>
            <a:ext cx="7705800" cy="486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7236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ошение различных решений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826920" y="170028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хнологические инструм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меньшение количества упаковк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снижение содержания вредных веществ в конечном продукте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замену вредных/ опасных веществ и материалов в продукте на менее опасны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длинение срока жизни продукта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зменение дизайна продукта на более экологичн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(использование экологически чистых материалов; созд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дуктов с максимальными возможностями повторног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спользования и вторичной переработки и т.п.).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71640" y="52293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торное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45360" y="1026720"/>
            <a:ext cx="718092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хнологические инструменты управления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76360" y="1768320"/>
            <a:ext cx="6792840" cy="405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72000" y="621360"/>
            <a:ext cx="73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по утилизации 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48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НЦИПИАЛЬНЫЕ ПОДХОДЫ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 ПЕРЕРАБОТКЕ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ществует четыре возможности по переработке отход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захоронение на полигон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сжигание, реже пиролиз и прочие высокотемпературные процесс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компостирован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сортировка с целью вторичного использования, утилизации и рециклин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из данных видов обладает своими достоинствами и недостат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05680" y="50040"/>
            <a:ext cx="7780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8064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058760" y="5378400"/>
            <a:ext cx="7628040" cy="12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826920" y="40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едует отметить, что метод сжигания в настоящее время является капиталоемким. Прибыль, полученная от утилизации тепловой и электрической энергии компенсирует, в лучшем случае, 60% расходов на капитальные вложения и эксплуатационные затра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67360" y="216000"/>
            <a:ext cx="5417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 основным преимуществам компостирования можно отнест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нижение объема отходов, отправляемых на полигон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ительно небольшие капиталовлож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местимость с рециклизацией и системами производства топлива из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6920" y="4813560"/>
            <a:ext cx="799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пыт показывает, что использование продукта компостирования требует значительного контроля со стороны экологических и санитарно-эпидемиологических служб. Компост может применяться для удобрения древесно-кустарниковой растительности, парков, газонов, но не для удобрения культур, используемых в пищу. Компост Минского мусороперерабатывающего завода использовался для засыпки промежуточных и верхнего слоев отходов в процессе рекультивации полигона ТБО «Тростенец» и полигона промотходов «Прудище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09120" cy="612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24040" y="291960"/>
            <a:ext cx="462708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78320" y="1075320"/>
            <a:ext cx="7878600" cy="31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ен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05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risunok-_pererabotka_othodov"/>
          <p:cNvPicPr/>
          <p:nvPr/>
        </p:nvPicPr>
        <p:blipFill>
          <a:blip r:embed="rId1"/>
          <a:stretch/>
        </p:blipFill>
        <p:spPr>
          <a:xfrm>
            <a:off x="252360" y="907920"/>
            <a:ext cx="8891640" cy="583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93040" y="46440"/>
            <a:ext cx="700416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ДНЫЙ АНАЛИЗ ОСНОВНЫХ ТЕХНОЛОГИЧЕСКИХ РЕШЕНИЙ ПО ПЕРЕРАБОТКЕ ОТХОД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16280"/>
            <a:ext cx="80550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ТИО представляет собой информационную систе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использованию отходов, их разработчиках и местах внедр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920000" cy="5064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бъектами государственной регистрации в ГРТИО являются технологи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может быть добровольной или обязательн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71880" y="52920"/>
            <a:ext cx="781884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617840" y="938160"/>
            <a:ext cx="6702120" cy="58611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2720" y="55800"/>
            <a:ext cx="7813440" cy="77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868320"/>
            <a:ext cx="7056360" cy="59896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7236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900000" y="2192400"/>
            <a:ext cx="7842240" cy="4665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1528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298520"/>
            <a:ext cx="6985080" cy="55166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5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59280" y="660600"/>
            <a:ext cx="784404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07480" y="52200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8305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060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32640" y="88236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241280"/>
            <a:ext cx="83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4. Размещение отходов — хранение или захоронение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1000" y="45000"/>
            <a:ext cx="6934680" cy="6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26920" y="1793880"/>
            <a:ext cx="799020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335040" y="58320"/>
            <a:ext cx="5750640" cy="80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авление отход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794360" cy="565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12280" y="43560"/>
            <a:ext cx="8265600" cy="60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КТУАЛЬНОСТЬ СИСТЕМЫ УПРАЛЕНИЯ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118720" cy="449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2:46Z</dcterms:created>
  <dc:creator>ddd</dc:creator>
  <dc:description>ekolog.na.by</dc:description>
  <dc:language>en-US</dc:language>
  <cp:lastModifiedBy>LEGION</cp:lastModifiedBy>
  <dcterms:modified xsi:type="dcterms:W3CDTF">2015-03-31T08:41:08Z</dcterms:modified>
  <cp:revision>117</cp:revision>
  <dc:subject/>
  <dc:title>Использование от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4000000000001024140</vt:lpwstr>
  </property>
</Properties>
</file>