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7.jpeg" ContentType="image/jpeg"/>
  <Override PartName="/ppt/media/image10.wmf" ContentType="image/x-wmf"/>
  <Override PartName="/ppt/media/image5.wmf" ContentType="image/x-wmf"/>
  <Override PartName="/ppt/media/image6.jpeg" ContentType="image/jpeg"/>
  <Override PartName="/ppt/media/image11.jpeg" ContentType="image/jpeg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B8E5-014C-4FC2-BA9E-7E6D5D86C43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и по переработке от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0AFA-A991-49BE-B7C1-E82FD1E4298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ПРИНЦИПА  УПРАВЛЕНИЯ ОТХОДАМИ В 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9D67-66B6-48B8-88F6-70B8224032D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ПРИНЦИПА  УПРАВЛЕНИЯ ОТХОДАМИ В 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7C87-1435-4830-984C-4282DCBBDCAC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ехнологические реш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управлению отход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7DEF-222E-4D30-91BC-0A1532DF8C7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различных решен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управлению отход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94C1-B749-43E2-9041-CD3FA567D16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ческие инструменты управления отход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•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Технологические инстру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меньшение количества упаков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нижение содержания вредных веществ в конечном продукт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мену вредных/ опасных веществ и материалов в продукте на менее опас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длинение срока жизни продук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зменение дизайна продукта на более экологич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использование экологически чистых материалов; соз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дуктов с максимальными возможностями повтор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спользования и вторичной переработки и т.п.).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•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овторное исполь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EB6C-CB3D-4D33-819A-3887DEE8C9C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ехнологические решения по утилизации  от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8EDD-1497-4B5B-BBE6-0D9C6DE1E28C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НЦИПИАЛЬНЫЕ ПОДХОДЫ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 ПЕРЕРАБОТКЕ ОТХОД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четыре возможности по переработке отход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захоронение на полигон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жигание, реже пиролиз и прочие высокотемпературные процес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омпостир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ортировка с целью вторичного использования, утилизации и рециклин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из данных видов обладает своими достоинствами и недостат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A1EA-51CD-4D72-914C-D63A9D9FE3A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ЕХНОЛОГИИ ВЫСОКОТЕМПЕРАТУРНОЙ ПЕРЕРАБОТКИ ОТХОДОВ (сжигание с </a:t>
            </a:r>
            <a:r>
              <a:rPr b="0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лучением</a:t>
            </a:r>
            <a:r>
              <a:rPr b="0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энергии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−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м отходов сокращается до 5%, а вес – до 25% от начального объема. Таким образом, снижается потребность в площадях для захоро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−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е когененерационные установки позволяют утилизировать до 80% запаса энергии в отход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−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 тонна несортированного бытового мусора по теплотворности соответствует ¼ т мазу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−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сжигания отходов прекращается выброс в атмосферу метана, образующегося на свалках и являющегося причиной парникового эффекта в 20 раз более значительной, чем двуокись углер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−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ходы сжигания могут быть использованы при производстве строительных материалов; отходы сжигания органических веществ можно использовать в качестве удоб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CC2A-FC65-4FE5-9022-7C91A194D4C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омпостиров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сновным преимуществам компостирования можно отне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 продукта, имеющего частичный рынок сбыта, хотя и ограниченный экологическими требовани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объема отходов, отправляемых на полиго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ительно небольшие капиталовло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местимость с рециклизацией и системами производства топлива из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 недостатком компостирования является получение экологически небезопасного продукта, содержащего вредные вещества, главным образом, тяжёлые металлы, загрязняющие почву. Очистка компоста связана со значительными затратами, а следовательно и удорожанием продукта, а подчас невозможна вообщ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C2E3-4B85-4E2E-877E-625E7013C00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хоронение на полиго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98EE-6B15-4857-ACDA-1F46AAD41EF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ределение техноло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Я (от греч . techne - искусство, мастерство, умение и ...логия), совокупность методов обработки, изготовления, изменения состояния, свойств, формы сырья, материала или полуфабриката, осуществляемых в процессе производства продукции; научная дисциплина, изучающая физические, химические, механические и др. закономерности, действующие в технологических процессах. Технологией называют также сами операции добычи, обработки, транспортировки, хранения, контроля, являющиеся частью общего производственн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ОСБЕРЕГАЮЩАЯ ТЕХНОЛОГИЯ , обеспечивает получение готового продукта производства или его части либо без отходов материалов (безотходный технологический процесс), либо с минимальными отходами, не утилизируемыми в данном, а также в каких-либо других видах производства (малоотходный технологический процес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УРСОСБЕРЕГАЮЩАЯ ТЕХНОЛОГИЯ , обобщенное название технологий, в которых технологический процесс обеспечивается при минимальном расходе энергии, затратах на основные и вспомогательные материалы, заработную плату рабочим основного производства при заданном качестве и требуемой производительности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ОТХОДНАЯ ТЕХНОЛОГИЯ , термин, часто употребляемый в литературе для обозначения малоотходных технологических процес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2921-17D4-4759-88C3-0B7D8E7AF4E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ВОДНЫЙ АНАЛИЗ ОСНОВНЫХ ТЕХНОЛОГИЧЕСКИХ РЕШЕНИЙ ПО ПЕРЕРАБОТКЕ ОТ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A0F0-EB77-4408-9A11-20DC0C846E0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по использованию отходов (ГРТИО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ётся на основании Положения о ведении ГРТИО, утв. постановлением Министерства природных ресурсов и охраны окружающей среды Республики Беларусь от 28.03.2002 г. №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ТИО представляет собой информационную систему,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включающую перечень технических, технологических, экономических, природоохранных сведений о технолог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использованию отходов, их разработчиках и местах внедр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ётся на основании Положения о ведении ГРТИО, утв. постановлением Министерства природных ресурсов и охраны окружающей среды Республики Беларусь от 28.03.2002 г. №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ТИО представляет собой информационную систему,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включающую перечень технических, технологических, экономических, природоохранных сведений о технолог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использованию отходов, их разработчиках и местах внедр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7BAB-3B5D-4B7E-86F4-EDD76993180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по использованию отходов (ГРТИ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B4BA-CCBD-4698-A06B-61E06112FF9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по использованию отходов (ГРТИО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получение информации ГРТИО имеют государственные органы, организации и гражда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информации государственного реестра государственным органам, за исключением территориальных органов Министерства природных ресурсов и охраны окружающей среды Республики Беларусь, организациям и гражданам осуществляется на платной осно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платы за предоставление информации государственного реестра определяется органом ведения государственного реестра в соответствии с законодательством Республики Белару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0D5F-CD83-43F2-A4D2-8FF4433188A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по использованию отходов (ГРТИО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Объектами государственной регистрации в ГРТИО являются техноло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использованию отходов в Республике Беларусь и иностранных государствах, как внедренные, так и не внедре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ами государственной регистрации являются собственники технологий по использованию отходов или лица, ими уполномоче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регистрация может быть добровольной или обязатель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регистрация технологий по использованию отходов осуществляется на основании регистрационных карт технологий по использованию отходов (далее - регистрационная карт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необходимости органом ведения ГРТИО могут быть истребованы другие документы о технологиях по использованию отхо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7089-8A75-45BD-ABB3-D555563C23A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использованию отходов (ГРТИ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64ED-7AC1-4A46-9436-B797CBCD0EA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использованию отходов (ГРТИ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8B2D-20F4-4588-9DE6-C1D9ABA6F9D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использованию отходов (ГРТИ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13A4-90F1-4E21-A66F-EC2339B3D22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использованию отходов (ГРТИ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9A68-D5AC-40B6-86A2-02252788050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ходы. Основные опреде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ходы — вещества или предметы, образующиеся в процессе осуществления экономической деятельности, жизнедеятельности человека и не имеющие определенного предназначения по месту их образования либо утратившие полностью или частично свои потребительские сво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ходы потребления — отходы, образующиеся в процессе жизнедеятельности человека, не связанной с осуществлением экономической деятельности, отходы, образующиеся в гаражных кооперативах, садоводческих товариществах и иных потребительских кооперативах, а также уличный и дворовый смет, образующийся на территориях общего пользования населенных пунк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ходы производства — отходы, образующиеся в процессе осуществления юридическими лицами и индивидуальными предпринимателями экономической деятельности (производства продукции, энергии, выполнения работ, оказания услуг), побочные и сопутствующие продукты добычи и обогащения полезных ископаем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ые отходы — отходы, содержащие в своем составе вещества, обладающие каким-либо опасным свойством или их совокупностью, в таких количестве и виде, что эти отходы сами по себе либо при вступлении в контакт с другими веществами могут представлять непосредственную или потенциальную опасность причинения вреда окружающей среде, здоровью граждан, имуществу вследствие их вредного воз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C3212-B26A-4DE0-ADD5-6E571977EF5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ходы. Основные определ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 отходов — совокупность отходов, имеющих общие признаки и классифицируемых в соответствии с настоящим Законом и иными актами законодательства об обращении с отхо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нтаризация отходов — деятельность по определению количественных и качественных показателей отходов в целях учета отходов и установления нормативов их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отходов — применение отходов для производства продукции, энергии, выполнения работ, оказания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щение с отходами — деятельность, связанная с образованием отходов, их сбором, разделением по видам отходов, удалением, хранением, захоронением, перевозкой, обезвреживанием и (или) использованием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CB75-D14C-4DA9-B29A-B267300CC61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ходы. Основные определ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захоронения отходов — полигоны и иные сооружения, предназначенные для захоронения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обезвреживания отходов — сооружения (комплекс сооружений) и оборудование, предназначенные для обезвреживания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по использованию отходов — сооружения (комплекс сооружений) и оборудование, предназначенные для использования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хранения отходов — сооружения (комплекс сооружений), предназначенные для хранения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7E4D-9C09-4D39-84FC-A7A595B0D51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ходы. Основные опреде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. Размещение отходов — хранение или захоронение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 Места временного хранения отходов — специальное оборудование (контейнеры, урны и т.п.), площадки и иные места, предназначенные для временного хранения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. Санкционированное захоронение отходов — захоронение отходов в санкционированных местах захоронения отходов в порядке, установленном настоящим Законом и иными актами законодательства об обращении с отхо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6. Санкционированное хранение отходов — хранение отходов в санкционированных местах хранения отходов в порядке, установленном настоящим Законом и иными актами законодательства об обращении с отхо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7. Санкционированные места захоронения отходов — объекты захоронения отходов, определенные собственнику отходов для их захоронения в соответствии с настоящим Законом и иными актами законодательства об обращении с отхо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8. Санкционированные места хранения отходов — объекты хранения отходов или места временного хранения отходов, определенные собственнику отходов для их хранения в соответствии с настоящим Законом и иными актами законодательства об обращении с отхо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30A4-F58A-4546-ADB9-308B00E90537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отход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5641-0E3C-43C9-AEDC-0E531EB4F3D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ЬНОСТЬ СИСТЕМЫ УПРАЛЕНИЯ ОТХОД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A8A1-A921-4338-8A6F-6BB68D9CA1F7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ПРИНЦИПА  УПРАВЛЕНИЯ ОТХОДАМИ В 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D2BA-8960-4799-AD10-C71BA582AC9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5241-DAD1-4956-BD08-426AA8BEE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D586-B665-4F2D-9A2B-CB34502F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ED14-1326-42D3-8211-F1C69368E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8CF5-0A18-440C-995D-B121E2F9C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AE13-7730-43E9-BAEE-F1E6ADDDE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0244-A3CC-4AFC-9229-4F8663B9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40A7-DA97-40DA-B460-E222D692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EE23-6145-4861-BCF0-3D290C48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3FCA-04E7-4F3F-9AC1-0D456B4E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E856D-B18E-440E-BF4F-F618FCA8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9A99-E6A2-4F78-B88D-22C5932D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4B11-633C-43BC-993D-5B4C2901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635B0-53C1-48BB-9A5D-C8620D0B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C42C-8B1A-4B56-884D-FA05AAFC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2CFA-50A1-44ED-8E29-4EAB6C06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C7BF-0AC9-4E51-8166-6C7C519B3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1379-3FF0-41FD-847C-123D2DED4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8342-081F-4329-8E5D-A9FEBECF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0094-C1C7-4913-B00A-C4816180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582B-A440-4F79-ABB5-B4C3B170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AAB2-AE52-4F52-AFD4-671D7137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4BDF-4400-4A5E-85B3-7D48E580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CE1A-7FBF-4B79-88BA-1F658594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2D47-5FD2-4FDF-9479-486009D1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910E-C559-4FAA-9E51-D322C401E1C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B5D9-4602-49B4-8DA4-1868C430AFE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4572000" y="328428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Зубрицкий Вадим Славомирович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зав сектором нормирования и обращения с отходами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УП «Бел НИЦ «Экология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5396040" y="5660640"/>
            <a:ext cx="30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тел/факс (8017) 3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34-76-09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e-mail: promeco@tut.b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90280" y="1260000"/>
            <a:ext cx="7671600" cy="134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Arial"/>
              </a:rPr>
              <a:t>Технологии по переработке отходов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1143000" y="1449360"/>
            <a:ext cx="7238880" cy="5408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3256560" y="54360"/>
            <a:ext cx="583272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ТРИ ПРИНЦИПА  УПРАВЛЕНИЯ ОТХОДАМИ В ЕС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7429680" cy="4425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802800" y="803160"/>
            <a:ext cx="7842600" cy="56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ТРИ ПРИНЦИПА  УПРАВЛЕНИЯ ОТХОДАМИ В ЕС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0" descr="цветная пирамида"/>
          <p:cNvPicPr/>
          <p:nvPr/>
        </p:nvPicPr>
        <p:blipFill>
          <a:blip r:embed="rId1"/>
          <a:stretch/>
        </p:blipFill>
        <p:spPr>
          <a:xfrm>
            <a:off x="2009880" y="1700280"/>
            <a:ext cx="5978520" cy="51577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29132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сновные технологические решения </a:t>
            </a:r>
            <a:br>
              <a:rPr sz="2800"/>
            </a:b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о управлению отходам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0" descr="минупрмеры"/>
          <p:cNvPicPr/>
          <p:nvPr/>
        </p:nvPicPr>
        <p:blipFill>
          <a:blip r:embed="rId1"/>
          <a:stretch/>
        </p:blipFill>
        <p:spPr>
          <a:xfrm>
            <a:off x="971640" y="1773360"/>
            <a:ext cx="7705800" cy="4867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972360" y="5482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оотношение различных решений </a:t>
            </a:r>
            <a:br>
              <a:rPr sz="2400"/>
            </a:b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 управлению отходами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826920" y="1700280"/>
            <a:ext cx="7993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хнологические инструмент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уменьшение количества упаковки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снижение содержания вредных веществ в конечном продукте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замену вредных/ опасных веществ и материалов в продукте на менее опасные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удлинение срока жизни продукта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изменение дизайна продукта на более экологичны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(использование экологически чистых материалов; создан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продуктов с максимальными возможностями повторного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использования и вторичной переработки и т.п.).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971640" y="5229360"/>
            <a:ext cx="53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вторное использован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45360" y="1026720"/>
            <a:ext cx="7180920" cy="62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Технологические инструменты управления отходам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1476360" y="1768320"/>
            <a:ext cx="6792840" cy="4050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972000" y="621360"/>
            <a:ext cx="7343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сновные технологические решения по утилизации  отходов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54836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РИНЦИПИАЛЬНЫЕ ПОДХОДЫ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К ПЕРЕРАБОТКЕ ОТХОДОВ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971280" y="213336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уществует четыре возможности по переработке отходов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. захоронение на полигонах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2. сжигание, реже пиролиз и прочие высокотемпературные процессы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3. компостирование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4. сортировка с целью вторичного использования, утилизации и рециклинг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аждый из данных видов обладает своими достоинствами и недостаткам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05680" y="50040"/>
            <a:ext cx="778032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ЕХНОЛОГИИ ВЫСОКОТЕМПЕРАТУРНОЙ ПЕРЕРАБОТКИ ОТХОДОВ (сжигание с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лучением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энергии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10920" y="765000"/>
            <a:ext cx="806436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бъем отходов сокращается до 5%, а вес – до 25% от начального объема. Таким образом, снижается потребность в площадях для захоронени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овременные когененерационные установки позволяют утилизировать до 80% запаса энергии в отходах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дна тонна несортированного бытового мусора по теплотворности соответствует ¼ т мазут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осле сжигания отходов прекращается выброс в атмосферу метана, образующегося на свалках и являющегося причиной парникового эффекта в 20 раз более значительной, чем двуокись углерод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тходы сжигания могут быть использованы при производстве строительных материалов; отходы сжигания органических веществ можно использовать в качестве удобре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4" name="Picture 7" descr=""/>
          <p:cNvPicPr/>
          <p:nvPr/>
        </p:nvPicPr>
        <p:blipFill>
          <a:blip r:embed="rId1"/>
          <a:stretch/>
        </p:blipFill>
        <p:spPr>
          <a:xfrm>
            <a:off x="1058760" y="5378400"/>
            <a:ext cx="7628040" cy="12510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1"/>
          <p:cNvSpPr/>
          <p:nvPr/>
        </p:nvSpPr>
        <p:spPr>
          <a:xfrm>
            <a:off x="826920" y="4041360"/>
            <a:ext cx="81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ледует отметить, что метод сжигания в настоящее время является капиталоемким. Прибыль, полученная от утилизации тепловой и электрической энергии компенсирует, в лучшем случае, 60% расходов на капитальные вложения и эксплуатационные затраты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2367360" y="216000"/>
            <a:ext cx="54172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омпостирование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900000" y="764640"/>
            <a:ext cx="76932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 основным преимуществам компостирования можно отнести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оизводство продукта, имеющего частичный рынок сбыта, хотя и ограниченный экологическими требованиям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нижение объема отходов, отправляемых на полигон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тносительно небольшие капиталовложения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вместимость с рециклизацией и системами производства топлива из отход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сновным недостатком компостирования является получение экологически небезопасного продукта, содержащего вредные вещества, главным образом, тяжёлые металлы, загрязняющие почву. Очистка компоста связана со значительными затратами, а следовательно и удорожанием продукта, а подчас невозможна вообщ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826920" y="4813560"/>
            <a:ext cx="7993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Опыт показывает, что использование продукта компостирования требует значительного контроля со стороны экологических и санитарно-эпидемиологических служб. Компост может применяться для удобрения древесно-кустарниковой растительности, парков, газонов, но не для удобрения культур, используемых в пищу. Компост Минского мусороперерабатывающего завода использовался для засыпки промежуточных и верхнего слоев отходов в процессе рекультивации полигона ТБО «Тростенец» и полигона промотходов «Прудище»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809120" cy="61246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3524040" y="291960"/>
            <a:ext cx="4627080" cy="44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хоронение на полигонах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778320" y="1075320"/>
            <a:ext cx="7878600" cy="31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пределение технолог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26560" y="1628640"/>
            <a:ext cx="8055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ТЕХНОЛОГИЯ (от греч . techne - искусство, мастерство, умение и ...логия), совокупность методов обработки, изготовления, изменения состояния, свойств, формы сырья, материала или полуфабриката, осуществляемых в процессе производства продукции; научная дисциплина, изучающая физические, химические, механические и др. закономерности, действующие в технологических процессах. Технологией называют также сами операции добычи, обработки, транспортировки, хранения, контроля, являющиеся частью общего производственного процесса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ТЕРИАЛОСБЕРЕГАЮЩАЯ ТЕХНОЛОГИЯ , обеспечивает получение готового продукта производства или его части либо без отходов материалов (безотходный технологический процесс), либо с минимальными отходами, не утилизируемыми в данном, а также в каких-либо других видах производства (малоотходный технологический процесс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ЕСУРСОСБЕРЕГАЮЩАЯ ТЕХНОЛОГИЯ , обобщенное название технологий, в которых технологический процесс обеспечивается при минимальном расходе энергии, затратах на основные и вспомогательные материалы, заработную плату рабочим основного производства при заданном качестве и требуемой производительности труда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БЕЗОТХОДНАЯ ТЕХНОЛОГИЯ , термин, часто употребляемый в литературе для обозначения малоотходных технологических процесс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risunok-_pererabotka_othodov"/>
          <p:cNvPicPr/>
          <p:nvPr/>
        </p:nvPicPr>
        <p:blipFill>
          <a:blip r:embed="rId1"/>
          <a:stretch/>
        </p:blipFill>
        <p:spPr>
          <a:xfrm>
            <a:off x="252360" y="907920"/>
            <a:ext cx="8891640" cy="58309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2093040" y="46440"/>
            <a:ext cx="7004160" cy="64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ВОДНЫЙ АНАЛИЗ ОСНОВНЫХ ТЕХНОЛОГИЧЕСКИХ РЕШЕНИЙ ПО ПЕРЕРАБОТКЕ ОТХОДОВ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7720" y="1916280"/>
            <a:ext cx="8055000" cy="41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едётся на основании Положения о ведении ГРТИО, утв. постановлением Министерства природных ресурсов и охраны окружающей среды Республики Беларусь от 28.03.2002 г. № 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РТИО представляет собой информационную систему,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ключающую перечень технических, технологических, экономических, природоохранных сведений о технологиях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по использованию отходов, их разработчиках и местах внедрения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2764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1" name="Picture 9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920000" cy="506412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аво на получение информации ГРТИО имеют государственные органы, организации и граждан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едоставление информации государственного реестра государственным органам, за исключением территориальных органов Министерства природных ресурсов и охраны окружающей среды Республики Беларусь, организациям и гражданам осуществляется на платной основ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азмер платы за предоставление информации государственного реестра определяется органом ведения государственного реестра в соответствии с законодательством Республики Беларусь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26560" y="1915920"/>
            <a:ext cx="8137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Объектами государственной регистрации в ГРТИО являются технологии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по использованию отходов в Республике Беларусь и иностранных государствах, как внедренные, так и не внедренны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убъектами государственной регистрации являются собственники технологий по использованию отходов или лица, ими уполномоченны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осударственная регистрация может быть добровольной или обязательной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осударственная регистрация технологий по использованию отходов осуществляется на основании регистрационных карт технологий по использованию отходов (далее - регистрационная карта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 необходимости органом ведения ГРТИО могут быть истребованы другие документы о технологиях по использованию отходов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899280" y="62136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271880" y="52920"/>
            <a:ext cx="7818840" cy="73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1617840" y="938160"/>
            <a:ext cx="6702120" cy="586116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82720" y="55800"/>
            <a:ext cx="7813440" cy="77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1332000" y="868320"/>
            <a:ext cx="7056360" cy="598968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972360" y="7642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6" name="Picture 8" descr=""/>
          <p:cNvPicPr/>
          <p:nvPr/>
        </p:nvPicPr>
        <p:blipFill>
          <a:blip r:embed="rId1"/>
          <a:stretch/>
        </p:blipFill>
        <p:spPr>
          <a:xfrm>
            <a:off x="900000" y="2192400"/>
            <a:ext cx="7842240" cy="466560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115280" y="26100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1"/>
          <a:stretch/>
        </p:blipFill>
        <p:spPr>
          <a:xfrm>
            <a:off x="1403280" y="1298520"/>
            <a:ext cx="6985080" cy="551664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11280" y="1197000"/>
            <a:ext cx="853272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тходы — вещества или предметы, образующиеся в процессе осуществления экономической деятельности, жизнедеятельности человека и не имеющие определенного предназначения по месту их образования либо утратившие полностью или частично свои потребительские свойства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тходы потребления — отходы, образующиеся в процессе жизнедеятельности человека, не связанной с осуществлением экономической деятельности, отходы, образующиеся в гаражных кооперативах, садоводческих товариществах и иных потребительских кооперативах, а также уличный и дворовый смет, образующийся на территориях общего пользования населенных пунктов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тходы производства — отходы, образующиеся в процессе осуществления юридическими лицами и индивидуальными предпринимателями экономической деятельности (производства продукции, энергии, выполнения работ, оказания услуг), побочные и сопутствующие продукты добычи и обогащения полезных ископаемых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пасные отходы — отходы, содержащие в своем составе вещества, обладающие каким-либо опасным свойством или их совокупностью, в таких количестве и виде, что эти отходы сами по себе либо при вступлении в контакт с другими веществами могут представлять непосредственную или потенциальную опасность причинения вреда окружающей среде, здоровью граждан, имуществу вследствие их вредного воздействи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259280" y="660600"/>
            <a:ext cx="7844040" cy="55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тходы. Основные определе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707480" y="522000"/>
            <a:ext cx="7390440" cy="63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Отходы. Основные определения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1557360"/>
            <a:ext cx="830592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ид отходов — совокупность отходов, имеющих общие признаки и классифицируемых в соответствии с настоящим Законом и иными актами законодательства об обращении с отходам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нвентаризация отходов — деятельность по определению количественных и качественных показателей отходов в целях учета отходов и установления нормативов их образовани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спользование отходов — применение отходов для производства продукции, энергии, выполнения работ, оказания услуг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ращение с отходами — деятельность, связанная с образованием отходов, их сбором, разделением по видам отходов, удалением, хранением, захоронением, перевозкой, обезвреживанием и (или) использованием отход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42920" y="206028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ъекты захоронения отходов — полигоны и иные сооружения, предназначенные для захоронения отход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ъекты обезвреживания отходов — сооружения (комплекс сооружений) и оборудование, предназначенные для обезвреживания отход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ъекты по использованию отходов — сооружения (комплекс сооружений) и оборудование, предназначенные для использования отход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ъекты хранения отходов — сооружения (комплекс сооружений), предназначенные для хранения отход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32640" y="882360"/>
            <a:ext cx="7390440" cy="63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тходы. Основные определе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755280" y="1241280"/>
            <a:ext cx="8388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24. Размещение отходов — хранение или захоронение отход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10. Места временного хранения отходов — специальное оборудование (контейнеры, урны и т.п.), площадки и иные места, предназначенные для временного хранения отход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25. Санкционированное захоронение отходов — захоронение отходов в санкционированных местах захоронения отходов в порядке, установленном настоящим Законом и иными актами законодательства об обращении с отходам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26. Санкционированное хранение отходов — хранение отходов в санкционированных местах хранения отходов в порядке, установленном настоящим Законом и иными актами законодательства об обращении с отходам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27. Санкционированные места захоронения отходов — объекты захоронения отходов, определенные собственнику отходов для их захоронения в соответствии с настоящим Законом и иными актами законодательства об обращении с отходам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28. Санкционированные места хранения отходов — объекты хранения отходов или места временного хранения отходов, определенные собственнику отходов для их хранения в соответствии с настоящим Законом и иными актами законодательства об обращении с отходам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1000" y="45000"/>
            <a:ext cx="6934680" cy="62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Отходы. Основные определения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826920" y="1793880"/>
            <a:ext cx="7990200" cy="3933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3335040" y="58320"/>
            <a:ext cx="5750640" cy="80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Управление отходам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7794360" cy="5656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512280" y="43560"/>
            <a:ext cx="8265600" cy="60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АКТУАЛЬНОСТЬ СИСТЕМЫ УПРАЛЕНИЯ ОТХОДАМИ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8118720" cy="4498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ТРИ ПРИНЦИПА  УПРАВЛЕНИЯ ОТХОДАМИ В ЕС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21:32:46Z</dcterms:created>
  <dc:creator>ddd</dc:creator>
  <dc:description>ekolog.na.by</dc:description>
  <dc:language>en-US</dc:language>
  <cp:lastModifiedBy>LEGION</cp:lastModifiedBy>
  <dcterms:modified xsi:type="dcterms:W3CDTF">2015-03-31T08:41:08Z</dcterms:modified>
  <cp:revision>117</cp:revision>
  <dc:subject/>
  <dc:title>Использование отход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404000000000001024140</vt:lpwstr>
  </property>
</Properties>
</file>