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8072-B1DF-4CA8-8449-A92830F89F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436C-D6F3-4881-8360-08E42A3B2A3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DE27-9332-45A1-AE57-A80C2971191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FA05-243C-44EE-AC18-465DAB26B62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8045-659C-49B1-A3B8-7C16F4F704D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различн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01B5-186F-4746-9741-CEAAF3F1CA7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инструменты управ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хнологические инстр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меньшение количества упаков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содержания вредных веществ в конечном продук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ну вредных/ опасных веществ и материалов в продукте на менее опас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длинение срока жизни продук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менение дизайна продукта на более эколог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использование экологически чистых материалов; со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ов с максимальными возможностями повто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пользования и вторичной переработки и т.п.)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втор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53E1-EF51-456B-9C31-FDB4A172A80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по утилизации 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5CD6-B4FF-4165-8808-33BCB41357E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ИАЛЬНЫЕ ПОДХОД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ЕРЕРАБОТКЕ ОТХО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четыре возможности по переработке от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ахоронение на полиго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жигание, реже пиролиз и прочие высокотемператур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мпост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ртировка с целью вторичного использования, утилизации и рецик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данных видов обладает своими достоинствами и недоста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5D69-57F8-4972-AC15-736E3045118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7D51-D54C-41F1-8766-44E0434C272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имуществам компостирования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объема отходов, отправляемых на полиг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небольшие капиталов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имость с рециклизацией и системами производства топлива из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A682-AFBE-4C13-8E6F-48EAC723A53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90E6-F051-4805-8B2C-696291EDBED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0340-2BAC-4237-9F5C-88B72F56349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ДНЫЙ АНАЛИЗ ОСНОВНЫХ ТЕХНОЛОГИЧЕСКИХ РЕШЕНИЙ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3E6D-B8D8-4C5B-90EA-1D9CB25C2A9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8817-3B09-4617-83B4-EA674704E07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24A5-5EC3-474B-83B7-626948018F7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B4BD-2429-4DA1-B772-2301E0ABEC4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Объектами государственной регистрации в ГРТИО являются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может быть добровольной или обяз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D1C6-EF2C-4C1A-9A56-C5EA0DDB9AD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9749-5484-4ECE-AE61-733BAB09AAF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0515-ED22-43B1-A929-F7345543889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C893-783C-4451-802B-BA533213388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8720-9C75-4E4F-A9B2-F2A3E649AAA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FCE8-7C78-4037-8B01-86B1A7D72DF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26E9-537A-445D-8910-226886D2916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0391-9C3B-4D9C-8BDA-DC9897AD5DB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. Размещение отходов — хранение или захоронение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2FF6-DCD8-44AE-9009-4B342412387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3573-55EA-404E-AB19-18E969E3627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СИСТЕМЫ УПРА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9F28-E1FC-4329-8D83-F279B390A64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C482-4048-4349-AE1C-BD2C668DDB7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924-E739-4624-9941-E49D860D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4BD-F7C8-4D31-8B51-84ADFC44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4A5-0E0E-42E8-8D8C-1DF8F302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8F5-D28C-4054-BCC3-8B15F6AA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8EA4-C9DC-4436-9514-E92694E0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7D88-853E-4054-B5D4-023F18EA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8248-4164-4B1D-9946-3A2CE7F8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0D26-000A-4082-BB98-AEF260CA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21A6-8969-47FB-8575-7C5CED63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33D1-3CFD-4AD6-9C35-D73718F4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B53E-E138-477F-9F6B-467C4924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DFC-0E0F-4572-8D2D-3395FB7F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63DD-3AC7-4E28-A4C7-FE29DF4A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9092-3B41-4EC7-8595-2FA964CD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3538-C562-449D-8938-0AAE1FBF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DCEB-FBC5-4DAF-826E-8E14325E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9146-EA33-4633-B4E5-C660B953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AA6-5088-400A-AA26-63FD76E4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F96-28A1-4A24-A593-5F19ABDA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300-90A3-4738-A45E-C04FB073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001-D536-4835-BC84-734ED48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411-C70B-4F17-8953-AAE86D3B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C51-35F3-4C6C-8103-FF3BD5B5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E3A-DD85-4A55-ABE6-F9DE6B1F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75FB-EF2F-4C57-B0CA-9A9839E9144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B9B1-F2C5-4359-B23A-C75D68DDC59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572000" y="3284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убрицкий Вадим Славомирович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в сектором нормирования и обращения с отходам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УП «Бел НИЦ «Эколог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96040" y="5660640"/>
            <a:ext cx="30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ел/факс (8017) 3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4-76-0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-mail: promeco@tut.b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Технологии по переработке отходов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143000" y="1449360"/>
            <a:ext cx="7238880" cy="540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256560" y="54360"/>
            <a:ext cx="5832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29680" cy="4425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02800" y="803160"/>
            <a:ext cx="7842600" cy="56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0" descr="цветная пирамида"/>
          <p:cNvPicPr/>
          <p:nvPr/>
        </p:nvPicPr>
        <p:blipFill>
          <a:blip r:embed="rId1"/>
          <a:stretch/>
        </p:blipFill>
        <p:spPr>
          <a:xfrm>
            <a:off x="2009880" y="1700280"/>
            <a:ext cx="5978520" cy="515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2913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0" descr="минупрмеры"/>
          <p:cNvPicPr/>
          <p:nvPr/>
        </p:nvPicPr>
        <p:blipFill>
          <a:blip r:embed="rId1"/>
          <a:stretch/>
        </p:blipFill>
        <p:spPr>
          <a:xfrm>
            <a:off x="971640" y="1773360"/>
            <a:ext cx="7705800" cy="4867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97236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тношение различных решений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826920" y="170028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хнологические инструмен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меньшение количества упаковк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снижение содержания вредных веществ в конечном продукте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замену вредных/ опасных веществ и материалов в продукте на менее опасны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длинение срока жизни продукта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зменение дизайна продукта на более экологичны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(использование экологически чистых материалов; созд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продуктов с максимальными возможностями повторног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спользования и вторичной переработки и т.п.).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971640" y="52293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торное использ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45360" y="1026720"/>
            <a:ext cx="718092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ехнологические инструменты управления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76360" y="1768320"/>
            <a:ext cx="6792840" cy="405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972000" y="621360"/>
            <a:ext cx="7343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по утилизации 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548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НЦИПИАЛЬНЫЕ ПОДХОДЫ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 ПЕРЕРАБОТКЕ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21333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ществует четыре возможности по переработке отход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захоронение на полигона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сжигание, реже пиролиз и прочие высокотемпературные процесс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компостировани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сортировка с целью вторичного использования, утилизации и рециклинг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ждый из данных видов обладает своими достоинствами и недостат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05680" y="50040"/>
            <a:ext cx="77803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8064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1058760" y="5378400"/>
            <a:ext cx="7628040" cy="125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826920" y="40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едует отметить, что метод сжигания в настоящее время является капиталоемким. Прибыль, полученная от утилизации тепловой и электрической энергии компенсирует, в лучшем случае, 60% расходов на капитальные вложения и эксплуатационные затрат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367360" y="216000"/>
            <a:ext cx="54172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 основным преимуществам компостирования можно отнест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нижение объема отходов, отправляемых на полигон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носительно небольшие капиталовлож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местимость с рециклизацией и системами производства топлива из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26920" y="4813560"/>
            <a:ext cx="7993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Опыт показывает, что использование продукта компостирования требует значительного контроля со стороны экологических и санитарно-эпидемиологических служб. Компост может применяться для удобрения древесно-кустарниковой растительности, парков, газонов, но не для удобрения культур, используемых в пищу. Компост Минского мусороперерабатывающего завода использовался для засыпки промежуточных и верхнего слоев отходов в процессе рекультивации полигона ТБО «Тростенец» и полигона промотходов «Прудище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809120" cy="6124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524040" y="291960"/>
            <a:ext cx="462708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78320" y="1075320"/>
            <a:ext cx="7878600" cy="31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ределени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8055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risunok-_pererabotka_othodov"/>
          <p:cNvPicPr/>
          <p:nvPr/>
        </p:nvPicPr>
        <p:blipFill>
          <a:blip r:embed="rId1"/>
          <a:stretch/>
        </p:blipFill>
        <p:spPr>
          <a:xfrm>
            <a:off x="252360" y="907920"/>
            <a:ext cx="8891640" cy="5830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93040" y="46440"/>
            <a:ext cx="700416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ДНЫЙ АНАЛИЗ ОСНОВНЫХ ТЕХНОЛОГИЧЕСКИХ РЕШЕНИЙ ПО ПЕРЕРАБОТКЕ ОТХОДО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16280"/>
            <a:ext cx="80550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ТИО представляет собой информационную систему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 использованию отходов, их разработчиках и местах внедр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920000" cy="5064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бъектами государственной регистрации в ГРТИО являются технологи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может быть добровольной или обязательн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71880" y="52920"/>
            <a:ext cx="7818840" cy="73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617840" y="938160"/>
            <a:ext cx="6702120" cy="58611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2720" y="55800"/>
            <a:ext cx="7813440" cy="77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332000" y="868320"/>
            <a:ext cx="7056360" cy="59896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7236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tretch/>
        </p:blipFill>
        <p:spPr>
          <a:xfrm>
            <a:off x="900000" y="2192400"/>
            <a:ext cx="7842240" cy="4665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15280" y="261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1298520"/>
            <a:ext cx="6985080" cy="55166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5327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59280" y="660600"/>
            <a:ext cx="784404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07480" y="52200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83059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2060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32640" y="88236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241280"/>
            <a:ext cx="838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4. Размещение отходов — хранение или захоронение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1000" y="45000"/>
            <a:ext cx="6934680" cy="62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26920" y="1793880"/>
            <a:ext cx="7990200" cy="393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335040" y="58320"/>
            <a:ext cx="5750640" cy="80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правление отход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794360" cy="565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12280" y="43560"/>
            <a:ext cx="8265600" cy="60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КТУАЛЬНОСТЬ СИСТЕМЫ УПРАЛЕНИЯ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8118720" cy="449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1:32:46Z</dcterms:created>
  <dc:creator>ddd</dc:creator>
  <dc:description>ekolog.na.by</dc:description>
  <dc:language>en-US</dc:language>
  <cp:lastModifiedBy>LEGION</cp:lastModifiedBy>
  <dcterms:modified xsi:type="dcterms:W3CDTF">2015-03-31T08:41:08Z</dcterms:modified>
  <cp:revision>117</cp:revision>
  <dc:subject/>
  <dc:title>Использование от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4000000000001024140</vt:lpwstr>
  </property>
</Properties>
</file>