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.wmf" ContentType="image/x-wmf"/>
  <Override PartName="/ppt/media/image29.wmf" ContentType="image/x-wmf"/>
  <Override PartName="/ppt/media/image19.jpeg" ContentType="image/jpeg"/>
  <Override PartName="/ppt/media/image7.wmf" ContentType="image/x-wmf"/>
  <Override PartName="/ppt/media/image20.jpeg" ContentType="image/jpeg"/>
  <Override PartName="/ppt/media/image8.wmf" ContentType="image/x-wmf"/>
  <Override PartName="/ppt/media/image34.png" ContentType="image/png"/>
  <Override PartName="/ppt/media/image12.jpeg" ContentType="image/jpeg"/>
  <Override PartName="/ppt/media/image17.jpeg" ContentType="image/jpeg"/>
  <Override PartName="/ppt/media/image10.wmf" ContentType="image/x-wmf"/>
  <Override PartName="/ppt/media/image23.png" ContentType="image/png"/>
  <Override PartName="/ppt/media/image13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1.wmf" ContentType="image/x-wmf"/>
  <Override PartName="/ppt/media/image33.png" ContentType="image/png"/>
  <Override PartName="/ppt/media/image14.jpeg" ContentType="image/jpeg"/>
  <Override PartName="/ppt/media/image9.wmf" ContentType="image/x-wmf"/>
  <Override PartName="/ppt/media/image11.wmf" ContentType="image/x-wmf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4.wmf" ContentType="image/x-wmf"/>
  <Override PartName="/ppt/media/image15.jpeg" ContentType="image/jpeg"/>
  <Override PartName="/ppt/media/image1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779B-9D05-40B1-A528-76A673997C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omic Sans MS"/>
              </a:rPr>
              <a:t>Материальная 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0000ff"/>
                </a:solidFill>
                <a:uFillTx/>
                <a:latin typeface="Comic Sans MS"/>
              </a:rPr>
              <a:t>технолог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ff"/>
                </a:solidFill>
                <a:uFillTx/>
                <a:latin typeface="Comic Sans MS"/>
              </a:rPr>
              <a:t>Учитель: Бодрова Ирина Анатольев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F0B5-EEAC-4253-8BB8-1F6B84435E6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778D-7537-4776-B1AF-F3B12E291BB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Ю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к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3410-3BD0-45DE-BA46-E185CBFD0C6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Х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л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8036-6197-4756-8123-12708B9CA98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укодел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уроках рукоделия мы познакомимся с различными видами вышивки и научимся выполнять изделия, которые украсят наш д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9265-9E9C-4703-8AC3-3DC8D86FCFA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офессиональное самоопредел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уроках по профессиональному самоопределению мы познакомимся с различными профессиями, узнаем, какие из них наиболее востребованные в обществе, что нужно знать и уметь, чтобы получить ту или иную специ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941B-1F05-412B-9E60-389A6D76295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ы должны научиться понимать труд, как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98A3-34A0-4997-B5B1-867B2807A8B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Модули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улин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ашин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укодел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фессиональное само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8211-C951-40F2-896A-7CC82833C62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Технология приготовления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История различных проду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ервировка ст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Как украсить блю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Правила этик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846D-8CE9-4843-8B07-9E477B49D33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«Все, что есть в печи, - на стол мечи», - гласит старинная русская пословица. Что и говорить, любим мы угощать, особенно тем, что приготовлено своими руками. У каждой хозяйки есть какое-то свое заветное блюдо, которым она угощает дорогих гостей. На уроках кулинарии мы учимся, готовить вкусные и полезные блюда, украшать их и правильно подавать на ст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FDCA-10FE-4659-B605-5AE971D4E4F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Бутербродные Фант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акой забавный бутерброд «кит» сделать совсем про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Верхнюю часть батона надо отрезать наискосок и сделать посередине надрез. Нанести сливочное масло и положить пластинку колбасы – это ро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Из кусочка колбасы делаем хвостик, глазки – из моркови, сверху закрепляем веточку зеленого л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171D-967D-4EDB-887D-957D794411D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Ткани окружают нас в жизни и широко используются в быту. Из них шьют одежду и белье, изготавливают палатки, парашюты, мешки, делают обивку для мебели. Все ли ткани одинаковые, как их изготавливают, из чего делают нитки, что такое волокна – все это мы узнаем на уроках материал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BDD7-2C53-4D6C-9D1B-53B75BBD6F7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Машин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На уроках машиноведения мы с вами познакомимся с историей создания швейных машин, узнаем, какие бывают машины и, конечно, научимся на них рабо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B10E-26E1-4CBA-842E-CCD08D9C413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сле того, как мы научимся шить на швейной машине, мы попробуем сами изготовить швейное издел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9F6E-6EC0-43ED-931C-FC006A49478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A68-B0BD-46C3-B60D-48C4A2A8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B6D1-841B-4397-B6A0-FB536992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EA4-681C-417B-9BC6-E75A9C59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5E6-3337-4F64-AA2D-1C429450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CEE4-4EBF-42B0-9587-24E2F207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987A-8A92-4CF6-B54E-3B187756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A491-8AA3-489D-980E-DC17C4E5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2A3C-5194-40AD-9D93-CA69F86B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DB2D-6823-4C68-998E-C691B1B5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8949-B651-4502-814C-1B72685C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A9CD-3A65-44ED-B6D2-06AA9C41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AC8-38D6-450B-B432-526B9C01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4ADD-053A-47E1-B7E4-C18F4EBF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3176-A7AD-43C6-BE33-111E77E0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C116-70C6-49AB-A801-24FB80C3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F876-DF24-482E-9804-EECA2DD6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7B8D-BB91-43A0-8630-86F50389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2383-DAB9-410C-B889-2DC7A122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ED9-760B-47BE-85A1-4040F7AB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7B9-297E-4618-B062-1718C159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5567-B966-43B3-85A7-96736BA8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565A-0C29-42E4-B267-A94CE7EB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F3B-A2BB-4103-966D-46113103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A0F-E94E-44C0-BA1D-4731E803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Group 69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3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4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5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6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0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1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2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3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4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5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6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7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28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29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3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7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48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49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0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1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52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3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4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5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6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7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58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59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60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61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2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3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4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65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66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7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68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Freeform 70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AADA-895D-46C4-8473-8E02C3F123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03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Rectangle 2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4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5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47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48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49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0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1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70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92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98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4AA7-1FBE-4237-84DD-6132547A73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856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ffff"/>
                </a:solidFill>
                <a:uFillTx/>
                <a:latin typeface="Comic Sans MS"/>
              </a:rPr>
              <a:t>Материальная </a:t>
            </a: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00ffff"/>
                </a:solidFill>
                <a:uFillTx/>
                <a:latin typeface="Comic Sans MS"/>
              </a:rPr>
              <a:t>технология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10920" y="3715920"/>
            <a:ext cx="799308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ffff"/>
                </a:solidFill>
                <a:uFillTx/>
                <a:latin typeface="Comic Sans MS"/>
              </a:rPr>
              <a:t>Учитель: Бодрова Ирина Анатольевн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496908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Ф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а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р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т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у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к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9" name="Picture 5" descr="99121205"/>
          <p:cNvPicPr/>
          <p:nvPr/>
        </p:nvPicPr>
        <p:blipFill>
          <a:blip r:embed="rId1"/>
          <a:stretch/>
        </p:blipFill>
        <p:spPr>
          <a:xfrm>
            <a:off x="2340000" y="17002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9308"/>
          <p:cNvPicPr/>
          <p:nvPr/>
        </p:nvPicPr>
        <p:blipFill>
          <a:blip r:embed="rId2"/>
          <a:stretch/>
        </p:blipFill>
        <p:spPr>
          <a:xfrm>
            <a:off x="2484360" y="141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ndk5"/>
          <p:cNvPicPr/>
          <p:nvPr/>
        </p:nvPicPr>
        <p:blipFill>
          <a:blip r:embed="rId3"/>
          <a:stretch/>
        </p:blipFill>
        <p:spPr>
          <a:xfrm>
            <a:off x="1476360" y="2060640"/>
            <a:ext cx="6500880" cy="3006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fart41a"/>
          <p:cNvPicPr/>
          <p:nvPr/>
        </p:nvPicPr>
        <p:blipFill>
          <a:blip r:embed="rId4"/>
          <a:stretch/>
        </p:blipFill>
        <p:spPr>
          <a:xfrm>
            <a:off x="2556000" y="1268280"/>
            <a:ext cx="3984480" cy="47088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7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68" dur="20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0" nodeType="afterEffect" fill="hold" presetClass="exit" presetID="2" presetSubtype="8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5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0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81" dur="2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83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88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9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96" nodeType="afterEffect" fill="hold" presetClass="exit" presetID="2" presetSubtype="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4705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Ю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б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к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а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5" name="Picture 5" descr="0721606b"/>
          <p:cNvPicPr/>
          <p:nvPr/>
        </p:nvPicPr>
        <p:blipFill>
          <a:blip r:embed="rId1"/>
          <a:srcRect l="18117" t="0" r="20275" b="0"/>
          <a:stretch/>
        </p:blipFill>
        <p:spPr>
          <a:xfrm>
            <a:off x="3059280" y="1197000"/>
            <a:ext cx="3168360" cy="5143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0721511b"/>
          <p:cNvPicPr/>
          <p:nvPr/>
        </p:nvPicPr>
        <p:blipFill>
          <a:blip r:embed="rId2"/>
          <a:stretch/>
        </p:blipFill>
        <p:spPr>
          <a:xfrm>
            <a:off x="2843280" y="1197000"/>
            <a:ext cx="3529080" cy="51433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DETAILPTe2WwK0"/>
          <p:cNvPicPr/>
          <p:nvPr/>
        </p:nvPicPr>
        <p:blipFill>
          <a:blip r:embed="rId3"/>
          <a:stretch/>
        </p:blipFill>
        <p:spPr>
          <a:xfrm>
            <a:off x="1979640" y="1268280"/>
            <a:ext cx="5143320" cy="460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DETAILPDzIrK4I"/>
          <p:cNvPicPr/>
          <p:nvPr/>
        </p:nvPicPr>
        <p:blipFill>
          <a:blip r:embed="rId4"/>
          <a:stretch/>
        </p:blipFill>
        <p:spPr>
          <a:xfrm>
            <a:off x="2124000" y="1268280"/>
            <a:ext cx="5143680" cy="4927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16" dur="2000" fill="hold"/>
                                        <p:tgtEl>
                                          <p:spTgt spid="3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3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8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29" dur="2000" fill="hold"/>
                                        <p:tgtEl>
                                          <p:spTgt spid="3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1" nodeType="afterEffect" fill="hold" presetClass="exit" presetID="2" presetSubtype="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6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1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2" dur="2000" fill="hold"/>
                                        <p:tgtEl>
                                          <p:spTgt spid="3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344" nodeType="afterEffect" fill="hold" presetClass="exit" presetID="2" presetSubtype="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49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54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357" nodeType="afterEffect" fill="hold" presetClass="exit" presetID="2" presetSubtype="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Х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а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л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а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т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1" name="Picture 5" descr="154"/>
          <p:cNvPicPr/>
          <p:nvPr/>
        </p:nvPicPr>
        <p:blipFill>
          <a:blip r:embed="rId1"/>
          <a:stretch/>
        </p:blipFill>
        <p:spPr>
          <a:xfrm>
            <a:off x="3059280" y="1268280"/>
            <a:ext cx="3573360" cy="4824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ira2"/>
          <p:cNvPicPr/>
          <p:nvPr/>
        </p:nvPicPr>
        <p:blipFill>
          <a:blip r:embed="rId2"/>
          <a:stretch/>
        </p:blipFill>
        <p:spPr>
          <a:xfrm>
            <a:off x="3419640" y="333360"/>
            <a:ext cx="2803320" cy="6245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ira1"/>
          <p:cNvPicPr/>
          <p:nvPr/>
        </p:nvPicPr>
        <p:blipFill>
          <a:blip r:embed="rId3"/>
          <a:stretch/>
        </p:blipFill>
        <p:spPr>
          <a:xfrm>
            <a:off x="3132000" y="260280"/>
            <a:ext cx="2990880" cy="63072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71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37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78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382" nodeType="afterEffect" fill="hold" presetClass="entr" presetID="18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3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389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4800"/>
                            </p:stCondLst>
                            <p:childTnLst>
                              <p:par>
                                <p:cTn id="393" nodeType="afterEffect" fill="hold" presetClass="entr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39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98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400" nodeType="afterEffect" fill="hold" presetClass="exit" presetID="3" presetSubtype="5">
                                  <p:stCondLst>
                                    <p:cond delay="2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40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Рукоделие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уроках рукоделия мы познакомимся с различными видами вышивки и научимся выполнять изделия, которые украсят наш д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7" descr="littlegirlinwagon"/>
          <p:cNvPicPr/>
          <p:nvPr/>
        </p:nvPicPr>
        <p:blipFill>
          <a:blip r:embed="rId1"/>
          <a:srcRect l="0" t="0" r="0" b="28522"/>
          <a:stretch/>
        </p:blipFill>
        <p:spPr>
          <a:xfrm>
            <a:off x="6012000" y="2565360"/>
            <a:ext cx="2400120" cy="2303640"/>
          </a:xfrm>
          <a:prstGeom prst="rect">
            <a:avLst/>
          </a:prstGeom>
          <a:ln w="0">
            <a:noFill/>
          </a:ln>
        </p:spPr>
      </p:pic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012"/>
          <p:cNvPicPr/>
          <p:nvPr/>
        </p:nvPicPr>
        <p:blipFill>
          <a:blip r:embed="rId1"/>
          <a:stretch/>
        </p:blipFill>
        <p:spPr>
          <a:xfrm>
            <a:off x="2700360" y="333360"/>
            <a:ext cx="4048200" cy="5715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007"/>
          <p:cNvPicPr/>
          <p:nvPr/>
        </p:nvPicPr>
        <p:blipFill>
          <a:blip r:embed="rId2"/>
          <a:stretch/>
        </p:blipFill>
        <p:spPr>
          <a:xfrm>
            <a:off x="1835280" y="476280"/>
            <a:ext cx="6086520" cy="5715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3"/>
          <a:stretch/>
        </p:blipFill>
        <p:spPr>
          <a:xfrm>
            <a:off x="2916360" y="260280"/>
            <a:ext cx="3465360" cy="6356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4"/>
          <a:stretch/>
        </p:blipFill>
        <p:spPr>
          <a:xfrm>
            <a:off x="2843280" y="981000"/>
            <a:ext cx="4381560" cy="4537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justincases"/>
          <p:cNvPicPr/>
          <p:nvPr/>
        </p:nvPicPr>
        <p:blipFill>
          <a:blip r:embed="rId5"/>
          <a:stretch/>
        </p:blipFill>
        <p:spPr>
          <a:xfrm>
            <a:off x="2916360" y="692280"/>
            <a:ext cx="3349440" cy="514332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30" dur="2000" fill="hold"/>
                                        <p:tgtEl>
                                          <p:spTgt spid="3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2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38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46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48" nodeType="afterEffect" fill="hold" presetClass="exit" presetID="35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5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2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73" dur="2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475" nodeType="after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83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48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88" dur="20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490" nodeType="afterEffect" fill="hold" presetClass="exit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495" nodeType="after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499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502" nodeType="afterEffect" fill="hold" presetClass="exit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0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Профессиональное самоопределение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уроках по профессиональному самоопределению мы познакомимся с различными профессиями, узнаем, какие из них наиболее востребованные в обществе, что нужно знать и уметь, чтобы получить ту или иную специаль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7" descr="j0280772"/>
          <p:cNvPicPr/>
          <p:nvPr/>
        </p:nvPicPr>
        <p:blipFill>
          <a:blip r:embed="rId1"/>
          <a:stretch/>
        </p:blipFill>
        <p:spPr>
          <a:xfrm>
            <a:off x="7373880" y="4941720"/>
            <a:ext cx="1473120" cy="1757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j0424160"/>
          <p:cNvPicPr/>
          <p:nvPr/>
        </p:nvPicPr>
        <p:blipFill>
          <a:blip r:embed="rId2"/>
          <a:stretch/>
        </p:blipFill>
        <p:spPr>
          <a:xfrm>
            <a:off x="395280" y="189000"/>
            <a:ext cx="1060560" cy="1815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j0423998"/>
          <p:cNvPicPr/>
          <p:nvPr/>
        </p:nvPicPr>
        <p:blipFill>
          <a:blip r:embed="rId3"/>
          <a:stretch/>
        </p:blipFill>
        <p:spPr>
          <a:xfrm>
            <a:off x="7236000" y="189000"/>
            <a:ext cx="1641240" cy="188280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6"/>
          <p:cNvSpPr txBox="1"/>
          <p:nvPr/>
        </p:nvSpPr>
        <p:spPr>
          <a:xfrm>
            <a:off x="611280" y="260280"/>
            <a:ext cx="8208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лаю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WordArt 7"/>
          <p:cNvSpPr txBox="1"/>
          <p:nvPr/>
        </p:nvSpPr>
        <p:spPr>
          <a:xfrm>
            <a:off x="826920" y="4437000"/>
            <a:ext cx="7920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ачи!</a:t>
            </a:r>
            <a:endParaRPr b="1" lang="en-US" sz="9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3" name="Picture 8" descr="j0433823"/>
          <p:cNvPicPr/>
          <p:nvPr/>
        </p:nvPicPr>
        <p:blipFill>
          <a:blip r:embed="rId5"/>
          <a:stretch/>
        </p:blipFill>
        <p:spPr>
          <a:xfrm>
            <a:off x="3780000" y="2492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989840" cy="188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Мы должны научиться понимать труд, как творчество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5" name="Picture 6" descr="MPj04097130000[1]"/>
          <p:cNvPicPr/>
          <p:nvPr/>
        </p:nvPicPr>
        <p:blipFill>
          <a:blip r:embed="rId1"/>
          <a:stretch/>
        </p:blipFill>
        <p:spPr>
          <a:xfrm>
            <a:off x="2556000" y="2997360"/>
            <a:ext cx="4392360" cy="334152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Модули Технолог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24836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Кулинария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атериаловед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ашиновед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Рукодел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427640" y="1557000"/>
            <a:ext cx="4465440" cy="33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Профессиональное самоопредел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7" descr="j0397482"/>
          <p:cNvPicPr/>
          <p:nvPr/>
        </p:nvPicPr>
        <p:blipFill>
          <a:blip r:embed="rId1"/>
          <a:stretch/>
        </p:blipFill>
        <p:spPr>
          <a:xfrm>
            <a:off x="611280" y="4797360"/>
            <a:ext cx="1825560" cy="17179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Comic Sans MS"/>
              </a:rPr>
              <a:t>Кулинария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39272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Технология приготовления пищ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История различных проду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Сервировка сто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Как украсить блюд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Правила этик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7" descr="picture02"/>
          <p:cNvPicPr/>
          <p:nvPr/>
        </p:nvPicPr>
        <p:blipFill>
          <a:blip r:embed="rId1"/>
          <a:stretch/>
        </p:blipFill>
        <p:spPr>
          <a:xfrm>
            <a:off x="5364000" y="2133720"/>
            <a:ext cx="2851200" cy="324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fd02169_"/>
          <p:cNvPicPr/>
          <p:nvPr/>
        </p:nvPicPr>
        <p:blipFill>
          <a:blip r:embed="rId2"/>
          <a:stretch/>
        </p:blipFill>
        <p:spPr>
          <a:xfrm>
            <a:off x="1187280" y="549360"/>
            <a:ext cx="2162520" cy="7938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96728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«Все, что есть в печи, - на стол мечи», - гласит старинная русская пословица. Что и говорить, любим мы угощать, особенно тем, что приготовлено своими руками. У каждой хозяйки есть какое-то свое заветное блюдо, которым она угощает дорогих гостей. На уроках кулинарии мы учимся, готовить вкусные и полезные блюда, украшать их и правильно подавать на сто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4" descr="материальная 1"/>
          <p:cNvPicPr/>
          <p:nvPr/>
        </p:nvPicPr>
        <p:blipFill>
          <a:blip r:embed="rId1"/>
          <a:stretch/>
        </p:blipFill>
        <p:spPr>
          <a:xfrm>
            <a:off x="5651640" y="1916280"/>
            <a:ext cx="3014640" cy="25239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Бутербродные Фантаз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453708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Такой забавный бутерброд «кит» сделать совсем прост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Верхнюю часть батона надо отрезать наискосок и сделать посередине надрез. Нанести сливочное масло и положить пластинку колбасы – это роти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Из кусочка колбасы делаем хвостик, глазки – из моркови, сверху закрепляем веточку зеленого лу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6" descr="кит"/>
          <p:cNvPicPr/>
          <p:nvPr/>
        </p:nvPicPr>
        <p:blipFill>
          <a:blip r:embed="rId1"/>
          <a:stretch/>
        </p:blipFill>
        <p:spPr>
          <a:xfrm>
            <a:off x="5435640" y="2349360"/>
            <a:ext cx="3313080" cy="27385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771280" y="54900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Материаловеде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792144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Ткани окружают нас в жизни и широко используются в быту. Из них шьют одежду и белье, изготавливают палатки, парашюты, мешки, делают обивку для мебели. Все ли ткани одинаковые, как их изготавливают, из чего делают нитки, что такое волокна – все это мы узнаем на уроках материаловед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8" descr="MCj02809750000[1]"/>
          <p:cNvPicPr/>
          <p:nvPr/>
        </p:nvPicPr>
        <p:blipFill>
          <a:blip r:embed="rId1"/>
          <a:stretch/>
        </p:blipFill>
        <p:spPr>
          <a:xfrm>
            <a:off x="7093080" y="5087880"/>
            <a:ext cx="1881000" cy="1643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MCj02509770000[1]"/>
          <p:cNvPicPr/>
          <p:nvPr/>
        </p:nvPicPr>
        <p:blipFill>
          <a:blip r:embed="rId2"/>
          <a:stretch/>
        </p:blipFill>
        <p:spPr>
          <a:xfrm>
            <a:off x="324000" y="189000"/>
            <a:ext cx="2139840" cy="183348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5616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Машиноведе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Comic Sans MS"/>
              </a:rPr>
              <a:t>На уроках машиноведения мы с вами познакомимся с историей создания швейных машин, узнаем, какие бывают машины и, конечно, научимся на них работ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Cj02344630000[1]"/>
          <p:cNvPicPr/>
          <p:nvPr/>
        </p:nvPicPr>
        <p:blipFill>
          <a:blip r:embed="rId1"/>
          <a:stretch/>
        </p:blipFill>
        <p:spPr>
          <a:xfrm>
            <a:off x="6948360" y="260280"/>
            <a:ext cx="1741680" cy="1611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MCBD07096_0000[1]"/>
          <p:cNvPicPr/>
          <p:nvPr/>
        </p:nvPicPr>
        <p:blipFill>
          <a:blip r:embed="rId2"/>
          <a:stretch/>
        </p:blipFill>
        <p:spPr>
          <a:xfrm>
            <a:off x="468360" y="4869000"/>
            <a:ext cx="2303280" cy="17748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848720" cy="130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5" descr="MCj02344650000[1]"/>
          <p:cNvPicPr/>
          <p:nvPr/>
        </p:nvPicPr>
        <p:blipFill>
          <a:blip r:embed="rId1"/>
          <a:stretch/>
        </p:blipFill>
        <p:spPr>
          <a:xfrm>
            <a:off x="5796000" y="4365720"/>
            <a:ext cx="2184480" cy="17636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23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После того, как мы научимся шить на швейной машине, мы попробуем сами изготовить швейное издел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4:22Z</dcterms:created>
  <dc:creator>Ирина Анатольевна</dc:creator>
  <dc:description/>
  <cp:keywords/>
  <dc:language>en-US</dc:language>
  <cp:lastModifiedBy>LEGION</cp:lastModifiedBy>
  <dcterms:modified xsi:type="dcterms:W3CDTF">2015-03-31T08:41:38Z</dcterms:modified>
  <cp:revision>16</cp:revision>
  <dc:subject/>
  <dc:title>Материальная технолог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91049</vt:lpwstr>
  </property>
</Properties>
</file>