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5E649-F71B-40FD-A225-EF6F455209B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91919"/>
                </a:solidFill>
                <a:latin typeface="Arial"/>
              </a:rPr>
              <a:t>Типы  безработицы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номик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1 клас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DD89B-4010-4F4C-BE97-12820816BDA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уктурная безработица –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явление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4C0B6-D70F-4476-A73D-5E75C2B2060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6600"/>
                </a:solidFill>
                <a:latin typeface="Arial"/>
              </a:rPr>
              <a:t>Циклическая безработиц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представляет собой отклонения от естественного уровня безработицы, связанные с краткосрочными колебаниями экономической активности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4B03F-8FE9-4706-A275-1875FB0E860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cc"/>
                </a:solidFill>
                <a:latin typeface="Arial"/>
              </a:rPr>
              <a:t>Циклическая безработиц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B945E-4E7C-4B2B-849D-F3B70A50024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Последствия безработицы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4A845-2054-4A46-B806-494ABB21CA4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191919"/>
                </a:solidFill>
                <a:latin typeface="Arial"/>
              </a:rPr>
              <a:t>Безработица</a:t>
            </a:r>
            <a:r>
              <a:rPr b="0" i="1" lang="ru-RU" sz="1200" spc="-1" strike="noStrike">
                <a:solidFill>
                  <a:srgbClr val="0033cc"/>
                </a:solidFill>
                <a:latin typeface="Arial"/>
              </a:rPr>
              <a:t> – это ситуация, при которой люди не имеют работу или ожидают начало трудовой деятельности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22853-DF3F-4DB2-844D-44CB97A73B8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ru-RU" sz="2000" spc="-1" strike="noStrike">
                <a:solidFill>
                  <a:srgbClr val="191919"/>
                </a:solidFill>
                <a:latin typeface="Arial"/>
              </a:rPr>
              <a:t>Уровень безработиц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33cc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33cc"/>
                </a:solidFill>
                <a:latin typeface="Arial"/>
              </a:rPr>
              <a:t>численность безработных </a:t>
            </a:r>
            <a:r>
              <a:rPr b="0" lang="ru-RU" sz="12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33cc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33cc"/>
                </a:solidFill>
                <a:latin typeface="Arial"/>
              </a:rPr>
              <a:t>  х 10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33cc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33cc"/>
                </a:solidFill>
                <a:latin typeface="Arial"/>
              </a:rPr>
              <a:t>общая численность рабочей сил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14BC6-C9F5-4C01-8D30-CBFDE53D326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cc"/>
                </a:solidFill>
                <a:latin typeface="Arial"/>
              </a:rPr>
              <a:t>Типы безработиц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6A80B-728B-4E3F-BCD4-5FBE0714422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91919"/>
                </a:solidFill>
                <a:latin typeface="Arial"/>
              </a:rPr>
              <a:t>Фрикционная безработица связана с поиском работы и ожиданием выхода на работ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6593C-27FC-4ED8-A152-849B94DC26F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193F7-50C1-4C01-8447-DE6279A79AB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cc"/>
                </a:solidFill>
                <a:latin typeface="Arial"/>
              </a:rPr>
              <a:t>К фрикционным безработным относятся люди: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cc"/>
                </a:solidFill>
                <a:latin typeface="Arial"/>
              </a:rPr>
              <a:t>Фрикционная безработиц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718B2-DC38-4CD0-B0C2-327A411C55C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ru-RU" sz="1600" spc="-1" strike="noStrike">
                <a:solidFill>
                  <a:srgbClr val="ed3c05"/>
                </a:solidFill>
                <a:latin typeface="Arial"/>
              </a:rPr>
              <a:t>Уровень фрикционной безработиц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cc"/>
                </a:solidFill>
                <a:latin typeface="Arial"/>
              </a:rPr>
              <a:t>количество фрикционных безработны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33cc"/>
                </a:solidFill>
                <a:latin typeface="Arial"/>
              </a:rPr>
              <a:t>х 10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cc"/>
                </a:solidFill>
                <a:latin typeface="Arial"/>
              </a:rPr>
              <a:t>общая численность рабочей сил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5B70B-AE77-4F44-8825-1C2D0EC1EC9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ed3c05"/>
                </a:solidFill>
                <a:latin typeface="Arial"/>
              </a:rPr>
              <a:t>	</a:t>
            </a:r>
            <a:r>
              <a:rPr b="1" lang="ru-RU" sz="1200" spc="-1" strike="noStrike">
                <a:solidFill>
                  <a:srgbClr val="ed3c05"/>
                </a:solidFill>
                <a:latin typeface="Arial"/>
              </a:rPr>
              <a:t>Структурная безработиц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13678-70B7-492F-AC56-30C9F016A14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DD8CB-880D-437E-8341-D4400BD38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77724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3520" y="3837960"/>
            <a:ext cx="77724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4EEE3-D79F-4FE8-B017-102FB5650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352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1620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CD9A9-0FD2-4449-BD94-0ADAAFC9F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1520" y="170172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89160" y="170172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3520" y="383796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1520" y="383796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89160" y="383796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F4AE2-25E8-4B35-ACEA-EA691F29A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967F4-968D-442E-9A1B-545260127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533520" y="1701720"/>
            <a:ext cx="7772400" cy="40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BD6C1-330D-47FD-9B88-23190F8F8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77724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C5D0D-52A0-4726-8CF0-FEFB5DA95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A7DB7-7D12-47EC-8168-B0BB446C3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808F5-BFA4-4D84-8557-3F6393569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533520" y="234720"/>
            <a:ext cx="7772400" cy="52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50BB8-E228-4795-B23C-A56477FDD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3352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9E8F2-B01D-4F12-A0B4-8E817C349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3520" y="1701720"/>
            <a:ext cx="7772400" cy="40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E8060-00CE-48F2-85F8-9CED5C625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1620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170A0-E32D-4589-B7D3-13511C422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33520" y="3837960"/>
            <a:ext cx="77724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AA49D-F44B-43A6-A60D-8F7D50469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77724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33520" y="3837960"/>
            <a:ext cx="77724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FF4A4-8153-4C13-A17F-E070161F8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3352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1620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EA900-AB9B-4867-8C20-C2D89DF02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161520" y="170172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789160" y="170172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533520" y="383796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161520" y="383796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5789160" y="383796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9CEDF-A3A8-4F1E-BC06-141A4381D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BD9342-ECC0-4CF5-A831-C51E4964C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533520" y="1701720"/>
            <a:ext cx="7772400" cy="40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F649A0-1AE2-44FC-B497-87167DCBD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77724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1A2892-7CFD-40A8-AF2B-7DE62777D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1FAEC3-99A3-4241-ACCF-EB9DF712F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C3D213-4E65-4B5E-9A46-9FC9F02AC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77724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9B2EE-10AB-45DB-80D2-B28FE0751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533520" y="234720"/>
            <a:ext cx="7772400" cy="52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7BD4E1-954E-465E-A7B2-AEF332599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3352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973675-2162-4FA3-B43F-EBA1C8C7C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1620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02903D-B046-48CE-8D66-B4E6D8915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533520" y="3837960"/>
            <a:ext cx="77724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1AA3E4-8E35-456A-B962-DD53D661A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77724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33520" y="3837960"/>
            <a:ext cx="77724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1CB8AD-DAA8-411C-971C-0A9BC28F5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3352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51620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C5FA6C-1586-4DA5-9F8E-99C986D2F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161520" y="170172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789160" y="170172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533520" y="383796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161520" y="383796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5789160" y="383796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EB9FF8-0EAA-486D-B898-68667C422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347A15A-598C-49DB-B811-12D23CA65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533520" y="1701720"/>
            <a:ext cx="7772400" cy="40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7486DC3-A7DF-424D-9988-5B8134DAF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77724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B2C2DF6-0BD3-46BE-8A22-3D733CE39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E08DF-58C4-459E-A234-4DAD8F608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85FB0A4-8FAA-47F0-8A31-DB0479149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117016F-66AA-4A5E-ABC2-3F09675A1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533520" y="234720"/>
            <a:ext cx="7772400" cy="52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B6BB00B-D1DE-436E-ABFC-2115CFBB6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53352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EF0C17B-FE53-46DB-A857-5BEC22AF4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1620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155E120-B61F-4B3A-B9DF-BC58049FB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33520" y="3837960"/>
            <a:ext cx="77724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8EFC5D8-92A5-4520-B9A2-FC61DCAD3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77724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533520" y="3837960"/>
            <a:ext cx="77724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A263F0D-4008-4FAC-A719-1780952E7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53352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1620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D266A98-34F3-4940-B5A0-A2DEF5DA2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1520" y="170172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789160" y="170172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533520" y="383796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1520" y="383796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5789160" y="383796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D056232-1B82-4C82-9277-CEA1A3DFA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C5FE36-1D63-480A-AC82-F81B57BC1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624C6-362D-4EE7-9109-F212780FA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533520" y="1701720"/>
            <a:ext cx="7772400" cy="40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964C1C-42F9-47F6-ABF7-70B878BE5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77724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1C4D2A-5C9A-4C8A-8A56-CFDA430BA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9CB491-8553-496B-A4D5-BB55F0C27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550469-4A4E-41B2-8171-27188A63B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533520" y="234720"/>
            <a:ext cx="7772400" cy="52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0A03CA-D453-4BC1-98B7-1FF7461E7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53352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58DDE4-D91F-45CD-8120-E87372AE5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1620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57125D-4962-4DD0-A2A0-3A67CFB1C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533520" y="3837960"/>
            <a:ext cx="77724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36AEAE-3632-4DF8-A882-215FBE301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77724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533520" y="3837960"/>
            <a:ext cx="77724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6B6C38-DCB7-4117-B7FC-02A20E326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3352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51620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1D3A37-0B7D-41DA-8208-B92FEE4B4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3520" y="234720"/>
            <a:ext cx="7772400" cy="52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18EFF-7943-43EF-A64B-1771EF897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1520" y="170172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5789160" y="170172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533520" y="383796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1520" y="383796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5789160" y="383796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D43CEF-159F-4BB5-B0C5-4D6DE4BDD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8E4134-238E-4388-861C-A6C7EAEE6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533520" y="1701720"/>
            <a:ext cx="7772400" cy="40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768CD6-5D1F-4763-A38C-A61065472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77724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C1DF86-930C-4F14-A9A7-318433103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441F2B-040B-4BD3-8510-1E40ABFD9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13A731-EE52-490C-BA0B-44CD3AFC5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533520" y="234720"/>
            <a:ext cx="7772400" cy="52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613658-A8C7-44CD-AA25-933B695E5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53352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0188E3-AA9B-4AED-9BFA-14A1F3CA6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1620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33A14B-A507-429B-B6F9-AF05DC72B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533520" y="3837960"/>
            <a:ext cx="77724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B826D2-4ADC-4DB1-91CF-23C2128D1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352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69EE9-AE8F-4FAF-8988-68DBC4DB3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77724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33520" y="3837960"/>
            <a:ext cx="77724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60B8E5-C603-4F9B-B73B-C7971E706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3352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51620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6DD5AB-8857-4727-A93A-3C3971884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161520" y="170172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5789160" y="170172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533520" y="383796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161520" y="383796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5789160" y="383796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81EF3B-F995-40FF-8C2A-08075162F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F24FA9-BFFD-4E2E-AC09-A24670B0C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533520" y="1701720"/>
            <a:ext cx="7772400" cy="40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9B7CAD-338D-43B0-B130-E28D6A818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77724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53DA53-3138-4997-A0F5-24603B4DB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50363D-1804-43BB-B81C-62098C420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ED131F-2F90-4030-81E6-C73B96387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533520" y="234720"/>
            <a:ext cx="7772400" cy="52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D989DE-BDE0-4FF4-845A-4E3512AB0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53352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D40B2A-6E6B-4053-B263-C44726F52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1620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4542E-8B46-4E48-8E5D-C639608DB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1620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3BAEBB-4B4C-4D15-B860-4C7881EF9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533520" y="3837960"/>
            <a:ext cx="77724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A5ED88-9028-4C29-965D-D67DDA89C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77724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533520" y="3837960"/>
            <a:ext cx="77724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642735-B7DF-420A-ADBD-BFF05C896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3352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1620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FB455C-492C-4F50-9F8D-078FD83FE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161520" y="170172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5789160" y="170172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533520" y="383796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161520" y="383796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5789160" y="383796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5B2CC7-DC89-4798-927C-1DB68CEC9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825E62-10F9-41C4-9B2B-ACA4FCD2D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533520" y="1701720"/>
            <a:ext cx="7772400" cy="40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CD1F75-874E-45DA-9515-D3F31A8DC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77724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8B16F2-9B06-4B5C-A0BF-65596E643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A182AB-2DD2-4C2C-916F-0F8448BE7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127077-6366-4FB6-BA0D-A5234A26E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3520" y="3837960"/>
            <a:ext cx="77724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D0A9F-A653-43CE-8D9F-0319918FE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533520" y="234720"/>
            <a:ext cx="7772400" cy="52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EA04AC-8486-48B7-9770-5F03BB932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3352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27682A-0EE9-421E-AA3D-A2BA02DEC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1620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738453-D422-450E-A7B9-9C5092155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533520" y="3837960"/>
            <a:ext cx="77724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FCC91D-CA05-412C-9E03-4AF234666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77724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533520" y="3837960"/>
            <a:ext cx="77724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9C19D4-1A0A-40F6-BA17-66D8B037E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53352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51620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DB6F44-28A5-4DD0-A316-3DAA20FB7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161520" y="170172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5789160" y="170172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533520" y="383796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161520" y="383796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5789160" y="383796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B74661-9191-4DBB-9E2B-17BCADA83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F4BC0-8084-4B5C-A0FB-B281211B60B9}" type="datetime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42FCF-CA2B-475D-B69D-4D3705292871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-56160" y="-25200"/>
            <a:ext cx="9200160" cy="2082600"/>
            <a:chOff x="-56160" y="-25200"/>
            <a:chExt cx="9200160" cy="2082600"/>
          </a:xfrm>
        </p:grpSpPr>
        <p:grpSp>
          <p:nvGrpSpPr>
            <p:cNvPr id="42" name="Group 3"/>
            <p:cNvGrpSpPr/>
            <p:nvPr/>
          </p:nvGrpSpPr>
          <p:grpSpPr>
            <a:xfrm>
              <a:off x="-56160" y="-25200"/>
              <a:ext cx="2832840" cy="1098000"/>
              <a:chOff x="-56160" y="-25200"/>
              <a:chExt cx="2832840" cy="1098000"/>
            </a:xfrm>
          </p:grpSpPr>
          <p:sp>
            <p:nvSpPr>
              <p:cNvPr id="43" name="Arc 4"/>
              <p:cNvSpPr/>
              <p:nvPr/>
            </p:nvSpPr>
            <p:spPr>
              <a:xfrm flipV="1" rot="459000">
                <a:off x="154080" y="-2880"/>
                <a:ext cx="108000" cy="874800"/>
              </a:xfrm>
              <a:custGeom>
                <a:avLst/>
                <a:gdLst/>
                <a:ahLst/>
                <a:rect l="l" t="t" r="r" b="b"/>
                <a:pathLst>
                  <a:path fill="none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</a:path>
                  <a:path stroke="0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  <a:lnTo>
                      <a:pt x="21569" y="21600"/>
                    </a:lnTo>
                    <a:lnTo>
                      <a:pt x="-1" y="204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6b151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" name="Arc 5"/>
              <p:cNvSpPr/>
              <p:nvPr/>
            </p:nvSpPr>
            <p:spPr>
              <a:xfrm flipV="1" rot="19293000">
                <a:off x="304200" y="-720"/>
                <a:ext cx="108000" cy="533520"/>
              </a:xfrm>
              <a:custGeom>
                <a:avLst/>
                <a:gdLst/>
                <a:ahLst/>
                <a:rect l="l" t="t" r="r" b="b"/>
                <a:pathLst>
                  <a:path fill="none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</a:path>
                  <a:path stroke="0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  <a:lnTo>
                      <a:pt x="21569" y="21600"/>
                    </a:lnTo>
                    <a:lnTo>
                      <a:pt x="-1" y="204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6b151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Arc 6"/>
              <p:cNvSpPr/>
              <p:nvPr/>
            </p:nvSpPr>
            <p:spPr>
              <a:xfrm flipV="1" rot="19635600">
                <a:off x="533520" y="-31320"/>
                <a:ext cx="108000" cy="914400"/>
              </a:xfrm>
              <a:custGeom>
                <a:avLst/>
                <a:gdLst/>
                <a:ahLst/>
                <a:rect l="l" t="t" r="r" b="b"/>
                <a:pathLst>
                  <a:path fill="none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</a:path>
                  <a:path stroke="0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  <a:lnTo>
                      <a:pt x="21569" y="21600"/>
                    </a:lnTo>
                    <a:lnTo>
                      <a:pt x="-1" y="204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6b151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" name="Arc 7"/>
              <p:cNvSpPr/>
              <p:nvPr/>
            </p:nvSpPr>
            <p:spPr>
              <a:xfrm flipV="1" rot="20128800">
                <a:off x="304200" y="0"/>
                <a:ext cx="108000" cy="685800"/>
              </a:xfrm>
              <a:custGeom>
                <a:avLst/>
                <a:gdLst/>
                <a:ahLst/>
                <a:rect l="l" t="t" r="r" b="b"/>
                <a:pathLst>
                  <a:path fill="none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</a:path>
                  <a:path stroke="0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  <a:lnTo>
                      <a:pt x="21569" y="21600"/>
                    </a:lnTo>
                    <a:lnTo>
                      <a:pt x="-1" y="204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6b151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Arc 8"/>
              <p:cNvSpPr/>
              <p:nvPr/>
            </p:nvSpPr>
            <p:spPr>
              <a:xfrm flipV="1" rot="19635600">
                <a:off x="609480" y="0"/>
                <a:ext cx="87120" cy="728640"/>
              </a:xfrm>
              <a:custGeom>
                <a:avLst/>
                <a:gdLst/>
                <a:ahLst/>
                <a:rect l="l" t="t" r="r" b="b"/>
                <a:pathLst>
                  <a:path fill="none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</a:path>
                  <a:path stroke="0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  <a:lnTo>
                      <a:pt x="21569" y="21600"/>
                    </a:lnTo>
                    <a:lnTo>
                      <a:pt x="-1" y="204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6b151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Arc 9"/>
              <p:cNvSpPr/>
              <p:nvPr/>
            </p:nvSpPr>
            <p:spPr>
              <a:xfrm flipV="1" rot="19635600">
                <a:off x="914040" y="0"/>
                <a:ext cx="90360" cy="576360"/>
              </a:xfrm>
              <a:custGeom>
                <a:avLst/>
                <a:gdLst/>
                <a:ahLst/>
                <a:rect l="l" t="t" r="r" b="b"/>
                <a:pathLst>
                  <a:path fill="none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</a:path>
                  <a:path stroke="0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  <a:lnTo>
                      <a:pt x="21569" y="21600"/>
                    </a:lnTo>
                    <a:lnTo>
                      <a:pt x="-1" y="204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6b151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" name="Arc 10"/>
              <p:cNvSpPr/>
              <p:nvPr/>
            </p:nvSpPr>
            <p:spPr>
              <a:xfrm flipV="1" rot="19635600">
                <a:off x="1167840" y="-63000"/>
                <a:ext cx="74520" cy="936360"/>
              </a:xfrm>
              <a:custGeom>
                <a:avLst/>
                <a:gdLst/>
                <a:ahLst/>
                <a:rect l="l" t="t" r="r" b="b"/>
                <a:pathLst>
                  <a:path fill="none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</a:path>
                  <a:path stroke="0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  <a:lnTo>
                      <a:pt x="21569" y="21600"/>
                    </a:lnTo>
                    <a:lnTo>
                      <a:pt x="-1" y="204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6b151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Arc 11"/>
              <p:cNvSpPr/>
              <p:nvPr/>
            </p:nvSpPr>
            <p:spPr>
              <a:xfrm flipV="1" rot="19779600">
                <a:off x="825840" y="-15120"/>
                <a:ext cx="114480" cy="925560"/>
              </a:xfrm>
              <a:custGeom>
                <a:avLst/>
                <a:gdLst/>
                <a:ahLst/>
                <a:rect l="l" t="t" r="r" b="b"/>
                <a:pathLst>
                  <a:path fill="none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</a:path>
                  <a:path stroke="0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  <a:lnTo>
                      <a:pt x="21569" y="21600"/>
                    </a:lnTo>
                    <a:lnTo>
                      <a:pt x="-1" y="204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6b151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Arc 12"/>
              <p:cNvSpPr/>
              <p:nvPr/>
            </p:nvSpPr>
            <p:spPr>
              <a:xfrm flipV="1" rot="19084800">
                <a:off x="1476000" y="-96840"/>
                <a:ext cx="100080" cy="979560"/>
              </a:xfrm>
              <a:custGeom>
                <a:avLst/>
                <a:gdLst/>
                <a:ahLst/>
                <a:rect l="l" t="t" r="r" b="b"/>
                <a:pathLst>
                  <a:path fill="none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</a:path>
                  <a:path stroke="0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  <a:lnTo>
                      <a:pt x="21569" y="21600"/>
                    </a:lnTo>
                    <a:lnTo>
                      <a:pt x="-1" y="204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6b151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Arc 13"/>
              <p:cNvSpPr/>
              <p:nvPr/>
            </p:nvSpPr>
            <p:spPr>
              <a:xfrm flipV="1" rot="1431000">
                <a:off x="1323720" y="-48240"/>
                <a:ext cx="91800" cy="968400"/>
              </a:xfrm>
              <a:custGeom>
                <a:avLst/>
                <a:gdLst/>
                <a:ahLst/>
                <a:rect l="l" t="t" r="r" b="b"/>
                <a:pathLst>
                  <a:path fill="none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</a:path>
                  <a:path stroke="0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  <a:lnTo>
                      <a:pt x="21569" y="21600"/>
                    </a:lnTo>
                    <a:lnTo>
                      <a:pt x="-1" y="204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6b151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Arc 14"/>
              <p:cNvSpPr/>
              <p:nvPr/>
            </p:nvSpPr>
            <p:spPr>
              <a:xfrm flipV="1" rot="459000">
                <a:off x="1312560" y="-6120"/>
                <a:ext cx="100080" cy="758880"/>
              </a:xfrm>
              <a:custGeom>
                <a:avLst/>
                <a:gdLst/>
                <a:ahLst/>
                <a:rect l="l" t="t" r="r" b="b"/>
                <a:pathLst>
                  <a:path fill="none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</a:path>
                  <a:path stroke="0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  <a:lnTo>
                      <a:pt x="21569" y="21600"/>
                    </a:lnTo>
                    <a:lnTo>
                      <a:pt x="-1" y="204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6b151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Arc 15"/>
              <p:cNvSpPr/>
              <p:nvPr/>
            </p:nvSpPr>
            <p:spPr>
              <a:xfrm flipV="1" rot="18784200">
                <a:off x="1793880" y="-108720"/>
                <a:ext cx="85680" cy="905040"/>
              </a:xfrm>
              <a:custGeom>
                <a:avLst/>
                <a:gdLst/>
                <a:ahLst/>
                <a:rect l="l" t="t" r="r" b="b"/>
                <a:pathLst>
                  <a:path fill="none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</a:path>
                  <a:path stroke="0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  <a:lnTo>
                      <a:pt x="21569" y="21600"/>
                    </a:lnTo>
                    <a:lnTo>
                      <a:pt x="-1" y="204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6b151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Arc 16"/>
              <p:cNvSpPr/>
              <p:nvPr/>
            </p:nvSpPr>
            <p:spPr>
              <a:xfrm flipV="1" rot="19015800">
                <a:off x="1980720" y="-52920"/>
                <a:ext cx="98640" cy="641520"/>
              </a:xfrm>
              <a:custGeom>
                <a:avLst/>
                <a:gdLst/>
                <a:ahLst/>
                <a:rect l="l" t="t" r="r" b="b"/>
                <a:pathLst>
                  <a:path fill="none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</a:path>
                  <a:path stroke="0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  <a:lnTo>
                      <a:pt x="21569" y="21600"/>
                    </a:lnTo>
                    <a:lnTo>
                      <a:pt x="-1" y="204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6b151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Arc 17"/>
              <p:cNvSpPr/>
              <p:nvPr/>
            </p:nvSpPr>
            <p:spPr>
              <a:xfrm flipV="1" rot="19962600">
                <a:off x="2341800" y="-9720"/>
                <a:ext cx="74880" cy="478080"/>
              </a:xfrm>
              <a:custGeom>
                <a:avLst/>
                <a:gdLst/>
                <a:ahLst/>
                <a:rect l="l" t="t" r="r" b="b"/>
                <a:pathLst>
                  <a:path fill="none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</a:path>
                  <a:path stroke="0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  <a:lnTo>
                      <a:pt x="21569" y="21600"/>
                    </a:lnTo>
                    <a:lnTo>
                      <a:pt x="-1" y="204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6b151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Arc 18"/>
              <p:cNvSpPr/>
              <p:nvPr/>
            </p:nvSpPr>
            <p:spPr>
              <a:xfrm flipV="1" rot="19369200">
                <a:off x="2530080" y="-6480"/>
                <a:ext cx="106560" cy="498600"/>
              </a:xfrm>
              <a:custGeom>
                <a:avLst/>
                <a:gdLst/>
                <a:ahLst/>
                <a:rect l="l" t="t" r="r" b="b"/>
                <a:pathLst>
                  <a:path fill="none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</a:path>
                  <a:path stroke="0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  <a:lnTo>
                      <a:pt x="21569" y="21600"/>
                    </a:lnTo>
                    <a:lnTo>
                      <a:pt x="-1" y="204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6b151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Arc 19"/>
              <p:cNvSpPr/>
              <p:nvPr/>
            </p:nvSpPr>
            <p:spPr>
              <a:xfrm flipV="1" rot="19964400">
                <a:off x="229320" y="-32400"/>
                <a:ext cx="108000" cy="1143360"/>
              </a:xfrm>
              <a:custGeom>
                <a:avLst/>
                <a:gdLst/>
                <a:ahLst/>
                <a:rect l="l" t="t" r="r" b="b"/>
                <a:pathLst>
                  <a:path fill="none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</a:path>
                  <a:path stroke="0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  <a:lnTo>
                      <a:pt x="21569" y="21600"/>
                    </a:lnTo>
                    <a:lnTo>
                      <a:pt x="-1" y="204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6b151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Arc 20"/>
              <p:cNvSpPr/>
              <p:nvPr/>
            </p:nvSpPr>
            <p:spPr>
              <a:xfrm flipV="1" rot="20128800">
                <a:off x="1098720" y="-720"/>
                <a:ext cx="88560" cy="363600"/>
              </a:xfrm>
              <a:custGeom>
                <a:avLst/>
                <a:gdLst/>
                <a:ahLst/>
                <a:rect l="l" t="t" r="r" b="b"/>
                <a:pathLst>
                  <a:path fill="none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</a:path>
                  <a:path stroke="0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  <a:lnTo>
                      <a:pt x="21569" y="21600"/>
                    </a:lnTo>
                    <a:lnTo>
                      <a:pt x="-1" y="204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6b151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Arc 21"/>
              <p:cNvSpPr/>
              <p:nvPr/>
            </p:nvSpPr>
            <p:spPr>
              <a:xfrm flipV="1" rot="17749800">
                <a:off x="2284200" y="-160200"/>
                <a:ext cx="98280" cy="736200"/>
              </a:xfrm>
              <a:custGeom>
                <a:avLst/>
                <a:gdLst/>
                <a:ahLst/>
                <a:rect l="l" t="t" r="r" b="b"/>
                <a:pathLst>
                  <a:path fill="none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</a:path>
                  <a:path stroke="0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  <a:lnTo>
                      <a:pt x="21569" y="21600"/>
                    </a:lnTo>
                    <a:lnTo>
                      <a:pt x="-1" y="204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6b151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Arc 22"/>
              <p:cNvSpPr/>
              <p:nvPr/>
            </p:nvSpPr>
            <p:spPr>
              <a:xfrm flipV="1" rot="20418000">
                <a:off x="82080" y="227880"/>
                <a:ext cx="108000" cy="838080"/>
              </a:xfrm>
              <a:custGeom>
                <a:avLst/>
                <a:gdLst/>
                <a:ahLst/>
                <a:rect l="l" t="t" r="r" b="b"/>
                <a:pathLst>
                  <a:path fill="none" w="42881" h="21600">
                    <a:moveTo>
                      <a:pt x="0" y="17901"/>
                    </a:moveTo>
                    <a:cubicBezTo>
                      <a:pt x="1798" y="7553"/>
                      <a:pt x="10778" y="-1"/>
                      <a:pt x="21281" y="0"/>
                    </a:cubicBezTo>
                    <a:cubicBezTo>
                      <a:pt x="33210" y="0"/>
                      <a:pt x="42881" y="9670"/>
                      <a:pt x="42881" y="21600"/>
                    </a:cubicBezTo>
                  </a:path>
                  <a:path stroke="0" w="42881" h="21600">
                    <a:moveTo>
                      <a:pt x="0" y="17901"/>
                    </a:moveTo>
                    <a:cubicBezTo>
                      <a:pt x="1798" y="7553"/>
                      <a:pt x="10778" y="-1"/>
                      <a:pt x="21281" y="0"/>
                    </a:cubicBezTo>
                    <a:cubicBezTo>
                      <a:pt x="33210" y="0"/>
                      <a:pt x="42881" y="9670"/>
                      <a:pt x="42881" y="21600"/>
                    </a:cubicBezTo>
                    <a:lnTo>
                      <a:pt x="21281" y="21600"/>
                    </a:lnTo>
                    <a:lnTo>
                      <a:pt x="0" y="179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6b151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" name="Group 23"/>
            <p:cNvGrpSpPr/>
            <p:nvPr/>
          </p:nvGrpSpPr>
          <p:grpSpPr>
            <a:xfrm>
              <a:off x="603360" y="304920"/>
              <a:ext cx="768240" cy="1752480"/>
              <a:chOff x="603360" y="304920"/>
              <a:chExt cx="768240" cy="1752480"/>
            </a:xfrm>
          </p:grpSpPr>
          <p:sp>
            <p:nvSpPr>
              <p:cNvPr id="63" name="Rectangle 24"/>
              <p:cNvSpPr/>
              <p:nvPr/>
            </p:nvSpPr>
            <p:spPr>
              <a:xfrm rot="16200000">
                <a:off x="97920" y="1169280"/>
                <a:ext cx="1752480" cy="23760"/>
              </a:xfrm>
              <a:prstGeom prst="rect">
                <a:avLst/>
              </a:prstGeom>
              <a:gradFill rotWithShape="0">
                <a:gsLst>
                  <a:gs pos="0">
                    <a:srgbClr val="d0a858"/>
                  </a:gs>
                  <a:gs pos="50000">
                    <a:srgbClr val="808080"/>
                  </a:gs>
                  <a:gs pos="100000">
                    <a:srgbClr val="d0a85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Rectangle 25"/>
              <p:cNvSpPr/>
              <p:nvPr/>
            </p:nvSpPr>
            <p:spPr>
              <a:xfrm rot="5400000">
                <a:off x="974520" y="798480"/>
                <a:ext cx="25560" cy="768240"/>
              </a:xfrm>
              <a:prstGeom prst="rect">
                <a:avLst/>
              </a:prstGeom>
              <a:gradFill rotWithShape="0">
                <a:gsLst>
                  <a:gs pos="0">
                    <a:srgbClr val="d0a858"/>
                  </a:gs>
                  <a:gs pos="50000">
                    <a:srgbClr val="808080"/>
                  </a:gs>
                  <a:gs pos="100000">
                    <a:srgbClr val="d0a85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Oval 26"/>
              <p:cNvSpPr/>
              <p:nvPr/>
            </p:nvSpPr>
            <p:spPr>
              <a:xfrm rot="16200000">
                <a:off x="660600" y="873000"/>
                <a:ext cx="623880" cy="623880"/>
              </a:xfrm>
              <a:prstGeom prst="ellipse">
                <a:avLst/>
              </a:prstGeom>
              <a:noFill/>
              <a:ln w="9360">
                <a:solidFill>
                  <a:srgbClr val="d0a85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66" name="Picture 27" descr="Safnavvd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130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c6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c6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99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66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37d8a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66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d0a858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66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66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c6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B6BA5-A75A-4D86-9BF0-95D923915704}" type="datetime">
              <a:rPr b="0" lang="ru-RU" sz="1400" spc="-1" strike="noStrike">
                <a:solidFill>
                  <a:srgbClr val="ec6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c6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c6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c6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B2D20-34DC-4CE3-96B4-85E8DD2560DB}" type="slidenum">
              <a:rPr b="0" lang="ru-RU" sz="1400" spc="-1" strike="noStrike">
                <a:solidFill>
                  <a:srgbClr val="ec6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" name="Group 2"/>
          <p:cNvGrpSpPr/>
          <p:nvPr/>
        </p:nvGrpSpPr>
        <p:grpSpPr>
          <a:xfrm>
            <a:off x="0" y="6480"/>
            <a:ext cx="9144000" cy="6267240"/>
            <a:chOff x="0" y="6480"/>
            <a:chExt cx="9144000" cy="6267240"/>
          </a:xfrm>
        </p:grpSpPr>
        <p:sp>
          <p:nvSpPr>
            <p:cNvPr id="109" name="Rectangle 3"/>
            <p:cNvSpPr/>
            <p:nvPr/>
          </p:nvSpPr>
          <p:spPr>
            <a:xfrm>
              <a:off x="0" y="6480"/>
              <a:ext cx="8567640" cy="62672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Rectangle 4"/>
            <p:cNvSpPr/>
            <p:nvPr/>
          </p:nvSpPr>
          <p:spPr>
            <a:xfrm>
              <a:off x="474840" y="1482840"/>
              <a:ext cx="8669160" cy="8568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533520" y="1701720"/>
            <a:ext cx="77724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7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2A87E-F71E-479F-AC9E-02143F989345}" type="datetime">
              <a:rPr b="0" lang="ru-RU" sz="1400" spc="-1" strike="noStrike">
                <a:solidFill>
                  <a:srgbClr val="0033cc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8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9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A7313-FE2D-43D7-8DD8-C26B9FE61CD4}" type="slidenum">
              <a:rPr b="0" lang="ru-RU" sz="14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ftr" idx="1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F77B7-C0EA-4768-9C65-87C71A918578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55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cc66e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fcc6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fcc6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fba3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fcc6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fba3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fba3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4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fba313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fba313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 type="dt" idx="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7CA65-FF10-4D4E-B920-6E82B38DBEBC}" type="datetime">
              <a:rPr b="0" lang="ru-RU" sz="12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dt" idx="13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237A5-6B2D-4763-8277-73752825D961}" type="datetime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 type="ftr" idx="14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 type="sldNum" idx="15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CE2C0-F9FC-43AF-B4A9-3D30BE4BB6B2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4" name="Group 2"/>
          <p:cNvGrpSpPr/>
          <p:nvPr/>
        </p:nvGrpSpPr>
        <p:grpSpPr>
          <a:xfrm>
            <a:off x="0" y="2971800"/>
            <a:ext cx="9144000" cy="1298160"/>
            <a:chOff x="0" y="2971800"/>
            <a:chExt cx="9144000" cy="1298160"/>
          </a:xfrm>
        </p:grpSpPr>
        <p:grpSp>
          <p:nvGrpSpPr>
            <p:cNvPr id="245" name="Group 3"/>
            <p:cNvGrpSpPr/>
            <p:nvPr/>
          </p:nvGrpSpPr>
          <p:grpSpPr>
            <a:xfrm>
              <a:off x="1823760" y="3120120"/>
              <a:ext cx="5467680" cy="1149840"/>
              <a:chOff x="1823760" y="3120120"/>
              <a:chExt cx="5467680" cy="1149840"/>
            </a:xfrm>
          </p:grpSpPr>
          <p:sp>
            <p:nvSpPr>
              <p:cNvPr id="246" name="Arc 4"/>
              <p:cNvSpPr/>
              <p:nvPr/>
            </p:nvSpPr>
            <p:spPr>
              <a:xfrm flipH="1" flipV="1" rot="2307000">
                <a:off x="4215600" y="3141360"/>
                <a:ext cx="108000" cy="533520"/>
              </a:xfrm>
              <a:custGeom>
                <a:avLst/>
                <a:gdLst/>
                <a:ahLst/>
                <a:rect l="l" t="t" r="r" b="b"/>
                <a:pathLst>
                  <a:path fill="none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</a:path>
                  <a:path stroke="0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  <a:lnTo>
                      <a:pt x="21569" y="21600"/>
                    </a:lnTo>
                    <a:lnTo>
                      <a:pt x="-1" y="204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6b151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7" name="Group 5"/>
              <p:cNvGrpSpPr/>
              <p:nvPr/>
            </p:nvGrpSpPr>
            <p:grpSpPr>
              <a:xfrm>
                <a:off x="4458960" y="3137400"/>
                <a:ext cx="2832480" cy="1096920"/>
                <a:chOff x="4458960" y="3137400"/>
                <a:chExt cx="2832480" cy="1096920"/>
              </a:xfrm>
            </p:grpSpPr>
            <p:sp>
              <p:nvSpPr>
                <p:cNvPr id="248" name="Arc 6"/>
                <p:cNvSpPr/>
                <p:nvPr/>
              </p:nvSpPr>
              <p:spPr>
                <a:xfrm flipV="1" rot="459000">
                  <a:off x="4668840" y="3158280"/>
                  <a:ext cx="108000" cy="874440"/>
                </a:xfrm>
                <a:custGeom>
                  <a:avLst/>
                  <a:gdLst/>
                  <a:ahLst/>
                  <a:rect l="l" t="t" r="r" b="b"/>
                  <a:pathLst>
                    <a:path fill="none" w="43169" h="21600">
                      <a:moveTo>
                        <a:pt x="-1" y="20446"/>
                      </a:moveTo>
                      <a:cubicBezTo>
                        <a:pt x="612" y="8982"/>
                        <a:pt x="10087" y="-1"/>
                        <a:pt x="21569" y="0"/>
                      </a:cubicBezTo>
                      <a:cubicBezTo>
                        <a:pt x="33498" y="0"/>
                        <a:pt x="43169" y="9670"/>
                        <a:pt x="43169" y="21600"/>
                      </a:cubicBezTo>
                    </a:path>
                    <a:path stroke="0" w="43169" h="21600">
                      <a:moveTo>
                        <a:pt x="-1" y="20446"/>
                      </a:moveTo>
                      <a:cubicBezTo>
                        <a:pt x="612" y="8982"/>
                        <a:pt x="10087" y="-1"/>
                        <a:pt x="21569" y="0"/>
                      </a:cubicBezTo>
                      <a:cubicBezTo>
                        <a:pt x="33498" y="0"/>
                        <a:pt x="43169" y="9670"/>
                        <a:pt x="43169" y="21600"/>
                      </a:cubicBezTo>
                      <a:lnTo>
                        <a:pt x="21569" y="21600"/>
                      </a:lnTo>
                      <a:lnTo>
                        <a:pt x="-1" y="2044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6b151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Arc 7"/>
                <p:cNvSpPr/>
                <p:nvPr/>
              </p:nvSpPr>
              <p:spPr>
                <a:xfrm flipV="1" rot="19293000">
                  <a:off x="4819320" y="3161880"/>
                  <a:ext cx="108000" cy="532800"/>
                </a:xfrm>
                <a:custGeom>
                  <a:avLst/>
                  <a:gdLst/>
                  <a:ahLst/>
                  <a:rect l="l" t="t" r="r" b="b"/>
                  <a:pathLst>
                    <a:path fill="none" w="43169" h="21600">
                      <a:moveTo>
                        <a:pt x="-1" y="20446"/>
                      </a:moveTo>
                      <a:cubicBezTo>
                        <a:pt x="612" y="8982"/>
                        <a:pt x="10087" y="-1"/>
                        <a:pt x="21569" y="0"/>
                      </a:cubicBezTo>
                      <a:cubicBezTo>
                        <a:pt x="33498" y="0"/>
                        <a:pt x="43169" y="9670"/>
                        <a:pt x="43169" y="21600"/>
                      </a:cubicBezTo>
                    </a:path>
                    <a:path stroke="0" w="43169" h="21600">
                      <a:moveTo>
                        <a:pt x="-1" y="20446"/>
                      </a:moveTo>
                      <a:cubicBezTo>
                        <a:pt x="612" y="8982"/>
                        <a:pt x="10087" y="-1"/>
                        <a:pt x="21569" y="0"/>
                      </a:cubicBezTo>
                      <a:cubicBezTo>
                        <a:pt x="33498" y="0"/>
                        <a:pt x="43169" y="9670"/>
                        <a:pt x="43169" y="21600"/>
                      </a:cubicBezTo>
                      <a:lnTo>
                        <a:pt x="21569" y="21600"/>
                      </a:lnTo>
                      <a:lnTo>
                        <a:pt x="-1" y="2044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6b151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Arc 8"/>
                <p:cNvSpPr/>
                <p:nvPr/>
              </p:nvSpPr>
              <p:spPr>
                <a:xfrm flipV="1" rot="19635600">
                  <a:off x="5047920" y="3130200"/>
                  <a:ext cx="108000" cy="914040"/>
                </a:xfrm>
                <a:custGeom>
                  <a:avLst/>
                  <a:gdLst/>
                  <a:ahLst/>
                  <a:rect l="l" t="t" r="r" b="b"/>
                  <a:pathLst>
                    <a:path fill="none" w="43169" h="21600">
                      <a:moveTo>
                        <a:pt x="-1" y="20446"/>
                      </a:moveTo>
                      <a:cubicBezTo>
                        <a:pt x="612" y="8982"/>
                        <a:pt x="10087" y="-1"/>
                        <a:pt x="21569" y="0"/>
                      </a:cubicBezTo>
                      <a:cubicBezTo>
                        <a:pt x="33498" y="0"/>
                        <a:pt x="43169" y="9670"/>
                        <a:pt x="43169" y="21600"/>
                      </a:cubicBezTo>
                    </a:path>
                    <a:path stroke="0" w="43169" h="21600">
                      <a:moveTo>
                        <a:pt x="-1" y="20446"/>
                      </a:moveTo>
                      <a:cubicBezTo>
                        <a:pt x="612" y="8982"/>
                        <a:pt x="10087" y="-1"/>
                        <a:pt x="21569" y="0"/>
                      </a:cubicBezTo>
                      <a:cubicBezTo>
                        <a:pt x="33498" y="0"/>
                        <a:pt x="43169" y="9670"/>
                        <a:pt x="43169" y="21600"/>
                      </a:cubicBezTo>
                      <a:lnTo>
                        <a:pt x="21569" y="21600"/>
                      </a:lnTo>
                      <a:lnTo>
                        <a:pt x="-1" y="2044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6b151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Arc 9"/>
                <p:cNvSpPr/>
                <p:nvPr/>
              </p:nvSpPr>
              <p:spPr>
                <a:xfrm flipV="1" rot="20128800">
                  <a:off x="4819320" y="3162240"/>
                  <a:ext cx="108000" cy="685440"/>
                </a:xfrm>
                <a:custGeom>
                  <a:avLst/>
                  <a:gdLst/>
                  <a:ahLst/>
                  <a:rect l="l" t="t" r="r" b="b"/>
                  <a:pathLst>
                    <a:path fill="none" w="43169" h="21600">
                      <a:moveTo>
                        <a:pt x="-1" y="20446"/>
                      </a:moveTo>
                      <a:cubicBezTo>
                        <a:pt x="612" y="8982"/>
                        <a:pt x="10087" y="-1"/>
                        <a:pt x="21569" y="0"/>
                      </a:cubicBezTo>
                      <a:cubicBezTo>
                        <a:pt x="33498" y="0"/>
                        <a:pt x="43169" y="9670"/>
                        <a:pt x="43169" y="21600"/>
                      </a:cubicBezTo>
                    </a:path>
                    <a:path stroke="0" w="43169" h="21600">
                      <a:moveTo>
                        <a:pt x="-1" y="20446"/>
                      </a:moveTo>
                      <a:cubicBezTo>
                        <a:pt x="612" y="8982"/>
                        <a:pt x="10087" y="-1"/>
                        <a:pt x="21569" y="0"/>
                      </a:cubicBezTo>
                      <a:cubicBezTo>
                        <a:pt x="33498" y="0"/>
                        <a:pt x="43169" y="9670"/>
                        <a:pt x="43169" y="21600"/>
                      </a:cubicBezTo>
                      <a:lnTo>
                        <a:pt x="21569" y="21600"/>
                      </a:lnTo>
                      <a:lnTo>
                        <a:pt x="-1" y="2044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6b151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Arc 10"/>
                <p:cNvSpPr/>
                <p:nvPr/>
              </p:nvSpPr>
              <p:spPr>
                <a:xfrm flipV="1" rot="19635600">
                  <a:off x="5124240" y="3161160"/>
                  <a:ext cx="87120" cy="728280"/>
                </a:xfrm>
                <a:custGeom>
                  <a:avLst/>
                  <a:gdLst/>
                  <a:ahLst/>
                  <a:rect l="l" t="t" r="r" b="b"/>
                  <a:pathLst>
                    <a:path fill="none" w="43169" h="21600">
                      <a:moveTo>
                        <a:pt x="-1" y="20446"/>
                      </a:moveTo>
                      <a:cubicBezTo>
                        <a:pt x="612" y="8982"/>
                        <a:pt x="10087" y="-1"/>
                        <a:pt x="21569" y="0"/>
                      </a:cubicBezTo>
                      <a:cubicBezTo>
                        <a:pt x="33498" y="0"/>
                        <a:pt x="43169" y="9670"/>
                        <a:pt x="43169" y="21600"/>
                      </a:cubicBezTo>
                    </a:path>
                    <a:path stroke="0" w="43169" h="21600">
                      <a:moveTo>
                        <a:pt x="-1" y="20446"/>
                      </a:moveTo>
                      <a:cubicBezTo>
                        <a:pt x="612" y="8982"/>
                        <a:pt x="10087" y="-1"/>
                        <a:pt x="21569" y="0"/>
                      </a:cubicBezTo>
                      <a:cubicBezTo>
                        <a:pt x="33498" y="0"/>
                        <a:pt x="43169" y="9670"/>
                        <a:pt x="43169" y="21600"/>
                      </a:cubicBezTo>
                      <a:lnTo>
                        <a:pt x="21569" y="21600"/>
                      </a:lnTo>
                      <a:lnTo>
                        <a:pt x="-1" y="2044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6b151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Arc 11"/>
                <p:cNvSpPr/>
                <p:nvPr/>
              </p:nvSpPr>
              <p:spPr>
                <a:xfrm flipV="1" rot="19635600">
                  <a:off x="5428800" y="3161880"/>
                  <a:ext cx="90360" cy="576000"/>
                </a:xfrm>
                <a:custGeom>
                  <a:avLst/>
                  <a:gdLst/>
                  <a:ahLst/>
                  <a:rect l="l" t="t" r="r" b="b"/>
                  <a:pathLst>
                    <a:path fill="none" w="43169" h="21600">
                      <a:moveTo>
                        <a:pt x="-1" y="20446"/>
                      </a:moveTo>
                      <a:cubicBezTo>
                        <a:pt x="612" y="8982"/>
                        <a:pt x="10087" y="-1"/>
                        <a:pt x="21569" y="0"/>
                      </a:cubicBezTo>
                      <a:cubicBezTo>
                        <a:pt x="33498" y="0"/>
                        <a:pt x="43169" y="9670"/>
                        <a:pt x="43169" y="21600"/>
                      </a:cubicBezTo>
                    </a:path>
                    <a:path stroke="0" w="43169" h="21600">
                      <a:moveTo>
                        <a:pt x="-1" y="20446"/>
                      </a:moveTo>
                      <a:cubicBezTo>
                        <a:pt x="612" y="8982"/>
                        <a:pt x="10087" y="-1"/>
                        <a:pt x="21569" y="0"/>
                      </a:cubicBezTo>
                      <a:cubicBezTo>
                        <a:pt x="33498" y="0"/>
                        <a:pt x="43169" y="9670"/>
                        <a:pt x="43169" y="21600"/>
                      </a:cubicBezTo>
                      <a:lnTo>
                        <a:pt x="21569" y="21600"/>
                      </a:lnTo>
                      <a:lnTo>
                        <a:pt x="-1" y="2044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6b151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Arc 12"/>
                <p:cNvSpPr/>
                <p:nvPr/>
              </p:nvSpPr>
              <p:spPr>
                <a:xfrm flipV="1" rot="19635600">
                  <a:off x="5682600" y="3098880"/>
                  <a:ext cx="74520" cy="936000"/>
                </a:xfrm>
                <a:custGeom>
                  <a:avLst/>
                  <a:gdLst/>
                  <a:ahLst/>
                  <a:rect l="l" t="t" r="r" b="b"/>
                  <a:pathLst>
                    <a:path fill="none" w="43169" h="21600">
                      <a:moveTo>
                        <a:pt x="-1" y="20446"/>
                      </a:moveTo>
                      <a:cubicBezTo>
                        <a:pt x="612" y="8982"/>
                        <a:pt x="10087" y="-1"/>
                        <a:pt x="21569" y="0"/>
                      </a:cubicBezTo>
                      <a:cubicBezTo>
                        <a:pt x="33498" y="0"/>
                        <a:pt x="43169" y="9670"/>
                        <a:pt x="43169" y="21600"/>
                      </a:cubicBezTo>
                    </a:path>
                    <a:path stroke="0" w="43169" h="21600">
                      <a:moveTo>
                        <a:pt x="-1" y="20446"/>
                      </a:moveTo>
                      <a:cubicBezTo>
                        <a:pt x="612" y="8982"/>
                        <a:pt x="10087" y="-1"/>
                        <a:pt x="21569" y="0"/>
                      </a:cubicBezTo>
                      <a:cubicBezTo>
                        <a:pt x="33498" y="0"/>
                        <a:pt x="43169" y="9670"/>
                        <a:pt x="43169" y="21600"/>
                      </a:cubicBezTo>
                      <a:lnTo>
                        <a:pt x="21569" y="21600"/>
                      </a:lnTo>
                      <a:lnTo>
                        <a:pt x="-1" y="2044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6b151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Arc 13"/>
                <p:cNvSpPr/>
                <p:nvPr/>
              </p:nvSpPr>
              <p:spPr>
                <a:xfrm flipV="1" rot="19779600">
                  <a:off x="5340960" y="3146040"/>
                  <a:ext cx="114480" cy="925200"/>
                </a:xfrm>
                <a:custGeom>
                  <a:avLst/>
                  <a:gdLst/>
                  <a:ahLst/>
                  <a:rect l="l" t="t" r="r" b="b"/>
                  <a:pathLst>
                    <a:path fill="none" w="43169" h="21600">
                      <a:moveTo>
                        <a:pt x="-1" y="20446"/>
                      </a:moveTo>
                      <a:cubicBezTo>
                        <a:pt x="612" y="8982"/>
                        <a:pt x="10087" y="-1"/>
                        <a:pt x="21569" y="0"/>
                      </a:cubicBezTo>
                      <a:cubicBezTo>
                        <a:pt x="33498" y="0"/>
                        <a:pt x="43169" y="9670"/>
                        <a:pt x="43169" y="21600"/>
                      </a:cubicBezTo>
                    </a:path>
                    <a:path stroke="0" w="43169" h="21600">
                      <a:moveTo>
                        <a:pt x="-1" y="20446"/>
                      </a:moveTo>
                      <a:cubicBezTo>
                        <a:pt x="612" y="8982"/>
                        <a:pt x="10087" y="-1"/>
                        <a:pt x="21569" y="0"/>
                      </a:cubicBezTo>
                      <a:cubicBezTo>
                        <a:pt x="33498" y="0"/>
                        <a:pt x="43169" y="9670"/>
                        <a:pt x="43169" y="21600"/>
                      </a:cubicBezTo>
                      <a:lnTo>
                        <a:pt x="21569" y="21600"/>
                      </a:lnTo>
                      <a:lnTo>
                        <a:pt x="-1" y="2044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6b151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Arc 14"/>
                <p:cNvSpPr/>
                <p:nvPr/>
              </p:nvSpPr>
              <p:spPr>
                <a:xfrm flipV="1" rot="19084800">
                  <a:off x="5990760" y="3065400"/>
                  <a:ext cx="100080" cy="979200"/>
                </a:xfrm>
                <a:custGeom>
                  <a:avLst/>
                  <a:gdLst/>
                  <a:ahLst/>
                  <a:rect l="l" t="t" r="r" b="b"/>
                  <a:pathLst>
                    <a:path fill="none" w="43169" h="21600">
                      <a:moveTo>
                        <a:pt x="-1" y="20446"/>
                      </a:moveTo>
                      <a:cubicBezTo>
                        <a:pt x="612" y="8982"/>
                        <a:pt x="10087" y="-1"/>
                        <a:pt x="21569" y="0"/>
                      </a:cubicBezTo>
                      <a:cubicBezTo>
                        <a:pt x="33498" y="0"/>
                        <a:pt x="43169" y="9670"/>
                        <a:pt x="43169" y="21600"/>
                      </a:cubicBezTo>
                    </a:path>
                    <a:path stroke="0" w="43169" h="21600">
                      <a:moveTo>
                        <a:pt x="-1" y="20446"/>
                      </a:moveTo>
                      <a:cubicBezTo>
                        <a:pt x="612" y="8982"/>
                        <a:pt x="10087" y="-1"/>
                        <a:pt x="21569" y="0"/>
                      </a:cubicBezTo>
                      <a:cubicBezTo>
                        <a:pt x="33498" y="0"/>
                        <a:pt x="43169" y="9670"/>
                        <a:pt x="43169" y="21600"/>
                      </a:cubicBezTo>
                      <a:lnTo>
                        <a:pt x="21569" y="21600"/>
                      </a:lnTo>
                      <a:lnTo>
                        <a:pt x="-1" y="2044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6b151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Arc 15"/>
                <p:cNvSpPr/>
                <p:nvPr/>
              </p:nvSpPr>
              <p:spPr>
                <a:xfrm flipV="1" rot="1431000">
                  <a:off x="5838480" y="3114360"/>
                  <a:ext cx="91800" cy="968040"/>
                </a:xfrm>
                <a:custGeom>
                  <a:avLst/>
                  <a:gdLst/>
                  <a:ahLst/>
                  <a:rect l="l" t="t" r="r" b="b"/>
                  <a:pathLst>
                    <a:path fill="none" w="43169" h="21600">
                      <a:moveTo>
                        <a:pt x="-1" y="20446"/>
                      </a:moveTo>
                      <a:cubicBezTo>
                        <a:pt x="612" y="8982"/>
                        <a:pt x="10087" y="-1"/>
                        <a:pt x="21569" y="0"/>
                      </a:cubicBezTo>
                      <a:cubicBezTo>
                        <a:pt x="33498" y="0"/>
                        <a:pt x="43169" y="9670"/>
                        <a:pt x="43169" y="21600"/>
                      </a:cubicBezTo>
                    </a:path>
                    <a:path stroke="0" w="43169" h="21600">
                      <a:moveTo>
                        <a:pt x="-1" y="20446"/>
                      </a:moveTo>
                      <a:cubicBezTo>
                        <a:pt x="612" y="8982"/>
                        <a:pt x="10087" y="-1"/>
                        <a:pt x="21569" y="0"/>
                      </a:cubicBezTo>
                      <a:cubicBezTo>
                        <a:pt x="33498" y="0"/>
                        <a:pt x="43169" y="9670"/>
                        <a:pt x="43169" y="21600"/>
                      </a:cubicBezTo>
                      <a:lnTo>
                        <a:pt x="21569" y="21600"/>
                      </a:lnTo>
                      <a:lnTo>
                        <a:pt x="-1" y="2044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6b151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Arc 16"/>
                <p:cNvSpPr/>
                <p:nvPr/>
              </p:nvSpPr>
              <p:spPr>
                <a:xfrm flipV="1" rot="459000">
                  <a:off x="5827320" y="3155040"/>
                  <a:ext cx="100080" cy="758520"/>
                </a:xfrm>
                <a:custGeom>
                  <a:avLst/>
                  <a:gdLst/>
                  <a:ahLst/>
                  <a:rect l="l" t="t" r="r" b="b"/>
                  <a:pathLst>
                    <a:path fill="none" w="43169" h="21600">
                      <a:moveTo>
                        <a:pt x="-1" y="20446"/>
                      </a:moveTo>
                      <a:cubicBezTo>
                        <a:pt x="612" y="8982"/>
                        <a:pt x="10087" y="-1"/>
                        <a:pt x="21569" y="0"/>
                      </a:cubicBezTo>
                      <a:cubicBezTo>
                        <a:pt x="33498" y="0"/>
                        <a:pt x="43169" y="9670"/>
                        <a:pt x="43169" y="21600"/>
                      </a:cubicBezTo>
                    </a:path>
                    <a:path stroke="0" w="43169" h="21600">
                      <a:moveTo>
                        <a:pt x="-1" y="20446"/>
                      </a:moveTo>
                      <a:cubicBezTo>
                        <a:pt x="612" y="8982"/>
                        <a:pt x="10087" y="-1"/>
                        <a:pt x="21569" y="0"/>
                      </a:cubicBezTo>
                      <a:cubicBezTo>
                        <a:pt x="33498" y="0"/>
                        <a:pt x="43169" y="9670"/>
                        <a:pt x="43169" y="21600"/>
                      </a:cubicBezTo>
                      <a:lnTo>
                        <a:pt x="21569" y="21600"/>
                      </a:lnTo>
                      <a:lnTo>
                        <a:pt x="-1" y="2044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6b151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Arc 17"/>
                <p:cNvSpPr/>
                <p:nvPr/>
              </p:nvSpPr>
              <p:spPr>
                <a:xfrm flipV="1" rot="18784200">
                  <a:off x="6309000" y="3053160"/>
                  <a:ext cx="85320" cy="905040"/>
                </a:xfrm>
                <a:custGeom>
                  <a:avLst/>
                  <a:gdLst/>
                  <a:ahLst/>
                  <a:rect l="l" t="t" r="r" b="b"/>
                  <a:pathLst>
                    <a:path fill="none" w="43169" h="21600">
                      <a:moveTo>
                        <a:pt x="-1" y="20446"/>
                      </a:moveTo>
                      <a:cubicBezTo>
                        <a:pt x="612" y="8982"/>
                        <a:pt x="10087" y="-1"/>
                        <a:pt x="21569" y="0"/>
                      </a:cubicBezTo>
                      <a:cubicBezTo>
                        <a:pt x="33498" y="0"/>
                        <a:pt x="43169" y="9670"/>
                        <a:pt x="43169" y="21600"/>
                      </a:cubicBezTo>
                    </a:path>
                    <a:path stroke="0" w="43169" h="21600">
                      <a:moveTo>
                        <a:pt x="-1" y="20446"/>
                      </a:moveTo>
                      <a:cubicBezTo>
                        <a:pt x="612" y="8982"/>
                        <a:pt x="10087" y="-1"/>
                        <a:pt x="21569" y="0"/>
                      </a:cubicBezTo>
                      <a:cubicBezTo>
                        <a:pt x="33498" y="0"/>
                        <a:pt x="43169" y="9670"/>
                        <a:pt x="43169" y="21600"/>
                      </a:cubicBezTo>
                      <a:lnTo>
                        <a:pt x="21569" y="21600"/>
                      </a:lnTo>
                      <a:lnTo>
                        <a:pt x="-1" y="2044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6b151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Arc 18"/>
                <p:cNvSpPr/>
                <p:nvPr/>
              </p:nvSpPr>
              <p:spPr>
                <a:xfrm flipV="1" rot="19015800">
                  <a:off x="6495480" y="3109320"/>
                  <a:ext cx="98640" cy="641160"/>
                </a:xfrm>
                <a:custGeom>
                  <a:avLst/>
                  <a:gdLst/>
                  <a:ahLst/>
                  <a:rect l="l" t="t" r="r" b="b"/>
                  <a:pathLst>
                    <a:path fill="none" w="43169" h="21600">
                      <a:moveTo>
                        <a:pt x="-1" y="20446"/>
                      </a:moveTo>
                      <a:cubicBezTo>
                        <a:pt x="612" y="8982"/>
                        <a:pt x="10087" y="-1"/>
                        <a:pt x="21569" y="0"/>
                      </a:cubicBezTo>
                      <a:cubicBezTo>
                        <a:pt x="33498" y="0"/>
                        <a:pt x="43169" y="9670"/>
                        <a:pt x="43169" y="21600"/>
                      </a:cubicBezTo>
                    </a:path>
                    <a:path stroke="0" w="43169" h="21600">
                      <a:moveTo>
                        <a:pt x="-1" y="20446"/>
                      </a:moveTo>
                      <a:cubicBezTo>
                        <a:pt x="612" y="8982"/>
                        <a:pt x="10087" y="-1"/>
                        <a:pt x="21569" y="0"/>
                      </a:cubicBezTo>
                      <a:cubicBezTo>
                        <a:pt x="33498" y="0"/>
                        <a:pt x="43169" y="9670"/>
                        <a:pt x="43169" y="21600"/>
                      </a:cubicBezTo>
                      <a:lnTo>
                        <a:pt x="21569" y="21600"/>
                      </a:lnTo>
                      <a:lnTo>
                        <a:pt x="-1" y="2044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6b151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Arc 19"/>
                <p:cNvSpPr/>
                <p:nvPr/>
              </p:nvSpPr>
              <p:spPr>
                <a:xfrm flipV="1" rot="19962600">
                  <a:off x="6856560" y="3152160"/>
                  <a:ext cx="74880" cy="477720"/>
                </a:xfrm>
                <a:custGeom>
                  <a:avLst/>
                  <a:gdLst/>
                  <a:ahLst/>
                  <a:rect l="l" t="t" r="r" b="b"/>
                  <a:pathLst>
                    <a:path fill="none" w="43169" h="21600">
                      <a:moveTo>
                        <a:pt x="-1" y="20446"/>
                      </a:moveTo>
                      <a:cubicBezTo>
                        <a:pt x="612" y="8982"/>
                        <a:pt x="10087" y="-1"/>
                        <a:pt x="21569" y="0"/>
                      </a:cubicBezTo>
                      <a:cubicBezTo>
                        <a:pt x="33498" y="0"/>
                        <a:pt x="43169" y="9670"/>
                        <a:pt x="43169" y="21600"/>
                      </a:cubicBezTo>
                    </a:path>
                    <a:path stroke="0" w="43169" h="21600">
                      <a:moveTo>
                        <a:pt x="-1" y="20446"/>
                      </a:moveTo>
                      <a:cubicBezTo>
                        <a:pt x="612" y="8982"/>
                        <a:pt x="10087" y="-1"/>
                        <a:pt x="21569" y="0"/>
                      </a:cubicBezTo>
                      <a:cubicBezTo>
                        <a:pt x="33498" y="0"/>
                        <a:pt x="43169" y="9670"/>
                        <a:pt x="43169" y="21600"/>
                      </a:cubicBezTo>
                      <a:lnTo>
                        <a:pt x="21569" y="21600"/>
                      </a:lnTo>
                      <a:lnTo>
                        <a:pt x="-1" y="2044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6b151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Arc 20"/>
                <p:cNvSpPr/>
                <p:nvPr/>
              </p:nvSpPr>
              <p:spPr>
                <a:xfrm flipV="1" rot="19369200">
                  <a:off x="7044840" y="3155400"/>
                  <a:ext cx="106560" cy="498600"/>
                </a:xfrm>
                <a:custGeom>
                  <a:avLst/>
                  <a:gdLst/>
                  <a:ahLst/>
                  <a:rect l="l" t="t" r="r" b="b"/>
                  <a:pathLst>
                    <a:path fill="none" w="43169" h="21600">
                      <a:moveTo>
                        <a:pt x="-1" y="20446"/>
                      </a:moveTo>
                      <a:cubicBezTo>
                        <a:pt x="612" y="8982"/>
                        <a:pt x="10087" y="-1"/>
                        <a:pt x="21569" y="0"/>
                      </a:cubicBezTo>
                      <a:cubicBezTo>
                        <a:pt x="33498" y="0"/>
                        <a:pt x="43169" y="9670"/>
                        <a:pt x="43169" y="21600"/>
                      </a:cubicBezTo>
                    </a:path>
                    <a:path stroke="0" w="43169" h="21600">
                      <a:moveTo>
                        <a:pt x="-1" y="20446"/>
                      </a:moveTo>
                      <a:cubicBezTo>
                        <a:pt x="612" y="8982"/>
                        <a:pt x="10087" y="-1"/>
                        <a:pt x="21569" y="0"/>
                      </a:cubicBezTo>
                      <a:cubicBezTo>
                        <a:pt x="33498" y="0"/>
                        <a:pt x="43169" y="9670"/>
                        <a:pt x="43169" y="21600"/>
                      </a:cubicBezTo>
                      <a:lnTo>
                        <a:pt x="21569" y="21600"/>
                      </a:lnTo>
                      <a:lnTo>
                        <a:pt x="-1" y="2044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6b151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Arc 21"/>
                <p:cNvSpPr/>
                <p:nvPr/>
              </p:nvSpPr>
              <p:spPr>
                <a:xfrm flipV="1" rot="19964400">
                  <a:off x="4744080" y="3129480"/>
                  <a:ext cx="108000" cy="1143000"/>
                </a:xfrm>
                <a:custGeom>
                  <a:avLst/>
                  <a:gdLst/>
                  <a:ahLst/>
                  <a:rect l="l" t="t" r="r" b="b"/>
                  <a:pathLst>
                    <a:path fill="none" w="43169" h="21600">
                      <a:moveTo>
                        <a:pt x="-1" y="20446"/>
                      </a:moveTo>
                      <a:cubicBezTo>
                        <a:pt x="612" y="8982"/>
                        <a:pt x="10087" y="-1"/>
                        <a:pt x="21569" y="0"/>
                      </a:cubicBezTo>
                      <a:cubicBezTo>
                        <a:pt x="33498" y="0"/>
                        <a:pt x="43169" y="9670"/>
                        <a:pt x="43169" y="21600"/>
                      </a:cubicBezTo>
                    </a:path>
                    <a:path stroke="0" w="43169" h="21600">
                      <a:moveTo>
                        <a:pt x="-1" y="20446"/>
                      </a:moveTo>
                      <a:cubicBezTo>
                        <a:pt x="612" y="8982"/>
                        <a:pt x="10087" y="-1"/>
                        <a:pt x="21569" y="0"/>
                      </a:cubicBezTo>
                      <a:cubicBezTo>
                        <a:pt x="33498" y="0"/>
                        <a:pt x="43169" y="9670"/>
                        <a:pt x="43169" y="21600"/>
                      </a:cubicBezTo>
                      <a:lnTo>
                        <a:pt x="21569" y="21600"/>
                      </a:lnTo>
                      <a:lnTo>
                        <a:pt x="-1" y="2044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6b151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Arc 22"/>
                <p:cNvSpPr/>
                <p:nvPr/>
              </p:nvSpPr>
              <p:spPr>
                <a:xfrm flipV="1" rot="20128800">
                  <a:off x="5613120" y="3161880"/>
                  <a:ext cx="88560" cy="363240"/>
                </a:xfrm>
                <a:custGeom>
                  <a:avLst/>
                  <a:gdLst/>
                  <a:ahLst/>
                  <a:rect l="l" t="t" r="r" b="b"/>
                  <a:pathLst>
                    <a:path fill="none" w="43169" h="21600">
                      <a:moveTo>
                        <a:pt x="-1" y="20446"/>
                      </a:moveTo>
                      <a:cubicBezTo>
                        <a:pt x="612" y="8982"/>
                        <a:pt x="10087" y="-1"/>
                        <a:pt x="21569" y="0"/>
                      </a:cubicBezTo>
                      <a:cubicBezTo>
                        <a:pt x="33498" y="0"/>
                        <a:pt x="43169" y="9670"/>
                        <a:pt x="43169" y="21600"/>
                      </a:cubicBezTo>
                    </a:path>
                    <a:path stroke="0" w="43169" h="21600">
                      <a:moveTo>
                        <a:pt x="-1" y="20446"/>
                      </a:moveTo>
                      <a:cubicBezTo>
                        <a:pt x="612" y="8982"/>
                        <a:pt x="10087" y="-1"/>
                        <a:pt x="21569" y="0"/>
                      </a:cubicBezTo>
                      <a:cubicBezTo>
                        <a:pt x="33498" y="0"/>
                        <a:pt x="43169" y="9670"/>
                        <a:pt x="43169" y="21600"/>
                      </a:cubicBezTo>
                      <a:lnTo>
                        <a:pt x="21569" y="21600"/>
                      </a:lnTo>
                      <a:lnTo>
                        <a:pt x="-1" y="2044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6b151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Arc 23"/>
                <p:cNvSpPr/>
                <p:nvPr/>
              </p:nvSpPr>
              <p:spPr>
                <a:xfrm flipV="1" rot="17749800">
                  <a:off x="6798960" y="3000600"/>
                  <a:ext cx="97920" cy="736920"/>
                </a:xfrm>
                <a:custGeom>
                  <a:avLst/>
                  <a:gdLst/>
                  <a:ahLst/>
                  <a:rect l="l" t="t" r="r" b="b"/>
                  <a:pathLst>
                    <a:path fill="none" w="43169" h="21600">
                      <a:moveTo>
                        <a:pt x="-1" y="20446"/>
                      </a:moveTo>
                      <a:cubicBezTo>
                        <a:pt x="612" y="8982"/>
                        <a:pt x="10087" y="-1"/>
                        <a:pt x="21569" y="0"/>
                      </a:cubicBezTo>
                      <a:cubicBezTo>
                        <a:pt x="33498" y="0"/>
                        <a:pt x="43169" y="9670"/>
                        <a:pt x="43169" y="21600"/>
                      </a:cubicBezTo>
                    </a:path>
                    <a:path stroke="0" w="43169" h="21600">
                      <a:moveTo>
                        <a:pt x="-1" y="20446"/>
                      </a:moveTo>
                      <a:cubicBezTo>
                        <a:pt x="612" y="8982"/>
                        <a:pt x="10087" y="-1"/>
                        <a:pt x="21569" y="0"/>
                      </a:cubicBezTo>
                      <a:cubicBezTo>
                        <a:pt x="33498" y="0"/>
                        <a:pt x="43169" y="9670"/>
                        <a:pt x="43169" y="21600"/>
                      </a:cubicBezTo>
                      <a:lnTo>
                        <a:pt x="21569" y="21600"/>
                      </a:lnTo>
                      <a:lnTo>
                        <a:pt x="-1" y="2044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6b151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Arc 24"/>
                <p:cNvSpPr/>
                <p:nvPr/>
              </p:nvSpPr>
              <p:spPr>
                <a:xfrm flipV="1" rot="20418000">
                  <a:off x="4596840" y="3390840"/>
                  <a:ext cx="108000" cy="837720"/>
                </a:xfrm>
                <a:custGeom>
                  <a:avLst/>
                  <a:gdLst/>
                  <a:ahLst/>
                  <a:rect l="l" t="t" r="r" b="b"/>
                  <a:pathLst>
                    <a:path fill="none" w="42881" h="21600">
                      <a:moveTo>
                        <a:pt x="0" y="17901"/>
                      </a:moveTo>
                      <a:cubicBezTo>
                        <a:pt x="1798" y="7553"/>
                        <a:pt x="10778" y="-1"/>
                        <a:pt x="21281" y="0"/>
                      </a:cubicBezTo>
                      <a:cubicBezTo>
                        <a:pt x="33210" y="0"/>
                        <a:pt x="42881" y="9670"/>
                        <a:pt x="42881" y="21600"/>
                      </a:cubicBezTo>
                    </a:path>
                    <a:path stroke="0" w="42881" h="21600">
                      <a:moveTo>
                        <a:pt x="0" y="17901"/>
                      </a:moveTo>
                      <a:cubicBezTo>
                        <a:pt x="1798" y="7553"/>
                        <a:pt x="10778" y="-1"/>
                        <a:pt x="21281" y="0"/>
                      </a:cubicBezTo>
                      <a:cubicBezTo>
                        <a:pt x="33210" y="0"/>
                        <a:pt x="42881" y="9670"/>
                        <a:pt x="42881" y="21600"/>
                      </a:cubicBezTo>
                      <a:lnTo>
                        <a:pt x="21281" y="21600"/>
                      </a:lnTo>
                      <a:lnTo>
                        <a:pt x="0" y="179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6b151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7" name="Arc 25"/>
              <p:cNvSpPr/>
              <p:nvPr/>
            </p:nvSpPr>
            <p:spPr>
              <a:xfrm flipH="1" flipV="1" rot="21141000">
                <a:off x="4444200" y="3141720"/>
                <a:ext cx="108000" cy="874800"/>
              </a:xfrm>
              <a:custGeom>
                <a:avLst/>
                <a:gdLst/>
                <a:ahLst/>
                <a:rect l="l" t="t" r="r" b="b"/>
                <a:pathLst>
                  <a:path fill="none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</a:path>
                  <a:path stroke="0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  <a:lnTo>
                      <a:pt x="21569" y="21600"/>
                    </a:lnTo>
                    <a:lnTo>
                      <a:pt x="-1" y="204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6b151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Arc 26"/>
              <p:cNvSpPr/>
              <p:nvPr/>
            </p:nvSpPr>
            <p:spPr>
              <a:xfrm flipH="1" flipV="1" rot="1964400">
                <a:off x="3989160" y="3112560"/>
                <a:ext cx="108000" cy="914400"/>
              </a:xfrm>
              <a:custGeom>
                <a:avLst/>
                <a:gdLst/>
                <a:ahLst/>
                <a:rect l="l" t="t" r="r" b="b"/>
                <a:pathLst>
                  <a:path fill="none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</a:path>
                  <a:path stroke="0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  <a:lnTo>
                      <a:pt x="21569" y="21600"/>
                    </a:lnTo>
                    <a:lnTo>
                      <a:pt x="-1" y="204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6b151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Arc 27"/>
              <p:cNvSpPr/>
              <p:nvPr/>
            </p:nvSpPr>
            <p:spPr>
              <a:xfrm flipH="1" flipV="1" rot="20985600">
                <a:off x="4216680" y="3217320"/>
                <a:ext cx="108000" cy="685440"/>
              </a:xfrm>
              <a:custGeom>
                <a:avLst/>
                <a:gdLst/>
                <a:ahLst/>
                <a:rect l="l" t="t" r="r" b="b"/>
                <a:pathLst>
                  <a:path fill="none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</a:path>
                  <a:path stroke="0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  <a:lnTo>
                      <a:pt x="21569" y="21600"/>
                    </a:lnTo>
                    <a:lnTo>
                      <a:pt x="-1" y="204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6b151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Arc 28"/>
              <p:cNvSpPr/>
              <p:nvPr/>
            </p:nvSpPr>
            <p:spPr>
              <a:xfrm flipH="1" flipV="1" rot="1964400">
                <a:off x="3933000" y="3144600"/>
                <a:ext cx="87120" cy="728640"/>
              </a:xfrm>
              <a:custGeom>
                <a:avLst/>
                <a:gdLst/>
                <a:ahLst/>
                <a:rect l="l" t="t" r="r" b="b"/>
                <a:pathLst>
                  <a:path fill="none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</a:path>
                  <a:path stroke="0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  <a:lnTo>
                      <a:pt x="21569" y="21600"/>
                    </a:lnTo>
                    <a:lnTo>
                      <a:pt x="-1" y="204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6b151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Arc 29"/>
              <p:cNvSpPr/>
              <p:nvPr/>
            </p:nvSpPr>
            <p:spPr>
              <a:xfrm flipH="1" flipV="1" rot="1964400">
                <a:off x="3625560" y="3144600"/>
                <a:ext cx="90360" cy="576360"/>
              </a:xfrm>
              <a:custGeom>
                <a:avLst/>
                <a:gdLst/>
                <a:ahLst/>
                <a:rect l="l" t="t" r="r" b="b"/>
                <a:pathLst>
                  <a:path fill="none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</a:path>
                  <a:path stroke="0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  <a:lnTo>
                      <a:pt x="21569" y="21600"/>
                    </a:lnTo>
                    <a:lnTo>
                      <a:pt x="-1" y="204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6b151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Arc 30"/>
              <p:cNvSpPr/>
              <p:nvPr/>
            </p:nvSpPr>
            <p:spPr>
              <a:xfrm flipH="1" flipV="1" rot="1964400">
                <a:off x="3387240" y="3081240"/>
                <a:ext cx="74520" cy="936720"/>
              </a:xfrm>
              <a:custGeom>
                <a:avLst/>
                <a:gdLst/>
                <a:ahLst/>
                <a:rect l="l" t="t" r="r" b="b"/>
                <a:pathLst>
                  <a:path fill="none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</a:path>
                  <a:path stroke="0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  <a:lnTo>
                      <a:pt x="21569" y="21600"/>
                    </a:lnTo>
                    <a:lnTo>
                      <a:pt x="-1" y="204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6b151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Arc 31"/>
              <p:cNvSpPr/>
              <p:nvPr/>
            </p:nvSpPr>
            <p:spPr>
              <a:xfrm flipH="1" flipV="1" rot="1820400">
                <a:off x="3688200" y="3129120"/>
                <a:ext cx="114120" cy="925560"/>
              </a:xfrm>
              <a:custGeom>
                <a:avLst/>
                <a:gdLst/>
                <a:ahLst/>
                <a:rect l="l" t="t" r="r" b="b"/>
                <a:pathLst>
                  <a:path fill="none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</a:path>
                  <a:path stroke="0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  <a:lnTo>
                      <a:pt x="21569" y="21600"/>
                    </a:lnTo>
                    <a:lnTo>
                      <a:pt x="-1" y="204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6b151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Arc 32"/>
              <p:cNvSpPr/>
              <p:nvPr/>
            </p:nvSpPr>
            <p:spPr>
              <a:xfrm flipH="1" flipV="1" rot="2515200">
                <a:off x="3023640" y="3047760"/>
                <a:ext cx="100080" cy="979560"/>
              </a:xfrm>
              <a:custGeom>
                <a:avLst/>
                <a:gdLst/>
                <a:ahLst/>
                <a:rect l="l" t="t" r="r" b="b"/>
                <a:pathLst>
                  <a:path fill="none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</a:path>
                  <a:path stroke="0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  <a:lnTo>
                      <a:pt x="21569" y="21600"/>
                    </a:lnTo>
                    <a:lnTo>
                      <a:pt x="-1" y="204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6b151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Arc 33"/>
              <p:cNvSpPr/>
              <p:nvPr/>
            </p:nvSpPr>
            <p:spPr>
              <a:xfrm flipH="1" flipV="1" rot="20169000">
                <a:off x="3183480" y="3097080"/>
                <a:ext cx="91800" cy="968040"/>
              </a:xfrm>
              <a:custGeom>
                <a:avLst/>
                <a:gdLst/>
                <a:ahLst/>
                <a:rect l="l" t="t" r="r" b="b"/>
                <a:pathLst>
                  <a:path fill="none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</a:path>
                  <a:path stroke="0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  <a:lnTo>
                      <a:pt x="21569" y="21600"/>
                    </a:lnTo>
                    <a:lnTo>
                      <a:pt x="-1" y="204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6b151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Arc 34"/>
              <p:cNvSpPr/>
              <p:nvPr/>
            </p:nvSpPr>
            <p:spPr>
              <a:xfrm flipH="1" flipV="1" rot="21141000">
                <a:off x="3187080" y="3138120"/>
                <a:ext cx="99720" cy="758520"/>
              </a:xfrm>
              <a:custGeom>
                <a:avLst/>
                <a:gdLst/>
                <a:ahLst/>
                <a:rect l="l" t="t" r="r" b="b"/>
                <a:pathLst>
                  <a:path fill="none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</a:path>
                  <a:path stroke="0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  <a:lnTo>
                      <a:pt x="21569" y="21600"/>
                    </a:lnTo>
                    <a:lnTo>
                      <a:pt x="-1" y="204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6b151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Arc 35"/>
              <p:cNvSpPr/>
              <p:nvPr/>
            </p:nvSpPr>
            <p:spPr>
              <a:xfrm flipH="1" flipV="1" rot="3416400">
                <a:off x="2719800" y="3037680"/>
                <a:ext cx="85680" cy="905040"/>
              </a:xfrm>
              <a:custGeom>
                <a:avLst/>
                <a:gdLst/>
                <a:ahLst/>
                <a:rect l="l" t="t" r="r" b="b"/>
                <a:pathLst>
                  <a:path fill="none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</a:path>
                  <a:path stroke="0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  <a:lnTo>
                      <a:pt x="21569" y="21600"/>
                    </a:lnTo>
                    <a:lnTo>
                      <a:pt x="-1" y="204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6b151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Arc 36"/>
              <p:cNvSpPr/>
              <p:nvPr/>
            </p:nvSpPr>
            <p:spPr>
              <a:xfrm flipH="1" flipV="1" rot="2584200">
                <a:off x="2520360" y="3092400"/>
                <a:ext cx="98640" cy="641160"/>
              </a:xfrm>
              <a:custGeom>
                <a:avLst/>
                <a:gdLst/>
                <a:ahLst/>
                <a:rect l="l" t="t" r="r" b="b"/>
                <a:pathLst>
                  <a:path fill="none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</a:path>
                  <a:path stroke="0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  <a:lnTo>
                      <a:pt x="21569" y="21600"/>
                    </a:lnTo>
                    <a:lnTo>
                      <a:pt x="-1" y="204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6b151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Arc 37"/>
              <p:cNvSpPr/>
              <p:nvPr/>
            </p:nvSpPr>
            <p:spPr>
              <a:xfrm flipH="1" flipV="1" rot="1637400">
                <a:off x="2184120" y="3135600"/>
                <a:ext cx="74520" cy="477720"/>
              </a:xfrm>
              <a:custGeom>
                <a:avLst/>
                <a:gdLst/>
                <a:ahLst/>
                <a:rect l="l" t="t" r="r" b="b"/>
                <a:pathLst>
                  <a:path fill="none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</a:path>
                  <a:path stroke="0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  <a:lnTo>
                      <a:pt x="21569" y="21600"/>
                    </a:lnTo>
                    <a:lnTo>
                      <a:pt x="-1" y="204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6b151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Arc 38"/>
              <p:cNvSpPr/>
              <p:nvPr/>
            </p:nvSpPr>
            <p:spPr>
              <a:xfrm flipH="1" flipV="1" rot="2230800">
                <a:off x="1963080" y="3138840"/>
                <a:ext cx="106200" cy="498240"/>
              </a:xfrm>
              <a:custGeom>
                <a:avLst/>
                <a:gdLst/>
                <a:ahLst/>
                <a:rect l="l" t="t" r="r" b="b"/>
                <a:pathLst>
                  <a:path fill="none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</a:path>
                  <a:path stroke="0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  <a:lnTo>
                      <a:pt x="21569" y="21600"/>
                    </a:lnTo>
                    <a:lnTo>
                      <a:pt x="-1" y="204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6b151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Arc 39"/>
              <p:cNvSpPr/>
              <p:nvPr/>
            </p:nvSpPr>
            <p:spPr>
              <a:xfrm flipH="1" flipV="1" rot="20427000">
                <a:off x="4065120" y="3141360"/>
                <a:ext cx="108000" cy="1142640"/>
              </a:xfrm>
              <a:custGeom>
                <a:avLst/>
                <a:gdLst/>
                <a:ahLst/>
                <a:rect l="l" t="t" r="r" b="b"/>
                <a:pathLst>
                  <a:path fill="none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</a:path>
                  <a:path stroke="0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  <a:lnTo>
                      <a:pt x="21569" y="21600"/>
                    </a:lnTo>
                    <a:lnTo>
                      <a:pt x="-1" y="204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6b151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Arc 40"/>
              <p:cNvSpPr/>
              <p:nvPr/>
            </p:nvSpPr>
            <p:spPr>
              <a:xfrm flipH="1" flipV="1" rot="1471200">
                <a:off x="3442680" y="3143880"/>
                <a:ext cx="88920" cy="363600"/>
              </a:xfrm>
              <a:custGeom>
                <a:avLst/>
                <a:gdLst/>
                <a:ahLst/>
                <a:rect l="l" t="t" r="r" b="b"/>
                <a:pathLst>
                  <a:path fill="none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</a:path>
                  <a:path stroke="0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  <a:lnTo>
                      <a:pt x="21569" y="21600"/>
                    </a:lnTo>
                    <a:lnTo>
                      <a:pt x="-1" y="204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6b151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Arc 41"/>
              <p:cNvSpPr/>
              <p:nvPr/>
            </p:nvSpPr>
            <p:spPr>
              <a:xfrm flipH="1" flipV="1" rot="3400200">
                <a:off x="2248560" y="3050640"/>
                <a:ext cx="98640" cy="736560"/>
              </a:xfrm>
              <a:custGeom>
                <a:avLst/>
                <a:gdLst/>
                <a:ahLst/>
                <a:rect l="l" t="t" r="r" b="b"/>
                <a:pathLst>
                  <a:path fill="none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</a:path>
                  <a:path stroke="0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  <a:lnTo>
                      <a:pt x="21569" y="21600"/>
                    </a:lnTo>
                    <a:lnTo>
                      <a:pt x="-1" y="204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6b151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Arc 42"/>
              <p:cNvSpPr/>
              <p:nvPr/>
            </p:nvSpPr>
            <p:spPr>
              <a:xfrm flipH="1" flipV="1" rot="21582000">
                <a:off x="3758040" y="3173400"/>
                <a:ext cx="108000" cy="838080"/>
              </a:xfrm>
              <a:custGeom>
                <a:avLst/>
                <a:gdLst/>
                <a:ahLst/>
                <a:rect l="l" t="t" r="r" b="b"/>
                <a:pathLst>
                  <a:path fill="none" w="42881" h="21600">
                    <a:moveTo>
                      <a:pt x="0" y="17901"/>
                    </a:moveTo>
                    <a:cubicBezTo>
                      <a:pt x="1798" y="7553"/>
                      <a:pt x="10778" y="-1"/>
                      <a:pt x="21281" y="0"/>
                    </a:cubicBezTo>
                    <a:cubicBezTo>
                      <a:pt x="33210" y="0"/>
                      <a:pt x="42881" y="9670"/>
                      <a:pt x="42881" y="21600"/>
                    </a:cubicBezTo>
                  </a:path>
                  <a:path stroke="0" w="42881" h="21600">
                    <a:moveTo>
                      <a:pt x="0" y="17901"/>
                    </a:moveTo>
                    <a:cubicBezTo>
                      <a:pt x="1798" y="7553"/>
                      <a:pt x="10778" y="-1"/>
                      <a:pt x="21281" y="0"/>
                    </a:cubicBezTo>
                    <a:cubicBezTo>
                      <a:pt x="33210" y="0"/>
                      <a:pt x="42881" y="9670"/>
                      <a:pt x="42881" y="21600"/>
                    </a:cubicBezTo>
                    <a:lnTo>
                      <a:pt x="21281" y="21600"/>
                    </a:lnTo>
                    <a:lnTo>
                      <a:pt x="0" y="179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6b151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285" name="Picture 43" descr="Safnavvd"/>
            <p:cNvPicPr/>
            <p:nvPr/>
          </p:nvPicPr>
          <p:blipFill>
            <a:blip r:embed="rId2"/>
            <a:stretch/>
          </p:blipFill>
          <p:spPr>
            <a:xfrm>
              <a:off x="0" y="2971800"/>
              <a:ext cx="9144000" cy="130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86" name="Group 49"/>
          <p:cNvGrpSpPr/>
          <p:nvPr/>
        </p:nvGrpSpPr>
        <p:grpSpPr>
          <a:xfrm>
            <a:off x="4218120" y="990720"/>
            <a:ext cx="768240" cy="1752480"/>
            <a:chOff x="4218120" y="990720"/>
            <a:chExt cx="768240" cy="1752480"/>
          </a:xfrm>
        </p:grpSpPr>
        <p:sp>
          <p:nvSpPr>
            <p:cNvPr id="287" name="Rectangle 50"/>
            <p:cNvSpPr/>
            <p:nvPr/>
          </p:nvSpPr>
          <p:spPr>
            <a:xfrm rot="16200000">
              <a:off x="3710880" y="1855080"/>
              <a:ext cx="1752480" cy="23760"/>
            </a:xfrm>
            <a:prstGeom prst="rect">
              <a:avLst/>
            </a:prstGeom>
            <a:gradFill rotWithShape="0">
              <a:gsLst>
                <a:gs pos="0">
                  <a:srgbClr val="d0a858"/>
                </a:gs>
                <a:gs pos="50000">
                  <a:srgbClr val="808080"/>
                </a:gs>
                <a:gs pos="100000">
                  <a:srgbClr val="d0a85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Rectangle 51"/>
            <p:cNvSpPr/>
            <p:nvPr/>
          </p:nvSpPr>
          <p:spPr>
            <a:xfrm rot="5400000">
              <a:off x="4589640" y="1482480"/>
              <a:ext cx="25200" cy="768240"/>
            </a:xfrm>
            <a:prstGeom prst="rect">
              <a:avLst/>
            </a:prstGeom>
            <a:gradFill rotWithShape="0">
              <a:gsLst>
                <a:gs pos="0">
                  <a:srgbClr val="d0a858"/>
                </a:gs>
                <a:gs pos="50000">
                  <a:srgbClr val="808080"/>
                </a:gs>
                <a:gs pos="100000">
                  <a:srgbClr val="d0a8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Oval 52"/>
            <p:cNvSpPr/>
            <p:nvPr/>
          </p:nvSpPr>
          <p:spPr>
            <a:xfrm rot="16200000">
              <a:off x="4275360" y="1557000"/>
              <a:ext cx="623520" cy="623880"/>
            </a:xfrm>
            <a:prstGeom prst="ellipse">
              <a:avLst/>
            </a:prstGeom>
            <a:noFill/>
            <a:ln w="9360">
              <a:solidFill>
                <a:srgbClr val="d0a8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c6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c6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99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66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37d8a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66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d0a858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66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66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d0a85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B9E0B-6D49-4FE3-B2EB-4ECF04CD3601}" type="datetime">
              <a:rPr b="0" lang="ru-RU" sz="1400" spc="-1" strike="noStrike">
                <a:solidFill>
                  <a:srgbClr val="d0a858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0a85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0a858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d0a85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7DBB8-8B1E-4E7A-821E-B06023FA517F}" type="slidenum">
              <a:rPr b="0" lang="ru-RU" sz="1400" spc="-1" strike="noStrike">
                <a:solidFill>
                  <a:srgbClr val="d0a85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1" name="Group 2"/>
          <p:cNvGrpSpPr/>
          <p:nvPr/>
        </p:nvGrpSpPr>
        <p:grpSpPr>
          <a:xfrm>
            <a:off x="0" y="6480"/>
            <a:ext cx="9142560" cy="6267240"/>
            <a:chOff x="0" y="6480"/>
            <a:chExt cx="9142560" cy="6267240"/>
          </a:xfrm>
        </p:grpSpPr>
        <p:sp>
          <p:nvSpPr>
            <p:cNvPr id="332" name="Rectangle 3"/>
            <p:cNvSpPr/>
            <p:nvPr/>
          </p:nvSpPr>
          <p:spPr>
            <a:xfrm>
              <a:off x="0" y="6480"/>
              <a:ext cx="8567640" cy="62672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Rectangle 4"/>
            <p:cNvSpPr/>
            <p:nvPr/>
          </p:nvSpPr>
          <p:spPr>
            <a:xfrm>
              <a:off x="473040" y="3159000"/>
              <a:ext cx="8669520" cy="8568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533520" y="1701720"/>
            <a:ext cx="77724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dt" idx="19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B4338-A11D-4592-AC16-010B6DFD3FC8}" type="datetime">
              <a:rPr b="0" lang="ru-RU" sz="1400" spc="-1" strike="noStrike">
                <a:solidFill>
                  <a:srgbClr val="0033cc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 type="ftr" idx="20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 type="sldNum" idx="21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22562-3007-4220-BFE2-ED6CC988F207}" type="slidenum">
              <a:rPr b="0" lang="ru-RU" sz="14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5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376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cc66e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8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379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fba3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fcc6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fcc6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fba3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fcc6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fba3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fcc6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fba3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fba313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fba313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908C3-48A6-4386-BA97-7BF8951CAA20}" type="datetime">
              <a:rPr b="0" lang="ru-RU" sz="1200" spc="-1" strike="noStrike">
                <a:solidFill>
                  <a:srgbClr val="0033cc"/>
                </a:solidFill>
                <a:latin typeface="Arial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cc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33cc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363FA-5BA6-4791-9BFA-E6530AFA323B}" type="slidenum">
              <a:rPr b="0" lang="ru-RU" sz="1200" spc="-1" strike="noStrike">
                <a:solidFill>
                  <a:srgbClr val="0033cc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8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0948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91400"/>
                </a:solidFill>
                <a:latin typeface="Arial"/>
              </a:rPr>
              <a:t>Типы  безработицы</a:t>
            </a:r>
            <a:br>
              <a:rPr sz="4000"/>
            </a:b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Экономика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11 клас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500"/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4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c6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c60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ec6000"/>
              </a:solidFill>
              <a:latin typeface="Times New Roman"/>
            </a:endParaRPr>
          </a:p>
        </p:txBody>
      </p:sp>
      <p:sp>
        <p:nvSpPr>
          <p:cNvPr id="496" name="AutoShape 4"/>
          <p:cNvSpPr/>
          <p:nvPr/>
        </p:nvSpPr>
        <p:spPr>
          <a:xfrm>
            <a:off x="1619280" y="549360"/>
            <a:ext cx="3816360" cy="1727280"/>
          </a:xfrm>
          <a:prstGeom prst="downArrowCallout">
            <a:avLst>
              <a:gd name="adj1" fmla="val 55242"/>
              <a:gd name="adj2" fmla="val 55237"/>
              <a:gd name="adj3" fmla="val 16667"/>
              <a:gd name="adj4" fmla="val 66667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зменение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структур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спроса н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продукцию разных отраслей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AutoShape 7"/>
          <p:cNvSpPr/>
          <p:nvPr/>
        </p:nvSpPr>
        <p:spPr>
          <a:xfrm>
            <a:off x="4788000" y="2349360"/>
            <a:ext cx="3814560" cy="1727280"/>
          </a:xfrm>
          <a:prstGeom prst="downArrowCallout">
            <a:avLst>
              <a:gd name="adj1" fmla="val 55216"/>
              <a:gd name="adj2" fmla="val 55211"/>
              <a:gd name="adj3" fmla="val 16667"/>
              <a:gd name="adj4" fmla="val 66667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зменения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отраслево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структуры экономик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AutoShape 8"/>
          <p:cNvSpPr/>
          <p:nvPr/>
        </p:nvSpPr>
        <p:spPr>
          <a:xfrm>
            <a:off x="684360" y="3284640"/>
            <a:ext cx="4537080" cy="3097080"/>
          </a:xfrm>
          <a:prstGeom prst="irregularSeal2">
            <a:avLst/>
          </a:prstGeom>
          <a:gradFill rotWithShape="0">
            <a:gsLst>
              <a:gs pos="0">
                <a:srgbClr val="ff9933"/>
              </a:gs>
              <a:gs pos="50000">
                <a:srgbClr val="ffffff"/>
              </a:gs>
              <a:gs pos="100000">
                <a:srgbClr val="ff993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ТРУКТУРНА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ЕЗРАБОТИЦ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0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c6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c6000"/>
                </a:solidFill>
                <a:latin typeface="Times New Roman"/>
              </a:rPr>
              <a:t>	</a:t>
            </a:r>
            <a:r>
              <a:rPr b="0" lang="ru-RU" sz="4000" spc="-1" strike="noStrike">
                <a:solidFill>
                  <a:srgbClr val="006600"/>
                </a:solidFill>
                <a:latin typeface="Times New Roman"/>
              </a:rPr>
              <a:t>Структурная безработица – </a:t>
            </a:r>
            <a:r>
              <a:rPr b="0" lang="ru-RU" sz="40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ru-RU" sz="40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ru-RU" sz="40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ru-RU" sz="40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ru-RU" sz="4000" spc="-1" strike="noStrike" u="sng">
                <a:solidFill>
                  <a:srgbClr val="006600"/>
                </a:solidFill>
                <a:uFillTx/>
                <a:latin typeface="Times New Roman"/>
              </a:rPr>
              <a:t>явление</a:t>
            </a:r>
            <a:r>
              <a:rPr b="0" lang="ru-RU" sz="4000" spc="-1" strike="noStrike">
                <a:solidFill>
                  <a:srgbClr val="0066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ec6000"/>
              </a:solidFill>
              <a:latin typeface="Times New Roman"/>
            </a:endParaRPr>
          </a:p>
        </p:txBody>
      </p:sp>
      <p:sp>
        <p:nvSpPr>
          <p:cNvPr id="501" name="AutoShape 5"/>
          <p:cNvSpPr/>
          <p:nvPr/>
        </p:nvSpPr>
        <p:spPr>
          <a:xfrm>
            <a:off x="1042920" y="2421000"/>
            <a:ext cx="2664000" cy="1511280"/>
          </a:xfrm>
          <a:prstGeom prst="flowChartPunchedTape">
            <a:avLst/>
          </a:prstGeom>
          <a:solidFill>
            <a:srgbClr val="ff9933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ЕИЗБЕЖНО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AutoShape 6"/>
          <p:cNvSpPr/>
          <p:nvPr/>
        </p:nvSpPr>
        <p:spPr>
          <a:xfrm>
            <a:off x="5364000" y="2276640"/>
            <a:ext cx="2737080" cy="1512720"/>
          </a:xfrm>
          <a:prstGeom prst="flowChartPunchedTape">
            <a:avLst/>
          </a:prstGeom>
          <a:solidFill>
            <a:srgbClr val="ff9933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ЕСТЕСТВЕННО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Line 7"/>
          <p:cNvSpPr/>
          <p:nvPr/>
        </p:nvSpPr>
        <p:spPr>
          <a:xfrm flipH="1">
            <a:off x="2556000" y="1773360"/>
            <a:ext cx="1008000" cy="57600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Line 8"/>
          <p:cNvSpPr/>
          <p:nvPr/>
        </p:nvSpPr>
        <p:spPr>
          <a:xfrm>
            <a:off x="5148360" y="1773360"/>
            <a:ext cx="1008000" cy="57600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AutoShape 9"/>
          <p:cNvSpPr/>
          <p:nvPr/>
        </p:nvSpPr>
        <p:spPr>
          <a:xfrm>
            <a:off x="2916360" y="4005360"/>
            <a:ext cx="3600360" cy="1944720"/>
          </a:xfrm>
          <a:prstGeom prst="upArrowCallout">
            <a:avLst>
              <a:gd name="adj1" fmla="val 46288"/>
              <a:gd name="adj2" fmla="val 46284"/>
              <a:gd name="adj3" fmla="val 16667"/>
              <a:gd name="adj4" fmla="val 66660"/>
            </a:avLst>
          </a:prstGeom>
          <a:gradFill rotWithShape="0">
            <a:gsLst>
              <a:gs pos="0">
                <a:srgbClr val="ff9933"/>
              </a:gs>
              <a:gs pos="50000">
                <a:srgbClr val="ffffff"/>
              </a:gs>
              <a:gs pos="100000">
                <a:srgbClr val="ff9933"/>
              </a:gs>
            </a:gsLst>
            <a:lin ang="2700000"/>
          </a:gra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естественные процессы в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звитии и движени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бочей силы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AutoShape 10"/>
          <p:cNvSpPr/>
          <p:nvPr/>
        </p:nvSpPr>
        <p:spPr>
          <a:xfrm>
            <a:off x="611280" y="5445000"/>
            <a:ext cx="720720" cy="576360"/>
          </a:xfrm>
          <a:custGeom>
            <a:avLst/>
            <a:gdLst>
              <a:gd name="textAreaLeft" fmla="*/ 37080 w 720720"/>
              <a:gd name="textAreaRight" fmla="*/ 683640 w 72072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7007" h="21600">
                <a:moveTo>
                  <a:pt x="0" y="0"/>
                </a:moveTo>
                <a:lnTo>
                  <a:pt x="27007" y="0"/>
                </a:lnTo>
                <a:lnTo>
                  <a:pt x="27007" y="21600"/>
                </a:lnTo>
                <a:lnTo>
                  <a:pt x="0" y="21600"/>
                </a:lnTo>
                <a:close/>
              </a:path>
              <a:path fill="lightenLess" w="27007" h="21600">
                <a:moveTo>
                  <a:pt x="0" y="0"/>
                </a:moveTo>
                <a:lnTo>
                  <a:pt x="27007" y="0"/>
                </a:lnTo>
                <a:lnTo>
                  <a:pt x="25607" y="1400"/>
                </a:lnTo>
                <a:lnTo>
                  <a:pt x="1400" y="1400"/>
                </a:lnTo>
                <a:close/>
              </a:path>
              <a:path fill="darken" w="27007" h="21600">
                <a:moveTo>
                  <a:pt x="27007" y="0"/>
                </a:moveTo>
                <a:lnTo>
                  <a:pt x="27007" y="21600"/>
                </a:lnTo>
                <a:lnTo>
                  <a:pt x="25607" y="20200"/>
                </a:lnTo>
                <a:lnTo>
                  <a:pt x="25607" y="1400"/>
                </a:lnTo>
                <a:close/>
              </a:path>
              <a:path fill="darkenLess" w="27007" h="21600">
                <a:moveTo>
                  <a:pt x="270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7" y="20200"/>
                </a:lnTo>
                <a:close/>
              </a:path>
              <a:path fill="lighten" w="270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7" h="21600">
                <a:moveTo>
                  <a:pt x="10004" y="10800"/>
                </a:moveTo>
                <a:lnTo>
                  <a:pt x="20510" y="3794"/>
                </a:lnTo>
                <a:lnTo>
                  <a:pt x="20510" y="17806"/>
                </a:lnTo>
                <a:close/>
              </a:path>
              <a:path fill="darken" w="27007" h="21600">
                <a:moveTo>
                  <a:pt x="6497" y="3794"/>
                </a:moveTo>
                <a:lnTo>
                  <a:pt x="8159" y="3794"/>
                </a:lnTo>
                <a:lnTo>
                  <a:pt x="8159" y="17806"/>
                </a:lnTo>
                <a:lnTo>
                  <a:pt x="6497" y="17806"/>
                </a:lnTo>
                <a:close/>
              </a:path>
            </a:pathLst>
          </a:custGeom>
          <a:solidFill>
            <a:srgbClr val="ff9933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0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7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1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5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8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9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10920" y="1341360"/>
            <a:ext cx="8218440" cy="405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6600"/>
                </a:solidFill>
                <a:latin typeface="Arial"/>
              </a:rPr>
              <a:t>Циклическая безработица</a:t>
            </a:r>
            <a:r>
              <a:rPr b="0" lang="ru-RU" sz="4000" spc="-1" strike="noStrike">
                <a:solidFill>
                  <a:srgbClr val="0033cc"/>
                </a:solidFill>
                <a:latin typeface="Arial"/>
              </a:rPr>
              <a:t> представляет собой отклонения от естественного уровня безработицы, связанные с краткосрочными колебаниями экономической активности  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cc"/>
                </a:solidFill>
                <a:latin typeface="Arial"/>
              </a:rPr>
              <a:t>Циклическая безработица</a:t>
            </a:r>
            <a:r>
              <a:rPr b="0" lang="ru-RU" sz="44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graphicFrame>
        <p:nvGraphicFramePr>
          <p:cNvPr id="511" name=""/>
          <p:cNvGraphicFramePr/>
          <p:nvPr/>
        </p:nvGraphicFramePr>
        <p:xfrm>
          <a:off x="457200" y="1981080"/>
          <a:ext cx="8229600" cy="3246480"/>
        </p:xfrm>
        <a:graphic>
          <a:graphicData uri="http://schemas.openxmlformats.org/drawingml/2006/table">
            <a:tbl>
              <a:tblPr/>
              <a:tblGrid>
                <a:gridCol w="2602080"/>
                <a:gridCol w="5627520"/>
              </a:tblGrid>
              <a:tr h="130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обеннос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1368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ba313"/>
                          </a:solidFill>
                          <a:latin typeface="Arial"/>
                        </a:rPr>
                        <a:t>рецессия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спад) в экономике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1368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194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чина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1368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9900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достаточность совокупных расходов в экономике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9900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кращением совокупного предложения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13680">
                      <a:solidFill>
                        <a:srgbClr val="0033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2" name="AutoShape 20"/>
          <p:cNvSpPr/>
          <p:nvPr/>
        </p:nvSpPr>
        <p:spPr>
          <a:xfrm>
            <a:off x="611280" y="5805360"/>
            <a:ext cx="720720" cy="576360"/>
          </a:xfrm>
          <a:custGeom>
            <a:avLst/>
            <a:gdLst>
              <a:gd name="textAreaLeft" fmla="*/ 37080 w 720720"/>
              <a:gd name="textAreaRight" fmla="*/ 683640 w 72072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7007" h="21600">
                <a:moveTo>
                  <a:pt x="0" y="0"/>
                </a:moveTo>
                <a:lnTo>
                  <a:pt x="27007" y="0"/>
                </a:lnTo>
                <a:lnTo>
                  <a:pt x="27007" y="21600"/>
                </a:lnTo>
                <a:lnTo>
                  <a:pt x="0" y="21600"/>
                </a:lnTo>
                <a:close/>
              </a:path>
              <a:path fill="lightenLess" w="27007" h="21600">
                <a:moveTo>
                  <a:pt x="0" y="0"/>
                </a:moveTo>
                <a:lnTo>
                  <a:pt x="27007" y="0"/>
                </a:lnTo>
                <a:lnTo>
                  <a:pt x="25607" y="1400"/>
                </a:lnTo>
                <a:lnTo>
                  <a:pt x="1400" y="1400"/>
                </a:lnTo>
                <a:close/>
              </a:path>
              <a:path fill="darken" w="27007" h="21600">
                <a:moveTo>
                  <a:pt x="27007" y="0"/>
                </a:moveTo>
                <a:lnTo>
                  <a:pt x="27007" y="21600"/>
                </a:lnTo>
                <a:lnTo>
                  <a:pt x="25607" y="20200"/>
                </a:lnTo>
                <a:lnTo>
                  <a:pt x="25607" y="1400"/>
                </a:lnTo>
                <a:close/>
              </a:path>
              <a:path fill="darkenLess" w="27007" h="21600">
                <a:moveTo>
                  <a:pt x="270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7" y="20200"/>
                </a:lnTo>
                <a:close/>
              </a:path>
              <a:path fill="lighten" w="270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7" h="21600">
                <a:moveTo>
                  <a:pt x="10004" y="10800"/>
                </a:moveTo>
                <a:lnTo>
                  <a:pt x="20510" y="3794"/>
                </a:lnTo>
                <a:lnTo>
                  <a:pt x="20510" y="17806"/>
                </a:lnTo>
                <a:close/>
              </a:path>
              <a:path fill="darken" w="27007" h="21600">
                <a:moveTo>
                  <a:pt x="6497" y="3794"/>
                </a:moveTo>
                <a:lnTo>
                  <a:pt x="8159" y="3794"/>
                </a:lnTo>
                <a:lnTo>
                  <a:pt x="8159" y="17806"/>
                </a:lnTo>
                <a:lnTo>
                  <a:pt x="6497" y="17806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Нижний колонтитул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Line 14"/>
          <p:cNvSpPr/>
          <p:nvPr/>
        </p:nvSpPr>
        <p:spPr>
          <a:xfrm flipH="1">
            <a:off x="6227640" y="2852640"/>
            <a:ext cx="865440" cy="244944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Line 13"/>
          <p:cNvSpPr/>
          <p:nvPr/>
        </p:nvSpPr>
        <p:spPr>
          <a:xfrm>
            <a:off x="1979640" y="2852640"/>
            <a:ext cx="1152360" cy="244800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99"/>
                </a:solidFill>
                <a:uFillTx/>
                <a:latin typeface="Arial"/>
              </a:rPr>
              <a:t>Последствия безработицы</a:t>
            </a:r>
            <a:r>
              <a:rPr b="0" lang="ru-RU" sz="4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7" name="Oval 4"/>
          <p:cNvSpPr/>
          <p:nvPr/>
        </p:nvSpPr>
        <p:spPr>
          <a:xfrm>
            <a:off x="1042920" y="5229360"/>
            <a:ext cx="2952720" cy="1295280"/>
          </a:xfrm>
          <a:prstGeom prst="ellipse">
            <a:avLst/>
          </a:prstGeom>
          <a:gradFill rotWithShape="0">
            <a:gsLst>
              <a:gs pos="0">
                <a:srgbClr val="ff6600"/>
              </a:gs>
              <a:gs pos="50000">
                <a:srgbClr val="ffffff"/>
              </a:gs>
              <a:gs pos="100000">
                <a:srgbClr val="ff6600"/>
              </a:gs>
            </a:gsLst>
            <a:lin ang="5400000"/>
          </a:gra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неполна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занятость ресурсов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Oval 6"/>
          <p:cNvSpPr/>
          <p:nvPr/>
        </p:nvSpPr>
        <p:spPr>
          <a:xfrm>
            <a:off x="395280" y="3573360"/>
            <a:ext cx="2808360" cy="1511280"/>
          </a:xfrm>
          <a:prstGeom prst="ellipse">
            <a:avLst/>
          </a:prstGeom>
          <a:gradFill rotWithShape="0">
            <a:gsLst>
              <a:gs pos="0">
                <a:srgbClr val="ff6600"/>
              </a:gs>
              <a:gs pos="50000">
                <a:srgbClr val="ffffff"/>
              </a:gs>
              <a:gs pos="100000">
                <a:srgbClr val="ff6600"/>
              </a:gs>
            </a:gsLst>
            <a:lin ang="5400000"/>
          </a:gra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макроэкономическа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нестабильност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Oval 7"/>
          <p:cNvSpPr/>
          <p:nvPr/>
        </p:nvSpPr>
        <p:spPr>
          <a:xfrm>
            <a:off x="6012000" y="3357720"/>
            <a:ext cx="2881080" cy="1295280"/>
          </a:xfrm>
          <a:prstGeom prst="ellipse">
            <a:avLst/>
          </a:prstGeom>
          <a:gradFill rotWithShape="0">
            <a:gsLst>
              <a:gs pos="0">
                <a:srgbClr val="ff6600"/>
              </a:gs>
              <a:gs pos="50000">
                <a:srgbClr val="ffffff"/>
              </a:gs>
              <a:gs pos="100000">
                <a:srgbClr val="ff6600"/>
              </a:gs>
            </a:gsLst>
            <a:lin ang="5400000"/>
          </a:gra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психологически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и социальны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Oval 8"/>
          <p:cNvSpPr/>
          <p:nvPr/>
        </p:nvSpPr>
        <p:spPr>
          <a:xfrm>
            <a:off x="5580000" y="5229360"/>
            <a:ext cx="2521080" cy="1296720"/>
          </a:xfrm>
          <a:prstGeom prst="ellipse">
            <a:avLst/>
          </a:prstGeom>
          <a:gradFill rotWithShape="0">
            <a:gsLst>
              <a:gs pos="0">
                <a:srgbClr val="ff6600"/>
              </a:gs>
              <a:gs pos="50000">
                <a:srgbClr val="ffffff"/>
              </a:gs>
              <a:gs pos="100000">
                <a:srgbClr val="ff6600"/>
              </a:gs>
            </a:gsLst>
            <a:lin ang="5400000"/>
          </a:gra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политически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AutoShape 10"/>
          <p:cNvSpPr/>
          <p:nvPr/>
        </p:nvSpPr>
        <p:spPr>
          <a:xfrm>
            <a:off x="611280" y="1773360"/>
            <a:ext cx="2663640" cy="1224000"/>
          </a:xfrm>
          <a:prstGeom prst="flowChartPunchedTape">
            <a:avLst/>
          </a:prstGeom>
          <a:solidFill>
            <a:srgbClr val="ff6600"/>
          </a:solidFill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ЭКОНОМИЧЕСК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AutoShape 11"/>
          <p:cNvSpPr/>
          <p:nvPr/>
        </p:nvSpPr>
        <p:spPr>
          <a:xfrm>
            <a:off x="5508720" y="1700280"/>
            <a:ext cx="2735280" cy="1369800"/>
          </a:xfrm>
          <a:prstGeom prst="flowChartPunchedTape">
            <a:avLst/>
          </a:prstGeom>
          <a:solidFill>
            <a:srgbClr val="ff6600"/>
          </a:solidFill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НЕЭКОНОМИЧЕСК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Line 12"/>
          <p:cNvSpPr/>
          <p:nvPr/>
        </p:nvSpPr>
        <p:spPr>
          <a:xfrm flipH="1">
            <a:off x="1403280" y="2997360"/>
            <a:ext cx="362160" cy="57600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Line 15"/>
          <p:cNvSpPr/>
          <p:nvPr/>
        </p:nvSpPr>
        <p:spPr>
          <a:xfrm>
            <a:off x="7236000" y="2781360"/>
            <a:ext cx="288720" cy="64764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AutoShape 17"/>
          <p:cNvSpPr/>
          <p:nvPr/>
        </p:nvSpPr>
        <p:spPr>
          <a:xfrm>
            <a:off x="3708360" y="1844640"/>
            <a:ext cx="1297080" cy="358920"/>
          </a:xfrm>
          <a:prstGeom prst="leftRightArrow">
            <a:avLst>
              <a:gd name="adj1" fmla="val 50000"/>
              <a:gd name="adj2" fmla="val 71942"/>
            </a:avLst>
          </a:prstGeom>
          <a:gradFill rotWithShape="0">
            <a:gsLst>
              <a:gs pos="0">
                <a:srgbClr val="ffcc99"/>
              </a:gs>
              <a:gs pos="100000">
                <a:srgbClr val="000099"/>
              </a:gs>
            </a:gsLst>
            <a:lin ang="2700000"/>
          </a:gra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0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6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0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0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4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1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8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2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2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2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6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2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0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3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4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3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8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Нижний колонтитул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8" name="AutoShape 4"/>
          <p:cNvSpPr/>
          <p:nvPr/>
        </p:nvSpPr>
        <p:spPr>
          <a:xfrm>
            <a:off x="2916360" y="260280"/>
            <a:ext cx="3600360" cy="1728720"/>
          </a:xfrm>
          <a:prstGeom prst="flowChartPunchedTape">
            <a:avLst/>
          </a:prstGeom>
          <a:solidFill>
            <a:srgbClr val="ff6600"/>
          </a:solidFill>
          <a:ln w="158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33cc"/>
                </a:solidFill>
                <a:uFillTx/>
                <a:latin typeface="Times New Roman"/>
              </a:rPr>
              <a:t>Индивидуальный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33cc"/>
                </a:solidFill>
                <a:uFillTx/>
                <a:latin typeface="Times New Roman"/>
              </a:rPr>
              <a:t>уровен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AutoShape 6"/>
          <p:cNvSpPr/>
          <p:nvPr/>
        </p:nvSpPr>
        <p:spPr>
          <a:xfrm>
            <a:off x="684360" y="2492280"/>
            <a:ext cx="2881080" cy="1657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fffff"/>
              </a:gs>
              <a:gs pos="100000">
                <a:srgbClr val="ff6600"/>
              </a:gs>
            </a:gsLst>
            <a:lin ang="5400000"/>
          </a:gra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Times New Roman"/>
              </a:rPr>
              <a:t>Чувство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Times New Roman"/>
              </a:rPr>
              <a:t>собственной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Times New Roman"/>
              </a:rPr>
              <a:t>неполноценности</a:t>
            </a: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AutoShape 7"/>
          <p:cNvSpPr/>
          <p:nvPr/>
        </p:nvSpPr>
        <p:spPr>
          <a:xfrm>
            <a:off x="1835280" y="4797360"/>
            <a:ext cx="2376360" cy="1225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fffff"/>
              </a:gs>
              <a:gs pos="100000">
                <a:srgbClr val="ff6600"/>
              </a:gs>
            </a:gsLst>
            <a:lin ang="5400000"/>
          </a:gra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Times New Roman"/>
              </a:rPr>
              <a:t>Отчаяни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AutoShape 8"/>
          <p:cNvSpPr/>
          <p:nvPr/>
        </p:nvSpPr>
        <p:spPr>
          <a:xfrm>
            <a:off x="5651640" y="2565360"/>
            <a:ext cx="2952720" cy="158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fffff"/>
              </a:gs>
              <a:gs pos="100000">
                <a:srgbClr val="ff6600"/>
              </a:gs>
            </a:gsLst>
            <a:lin ang="5400000"/>
          </a:gra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Times New Roman"/>
              </a:rPr>
              <a:t>Нервные </a:t>
            </a: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Times New Roman"/>
              </a:rPr>
              <a:t>сердечно-сосудисты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99"/>
                </a:solidFill>
                <a:latin typeface="Times New Roman"/>
              </a:rPr>
              <a:t>заболевания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AutoShape 9"/>
          <p:cNvSpPr/>
          <p:nvPr/>
        </p:nvSpPr>
        <p:spPr>
          <a:xfrm>
            <a:off x="4788000" y="4797360"/>
            <a:ext cx="2376360" cy="1224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fffff"/>
              </a:gs>
              <a:gs pos="100000">
                <a:srgbClr val="ff6600"/>
              </a:gs>
            </a:gsLst>
            <a:lin ang="5400000"/>
          </a:gra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1" i="1" lang="ru-RU" sz="2400" spc="-1" strike="noStrike">
                <a:solidFill>
                  <a:srgbClr val="000099"/>
                </a:solidFill>
                <a:latin typeface="Times New Roman"/>
              </a:rPr>
              <a:t>Психологические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Times New Roman"/>
              </a:rPr>
              <a:t>стрессы</a:t>
            </a: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Line 11"/>
          <p:cNvSpPr/>
          <p:nvPr/>
        </p:nvSpPr>
        <p:spPr>
          <a:xfrm flipH="1">
            <a:off x="2626920" y="1989000"/>
            <a:ext cx="792360" cy="50328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Line 12"/>
          <p:cNvSpPr/>
          <p:nvPr/>
        </p:nvSpPr>
        <p:spPr>
          <a:xfrm>
            <a:off x="4932360" y="1844640"/>
            <a:ext cx="431640" cy="295272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Line 13"/>
          <p:cNvSpPr/>
          <p:nvPr/>
        </p:nvSpPr>
        <p:spPr>
          <a:xfrm flipH="1">
            <a:off x="3635280" y="1989000"/>
            <a:ext cx="720720" cy="273528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Line 14"/>
          <p:cNvSpPr/>
          <p:nvPr/>
        </p:nvSpPr>
        <p:spPr>
          <a:xfrm>
            <a:off x="5364000" y="1700280"/>
            <a:ext cx="936720" cy="86508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0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5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9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3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5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7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1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6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5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6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9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7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3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7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7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Нижний колонтитул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10920" y="620640"/>
            <a:ext cx="7630920" cy="433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291400"/>
                </a:solidFill>
                <a:latin typeface="Arial"/>
              </a:rPr>
              <a:t>Безработица</a:t>
            </a:r>
            <a:r>
              <a:rPr b="0" i="1" lang="ru-RU" sz="4400" spc="-1" strike="noStrike">
                <a:solidFill>
                  <a:srgbClr val="0033cc"/>
                </a:solidFill>
                <a:latin typeface="Arial"/>
              </a:rPr>
              <a:t> – это ситуация, при которой люди не имеют работу или ожидают начало трудовой деятельности. </a:t>
            </a:r>
            <a:br>
              <a:rPr sz="4400"/>
            </a:b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442" name="Picture 4" descr="j0197784"/>
          <p:cNvPicPr/>
          <p:nvPr/>
        </p:nvPicPr>
        <p:blipFill>
          <a:blip r:embed="rId1"/>
          <a:stretch/>
        </p:blipFill>
        <p:spPr>
          <a:xfrm>
            <a:off x="5651640" y="3716280"/>
            <a:ext cx="2639880" cy="226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Нижний колонтитул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800" spc="-1" strike="noStrike">
                <a:solidFill>
                  <a:srgbClr val="291400"/>
                </a:solidFill>
                <a:latin typeface="Arial"/>
              </a:rPr>
              <a:t>Уровень безработицы</a:t>
            </a:r>
            <a:endParaRPr b="0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440" y="178596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33cc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0033cc"/>
                </a:solidFill>
                <a:latin typeface="Times New Roman"/>
              </a:rPr>
              <a:t>численность безработных </a:t>
            </a:r>
            <a:r>
              <a:rPr b="0" lang="ru-RU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33cc"/>
                </a:solidFill>
                <a:latin typeface="Times New Roman"/>
              </a:rPr>
              <a:t>     </a:t>
            </a:r>
            <a:r>
              <a:rPr b="0" lang="ru-RU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33cc"/>
                </a:solidFill>
                <a:latin typeface="Times New Roman"/>
              </a:rPr>
              <a:t>  х 100%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33cc"/>
                </a:solidFill>
                <a:latin typeface="Times New Roman"/>
              </a:rPr>
              <a:t>  </a:t>
            </a:r>
            <a:r>
              <a:rPr b="0" lang="ru-RU" sz="3200" spc="-1" strike="noStrike">
                <a:solidFill>
                  <a:srgbClr val="0033cc"/>
                </a:solidFill>
                <a:latin typeface="Times New Roman"/>
              </a:rPr>
              <a:t>общая численность рабочей сил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Line 4"/>
          <p:cNvSpPr/>
          <p:nvPr/>
        </p:nvSpPr>
        <p:spPr>
          <a:xfrm>
            <a:off x="1547640" y="3357720"/>
            <a:ext cx="482472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7" name="Picture 5" descr="j0149731"/>
          <p:cNvPicPr/>
          <p:nvPr/>
        </p:nvPicPr>
        <p:blipFill>
          <a:blip r:embed="rId1"/>
          <a:stretch/>
        </p:blipFill>
        <p:spPr>
          <a:xfrm>
            <a:off x="6877080" y="3789360"/>
            <a:ext cx="1609560" cy="2139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Нижний колонтитул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Line 12"/>
          <p:cNvSpPr/>
          <p:nvPr/>
        </p:nvSpPr>
        <p:spPr>
          <a:xfrm>
            <a:off x="2124000" y="1413000"/>
            <a:ext cx="525780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/>
          </p:nvPr>
        </p:nvSpPr>
        <p:spPr>
          <a:xfrm>
            <a:off x="539640" y="35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cc"/>
                </a:solidFill>
                <a:latin typeface="Arial"/>
              </a:rPr>
              <a:t>Типы безработицы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2" name="AutoShape 5"/>
          <p:cNvSpPr/>
          <p:nvPr/>
        </p:nvSpPr>
        <p:spPr>
          <a:xfrm>
            <a:off x="755640" y="2133720"/>
            <a:ext cx="2521080" cy="151128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cc99"/>
              </a:gs>
              <a:gs pos="100000">
                <a:srgbClr val="000099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фрикционна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AutoShape 6"/>
          <p:cNvSpPr/>
          <p:nvPr/>
        </p:nvSpPr>
        <p:spPr>
          <a:xfrm>
            <a:off x="3348000" y="4221000"/>
            <a:ext cx="2521080" cy="151164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cc99"/>
              </a:gs>
              <a:gs pos="100000">
                <a:srgbClr val="000099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циклическа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AutoShape 7"/>
          <p:cNvSpPr/>
          <p:nvPr/>
        </p:nvSpPr>
        <p:spPr>
          <a:xfrm>
            <a:off x="5651640" y="2205000"/>
            <a:ext cx="2520720" cy="151128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cc99"/>
              </a:gs>
              <a:gs pos="100000">
                <a:srgbClr val="000099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структурна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Line 9"/>
          <p:cNvSpPr/>
          <p:nvPr/>
        </p:nvSpPr>
        <p:spPr>
          <a:xfrm flipH="1">
            <a:off x="2268000" y="1484280"/>
            <a:ext cx="1295640" cy="576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Line 10"/>
          <p:cNvSpPr/>
          <p:nvPr/>
        </p:nvSpPr>
        <p:spPr>
          <a:xfrm>
            <a:off x="5724360" y="1484280"/>
            <a:ext cx="1224000" cy="576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Line 11"/>
          <p:cNvSpPr/>
          <p:nvPr/>
        </p:nvSpPr>
        <p:spPr>
          <a:xfrm>
            <a:off x="4572000" y="1628640"/>
            <a:ext cx="71280" cy="24480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AutoShape 13"/>
          <p:cNvSpPr/>
          <p:nvPr/>
        </p:nvSpPr>
        <p:spPr>
          <a:xfrm>
            <a:off x="2484360" y="242100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13544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7088" h="21600">
                <a:moveTo>
                  <a:pt x="13544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7088" h="21600">
                <a:moveTo>
                  <a:pt x="10968" y="8224"/>
                </a:moveTo>
                <a:lnTo>
                  <a:pt x="14832" y="8224"/>
                </a:lnTo>
                <a:lnTo>
                  <a:pt x="14832" y="15221"/>
                </a:lnTo>
                <a:lnTo>
                  <a:pt x="16120" y="15221"/>
                </a:lnTo>
                <a:lnTo>
                  <a:pt x="16120" y="16144"/>
                </a:lnTo>
                <a:lnTo>
                  <a:pt x="10968" y="16144"/>
                </a:lnTo>
                <a:lnTo>
                  <a:pt x="10968" y="15221"/>
                </a:lnTo>
                <a:lnTo>
                  <a:pt x="12256" y="15221"/>
                </a:lnTo>
                <a:lnTo>
                  <a:pt x="12256" y="9129"/>
                </a:lnTo>
                <a:lnTo>
                  <a:pt x="10968" y="9129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AutoShape 14"/>
          <p:cNvSpPr/>
          <p:nvPr/>
        </p:nvSpPr>
        <p:spPr>
          <a:xfrm>
            <a:off x="7380360" y="249228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13544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7088" h="21600">
                <a:moveTo>
                  <a:pt x="13544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7088" h="21600">
                <a:moveTo>
                  <a:pt x="10968" y="8224"/>
                </a:moveTo>
                <a:lnTo>
                  <a:pt x="14832" y="8224"/>
                </a:lnTo>
                <a:lnTo>
                  <a:pt x="14832" y="15221"/>
                </a:lnTo>
                <a:lnTo>
                  <a:pt x="16120" y="15221"/>
                </a:lnTo>
                <a:lnTo>
                  <a:pt x="16120" y="16144"/>
                </a:lnTo>
                <a:lnTo>
                  <a:pt x="10968" y="16144"/>
                </a:lnTo>
                <a:lnTo>
                  <a:pt x="10968" y="15221"/>
                </a:lnTo>
                <a:lnTo>
                  <a:pt x="12256" y="15221"/>
                </a:lnTo>
                <a:lnTo>
                  <a:pt x="12256" y="9129"/>
                </a:lnTo>
                <a:lnTo>
                  <a:pt x="10968" y="9129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AutoShape 15"/>
          <p:cNvSpPr/>
          <p:nvPr/>
        </p:nvSpPr>
        <p:spPr>
          <a:xfrm>
            <a:off x="5003640" y="4508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13544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7088" h="21600">
                <a:moveTo>
                  <a:pt x="13544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7088" h="21600">
                <a:moveTo>
                  <a:pt x="10968" y="8224"/>
                </a:moveTo>
                <a:lnTo>
                  <a:pt x="14832" y="8224"/>
                </a:lnTo>
                <a:lnTo>
                  <a:pt x="14832" y="15221"/>
                </a:lnTo>
                <a:lnTo>
                  <a:pt x="16120" y="15221"/>
                </a:lnTo>
                <a:lnTo>
                  <a:pt x="16120" y="16144"/>
                </a:lnTo>
                <a:lnTo>
                  <a:pt x="10968" y="16144"/>
                </a:lnTo>
                <a:lnTo>
                  <a:pt x="10968" y="15221"/>
                </a:lnTo>
                <a:lnTo>
                  <a:pt x="12256" y="15221"/>
                </a:lnTo>
                <a:lnTo>
                  <a:pt x="12256" y="9129"/>
                </a:lnTo>
                <a:lnTo>
                  <a:pt x="10968" y="9129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0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5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Нижний колонтитул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11280" y="1125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91400"/>
                </a:solidFill>
                <a:latin typeface="Arial"/>
              </a:rPr>
              <a:t>Фрикционная безработица связана с поиском работы и ожиданием выхода на работу.</a:t>
            </a: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463" name=""/>
          <p:cNvGraphicFramePr/>
          <p:nvPr/>
        </p:nvGraphicFramePr>
        <p:xfrm>
          <a:off x="487440" y="3548160"/>
          <a:ext cx="7608960" cy="3170160"/>
        </p:xfrm>
        <a:graphic>
          <a:graphicData uri="http://schemas.openxmlformats.org/drawingml/2006/table">
            <a:tbl>
              <a:tblPr/>
              <a:tblGrid>
                <a:gridCol w="2301840"/>
                <a:gridCol w="5307120"/>
              </a:tblGrid>
              <a:tr h="1798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Особеннос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работу ищут уже </a:t>
                      </a:r>
                      <a:r>
                        <a:rPr b="0" i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готовые специалисты</a:t>
                      </a:r>
                      <a:r>
                        <a:rPr b="0" i="1" lang="ru-RU" sz="28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с определенным уровнем профессиональной подготовки и квалификации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Причин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есовершенство информации</a:t>
                      </a:r>
                      <a:r>
                        <a:rPr b="0" i="1" lang="ru-RU" sz="28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(сведений о наличии свободных рабочих мест)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Нижний колонтитул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4360" y="90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cc"/>
                </a:solidFill>
                <a:latin typeface="Arial"/>
              </a:rPr>
              <a:t>К фрикционным безработным относятся люди:</a:t>
            </a:r>
            <a:br>
              <a:rPr sz="4000"/>
            </a:b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6" name="Oval 9"/>
          <p:cNvSpPr/>
          <p:nvPr/>
        </p:nvSpPr>
        <p:spPr>
          <a:xfrm>
            <a:off x="2771640" y="3500280"/>
            <a:ext cx="3384720" cy="1295640"/>
          </a:xfrm>
          <a:prstGeom prst="ellipse">
            <a:avLst/>
          </a:prstGeom>
          <a:solidFill>
            <a:srgbClr val="ffb98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Times New Roman"/>
              </a:rPr>
              <a:t>уволившиеся п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33cc"/>
                </a:solidFill>
                <a:latin typeface="Times New Roman"/>
              </a:rPr>
              <a:t>собственному желанию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Oval 10"/>
          <p:cNvSpPr/>
          <p:nvPr/>
        </p:nvSpPr>
        <p:spPr>
          <a:xfrm>
            <a:off x="5219640" y="4653000"/>
            <a:ext cx="3384720" cy="1295280"/>
          </a:xfrm>
          <a:prstGeom prst="ellipse">
            <a:avLst/>
          </a:prstGeom>
          <a:solidFill>
            <a:srgbClr val="ffb98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Times New Roman"/>
              </a:rPr>
              <a:t>нашедшие работу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33cc"/>
                </a:solidFill>
                <a:latin typeface="Times New Roman"/>
              </a:rPr>
              <a:t>но еще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Times New Roman"/>
              </a:rPr>
              <a:t>не приступившие к не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Oval 11"/>
          <p:cNvSpPr/>
          <p:nvPr/>
        </p:nvSpPr>
        <p:spPr>
          <a:xfrm>
            <a:off x="179280" y="4653000"/>
            <a:ext cx="3384720" cy="1295280"/>
          </a:xfrm>
          <a:prstGeom prst="ellipse">
            <a:avLst/>
          </a:prstGeom>
          <a:solidFill>
            <a:srgbClr val="ffb98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Times New Roman"/>
              </a:rPr>
              <a:t>сезонные рабочие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Times New Roman"/>
              </a:rPr>
              <a:t>(не в сезон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Line 14"/>
          <p:cNvSpPr/>
          <p:nvPr/>
        </p:nvSpPr>
        <p:spPr>
          <a:xfrm flipH="1">
            <a:off x="2268360" y="1773360"/>
            <a:ext cx="1152720" cy="360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Line 15"/>
          <p:cNvSpPr/>
          <p:nvPr/>
        </p:nvSpPr>
        <p:spPr>
          <a:xfrm>
            <a:off x="4500720" y="1773360"/>
            <a:ext cx="0" cy="16556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Line 16"/>
          <p:cNvSpPr/>
          <p:nvPr/>
        </p:nvSpPr>
        <p:spPr>
          <a:xfrm>
            <a:off x="4861080" y="1700280"/>
            <a:ext cx="2374920" cy="30240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Line 17"/>
          <p:cNvSpPr/>
          <p:nvPr/>
        </p:nvSpPr>
        <p:spPr>
          <a:xfrm flipH="1">
            <a:off x="1476000" y="1773360"/>
            <a:ext cx="2590920" cy="28796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Line 18"/>
          <p:cNvSpPr/>
          <p:nvPr/>
        </p:nvSpPr>
        <p:spPr>
          <a:xfrm>
            <a:off x="5292720" y="1700280"/>
            <a:ext cx="863640" cy="4334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Oval 12"/>
          <p:cNvSpPr/>
          <p:nvPr/>
        </p:nvSpPr>
        <p:spPr>
          <a:xfrm>
            <a:off x="357120" y="2143080"/>
            <a:ext cx="3384720" cy="1295280"/>
          </a:xfrm>
          <a:prstGeom prst="ellipse">
            <a:avLst/>
          </a:prstGeom>
          <a:solidFill>
            <a:srgbClr val="ffb98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Times New Roman"/>
              </a:rPr>
              <a:t>ожидающие восстановлен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33cc"/>
                </a:solidFill>
                <a:latin typeface="Times New Roman"/>
              </a:rPr>
              <a:t>на прежней работ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Oval 8"/>
          <p:cNvSpPr/>
          <p:nvPr/>
        </p:nvSpPr>
        <p:spPr>
          <a:xfrm>
            <a:off x="5364000" y="2060640"/>
            <a:ext cx="3384720" cy="1295280"/>
          </a:xfrm>
          <a:prstGeom prst="ellipse">
            <a:avLst/>
          </a:prstGeom>
          <a:solidFill>
            <a:srgbClr val="ffb98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Times New Roman"/>
              </a:rPr>
              <a:t>уволенные с работы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Times New Roman"/>
              </a:rPr>
              <a:t>по приказу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Times New Roman"/>
              </a:rPr>
              <a:t>администраци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5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9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3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7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1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5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9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9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3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9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7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9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1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Нижний колонтитул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cc"/>
                </a:solidFill>
                <a:latin typeface="Arial"/>
              </a:rPr>
              <a:t>Фрикционная безработица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8" name="AutoShape 4"/>
          <p:cNvSpPr/>
          <p:nvPr/>
        </p:nvSpPr>
        <p:spPr>
          <a:xfrm>
            <a:off x="611280" y="1844640"/>
            <a:ext cx="2592360" cy="1511280"/>
          </a:xfrm>
          <a:prstGeom prst="flowChartPunchedTape">
            <a:avLst/>
          </a:prstGeom>
          <a:gradFill rotWithShape="0">
            <a:gsLst>
              <a:gs pos="0">
                <a:srgbClr val="ffcc99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НЕИЗБЕЖН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AutoShape 9"/>
          <p:cNvSpPr/>
          <p:nvPr/>
        </p:nvSpPr>
        <p:spPr>
          <a:xfrm>
            <a:off x="3708360" y="2565360"/>
            <a:ext cx="1655640" cy="358920"/>
          </a:xfrm>
          <a:prstGeom prst="leftRightArrow">
            <a:avLst>
              <a:gd name="adj1" fmla="val 50000"/>
              <a:gd name="adj2" fmla="val 91829"/>
            </a:avLst>
          </a:prstGeom>
          <a:gradFill rotWithShape="0">
            <a:gsLst>
              <a:gs pos="0">
                <a:srgbClr val="ffcc99"/>
              </a:gs>
              <a:gs pos="100000">
                <a:srgbClr val="000099"/>
              </a:gs>
            </a:gsLst>
            <a:lin ang="27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AutoShape 11"/>
          <p:cNvSpPr/>
          <p:nvPr/>
        </p:nvSpPr>
        <p:spPr>
          <a:xfrm>
            <a:off x="468360" y="4365720"/>
            <a:ext cx="3529080" cy="136692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СВЯЗАН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cc"/>
                </a:solidFill>
                <a:latin typeface="Times New Roman"/>
              </a:rPr>
              <a:t>с естественными тенденциями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cc"/>
                </a:solidFill>
                <a:latin typeface="Times New Roman"/>
              </a:rPr>
              <a:t>в движении рабочей сил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AutoShape 12"/>
          <p:cNvSpPr/>
          <p:nvPr/>
        </p:nvSpPr>
        <p:spPr>
          <a:xfrm>
            <a:off x="4932360" y="4365720"/>
            <a:ext cx="3673440" cy="143964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СПОСОБСТВУЕ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33cc"/>
                </a:solidFill>
                <a:latin typeface="Times New Roman"/>
              </a:rPr>
              <a:t>более рациональному размещению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33cc"/>
                </a:solidFill>
                <a:latin typeface="Times New Roman"/>
              </a:rPr>
              <a:t>рабочей силы и более высокой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cc"/>
                </a:solidFill>
                <a:latin typeface="Times New Roman"/>
              </a:rPr>
              <a:t>производительност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AutoShape 13"/>
          <p:cNvSpPr/>
          <p:nvPr/>
        </p:nvSpPr>
        <p:spPr>
          <a:xfrm>
            <a:off x="6012000" y="1700280"/>
            <a:ext cx="2592360" cy="1511280"/>
          </a:xfrm>
          <a:prstGeom prst="flowChartPunchedTape">
            <a:avLst/>
          </a:prstGeom>
          <a:gradFill rotWithShape="0">
            <a:gsLst>
              <a:gs pos="0">
                <a:srgbClr val="ffcc99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ЖЕЛАТЕЛЬН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AutoShape 20"/>
          <p:cNvSpPr/>
          <p:nvPr/>
        </p:nvSpPr>
        <p:spPr>
          <a:xfrm rot="1734600">
            <a:off x="3347640" y="1413000"/>
            <a:ext cx="287280" cy="3095640"/>
          </a:xfrm>
          <a:prstGeom prst="downArrow">
            <a:avLst>
              <a:gd name="adj1" fmla="val 0"/>
              <a:gd name="adj2" fmla="val 308953"/>
            </a:avLst>
          </a:prstGeom>
          <a:gradFill rotWithShape="0">
            <a:gsLst>
              <a:gs pos="0">
                <a:srgbClr val="000099"/>
              </a:gs>
              <a:gs pos="100000">
                <a:srgbClr val="ffcc99"/>
              </a:gs>
            </a:gsLst>
            <a:lin ang="966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AutoShape 21"/>
          <p:cNvSpPr/>
          <p:nvPr/>
        </p:nvSpPr>
        <p:spPr>
          <a:xfrm rot="19807800">
            <a:off x="5651640" y="1413000"/>
            <a:ext cx="287280" cy="3095640"/>
          </a:xfrm>
          <a:prstGeom prst="downArrow">
            <a:avLst>
              <a:gd name="adj1" fmla="val 0"/>
              <a:gd name="adj2" fmla="val 308953"/>
            </a:avLst>
          </a:prstGeom>
          <a:gradFill rotWithShape="0">
            <a:gsLst>
              <a:gs pos="0">
                <a:srgbClr val="000099"/>
              </a:gs>
              <a:gs pos="100000">
                <a:srgbClr val="ffcc99"/>
              </a:gs>
            </a:gsLst>
            <a:lin ang="4494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0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8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2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2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6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0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4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Нижний колонтитул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134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ed3c05"/>
                </a:solidFill>
                <a:latin typeface="Arial"/>
              </a:rPr>
              <a:t>Уровень фрикционной безработицы</a:t>
            </a: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Times New Roman"/>
              </a:rPr>
              <a:t>количество фрикционных безработных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33cc"/>
                </a:solidFill>
                <a:latin typeface="Times New Roman"/>
              </a:rPr>
              <a:t>х 100%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Times New Roman"/>
              </a:rPr>
              <a:t>общая численность рабочей сил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8" name="Line 4"/>
          <p:cNvSpPr/>
          <p:nvPr/>
        </p:nvSpPr>
        <p:spPr>
          <a:xfrm>
            <a:off x="755640" y="3357720"/>
            <a:ext cx="612144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9" name="Picture 10" descr="j0149576"/>
          <p:cNvPicPr/>
          <p:nvPr/>
        </p:nvPicPr>
        <p:blipFill>
          <a:blip r:embed="rId1"/>
          <a:stretch/>
        </p:blipFill>
        <p:spPr>
          <a:xfrm>
            <a:off x="6156360" y="4005360"/>
            <a:ext cx="2403360" cy="1904760"/>
          </a:xfrm>
          <a:prstGeom prst="rect">
            <a:avLst/>
          </a:prstGeom>
          <a:ln w="0">
            <a:noFill/>
          </a:ln>
        </p:spPr>
      </p:pic>
      <p:sp>
        <p:nvSpPr>
          <p:cNvPr id="490" name="AutoShape 11"/>
          <p:cNvSpPr/>
          <p:nvPr/>
        </p:nvSpPr>
        <p:spPr>
          <a:xfrm>
            <a:off x="611280" y="5445000"/>
            <a:ext cx="720720" cy="576360"/>
          </a:xfrm>
          <a:custGeom>
            <a:avLst/>
            <a:gdLst>
              <a:gd name="textAreaLeft" fmla="*/ 37080 w 720720"/>
              <a:gd name="textAreaRight" fmla="*/ 683640 w 72072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7007" h="21600">
                <a:moveTo>
                  <a:pt x="0" y="0"/>
                </a:moveTo>
                <a:lnTo>
                  <a:pt x="27007" y="0"/>
                </a:lnTo>
                <a:lnTo>
                  <a:pt x="27007" y="21600"/>
                </a:lnTo>
                <a:lnTo>
                  <a:pt x="0" y="21600"/>
                </a:lnTo>
                <a:close/>
              </a:path>
              <a:path fill="lightenLess" w="27007" h="21600">
                <a:moveTo>
                  <a:pt x="0" y="0"/>
                </a:moveTo>
                <a:lnTo>
                  <a:pt x="27007" y="0"/>
                </a:lnTo>
                <a:lnTo>
                  <a:pt x="25607" y="1400"/>
                </a:lnTo>
                <a:lnTo>
                  <a:pt x="1400" y="1400"/>
                </a:lnTo>
                <a:close/>
              </a:path>
              <a:path fill="darken" w="27007" h="21600">
                <a:moveTo>
                  <a:pt x="27007" y="0"/>
                </a:moveTo>
                <a:lnTo>
                  <a:pt x="27007" y="21600"/>
                </a:lnTo>
                <a:lnTo>
                  <a:pt x="25607" y="20200"/>
                </a:lnTo>
                <a:lnTo>
                  <a:pt x="25607" y="1400"/>
                </a:lnTo>
                <a:close/>
              </a:path>
              <a:path fill="darkenLess" w="27007" h="21600">
                <a:moveTo>
                  <a:pt x="270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7" y="20200"/>
                </a:lnTo>
                <a:close/>
              </a:path>
              <a:path fill="lighten" w="270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7" h="21600">
                <a:moveTo>
                  <a:pt x="10004" y="10800"/>
                </a:moveTo>
                <a:lnTo>
                  <a:pt x="20510" y="3794"/>
                </a:lnTo>
                <a:lnTo>
                  <a:pt x="20510" y="17806"/>
                </a:lnTo>
                <a:close/>
              </a:path>
              <a:path fill="darken" w="27007" h="21600">
                <a:moveTo>
                  <a:pt x="6497" y="3794"/>
                </a:moveTo>
                <a:lnTo>
                  <a:pt x="8159" y="3794"/>
                </a:lnTo>
                <a:lnTo>
                  <a:pt x="8159" y="17806"/>
                </a:lnTo>
                <a:lnTo>
                  <a:pt x="6497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c6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d3c05"/>
                </a:solidFill>
                <a:latin typeface="Times New Roman"/>
              </a:rPr>
              <a:t>	</a:t>
            </a:r>
            <a:r>
              <a:rPr b="1" lang="ru-RU" sz="4400" spc="-1" strike="noStrike">
                <a:solidFill>
                  <a:srgbClr val="ed3c05"/>
                </a:solidFill>
                <a:latin typeface="Times New Roman"/>
              </a:rPr>
              <a:t>Структурная безработица</a:t>
            </a:r>
            <a:endParaRPr b="0" lang="en-US" sz="4400" spc="-1" strike="noStrike">
              <a:solidFill>
                <a:srgbClr val="ec6000"/>
              </a:solidFill>
              <a:latin typeface="Times New Roman"/>
            </a:endParaRPr>
          </a:p>
        </p:txBody>
      </p:sp>
      <p:graphicFrame>
        <p:nvGraphicFramePr>
          <p:cNvPr id="493" name=""/>
          <p:cNvGraphicFramePr/>
          <p:nvPr/>
        </p:nvGraphicFramePr>
        <p:xfrm>
          <a:off x="684360" y="2205000"/>
          <a:ext cx="8062920" cy="3753000"/>
        </p:xfrm>
        <a:graphic>
          <a:graphicData uri="http://schemas.openxmlformats.org/drawingml/2006/table">
            <a:tbl>
              <a:tblPr/>
              <a:tblGrid>
                <a:gridCol w="2733480"/>
                <a:gridCol w="5329440"/>
              </a:tblGrid>
              <a:tr h="108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Обусловлена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1368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d3c05"/>
                          </a:solidFill>
                          <a:latin typeface="Times New Roman"/>
                        </a:rPr>
                        <a:t>структурными сдвигами</a:t>
                      </a:r>
                      <a:r>
                        <a:rPr b="0" lang="ru-RU" sz="28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( structural shifts ) в экономик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00"/>
                      </a:solidFill>
                    </a:lnL>
                    <a:lnR w="13680">
                      <a:solidFill>
                        <a:srgbClr val="006600"/>
                      </a:solidFill>
                    </a:lnR>
                    <a:lnT w="1368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Причин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d3c05"/>
                          </a:solidFill>
                          <a:latin typeface="Times New Roman"/>
                        </a:rPr>
                        <a:t>несоответствие структуры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рабочей силы структуре рабочих мес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00"/>
                      </a:solidFill>
                    </a:lnL>
                    <a:lnR w="1368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noFill/>
                  </a:tcPr>
                </a:tc>
              </a:tr>
              <a:tr h="129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Особенность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1368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олее </a:t>
                      </a:r>
                      <a:r>
                        <a:rPr b="0" lang="ru-RU" sz="2800" spc="-1" strike="noStrike">
                          <a:solidFill>
                            <a:srgbClr val="ed3c05"/>
                          </a:solidFill>
                          <a:latin typeface="Times New Roman"/>
                        </a:rPr>
                        <a:t>продолжительна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и </a:t>
                      </a:r>
                      <a:r>
                        <a:rPr b="0" lang="ru-RU" sz="2800" spc="-1" strike="noStrike">
                          <a:solidFill>
                            <a:srgbClr val="ed3c05"/>
                          </a:solidFill>
                          <a:latin typeface="Times New Roman"/>
                        </a:rPr>
                        <a:t>дорогостояща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 чем фрикционная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00"/>
                      </a:solidFill>
                    </a:lnL>
                    <a:lnR w="1368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13680">
                      <a:solidFill>
                        <a:srgbClr val="0066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2T19:55:37Z</dcterms:created>
  <dc:creator>User</dc:creator>
  <dc:description/>
  <dc:language>en-US</dc:language>
  <cp:lastModifiedBy>LEGION</cp:lastModifiedBy>
  <dcterms:modified xsi:type="dcterms:W3CDTF">2014-11-10T12:08:41Z</dcterms:modified>
  <cp:revision>34</cp:revision>
  <dc:subject/>
  <dc:title>Слайд 1</dc:title>
</cp:coreProperties>
</file>