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64BC-74C6-4C78-A773-67B75CE2C0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1919"/>
                </a:solidFill>
                <a:latin typeface="Arial"/>
              </a:rPr>
              <a:t>Типы  безработиц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38A5-E845-4148-B33F-FB22F62FA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ая безработица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яв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20F9-51D4-41C7-98CB-B9A91B9D6D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5900-7C05-4E8D-B05F-8FE7B2C1D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5D2D-913E-4458-A6EA-B10B32CCF5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61B1-5880-4A91-BD5E-FDB8BEABE8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91919"/>
                </a:solidFill>
                <a:latin typeface="Arial"/>
              </a:rPr>
              <a:t>Безработица</a:t>
            </a:r>
            <a:r>
              <a:rPr b="0" i="1" lang="ru-RU" sz="12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7E1E-BC89-4346-B34E-577B0469B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000" spc="-1" strike="noStrike">
                <a:solidFill>
                  <a:srgbClr val="191919"/>
                </a:solidFill>
                <a:latin typeface="Arial"/>
              </a:rPr>
              <a:t>Уровень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численность безработных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38EA-A742-4F1A-8B37-EDC5A9BB1A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24EF-6B07-4B17-AA89-22FF6364E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1919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CAE2-6A16-4702-A677-CA0FD50EA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1CE4-ECA5-4A70-B75C-D641DD456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CA12-0D6C-4D77-82BE-3B03C2454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количество фрикционных безраб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х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общая численность рабочей с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C5C3-F4FE-4754-AC30-EE04DB591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ed3c05"/>
                </a:solidFill>
                <a:latin typeface="Arial"/>
              </a:rPr>
              <a:t>Структурная безработ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3A7F-B6B6-4CDE-B1A2-796B362895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A36-509C-4D91-B154-7829F280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927-7182-4267-92DC-F624F3F6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CD4-38D0-41E6-A351-67D9B74F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F36-99FF-4E5D-944B-EF05456C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E586-7C5B-45CB-BC5F-479D8CB6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D57C-43D2-4E88-9CF5-657B1903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1D25-4D2E-4799-97C5-E799C84B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F83B-0A68-48C7-972B-5DF62B2C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DC35-09E8-4FD3-903D-E945F92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A2C3-A0B0-4EE6-AA57-C401F37B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8067-EF1C-478C-8B30-21288CE9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0E14-3DAA-4CCB-A77C-84418840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9EBF-C629-4332-8ACB-A728BA2F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3E39-8B6B-4A4B-B369-E0AEE6A9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B728-9697-4D4B-9B92-392C04FE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0F0C-911A-4260-82EA-8DFB30FB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5528-D131-46B5-B74D-7843F673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7F6E8-6593-45F0-8284-2173F9B6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3CF05-C961-4AA7-823B-7D131A28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57221-A773-48A4-8DAA-944765F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1891-F61D-41F2-A9B0-D7A39D77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D51D-B9E0-442C-8DA5-9C8AFD0E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5E7-3518-4B57-B16C-E00575D5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0107-0E5A-46C3-8333-E2E4D2F0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029A-6BDA-4D05-805C-034492D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EBD9-7580-4EFC-BFD8-EB32D474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7900-FF48-49FF-B53F-EAA1BD36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6259-3301-4235-A03C-35A29B9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E66C-C711-42E7-AA47-D23ABBB1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0E2F-BE5F-4BCF-9A13-1C159082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D53FA-AF80-4D06-8DF7-7148D504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EF534-5BA9-40EF-84F0-5C616480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C0A3CD-083B-42A3-8D3D-BAE0D86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3B3-A48C-4F49-8E0D-A8CAC7A1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3AE6A-0E03-4BFB-8887-7E4D8C92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048C1-B21E-479C-9A7E-71518DA4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085D7E-9C28-43B4-BD1C-9E6A549E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67646-735E-4FAD-97EB-EE01B8A4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DE37C-41CE-429C-AD32-5FC650F5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C17F3-9356-4772-9A15-7BFA3737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0B1AF-FC56-473E-9DF0-21786430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B1DF4-315E-465D-AABA-BB3F0262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B9469-7E4D-4BF5-A878-FCE72DAF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D0790-9C15-47C6-BF08-57C64BC6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1B2-DC2A-45E0-8B8C-6F8F5447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BA73F-7F36-4442-AAE7-0DE10725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CDC7-73CD-4F7D-AAD0-CB3DEFCB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AAB09-FDD0-4C67-89DD-954C437D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7B50-46A4-46B5-8984-2DF1AEA8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71B4D-21FF-4D45-BD70-2DF1A45E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76F7B-1C89-4D7A-B53E-789C3F18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622BA-94EE-41FA-A506-8F200F1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72C1E-ECAA-4172-AF88-FD477B5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3CC43-FF93-4E79-89FA-ED4B372D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8BF12-24D5-4E77-B712-002A652C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F8C-93C9-4EBF-B2AE-1ACA5088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02546-EE04-44F7-A718-1238F24B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804A-BD21-4477-AFEC-B7A12D5A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1B481-5F4A-45FB-A77F-6C9111B4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47D68-7FAF-46E0-AF3E-E8623D30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6911-F2A3-40C6-B520-7ED5594A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108A8-8492-4D48-841D-BE3034B8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89AF-9D7D-4EC5-BBCD-B426601D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1D173-6289-43CB-B5EE-43D381B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6EA33-B544-4697-B3E5-5CDD7B38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1666D-96CB-440F-84E7-09F43656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4E7-A61F-48C1-AC81-FA0222B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B724F-0EDD-46D3-981E-47AEADD4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45D1D-BE84-4B82-89A1-490473D4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02084-914A-4333-A737-4368626E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A6758-F608-43C2-A43B-1D86F53F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9A6B6-EDC6-4B4B-97CE-6AE9931B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8182F-8C77-49E6-8E06-01A2DA8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CF0B1-AD35-49F5-BECF-BB1EC8CE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B2240-A87F-4801-8F27-1823F5A5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9C0B4-4562-4B77-973E-515374FF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484FF-8C4F-400A-B9C3-F12B1E2E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C13-D670-4E19-A950-07807B9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2546-359F-4047-B876-C8EBF93E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3FC84-27D4-43F6-B53F-20A85FD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D3168-D905-4544-86C0-86283A27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8A0C4-470B-4BCF-95DD-3CA610C0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6056F-219E-4285-935A-9086BC23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118EF-CCE2-40F9-8B78-DB2B4D7B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3AFE-C8D4-47F7-89CD-FDD7D48A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C4FFF-AA15-4524-B871-AFEAAD38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73717-2DC7-43AA-B747-C68FE068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7C3F3-AAAB-4E69-ABDE-F1892E1C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2A8-A9FF-496F-BD77-FE2062B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75471-9671-418F-9395-A4C78677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49053-E9C4-4267-BB22-4C1CB0E0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01D67-8386-45EE-923D-B5A8C947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5A19B-6E0A-48D0-B1E0-FC80DE36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C15FB-A268-458A-9B3C-0BE8CA7E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8A230-9B36-4A1C-A674-CC4F442A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3879F-8D3D-4742-A39F-C3F73DB3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1E62-B48F-4AE6-89A3-8F7D34120DFA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EA08-F247-48FE-A83F-62BE4416035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56160" y="-25200"/>
            <a:ext cx="9200160" cy="2082600"/>
            <a:chOff x="-56160" y="-25200"/>
            <a:chExt cx="9200160" cy="2082600"/>
          </a:xfrm>
        </p:grpSpPr>
        <p:grpSp>
          <p:nvGrpSpPr>
            <p:cNvPr id="42" name="Group 3"/>
            <p:cNvGrpSpPr/>
            <p:nvPr/>
          </p:nvGrpSpPr>
          <p:grpSpPr>
            <a:xfrm>
              <a:off x="-56160" y="-25200"/>
              <a:ext cx="2832840" cy="1098000"/>
              <a:chOff x="-56160" y="-25200"/>
              <a:chExt cx="2832840" cy="1098000"/>
            </a:xfrm>
          </p:grpSpPr>
          <p:sp>
            <p:nvSpPr>
              <p:cNvPr id="43" name="Arc 4"/>
              <p:cNvSpPr/>
              <p:nvPr/>
            </p:nvSpPr>
            <p:spPr>
              <a:xfrm flipV="1" rot="459000">
                <a:off x="154080" y="-288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Arc 5"/>
              <p:cNvSpPr/>
              <p:nvPr/>
            </p:nvSpPr>
            <p:spPr>
              <a:xfrm flipV="1" rot="19293000">
                <a:off x="304200" y="-72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Arc 6"/>
              <p:cNvSpPr/>
              <p:nvPr/>
            </p:nvSpPr>
            <p:spPr>
              <a:xfrm flipV="1" rot="19635600">
                <a:off x="533520" y="-3132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rc 7"/>
              <p:cNvSpPr/>
              <p:nvPr/>
            </p:nvSpPr>
            <p:spPr>
              <a:xfrm flipV="1" rot="20128800">
                <a:off x="304200" y="0"/>
                <a:ext cx="108000" cy="685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rc 8"/>
              <p:cNvSpPr/>
              <p:nvPr/>
            </p:nvSpPr>
            <p:spPr>
              <a:xfrm flipV="1" rot="19635600">
                <a:off x="609480" y="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rc 9"/>
              <p:cNvSpPr/>
              <p:nvPr/>
            </p:nvSpPr>
            <p:spPr>
              <a:xfrm flipV="1" rot="19635600">
                <a:off x="914040" y="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rc 10"/>
              <p:cNvSpPr/>
              <p:nvPr/>
            </p:nvSpPr>
            <p:spPr>
              <a:xfrm flipV="1" rot="19635600">
                <a:off x="1167840" y="-63000"/>
                <a:ext cx="74520" cy="93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rc 11"/>
              <p:cNvSpPr/>
              <p:nvPr/>
            </p:nvSpPr>
            <p:spPr>
              <a:xfrm flipV="1" rot="19779600">
                <a:off x="825840" y="-15120"/>
                <a:ext cx="11448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rc 12"/>
              <p:cNvSpPr/>
              <p:nvPr/>
            </p:nvSpPr>
            <p:spPr>
              <a:xfrm flipV="1" rot="19084800">
                <a:off x="1476000" y="-9684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rc 13"/>
              <p:cNvSpPr/>
              <p:nvPr/>
            </p:nvSpPr>
            <p:spPr>
              <a:xfrm flipV="1" rot="1431000">
                <a:off x="1323720" y="-48240"/>
                <a:ext cx="91800" cy="968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rc 14"/>
              <p:cNvSpPr/>
              <p:nvPr/>
            </p:nvSpPr>
            <p:spPr>
              <a:xfrm flipV="1" rot="459000">
                <a:off x="1312560" y="-6120"/>
                <a:ext cx="100080" cy="7588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rc 15"/>
              <p:cNvSpPr/>
              <p:nvPr/>
            </p:nvSpPr>
            <p:spPr>
              <a:xfrm flipV="1" rot="18784200">
                <a:off x="1793880" y="-10872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Arc 16"/>
              <p:cNvSpPr/>
              <p:nvPr/>
            </p:nvSpPr>
            <p:spPr>
              <a:xfrm flipV="1" rot="19015800">
                <a:off x="1980720" y="-52920"/>
                <a:ext cx="98640" cy="641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Arc 17"/>
              <p:cNvSpPr/>
              <p:nvPr/>
            </p:nvSpPr>
            <p:spPr>
              <a:xfrm flipV="1" rot="19962600">
                <a:off x="2341800" y="-9720"/>
                <a:ext cx="74880" cy="47808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18"/>
              <p:cNvSpPr/>
              <p:nvPr/>
            </p:nvSpPr>
            <p:spPr>
              <a:xfrm flipV="1" rot="19369200">
                <a:off x="2530080" y="-6480"/>
                <a:ext cx="106560" cy="498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rc 19"/>
              <p:cNvSpPr/>
              <p:nvPr/>
            </p:nvSpPr>
            <p:spPr>
              <a:xfrm flipV="1" rot="19964400">
                <a:off x="229320" y="-32400"/>
                <a:ext cx="108000" cy="1143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rc 20"/>
              <p:cNvSpPr/>
              <p:nvPr/>
            </p:nvSpPr>
            <p:spPr>
              <a:xfrm flipV="1" rot="20128800">
                <a:off x="1098720" y="-720"/>
                <a:ext cx="8856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rc 21"/>
              <p:cNvSpPr/>
              <p:nvPr/>
            </p:nvSpPr>
            <p:spPr>
              <a:xfrm flipV="1" rot="17749800">
                <a:off x="2284200" y="-160200"/>
                <a:ext cx="98280" cy="7362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rc 22"/>
              <p:cNvSpPr/>
              <p:nvPr/>
            </p:nvSpPr>
            <p:spPr>
              <a:xfrm flipV="1" rot="20418000">
                <a:off x="82080" y="22788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603360" y="304920"/>
              <a:ext cx="768240" cy="1752480"/>
              <a:chOff x="603360" y="304920"/>
              <a:chExt cx="768240" cy="1752480"/>
            </a:xfrm>
          </p:grpSpPr>
          <p:sp>
            <p:nvSpPr>
              <p:cNvPr id="63" name="Rectangle 24"/>
              <p:cNvSpPr/>
              <p:nvPr/>
            </p:nvSpPr>
            <p:spPr>
              <a:xfrm rot="16200000">
                <a:off x="97920" y="1169280"/>
                <a:ext cx="1752480" cy="2376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400000">
                <a:off x="974520" y="798480"/>
                <a:ext cx="25560" cy="768240"/>
              </a:xfrm>
              <a:prstGeom prst="rect">
                <a:avLst/>
              </a:prstGeom>
              <a:gradFill rotWithShape="0">
                <a:gsLst>
                  <a:gs pos="0">
                    <a:srgbClr val="d0a858"/>
                  </a:gs>
                  <a:gs pos="50000">
                    <a:srgbClr val="808080"/>
                  </a:gs>
                  <a:gs pos="100000">
                    <a:srgbClr val="d0a85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 rot="16200000">
                <a:off x="660600" y="873000"/>
                <a:ext cx="623880" cy="623880"/>
              </a:xfrm>
              <a:prstGeom prst="ellipse">
                <a:avLst/>
              </a:prstGeom>
              <a:noFill/>
              <a:ln w="9360">
                <a:solidFill>
                  <a:srgbClr val="d0a8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" name="Picture 27" descr="Safnavvd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6383-046B-4316-97FC-8E8CE1EBFC46}" type="datetime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c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1004-87A2-4E4B-B482-32EADF72A13B}" type="slidenum">
              <a:rPr b="0" lang="ru-RU" sz="1400" spc="-1" strike="noStrike">
                <a:solidFill>
                  <a:srgbClr val="ec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09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B146-1075-4024-96AA-DB0ED4BEE3B8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564B-77CC-4C68-9C64-E2BAAF08A3F5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1811-AC28-4873-83B8-5643D28AA0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BDED-D588-4822-A0C6-E4A67F0B2A9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38FC-323A-4876-8237-6EF94C317101}" type="datetime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5393-DADB-4257-8A19-79C26306FA1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2971800"/>
            <a:ext cx="9144000" cy="1298160"/>
            <a:chOff x="0" y="2971800"/>
            <a:chExt cx="9144000" cy="1298160"/>
          </a:xfrm>
        </p:grpSpPr>
        <p:grpSp>
          <p:nvGrpSpPr>
            <p:cNvPr id="245" name="Group 3"/>
            <p:cNvGrpSpPr/>
            <p:nvPr/>
          </p:nvGrpSpPr>
          <p:grpSpPr>
            <a:xfrm>
              <a:off x="1823760" y="3120120"/>
              <a:ext cx="5467680" cy="1149840"/>
              <a:chOff x="1823760" y="3120120"/>
              <a:chExt cx="5467680" cy="1149840"/>
            </a:xfrm>
          </p:grpSpPr>
          <p:sp>
            <p:nvSpPr>
              <p:cNvPr id="246" name="Arc 4"/>
              <p:cNvSpPr/>
              <p:nvPr/>
            </p:nvSpPr>
            <p:spPr>
              <a:xfrm flipH="1" flipV="1" rot="2307000">
                <a:off x="4215600" y="3141360"/>
                <a:ext cx="108000" cy="533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Group 5"/>
              <p:cNvGrpSpPr/>
              <p:nvPr/>
            </p:nvGrpSpPr>
            <p:grpSpPr>
              <a:xfrm>
                <a:off x="4458960" y="3137400"/>
                <a:ext cx="2832480" cy="1096920"/>
                <a:chOff x="4458960" y="3137400"/>
                <a:chExt cx="2832480" cy="1096920"/>
              </a:xfrm>
            </p:grpSpPr>
            <p:sp>
              <p:nvSpPr>
                <p:cNvPr id="248" name="Arc 6"/>
                <p:cNvSpPr/>
                <p:nvPr/>
              </p:nvSpPr>
              <p:spPr>
                <a:xfrm flipV="1" rot="459000">
                  <a:off x="4668840" y="3158280"/>
                  <a:ext cx="108000" cy="874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rc 7"/>
                <p:cNvSpPr/>
                <p:nvPr/>
              </p:nvSpPr>
              <p:spPr>
                <a:xfrm flipV="1" rot="19293000">
                  <a:off x="4819320" y="3161880"/>
                  <a:ext cx="108000" cy="5328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rc 8"/>
                <p:cNvSpPr/>
                <p:nvPr/>
              </p:nvSpPr>
              <p:spPr>
                <a:xfrm flipV="1" rot="19635600">
                  <a:off x="5047920" y="3130200"/>
                  <a:ext cx="108000" cy="914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Arc 9"/>
                <p:cNvSpPr/>
                <p:nvPr/>
              </p:nvSpPr>
              <p:spPr>
                <a:xfrm flipV="1" rot="20128800">
                  <a:off x="4819320" y="3162240"/>
                  <a:ext cx="108000" cy="6854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Arc 10"/>
                <p:cNvSpPr/>
                <p:nvPr/>
              </p:nvSpPr>
              <p:spPr>
                <a:xfrm flipV="1" rot="19635600">
                  <a:off x="5124240" y="3161160"/>
                  <a:ext cx="87120" cy="72828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rc 11"/>
                <p:cNvSpPr/>
                <p:nvPr/>
              </p:nvSpPr>
              <p:spPr>
                <a:xfrm flipV="1" rot="19635600">
                  <a:off x="5428800" y="3161880"/>
                  <a:ext cx="90360" cy="57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rc 12"/>
                <p:cNvSpPr/>
                <p:nvPr/>
              </p:nvSpPr>
              <p:spPr>
                <a:xfrm flipV="1" rot="19635600">
                  <a:off x="5682600" y="3098880"/>
                  <a:ext cx="74520" cy="936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rc 13"/>
                <p:cNvSpPr/>
                <p:nvPr/>
              </p:nvSpPr>
              <p:spPr>
                <a:xfrm flipV="1" rot="19779600">
                  <a:off x="5340960" y="3146040"/>
                  <a:ext cx="114480" cy="925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rc 14"/>
                <p:cNvSpPr/>
                <p:nvPr/>
              </p:nvSpPr>
              <p:spPr>
                <a:xfrm flipV="1" rot="19084800">
                  <a:off x="5990760" y="3065400"/>
                  <a:ext cx="100080" cy="9792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rc 15"/>
                <p:cNvSpPr/>
                <p:nvPr/>
              </p:nvSpPr>
              <p:spPr>
                <a:xfrm flipV="1" rot="1431000">
                  <a:off x="5838480" y="3114360"/>
                  <a:ext cx="91800" cy="968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rc 16"/>
                <p:cNvSpPr/>
                <p:nvPr/>
              </p:nvSpPr>
              <p:spPr>
                <a:xfrm flipV="1" rot="459000">
                  <a:off x="5827320" y="3155040"/>
                  <a:ext cx="100080" cy="7585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rc 17"/>
                <p:cNvSpPr/>
                <p:nvPr/>
              </p:nvSpPr>
              <p:spPr>
                <a:xfrm flipV="1" rot="18784200">
                  <a:off x="6309000" y="3053160"/>
                  <a:ext cx="85320" cy="9050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8"/>
                <p:cNvSpPr/>
                <p:nvPr/>
              </p:nvSpPr>
              <p:spPr>
                <a:xfrm flipV="1" rot="19015800">
                  <a:off x="6495480" y="3109320"/>
                  <a:ext cx="98640" cy="64116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rc 19"/>
                <p:cNvSpPr/>
                <p:nvPr/>
              </p:nvSpPr>
              <p:spPr>
                <a:xfrm flipV="1" rot="19962600">
                  <a:off x="6856560" y="3152160"/>
                  <a:ext cx="74880" cy="4777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Arc 20"/>
                <p:cNvSpPr/>
                <p:nvPr/>
              </p:nvSpPr>
              <p:spPr>
                <a:xfrm flipV="1" rot="19369200">
                  <a:off x="7044840" y="3155400"/>
                  <a:ext cx="106560" cy="4986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Arc 21"/>
                <p:cNvSpPr/>
                <p:nvPr/>
              </p:nvSpPr>
              <p:spPr>
                <a:xfrm flipV="1" rot="19964400">
                  <a:off x="4744080" y="3129480"/>
                  <a:ext cx="108000" cy="114300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rc 22"/>
                <p:cNvSpPr/>
                <p:nvPr/>
              </p:nvSpPr>
              <p:spPr>
                <a:xfrm flipV="1" rot="20128800">
                  <a:off x="5613120" y="3161880"/>
                  <a:ext cx="88560" cy="36324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rc 23"/>
                <p:cNvSpPr/>
                <p:nvPr/>
              </p:nvSpPr>
              <p:spPr>
                <a:xfrm flipV="1" rot="17749800">
                  <a:off x="6798960" y="3000600"/>
                  <a:ext cx="97920" cy="736920"/>
                </a:xfrm>
                <a:custGeom>
                  <a:avLst/>
                  <a:gdLst/>
                  <a:ahLst/>
                  <a:rect l="l" t="t" r="r" b="b"/>
                  <a:pathLst>
                    <a:path fill="none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</a:path>
                    <a:path stroke="0" w="43169" h="21600">
                      <a:moveTo>
                        <a:pt x="-1" y="20446"/>
                      </a:moveTo>
                      <a:cubicBezTo>
                        <a:pt x="612" y="8982"/>
                        <a:pt x="10087" y="-1"/>
                        <a:pt x="21569" y="0"/>
                      </a:cubicBezTo>
                      <a:cubicBezTo>
                        <a:pt x="33498" y="0"/>
                        <a:pt x="43169" y="9670"/>
                        <a:pt x="43169" y="21600"/>
                      </a:cubicBezTo>
                      <a:lnTo>
                        <a:pt x="21569" y="21600"/>
                      </a:lnTo>
                      <a:lnTo>
                        <a:pt x="-1" y="2044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rc 24"/>
                <p:cNvSpPr/>
                <p:nvPr/>
              </p:nvSpPr>
              <p:spPr>
                <a:xfrm flipV="1" rot="20418000">
                  <a:off x="4596840" y="3390840"/>
                  <a:ext cx="108000" cy="837720"/>
                </a:xfrm>
                <a:custGeom>
                  <a:avLst/>
                  <a:gdLst/>
                  <a:ahLst/>
                  <a:rect l="l" t="t" r="r" b="b"/>
                  <a:pathLst>
                    <a:path fill="none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</a:path>
                    <a:path stroke="0" w="42881" h="21600">
                      <a:moveTo>
                        <a:pt x="0" y="17901"/>
                      </a:moveTo>
                      <a:cubicBezTo>
                        <a:pt x="1798" y="7553"/>
                        <a:pt x="10778" y="-1"/>
                        <a:pt x="21281" y="0"/>
                      </a:cubicBezTo>
                      <a:cubicBezTo>
                        <a:pt x="33210" y="0"/>
                        <a:pt x="42881" y="9670"/>
                        <a:pt x="42881" y="21600"/>
                      </a:cubicBezTo>
                      <a:lnTo>
                        <a:pt x="21281" y="21600"/>
                      </a:lnTo>
                      <a:lnTo>
                        <a:pt x="0" y="179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b151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Arc 25"/>
              <p:cNvSpPr/>
              <p:nvPr/>
            </p:nvSpPr>
            <p:spPr>
              <a:xfrm flipH="1" flipV="1" rot="21141000">
                <a:off x="4444200" y="3141720"/>
                <a:ext cx="108000" cy="8748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Arc 26"/>
              <p:cNvSpPr/>
              <p:nvPr/>
            </p:nvSpPr>
            <p:spPr>
              <a:xfrm flipH="1" flipV="1" rot="1964400">
                <a:off x="3989160" y="3112560"/>
                <a:ext cx="108000" cy="9144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Arc 27"/>
              <p:cNvSpPr/>
              <p:nvPr/>
            </p:nvSpPr>
            <p:spPr>
              <a:xfrm flipH="1" flipV="1" rot="20985600">
                <a:off x="4216680" y="3217320"/>
                <a:ext cx="108000" cy="6854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Arc 28"/>
              <p:cNvSpPr/>
              <p:nvPr/>
            </p:nvSpPr>
            <p:spPr>
              <a:xfrm flipH="1" flipV="1" rot="1964400">
                <a:off x="3933000" y="3144600"/>
                <a:ext cx="87120" cy="728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29"/>
              <p:cNvSpPr/>
              <p:nvPr/>
            </p:nvSpPr>
            <p:spPr>
              <a:xfrm flipH="1" flipV="1" rot="1964400">
                <a:off x="3625560" y="3144600"/>
                <a:ext cx="90360" cy="5763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Arc 30"/>
              <p:cNvSpPr/>
              <p:nvPr/>
            </p:nvSpPr>
            <p:spPr>
              <a:xfrm flipH="1" flipV="1" rot="1964400">
                <a:off x="3387240" y="3081240"/>
                <a:ext cx="74520" cy="936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Arc 31"/>
              <p:cNvSpPr/>
              <p:nvPr/>
            </p:nvSpPr>
            <p:spPr>
              <a:xfrm flipH="1" flipV="1" rot="1820400">
                <a:off x="3688200" y="3129120"/>
                <a:ext cx="114120" cy="925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Arc 32"/>
              <p:cNvSpPr/>
              <p:nvPr/>
            </p:nvSpPr>
            <p:spPr>
              <a:xfrm flipH="1" flipV="1" rot="2515200">
                <a:off x="3023640" y="3047760"/>
                <a:ext cx="100080" cy="979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Arc 33"/>
              <p:cNvSpPr/>
              <p:nvPr/>
            </p:nvSpPr>
            <p:spPr>
              <a:xfrm flipH="1" flipV="1" rot="20169000">
                <a:off x="3183480" y="3097080"/>
                <a:ext cx="91800" cy="968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Arc 34"/>
              <p:cNvSpPr/>
              <p:nvPr/>
            </p:nvSpPr>
            <p:spPr>
              <a:xfrm flipH="1" flipV="1" rot="21141000">
                <a:off x="3187080" y="3138120"/>
                <a:ext cx="99720" cy="7585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Arc 35"/>
              <p:cNvSpPr/>
              <p:nvPr/>
            </p:nvSpPr>
            <p:spPr>
              <a:xfrm flipH="1" flipV="1" rot="3416400">
                <a:off x="2719800" y="3037680"/>
                <a:ext cx="85680" cy="9050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Arc 36"/>
              <p:cNvSpPr/>
              <p:nvPr/>
            </p:nvSpPr>
            <p:spPr>
              <a:xfrm flipH="1" flipV="1" rot="2584200">
                <a:off x="2520360" y="3092400"/>
                <a:ext cx="98640" cy="6411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Arc 37"/>
              <p:cNvSpPr/>
              <p:nvPr/>
            </p:nvSpPr>
            <p:spPr>
              <a:xfrm flipH="1" flipV="1" rot="1637400">
                <a:off x="2184120" y="3135600"/>
                <a:ext cx="74520" cy="47772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Arc 38"/>
              <p:cNvSpPr/>
              <p:nvPr/>
            </p:nvSpPr>
            <p:spPr>
              <a:xfrm flipH="1" flipV="1" rot="2230800">
                <a:off x="1963080" y="3138840"/>
                <a:ext cx="106200" cy="4982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rc 39"/>
              <p:cNvSpPr/>
              <p:nvPr/>
            </p:nvSpPr>
            <p:spPr>
              <a:xfrm flipH="1" flipV="1" rot="20427000">
                <a:off x="4065120" y="3141360"/>
                <a:ext cx="108000" cy="114264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Arc 40"/>
              <p:cNvSpPr/>
              <p:nvPr/>
            </p:nvSpPr>
            <p:spPr>
              <a:xfrm flipH="1" flipV="1" rot="1471200">
                <a:off x="3442680" y="3143880"/>
                <a:ext cx="88920" cy="36360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Arc 41"/>
              <p:cNvSpPr/>
              <p:nvPr/>
            </p:nvSpPr>
            <p:spPr>
              <a:xfrm flipH="1" flipV="1" rot="3400200">
                <a:off x="2248560" y="3050640"/>
                <a:ext cx="98640" cy="736560"/>
              </a:xfrm>
              <a:custGeom>
                <a:avLst/>
                <a:gdLst/>
                <a:ahLst/>
                <a:rect l="l" t="t" r="r" b="b"/>
                <a:pathLst>
                  <a:path fill="none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</a:path>
                  <a:path stroke="0" w="43169" h="21600">
                    <a:moveTo>
                      <a:pt x="-1" y="20446"/>
                    </a:moveTo>
                    <a:cubicBezTo>
                      <a:pt x="612" y="8982"/>
                      <a:pt x="10087" y="-1"/>
                      <a:pt x="21569" y="0"/>
                    </a:cubicBezTo>
                    <a:cubicBezTo>
                      <a:pt x="33498" y="0"/>
                      <a:pt x="43169" y="9670"/>
                      <a:pt x="43169" y="21600"/>
                    </a:cubicBezTo>
                    <a:lnTo>
                      <a:pt x="21569" y="21600"/>
                    </a:lnTo>
                    <a:lnTo>
                      <a:pt x="-1" y="20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rc 42"/>
              <p:cNvSpPr/>
              <p:nvPr/>
            </p:nvSpPr>
            <p:spPr>
              <a:xfrm flipH="1" flipV="1" rot="21582000">
                <a:off x="3758040" y="3173400"/>
                <a:ext cx="108000" cy="838080"/>
              </a:xfrm>
              <a:custGeom>
                <a:avLst/>
                <a:gdLst/>
                <a:ahLst/>
                <a:rect l="l" t="t" r="r" b="b"/>
                <a:pathLst>
                  <a:path fill="none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</a:path>
                  <a:path stroke="0" w="42881" h="21600">
                    <a:moveTo>
                      <a:pt x="0" y="17901"/>
                    </a:moveTo>
                    <a:cubicBezTo>
                      <a:pt x="1798" y="7553"/>
                      <a:pt x="10778" y="-1"/>
                      <a:pt x="21281" y="0"/>
                    </a:cubicBezTo>
                    <a:cubicBezTo>
                      <a:pt x="33210" y="0"/>
                      <a:pt x="42881" y="9670"/>
                      <a:pt x="42881" y="21600"/>
                    </a:cubicBezTo>
                    <a:lnTo>
                      <a:pt x="21281" y="21600"/>
                    </a:lnTo>
                    <a:lnTo>
                      <a:pt x="0" y="179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b151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5" name="Picture 43" descr="Safnavvd"/>
            <p:cNvPicPr/>
            <p:nvPr/>
          </p:nvPicPr>
          <p:blipFill>
            <a:blip r:embed="rId2"/>
            <a:stretch/>
          </p:blipFill>
          <p:spPr>
            <a:xfrm>
              <a:off x="0" y="2971800"/>
              <a:ext cx="9144000" cy="1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49"/>
          <p:cNvGrpSpPr/>
          <p:nvPr/>
        </p:nvGrpSpPr>
        <p:grpSpPr>
          <a:xfrm>
            <a:off x="4218120" y="990720"/>
            <a:ext cx="768240" cy="1752480"/>
            <a:chOff x="4218120" y="990720"/>
            <a:chExt cx="768240" cy="1752480"/>
          </a:xfrm>
        </p:grpSpPr>
        <p:sp>
          <p:nvSpPr>
            <p:cNvPr id="287" name="Rectangle 50"/>
            <p:cNvSpPr/>
            <p:nvPr/>
          </p:nvSpPr>
          <p:spPr>
            <a:xfrm rot="16200000">
              <a:off x="3710880" y="1855080"/>
              <a:ext cx="1752480" cy="2376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51"/>
            <p:cNvSpPr/>
            <p:nvPr/>
          </p:nvSpPr>
          <p:spPr>
            <a:xfrm rot="5400000">
              <a:off x="4589640" y="1482480"/>
              <a:ext cx="25200" cy="768240"/>
            </a:xfrm>
            <a:prstGeom prst="rect">
              <a:avLst/>
            </a:prstGeom>
            <a:gradFill rotWithShape="0">
              <a:gsLst>
                <a:gs pos="0">
                  <a:srgbClr val="d0a858"/>
                </a:gs>
                <a:gs pos="50000">
                  <a:srgbClr val="808080"/>
                </a:gs>
                <a:gs pos="100000">
                  <a:srgbClr val="d0a8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52"/>
            <p:cNvSpPr/>
            <p:nvPr/>
          </p:nvSpPr>
          <p:spPr>
            <a:xfrm rot="16200000">
              <a:off x="4275360" y="1557000"/>
              <a:ext cx="623520" cy="623880"/>
            </a:xfrm>
            <a:prstGeom prst="ellipse">
              <a:avLst/>
            </a:prstGeom>
            <a:noFill/>
            <a:ln w="9360">
              <a:solidFill>
                <a:srgbClr val="d0a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6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37d8a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0a85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70AC-BEA7-429F-A05F-69236CB4F4CB}" type="datetime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a858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0a8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3548-49C3-44EC-BF56-1EB5B850D482}" type="slidenum">
              <a:rPr b="0" lang="ru-RU" sz="1400" spc="-1" strike="noStrike">
                <a:solidFill>
                  <a:srgbClr val="d0a8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332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B47F-B9DB-483A-950F-9776B100268E}" type="datetime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CBDB-1937-46C9-8138-97CD05C5649A}" type="slidenum"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7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648A-CC51-4BF8-AEA0-6254F0D4124E}" type="datetime">
              <a:rPr b="0" lang="ru-RU" sz="1200" spc="-1" strike="noStrike">
                <a:solidFill>
                  <a:srgbClr val="0033c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33c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06A3-CEFF-44FA-A829-17E2ABB58CCB}" type="slidenum">
              <a:rPr b="0" lang="ru-RU" sz="1200" spc="-1" strike="noStrike">
                <a:solidFill>
                  <a:srgbClr val="0033cc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91400"/>
                </a:solidFill>
                <a:latin typeface="Arial"/>
              </a:rPr>
              <a:t>Типы  безработицы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номик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c6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1619280" y="549360"/>
            <a:ext cx="3816360" cy="1727280"/>
          </a:xfrm>
          <a:prstGeom prst="downArrowCallout">
            <a:avLst>
              <a:gd name="adj1" fmla="val 55242"/>
              <a:gd name="adj2" fmla="val 55237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роса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дукцию разных отрас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4788000" y="2349360"/>
            <a:ext cx="3814560" cy="1727280"/>
          </a:xfrm>
          <a:prstGeom prst="downArrowCallout">
            <a:avLst>
              <a:gd name="adj1" fmla="val 55216"/>
              <a:gd name="adj2" fmla="val 55211"/>
              <a:gd name="adj3" fmla="val 16667"/>
              <a:gd name="adj4" fmla="val 6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мен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уктуры эконом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684360" y="3284640"/>
            <a:ext cx="4537080" cy="3097080"/>
          </a:xfrm>
          <a:prstGeom prst="irregularSeal2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РАБО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60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Структурная безработица – 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Times New Roman"/>
              </a:rPr>
              <a:t>явление</a:t>
            </a: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c6000"/>
              </a:solidFill>
              <a:latin typeface="Times New Roman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042920" y="2421000"/>
            <a:ext cx="2664000" cy="151128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ИЗБЕЖ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6"/>
          <p:cNvSpPr/>
          <p:nvPr/>
        </p:nvSpPr>
        <p:spPr>
          <a:xfrm>
            <a:off x="5364000" y="2276640"/>
            <a:ext cx="2737080" cy="1512720"/>
          </a:xfrm>
          <a:prstGeom prst="flowChartPunchedTape">
            <a:avLst/>
          </a:pr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7"/>
          <p:cNvSpPr/>
          <p:nvPr/>
        </p:nvSpPr>
        <p:spPr>
          <a:xfrm flipH="1">
            <a:off x="255600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8"/>
          <p:cNvSpPr/>
          <p:nvPr/>
        </p:nvSpPr>
        <p:spPr>
          <a:xfrm>
            <a:off x="5148360" y="1773360"/>
            <a:ext cx="100800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9"/>
          <p:cNvSpPr/>
          <p:nvPr/>
        </p:nvSpPr>
        <p:spPr>
          <a:xfrm>
            <a:off x="2916360" y="4005360"/>
            <a:ext cx="3600360" cy="1944720"/>
          </a:xfrm>
          <a:prstGeom prst="upArrowCallout">
            <a:avLst>
              <a:gd name="adj1" fmla="val 46288"/>
              <a:gd name="adj2" fmla="val 46284"/>
              <a:gd name="adj3" fmla="val 16667"/>
              <a:gd name="adj4" fmla="val 66660"/>
            </a:avLst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27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процессы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и и движе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ей с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184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Arial"/>
              </a:rPr>
              <a:t>Циклическая безработица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представляет собой отклонения от естественного уровня безработицы, связанные с краткосрочными колебаниями экономической активности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Циклическая безработица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57200" y="1981080"/>
          <a:ext cx="8229600" cy="3246480"/>
        </p:xfrm>
        <a:graphic>
          <a:graphicData uri="http://schemas.openxmlformats.org/drawingml/2006/table">
            <a:tbl>
              <a:tblPr/>
              <a:tblGrid>
                <a:gridCol w="2602080"/>
                <a:gridCol w="562752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ba313"/>
                          </a:solidFill>
                          <a:latin typeface="Arial"/>
                        </a:rPr>
                        <a:t>рецесси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пад)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статочность совокупных расходов в экономик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9900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кращением совокупного предложе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AutoShape 20"/>
          <p:cNvSpPr/>
          <p:nvPr/>
        </p:nvSpPr>
        <p:spPr>
          <a:xfrm>
            <a:off x="61128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4"/>
          <p:cNvSpPr/>
          <p:nvPr/>
        </p:nvSpPr>
        <p:spPr>
          <a:xfrm flipH="1">
            <a:off x="6227640" y="2852640"/>
            <a:ext cx="865440" cy="24494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3"/>
          <p:cNvSpPr/>
          <p:nvPr/>
        </p:nvSpPr>
        <p:spPr>
          <a:xfrm>
            <a:off x="1979640" y="2852640"/>
            <a:ext cx="1152360" cy="2448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99"/>
                </a:solidFill>
                <a:uFillTx/>
                <a:latin typeface="Arial"/>
              </a:rPr>
              <a:t>Последствия безработицы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7" name="Oval 4"/>
          <p:cNvSpPr/>
          <p:nvPr/>
        </p:nvSpPr>
        <p:spPr>
          <a:xfrm>
            <a:off x="1042920" y="5229360"/>
            <a:ext cx="295272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пол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нятость ресур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6"/>
          <p:cNvSpPr/>
          <p:nvPr/>
        </p:nvSpPr>
        <p:spPr>
          <a:xfrm>
            <a:off x="395280" y="3573360"/>
            <a:ext cx="2808360" cy="1511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акроэкономи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естаби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7"/>
          <p:cNvSpPr/>
          <p:nvPr/>
        </p:nvSpPr>
        <p:spPr>
          <a:xfrm>
            <a:off x="6012000" y="3357720"/>
            <a:ext cx="2881080" cy="12952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 социаль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8"/>
          <p:cNvSpPr/>
          <p:nvPr/>
        </p:nvSpPr>
        <p:spPr>
          <a:xfrm>
            <a:off x="5580000" y="5229360"/>
            <a:ext cx="2521080" cy="12967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итиче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611280" y="1773360"/>
            <a:ext cx="2663640" cy="12240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1"/>
          <p:cNvSpPr/>
          <p:nvPr/>
        </p:nvSpPr>
        <p:spPr>
          <a:xfrm>
            <a:off x="5508720" y="1700280"/>
            <a:ext cx="2735280" cy="1369800"/>
          </a:xfrm>
          <a:prstGeom prst="flowChartPunchedTape">
            <a:avLst/>
          </a:prstGeom>
          <a:solidFill>
            <a:srgbClr val="ff6600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ЕЭКОНОМ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 flipH="1">
            <a:off x="1403280" y="2997360"/>
            <a:ext cx="362160" cy="57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5"/>
          <p:cNvSpPr/>
          <p:nvPr/>
        </p:nvSpPr>
        <p:spPr>
          <a:xfrm>
            <a:off x="7236000" y="2781360"/>
            <a:ext cx="28872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3708360" y="1844640"/>
            <a:ext cx="1297080" cy="358920"/>
          </a:xfrm>
          <a:prstGeom prst="leftRightArrow">
            <a:avLst>
              <a:gd name="adj1" fmla="val 50000"/>
              <a:gd name="adj2" fmla="val 71942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2916360" y="260280"/>
            <a:ext cx="3600360" cy="1728720"/>
          </a:xfrm>
          <a:prstGeom prst="flowChartPunchedTape">
            <a:avLst/>
          </a:prstGeom>
          <a:solidFill>
            <a:srgbClr val="ff6600"/>
          </a:solidFill>
          <a:ln w="158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Индивидуаль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imes New Roman"/>
              </a:rPr>
              <a:t>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684360" y="2492280"/>
            <a:ext cx="288108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Чувств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обствен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полноценнос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1835280" y="4797360"/>
            <a:ext cx="2376360" cy="12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чая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8"/>
          <p:cNvSpPr/>
          <p:nvPr/>
        </p:nvSpPr>
        <p:spPr>
          <a:xfrm>
            <a:off x="5651640" y="2565360"/>
            <a:ext cx="2952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ервные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ердечно-сосудис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заболе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4788000" y="4797360"/>
            <a:ext cx="23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сихологически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стрессы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1"/>
          <p:cNvSpPr/>
          <p:nvPr/>
        </p:nvSpPr>
        <p:spPr>
          <a:xfrm flipH="1">
            <a:off x="2626920" y="1989000"/>
            <a:ext cx="792360" cy="503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12"/>
          <p:cNvSpPr/>
          <p:nvPr/>
        </p:nvSpPr>
        <p:spPr>
          <a:xfrm>
            <a:off x="4932360" y="1844640"/>
            <a:ext cx="431640" cy="2952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3"/>
          <p:cNvSpPr/>
          <p:nvPr/>
        </p:nvSpPr>
        <p:spPr>
          <a:xfrm flipH="1">
            <a:off x="3635280" y="1989000"/>
            <a:ext cx="720720" cy="2735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14"/>
          <p:cNvSpPr/>
          <p:nvPr/>
        </p:nvSpPr>
        <p:spPr>
          <a:xfrm>
            <a:off x="5364000" y="1700280"/>
            <a:ext cx="936720" cy="86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3092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91400"/>
                </a:solidFill>
                <a:latin typeface="Arial"/>
              </a:rPr>
              <a:t>Безработица</a:t>
            </a:r>
            <a:r>
              <a:rPr b="0" i="1" lang="ru-RU" sz="4400" spc="-1" strike="noStrike">
                <a:solidFill>
                  <a:srgbClr val="0033cc"/>
                </a:solidFill>
                <a:latin typeface="Arial"/>
              </a:rPr>
              <a:t> – это ситуация, при которой люди не имеют работу или ожидают начало трудовой деятельности.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42" name="Picture 4" descr="j0197784"/>
          <p:cNvPicPr/>
          <p:nvPr/>
        </p:nvPicPr>
        <p:blipFill>
          <a:blip r:embed="rId1"/>
          <a:stretch/>
        </p:blipFill>
        <p:spPr>
          <a:xfrm>
            <a:off x="5651640" y="3716280"/>
            <a:ext cx="2639880" cy="22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291400"/>
                </a:solidFill>
                <a:latin typeface="Arial"/>
              </a:rPr>
              <a:t>Уровень безработицы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7859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численность безработных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>
            <a:off x="1547640" y="3357720"/>
            <a:ext cx="4824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j0149731"/>
          <p:cNvPicPr/>
          <p:nvPr/>
        </p:nvPicPr>
        <p:blipFill>
          <a:blip r:embed="rId1"/>
          <a:stretch/>
        </p:blipFill>
        <p:spPr>
          <a:xfrm>
            <a:off x="6877080" y="3789360"/>
            <a:ext cx="160956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"/>
          <p:cNvSpPr/>
          <p:nvPr/>
        </p:nvSpPr>
        <p:spPr>
          <a:xfrm>
            <a:off x="2124000" y="1413000"/>
            <a:ext cx="52578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539640" y="35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Типы безработиц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utoShape 5"/>
          <p:cNvSpPr/>
          <p:nvPr/>
        </p:nvSpPr>
        <p:spPr>
          <a:xfrm>
            <a:off x="755640" y="2133720"/>
            <a:ext cx="252108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фрик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348000" y="4221000"/>
            <a:ext cx="2521080" cy="1511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цикличе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7"/>
          <p:cNvSpPr/>
          <p:nvPr/>
        </p:nvSpPr>
        <p:spPr>
          <a:xfrm>
            <a:off x="5651640" y="2205000"/>
            <a:ext cx="2520720" cy="1511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 flipH="1">
            <a:off x="2268000" y="1484280"/>
            <a:ext cx="129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5724360" y="1484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4572000" y="1628640"/>
            <a:ext cx="71280" cy="24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3"/>
          <p:cNvSpPr/>
          <p:nvPr/>
        </p:nvSpPr>
        <p:spPr>
          <a:xfrm>
            <a:off x="2484360" y="24210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14"/>
          <p:cNvSpPr/>
          <p:nvPr/>
        </p:nvSpPr>
        <p:spPr>
          <a:xfrm>
            <a:off x="7380360" y="24922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15"/>
          <p:cNvSpPr/>
          <p:nvPr/>
        </p:nvSpPr>
        <p:spPr>
          <a:xfrm>
            <a:off x="5003640" y="450864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1354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088" h="21600">
                <a:moveTo>
                  <a:pt x="1354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088" h="21600">
                <a:moveTo>
                  <a:pt x="10968" y="8224"/>
                </a:moveTo>
                <a:lnTo>
                  <a:pt x="14832" y="8224"/>
                </a:lnTo>
                <a:lnTo>
                  <a:pt x="14832" y="15221"/>
                </a:lnTo>
                <a:lnTo>
                  <a:pt x="16120" y="15221"/>
                </a:lnTo>
                <a:lnTo>
                  <a:pt x="16120" y="16144"/>
                </a:lnTo>
                <a:lnTo>
                  <a:pt x="10968" y="16144"/>
                </a:lnTo>
                <a:lnTo>
                  <a:pt x="10968" y="15221"/>
                </a:lnTo>
                <a:lnTo>
                  <a:pt x="12256" y="15221"/>
                </a:lnTo>
                <a:lnTo>
                  <a:pt x="12256" y="9129"/>
                </a:lnTo>
                <a:lnTo>
                  <a:pt x="10968" y="912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91400"/>
                </a:solidFill>
                <a:latin typeface="Arial"/>
              </a:rPr>
              <a:t>Фрикционная безработица связана с поиском работы и ожиданием выхода на работу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87440" y="3548160"/>
          <a:ext cx="7608960" cy="3170160"/>
        </p:xfrm>
        <a:graphic>
          <a:graphicData uri="http://schemas.openxmlformats.org/drawingml/2006/table">
            <a:tbl>
              <a:tblPr/>
              <a:tblGrid>
                <a:gridCol w="2301840"/>
                <a:gridCol w="5307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работу ищут уже </a:t>
                      </a: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товые специалисты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с определенным уровнем профессиональной подготовки и квалификац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овершенство информации</a:t>
                      </a:r>
                      <a:r>
                        <a:rPr b="0" i="1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сведений о наличии свободных рабочих мест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К фрикционным безработным относятся люди: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Oval 9"/>
          <p:cNvSpPr/>
          <p:nvPr/>
        </p:nvSpPr>
        <p:spPr>
          <a:xfrm>
            <a:off x="2771640" y="3500280"/>
            <a:ext cx="3384720" cy="129564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ившиеся 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обственному жела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10"/>
          <p:cNvSpPr/>
          <p:nvPr/>
        </p:nvSpPr>
        <p:spPr>
          <a:xfrm>
            <a:off x="521964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шедшие работу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о ещ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е приступившие к 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11"/>
          <p:cNvSpPr/>
          <p:nvPr/>
        </p:nvSpPr>
        <p:spPr>
          <a:xfrm>
            <a:off x="179280" y="465300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езонные рабоч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(не в сезо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4"/>
          <p:cNvSpPr/>
          <p:nvPr/>
        </p:nvSpPr>
        <p:spPr>
          <a:xfrm flipH="1">
            <a:off x="2268360" y="1773360"/>
            <a:ext cx="115272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4500720" y="1773360"/>
            <a:ext cx="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861080" y="1700280"/>
            <a:ext cx="2374920" cy="302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7"/>
          <p:cNvSpPr/>
          <p:nvPr/>
        </p:nvSpPr>
        <p:spPr>
          <a:xfrm flipH="1">
            <a:off x="1476000" y="1773360"/>
            <a:ext cx="2590920" cy="28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8"/>
          <p:cNvSpPr/>
          <p:nvPr/>
        </p:nvSpPr>
        <p:spPr>
          <a:xfrm>
            <a:off x="5292720" y="1700280"/>
            <a:ext cx="86364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357120" y="214308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ожидающие восстано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на прежней рабо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5364000" y="2060640"/>
            <a:ext cx="3384720" cy="1295280"/>
          </a:xfrm>
          <a:prstGeom prst="ellipse">
            <a:avLst/>
          </a:prstGeom>
          <a:solidFill>
            <a:srgbClr val="ffb98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уволенные с рабо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по приказ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Фрикционная безработиц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AutoShape 4"/>
          <p:cNvSpPr/>
          <p:nvPr/>
        </p:nvSpPr>
        <p:spPr>
          <a:xfrm>
            <a:off x="611280" y="184464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БЕЖ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3708360" y="2565360"/>
            <a:ext cx="1655640" cy="358920"/>
          </a:xfrm>
          <a:prstGeom prst="leftRightArrow">
            <a:avLst>
              <a:gd name="adj1" fmla="val 50000"/>
              <a:gd name="adj2" fmla="val 91829"/>
            </a:avLst>
          </a:prstGeom>
          <a:gradFill rotWithShape="0">
            <a:gsLst>
              <a:gs pos="0">
                <a:srgbClr val="ffcc99"/>
              </a:gs>
              <a:gs pos="100000">
                <a:srgbClr val="000099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468360" y="4365720"/>
            <a:ext cx="3529080" cy="1366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ВЯЗ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с естественными тенденци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в движении рабочей си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12"/>
          <p:cNvSpPr/>
          <p:nvPr/>
        </p:nvSpPr>
        <p:spPr>
          <a:xfrm>
            <a:off x="4932360" y="4365720"/>
            <a:ext cx="3673440" cy="1439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ПОСОБСТВ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более рациональному размещ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рабочей силы и более высо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Times New Roman"/>
              </a:rPr>
              <a:t>производи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13"/>
          <p:cNvSpPr/>
          <p:nvPr/>
        </p:nvSpPr>
        <p:spPr>
          <a:xfrm>
            <a:off x="6012000" y="1700280"/>
            <a:ext cx="2592360" cy="1511280"/>
          </a:xfrm>
          <a:prstGeom prst="flowChartPunchedTape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ЛАТЕ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utoShape 20"/>
          <p:cNvSpPr/>
          <p:nvPr/>
        </p:nvSpPr>
        <p:spPr>
          <a:xfrm rot="1734600">
            <a:off x="3347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96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21"/>
          <p:cNvSpPr/>
          <p:nvPr/>
        </p:nvSpPr>
        <p:spPr>
          <a:xfrm rot="19807800">
            <a:off x="5651640" y="1413000"/>
            <a:ext cx="287280" cy="3095640"/>
          </a:xfrm>
          <a:prstGeom prst="downArrow">
            <a:avLst>
              <a:gd name="adj1" fmla="val 0"/>
              <a:gd name="adj2" fmla="val 308953"/>
            </a:avLst>
          </a:prstGeom>
          <a:gradFill rotWithShape="0">
            <a:gsLst>
              <a:gs pos="0">
                <a:srgbClr val="000099"/>
              </a:gs>
              <a:gs pos="100000">
                <a:srgbClr val="ffcc99"/>
              </a:gs>
            </a:gsLst>
            <a:lin ang="449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ижний колонтитул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d3c05"/>
                </a:solidFill>
                <a:latin typeface="Arial"/>
              </a:rPr>
              <a:t>Уровень фрикционной безработиц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количество фрикционных безработ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х 10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общая численность рабочей си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755640" y="3357720"/>
            <a:ext cx="6121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j0149576"/>
          <p:cNvPicPr/>
          <p:nvPr/>
        </p:nvPicPr>
        <p:blipFill>
          <a:blip r:embed="rId1"/>
          <a:stretch/>
        </p:blipFill>
        <p:spPr>
          <a:xfrm>
            <a:off x="6156360" y="4005360"/>
            <a:ext cx="2403360" cy="190476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11"/>
          <p:cNvSpPr/>
          <p:nvPr/>
        </p:nvSpPr>
        <p:spPr>
          <a:xfrm>
            <a:off x="611280" y="5445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10004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  <a:path fill="darken" w="27007" h="21600">
                <a:moveTo>
                  <a:pt x="6497" y="3794"/>
                </a:moveTo>
                <a:lnTo>
                  <a:pt x="8159" y="3794"/>
                </a:lnTo>
                <a:lnTo>
                  <a:pt x="8159" y="17806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c6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ed3c05"/>
                </a:solidFill>
                <a:latin typeface="Times New Roman"/>
              </a:rPr>
              <a:t>Структурная безработица</a:t>
            </a:r>
            <a:endParaRPr b="0" lang="en-US" sz="4400" spc="-1" strike="noStrike">
              <a:solidFill>
                <a:srgbClr val="ec6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2205000"/>
          <a:ext cx="8062920" cy="3753000"/>
        </p:xfrm>
        <a:graphic>
          <a:graphicData uri="http://schemas.openxmlformats.org/drawingml/2006/table">
            <a:tbl>
              <a:tblPr/>
              <a:tblGrid>
                <a:gridCol w="2733480"/>
                <a:gridCol w="5329440"/>
              </a:tblGrid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бусловл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структурными сдвигами</a:t>
                      </a: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( structural shifts )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несоответствие струк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абочей силы структуре рабочих м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Особеннос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ее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продолжительн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ru-RU" sz="2800" spc="-1" strike="noStrike">
                          <a:solidFill>
                            <a:srgbClr val="ed3c05"/>
                          </a:solidFill>
                          <a:latin typeface="Times New Roman"/>
                        </a:rPr>
                        <a:t>дорогостоящ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чем фрикцио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9:55:37Z</dcterms:created>
  <dc:creator>User</dc:creator>
  <dc:description/>
  <dc:language>en-US</dc:language>
  <cp:lastModifiedBy>LEGION</cp:lastModifiedBy>
  <dcterms:modified xsi:type="dcterms:W3CDTF">2014-11-10T12:08:41Z</dcterms:modified>
  <cp:revision>34</cp:revision>
  <dc:subject/>
  <dc:title>Слайд 1</dc:title>
</cp:coreProperties>
</file>