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3AE1-3AB4-4BA3-986E-D9F9A3D0CA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1919"/>
                </a:solidFill>
                <a:latin typeface="Arial"/>
              </a:rPr>
              <a:t>Типы  безработиц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6DAC-0EC2-4BC4-938A-3420B327CB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ая безработица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яв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3693-9DE1-4E3A-B5EB-61FA0A0FEC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Arial"/>
              </a:rPr>
              <a:t>Циклическая безработиц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едставляет собой отклонения от естественного уровня безработицы, связанные с краткосрочными колебаниями экономической активност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9676-8659-4F50-9ABB-229DD5EC02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Arial"/>
              </a:rPr>
              <a:t>Циклическая безработиц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84ED-2B7A-44B6-9A39-7056B23818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следствия безработи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F887-24AF-4709-821D-CFF28CD235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91919"/>
                </a:solidFill>
                <a:latin typeface="Arial"/>
              </a:rPr>
              <a:t>Безработица</a:t>
            </a:r>
            <a:r>
              <a:rPr b="0" i="1" lang="ru-RU" sz="1200" spc="-1" strike="noStrike">
                <a:solidFill>
                  <a:srgbClr val="0033cc"/>
                </a:solidFill>
                <a:latin typeface="Arial"/>
              </a:rPr>
              <a:t> – это ситуация, при которой люди не имеют работу или ожидают начало трудовой деятельност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70BD-3442-4A79-B5B0-06C232483C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191919"/>
                </a:solidFill>
                <a:latin typeface="Arial"/>
              </a:rPr>
              <a:t>Уровень безрабо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численность безработных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общая численность рабочей с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4285-4100-4E46-946B-FBA0F7E046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Типы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F31A-2FA3-4BAE-8459-07D1041E2F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91919"/>
                </a:solidFill>
                <a:latin typeface="Arial"/>
              </a:rPr>
              <a:t>Фрикционная безработица связана с поиском работы и ожиданием выхода на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9128-146B-49AE-9DA6-D8ADB5CBE0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B305-5904-4F82-AB64-B5DFD545E1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К фрикционным безработным относятся люд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Фрикционная безработ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CEC3-63F3-4A2F-9464-AFC6BEE23E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ed3c05"/>
                </a:solidFill>
                <a:latin typeface="Arial"/>
              </a:rPr>
              <a:t>Уровень фрикционной безработ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количество фрикционных безрабо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общая численность рабочей с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2830-3761-4C7D-9679-469D6A6F63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d3c05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ed3c05"/>
                </a:solidFill>
                <a:latin typeface="Arial"/>
              </a:rPr>
              <a:t>Структурная безработ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5128-B6A0-40BD-B683-DC824F479F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A8FB-D877-47EB-9A63-44149527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DC1-E3E2-4E96-8A30-00E64ECF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E679-3AAE-40F9-9266-6B3E7F0B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C6BC-EF6B-4AC7-9DBB-50378BE1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1B12-37F1-4017-A79C-2B0F9714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F174-06A3-4A5C-A0B7-FF2FC00A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31B7-BCF9-4D19-B107-DEDEDF7C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0EBF-E31F-4DE8-B2BF-CC660184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AC15-5270-4C75-A943-34562326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4A48-CC75-48E8-A3F8-A5EE4A4E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FEFB-C811-4327-946D-2359DACE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79C-0376-41F6-9181-B6ACD130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9A44-E7C2-4DEE-8411-13CD5ED6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4CA0-1F39-4B66-9BD3-B564D27E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FE85-19C1-47A3-A579-76D2F311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FEB2-E148-4774-A4C0-DB6EC8EC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2DEF-1B19-4744-B0F8-57444457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42A91-96F3-4807-8A52-E9F202A5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9770C-7468-41D3-AC0D-955D75CF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5DE25-428C-4700-8C23-2B12EA97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AA05D-E65F-4D77-BB7D-5ECA6356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3D28C-3224-472C-BE02-19607679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8E9C-44BB-4C2C-B335-06DF72E4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09697-39A4-4328-8B9F-9AF1F489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BFD87-34DB-4E24-9CA9-BCC10BE8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F6588-C160-4387-BE1D-FA10D848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51479-3D49-4311-977A-A554BEC8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A678B-4F97-4842-8296-C7B4DE2A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1E343-7A69-4DFA-AEB9-55C67D20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A1887-A9A9-473A-821B-B46EF7F0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C8127D-1612-4630-941E-87FC2393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8D02CC-59A0-44B5-B949-686BCFB6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2217EA-C324-43E3-9FD3-1BC1C670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4C9-6147-4971-B84C-CD326789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C0095B-94BC-4505-ABA3-59CC8C94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178664-8DC1-4A00-89B7-5940F64D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CF0A92-C722-49A4-839A-CA460861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EEAD98-8984-4890-A929-3C2EBE28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B42DB3-041A-409C-B70D-7F673421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5A0343-6108-4020-9F8F-C735F8AB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DFD582-5A42-4EAE-A190-17839D83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96042E-1055-46D7-AB84-E40F4B03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88F967-5FB0-4E4C-B8F0-F5B4D8B5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5FB96-AB2B-4029-8F83-90D1E4E2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07A3-D133-4A1B-B9FC-496456B9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7E04D-AAC1-4E5C-A9CF-85D5BE40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774E7-8328-48E5-B412-29E22724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52DDD-89F6-4F94-B597-BB2C7984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A323D-7DF8-4B08-8D66-B67C112B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C4A50-DB99-4F7A-9C92-E5220E3E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52B3C-5722-49C5-89DE-270104F8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74AD8-2EB1-4BF0-A424-725BF5B4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9329D-B3BB-43B9-B449-B96C061C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A0AAC-8BDE-4598-B356-3951C150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0F6D2-A720-4ED2-9819-A4401633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DA61-8497-4780-8055-1AC5515C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121D2-5005-4703-8278-C16F0944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CEAAA-5DD1-489D-9CE6-63EE34C5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CCDA9-C60A-4912-9E1D-22BC6558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5B785-FBEB-4442-B697-DA6B32AE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4371E-0FFA-4DAF-A281-615322D9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5C976-69B2-4083-9D18-260EFFD3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E6CE2-411D-4260-9BFA-FFFCEB59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18464-F1EC-4956-9E49-C8E1BF77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F3D80-739C-47EA-8D1B-7C0936C1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45EDA-42A6-4B99-AD77-CB087F99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E2A7-1C98-432A-A99D-C97AE573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2D7E0-D163-45D7-A2CC-6598FC21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31EB0-B9A5-4E53-B787-2DA0DE25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2B016-0457-4FDB-A8BA-091AEF55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002F7-4B69-4E79-9AB4-B391087C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3F2C8-C3E8-45E9-83FF-06969847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AC013-3AB4-4E04-9701-44A8A1D4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36F55-5E64-4E97-B0F0-2EA6C995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6A00E-697A-49EB-B368-8D8211FC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B4AE9-2B15-4E09-ADDD-EA08FB77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67B1F-8ECE-4BE4-9EDB-76AE9F5D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F7FA-A309-432A-8A6B-BBC855C1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7984E-BFA4-47E2-BBBA-56362A29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AEB7F-5D53-46C9-9B11-64BE3AB6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6162F-F3E7-428C-8CE5-675A35AE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7F2EE-22BB-49F0-83C2-B44D692C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C2495-F5D4-477A-80E8-18797159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5B858-6567-4057-B1C4-105816ED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4D0F1-236A-418D-9F21-8B1B05F3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EC179-0305-4870-82F7-CF4E317D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B0BF7-536B-4976-A953-A44F50BF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2EE3A-0365-4D4D-A2A3-2E22DBDC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CC51-12D6-4BE0-B58B-147E84A4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71AD8-B2D9-4CDE-B64F-4A3B0FB7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D1E40-DBF4-40FF-85BF-3CBAEC3C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8A8EC-FD3A-4B9C-B976-641762B3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0B94C-3A40-40C3-8F7C-3E9E08D8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15947-E4F4-4F41-A3DB-21457BA5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17A3A-13B4-488E-BD6C-5F9E9896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DB779-C324-4B89-9184-01625441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31F7-C110-4425-B3A7-EB177B764897}" type="datetime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344F-C6FD-4BA8-AE50-4C4BED09799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56160" y="-25200"/>
            <a:ext cx="9200160" cy="2082600"/>
            <a:chOff x="-56160" y="-25200"/>
            <a:chExt cx="9200160" cy="2082600"/>
          </a:xfrm>
        </p:grpSpPr>
        <p:grpSp>
          <p:nvGrpSpPr>
            <p:cNvPr id="42" name="Group 3"/>
            <p:cNvGrpSpPr/>
            <p:nvPr/>
          </p:nvGrpSpPr>
          <p:grpSpPr>
            <a:xfrm>
              <a:off x="-56160" y="-25200"/>
              <a:ext cx="2832840" cy="1098000"/>
              <a:chOff x="-56160" y="-25200"/>
              <a:chExt cx="2832840" cy="1098000"/>
            </a:xfrm>
          </p:grpSpPr>
          <p:sp>
            <p:nvSpPr>
              <p:cNvPr id="43" name="Arc 4"/>
              <p:cNvSpPr/>
              <p:nvPr/>
            </p:nvSpPr>
            <p:spPr>
              <a:xfrm flipV="1" rot="459000">
                <a:off x="154080" y="-2880"/>
                <a:ext cx="108000" cy="8748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Arc 5"/>
              <p:cNvSpPr/>
              <p:nvPr/>
            </p:nvSpPr>
            <p:spPr>
              <a:xfrm flipV="1" rot="19293000">
                <a:off x="304200" y="-720"/>
                <a:ext cx="108000" cy="533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Arc 6"/>
              <p:cNvSpPr/>
              <p:nvPr/>
            </p:nvSpPr>
            <p:spPr>
              <a:xfrm flipV="1" rot="19635600">
                <a:off x="533520" y="-31320"/>
                <a:ext cx="108000" cy="9144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Arc 7"/>
              <p:cNvSpPr/>
              <p:nvPr/>
            </p:nvSpPr>
            <p:spPr>
              <a:xfrm flipV="1" rot="20128800">
                <a:off x="304200" y="0"/>
                <a:ext cx="108000" cy="6858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Arc 8"/>
              <p:cNvSpPr/>
              <p:nvPr/>
            </p:nvSpPr>
            <p:spPr>
              <a:xfrm flipV="1" rot="19635600">
                <a:off x="609480" y="0"/>
                <a:ext cx="87120" cy="7286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Arc 9"/>
              <p:cNvSpPr/>
              <p:nvPr/>
            </p:nvSpPr>
            <p:spPr>
              <a:xfrm flipV="1" rot="19635600">
                <a:off x="914040" y="0"/>
                <a:ext cx="90360" cy="576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Arc 10"/>
              <p:cNvSpPr/>
              <p:nvPr/>
            </p:nvSpPr>
            <p:spPr>
              <a:xfrm flipV="1" rot="19635600">
                <a:off x="1167840" y="-63000"/>
                <a:ext cx="74520" cy="936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Arc 11"/>
              <p:cNvSpPr/>
              <p:nvPr/>
            </p:nvSpPr>
            <p:spPr>
              <a:xfrm flipV="1" rot="19779600">
                <a:off x="825840" y="-15120"/>
                <a:ext cx="114480" cy="925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Arc 12"/>
              <p:cNvSpPr/>
              <p:nvPr/>
            </p:nvSpPr>
            <p:spPr>
              <a:xfrm flipV="1" rot="19084800">
                <a:off x="1476000" y="-96840"/>
                <a:ext cx="100080" cy="979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Arc 13"/>
              <p:cNvSpPr/>
              <p:nvPr/>
            </p:nvSpPr>
            <p:spPr>
              <a:xfrm flipV="1" rot="1431000">
                <a:off x="1323720" y="-48240"/>
                <a:ext cx="91800" cy="9684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Arc 14"/>
              <p:cNvSpPr/>
              <p:nvPr/>
            </p:nvSpPr>
            <p:spPr>
              <a:xfrm flipV="1" rot="459000">
                <a:off x="1312560" y="-6120"/>
                <a:ext cx="100080" cy="75888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Arc 15"/>
              <p:cNvSpPr/>
              <p:nvPr/>
            </p:nvSpPr>
            <p:spPr>
              <a:xfrm flipV="1" rot="18784200">
                <a:off x="1793880" y="-108720"/>
                <a:ext cx="85680" cy="9050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Arc 16"/>
              <p:cNvSpPr/>
              <p:nvPr/>
            </p:nvSpPr>
            <p:spPr>
              <a:xfrm flipV="1" rot="19015800">
                <a:off x="1980720" y="-52920"/>
                <a:ext cx="98640" cy="641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Arc 17"/>
              <p:cNvSpPr/>
              <p:nvPr/>
            </p:nvSpPr>
            <p:spPr>
              <a:xfrm flipV="1" rot="19962600">
                <a:off x="2341800" y="-9720"/>
                <a:ext cx="74880" cy="47808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Arc 18"/>
              <p:cNvSpPr/>
              <p:nvPr/>
            </p:nvSpPr>
            <p:spPr>
              <a:xfrm flipV="1" rot="19369200">
                <a:off x="2530080" y="-6480"/>
                <a:ext cx="106560" cy="4986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Arc 19"/>
              <p:cNvSpPr/>
              <p:nvPr/>
            </p:nvSpPr>
            <p:spPr>
              <a:xfrm flipV="1" rot="19964400">
                <a:off x="229320" y="-32400"/>
                <a:ext cx="108000" cy="1143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Arc 20"/>
              <p:cNvSpPr/>
              <p:nvPr/>
            </p:nvSpPr>
            <p:spPr>
              <a:xfrm flipV="1" rot="20128800">
                <a:off x="1098720" y="-720"/>
                <a:ext cx="88560" cy="3636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Arc 21"/>
              <p:cNvSpPr/>
              <p:nvPr/>
            </p:nvSpPr>
            <p:spPr>
              <a:xfrm flipV="1" rot="17749800">
                <a:off x="2284200" y="-160200"/>
                <a:ext cx="98280" cy="7362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Arc 22"/>
              <p:cNvSpPr/>
              <p:nvPr/>
            </p:nvSpPr>
            <p:spPr>
              <a:xfrm flipV="1" rot="20418000">
                <a:off x="82080" y="227880"/>
                <a:ext cx="108000" cy="838080"/>
              </a:xfrm>
              <a:custGeom>
                <a:avLst/>
                <a:gdLst/>
                <a:ahLst/>
                <a:rect l="l" t="t" r="r" b="b"/>
                <a:pathLst>
                  <a:path fill="none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</a:path>
                  <a:path stroke="0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  <a:lnTo>
                      <a:pt x="21281" y="21600"/>
                    </a:lnTo>
                    <a:lnTo>
                      <a:pt x="0" y="179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603360" y="304920"/>
              <a:ext cx="768240" cy="1752480"/>
              <a:chOff x="603360" y="304920"/>
              <a:chExt cx="768240" cy="1752480"/>
            </a:xfrm>
          </p:grpSpPr>
          <p:sp>
            <p:nvSpPr>
              <p:cNvPr id="63" name="Rectangle 24"/>
              <p:cNvSpPr/>
              <p:nvPr/>
            </p:nvSpPr>
            <p:spPr>
              <a:xfrm rot="16200000">
                <a:off x="97920" y="1169280"/>
                <a:ext cx="1752480" cy="23760"/>
              </a:xfrm>
              <a:prstGeom prst="rect">
                <a:avLst/>
              </a:prstGeom>
              <a:gradFill rotWithShape="0">
                <a:gsLst>
                  <a:gs pos="0">
                    <a:srgbClr val="d0a858"/>
                  </a:gs>
                  <a:gs pos="50000">
                    <a:srgbClr val="808080"/>
                  </a:gs>
                  <a:gs pos="100000">
                    <a:srgbClr val="d0a8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25"/>
              <p:cNvSpPr/>
              <p:nvPr/>
            </p:nvSpPr>
            <p:spPr>
              <a:xfrm rot="5400000">
                <a:off x="974520" y="798480"/>
                <a:ext cx="25560" cy="768240"/>
              </a:xfrm>
              <a:prstGeom prst="rect">
                <a:avLst/>
              </a:prstGeom>
              <a:gradFill rotWithShape="0">
                <a:gsLst>
                  <a:gs pos="0">
                    <a:srgbClr val="d0a858"/>
                  </a:gs>
                  <a:gs pos="50000">
                    <a:srgbClr val="808080"/>
                  </a:gs>
                  <a:gs pos="100000">
                    <a:srgbClr val="d0a85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26"/>
              <p:cNvSpPr/>
              <p:nvPr/>
            </p:nvSpPr>
            <p:spPr>
              <a:xfrm rot="16200000">
                <a:off x="660600" y="873000"/>
                <a:ext cx="623880" cy="623880"/>
              </a:xfrm>
              <a:prstGeom prst="ellipse">
                <a:avLst/>
              </a:prstGeom>
              <a:noFill/>
              <a:ln w="9360">
                <a:solidFill>
                  <a:srgbClr val="d0a8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6" name="Picture 27" descr="Safnavvd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6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37d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0a85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c6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DDE9-3F6C-4592-8E9D-C407AF7CE52D}" type="datetime">
              <a:rPr b="0" lang="ru-RU" sz="1400" spc="-1" strike="noStrike">
                <a:solidFill>
                  <a:srgbClr val="ec6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c6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c6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C878-AF5C-49FE-AC9B-3623B44CCBCA}" type="slidenum">
              <a:rPr b="0" lang="ru-RU" sz="1400" spc="-1" strike="noStrike">
                <a:solidFill>
                  <a:srgbClr val="ec6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09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FD08-678B-4357-AAC5-17534C452994}" type="datetime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A091-5B28-4194-9244-760A8BCB14E6}" type="slidenum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0772-811C-4DA0-987D-CE2EF0A46A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4F5D-0F72-431D-8D59-902A8EE0307D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14C2-FD8D-41DE-ACC9-1BC595CF18FB}" type="datetime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0941-D31B-4171-8BB5-21B87664803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0" y="2971800"/>
            <a:ext cx="9144000" cy="1298160"/>
            <a:chOff x="0" y="2971800"/>
            <a:chExt cx="9144000" cy="1298160"/>
          </a:xfrm>
        </p:grpSpPr>
        <p:grpSp>
          <p:nvGrpSpPr>
            <p:cNvPr id="245" name="Group 3"/>
            <p:cNvGrpSpPr/>
            <p:nvPr/>
          </p:nvGrpSpPr>
          <p:grpSpPr>
            <a:xfrm>
              <a:off x="1823760" y="3120120"/>
              <a:ext cx="5467680" cy="1149840"/>
              <a:chOff x="1823760" y="3120120"/>
              <a:chExt cx="5467680" cy="1149840"/>
            </a:xfrm>
          </p:grpSpPr>
          <p:sp>
            <p:nvSpPr>
              <p:cNvPr id="246" name="Arc 4"/>
              <p:cNvSpPr/>
              <p:nvPr/>
            </p:nvSpPr>
            <p:spPr>
              <a:xfrm flipH="1" flipV="1" rot="2307000">
                <a:off x="4215600" y="3141360"/>
                <a:ext cx="108000" cy="533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Group 5"/>
              <p:cNvGrpSpPr/>
              <p:nvPr/>
            </p:nvGrpSpPr>
            <p:grpSpPr>
              <a:xfrm>
                <a:off x="4458960" y="3137400"/>
                <a:ext cx="2832480" cy="1096920"/>
                <a:chOff x="4458960" y="3137400"/>
                <a:chExt cx="2832480" cy="1096920"/>
              </a:xfrm>
            </p:grpSpPr>
            <p:sp>
              <p:nvSpPr>
                <p:cNvPr id="248" name="Arc 6"/>
                <p:cNvSpPr/>
                <p:nvPr/>
              </p:nvSpPr>
              <p:spPr>
                <a:xfrm flipV="1" rot="459000">
                  <a:off x="4668840" y="3158280"/>
                  <a:ext cx="108000" cy="8744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Arc 7"/>
                <p:cNvSpPr/>
                <p:nvPr/>
              </p:nvSpPr>
              <p:spPr>
                <a:xfrm flipV="1" rot="19293000">
                  <a:off x="4819320" y="3161880"/>
                  <a:ext cx="108000" cy="5328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Arc 8"/>
                <p:cNvSpPr/>
                <p:nvPr/>
              </p:nvSpPr>
              <p:spPr>
                <a:xfrm flipV="1" rot="19635600">
                  <a:off x="5047920" y="3130200"/>
                  <a:ext cx="108000" cy="9140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Arc 9"/>
                <p:cNvSpPr/>
                <p:nvPr/>
              </p:nvSpPr>
              <p:spPr>
                <a:xfrm flipV="1" rot="20128800">
                  <a:off x="4819320" y="3162240"/>
                  <a:ext cx="108000" cy="6854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Arc 10"/>
                <p:cNvSpPr/>
                <p:nvPr/>
              </p:nvSpPr>
              <p:spPr>
                <a:xfrm flipV="1" rot="19635600">
                  <a:off x="5124240" y="3161160"/>
                  <a:ext cx="87120" cy="72828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Arc 11"/>
                <p:cNvSpPr/>
                <p:nvPr/>
              </p:nvSpPr>
              <p:spPr>
                <a:xfrm flipV="1" rot="19635600">
                  <a:off x="5428800" y="3161880"/>
                  <a:ext cx="90360" cy="5760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Arc 12"/>
                <p:cNvSpPr/>
                <p:nvPr/>
              </p:nvSpPr>
              <p:spPr>
                <a:xfrm flipV="1" rot="19635600">
                  <a:off x="5682600" y="3098880"/>
                  <a:ext cx="74520" cy="9360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Arc 13"/>
                <p:cNvSpPr/>
                <p:nvPr/>
              </p:nvSpPr>
              <p:spPr>
                <a:xfrm flipV="1" rot="19779600">
                  <a:off x="5340960" y="3146040"/>
                  <a:ext cx="114480" cy="9252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Arc 14"/>
                <p:cNvSpPr/>
                <p:nvPr/>
              </p:nvSpPr>
              <p:spPr>
                <a:xfrm flipV="1" rot="19084800">
                  <a:off x="5990760" y="3065400"/>
                  <a:ext cx="100080" cy="9792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Arc 15"/>
                <p:cNvSpPr/>
                <p:nvPr/>
              </p:nvSpPr>
              <p:spPr>
                <a:xfrm flipV="1" rot="1431000">
                  <a:off x="5838480" y="3114360"/>
                  <a:ext cx="91800" cy="9680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Arc 16"/>
                <p:cNvSpPr/>
                <p:nvPr/>
              </p:nvSpPr>
              <p:spPr>
                <a:xfrm flipV="1" rot="459000">
                  <a:off x="5827320" y="3155040"/>
                  <a:ext cx="100080" cy="75852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Arc 17"/>
                <p:cNvSpPr/>
                <p:nvPr/>
              </p:nvSpPr>
              <p:spPr>
                <a:xfrm flipV="1" rot="18784200">
                  <a:off x="6309000" y="3053160"/>
                  <a:ext cx="85320" cy="9050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Arc 18"/>
                <p:cNvSpPr/>
                <p:nvPr/>
              </p:nvSpPr>
              <p:spPr>
                <a:xfrm flipV="1" rot="19015800">
                  <a:off x="6495480" y="3109320"/>
                  <a:ext cx="98640" cy="64116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Arc 19"/>
                <p:cNvSpPr/>
                <p:nvPr/>
              </p:nvSpPr>
              <p:spPr>
                <a:xfrm flipV="1" rot="19962600">
                  <a:off x="6856560" y="3152160"/>
                  <a:ext cx="74880" cy="47772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Arc 20"/>
                <p:cNvSpPr/>
                <p:nvPr/>
              </p:nvSpPr>
              <p:spPr>
                <a:xfrm flipV="1" rot="19369200">
                  <a:off x="7044840" y="3155400"/>
                  <a:ext cx="106560" cy="4986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Arc 21"/>
                <p:cNvSpPr/>
                <p:nvPr/>
              </p:nvSpPr>
              <p:spPr>
                <a:xfrm flipV="1" rot="19964400">
                  <a:off x="4744080" y="3129480"/>
                  <a:ext cx="108000" cy="11430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Arc 22"/>
                <p:cNvSpPr/>
                <p:nvPr/>
              </p:nvSpPr>
              <p:spPr>
                <a:xfrm flipV="1" rot="20128800">
                  <a:off x="5613120" y="3161880"/>
                  <a:ext cx="88560" cy="3632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Arc 23"/>
                <p:cNvSpPr/>
                <p:nvPr/>
              </p:nvSpPr>
              <p:spPr>
                <a:xfrm flipV="1" rot="17749800">
                  <a:off x="6798960" y="3000600"/>
                  <a:ext cx="97920" cy="73692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Arc 24"/>
                <p:cNvSpPr/>
                <p:nvPr/>
              </p:nvSpPr>
              <p:spPr>
                <a:xfrm flipV="1" rot="20418000">
                  <a:off x="4596840" y="3390840"/>
                  <a:ext cx="108000" cy="837720"/>
                </a:xfrm>
                <a:custGeom>
                  <a:avLst/>
                  <a:gdLst/>
                  <a:ahLst/>
                  <a:rect l="l" t="t" r="r" b="b"/>
                  <a:pathLst>
                    <a:path fill="none" w="42881" h="21600">
                      <a:moveTo>
                        <a:pt x="0" y="17901"/>
                      </a:moveTo>
                      <a:cubicBezTo>
                        <a:pt x="1798" y="7553"/>
                        <a:pt x="10778" y="-1"/>
                        <a:pt x="21281" y="0"/>
                      </a:cubicBezTo>
                      <a:cubicBezTo>
                        <a:pt x="33210" y="0"/>
                        <a:pt x="42881" y="9670"/>
                        <a:pt x="42881" y="21600"/>
                      </a:cubicBezTo>
                    </a:path>
                    <a:path stroke="0" w="42881" h="21600">
                      <a:moveTo>
                        <a:pt x="0" y="17901"/>
                      </a:moveTo>
                      <a:cubicBezTo>
                        <a:pt x="1798" y="7553"/>
                        <a:pt x="10778" y="-1"/>
                        <a:pt x="21281" y="0"/>
                      </a:cubicBezTo>
                      <a:cubicBezTo>
                        <a:pt x="33210" y="0"/>
                        <a:pt x="42881" y="9670"/>
                        <a:pt x="42881" y="21600"/>
                      </a:cubicBezTo>
                      <a:lnTo>
                        <a:pt x="21281" y="21600"/>
                      </a:lnTo>
                      <a:lnTo>
                        <a:pt x="0" y="179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Arc 25"/>
              <p:cNvSpPr/>
              <p:nvPr/>
            </p:nvSpPr>
            <p:spPr>
              <a:xfrm flipH="1" flipV="1" rot="21141000">
                <a:off x="4444200" y="3141720"/>
                <a:ext cx="108000" cy="8748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Arc 26"/>
              <p:cNvSpPr/>
              <p:nvPr/>
            </p:nvSpPr>
            <p:spPr>
              <a:xfrm flipH="1" flipV="1" rot="1964400">
                <a:off x="3989160" y="3112560"/>
                <a:ext cx="108000" cy="9144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Arc 27"/>
              <p:cNvSpPr/>
              <p:nvPr/>
            </p:nvSpPr>
            <p:spPr>
              <a:xfrm flipH="1" flipV="1" rot="20985600">
                <a:off x="4216680" y="3217320"/>
                <a:ext cx="108000" cy="6854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Arc 28"/>
              <p:cNvSpPr/>
              <p:nvPr/>
            </p:nvSpPr>
            <p:spPr>
              <a:xfrm flipH="1" flipV="1" rot="1964400">
                <a:off x="3933000" y="3144600"/>
                <a:ext cx="87120" cy="7286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Arc 29"/>
              <p:cNvSpPr/>
              <p:nvPr/>
            </p:nvSpPr>
            <p:spPr>
              <a:xfrm flipH="1" flipV="1" rot="1964400">
                <a:off x="3625560" y="3144600"/>
                <a:ext cx="90360" cy="576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Arc 30"/>
              <p:cNvSpPr/>
              <p:nvPr/>
            </p:nvSpPr>
            <p:spPr>
              <a:xfrm flipH="1" flipV="1" rot="1964400">
                <a:off x="3387240" y="3081240"/>
                <a:ext cx="74520" cy="9367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Arc 31"/>
              <p:cNvSpPr/>
              <p:nvPr/>
            </p:nvSpPr>
            <p:spPr>
              <a:xfrm flipH="1" flipV="1" rot="1820400">
                <a:off x="3688200" y="3129120"/>
                <a:ext cx="114120" cy="925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Arc 32"/>
              <p:cNvSpPr/>
              <p:nvPr/>
            </p:nvSpPr>
            <p:spPr>
              <a:xfrm flipH="1" flipV="1" rot="2515200">
                <a:off x="3023640" y="3047760"/>
                <a:ext cx="100080" cy="979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Arc 33"/>
              <p:cNvSpPr/>
              <p:nvPr/>
            </p:nvSpPr>
            <p:spPr>
              <a:xfrm flipH="1" flipV="1" rot="20169000">
                <a:off x="3183480" y="3097080"/>
                <a:ext cx="91800" cy="9680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Arc 34"/>
              <p:cNvSpPr/>
              <p:nvPr/>
            </p:nvSpPr>
            <p:spPr>
              <a:xfrm flipH="1" flipV="1" rot="21141000">
                <a:off x="3187080" y="3138120"/>
                <a:ext cx="99720" cy="758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Arc 35"/>
              <p:cNvSpPr/>
              <p:nvPr/>
            </p:nvSpPr>
            <p:spPr>
              <a:xfrm flipH="1" flipV="1" rot="3416400">
                <a:off x="2719800" y="3037680"/>
                <a:ext cx="85680" cy="9050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Arc 36"/>
              <p:cNvSpPr/>
              <p:nvPr/>
            </p:nvSpPr>
            <p:spPr>
              <a:xfrm flipH="1" flipV="1" rot="2584200">
                <a:off x="2520360" y="3092400"/>
                <a:ext cx="98640" cy="6411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Arc 37"/>
              <p:cNvSpPr/>
              <p:nvPr/>
            </p:nvSpPr>
            <p:spPr>
              <a:xfrm flipH="1" flipV="1" rot="1637400">
                <a:off x="2184120" y="3135600"/>
                <a:ext cx="74520" cy="4777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Arc 38"/>
              <p:cNvSpPr/>
              <p:nvPr/>
            </p:nvSpPr>
            <p:spPr>
              <a:xfrm flipH="1" flipV="1" rot="2230800">
                <a:off x="1963080" y="3138840"/>
                <a:ext cx="106200" cy="4982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Arc 39"/>
              <p:cNvSpPr/>
              <p:nvPr/>
            </p:nvSpPr>
            <p:spPr>
              <a:xfrm flipH="1" flipV="1" rot="20427000">
                <a:off x="4065120" y="3141360"/>
                <a:ext cx="108000" cy="11426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Arc 40"/>
              <p:cNvSpPr/>
              <p:nvPr/>
            </p:nvSpPr>
            <p:spPr>
              <a:xfrm flipH="1" flipV="1" rot="1471200">
                <a:off x="3442680" y="3143880"/>
                <a:ext cx="88920" cy="3636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Arc 41"/>
              <p:cNvSpPr/>
              <p:nvPr/>
            </p:nvSpPr>
            <p:spPr>
              <a:xfrm flipH="1" flipV="1" rot="3400200">
                <a:off x="2248560" y="3050640"/>
                <a:ext cx="98640" cy="736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Arc 42"/>
              <p:cNvSpPr/>
              <p:nvPr/>
            </p:nvSpPr>
            <p:spPr>
              <a:xfrm flipH="1" flipV="1" rot="21582000">
                <a:off x="3758040" y="3173400"/>
                <a:ext cx="108000" cy="838080"/>
              </a:xfrm>
              <a:custGeom>
                <a:avLst/>
                <a:gdLst/>
                <a:ahLst/>
                <a:rect l="l" t="t" r="r" b="b"/>
                <a:pathLst>
                  <a:path fill="none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</a:path>
                  <a:path stroke="0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  <a:lnTo>
                      <a:pt x="21281" y="21600"/>
                    </a:lnTo>
                    <a:lnTo>
                      <a:pt x="0" y="179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5" name="Picture 43" descr="Safnavvd"/>
            <p:cNvPicPr/>
            <p:nvPr/>
          </p:nvPicPr>
          <p:blipFill>
            <a:blip r:embed="rId2"/>
            <a:stretch/>
          </p:blipFill>
          <p:spPr>
            <a:xfrm>
              <a:off x="0" y="2971800"/>
              <a:ext cx="9144000" cy="13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Group 49"/>
          <p:cNvGrpSpPr/>
          <p:nvPr/>
        </p:nvGrpSpPr>
        <p:grpSpPr>
          <a:xfrm>
            <a:off x="4218120" y="990720"/>
            <a:ext cx="768240" cy="1752480"/>
            <a:chOff x="4218120" y="990720"/>
            <a:chExt cx="768240" cy="1752480"/>
          </a:xfrm>
        </p:grpSpPr>
        <p:sp>
          <p:nvSpPr>
            <p:cNvPr id="287" name="Rectangle 50"/>
            <p:cNvSpPr/>
            <p:nvPr/>
          </p:nvSpPr>
          <p:spPr>
            <a:xfrm rot="16200000">
              <a:off x="3710880" y="1855080"/>
              <a:ext cx="1752480" cy="23760"/>
            </a:xfrm>
            <a:prstGeom prst="rect">
              <a:avLst/>
            </a:prstGeom>
            <a:gradFill rotWithShape="0">
              <a:gsLst>
                <a:gs pos="0">
                  <a:srgbClr val="d0a858"/>
                </a:gs>
                <a:gs pos="50000">
                  <a:srgbClr val="808080"/>
                </a:gs>
                <a:gs pos="100000">
                  <a:srgbClr val="d0a8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51"/>
            <p:cNvSpPr/>
            <p:nvPr/>
          </p:nvSpPr>
          <p:spPr>
            <a:xfrm rot="5400000">
              <a:off x="4589640" y="1482480"/>
              <a:ext cx="25200" cy="768240"/>
            </a:xfrm>
            <a:prstGeom prst="rect">
              <a:avLst/>
            </a:prstGeom>
            <a:gradFill rotWithShape="0">
              <a:gsLst>
                <a:gs pos="0">
                  <a:srgbClr val="d0a858"/>
                </a:gs>
                <a:gs pos="50000">
                  <a:srgbClr val="808080"/>
                </a:gs>
                <a:gs pos="100000">
                  <a:srgbClr val="d0a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52"/>
            <p:cNvSpPr/>
            <p:nvPr/>
          </p:nvSpPr>
          <p:spPr>
            <a:xfrm rot="16200000">
              <a:off x="4275360" y="1557000"/>
              <a:ext cx="623520" cy="623880"/>
            </a:xfrm>
            <a:prstGeom prst="ellipse">
              <a:avLst/>
            </a:prstGeom>
            <a:noFill/>
            <a:ln w="9360">
              <a:solidFill>
                <a:srgbClr val="d0a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6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37d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0a85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0a85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0626-7045-47FD-B352-B7A037411667}" type="datetime">
              <a:rPr b="0" lang="ru-RU" sz="1400" spc="-1" strike="noStrike">
                <a:solidFill>
                  <a:srgbClr val="d0a858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0a8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0a858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0a8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9478-6AB7-4B08-9587-3FCECF82020C}" type="slidenum">
              <a:rPr b="0" lang="ru-RU" sz="1400" spc="-1" strike="noStrike">
                <a:solidFill>
                  <a:srgbClr val="d0a85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332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4"/>
            <p:cNvSpPr/>
            <p:nvPr/>
          </p:nvSpPr>
          <p:spPr>
            <a:xfrm>
              <a:off x="473040" y="3159000"/>
              <a:ext cx="8669520" cy="85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1491-E119-450B-B3F5-86FCE193B0B1}" type="datetime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C8ED-5CE8-45E2-BFB9-691A162A8962}" type="slidenum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7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7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6538-8A9B-490B-8A29-2E0ED55289FD}" type="datetime">
              <a:rPr b="0" lang="ru-RU" sz="1200" spc="-1" strike="noStrike">
                <a:solidFill>
                  <a:srgbClr val="0033cc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cc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609D-FCF4-4166-9E93-281F787F5611}" type="slidenum">
              <a:rPr b="0" lang="ru-RU" sz="1200" spc="-1" strike="noStrike">
                <a:solidFill>
                  <a:srgbClr val="0033cc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91400"/>
                </a:solidFill>
                <a:latin typeface="Arial"/>
              </a:rPr>
              <a:t>Типы  безработицы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кономик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1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c6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1619280" y="549360"/>
            <a:ext cx="3816360" cy="1727280"/>
          </a:xfrm>
          <a:prstGeom prst="downArrowCallout">
            <a:avLst>
              <a:gd name="adj1" fmla="val 55242"/>
              <a:gd name="adj2" fmla="val 55237"/>
              <a:gd name="adj3" fmla="val 16667"/>
              <a:gd name="adj4" fmla="val 6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рук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проса 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дукцию разных отрасл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7"/>
          <p:cNvSpPr/>
          <p:nvPr/>
        </p:nvSpPr>
        <p:spPr>
          <a:xfrm>
            <a:off x="4788000" y="2349360"/>
            <a:ext cx="3814560" cy="1727280"/>
          </a:xfrm>
          <a:prstGeom prst="downArrowCallout">
            <a:avLst>
              <a:gd name="adj1" fmla="val 55216"/>
              <a:gd name="adj2" fmla="val 55211"/>
              <a:gd name="adj3" fmla="val 16667"/>
              <a:gd name="adj4" fmla="val 6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расле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руктуры эконом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8"/>
          <p:cNvSpPr/>
          <p:nvPr/>
        </p:nvSpPr>
        <p:spPr>
          <a:xfrm>
            <a:off x="684360" y="3284640"/>
            <a:ext cx="4537080" cy="3097080"/>
          </a:xfrm>
          <a:prstGeom prst="irregularSeal2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УКТУР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РАБОТ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c60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Структурная безработица – 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Times New Roman"/>
              </a:rPr>
              <a:t>явление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501" name="AutoShape 5"/>
          <p:cNvSpPr/>
          <p:nvPr/>
        </p:nvSpPr>
        <p:spPr>
          <a:xfrm>
            <a:off x="1042920" y="2421000"/>
            <a:ext cx="2664000" cy="1511280"/>
          </a:xfrm>
          <a:prstGeom prst="flowChartPunchedTape">
            <a:avLst/>
          </a:prstGeom>
          <a:solidFill>
            <a:srgbClr val="ff993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ИЗБЕ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6"/>
          <p:cNvSpPr/>
          <p:nvPr/>
        </p:nvSpPr>
        <p:spPr>
          <a:xfrm>
            <a:off x="5364000" y="2276640"/>
            <a:ext cx="2737080" cy="1512720"/>
          </a:xfrm>
          <a:prstGeom prst="flowChartPunchedTape">
            <a:avLst/>
          </a:prstGeom>
          <a:solidFill>
            <a:srgbClr val="ff993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ТЕСТВ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7"/>
          <p:cNvSpPr/>
          <p:nvPr/>
        </p:nvSpPr>
        <p:spPr>
          <a:xfrm flipH="1">
            <a:off x="2556000" y="1773360"/>
            <a:ext cx="1008000" cy="576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8"/>
          <p:cNvSpPr/>
          <p:nvPr/>
        </p:nvSpPr>
        <p:spPr>
          <a:xfrm>
            <a:off x="5148360" y="1773360"/>
            <a:ext cx="1008000" cy="576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9"/>
          <p:cNvSpPr/>
          <p:nvPr/>
        </p:nvSpPr>
        <p:spPr>
          <a:xfrm>
            <a:off x="2916360" y="4005360"/>
            <a:ext cx="3600360" cy="1944720"/>
          </a:xfrm>
          <a:prstGeom prst="upArrowCallout">
            <a:avLst>
              <a:gd name="adj1" fmla="val 46288"/>
              <a:gd name="adj2" fmla="val 46284"/>
              <a:gd name="adj3" fmla="val 16667"/>
              <a:gd name="adj4" fmla="val 66660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27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ественные процессы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и и движе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чей с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"/>
          <p:cNvSpPr/>
          <p:nvPr/>
        </p:nvSpPr>
        <p:spPr>
          <a:xfrm>
            <a:off x="611280" y="5445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10920" y="1341360"/>
            <a:ext cx="821844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Циклическая безработица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представляет собой отклонения от естественного уровня безработицы, связанные с краткосрочными колебаниями экономической активности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Циклическая безработица</a:t>
            </a: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457200" y="1981080"/>
          <a:ext cx="8229600" cy="3246480"/>
        </p:xfrm>
        <a:graphic>
          <a:graphicData uri="http://schemas.openxmlformats.org/drawingml/2006/table">
            <a:tbl>
              <a:tblPr/>
              <a:tblGrid>
                <a:gridCol w="2602080"/>
                <a:gridCol w="5627520"/>
              </a:tblGrid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ba313"/>
                          </a:solidFill>
                          <a:latin typeface="Arial"/>
                        </a:rPr>
                        <a:t>рецесс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пад) в экономик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9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ность совокупных расходов в экономик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ением совокупного предлож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AutoShape 20"/>
          <p:cNvSpPr/>
          <p:nvPr/>
        </p:nvSpPr>
        <p:spPr>
          <a:xfrm>
            <a:off x="611280" y="5805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4"/>
          <p:cNvSpPr/>
          <p:nvPr/>
        </p:nvSpPr>
        <p:spPr>
          <a:xfrm flipH="1">
            <a:off x="6227640" y="2852640"/>
            <a:ext cx="865440" cy="24494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3"/>
          <p:cNvSpPr/>
          <p:nvPr/>
        </p:nvSpPr>
        <p:spPr>
          <a:xfrm>
            <a:off x="1979640" y="2852640"/>
            <a:ext cx="1152360" cy="2448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Arial"/>
              </a:rPr>
              <a:t>Последствия безработицы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7" name="Oval 4"/>
          <p:cNvSpPr/>
          <p:nvPr/>
        </p:nvSpPr>
        <p:spPr>
          <a:xfrm>
            <a:off x="1042920" y="5229360"/>
            <a:ext cx="2952720" cy="1295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епол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занятость ресурс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Oval 6"/>
          <p:cNvSpPr/>
          <p:nvPr/>
        </p:nvSpPr>
        <p:spPr>
          <a:xfrm>
            <a:off x="395280" y="3573360"/>
            <a:ext cx="2808360" cy="1511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акроэкономиче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естаби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7"/>
          <p:cNvSpPr/>
          <p:nvPr/>
        </p:nvSpPr>
        <p:spPr>
          <a:xfrm>
            <a:off x="6012000" y="3357720"/>
            <a:ext cx="2881080" cy="1295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сихологиче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и социаль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8"/>
          <p:cNvSpPr/>
          <p:nvPr/>
        </p:nvSpPr>
        <p:spPr>
          <a:xfrm>
            <a:off x="5580000" y="5229360"/>
            <a:ext cx="2521080" cy="129672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олитиче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0"/>
          <p:cNvSpPr/>
          <p:nvPr/>
        </p:nvSpPr>
        <p:spPr>
          <a:xfrm>
            <a:off x="611280" y="1773360"/>
            <a:ext cx="2663640" cy="1224000"/>
          </a:xfrm>
          <a:prstGeom prst="flowChartPunchedTape">
            <a:avLst/>
          </a:prstGeom>
          <a:solidFill>
            <a:srgbClr val="ff6600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ЭКОНОМ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1"/>
          <p:cNvSpPr/>
          <p:nvPr/>
        </p:nvSpPr>
        <p:spPr>
          <a:xfrm>
            <a:off x="5508720" y="1700280"/>
            <a:ext cx="2735280" cy="1369800"/>
          </a:xfrm>
          <a:prstGeom prst="flowChartPunchedTape">
            <a:avLst/>
          </a:prstGeom>
          <a:solidFill>
            <a:srgbClr val="ff6600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ЕЭКОНОМ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2"/>
          <p:cNvSpPr/>
          <p:nvPr/>
        </p:nvSpPr>
        <p:spPr>
          <a:xfrm flipH="1">
            <a:off x="1403280" y="2997360"/>
            <a:ext cx="362160" cy="57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5"/>
          <p:cNvSpPr/>
          <p:nvPr/>
        </p:nvSpPr>
        <p:spPr>
          <a:xfrm>
            <a:off x="7236000" y="2781360"/>
            <a:ext cx="28872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17"/>
          <p:cNvSpPr/>
          <p:nvPr/>
        </p:nvSpPr>
        <p:spPr>
          <a:xfrm>
            <a:off x="3708360" y="1844640"/>
            <a:ext cx="1297080" cy="358920"/>
          </a:xfrm>
          <a:prstGeom prst="leftRightArrow">
            <a:avLst>
              <a:gd name="adj1" fmla="val 50000"/>
              <a:gd name="adj2" fmla="val 71942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27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2916360" y="260280"/>
            <a:ext cx="3600360" cy="1728720"/>
          </a:xfrm>
          <a:prstGeom prst="flowChartPunchedTape">
            <a:avLst/>
          </a:prstGeom>
          <a:solidFill>
            <a:srgbClr val="ff6600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Индивидуаль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6"/>
          <p:cNvSpPr/>
          <p:nvPr/>
        </p:nvSpPr>
        <p:spPr>
          <a:xfrm>
            <a:off x="684360" y="2492280"/>
            <a:ext cx="288108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Чувство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обствен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неполноценности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7"/>
          <p:cNvSpPr/>
          <p:nvPr/>
        </p:nvSpPr>
        <p:spPr>
          <a:xfrm>
            <a:off x="1835280" y="4797360"/>
            <a:ext cx="2376360" cy="122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Отчая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8"/>
          <p:cNvSpPr/>
          <p:nvPr/>
        </p:nvSpPr>
        <p:spPr>
          <a:xfrm>
            <a:off x="5651640" y="2565360"/>
            <a:ext cx="2952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Нервные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ердечно-сосудист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заболев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9"/>
          <p:cNvSpPr/>
          <p:nvPr/>
        </p:nvSpPr>
        <p:spPr>
          <a:xfrm>
            <a:off x="4788000" y="4797360"/>
            <a:ext cx="2376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сихологические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трессы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1"/>
          <p:cNvSpPr/>
          <p:nvPr/>
        </p:nvSpPr>
        <p:spPr>
          <a:xfrm flipH="1">
            <a:off x="2626920" y="1989000"/>
            <a:ext cx="792360" cy="503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2"/>
          <p:cNvSpPr/>
          <p:nvPr/>
        </p:nvSpPr>
        <p:spPr>
          <a:xfrm>
            <a:off x="4932360" y="1844640"/>
            <a:ext cx="431640" cy="2952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13"/>
          <p:cNvSpPr/>
          <p:nvPr/>
        </p:nvSpPr>
        <p:spPr>
          <a:xfrm flipH="1">
            <a:off x="3635280" y="1989000"/>
            <a:ext cx="720720" cy="2735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14"/>
          <p:cNvSpPr/>
          <p:nvPr/>
        </p:nvSpPr>
        <p:spPr>
          <a:xfrm>
            <a:off x="5364000" y="1700280"/>
            <a:ext cx="936720" cy="865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63092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91400"/>
                </a:solidFill>
                <a:latin typeface="Arial"/>
              </a:rPr>
              <a:t>Безработица</a:t>
            </a:r>
            <a:r>
              <a:rPr b="0" i="1" lang="ru-RU" sz="4400" spc="-1" strike="noStrike">
                <a:solidFill>
                  <a:srgbClr val="0033cc"/>
                </a:solidFill>
                <a:latin typeface="Arial"/>
              </a:rPr>
              <a:t> – это ситуация, при которой люди не имеют работу или ожидают начало трудовой деятельности. 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42" name="Picture 4" descr="j0197784"/>
          <p:cNvPicPr/>
          <p:nvPr/>
        </p:nvPicPr>
        <p:blipFill>
          <a:blip r:embed="rId1"/>
          <a:stretch/>
        </p:blipFill>
        <p:spPr>
          <a:xfrm>
            <a:off x="5651640" y="3716280"/>
            <a:ext cx="2639880" cy="22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291400"/>
                </a:solidFill>
                <a:latin typeface="Arial"/>
              </a:rPr>
              <a:t>Уровень безработицы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7859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численность безработных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х 10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общая численность рабочей си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Line 4"/>
          <p:cNvSpPr/>
          <p:nvPr/>
        </p:nvSpPr>
        <p:spPr>
          <a:xfrm>
            <a:off x="1547640" y="3357720"/>
            <a:ext cx="4824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5" descr="j0149731"/>
          <p:cNvPicPr/>
          <p:nvPr/>
        </p:nvPicPr>
        <p:blipFill>
          <a:blip r:embed="rId1"/>
          <a:stretch/>
        </p:blipFill>
        <p:spPr>
          <a:xfrm>
            <a:off x="6877080" y="3789360"/>
            <a:ext cx="1609560" cy="21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2"/>
          <p:cNvSpPr/>
          <p:nvPr/>
        </p:nvSpPr>
        <p:spPr>
          <a:xfrm>
            <a:off x="2124000" y="1413000"/>
            <a:ext cx="52578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539640" y="35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Типы безработицы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utoShape 5"/>
          <p:cNvSpPr/>
          <p:nvPr/>
        </p:nvSpPr>
        <p:spPr>
          <a:xfrm>
            <a:off x="755640" y="2133720"/>
            <a:ext cx="2521080" cy="1511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фрикцио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3348000" y="4221000"/>
            <a:ext cx="2521080" cy="1511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цикличе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7"/>
          <p:cNvSpPr/>
          <p:nvPr/>
        </p:nvSpPr>
        <p:spPr>
          <a:xfrm>
            <a:off x="5651640" y="2205000"/>
            <a:ext cx="2520720" cy="1511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трукту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"/>
          <p:cNvSpPr/>
          <p:nvPr/>
        </p:nvSpPr>
        <p:spPr>
          <a:xfrm flipH="1">
            <a:off x="2268000" y="1484280"/>
            <a:ext cx="129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0"/>
          <p:cNvSpPr/>
          <p:nvPr/>
        </p:nvSpPr>
        <p:spPr>
          <a:xfrm>
            <a:off x="5724360" y="1484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1"/>
          <p:cNvSpPr/>
          <p:nvPr/>
        </p:nvSpPr>
        <p:spPr>
          <a:xfrm>
            <a:off x="4572000" y="1628640"/>
            <a:ext cx="71280" cy="244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13"/>
          <p:cNvSpPr/>
          <p:nvPr/>
        </p:nvSpPr>
        <p:spPr>
          <a:xfrm>
            <a:off x="2484360" y="24210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88" h="21600">
                <a:moveTo>
                  <a:pt x="1354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88" h="21600">
                <a:moveTo>
                  <a:pt x="10968" y="8224"/>
                </a:moveTo>
                <a:lnTo>
                  <a:pt x="14832" y="8224"/>
                </a:lnTo>
                <a:lnTo>
                  <a:pt x="14832" y="15221"/>
                </a:lnTo>
                <a:lnTo>
                  <a:pt x="16120" y="15221"/>
                </a:lnTo>
                <a:lnTo>
                  <a:pt x="16120" y="16144"/>
                </a:lnTo>
                <a:lnTo>
                  <a:pt x="10968" y="16144"/>
                </a:lnTo>
                <a:lnTo>
                  <a:pt x="10968" y="15221"/>
                </a:lnTo>
                <a:lnTo>
                  <a:pt x="12256" y="15221"/>
                </a:lnTo>
                <a:lnTo>
                  <a:pt x="12256" y="9129"/>
                </a:lnTo>
                <a:lnTo>
                  <a:pt x="10968" y="912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14"/>
          <p:cNvSpPr/>
          <p:nvPr/>
        </p:nvSpPr>
        <p:spPr>
          <a:xfrm>
            <a:off x="7380360" y="249228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88" h="21600">
                <a:moveTo>
                  <a:pt x="1354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88" h="21600">
                <a:moveTo>
                  <a:pt x="10968" y="8224"/>
                </a:moveTo>
                <a:lnTo>
                  <a:pt x="14832" y="8224"/>
                </a:lnTo>
                <a:lnTo>
                  <a:pt x="14832" y="15221"/>
                </a:lnTo>
                <a:lnTo>
                  <a:pt x="16120" y="15221"/>
                </a:lnTo>
                <a:lnTo>
                  <a:pt x="16120" y="16144"/>
                </a:lnTo>
                <a:lnTo>
                  <a:pt x="10968" y="16144"/>
                </a:lnTo>
                <a:lnTo>
                  <a:pt x="10968" y="15221"/>
                </a:lnTo>
                <a:lnTo>
                  <a:pt x="12256" y="15221"/>
                </a:lnTo>
                <a:lnTo>
                  <a:pt x="12256" y="9129"/>
                </a:lnTo>
                <a:lnTo>
                  <a:pt x="10968" y="912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15"/>
          <p:cNvSpPr/>
          <p:nvPr/>
        </p:nvSpPr>
        <p:spPr>
          <a:xfrm>
            <a:off x="5003640" y="45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88" h="21600">
                <a:moveTo>
                  <a:pt x="1354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88" h="21600">
                <a:moveTo>
                  <a:pt x="10968" y="8224"/>
                </a:moveTo>
                <a:lnTo>
                  <a:pt x="14832" y="8224"/>
                </a:lnTo>
                <a:lnTo>
                  <a:pt x="14832" y="15221"/>
                </a:lnTo>
                <a:lnTo>
                  <a:pt x="16120" y="15221"/>
                </a:lnTo>
                <a:lnTo>
                  <a:pt x="16120" y="16144"/>
                </a:lnTo>
                <a:lnTo>
                  <a:pt x="10968" y="16144"/>
                </a:lnTo>
                <a:lnTo>
                  <a:pt x="10968" y="15221"/>
                </a:lnTo>
                <a:lnTo>
                  <a:pt x="12256" y="15221"/>
                </a:lnTo>
                <a:lnTo>
                  <a:pt x="12256" y="9129"/>
                </a:lnTo>
                <a:lnTo>
                  <a:pt x="10968" y="912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1400"/>
                </a:solidFill>
                <a:latin typeface="Arial"/>
              </a:rPr>
              <a:t>Фрикционная безработица связана с поиском работы и ожиданием выхода на работу.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487440" y="3548160"/>
          <a:ext cx="7608960" cy="3170160"/>
        </p:xfrm>
        <a:graphic>
          <a:graphicData uri="http://schemas.openxmlformats.org/drawingml/2006/table">
            <a:tbl>
              <a:tblPr/>
              <a:tblGrid>
                <a:gridCol w="2301840"/>
                <a:gridCol w="530712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работу ищут уже </a:t>
                      </a: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товые специалисты</a:t>
                      </a:r>
                      <a:r>
                        <a:rPr b="0" i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с определенным уровнем профессиональной подготовки и квалификаци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рич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совершенство информации</a:t>
                      </a:r>
                      <a:r>
                        <a:rPr b="0" i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сведений о наличии свободных рабочих мест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К фрикционным безработным относятся люди: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6" name="Oval 9"/>
          <p:cNvSpPr/>
          <p:nvPr/>
        </p:nvSpPr>
        <p:spPr>
          <a:xfrm>
            <a:off x="2771640" y="3500280"/>
            <a:ext cx="3384720" cy="129564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уволившиеся п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собственному жела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10"/>
          <p:cNvSpPr/>
          <p:nvPr/>
        </p:nvSpPr>
        <p:spPr>
          <a:xfrm>
            <a:off x="5219640" y="465300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ашедшие работу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о ещ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е приступившие к н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11"/>
          <p:cNvSpPr/>
          <p:nvPr/>
        </p:nvSpPr>
        <p:spPr>
          <a:xfrm>
            <a:off x="179280" y="465300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сезонные рабоч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(не в сезон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4"/>
          <p:cNvSpPr/>
          <p:nvPr/>
        </p:nvSpPr>
        <p:spPr>
          <a:xfrm flipH="1">
            <a:off x="2268360" y="1773360"/>
            <a:ext cx="115272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5"/>
          <p:cNvSpPr/>
          <p:nvPr/>
        </p:nvSpPr>
        <p:spPr>
          <a:xfrm>
            <a:off x="4500720" y="1773360"/>
            <a:ext cx="0" cy="165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6"/>
          <p:cNvSpPr/>
          <p:nvPr/>
        </p:nvSpPr>
        <p:spPr>
          <a:xfrm>
            <a:off x="4861080" y="1700280"/>
            <a:ext cx="2374920" cy="302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7"/>
          <p:cNvSpPr/>
          <p:nvPr/>
        </p:nvSpPr>
        <p:spPr>
          <a:xfrm flipH="1">
            <a:off x="1476000" y="1773360"/>
            <a:ext cx="2590920" cy="2879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8"/>
          <p:cNvSpPr/>
          <p:nvPr/>
        </p:nvSpPr>
        <p:spPr>
          <a:xfrm>
            <a:off x="5292720" y="1700280"/>
            <a:ext cx="863640" cy="43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12"/>
          <p:cNvSpPr/>
          <p:nvPr/>
        </p:nvSpPr>
        <p:spPr>
          <a:xfrm>
            <a:off x="357120" y="214308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ожидающие восстано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а прежней рабо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8"/>
          <p:cNvSpPr/>
          <p:nvPr/>
        </p:nvSpPr>
        <p:spPr>
          <a:xfrm>
            <a:off x="5364000" y="206064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уволенные с работ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по приказ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админист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Фрикционная безработица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AutoShape 4"/>
          <p:cNvSpPr/>
          <p:nvPr/>
        </p:nvSpPr>
        <p:spPr>
          <a:xfrm>
            <a:off x="611280" y="1844640"/>
            <a:ext cx="2592360" cy="1511280"/>
          </a:xfrm>
          <a:prstGeom prst="flowChartPunchedTape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ИЗБЕЖ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3708360" y="2565360"/>
            <a:ext cx="1655640" cy="358920"/>
          </a:xfrm>
          <a:prstGeom prst="leftRightArrow">
            <a:avLst>
              <a:gd name="adj1" fmla="val 50000"/>
              <a:gd name="adj2" fmla="val 91829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11"/>
          <p:cNvSpPr/>
          <p:nvPr/>
        </p:nvSpPr>
        <p:spPr>
          <a:xfrm>
            <a:off x="468360" y="4365720"/>
            <a:ext cx="3529080" cy="1366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ВЯЗА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с естественными тенденция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в движении рабочей си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utoShape 12"/>
          <p:cNvSpPr/>
          <p:nvPr/>
        </p:nvSpPr>
        <p:spPr>
          <a:xfrm>
            <a:off x="4932360" y="4365720"/>
            <a:ext cx="3673440" cy="1439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ПОСОБСТВУ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более рациональному размещ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рабочей силы и более высок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производи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13"/>
          <p:cNvSpPr/>
          <p:nvPr/>
        </p:nvSpPr>
        <p:spPr>
          <a:xfrm>
            <a:off x="6012000" y="1700280"/>
            <a:ext cx="2592360" cy="1511280"/>
          </a:xfrm>
          <a:prstGeom prst="flowChartPunchedTape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ЛАТЕЛЬ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utoShape 20"/>
          <p:cNvSpPr/>
          <p:nvPr/>
        </p:nvSpPr>
        <p:spPr>
          <a:xfrm rot="1734600">
            <a:off x="3347640" y="1413000"/>
            <a:ext cx="287280" cy="3095640"/>
          </a:xfrm>
          <a:prstGeom prst="downArrow">
            <a:avLst>
              <a:gd name="adj1" fmla="val 0"/>
              <a:gd name="adj2" fmla="val 308953"/>
            </a:avLst>
          </a:prstGeom>
          <a:gradFill rotWithShape="0">
            <a:gsLst>
              <a:gs pos="0">
                <a:srgbClr val="000099"/>
              </a:gs>
              <a:gs pos="100000">
                <a:srgbClr val="ffcc99"/>
              </a:gs>
            </a:gsLst>
            <a:lin ang="96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utoShape 21"/>
          <p:cNvSpPr/>
          <p:nvPr/>
        </p:nvSpPr>
        <p:spPr>
          <a:xfrm rot="19807800">
            <a:off x="5651640" y="1413000"/>
            <a:ext cx="287280" cy="3095640"/>
          </a:xfrm>
          <a:prstGeom prst="downArrow">
            <a:avLst>
              <a:gd name="adj1" fmla="val 0"/>
              <a:gd name="adj2" fmla="val 308953"/>
            </a:avLst>
          </a:prstGeom>
          <a:gradFill rotWithShape="0">
            <a:gsLst>
              <a:gs pos="0">
                <a:srgbClr val="000099"/>
              </a:gs>
              <a:gs pos="100000">
                <a:srgbClr val="ffcc99"/>
              </a:gs>
            </a:gsLst>
            <a:lin ang="4494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ed3c05"/>
                </a:solidFill>
                <a:latin typeface="Arial"/>
              </a:rPr>
              <a:t>Уровень фрикционной безработицы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количество фрикционных безработны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х 10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общая численность рабочей си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Line 4"/>
          <p:cNvSpPr/>
          <p:nvPr/>
        </p:nvSpPr>
        <p:spPr>
          <a:xfrm>
            <a:off x="755640" y="3357720"/>
            <a:ext cx="6121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10" descr="j0149576"/>
          <p:cNvPicPr/>
          <p:nvPr/>
        </p:nvPicPr>
        <p:blipFill>
          <a:blip r:embed="rId1"/>
          <a:stretch/>
        </p:blipFill>
        <p:spPr>
          <a:xfrm>
            <a:off x="6156360" y="4005360"/>
            <a:ext cx="2403360" cy="190476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11"/>
          <p:cNvSpPr/>
          <p:nvPr/>
        </p:nvSpPr>
        <p:spPr>
          <a:xfrm>
            <a:off x="611280" y="5445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3c05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ed3c05"/>
                </a:solidFill>
                <a:latin typeface="Times New Roman"/>
              </a:rPr>
              <a:t>Структурная безработица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684360" y="2205000"/>
          <a:ext cx="8062920" cy="3753000"/>
        </p:xfrm>
        <a:graphic>
          <a:graphicData uri="http://schemas.openxmlformats.org/drawingml/2006/table">
            <a:tbl>
              <a:tblPr/>
              <a:tblGrid>
                <a:gridCol w="2733480"/>
                <a:gridCol w="5329440"/>
              </a:tblGrid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Обусловле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структурными сдвигами</a:t>
                      </a: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( structural shifts )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ич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несоответствие структур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абочей силы структуре рабочих ме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Особенност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е </a:t>
                      </a: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продолжительн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</a:t>
                      </a: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дорогостоящ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чем фрикцио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9:55:37Z</dcterms:created>
  <dc:creator>User</dc:creator>
  <dc:description/>
  <dc:language>en-US</dc:language>
  <cp:lastModifiedBy>LEGION</cp:lastModifiedBy>
  <dcterms:modified xsi:type="dcterms:W3CDTF">2014-11-10T12:08:41Z</dcterms:modified>
  <cp:revision>34</cp:revision>
  <dc:subject/>
  <dc:title>Слайд 1</dc:title>
</cp:coreProperties>
</file>