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1AF7-4804-415F-890E-FF2636F2BD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программе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.А.Лутцевой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УМК «Начальная школа ХХ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век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Шопина Наталья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ОУ СОШ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. Коре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B33F-0B96-42B3-ABE3-4877547A332D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олни задание 41 в рабочей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ери одну из констру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еханизм вместе с друзьями. Порядок работы см. на с. 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942-0D8B-4E60-BCD0-003C4DB44846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одель изделия, имеющего передачу (это мож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ть транспортёр, подъёмный кран, мельница)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6589-2472-4FFA-9EC5-F97EF19542C6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ТОГ 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ему я научился на уроке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то мне этот урок дал для жизни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ивлек меня те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оказался интересны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Заставил задуматься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A3ED-72D6-49A6-B7B3-A5C0C92D4B06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ь любую модель, которая тебе понрав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6618-3A67-4DFE-8E3D-14372E046DF0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о    скорой встреч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C0DF-3333-4589-B658-23BD83D10CE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тцева Е.А. «Технология 3 класс. Сценарии уроков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ебник  «Технология 3 класс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имся мастерству. Рабочая тетрадь. 3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B7D2-DBDB-4E43-A8A2-BF0356996A2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реобразование энергии сил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стройство передаточ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передач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1517-9763-40D6-98B7-B5B5B9E7CA1C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ботой двух шкивов, связанных между собой ременной пере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, как  вращение одного шкива передается друг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конструированию различных технических моделей с приводом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0416-9C89-4CE5-A3BA-B8D726954303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тройство передаточного механ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, как он устр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24B7-7765-4D6A-A0AA-4DEC9D3F2A7A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ветряной мельницы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  крылья; 2 — жернова; 3 — передаточ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320E-E154-4273-9F90-E297984713FA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Рассмотри рисунки видов передач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Найди эти передачи в технических устройствах — швейной машине, часах, велосип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01BD-F147-46C8-A72F-4CF721C10F2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ередач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менная; 2 — цепна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— зубча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5240-A022-468F-8DF2-6B30A256B63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ты думаешь, для чего?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и исследования (например, своего велосипеда)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EC5F-5824-4322-9184-76E7A4EA0B12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D22-2AD9-4376-86B9-E5910889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113-7533-41BF-A3B3-1D303373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50F-83A3-48E8-B6CF-227EE877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DD8-01D8-409B-851B-E69AB5C2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0785-BA1D-4C32-8C4D-D0F8793A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91A7-D8B8-40F4-B70E-B80CB9CB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2286-F2ED-49DE-834C-EF1F68ED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4F5F-5A14-411A-AFD2-8DA4F6F4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D2C9-5D86-4F4B-8BF8-11308DE1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D0B0-55A0-403D-9AFE-4BB55CBD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CF0C-2DD5-40BF-B572-5F75B829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BAD-143F-42CF-A61F-A6907A9D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DD01-B5D6-4BAF-A4E9-299FD338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42A6-DC19-4AD2-9F4B-BFEBC20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E733-51C5-469A-8870-2898B229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7F9F-6627-4761-BC52-280D11DE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085B-CC95-4AFD-B801-BC537654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390-CAD4-4599-89E8-E3DE8B69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96A-14FE-492F-94B3-4068C801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B80-C0C3-4C0A-AFE1-69B9302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1E5-EB0F-45E2-B387-DC5C8FF2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0A5-4A47-4C6D-966C-4652908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1F2-7DBE-4774-A222-817BD807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73B-C482-4B22-94AC-3B60E72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A4C2-2825-4491-BBD6-816ED8A177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97D8-1DF0-4A96-8183-BD5252BC2BBC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rinter.ru/books/192596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printer.ru/books/1932300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 класс</a:t>
            </a:r>
            <a:br>
              <a:rPr sz="2800"/>
            </a:b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по программе  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Е.А.Лутцевой </a:t>
            </a:r>
            <a:br>
              <a:rPr sz="2800"/>
            </a:b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(УМК «Начальная школа ХХ</a:t>
            </a:r>
            <a:r>
              <a:rPr b="1" lang="en-US" sz="2800" spc="-1" strike="noStrike" u="sng">
                <a:solidFill>
                  <a:srgbClr val="ffcc99"/>
                </a:solidFill>
                <a:uFillTx/>
                <a:latin typeface="Times New Roman"/>
              </a:rPr>
              <a:t>I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 века»)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209680" y="43434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Шопина Наталья Николаевна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МОУ СОШ № 3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Г. Кореновск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Краснодарский край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imes New Roman"/>
              </a:rPr>
              <a:t>*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Выполни задание 41 в рабочей тетради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Выбери одну из конструкций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Изготовь механизм вместе с друзьями. Порядок работы см. на с. 36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Изготовь модель изделия, имеющего передачу (это может </a:t>
            </a:r>
            <a:r>
              <a:rPr b="1" i="1" lang="ru-RU" sz="3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быть транспортёр, подъёмный кран, мельница).</a:t>
            </a:r>
            <a:br>
              <a:rPr sz="4000"/>
            </a:b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1" name="Picture 6" descr="i?id=38838122&amp;tov=4"/>
          <p:cNvPicPr/>
          <p:nvPr/>
        </p:nvPicPr>
        <p:blipFill>
          <a:blip r:embed="rId1"/>
          <a:stretch/>
        </p:blipFill>
        <p:spPr>
          <a:xfrm>
            <a:off x="838080" y="20574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?id=46065175&amp;tov=7"/>
          <p:cNvPicPr/>
          <p:nvPr/>
        </p:nvPicPr>
        <p:blipFill>
          <a:blip r:embed="rId2"/>
          <a:stretch/>
        </p:blipFill>
        <p:spPr>
          <a:xfrm>
            <a:off x="5486400" y="19810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?id=49007400&amp;tov=0"/>
          <p:cNvPicPr/>
          <p:nvPr/>
        </p:nvPicPr>
        <p:blipFill>
          <a:blip r:embed="rId3"/>
          <a:stretch/>
        </p:blipFill>
        <p:spPr>
          <a:xfrm>
            <a:off x="3276720" y="4660920"/>
            <a:ext cx="2819160" cy="2197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4771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  <a:effectLst>
            <a:outerShdw dist="36147" dir="2700000" blurRad="0" rotWithShape="0">
              <a:srgbClr val="ff9966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 Narrow"/>
              </a:rPr>
              <a:t>ИТОГ  УРОКА</a:t>
            </a: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      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ему я научился на уроке………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то мне этот урок дал для жизни………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ривлек меня те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оказался интересны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Заставил задуматься…………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Домашнее задание !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(по желанию)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изготовь любую модель, которая тебе понравилась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79" name="Picture 6" descr="i?id=38838122&amp;tov=4"/>
          <p:cNvPicPr/>
          <p:nvPr/>
        </p:nvPicPr>
        <p:blipFill>
          <a:blip r:embed="rId1"/>
          <a:stretch/>
        </p:blipFill>
        <p:spPr>
          <a:xfrm>
            <a:off x="685800" y="457200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?id=46065175&amp;tov=7"/>
          <p:cNvPicPr/>
          <p:nvPr/>
        </p:nvPicPr>
        <p:blipFill>
          <a:blip r:embed="rId2"/>
          <a:stretch/>
        </p:blipFill>
        <p:spPr>
          <a:xfrm>
            <a:off x="3200400" y="4495680"/>
            <a:ext cx="243828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?id=49007400&amp;tov=0"/>
          <p:cNvPicPr/>
          <p:nvPr/>
        </p:nvPicPr>
        <p:blipFill>
          <a:blip r:embed="rId3"/>
          <a:stretch/>
        </p:blipFill>
        <p:spPr>
          <a:xfrm>
            <a:off x="6400800" y="4495680"/>
            <a:ext cx="2286000" cy="1781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о    скорой встречи!!!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84" name="Picture 3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20000" cy="55897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Ссылк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8240" y="16002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Лутцева Е.А. «Технология 3 класс. Сценарии уроков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ебник  «Технология 3 класс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имся мастерству. Рабочая тетрадь. 3 класс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88" name="Picture 6" descr="Технология. Ступеньки к мастерству. 3 класс. Учебник, Лутцев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Учимся мастерству. Рабочая тетрадь. 3 класс, Лут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495680"/>
            <a:ext cx="15750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666880" y="1752480"/>
          <a:ext cx="5257800" cy="660600"/>
        </p:xfrm>
        <a:graphic>
          <a:graphicData uri="http://schemas.openxmlformats.org/drawingml/2006/table">
            <a:tbl>
              <a:tblPr/>
              <a:tblGrid>
                <a:gridCol w="254160"/>
                <a:gridCol w="5003640"/>
              </a:tblGrid>
              <a:tr h="29448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81280" y="3881520"/>
          <a:ext cx="1212840" cy="1189080"/>
        </p:xfrm>
        <a:graphic>
          <a:graphicData uri="http://schemas.openxmlformats.org/drawingml/2006/table">
            <a:tbl>
              <a:tblPr/>
              <a:tblGrid>
                <a:gridCol w="1212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           </a:t>
                      </a: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2" name="Picture 31" descr="Технология 3 класс. Сценарии уроков. Ступеньки к мастерству, Лутцева. Купить книгу. Издательство: Вентана-Граф"/>
          <p:cNvPicPr/>
          <p:nvPr/>
        </p:nvPicPr>
        <p:blipFill>
          <a:blip r:embed="rId5"/>
          <a:stretch/>
        </p:blipFill>
        <p:spPr>
          <a:xfrm>
            <a:off x="3581280" y="4572000"/>
            <a:ext cx="175284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«Преобразование энергии сил природы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Устройство передаточного механизма.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Виды передач»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знакомить учащихся с работой двух шкивов, связанных между собой ременной передачей;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казать, как  вращение одного шкива передается другому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Обучение конструированию различных технических моделей с приводом механизм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Устройство передаточного механизма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05740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Рассмотри, как он устроен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Устройство ветряной мельницы: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   -   крылья; 2 — жернова; 3 — передаточный механизм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Рассмотри рисунки видов передач. 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Найди эти передачи в технических устройствах — швейной машине, часах, велосипеде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Виды передач: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1 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- ременная; 2 — цепная;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3 — зубчатая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Как ты думаешь, для чего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Проведи исследования (например, своего велосипеда)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chportal.ru</dc:description>
  <dc:language>en-US</dc:language>
  <cp:lastModifiedBy>LEGION</cp:lastModifiedBy>
  <dcterms:modified xsi:type="dcterms:W3CDTF">2015-03-31T08:46:56Z</dcterms:modified>
  <cp:revision>11</cp:revision>
  <dc:subject/>
  <dc:title>Передаточный механ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a000000000001024140</vt:lpwstr>
  </property>
  <property fmtid="{D5CDD505-2E9C-101B-9397-08002B2CF9AE}" pid="3" name="Version">
    <vt:r8>1</vt:r8>
  </property>
</Properties>
</file>