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21B3-5471-452F-A723-6B0F8411A70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 класс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программе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.А.Лутцевой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УМК «Начальная школа ХХ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века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Шопина Наталья Никола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ОУ СОШ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Г. Коренов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раснодарский кр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3D86-2851-4A91-953C-1985470F72C1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полни задание 41 в рабочей тетрад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 схемы ременных передач вращательного движения. Прямая передача — когда два колеса крутятся в одном направлении. Перекрёстная передача — когда колёса крутятся в разных направл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робуй догадаться, где какая схема. Обязательно докажи свой выбор практически. Для этого можно использовать готовый механизм или сделать по схеме модель передачи из любых подходящих материа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ери одну из констру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ь механизм вместе с друзьями. Порядок работы см. на с. 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87DA-85F6-4FF5-8ABA-D13223607C29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ь модель изделия, имеющего передачу (это мож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ть транспортёр, подъёмный кран, мельница).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9EB2-7F60-4EB1-A203-BF659E0D106A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ИТОГ  УР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Чему я научился на уроке…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Что мне этот урок дал для жизни…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ривлек меня тем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оказался интересным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Заставил задуматься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4A9A-BB63-49E7-AFCF-911D56A7783C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 жела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ь любую модель, которая тебе понравила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8E43-59BF-4A9E-BEBC-C3647D74EC12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До    скорой встречи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4525-7D2C-4CF9-811F-B9E4B7B1A9D1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Лутцева Е.А. «Технология 3 класс. Сценарии уроков. Ступеньки к мастерств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ебник  «Технология 3 класс. Ступеньки к мастерств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имся мастерству. Рабочая тетрадь. 3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EF5D-F458-4E9E-B43C-15A15E216FCD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Преобразование энергии сил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Устройство передаточного мех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иды передач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C7D0-5EFD-4C79-A80C-B42FE5A2AA9E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работой двух шкивов, связанных между собой ременной передач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, как  вращение одного шкива передается друг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 конструированию различных технических моделей с приводом мех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9DE8-6789-4DF7-AD5A-F85ABE31EDD1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стройство передаточного механиз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ая часть конструкции мельницы — передаточный механизм. Передаточный механизм — одно из замечательных изобретений человек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, как он устро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8F1D-A181-4C18-8EBB-6F63AFCF95C8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ветряной мельницы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  крылья; 2 — жернова; 3 — передаточный мех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C2AD-F5CB-417C-91C7-FAE503DD7DB7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годня передаточные механизмы используют в различных технических устройствах — от самых простых до сложных станков и машин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Рассмотри рисунки видов передач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Найди эти передачи в технических устройствах — швейной машине, часах, велосип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C460-9D88-4574-A089-DF6BE784421B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передач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менная; 2 — цепна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— зубча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4B6B-4C9B-4625-95A0-D252CEC2D581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ти внимание, что обычно одно зубчатое колесо (или шкив — колесо с желобком) большое, другое — маленькое )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ак ты думаешь, для чего?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и исследования (например, своего велосипеда)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ED1B-DA4A-4ADF-BE76-C1A002469249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BD6-F016-4CA5-9E27-856A19BD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2E8A-D5AD-4BE5-8F66-EE302603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E8E-2EC1-4E1A-B245-6CD466BA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FF7-DCC8-49C0-8C16-D6652285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9218-3F55-485F-AD0B-E941D7A2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AAD5-85E6-4792-B550-2841999F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11CA-B903-412F-BE23-C4D18BE2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C6AA-14A5-4B4D-AD65-6352C56B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F3EF-83EF-466D-82AA-AB37504C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43BD-DF9D-4C96-BBE9-3753F175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2ABD-9799-4754-ADD0-76863C3B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AE8-1E6F-49A1-AA4D-4ADE3811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6289-A892-4685-8481-9B834853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C104-BC71-4B80-8E82-058083ED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76DE-E1C3-4139-BE09-C715BF64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46A5-E4D4-46D2-8FD5-2DBA75DA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4387-E4F4-41E6-8E6E-C46A7FF7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FF0-FC59-452B-8245-9C1A8368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F86A-1253-4415-AABD-3EA7E44F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9E73-F183-459E-A737-94CA8620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911-9C6D-44B3-BDD1-B4D7F41F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A90-A1DD-4A74-8E08-33DE55FD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0C4-593B-45D2-BA69-EE500EDD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F54-7B9C-43FD-BB18-B9B34A06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BE90-5F79-4BDA-B1A0-488592BB0D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82D3-FAD8-42AD-8259-A3D4D1178FE3}" type="slidenum">
              <a:rPr b="0" lang="ru-RU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printer.ru/books/1925963.htm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sprinter.ru/books/1932300.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Технология </a:t>
            </a:r>
            <a:br>
              <a:rPr sz="2800"/>
            </a:b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3 класс</a:t>
            </a:r>
            <a:br>
              <a:rPr sz="2800"/>
            </a:br>
            <a:r>
              <a:rPr b="1" lang="ru-RU" sz="2800" spc="-1" strike="noStrike">
                <a:solidFill>
                  <a:srgbClr val="ffcc99"/>
                </a:solidFill>
                <a:latin typeface="Arial"/>
              </a:rPr>
              <a:t>по программе  </a:t>
            </a: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Е.А.Лутцевой </a:t>
            </a:r>
            <a:br>
              <a:rPr sz="2800"/>
            </a:b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(УМК «Начальная школа ХХ</a:t>
            </a:r>
            <a:r>
              <a:rPr b="1" lang="en-US" sz="2800" spc="-1" strike="noStrike" u="sng">
                <a:solidFill>
                  <a:srgbClr val="ffcc99"/>
                </a:solidFill>
                <a:uFillTx/>
                <a:latin typeface="Times New Roman"/>
              </a:rPr>
              <a:t>I</a:t>
            </a: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 века»)</a:t>
            </a: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209680" y="43434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Шопина Наталья Николаевна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МОУ СОШ № 3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Г. Кореновск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Краснодарский край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9966"/>
                </a:solidFill>
                <a:latin typeface="Times New Roman"/>
              </a:rPr>
              <a:t>*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Выполни задание 41 в рабочей тетради.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Рассмотри схемы ременных передач вращательного движения. Прямая передача — когда два колеса крутятся в одном направлении. Перекрёстная передача — когда колёса крутятся в разных направлениях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Попробуй догадаться, где какая схема. Обязательно докажи свой выбор практически. Для этого можно использовать готовый механизм или сделать по схеме модель передачи из любых подходящих материалов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Выбери одну из конструкций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Изготовь механизм вместе с друзьями. Порядок работы см. на с. 36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686800" cy="632484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Изготовь модель изделия, имеющего передачу (это может </a:t>
            </a:r>
            <a:r>
              <a:rPr b="1" i="1" lang="ru-RU" sz="3200" spc="-1" strike="noStrike">
                <a:solidFill>
                  <a:srgbClr val="ff9966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быть транспортёр, подъёмный кран, мельница).</a:t>
            </a:r>
            <a:br>
              <a:rPr sz="4000"/>
            </a:b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71" name="Picture 6" descr="i?id=38838122&amp;tov=4"/>
          <p:cNvPicPr/>
          <p:nvPr/>
        </p:nvPicPr>
        <p:blipFill>
          <a:blip r:embed="rId1"/>
          <a:stretch/>
        </p:blipFill>
        <p:spPr>
          <a:xfrm>
            <a:off x="838080" y="2057400"/>
            <a:ext cx="2895840" cy="2514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i?id=46065175&amp;tov=7"/>
          <p:cNvPicPr/>
          <p:nvPr/>
        </p:nvPicPr>
        <p:blipFill>
          <a:blip r:embed="rId2"/>
          <a:stretch/>
        </p:blipFill>
        <p:spPr>
          <a:xfrm>
            <a:off x="5486400" y="1981080"/>
            <a:ext cx="3200400" cy="2438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i?id=49007400&amp;tov=0"/>
          <p:cNvPicPr/>
          <p:nvPr/>
        </p:nvPicPr>
        <p:blipFill>
          <a:blip r:embed="rId3"/>
          <a:stretch/>
        </p:blipFill>
        <p:spPr>
          <a:xfrm>
            <a:off x="3276720" y="4660920"/>
            <a:ext cx="2819160" cy="21970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47712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  <a:effectLst>
            <a:outerShdw dist="36147" dir="2700000" blurRad="0" rotWithShape="0">
              <a:srgbClr val="ff9966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 Narrow"/>
              </a:rPr>
              <a:t>ИТОГ  УРОКА</a:t>
            </a: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                    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Чему я научился на уроке………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Что мне этот урок дал для жизни………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Привлек меня тем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Показался интересным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Заставил задуматься…………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Домашнее задание !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(по желанию)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изготовь любую модель, которая тебе понравилась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pic>
        <p:nvPicPr>
          <p:cNvPr id="279" name="Picture 6" descr="i?id=38838122&amp;tov=4"/>
          <p:cNvPicPr/>
          <p:nvPr/>
        </p:nvPicPr>
        <p:blipFill>
          <a:blip r:embed="rId1"/>
          <a:stretch/>
        </p:blipFill>
        <p:spPr>
          <a:xfrm>
            <a:off x="685800" y="4572000"/>
            <a:ext cx="1981080" cy="1720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i?id=46065175&amp;tov=7"/>
          <p:cNvPicPr/>
          <p:nvPr/>
        </p:nvPicPr>
        <p:blipFill>
          <a:blip r:embed="rId2"/>
          <a:stretch/>
        </p:blipFill>
        <p:spPr>
          <a:xfrm>
            <a:off x="3200400" y="4495680"/>
            <a:ext cx="2438280" cy="1857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i?id=49007400&amp;tov=0"/>
          <p:cNvPicPr/>
          <p:nvPr/>
        </p:nvPicPr>
        <p:blipFill>
          <a:blip r:embed="rId3"/>
          <a:stretch/>
        </p:blipFill>
        <p:spPr>
          <a:xfrm>
            <a:off x="6400800" y="4495680"/>
            <a:ext cx="2286000" cy="178128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До    скорой встречи!!!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84" name="Picture 3" descr="звоно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268280"/>
            <a:ext cx="7920000" cy="558972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Ссылки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08240" y="1600200"/>
            <a:ext cx="6478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Лутцева Е.А. «Технология 3 класс. Сценарии уроков. Ступеньки к мастерству»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Учебник  «Технология 3 класс. Ступеньки к мастерству»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Учимся мастерству. Рабочая тетрадь. 3 класс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pic>
        <p:nvPicPr>
          <p:cNvPr id="288" name="Picture 6" descr="Технология. Ступеньки к мастерству. 3 класс. Учебник, Лутцева Еле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5720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Учимся мастерству. Рабочая тетрадь. 3 класс, Лутцев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495680"/>
            <a:ext cx="157500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2666880" y="1752480"/>
          <a:ext cx="5257800" cy="660600"/>
        </p:xfrm>
        <a:graphic>
          <a:graphicData uri="http://schemas.openxmlformats.org/drawingml/2006/table">
            <a:tbl>
              <a:tblPr/>
              <a:tblGrid>
                <a:gridCol w="254160"/>
                <a:gridCol w="5003640"/>
              </a:tblGrid>
              <a:tr h="294480"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d6d5d5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d6d5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681280" y="3881520"/>
          <a:ext cx="1212840" cy="1189080"/>
        </p:xfrm>
        <a:graphic>
          <a:graphicData uri="http://schemas.openxmlformats.org/drawingml/2006/table">
            <a:tbl>
              <a:tblPr/>
              <a:tblGrid>
                <a:gridCol w="12128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            </a:t>
                      </a: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2" name="Picture 31" descr="Технология 3 класс. Сценарии уроков. Ступеньки к мастерству, Лутцева. Купить книгу. Издательство: Вентана-Граф"/>
          <p:cNvPicPr/>
          <p:nvPr/>
        </p:nvPicPr>
        <p:blipFill>
          <a:blip r:embed="rId5"/>
          <a:stretch/>
        </p:blipFill>
        <p:spPr>
          <a:xfrm>
            <a:off x="3581280" y="4572000"/>
            <a:ext cx="1752840" cy="22860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«Преобразование энергии сил природы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Устройство передаточного механизма. 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Виды передач»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Познакомить учащихся с работой двух шкивов, связанных между собой ременной передачей;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Показать, как  вращение одного шкива передается другому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Обучение конструированию различных технических моделей с приводом механизма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Устройство передаточного механизма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08240" y="2057400"/>
            <a:ext cx="647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 Narrow"/>
              </a:rPr>
              <a:t>Главная часть конструкции мельницы — передаточный механизм. Передаточный механизм — одно из замечательных изобретений человека.  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 Narrow"/>
              </a:rPr>
              <a:t>Рассмотри, как он устроен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66"/>
                </a:solidFill>
                <a:latin typeface="Times New Roman"/>
              </a:rPr>
              <a:t>Устройство ветряной мельницы: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Times New Roman"/>
              </a:rPr>
              <a:t>I</a:t>
            </a:r>
            <a:r>
              <a:rPr b="0" lang="ru-RU" sz="3600" spc="-1" strike="noStrike">
                <a:solidFill>
                  <a:srgbClr val="ff9966"/>
                </a:solidFill>
                <a:latin typeface="Times New Roman"/>
              </a:rPr>
              <a:t>   -   крылья; 2 — жернова; 3 — передаточный механизм</a:t>
            </a:r>
            <a:endParaRPr b="0" lang="en-US" sz="36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Сегодня передаточные механизмы используют в различных технических устройствах — от самых простых до сложных станков и машин.</a:t>
            </a: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Рассмотри рисунки видов передач. </a:t>
            </a: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 Найди эти передачи в технических устройствах — швейной машине, часах, велосипеде.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Виды передач:</a:t>
            </a:r>
            <a:br>
              <a:rPr sz="4000"/>
            </a:b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1 </a:t>
            </a:r>
            <a:r>
              <a:rPr b="0" lang="ru-RU" sz="4000" spc="-1" strike="noStrike">
                <a:solidFill>
                  <a:srgbClr val="ff9966"/>
                </a:solidFill>
                <a:latin typeface="Times New Roman"/>
              </a:rPr>
              <a:t>- ременная; 2 — цепная;</a:t>
            </a:r>
            <a:br>
              <a:rPr sz="4000"/>
            </a:br>
            <a:r>
              <a:rPr b="0" lang="ru-RU" sz="4000" spc="-1" strike="noStrike">
                <a:solidFill>
                  <a:srgbClr val="ff9966"/>
                </a:solidFill>
                <a:latin typeface="Times New Roman"/>
              </a:rPr>
              <a:t>3 — зубчатая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7162920" cy="487692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Обрати внимание, что обычно одно зубчатое колесо (или шкив — колесо с желобком) большое, другое — маленькое 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Как ты думаешь, для чего?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Проведи исследования (например, своего велосипеда).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686800" cy="65530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uchportal.ru</dc:description>
  <dc:language>en-US</dc:language>
  <cp:lastModifiedBy>LEGION</cp:lastModifiedBy>
  <dcterms:modified xsi:type="dcterms:W3CDTF">2015-03-31T08:46:56Z</dcterms:modified>
  <cp:revision>11</cp:revision>
  <dc:subject/>
  <dc:title>Передаточный механиз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a000000000001024140</vt:lpwstr>
  </property>
  <property fmtid="{D5CDD505-2E9C-101B-9397-08002B2CF9AE}" pid="3" name="Version">
    <vt:r8>1</vt:r8>
  </property>
</Properties>
</file>