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0D45-FC19-4A75-AAD9-EFCA127538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программе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.А.Лутцевой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УМК «Начальная школа ХХ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века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Шопина Наталья Никола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ОУ СОШ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Г. Коре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53EC-0C22-44FE-807D-5CC07340D54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олни задание 41 в рабочей тетра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ери одну из констру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еханизм вместе с друзьями. Порядок работы см. на с. 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18ED-FF9D-468D-876C-A467828BACC0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одель изделия, имеющего передачу (это мож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ть транспортёр, подъёмный кран, мельница).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334D-035B-4D64-9ED4-D5A3EF8FBDA1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ТОГ 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ему я научился на уроке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то мне этот урок дал для жизни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ивлек меня те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оказался интересны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Заставил задуматься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7677-580F-4906-B99C-F141E95DD587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ь любую модель, которая тебе понрави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E927-8242-4988-98DD-BD10BE631D18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о    скорой встреч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73E3-E489-44A4-9623-CFAF7E948FF9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тцева Е.А. «Технология 3 класс. Сценарии уроков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ебник  «Технология 3 класс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имся мастерству. Рабочая тетрадь. 3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A72C-E265-4124-8895-3EBE44CA70B8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реобразование энергии сил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стройство передаточ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передач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2D96-76D6-4D54-9434-DC7303C4042F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работой двух шкивов, связанных между собой ременной пере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, как  вращение одного шкива передается друг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конструированию различных технических моделей с приводом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BB51-43A4-4735-AFD3-66F10FD9F4CF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стройство передаточного механиз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, как он устр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306F-9FF9-407F-BB2C-209D75C8BB47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ветряной мельницы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  крылья; 2 — жернова; 3 — передаточ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2B8A-C5AB-4F47-8872-C8B919FC1760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Рассмотри рисунки видов передач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Найди эти передачи в технических устройствах — швейной машине, часах, велосип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A44F-1DA7-4F35-B62D-5DAAD2C62AE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ередач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менная; 2 — цепна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— зубча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23E5-D529-488D-B6D8-AF0AAD06A8F3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ак ты думаешь, для чего?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и исследования (например, своего велосипеда)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4580-D5EF-4A15-87DB-901A4811D1E0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D7E-C8B6-4C9F-8031-0A04594C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10D-2415-40B9-B19C-505C21A9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F8F-EA94-4FAF-A904-17158E2B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453-8516-4993-8977-CD994F94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15B8-4008-4142-8718-165DBC74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9914-9267-40B1-BA24-29D6404F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9D36-6CB8-46CC-8F82-7B8516F7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4B85-95AD-4299-A0DB-53E376B7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71DA-4F56-4CF8-B486-16A7BDFD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9FE2-406F-451F-9F9C-62FF0EF9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7CFF-4AE0-446D-ABA1-FAAB5681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EB6-618C-48AD-98D9-82521AC2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F05D-43F4-4D36-BFCC-78BE5D6A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AE82-F9E9-49E1-9A05-21D2FCD5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083B-2B75-4624-AC13-FAB4C667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DF8F-F749-4CB7-B5B4-133E97B3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CBA9-544B-45CB-ADA4-B57F0CE3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F8D-482B-4974-934D-93804116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F2A-699E-449B-855D-2A7011FE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092-B206-4581-B16F-F86AB942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D53-561B-47E5-8321-7B163607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9AF-9E4D-47A0-A939-886106EB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96F-0760-41B2-9C1D-135176F2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CCD-F87E-42E3-AFA8-01A750CD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34DF-80BF-4AB6-B06D-8BA9DA9C87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0F79-8AF5-4D5C-923C-C40895EF78C3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printer.ru/books/1925963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sprinter.ru/books/1932300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Технология </a:t>
            </a:r>
            <a:br>
              <a:rPr sz="2800"/>
            </a:b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3 класс</a:t>
            </a:r>
            <a:br>
              <a:rPr sz="2800"/>
            </a:br>
            <a:r>
              <a:rPr b="1" lang="ru-RU" sz="2800" spc="-1" strike="noStrike">
                <a:solidFill>
                  <a:srgbClr val="ffcc99"/>
                </a:solidFill>
                <a:latin typeface="Arial"/>
              </a:rPr>
              <a:t>по программе  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Е.А.Лутцевой </a:t>
            </a:r>
            <a:br>
              <a:rPr sz="2800"/>
            </a:b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(УМК «Начальная школа ХХ</a:t>
            </a:r>
            <a:r>
              <a:rPr b="1" lang="en-US" sz="2800" spc="-1" strike="noStrike" u="sng">
                <a:solidFill>
                  <a:srgbClr val="ffcc99"/>
                </a:solidFill>
                <a:uFillTx/>
                <a:latin typeface="Times New Roman"/>
              </a:rPr>
              <a:t>I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 века»)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209680" y="43434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Шопина Наталья Николаевна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МОУ СОШ № 3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Г. Кореновск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Краснодарский край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66"/>
                </a:solidFill>
                <a:latin typeface="Times New Roman"/>
              </a:rPr>
              <a:t>*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Выполни задание 41 в рабочей тетради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Выбери одну из конструкций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Изготовь механизм вместе с друзьями. Порядок работы см. на с. 36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632484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Изготовь модель изделия, имеющего передачу (это может </a:t>
            </a:r>
            <a:r>
              <a:rPr b="1" i="1" lang="ru-RU" sz="32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быть транспортёр, подъёмный кран, мельница).</a:t>
            </a:r>
            <a:br>
              <a:rPr sz="4000"/>
            </a:b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71" name="Picture 6" descr="i?id=38838122&amp;tov=4"/>
          <p:cNvPicPr/>
          <p:nvPr/>
        </p:nvPicPr>
        <p:blipFill>
          <a:blip r:embed="rId1"/>
          <a:stretch/>
        </p:blipFill>
        <p:spPr>
          <a:xfrm>
            <a:off x="838080" y="2057400"/>
            <a:ext cx="2895840" cy="25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?id=46065175&amp;tov=7"/>
          <p:cNvPicPr/>
          <p:nvPr/>
        </p:nvPicPr>
        <p:blipFill>
          <a:blip r:embed="rId2"/>
          <a:stretch/>
        </p:blipFill>
        <p:spPr>
          <a:xfrm>
            <a:off x="5486400" y="198108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?id=49007400&amp;tov=0"/>
          <p:cNvPicPr/>
          <p:nvPr/>
        </p:nvPicPr>
        <p:blipFill>
          <a:blip r:embed="rId3"/>
          <a:stretch/>
        </p:blipFill>
        <p:spPr>
          <a:xfrm>
            <a:off x="3276720" y="4660920"/>
            <a:ext cx="2819160" cy="2197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47712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  <a:effectLst>
            <a:outerShdw dist="36147" dir="2700000" blurRad="0" rotWithShape="0">
              <a:srgbClr val="ff9966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 Narrow"/>
              </a:rPr>
              <a:t>ИТОГ  УРОКА</a:t>
            </a: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                   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ему я научился на уроке………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то мне этот урок дал для жизни………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ривлек меня те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оказался интересны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Заставил задуматься…………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Домашнее задание !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(по желанию)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изготовь любую модель, которая тебе понравилась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79" name="Picture 6" descr="i?id=38838122&amp;tov=4"/>
          <p:cNvPicPr/>
          <p:nvPr/>
        </p:nvPicPr>
        <p:blipFill>
          <a:blip r:embed="rId1"/>
          <a:stretch/>
        </p:blipFill>
        <p:spPr>
          <a:xfrm>
            <a:off x="685800" y="457200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?id=46065175&amp;tov=7"/>
          <p:cNvPicPr/>
          <p:nvPr/>
        </p:nvPicPr>
        <p:blipFill>
          <a:blip r:embed="rId2"/>
          <a:stretch/>
        </p:blipFill>
        <p:spPr>
          <a:xfrm>
            <a:off x="3200400" y="4495680"/>
            <a:ext cx="243828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i?id=49007400&amp;tov=0"/>
          <p:cNvPicPr/>
          <p:nvPr/>
        </p:nvPicPr>
        <p:blipFill>
          <a:blip r:embed="rId3"/>
          <a:stretch/>
        </p:blipFill>
        <p:spPr>
          <a:xfrm>
            <a:off x="6400800" y="4495680"/>
            <a:ext cx="2286000" cy="1781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о    скорой встречи!!!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84" name="Picture 3" descr="звон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68280"/>
            <a:ext cx="7920000" cy="55897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Ссылки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08240" y="16002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Лутцева Е.А. «Технология 3 класс. Сценарии уроков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ебник  «Технология 3 класс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имся мастерству. Рабочая тетрадь. 3 класс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88" name="Picture 6" descr="Технология. Ступеньки к мастерству. 3 класс. Учебник, Лутцева Еле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5720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Учимся мастерству. Рабочая тетрадь. 3 класс, Лутцев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495680"/>
            <a:ext cx="157500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2666880" y="1752480"/>
          <a:ext cx="5257800" cy="660600"/>
        </p:xfrm>
        <a:graphic>
          <a:graphicData uri="http://schemas.openxmlformats.org/drawingml/2006/table">
            <a:tbl>
              <a:tblPr/>
              <a:tblGrid>
                <a:gridCol w="254160"/>
                <a:gridCol w="5003640"/>
              </a:tblGrid>
              <a:tr h="29448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681280" y="3881520"/>
          <a:ext cx="1212840" cy="1189080"/>
        </p:xfrm>
        <a:graphic>
          <a:graphicData uri="http://schemas.openxmlformats.org/drawingml/2006/table">
            <a:tbl>
              <a:tblPr/>
              <a:tblGrid>
                <a:gridCol w="12128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           </a:t>
                      </a: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2" name="Picture 31" descr="Технология 3 класс. Сценарии уроков. Ступеньки к мастерству, Лутцева. Купить книгу. Издательство: Вентана-Граф"/>
          <p:cNvPicPr/>
          <p:nvPr/>
        </p:nvPicPr>
        <p:blipFill>
          <a:blip r:embed="rId5"/>
          <a:stretch/>
        </p:blipFill>
        <p:spPr>
          <a:xfrm>
            <a:off x="3581280" y="4572000"/>
            <a:ext cx="175284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«Преобразование энергии сил природы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Устройство передаточного механизма.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Виды передач»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знакомить учащихся с работой двух шкивов, связанных между собой ременной передачей;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казать, как  вращение одного шкива передается другому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Обучение конструированию различных технических моделей с приводом механизма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Устройство передаточного механизма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05740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Рассмотри, как он устроен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Устройство ветряной мельницы: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   -   крылья; 2 — жернова; 3 — передаточный механизм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Рассмотри рисунки видов передач. 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Найди эти передачи в технических устройствах — швейной машине, часах, велосипеде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Виды передач:</a:t>
            </a:r>
            <a:br>
              <a:rPr sz="4000"/>
            </a:b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1 </a:t>
            </a: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- ременная; 2 — цепная;</a:t>
            </a:r>
            <a:br>
              <a:rPr sz="4000"/>
            </a:b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3 — зубчатая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162920" cy="48769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Как ты думаешь, для чего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Проведи исследования (например, своего велосипеда)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uchportal.ru</dc:description>
  <dc:language>en-US</dc:language>
  <cp:lastModifiedBy>LEGION</cp:lastModifiedBy>
  <dcterms:modified xsi:type="dcterms:W3CDTF">2015-03-31T08:46:56Z</dcterms:modified>
  <cp:revision>11</cp:revision>
  <dc:subject/>
  <dc:title>Передаточный механ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a000000000001024140</vt:lpwstr>
  </property>
  <property fmtid="{D5CDD505-2E9C-101B-9397-08002B2CF9AE}" pid="3" name="Version">
    <vt:r8>1</vt:r8>
  </property>
</Properties>
</file>