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10.jpeg" ContentType="image/jpeg"/>
  <Override PartName="/ppt/media/image6.jpeg" ContentType="image/jpeg"/>
  <Override PartName="/ppt/media/chimes.wav" ContentType="audio/x-wav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ADD11-4F76-4607-AF73-042C7C8E113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ехнология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 класс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 программе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Е.А.Лутцевой </a:t>
            </a:r>
            <a:br>
              <a:rPr sz="1200"/>
            </a:b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(УМК «Начальная школа ХХ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века»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Шопина Наталья Николае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МОУ СОШ №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Г. Кореновс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Краснодарский кра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9265A-43F3-4FFE-ADD7-18671901D77B}" type="slidenum">
              <a:rPr b="0" lang="uk-UA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ыполни задание 41 в рабочей тетрад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ссмотри схемы ременных передач вращательного движения. Прямая передача — когда два колеса крутятся в одном направлении. Перекрёстная передача — когда колёса крутятся в разных направл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пробуй догадаться, где какая схема. Обязательно докажи свой выбор практически. Для этого можно использовать готовый механизм или сделать по схеме модель передачи из любых подходящих материал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бери одну из конструк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готовь механизм вместе с друзьями. Порядок работы см. на с. 3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97BEA-B05B-493F-9D09-CEC2C02F61AA}" type="slidenum">
              <a:rPr b="0" lang="uk-UA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готовь модель изделия, имеющего передачу (это может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ыть транспортёр, подъёмный кран, мельница).</a:t>
            </a:r>
            <a:br>
              <a:rPr sz="16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53538-F111-493E-AFB6-50C51C94AF79}" type="slidenum">
              <a:rPr b="0" lang="uk-UA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ИТОГ  УРО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Times New Roman"/>
              </a:rPr>
              <a:t>                   </a:t>
            </a:r>
            <a:r>
              <a:rPr b="1" lang="ru-RU" sz="1200" spc="-1" strike="noStrike">
                <a:solidFill>
                  <a:srgbClr val="1f497d"/>
                </a:solidFill>
                <a:latin typeface="Times New Roman"/>
              </a:rPr>
              <a:t>Чему я научился на уроке………………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Times New Roman"/>
              </a:rPr>
              <a:t>                    </a:t>
            </a:r>
            <a:r>
              <a:rPr b="1" lang="ru-RU" sz="1200" spc="-1" strike="noStrike">
                <a:solidFill>
                  <a:srgbClr val="1f497d"/>
                </a:solidFill>
                <a:latin typeface="Times New Roman"/>
              </a:rPr>
              <a:t>Что мне этот урок дал для жизни……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Times New Roman"/>
              </a:rPr>
              <a:t>                    </a:t>
            </a:r>
            <a:r>
              <a:rPr b="1" lang="ru-RU" sz="1200" spc="-1" strike="noStrike">
                <a:solidFill>
                  <a:srgbClr val="1f497d"/>
                </a:solidFill>
                <a:latin typeface="Times New Roman"/>
              </a:rPr>
              <a:t>Привлек меня тем………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Times New Roman"/>
              </a:rPr>
              <a:t>                   </a:t>
            </a:r>
            <a:r>
              <a:rPr b="1" lang="ru-RU" sz="1200" spc="-1" strike="noStrike">
                <a:solidFill>
                  <a:srgbClr val="1f497d"/>
                </a:solidFill>
                <a:latin typeface="Times New Roman"/>
              </a:rPr>
              <a:t>Показался интересным………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Times New Roman"/>
              </a:rPr>
              <a:t>                   </a:t>
            </a:r>
            <a:r>
              <a:rPr b="1" lang="ru-RU" sz="1200" spc="-1" strike="noStrike">
                <a:solidFill>
                  <a:srgbClr val="1f497d"/>
                </a:solidFill>
                <a:latin typeface="Times New Roman"/>
              </a:rPr>
              <a:t>Заставил задуматься……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2A9D5-1414-47D6-9577-7B0C2275D37C}" type="slidenum">
              <a:rPr b="0" lang="uk-UA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 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о желанию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готовь любую модель, которая тебе понравилас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75159-3FE4-4C15-ADC5-43CDF2B125E2}" type="slidenum">
              <a:rPr b="0" lang="uk-UA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До    скорой встречи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3BEAE-1D0D-4890-8142-94B74C00C449}" type="slidenum">
              <a:rPr b="0" lang="uk-UA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Лутцева Е.А. «Технология 3 класс. Сценарии уроков. Ступеньки к мастерству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Учебник  «Технология 3 класс. Ступеньки к мастерству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Учимся мастерству. Рабочая тетрадь. 3 клас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14E6D-F05C-4E8D-8C1D-B186E6CE32C5}" type="slidenum">
              <a:rPr b="0" lang="uk-UA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«Преобразование энергии сил прир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Устройство передаточного механиз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Виды передач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1B36B-5860-4ABC-B360-C5547A8E57C2}" type="slidenum">
              <a:rPr b="0" lang="uk-UA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комить учащихся с работой двух шкивов, связанных между собой ременной передач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ать, как  вращение одного шкива передается друго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учение конструированию различных технических моделей с приводом механ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9338E-206D-4BD7-8204-642DC4D38382}" type="slidenum">
              <a:rPr b="0" lang="uk-UA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Устройство передаточного механизм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лавная часть конструкции мельницы — передаточный механизм. Передаточный механизм — одно из замечательных изобретений человека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ссмотри, как он устро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502E7-57D8-4553-9229-33E6F80A1D65}" type="slidenum">
              <a:rPr b="0" lang="uk-UA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ройство ветряной мельницы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-   крылья; 2 — жернова; 3 — передаточный механ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1D358-C15D-4272-8E6C-12140C9E219C}" type="slidenum">
              <a:rPr b="0" lang="uk-UA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егодня передаточные механизмы используют в различных технических устройствах — от самых простых до сложных станков и машин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Рассмотри рисунки видов передач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Найди эти передачи в технических устройствах — швейной машине, часах, велосипе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D7F86-FCB7-4ADD-9868-F50324F20B38}" type="slidenum">
              <a:rPr b="0" lang="uk-UA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иды передач: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еменная; 2 — цепная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— зубчат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3DC6D-4279-441D-892A-60D367601E8F}" type="slidenum">
              <a:rPr b="0" lang="uk-UA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рати внимание, что обычно одно зубчатое колесо (или шкив — колесо с желобком) большое, другое — маленькое )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Как ты думаешь, для чего?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веди исследования (например, своего велосипеда).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C6F8C-F813-4B41-8971-1682A11F8C2B}" type="slidenum">
              <a:rPr b="0" lang="uk-UA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647A-66A1-4847-8C53-67ACE627B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A316-8423-4A5B-93CE-B4D5601E8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4C5F-0219-4567-97C9-7CC57BDB8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3988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5894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22082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3988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5894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4E7B-758A-4DCE-B391-29C7F15C8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921B0-4CCF-4464-B7DE-AF4A68779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B7F04-9CA3-4349-8807-E5298DE1C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BAC2F-789A-4FE1-AA8C-B0480AEF1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056E7-1472-435E-B143-49FA4265D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281AD-B1FF-44E2-B80C-FAA9ABFFD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1905120" y="3805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DF9EE-797F-4373-8149-D3E7FDC6E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6CA85-967F-4EC6-9A08-6DBC988EE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9CBA-D34B-4A2C-B5B6-74D059983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EECE7-31F6-4192-8ED9-3136C15A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71A7D-6A72-488E-9F9E-8C0A2140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37A3F-7574-431F-B987-1EF263F49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93CB4-09A7-4DC6-8237-26EA1F5BC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3988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5894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22082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43988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5894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1086A-50A8-4D0C-A87B-7137074F7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7CEC-DE52-418C-8804-CE329E4F2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DB37-55FD-4683-987E-8D5C7BBD1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A210-81B6-4B64-8501-E1F4D60D7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905120" y="3805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0709-9D7F-442B-A29B-284CDFE8D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492F-E223-4C16-A428-47E240642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500A-E0A6-4733-B1CC-09DFEC19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B16A-AD72-4D34-9DDB-920A6211A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76320" y="228600"/>
            <a:ext cx="2133360" cy="6662880"/>
            <a:chOff x="76320" y="228600"/>
            <a:chExt cx="2133360" cy="6662880"/>
          </a:xfrm>
        </p:grpSpPr>
        <p:sp>
          <p:nvSpPr>
            <p:cNvPr id="5" name="Rectangle 7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grpSp>
          <p:nvGrpSpPr>
            <p:cNvPr id="51" name="Group 53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52" name="Oval 54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3" name="Oval 55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4" name="Oval 56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5" name="Oval 57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6" name="Oval 58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7" name="Oval 59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8" name="Oval 60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9" name="Oval 61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0" name="Oval 62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1" name="Oval 63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2" name="Oval 64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3" name="Oval 65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4" name="Oval 66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5" name="Oval 67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6" name="Oval 68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7" name="Oval 69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8" name="Oval 70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</p:grpSp>
        <p:sp>
          <p:nvSpPr>
            <p:cNvPr id="69" name="Rectangle 71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0" name="Rectangle 72"/>
            <p:cNvSpPr/>
            <p:nvPr/>
          </p:nvSpPr>
          <p:spPr>
            <a:xfrm>
              <a:off x="76320" y="380880"/>
              <a:ext cx="380880" cy="6499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1" name="Rectangle 73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1523880" y="304920"/>
              <a:ext cx="381240" cy="6586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4" name="Rectangle 76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</p:grpSp>
      <p:sp>
        <p:nvSpPr>
          <p:cNvPr id="76" name="PlaceHolder 3"/>
          <p:cNvSpPr>
            <a:spLocks noGrp="1"/>
          </p:cNvSpPr>
          <p:nvPr>
            <p:ph type="dt" idx="1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2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3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9913D-C0D0-46FE-957C-5FC0E7E9BAC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Rectangle 81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grpSp>
        <p:nvGrpSpPr>
          <p:cNvPr id="118" name="Group 4"/>
          <p:cNvGrpSpPr/>
          <p:nvPr/>
        </p:nvGrpSpPr>
        <p:grpSpPr>
          <a:xfrm>
            <a:off x="76320" y="228600"/>
            <a:ext cx="2133360" cy="6651720"/>
            <a:chOff x="76320" y="228600"/>
            <a:chExt cx="2133360" cy="6651720"/>
          </a:xfrm>
        </p:grpSpPr>
        <p:sp>
          <p:nvSpPr>
            <p:cNvPr id="119" name="Rectangle 5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0" name="Rectangle 6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1" name="Oval 7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2" name="Oval 8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3" name="Oval 9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4" name="Oval 10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5" name="Oval 11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6" name="Oval 12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7" name="Oval 13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8" name="Oval 14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9" name="Oval 15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0" name="Oval 16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1" name="Oval 17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2" name="Oval 18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3" name="Oval 19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4" name="Oval 20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5" name="Oval 21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6" name="Oval 22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7" name="Oval 23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8" name="Oval 24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9" name="Oval 25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0" name="Oval 26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1" name="Oval 27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2" name="Oval 28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3" name="Oval 29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4" name="Oval 30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5" name="Oval 31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6" name="Oval 32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7" name="Oval 33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8" name="Oval 34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9" name="Oval 35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0" name="Oval 36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1" name="Oval 37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2" name="Oval 38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3" name="Oval 39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4" name="Oval 40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5" name="Oval 41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6" name="Oval 42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7" name="Oval 43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8" name="Oval 44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9" name="Oval 45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0" name="Oval 46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1" name="Oval 47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2" name="Oval 48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3" name="Oval 49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4" name="Oval 50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grpSp>
          <p:nvGrpSpPr>
            <p:cNvPr id="165" name="Group 51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166" name="Oval 52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67" name="Oval 53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68" name="Oval 54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69" name="Oval 55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0" name="Oval 56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1" name="Oval 57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2" name="Oval 58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3" name="Oval 59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4" name="Oval 60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5" name="Oval 61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6" name="Oval 62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7" name="Oval 63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8" name="Oval 64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9" name="Oval 65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80" name="Oval 66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81" name="Oval 67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82" name="Oval 68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</p:grpSp>
        <p:sp>
          <p:nvSpPr>
            <p:cNvPr id="183" name="Rectangle 69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4" name="Rectangle 70"/>
            <p:cNvSpPr/>
            <p:nvPr/>
          </p:nvSpPr>
          <p:spPr>
            <a:xfrm>
              <a:off x="76320" y="380880"/>
              <a:ext cx="380880" cy="648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5" name="Rectangle 71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6" name="Rectangle 72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7" name="Rectangle 73"/>
            <p:cNvSpPr/>
            <p:nvPr/>
          </p:nvSpPr>
          <p:spPr>
            <a:xfrm>
              <a:off x="1523880" y="304920"/>
              <a:ext cx="381240" cy="657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8" name="Rectangle 74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9" name="Oval 75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</p:grpSp>
      <p:sp>
        <p:nvSpPr>
          <p:cNvPr id="190" name="Rectangle 78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4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5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cc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6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A9AB1-2146-42C4-8AF4-32023C69D431}" type="slidenum">
              <a:rPr b="0" lang="ru-RU" sz="14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8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sprinter.ru/books/1925963.html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sprinter.ru/books/1932300.html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Arial"/>
              </a:rPr>
              <a:t>Технология </a:t>
            </a:r>
            <a:br>
              <a:rPr sz="2800"/>
            </a:br>
            <a:r>
              <a:rPr b="1" lang="ru-RU" sz="2800" spc="-1" strike="noStrike">
                <a:solidFill>
                  <a:srgbClr val="ff9966"/>
                </a:solidFill>
                <a:latin typeface="Arial"/>
              </a:rPr>
              <a:t>3 класс</a:t>
            </a:r>
            <a:br>
              <a:rPr sz="2800"/>
            </a:br>
            <a:r>
              <a:rPr b="1" lang="ru-RU" sz="2800" spc="-1" strike="noStrike">
                <a:solidFill>
                  <a:srgbClr val="ffcc99"/>
                </a:solidFill>
                <a:latin typeface="Arial"/>
              </a:rPr>
              <a:t>по программе  </a:t>
            </a:r>
            <a:r>
              <a:rPr b="1" lang="ru-RU" sz="2800" spc="-1" strike="noStrike" u="sng">
                <a:solidFill>
                  <a:srgbClr val="ffcc99"/>
                </a:solidFill>
                <a:uFillTx/>
                <a:latin typeface="Times New Roman"/>
              </a:rPr>
              <a:t>Е.А.Лутцевой </a:t>
            </a:r>
            <a:br>
              <a:rPr sz="2800"/>
            </a:br>
            <a:r>
              <a:rPr b="1" lang="ru-RU" sz="2800" spc="-1" strike="noStrike" u="sng">
                <a:solidFill>
                  <a:srgbClr val="ffcc99"/>
                </a:solidFill>
                <a:uFillTx/>
                <a:latin typeface="Times New Roman"/>
              </a:rPr>
              <a:t>(УМК «Начальная школа ХХ</a:t>
            </a:r>
            <a:r>
              <a:rPr b="1" lang="en-US" sz="2800" spc="-1" strike="noStrike" u="sng">
                <a:solidFill>
                  <a:srgbClr val="ffcc99"/>
                </a:solidFill>
                <a:uFillTx/>
                <a:latin typeface="Times New Roman"/>
              </a:rPr>
              <a:t>I</a:t>
            </a:r>
            <a:r>
              <a:rPr b="1" lang="ru-RU" sz="2800" spc="-1" strike="noStrike" u="sng">
                <a:solidFill>
                  <a:srgbClr val="ffcc99"/>
                </a:solidFill>
                <a:uFillTx/>
                <a:latin typeface="Times New Roman"/>
              </a:rPr>
              <a:t> века»)</a:t>
            </a:r>
            <a:r>
              <a:rPr b="0" lang="ru-RU" sz="4400" spc="-1" strike="noStrike">
                <a:solidFill>
                  <a:srgbClr val="ff99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2209680" y="4343400"/>
            <a:ext cx="58197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Arial Narrow"/>
              </a:rPr>
              <a:t>Шопина Наталья Николаевна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Arial Narrow"/>
              </a:rPr>
              <a:t>МОУ СОШ № 3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Arial Narrow"/>
              </a:rPr>
              <a:t>Г. Кореновск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Arial Narrow"/>
              </a:rPr>
              <a:t>Краснодарский край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9966"/>
                </a:solidFill>
                <a:latin typeface="Times New Roman"/>
              </a:rPr>
              <a:t>* </a:t>
            </a:r>
            <a:r>
              <a:rPr b="1" lang="ru-RU" sz="3200" spc="-1" strike="noStrike">
                <a:solidFill>
                  <a:srgbClr val="ff9966"/>
                </a:solidFill>
                <a:latin typeface="Times New Roman"/>
              </a:rPr>
              <a:t>Выполни задание 41 в рабочей тетради.</a:t>
            </a:r>
            <a:endParaRPr b="0" lang="en-US" sz="32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69608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99"/>
                </a:solidFill>
                <a:latin typeface="Arial Narrow"/>
              </a:rPr>
              <a:t>Рассмотри схемы ременных передач вращательного движения. Прямая передача — когда два колеса крутятся в одном направлении. Перекрёстная передача — когда колёса крутятся в разных направлениях.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99"/>
                </a:solidFill>
                <a:latin typeface="Arial Narrow"/>
              </a:rPr>
              <a:t>Попробуй догадаться, где какая схема. Обязательно докажи свой выбор практически. Для этого можно использовать готовый механизм или сделать по схеме модель передачи из любых подходящих материалов.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99"/>
                </a:solidFill>
                <a:latin typeface="Arial Narrow"/>
              </a:rPr>
              <a:t>Выбери одну из конструкций.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99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cc99"/>
                </a:solidFill>
                <a:latin typeface="Arial Narrow"/>
              </a:rPr>
              <a:t>Изготовь механизм вместе с друзьями. Порядок работы см. на с. 36.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9966"/>
              </a:solidFill>
              <a:latin typeface="Times New Roman"/>
            </a:endParaRPr>
          </a:p>
        </p:txBody>
      </p:sp>
      <p:pic>
        <p:nvPicPr>
          <p:cNvPr id="268" name="Picture 4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686800" cy="6324840"/>
          </a:xfrm>
          <a:prstGeom prst="rect">
            <a:avLst/>
          </a:prstGeom>
          <a:ln w="0">
            <a:noFill/>
          </a:ln>
        </p:spPr>
      </p:pic>
      <p:sp>
        <p:nvSpPr>
          <p:cNvPr id="269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9966"/>
                </a:solidFill>
                <a:latin typeface="Times New Roman"/>
              </a:rPr>
              <a:t>Изготовь модель изделия, имеющего передачу (это может </a:t>
            </a:r>
            <a:r>
              <a:rPr b="1" i="1" lang="ru-RU" sz="3200" spc="-1" strike="noStrike">
                <a:solidFill>
                  <a:srgbClr val="ff9966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ff9966"/>
                </a:solidFill>
                <a:latin typeface="Times New Roman"/>
              </a:rPr>
              <a:t>быть транспортёр, подъёмный кран, мельница).</a:t>
            </a:r>
            <a:br>
              <a:rPr sz="4000"/>
            </a:br>
            <a:endParaRPr b="0" lang="en-US" sz="3200" spc="-1" strike="noStrike">
              <a:solidFill>
                <a:srgbClr val="ff9966"/>
              </a:solidFill>
              <a:latin typeface="Times New Roman"/>
            </a:endParaRPr>
          </a:p>
        </p:txBody>
      </p:sp>
      <p:pic>
        <p:nvPicPr>
          <p:cNvPr id="271" name="Picture 6" descr="i?id=38838122&amp;tov=4"/>
          <p:cNvPicPr/>
          <p:nvPr/>
        </p:nvPicPr>
        <p:blipFill>
          <a:blip r:embed="rId1"/>
          <a:stretch/>
        </p:blipFill>
        <p:spPr>
          <a:xfrm>
            <a:off x="838080" y="2057400"/>
            <a:ext cx="2895840" cy="25146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7" descr="i?id=46065175&amp;tov=7"/>
          <p:cNvPicPr/>
          <p:nvPr/>
        </p:nvPicPr>
        <p:blipFill>
          <a:blip r:embed="rId2"/>
          <a:stretch/>
        </p:blipFill>
        <p:spPr>
          <a:xfrm>
            <a:off x="5486400" y="1981080"/>
            <a:ext cx="3200400" cy="24386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8" descr="i?id=49007400&amp;tov=0"/>
          <p:cNvPicPr/>
          <p:nvPr/>
        </p:nvPicPr>
        <p:blipFill>
          <a:blip r:embed="rId3"/>
          <a:stretch/>
        </p:blipFill>
        <p:spPr>
          <a:xfrm>
            <a:off x="3276720" y="4660920"/>
            <a:ext cx="2819160" cy="2197080"/>
          </a:xfrm>
          <a:prstGeom prst="rect">
            <a:avLst/>
          </a:prstGeom>
          <a:ln w="0">
            <a:noFill/>
          </a:ln>
        </p:spPr>
      </p:pic>
      <p:sp>
        <p:nvSpPr>
          <p:cNvPr id="274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0" y="0"/>
            <a:ext cx="8964720" cy="6477120"/>
          </a:xfrm>
          <a:prstGeom prst="rect">
            <a:avLst/>
          </a:prstGeom>
          <a:noFill/>
          <a:ln w="9360">
            <a:solidFill>
              <a:srgbClr val="ff9966"/>
            </a:solidFill>
            <a:miter/>
          </a:ln>
          <a:effectLst>
            <a:outerShdw dist="36147" dir="2700000" blurRad="0" rotWithShape="0">
              <a:srgbClr val="ff9966">
                <a:alpha val="50000"/>
              </a:srgbClr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66"/>
                </a:solidFill>
                <a:latin typeface="Arial Narrow"/>
              </a:rPr>
              <a:t>ИТОГ  УРОКА</a:t>
            </a:r>
            <a:r>
              <a:rPr b="1" lang="ru-RU" sz="2800" spc="-1" strike="noStrike">
                <a:solidFill>
                  <a:srgbClr val="ff9966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Arial Narrow"/>
              </a:rPr>
              <a:t>                     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Times New Roman"/>
              </a:rPr>
              <a:t>                   </a:t>
            </a:r>
            <a:r>
              <a:rPr b="1" lang="ru-RU" sz="2800" spc="-1" strike="noStrike">
                <a:solidFill>
                  <a:srgbClr val="ff9966"/>
                </a:solidFill>
                <a:latin typeface="Times New Roman"/>
              </a:rPr>
              <a:t>Чему я научился на уроке………………..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Times New Roman"/>
              </a:rPr>
              <a:t>                    </a:t>
            </a:r>
            <a:r>
              <a:rPr b="1" lang="ru-RU" sz="2800" spc="-1" strike="noStrike">
                <a:solidFill>
                  <a:srgbClr val="ff9966"/>
                </a:solidFill>
                <a:latin typeface="Times New Roman"/>
              </a:rPr>
              <a:t>Что мне этот урок дал для жизни……….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Times New Roman"/>
              </a:rPr>
              <a:t>                    </a:t>
            </a:r>
            <a:r>
              <a:rPr b="1" lang="ru-RU" sz="2800" spc="-1" strike="noStrike">
                <a:solidFill>
                  <a:srgbClr val="ff9966"/>
                </a:solidFill>
                <a:latin typeface="Times New Roman"/>
              </a:rPr>
              <a:t>Привлек меня тем………..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Times New Roman"/>
              </a:rPr>
              <a:t>                   </a:t>
            </a:r>
            <a:r>
              <a:rPr b="1" lang="ru-RU" sz="2800" spc="-1" strike="noStrike">
                <a:solidFill>
                  <a:srgbClr val="ff9966"/>
                </a:solidFill>
                <a:latin typeface="Times New Roman"/>
              </a:rPr>
              <a:t>Показался интересным………..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Times New Roman"/>
              </a:rPr>
              <a:t>                   </a:t>
            </a:r>
            <a:r>
              <a:rPr b="1" lang="ru-RU" sz="2800" spc="-1" strike="noStrike">
                <a:solidFill>
                  <a:srgbClr val="ff9966"/>
                </a:solidFill>
                <a:latin typeface="Times New Roman"/>
              </a:rPr>
              <a:t>Заставил задуматься…………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66"/>
                </a:solidFill>
                <a:latin typeface="Times New Roman"/>
              </a:rPr>
              <a:t>    </a:t>
            </a:r>
            <a:r>
              <a:rPr b="0" lang="ru-RU" sz="4400" spc="-1" strike="noStrike">
                <a:solidFill>
                  <a:srgbClr val="ff9966"/>
                </a:solidFill>
                <a:latin typeface="Times New Roman"/>
              </a:rPr>
              <a:t>Домашнее задание !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99"/>
                </a:solidFill>
                <a:latin typeface="Arial Narrow"/>
              </a:rPr>
              <a:t>(по желанию)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99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99"/>
                </a:solidFill>
                <a:latin typeface="Arial Narrow"/>
              </a:rPr>
              <a:t>изготовь любую модель, которая тебе понравилась.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pic>
        <p:nvPicPr>
          <p:cNvPr id="279" name="Picture 6" descr="i?id=38838122&amp;tov=4"/>
          <p:cNvPicPr/>
          <p:nvPr/>
        </p:nvPicPr>
        <p:blipFill>
          <a:blip r:embed="rId1"/>
          <a:stretch/>
        </p:blipFill>
        <p:spPr>
          <a:xfrm>
            <a:off x="685800" y="4572000"/>
            <a:ext cx="1981080" cy="17208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7" descr="i?id=46065175&amp;tov=7"/>
          <p:cNvPicPr/>
          <p:nvPr/>
        </p:nvPicPr>
        <p:blipFill>
          <a:blip r:embed="rId2"/>
          <a:stretch/>
        </p:blipFill>
        <p:spPr>
          <a:xfrm>
            <a:off x="3200400" y="4495680"/>
            <a:ext cx="2438280" cy="18576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8" descr="i?id=49007400&amp;tov=0"/>
          <p:cNvPicPr/>
          <p:nvPr/>
        </p:nvPicPr>
        <p:blipFill>
          <a:blip r:embed="rId3"/>
          <a:stretch/>
        </p:blipFill>
        <p:spPr>
          <a:xfrm>
            <a:off x="6400800" y="4495680"/>
            <a:ext cx="2286000" cy="1781280"/>
          </a:xfrm>
          <a:prstGeom prst="rect">
            <a:avLst/>
          </a:prstGeom>
          <a:ln w="0">
            <a:noFill/>
          </a:ln>
        </p:spPr>
      </p:pic>
      <p:sp>
        <p:nvSpPr>
          <p:cNvPr id="282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99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До    скорой встречи!!!</a:t>
            </a:r>
            <a:endParaRPr b="0" lang="en-US" sz="4000" spc="-1" strike="noStrike">
              <a:solidFill>
                <a:srgbClr val="ff9966"/>
              </a:solidFill>
              <a:latin typeface="Times New Roman"/>
            </a:endParaRPr>
          </a:p>
        </p:txBody>
      </p:sp>
      <p:pic>
        <p:nvPicPr>
          <p:cNvPr id="284" name="Picture 3" descr="звонок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268280"/>
            <a:ext cx="7920000" cy="5589720"/>
          </a:xfrm>
          <a:prstGeom prst="rect">
            <a:avLst/>
          </a:prstGeom>
          <a:ln w="0">
            <a:noFill/>
          </a:ln>
        </p:spPr>
      </p:pic>
      <p:sp>
        <p:nvSpPr>
          <p:cNvPr id="285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77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" dur="770" fill="hold"/>
                                        <p:tgtEl>
                                          <p:spTgt spid="2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2" dur="77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4" dur="77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66"/>
                </a:solidFill>
                <a:latin typeface="Times New Roman"/>
              </a:rPr>
              <a:t>Ссылки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208240" y="1600200"/>
            <a:ext cx="64785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Arial Narrow"/>
              </a:rPr>
              <a:t>Лутцева Е.А. «Технология 3 класс. Сценарии уроков. Ступеньки к мастерству»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Arial Narrow"/>
              </a:rPr>
              <a:t>Учебник  «Технология 3 класс. Ступеньки к мастерству»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Arial Narrow"/>
              </a:rPr>
              <a:t>Учимся мастерству. Рабочая тетрадь. 3 класс 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</p:txBody>
      </p:sp>
      <p:pic>
        <p:nvPicPr>
          <p:cNvPr id="288" name="Picture 6" descr="Технология. Ступеньки к мастерству. 3 класс. Учебник, Лутцева Елен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457200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1" descr="Учимся мастерству. Рабочая тетрадь. 3 класс, Лутцева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53080" y="4495680"/>
            <a:ext cx="1575000" cy="2362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0" name=""/>
          <p:cNvGraphicFramePr/>
          <p:nvPr/>
        </p:nvGraphicFramePr>
        <p:xfrm>
          <a:off x="2666880" y="1752480"/>
          <a:ext cx="5257800" cy="660600"/>
        </p:xfrm>
        <a:graphic>
          <a:graphicData uri="http://schemas.openxmlformats.org/drawingml/2006/table">
            <a:tbl>
              <a:tblPr/>
              <a:tblGrid>
                <a:gridCol w="254160"/>
                <a:gridCol w="5003640"/>
              </a:tblGrid>
              <a:tr h="294480">
                <a:tc gridSpan="2"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d6d5d5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d6d5d5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1" name=""/>
          <p:cNvGraphicFramePr/>
          <p:nvPr/>
        </p:nvGraphicFramePr>
        <p:xfrm>
          <a:off x="2681280" y="3881520"/>
          <a:ext cx="1212840" cy="1189080"/>
        </p:xfrm>
        <a:graphic>
          <a:graphicData uri="http://schemas.openxmlformats.org/drawingml/2006/table">
            <a:tbl>
              <a:tblPr/>
              <a:tblGrid>
                <a:gridCol w="1212840"/>
              </a:tblGrid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cc99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7200" spc="-1" strike="noStrike">
                          <a:solidFill>
                            <a:srgbClr val="ffcc99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ffcc99"/>
                          </a:solidFill>
                          <a:latin typeface="Times New Roman"/>
                        </a:rPr>
                        <a:t>            </a:t>
                      </a:r>
                      <a:endParaRPr b="0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92" name="Picture 31" descr="Технология 3 класс. Сценарии уроков. Ступеньки к мастерству, Лутцева. Купить книгу. Издательство: Вентана-Граф"/>
          <p:cNvPicPr/>
          <p:nvPr/>
        </p:nvPicPr>
        <p:blipFill>
          <a:blip r:embed="rId5"/>
          <a:stretch/>
        </p:blipFill>
        <p:spPr>
          <a:xfrm>
            <a:off x="3581280" y="4572000"/>
            <a:ext cx="1752840" cy="2286000"/>
          </a:xfrm>
          <a:prstGeom prst="rect">
            <a:avLst/>
          </a:prstGeom>
          <a:ln w="0">
            <a:noFill/>
          </a:ln>
        </p:spPr>
      </p:pic>
      <p:sp>
        <p:nvSpPr>
          <p:cNvPr id="293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66"/>
                </a:solidFill>
                <a:latin typeface="Times New Roman"/>
              </a:rPr>
              <a:t>Тема урока: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33"/>
                </a:solidFill>
                <a:latin typeface="Arial Narrow"/>
              </a:rPr>
              <a:t>«Преобразование энергии сил природы.</a:t>
            </a:r>
            <a:endParaRPr b="0" lang="en-US" sz="36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33"/>
                </a:solidFill>
                <a:latin typeface="Arial Narrow"/>
              </a:rPr>
              <a:t>Устройство передаточного механизма. </a:t>
            </a:r>
            <a:endParaRPr b="0" lang="en-US" sz="36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33"/>
                </a:solidFill>
                <a:latin typeface="Arial Narrow"/>
              </a:rPr>
              <a:t>Виды передач».</a:t>
            </a:r>
            <a:endParaRPr b="0" lang="en-US" sz="36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66"/>
                </a:solidFill>
                <a:latin typeface="Times New Roman"/>
              </a:rPr>
              <a:t>Цели урока: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99"/>
                </a:solidFill>
                <a:latin typeface="Arial Narrow"/>
              </a:rPr>
              <a:t>Познакомить учащихся с работой двух шкивов, связанных между собой ременной передачей;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99"/>
                </a:solidFill>
                <a:latin typeface="Arial Narrow"/>
              </a:rPr>
              <a:t>Показать, как  вращение одного шкива передается другому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99"/>
                </a:solidFill>
                <a:latin typeface="Arial Narrow"/>
              </a:rPr>
              <a:t>Обучение конструированию различных технических моделей с приводом механизма.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66"/>
                </a:solidFill>
                <a:latin typeface="Times New Roman"/>
              </a:rPr>
              <a:t>Устройство передаточного механизма</a:t>
            </a:r>
            <a:endParaRPr b="0" lang="en-US" sz="40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208240" y="2057400"/>
            <a:ext cx="6478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99"/>
                </a:solidFill>
                <a:latin typeface="Arial Narrow"/>
              </a:rPr>
              <a:t>Главная часть конструкции мельницы — передаточный механизм. Передаточный механизм — одно из замечательных изобретений человека.  </a:t>
            </a:r>
            <a:endParaRPr b="0" lang="en-US" sz="36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99"/>
                </a:solidFill>
                <a:latin typeface="Arial Narrow"/>
              </a:rPr>
              <a:t>Рассмотри, как он устроен.</a:t>
            </a:r>
            <a:endParaRPr b="0" lang="en-US" sz="36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9966"/>
                </a:solidFill>
                <a:latin typeface="Times New Roman"/>
              </a:rPr>
              <a:t>Устройство ветряной мельницы: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Times New Roman"/>
              </a:rPr>
              <a:t>I</a:t>
            </a:r>
            <a:r>
              <a:rPr b="0" lang="ru-RU" sz="3600" spc="-1" strike="noStrike">
                <a:solidFill>
                  <a:srgbClr val="ff9966"/>
                </a:solidFill>
                <a:latin typeface="Times New Roman"/>
              </a:rPr>
              <a:t>   -   крылья; 2 — жернова; 3 — передаточный механизм</a:t>
            </a:r>
            <a:endParaRPr b="0" lang="en-US" sz="3600" spc="-1" strike="noStrike">
              <a:solidFill>
                <a:srgbClr val="ff9966"/>
              </a:solidFill>
              <a:latin typeface="Times New Roman"/>
            </a:endParaRPr>
          </a:p>
        </p:txBody>
      </p:sp>
      <p:pic>
        <p:nvPicPr>
          <p:cNvPr id="252" name="Picture 4" descr=""/>
          <p:cNvPicPr/>
          <p:nvPr/>
        </p:nvPicPr>
        <p:blipFill>
          <a:blip r:embed="rId1"/>
          <a:stretch/>
        </p:blipFill>
        <p:spPr>
          <a:xfrm>
            <a:off x="1828800" y="2057400"/>
            <a:ext cx="6858000" cy="457200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05120" y="380880"/>
            <a:ext cx="71625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200"/>
            </a:br>
            <a:r>
              <a:rPr b="1" lang="ru-RU" sz="3200" spc="-1" strike="noStrike">
                <a:solidFill>
                  <a:srgbClr val="ff9966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ff9966"/>
                </a:solidFill>
                <a:latin typeface="Times New Roman"/>
              </a:rPr>
              <a:t>Сегодня передаточные механизмы используют в различных технических устройствах — от самых простых до сложных станков и машин.</a:t>
            </a:r>
            <a:br>
              <a:rPr sz="3200"/>
            </a:br>
            <a:r>
              <a:rPr b="1" lang="ru-RU" sz="3200" spc="-1" strike="noStrike">
                <a:solidFill>
                  <a:srgbClr val="ff9966"/>
                </a:solidFill>
                <a:latin typeface="Times New Roman"/>
              </a:rPr>
              <a:t>   Рассмотри рисунки видов передач. </a:t>
            </a:r>
            <a:br>
              <a:rPr sz="3200"/>
            </a:br>
            <a:r>
              <a:rPr b="1" lang="ru-RU" sz="3200" spc="-1" strike="noStrike">
                <a:solidFill>
                  <a:srgbClr val="ff9966"/>
                </a:solidFill>
                <a:latin typeface="Times New Roman"/>
              </a:rPr>
              <a:t>    Найди эти передачи в технических устройствах — швейной машине, часах, велосипеде.</a:t>
            </a:r>
            <a:endParaRPr b="0" lang="en-US" sz="32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66"/>
                </a:solidFill>
                <a:latin typeface="Times New Roman"/>
              </a:rPr>
              <a:t>Виды передач:</a:t>
            </a:r>
            <a:br>
              <a:rPr sz="4000"/>
            </a:br>
            <a:r>
              <a:rPr b="1" lang="ru-RU" sz="4000" spc="-1" strike="noStrike">
                <a:solidFill>
                  <a:srgbClr val="ff9966"/>
                </a:solidFill>
                <a:latin typeface="Times New Roman"/>
              </a:rPr>
              <a:t>1 </a:t>
            </a:r>
            <a:r>
              <a:rPr b="0" lang="ru-RU" sz="4000" spc="-1" strike="noStrike">
                <a:solidFill>
                  <a:srgbClr val="ff9966"/>
                </a:solidFill>
                <a:latin typeface="Times New Roman"/>
              </a:rPr>
              <a:t>- ременная; 2 — цепная;</a:t>
            </a:r>
            <a:br>
              <a:rPr sz="4000"/>
            </a:br>
            <a:r>
              <a:rPr b="0" lang="ru-RU" sz="4000" spc="-1" strike="noStrike">
                <a:solidFill>
                  <a:srgbClr val="ff9966"/>
                </a:solidFill>
                <a:latin typeface="Times New Roman"/>
              </a:rPr>
              <a:t>3 — зубчатая</a:t>
            </a:r>
            <a:endParaRPr b="0" lang="en-US" sz="4000" spc="-1" strike="noStrike">
              <a:solidFill>
                <a:srgbClr val="ff9966"/>
              </a:solidFill>
              <a:latin typeface="Times New Roman"/>
            </a:endParaRPr>
          </a:p>
        </p:txBody>
      </p:sp>
      <p:pic>
        <p:nvPicPr>
          <p:cNvPr id="257" name="Picture 4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7162920" cy="4876920"/>
          </a:xfrm>
          <a:prstGeom prst="rect">
            <a:avLst/>
          </a:prstGeom>
          <a:ln w="0">
            <a:noFill/>
          </a:ln>
        </p:spPr>
      </p:pic>
      <p:sp>
        <p:nvSpPr>
          <p:cNvPr id="258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980720" y="220932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66"/>
                </a:solidFill>
                <a:latin typeface="Times New Roman"/>
              </a:rPr>
              <a:t>Обрати внимание, что обычно одно зубчатое колесо (или шкив — колесо с желобком) большое, другое — маленькое )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9966"/>
                </a:solidFill>
                <a:latin typeface="Times New Roman"/>
              </a:rPr>
              <a:t> Как ты думаешь, для чего?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9966"/>
                </a:solidFill>
                <a:latin typeface="Times New Roman"/>
              </a:rPr>
              <a:t>Проведи исследования (например, своего велосипеда).</a:t>
            </a: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ff99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9966"/>
              </a:solidFill>
              <a:latin typeface="Times New Roman"/>
            </a:endParaRPr>
          </a:p>
        </p:txBody>
      </p:sp>
      <p:pic>
        <p:nvPicPr>
          <p:cNvPr id="262" name="Picture 4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686800" cy="6553080"/>
          </a:xfrm>
          <a:prstGeom prst="rect">
            <a:avLst/>
          </a:prstGeom>
          <a:ln w="0">
            <a:noFill/>
          </a:ln>
        </p:spPr>
      </p:pic>
      <p:sp>
        <p:nvSpPr>
          <p:cNvPr id="263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uchportal.ru</dc:description>
  <dc:language>en-US</dc:language>
  <cp:lastModifiedBy>LEGION</cp:lastModifiedBy>
  <dcterms:modified xsi:type="dcterms:W3CDTF">2015-03-31T08:46:56Z</dcterms:modified>
  <cp:revision>11</cp:revision>
  <dc:subject/>
  <dc:title>Передаточный механизм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a0a000000000001024140</vt:lpwstr>
  </property>
  <property fmtid="{D5CDD505-2E9C-101B-9397-08002B2CF9AE}" pid="3" name="Version">
    <vt:r8>1</vt:r8>
  </property>
</Properties>
</file>