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EA5D-29AC-4C9E-A0B8-8E0B19786F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ПРАКТИЧЕСКАЯ НАПРАВЛЕННОСТ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НЯТИЙ ПО ТЕМЕ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ПРОИЗВОДСТВО, ТРУД И ТЕХНОЛОГ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026C-73DD-46F7-BA53-30676CAD622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а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0F0-76D2-43F1-8648-E7747C8105FB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и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4F5-3147-4056-9DE8-731E9242B335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пособы применения своей рабочей сил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5392-5DF9-41EF-B491-F30AEC068B8E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лабости ры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E211-E877-4ACC-B95B-5D65B30159F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Государственное регу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ACD-6057-48A9-9455-1A14D4F03C8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конодательн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239-15A7-467A-ADE5-CA0C261833D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   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 НАСТОЯ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3F6-564F-4979-A4A8-970D3BB485C1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7FAC-DAAF-40A7-83C2-1F004D9C5E3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20B-F4DC-4260-BC0D-801B5185DD1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D42-4204-4337-8FE9-720EA6916D90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словия успешности 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200-7EBE-4B20-9FF3-DE0E453BEFD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ые виды работ и проф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B0B-EA53-4D82-9518-982F52B2EE3E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ЫСШЕ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B0AA-27B0-40BE-8CFD-26C1D5C8B7C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ЧАЛЬНОЕ ПРОФЕССИОНАЛЬНО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0F5-9E8D-4E57-9327-32037F60F14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23B-D9FC-49E6-BC82-F0578F83C83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486-9B98-4F6C-A3B3-F6DF1772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CA0-07B3-4444-AD10-A0145F15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798-6A40-48C1-A065-CB93908C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758-4CB0-4A77-813C-75F4808B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D16-916C-46A1-8B8D-8B23D7C2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A0B6-003B-4F33-B0C8-CF27EF32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67B0-8849-4044-AAED-9F6A9DA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AC59-F528-4BCE-9D40-3AB2618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D8A5-D232-4375-B4B2-C174762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6CA3-9537-4030-B034-55DBB90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2A6F-B522-4239-BF8B-76F1B8E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BFC-EFAD-40A0-B8AD-EEE4080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3801-05F6-44E4-A134-3C1C989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7C8-5B2A-4A17-868F-3EA0698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3D71-E546-48DF-8CE9-8DE303C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6A6E-D716-41BD-9816-512F63CF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05F4-3F52-4D27-8A04-447FD4E4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45A-FD5D-4D8C-AD2C-74672E26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D8D-1E7A-4367-B200-B35399C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D85-9FB3-4879-AC5A-87EF0078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D94-CA19-458F-B114-BE35EC1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A29-1C12-42B4-9425-4DB2196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1CE-42CB-4E40-915F-673BD13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4EB-30BA-4EC3-85C4-E2707030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F599-900D-4755-B537-1C28EBCC2E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9900-4A15-404D-A6D8-CDF552DAF9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616896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ПРАКТИЧЕСКАЯ НАПРАВЛЕН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ЗАНЯТИЙ ПО ТЕМ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«ПРОИЗВОДСТВО, ТРУД И ТЕХНОЛОГИ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70531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а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4500720" y="4797360"/>
            <a:ext cx="2385720" cy="152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Documents"/>
          <p:cNvSpPr/>
          <p:nvPr/>
        </p:nvSpPr>
        <p:spPr>
          <a:xfrm>
            <a:off x="539640" y="15573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39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340000" y="4581360"/>
            <a:ext cx="2087280" cy="1368360"/>
            <a:chOff x="2340000" y="4581360"/>
            <a:chExt cx="2087280" cy="1368360"/>
          </a:xfrm>
        </p:grpSpPr>
        <p:sp>
          <p:nvSpPr>
            <p:cNvPr id="143" name="Film"/>
            <p:cNvSpPr/>
            <p:nvPr/>
          </p:nvSpPr>
          <p:spPr>
            <a:xfrm>
              <a:off x="2340000" y="4929840"/>
              <a:ext cx="870840" cy="1019880"/>
            </a:xfrm>
            <a:custGeom>
              <a:avLst/>
              <a:gdLst>
                <a:gd name="textAreaLeft" fmla="*/ 200160 w 870840"/>
                <a:gd name="textAreaRight" fmla="*/ 688680 w 870840"/>
                <a:gd name="textAreaTop" fmla="*/ 384120 h 1019880"/>
                <a:gd name="textAreaBottom" fmla="*/ 63432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Sound"/>
            <p:cNvSpPr/>
            <p:nvPr/>
          </p:nvSpPr>
          <p:spPr>
            <a:xfrm>
              <a:off x="2843640" y="4581360"/>
              <a:ext cx="1209240" cy="676440"/>
            </a:xfrm>
            <a:custGeom>
              <a:avLst/>
              <a:gdLst>
                <a:gd name="textAreaLeft" fmla="*/ 12960 w 1209240"/>
                <a:gd name="textAreaRight" fmla="*/ 602280 w 1209240"/>
                <a:gd name="textAreaTop" fmla="*/ 237600 h 676440"/>
                <a:gd name="textAreaBottom" fmla="*/ 42444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Photo"/>
            <p:cNvSpPr/>
            <p:nvPr/>
          </p:nvSpPr>
          <p:spPr>
            <a:xfrm>
              <a:off x="3304440" y="4982760"/>
              <a:ext cx="1122840" cy="612720"/>
            </a:xfrm>
            <a:custGeom>
              <a:avLst/>
              <a:gdLst>
                <a:gd name="textAreaLeft" fmla="*/ 404280 w 1122840"/>
                <a:gd name="textAreaRight" fmla="*/ 714960 w 1122840"/>
                <a:gd name="textAreaTop" fmla="*/ 233280 h 612720"/>
                <a:gd name="textAreaBottom" fmla="*/ 4791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Music"/>
            <p:cNvSpPr/>
            <p:nvPr/>
          </p:nvSpPr>
          <p:spPr>
            <a:xfrm>
              <a:off x="3434040" y="5342400"/>
              <a:ext cx="921240" cy="591840"/>
            </a:xfrm>
            <a:custGeom>
              <a:avLst/>
              <a:gdLst>
                <a:gd name="textAreaLeft" fmla="*/ 340560 w 921240"/>
                <a:gd name="textAreaRight" fmla="*/ 892800 w 921240"/>
                <a:gd name="textAreaTop" fmla="*/ 25200 h 591840"/>
                <a:gd name="textAreaBottom" fmla="*/ 146880 h 59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Tree"/>
          <p:cNvSpPr/>
          <p:nvPr/>
        </p:nvSpPr>
        <p:spPr>
          <a:xfrm>
            <a:off x="324000" y="3500280"/>
            <a:ext cx="1809720" cy="1810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720 h 1810080"/>
              <a:gd name="textAreaBottom" fmla="*/ 2370240 h 1810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j0297551"/>
          <p:cNvPicPr/>
          <p:nvPr/>
        </p:nvPicPr>
        <p:blipFill>
          <a:blip r:embed="rId1"/>
          <a:stretch/>
        </p:blipFill>
        <p:spPr>
          <a:xfrm>
            <a:off x="7093080" y="4005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8"/>
          <p:cNvSpPr/>
          <p:nvPr/>
        </p:nvSpPr>
        <p:spPr>
          <a:xfrm>
            <a:off x="7164360" y="58053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443640" y="314172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124000" y="602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ое окружение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21"/>
          <p:cNvSpPr/>
          <p:nvPr/>
        </p:nvSpPr>
        <p:spPr>
          <a:xfrm rot="1305600">
            <a:off x="1834920" y="2492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22"/>
          <p:cNvSpPr/>
          <p:nvPr/>
        </p:nvSpPr>
        <p:spPr>
          <a:xfrm rot="20622600">
            <a:off x="5795640" y="234900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3"/>
          <p:cNvSpPr/>
          <p:nvPr/>
        </p:nvSpPr>
        <p:spPr>
          <a:xfrm rot="19687800">
            <a:off x="1834920" y="36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4"/>
          <p:cNvSpPr/>
          <p:nvPr/>
        </p:nvSpPr>
        <p:spPr>
          <a:xfrm rot="18380400">
            <a:off x="3128040" y="39376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5"/>
          <p:cNvSpPr/>
          <p:nvPr/>
        </p:nvSpPr>
        <p:spPr>
          <a:xfrm rot="2833800">
            <a:off x="4639320" y="400896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6"/>
          <p:cNvSpPr/>
          <p:nvPr/>
        </p:nvSpPr>
        <p:spPr>
          <a:xfrm rot="1756800">
            <a:off x="5796000" y="3716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79280" y="5535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0" y="5392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0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62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2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3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3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и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3" descr="j0291984"/>
          <p:cNvPicPr/>
          <p:nvPr/>
        </p:nvPicPr>
        <p:blipFill>
          <a:blip r:embed="rId1"/>
          <a:stretch/>
        </p:blipFill>
        <p:spPr>
          <a:xfrm>
            <a:off x="971640" y="198900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78882"/>
          <p:cNvPicPr/>
          <p:nvPr/>
        </p:nvPicPr>
        <p:blipFill>
          <a:blip r:embed="rId2"/>
          <a:stretch/>
        </p:blipFill>
        <p:spPr>
          <a:xfrm>
            <a:off x="6804000" y="2133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беседующие людиgif.gif"/>
          <p:cNvPicPr/>
          <p:nvPr/>
        </p:nvPicPr>
        <p:blipFill>
          <a:blip r:embed="rId3"/>
          <a:stretch/>
        </p:blipFill>
        <p:spPr>
          <a:xfrm>
            <a:off x="1403280" y="429264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j0090386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71" name="Oval 7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8"/>
          <p:cNvSpPr/>
          <p:nvPr/>
        </p:nvSpPr>
        <p:spPr>
          <a:xfrm rot="1405200">
            <a:off x="2987640" y="299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9"/>
          <p:cNvSpPr/>
          <p:nvPr/>
        </p:nvSpPr>
        <p:spPr>
          <a:xfrm rot="19948200">
            <a:off x="3276720" y="407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0"/>
          <p:cNvSpPr/>
          <p:nvPr/>
        </p:nvSpPr>
        <p:spPr>
          <a:xfrm rot="20268600">
            <a:off x="5796000" y="27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1"/>
          <p:cNvSpPr/>
          <p:nvPr/>
        </p:nvSpPr>
        <p:spPr>
          <a:xfrm rot="1837800">
            <a:off x="5508360" y="393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55640" y="387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04000" y="373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0872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союзы, отдых, взаимоотнош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49440" y="587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пособы применения своей рабочей силы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8920" y="301320"/>
            <a:ext cx="70642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лабости рын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56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3013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Государственное регулир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Законодательная баз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196640"/>
            <a:ext cx="73134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    </a:t>
            </a: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 НАСТОЯЩЕ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8374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121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1440" y="1087200"/>
            <a:ext cx="7238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2781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19280" y="2420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Условия успешности  обуч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сновные виды работ и професси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ocuments"/>
          <p:cNvSpPr/>
          <p:nvPr/>
        </p:nvSpPr>
        <p:spPr>
          <a:xfrm>
            <a:off x="3492360" y="1773360"/>
            <a:ext cx="2692440" cy="381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ТК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ЕДИНЫЙ ТАРИФНО-КВАЛИФИКА-ЦИОННЫЙ СПРАВОЧ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АБОТ И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РОФЕССИЙ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ВЫСШЕ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НАЧАЛЬНОЕ ПРОФЕССИОНАЛЬНО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идущий человек.gif"/>
          <p:cNvPicPr/>
          <p:nvPr/>
        </p:nvPicPr>
        <p:blipFill>
          <a:blip r:embed="rId1"/>
          <a:stretch/>
        </p:blipFill>
        <p:spPr>
          <a:xfrm>
            <a:off x="-1000080" y="-1214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бегущий человек.gif"/>
          <p:cNvPicPr/>
          <p:nvPr/>
        </p:nvPicPr>
        <p:blipFill>
          <a:blip r:embed="rId2"/>
          <a:stretch/>
        </p:blipFill>
        <p:spPr>
          <a:xfrm>
            <a:off x="1928880" y="0"/>
            <a:ext cx="95256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Ves_v_zabotah.gif"/>
          <p:cNvPicPr/>
          <p:nvPr/>
        </p:nvPicPr>
        <p:blipFill>
          <a:blip r:embed="rId3"/>
          <a:stretch/>
        </p:blipFill>
        <p:spPr>
          <a:xfrm>
            <a:off x="6948360" y="189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человек с портфелем.gif"/>
          <p:cNvPicPr/>
          <p:nvPr/>
        </p:nvPicPr>
        <p:blipFill>
          <a:blip r:embed="rId4"/>
          <a:stretch/>
        </p:blipFill>
        <p:spPr>
          <a:xfrm>
            <a:off x="179280" y="47973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бегущая девушка.gif"/>
          <p:cNvPicPr/>
          <p:nvPr/>
        </p:nvPicPr>
        <p:blipFill>
          <a:blip r:embed="rId5">
            <a:grayscl/>
          </a:blip>
          <a:stretch/>
        </p:blipFill>
        <p:spPr>
          <a:xfrm>
            <a:off x="8393040" y="1357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S_gazetoy.gif"/>
          <p:cNvPicPr/>
          <p:nvPr/>
        </p:nvPicPr>
        <p:blipFill>
          <a:blip r:embed="rId6"/>
          <a:stretch/>
        </p:blipFill>
        <p:spPr>
          <a:xfrm>
            <a:off x="778680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беседующие людиgif.gif"/>
          <p:cNvPicPr/>
          <p:nvPr/>
        </p:nvPicPr>
        <p:blipFill>
          <a:blip r:embed="rId7"/>
          <a:stretch/>
        </p:blipFill>
        <p:spPr>
          <a:xfrm>
            <a:off x="2195640" y="4653000"/>
            <a:ext cx="1857240" cy="183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771640" y="476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РГАНИЗАЦИЯ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900000" y="1484280"/>
            <a:ext cx="47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j0235319"/>
          <p:cNvPicPr/>
          <p:nvPr/>
        </p:nvPicPr>
        <p:blipFill>
          <a:blip r:embed="rId8"/>
          <a:stretch/>
        </p:blipFill>
        <p:spPr>
          <a:xfrm>
            <a:off x="3276720" y="1268280"/>
            <a:ext cx="4968720" cy="558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20287 C -0.11649 -0.19477 -0.11632 -0.19154 -0.11198 -0.18575 C -0.10903 -0.17488 -0.11319 -0.18807 -0.10729 -0.17627 C -0.1059 -0.17349 -0.10521 -0.16979 -0.10382 -0.16702 C -0.10121 -0.15314 -0.0941 -0.14481 -0.08489 -0.13879 C -0.08108 -0.13347 -0.07934 -0.13324 -0.0743 -0.13093 C -0.06632 -0.12353 -0.05781 -0.11682 -0.04844 -0.11358 C -0.04635 -0.11173 -0.04358 -0.11104 -0.04167 -0.10895 C -0.03507 -0.10201 -0.03038 -0.09346 -0.02378 -0.08698 C -0.02239 -0.07773 -0.02031 -0.07171 -0.01441 -0.06662 C -0.01233 -0.05876 -0.00972 -0.05853 -0.00486 -0.05413 C -0.00121 -0.05066 0.00191 -0.04603 0.00573 -0.04303 C 0.01493 -0.03563 0.02674 -0.02845 0.03733 -0.02591 C 0.04288 -0.02198 0.04896 -0.02082 0.05504 -0.01804 C 0.05747 -0.01481 0.05938 -0.01111 0.06215 -0.00856 C 0.06441 -0.00648 0.0691 -0.00231 0.0691 -0.00208 C 0.06945 0.02891 0.06198 0.07009 0.07396 0.10109 C 0.07535 0.11219 0.07604 0.12098 0.08455 0.12468 C 0.09427 0.13763 0.09826 0.14966 0.10208 0.16701 C 0.10261 0.16956 0.10278 0.17233 0.1033 0.17488 C 0.10399 0.17904 0.10573 0.18737 0.10573 0.1876 C 0.1059 0.19593 0.10035 0.2452 0.11389 0.25792 C 0.11806 0.26741 0.12083 0.27666 0.12656 0.28452 C 0.12708 0.28614 0.12743 0.28776 0.12795 0.28915 C 0.12865 0.29077 0.12969 0.29216 0.13038 0.29401 C 0.13177 0.29817 0.13195 0.30557 0.13264 0.30951 C 0.1342 0.31922 0.13629 0.32894 0.13976 0.33773 C 0.14063 0.34467 0.14132 0.3523 0.14445 0.35831 C 0.14531 0.36016 0.14688 0.36132 0.14774 0.36294 C 0.14913 0.36502 0.15052 0.36687 0.15139 0.36919 C 0.15955 0.38654 0.14688 0.36387 0.15729 0.38168 C 0.16129 0.40504 0.1717 0.41267 0.18559 0.42563 C 0.19427 0.44205 0.20833 0.44367 0.22188 0.4476 C 0.23281 0.45454 0.24566 0.45894 0.25504 0.46958 C 0.26146 0.47698 0.26285 0.48901 0.2691 0.49618 C 0.27778 0.50636 0.29097 0.51353 0.30208 0.51654 C 0.30747 0.52024 0.3132 0.52232 0.31858 0.52602 C 0.32448 0.52995 0.31979 0.5281 0.3257 0.53366 C 0.33299 0.5406 0.34149 0.54453 0.35035 0.54638 C 0.36979 0.55679 0.39045 0.56581 0.41042 0.5746 C 0.42535 0.58131 0.44392 0.58524 0.45851 0.59496 C 0.47136 0.60375 0.48229 0.61739 0.49497 0.62618 C 0.51059 0.63706 0.51215 0.63659 0.52656 0.64191 C 0.5625 0.67245 0.60608 0.67754 0.64566 0.69512 C 0.6783 0.70969 0.70781 0.72889 0.74219 0.73282 C 0.75191 0.73236 0.76181 0.73213 0.77153 0.7312 C 0.77813 0.73051 0.79149 0.7282 0.79149 0.72843 C 0.81285 0.72079 0.78368 0.73028 0.84445 0.72496 C 0.8474 0.72473 0.84983 0.72103 0.85278 0.72033 C 0.85504 0.71964 0.85972 0.71871 0.85972 0.71894 E">
                                      <p:cBhvr>
                                        <p:cTn id="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1.11111E-006 C -0.05 0.00116 -0.08646 0.00347 -0.13576 0.00486 C -0.15069 0.00903 -0.15851 0.00995 -0.17622 0.01111 C -0.17934 0.01227 -0.1908 0.01875 -0.1941 0.01921 C -0.19931 0.01991 -0.20434 0.02014 -0.20955 0.0206 C -0.21406 0.02477 -0.21753 0.03495 -0.22135 0.0382 C -0.23455 0.04931 -0.25226 0.04236 -0.26788 0.04283 C -0.28003 0.04607 -0.29115 0.05185 -0.30365 0.05394 C -0.31076 0.05648 -0.31806 0.05903 -0.325 0.06204 C -0.33003 0.06852 -0.33472 0.06898 -0.33924 0.07778 C -0.34236 0.08426 -0.34323 0.09329 -0.34878 0.09699 C -0.35851 0.10324 -0.37014 0.09931 -0.3809 0.1 C -0.39184 0.10972 -0.40556 0.11181 -0.41788 0.11597 C -0.42049 0.11852 -0.42378 0.11968 -0.42622 0.12222 C -0.43194 0.12824 -0.43229 0.13218 -0.43802 0.13658 C -0.44549 0.14236 -0.45486 0.14861 -0.46302 0.15255 C -0.47031 0.15602 -0.47917 0.15579 -0.48698 0.15718 C -0.48941 0.15833 -0.49167 0.15926 -0.4941 0.16042 C -0.49722 0.16181 -0.50365 0.16366 -0.50365 0.16389 C -0.50816 0.16759 -0.5125 0.16852 -0.51788 0.16991 C -0.52413 0.17431 -0.52726 0.175 -0.53455 0.17616 C -0.53889 0.18009 -0.54253 0.18241 -0.54757 0.18426 C -0.57743 0.20903 -0.56059 0.19977 -0.61788 0.20162 C -0.6599 0.20972 -0.70972 0.20394 -0.74878 0.20324 C -0.75556 0.19653 -0.76302 0.18519 -0.77135 0.18264 C -0.77795 0.18079 -0.7849 0.18056 -0.79167 0.1794 C -0.80573 0.17454 -0.78472 0.18241 -0.80243 0.17315 C -0.80556 0.17153 -0.80885 0.1713 -0.81198 0.16991 C -0.81788 0.16435 -0.82378 0.16458 -0.8309 0.16366 C -0.83333 0.1625 -0.83854 0.16042 -0.84045 0.1588 C -0.84983 0.15093 -0.83906 0.15602 -0.84757 0.15255 C -0.85503 0.14607 -0.86389 0.14259 -0.87257 0.14144 C -0.87691 0.13565 -0.87986 0.13357 -0.88576 0.13171 C -0.9026 0.11713 -0.92344 0.12894 -0.94167 0.13333 C -0.94479 0.13403 -0.94809 0.13426 -0.95122 0.13495 C -0.9559 0.13588 -0.96545 0.1382 -0.96545 0.13843 C -0.97969 0.15093 -0.95747 0.13195 -0.97378 0.14283 C -0.97639 0.14445 -0.97847 0.14722 -0.9809 0.14931 C -0.98559 0.1537 -0.99323 0.15232 -0.99878 0.15394 C -1.00365 0.1581 -1.00833 0.15949 -1.01406 0.16204 C -1.01545 0.1625 -1.01771 0.16366 -1.01771 0.16389 C -1.06389 0.16111 -1.03003 0.16343 -1.06198 0.16042 C -1.06806 0.15972 -1.0809 0.1588 -1.0809 0.15903 E">
                                      <p:cBhvr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C 0.00017 0.01851 -0.01198 0.11412 0.0158 0.13958 C 0.02032 0.15532 0.02518 0.1581 0.03681 0.16643 C 0.04254 0.17037 0.04532 0.17546 0.05174 0.17754 C 0.05764 0.18264 0.06337 0.18379 0.07032 0.18541 C 0.07865 0.19259 0.06858 0.18495 0.08143 0.19027 C 0.08264 0.19097 0.08369 0.19259 0.08507 0.19328 C 0.08681 0.19421 0.08855 0.19444 0.08994 0.1949 C 0.09723 0.20439 0.104 0.20995 0.11355 0.21389 C 0.1191 0.21921 0.12587 0.22129 0.13195 0.22523 C 0.1382 0.22916 0.14237 0.23472 0.14931 0.23796 C 0.1507 0.23958 0.15261 0.2412 0.15417 0.24236 C 0.15573 0.24375 0.15764 0.24444 0.15903 0.24583 C 0.16129 0.24768 0.16389 0.25254 0.1665 0.25347 C 0.1731 0.25648 0.18195 0.2574 0.18889 0.25856 C 0.19983 0.26342 0.21233 0.26226 0.22223 0.26967 C 0.22813 0.2743 0.23039 0.28426 0.23455 0.29143 C 0.23594 0.29467 0.23889 0.29652 0.24063 0.29953 C 0.25035 0.3162 0.25782 0.33518 0.27257 0.3456 C 0.2783 0.34953 0.28681 0.34953 0.29237 0.35046 C 0.30018 0.35393 0.29619 0.36018 0.30001 0.36643 C 0.30382 0.37338 0.30695 0.37476 0.3132 0.37754 C 0.31876 0.38171 0.3231 0.38703 0.32813 0.39143 C 0.32952 0.39259 0.33073 0.39259 0.33195 0.39328 C 0.33316 0.39421 0.33438 0.39514 0.33542 0.39676 C 0.33924 0.4037 0.34011 0.41018 0.34185 0.41898 C 0.34219 0.42106 0.34185 0.42384 0.34289 0.425 C 0.35122 0.43449 0.36146 0.43217 0.37153 0.43287 C 0.39601 0.44838 0.41685 0.4743 0.44185 0.48842 C 0.44757 0.49189 0.45504 0.49282 0.46164 0.49514 C 0.46841 0.50069 0.47587 0.50254 0.48351 0.50463 C 0.48994 0.51018 0.49723 0.51435 0.50226 0.52199 C 0.50643 0.5287 0.50782 0.53773 0.51216 0.54421 C 0.5158 0.54953 0.52275 0.55301 0.52796 0.55532 C 0.53872 0.56875 0.55261 0.57801 0.56511 0.58842 C 0.5974 0.61666 0.56997 0.59444 0.59237 0.61226 C 0.59879 0.61759 0.60313 0.62592 0.60851 0.63287 C 0.61459 0.6412 0.62379 0.64861 0.63195 0.65347 C 0.63751 0.66088 0.64948 0.67523 0.65764 0.67754 C 0.66858 0.68009 0.68108 0.68101 0.69219 0.68217 C 0.70955 0.6875 0.68004 0.6787 0.72674 0.68541 C 0.7283 0.68564 0.72917 0.68819 0.73073 0.68865 C 0.73334 0.68958 0.73612 0.68958 0.73924 0.69004 C 0.74393 0.69629 0.74619 0.70231 0.75018 0.70926 C 0.75869 0.73981 0.76546 0.76944 0.77501 0.79976 C 0.779 0.8118 0.78698 0.82453 0.79358 0.83472 C 0.81962 0.8743 0.85244 0.90393 0.89341 0.91088 C 0.90365 0.90972 0.91146 0.90833 0.92066 0.90277 C 0.92553 0.89953 0.92848 0.8949 0.93438 0.89351 C 0.95851 0.88796 1.00834 0.89004 1.0158 0.89004 C 1.03976 0.88564 1.05487 0.88518 1.0823 0.88518 E">
                                      <p:cBhvr>
                                        <p:cTn id="10" dur="10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3:02Z</dcterms:created>
  <dc:creator>ольга</dc:creator>
  <dc:description>uchportal.ru</dc:description>
  <dc:language>en-US</dc:language>
  <cp:lastModifiedBy>LEGION</cp:lastModifiedBy>
  <dcterms:modified xsi:type="dcterms:W3CDTF">2015-03-31T08:47:29Z</dcterms:modified>
  <cp:revision>15</cp:revision>
  <dc:subject/>
  <dc:title>Технология в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