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9510-A90B-4C82-BB70-09A6C32F09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F90E-D51A-4535-8C7F-3000AE7134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8C4D-565C-4226-9818-324958F2CC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ED77-9FD7-419F-BF12-B5FB95AB7AA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9451-8388-4715-BECD-74186B5492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F454-F820-4EB2-B104-8CD076369A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6A8A-2E46-4E5F-9110-A4699E1CBB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BA53-DA92-4088-BCE6-04DB3C12E5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3011-AB2C-4357-9ED0-BA1018E93E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BF3E-5C7C-4C7D-8483-A425A4A190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B7B0-6DD5-467C-AB5F-97296D03D0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48C0-E53B-493C-A2F4-A22E5BCFA7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1A99-A67F-4F2A-9F99-D670D1AFFB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F640-0DBD-419E-B25E-359EF0CD2DB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4EDC-90D1-4AB7-9617-106A0E6ADC4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F0E9-DC74-4439-B933-41CE861B88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D2BF-BB22-4266-A3BF-5D18F07DE72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8E58-B4E6-420F-89A5-F3A95ABC31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884-148C-4A4E-B19A-3044B2CCDD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9B6D-196F-4A49-AEB9-4BC507496C2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8FA5-80F6-4654-AF81-31E47EA022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A9EE-C11F-4A06-8C4B-F85D5C7BCD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CC8D-8C34-4DD8-A7AD-63F397089B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9B9A-8ECC-483A-8B4A-71296D1AE7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99150-6748-40A8-899E-79851EA0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52C8-B4E2-4B31-9D75-795AA0683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8D0E3-B01D-4289-BB9F-D6AAABD456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982BC1-2BC9-4D14-98C8-82761FA8C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754A1-8DE6-4E99-8AE3-5B4E22CB86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5482D7-9E15-47B6-BE58-87A04B10B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F1285-94CA-4F42-B2C8-190D1C3747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5E2F2-AAFD-49D9-AD08-E28C7863D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418B0-1185-4AB9-B5AB-66FB9B0B9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4F529B-83B8-4E6F-BC43-921A1B702D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24A403-6BA5-4B8E-ACC2-0DD35F40CA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BF2136-9193-479D-867A-49BA968F62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3F17C-693B-4630-B309-ADACD65B5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31268D-E07A-4115-99C7-9FB9A2496C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41DF21-E3FD-45F9-B672-053806A6CE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56D412-5A25-4E9F-A86B-BE06F34261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DC52E3-3788-4E23-AF86-EC8991A286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92706D-8220-4A1E-A9AB-3914EFDCB8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E68CC-5178-47B7-A2C5-7822007AE0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B532B5-F5E7-4FEA-A6B0-F0C08B2C33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E248EC-619E-4686-9A60-59D7C1C739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D3BF97-05CB-462D-A6E4-EC2E7B0DD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9326CF-4DAF-4472-B0FA-30BE47C791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E11A5-956D-4556-A6BA-5A92A9FD9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941911-A5D5-4D51-AD20-1E6E5AAEB5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664B0A-523D-434F-B5A9-BB3512EBB6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715D6-77C4-4879-B833-066D5769D8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322CDC-2DAC-45CC-A6DD-73B11E134F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DA14E9-163B-4238-B068-219153A6A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823EA0-6298-436A-B876-53C9F00BDD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0F3911-C947-463F-9672-0CD857BFE5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FFDC53-12D2-4A89-9255-23AFCFA686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EB9616-CE82-46ED-B968-E5B165996A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F96338-A175-4B3F-AB85-1BFE73263D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E0C07-BEFE-4EC3-8DBC-FA3E858D8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F2D13D-11A4-4406-9750-2F36E478D3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1B33D0-DEB4-4F20-BCFF-C9A4DDF4EC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1DDFA9-1657-4AA3-B002-64B7391EA9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91449A-BF77-4B2C-8636-E948BA0FB9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0C920B-584E-4A4F-8203-7B1C3CE64F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ADE93B-2024-4254-9620-BF54FB4436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2A32CD-647B-4357-BBC0-B4D70D6013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A3BD7C-0639-4DD2-A05F-20A9613337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10810C-4496-4A1F-AED9-61C1E1683E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D4ECC8-C7EA-48D7-A425-FE5D88042B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6307-00DF-4944-9569-B36B63AFC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DF404E-3E53-4725-A16F-750EDF13C4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583E8E-490D-416A-BBF1-304ED60A72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96E0F5-06F8-497F-B85E-2F1A0677D1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70E40C-3EB3-4874-B4E5-123DB961F7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CA0168-364B-4456-819D-0649AE5713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CE4F56-C13C-45E4-A172-5655543548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498A16-AA6C-4FC3-8421-C5607760C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4AC2D0-F350-47BB-A691-AFB52C3E1D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E1A8EE-8B5A-4032-AEA7-C25279A88D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CBFC1F-91DB-4401-9D39-F3E4779A73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D6EAA-7CFB-4B35-8BD2-63DC9F548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01C4AB-CB63-4DB7-82C3-A8D6AB7D27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123249-F26C-43C0-B189-DEC44663F7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47E997-FB1D-4F02-91C4-7824A9E9F4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4A3F3D-C577-46FE-857A-0F6242F98A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4F9E4F-86F7-4440-A20F-39C7E34413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10B3DA-DA46-4288-A03E-C1416BD6207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1F799B-B98E-4F7C-A018-93CD450BE7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A76E62-2219-4398-9093-DCFAC62963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FCB6AD-E3CD-4DD5-8884-E999506FBB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7C45D1-E452-4256-B11D-CCAC98EA0C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F7F25-ABB5-4C8B-8004-D08BA635F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3D6FC5-5013-46F6-9523-555685BAA1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D038F9-37E2-4231-BE14-B602911D81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70A881-5743-4841-AF70-191722F348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B57121-7195-4367-B587-C9F6F705A6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086276-BCE3-4FF4-84E6-22B3E43CA9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17847D-53FF-4999-BCFD-AB8D614BB5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B1A77B-ADF3-443B-B56D-FE45954438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8EE526-E37D-4550-9054-6B4E38F761B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CFA82D-A030-4596-88A7-AF0C05B6DE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8395A6E-F75D-48F2-9634-3F2541F811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E37CF-B7E7-460A-A0B4-22A6DF0AB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D19BFE-F1E0-4CBA-AC69-8857DF6F1E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442FD9-2E34-4FA7-895B-6D1BA56F0E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8D6C6B-0433-4FEF-BDA0-0828191852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7F2448-7C2A-4CA9-A040-B2F0332CF1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EFF10D-B1B0-47E4-BF3F-0B8AAC7272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99E403-94B9-4CDF-A718-80D9DC778E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B2A131-F7C5-4B45-A5A7-EBA51DD780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A065A3-DFCC-4788-AF4A-E12060AAEB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C88EE3-35FC-48E9-842F-D9CA3B7356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315BBC-96E0-4B16-809C-BE40969DCD2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B8C86-A5A3-4821-8583-E07A97181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4197410-FFFC-4090-9867-97EEE5D228D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B804A1E-E042-4309-B8CE-C22B0C1BBA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E9AA78-1FCE-4FC8-B162-F96F9DE195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62BC39-44DC-479A-8684-42DFDE3E86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690813-4AD5-420F-A9FC-790AEF5B5B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25CAA8-01BC-4B61-84A2-F1E5841D19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7B5C0D-6E59-4990-A5BA-80E8C315DA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AF0BFF-381B-4881-803C-D7C55A1E10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13698F-4015-44AB-B18B-B2099695E5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8E8B2D-38E6-410F-AE36-EED85CB92E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779FD-8BAE-4713-8AB1-8841C85D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4C284C-A8CB-4902-9352-957AD84DA9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653089-DC07-4926-812A-3357A933B1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D7E4571-90F2-4B4D-908D-11128DCE31C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D9231F-F45A-48B4-B6F4-77A4230C0D0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156D57-C20E-4F4A-B544-1911C68488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5A8175-E8E3-4D59-A25E-37AECACCAF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8AA7F7-76C5-49A3-8F8B-28B2F2E246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ED81A5-E942-4F0D-87E3-AACE06252AE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B0029B-9D7C-4F1C-8D99-95A0D940AF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EF25AD-246C-4483-83D2-8EA6500B0E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E02D7-1E03-4B9B-BC14-D01C9AED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B0CC6-C104-4487-A196-23E5F2F3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67643C-08DE-4D23-BDF9-B33DC6CA7B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79CCC9-16B6-41C8-AA79-D46768B8C2B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447F0A-68EB-48CE-AD6E-FA7D9CEACD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31746A-A35A-45E6-8CEE-0D61C27F4C5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148AAFE-B12D-43F8-9158-D566ACAE187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038F35F-A9E7-4EFC-A9E4-5AAF4A5AC24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330B25-94C8-431C-B0DE-C23B097639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04CAFE2-A6FE-4ABC-81DD-C4738969FD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C5210B6-3FEE-4CB3-A052-96D27393B37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FC110D-E1CB-423C-9D38-8B1AE51272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7D782-798B-47A2-A37D-61481B9BE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307DE6-4EF3-4373-B544-39A12FC6B4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2758B3-9C0A-4569-B4C8-2BADC08FDC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E61F6C-F5BD-4795-B0FA-0BDDDB940E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63ACE5-C243-4C38-9CF0-11E5B35D691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9A6BED-8A01-40CB-AF1B-0E165905C0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9B55A71-6BCC-4164-AA91-077812A84BC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06D8C55-EE59-4391-AF09-8F5A703EB54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D4E3BC8-42A9-462F-A5BA-88EE838255C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C84ED3-E080-4D88-B6DC-37F2C74F4CE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DF642AE-5D58-4610-860D-80F32CCF89B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76376-B19A-42DB-9E83-0F5CAB22F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723321D-8224-475C-A5F2-2EB7D2EE31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B62396-8E14-4E5D-97A4-C00067D2C2E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BC0DF0-9235-47A0-9611-993A1E0D980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FF7BC2C-F279-41CE-A551-0CE3C64917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A5A5D7-F597-48BE-8987-860D1A5720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060BB1-6FEF-469F-9252-C9586519F2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6D2DE68-8184-46CF-BEA2-C12AF2088C0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F1AC878-01CE-48FD-A5AA-49459F7939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DFBC9C2-C695-449D-9378-03FEFFB9F7A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063BCC0-B99B-4370-9B66-3D65ECE85AA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31615-EAEB-42F2-BB15-83D82BDDB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94A59F-2D16-4880-BA73-3831B96F66E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23E0D81-9C06-4B1C-8A31-15804F79E6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C9AC8E-96F1-4FD1-90B0-2CF220DA0B6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02C66E-6AB0-4C02-A9FB-EEA0752768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E9C790A-6978-4707-AE39-E9ADFDBEE8C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D1D9EA-ED01-4CBA-814A-3516F107D1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32D0692-15F0-4427-A7F5-C066BC113E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F10999-804D-4C30-BD92-D204F7B2F8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DFD80D8-3424-4A02-9234-7C7B7814B9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C1F9189-CF99-4DB0-8893-BE15E7DE2D9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25FF1-CEB1-4D06-892F-B7A61B25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BFB7667-99D7-4E3D-9E0C-398F39DB593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0ACE066-53E0-496C-910C-C8628D07D9C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9B83D27-EE6C-413B-9F55-9F3BA698E72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2D037BB-2F5F-47CF-9DBC-4DC7FB9DE23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11598F8-A6E8-4440-A751-8D9E3CA9269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A73D794-81B7-4D28-97A4-7D90A94096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4AE1B51-1E69-4AA0-AEB3-98354C07262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F16ABF-7750-4CC5-B0D3-3C74E07E2F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F29C80-29D0-47EB-8DCA-160540AF77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0DCAC6-F532-4A11-9AD0-0B10362FE7D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251507-6EE2-4E15-B5C4-71F1168D2D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FF6473-EB18-4231-8FF1-B0BC991A824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83F02EF-9C49-4865-A460-937B37359A9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A89F31A-8FC4-4445-92C6-DEA8DC90277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9DCFA2B-25E9-41BC-8A58-A3F814C7991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AB42025-3EEC-419D-8649-BF4AA578FF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F6868F3-3CA8-483E-8A2B-6D6D6D44035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46C3D3B-C697-450F-A917-07EB0382364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1382AE0-1B20-4A0D-98EF-BFE8DDCF00D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0FFBAC-BDF7-4F73-B0F9-967100A5804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28373E-6364-4127-AF50-55EB0A8FF5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103EE-E4FD-4D18-A359-9566A14C2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07A1BC-39F2-4655-9EF2-06597586026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C9F549-DB46-47FE-A4BD-D09D9A1921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6099B7C-BE94-457E-8B84-AC702AFEA5A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F039B2-763F-43DC-B741-B49C52BC1D2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5F5BA22-A461-4418-A058-3DB65B4A513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927F301-D1B3-443A-A1B7-DB3086696FC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5F0BFDD-EEAD-453C-A3AA-060F11A9C26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2307A68-DB7E-439B-B234-64CA0155328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03C194-7EE8-42F5-8E6F-9BFFEB36FBB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59E67FF-A390-48C3-9613-577E7A17AA1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8919B-2487-4AEE-BA82-5F9F6F29B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9D9B55E-80D8-4EEB-9B78-02A386C3EC3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44DCF1B-E753-4C11-AF32-B4CAA86527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8C6045-0FBA-4367-BA6C-23163AFFFD5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180A95-5E8A-4272-A725-A08903C919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1C57A2B-8931-4F43-9A24-B14B3F572E0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7F6700E-884C-42BD-A6DA-71EB59C8C98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BD0BC15-3B69-482A-A9AA-8B4825CE2C0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9E4D102-34E1-48DC-A74F-E56B1F1BC51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9065323-FF7A-4F57-992B-AFAD2C0CD61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464E91-C693-478C-9D1E-0EB9D73DC72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09416-2AF7-4BFC-90B3-EEAB250D2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B99918-A4D5-4C78-B96D-B9D7492325B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D99FA22-8952-413C-8CB2-B1433D85EF7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4A503D4-1679-4DEA-A0AC-EA427AFCAD5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FFF179B-1280-4F78-9542-3C234F459D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B0053C7-D9C4-4035-A62A-B6DF7CE39BE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BB7CE06-14C6-4A48-95AE-BDA44277969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8D0B26-8A72-45D8-AECB-C2D5A5690F5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42738D1-9DF9-481A-9417-1A5ED4021EC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5C6D915-D23F-46C5-91B5-E6E56BB1676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4C2FA1D-1539-434C-BEFF-A5D5014403E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5313B-FF1B-4C01-B65C-E659B5816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DAC87DE-745F-47C0-9A48-CCFD15FBA47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54E5CC6-6517-455D-9031-D5F31BB80B2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A890A85-BEED-4623-B1DC-1EF29377620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03BAC4B-0F06-40FB-A8AA-4661642E02F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89ECF70-0E0D-4D36-905B-BFB0D7A3919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AB8993-50C4-4D9C-939C-3E37DBBD08E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B26557-37C3-4B04-B693-4703BC5954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B7E2DAF-8C12-49BB-9AD9-B97C3ABDF68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561D222-9D09-43DE-97AD-FB4F5880BC9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2DE9CDE-6E0C-4985-B78D-DBDDB5BA67F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1FE96-CA34-4562-A769-0F287ED7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34E73-3B81-4DCE-A939-97E0E087E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E6A59A0-F5D8-4EF2-99D3-94F3E2D9D15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A78A496-43C5-4F1E-B442-0429AC9D427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46A5CAE-AB20-4E0B-8AED-8376CA0F8DF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A65B903-B680-4D2B-9F0D-E686692B764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1817DE7-C497-485D-8B56-AA2EAEEFDE2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F74F7A-ACD9-4781-8148-ACC0F8E906C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0E7E29F-CE35-441D-A37D-39ADF2F99B2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601A80C-1E22-43B8-9E1C-5326C750C1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01AC509-4500-4D5B-B3F3-4D37145144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81616B6-2480-4F96-BFE6-642662E2260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5A48C-53BE-43CD-B4E2-29BA3AF71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6E2F587-14DF-4122-8FBB-B6DCD8F5E3A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1649A99-2B28-47DE-AD15-86484309834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C4E6B76-8787-425C-A2F2-CD4E50E9668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23FB043-8E4E-431B-8E75-6D972B1E1D2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368B495-CB5A-4311-A687-7E0AC17BD0D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6927DD6-B7DC-4D76-A4C4-AD0AB389011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B1740FC-A3E2-4BA4-A823-16B6EE9390F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18EC16B-FB95-432F-BDE8-32FB7C29000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096EB1A-751C-455F-8F2B-5282F8D07AE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7A04D7-A4B7-4410-A11F-C7C4EEFB281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2AA31-6755-40F4-8BBE-D7628A9E1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B1D86CA-366F-4E0A-8781-889D4A27EB2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C57EE99-336A-47DB-B30A-CB107AC285B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0277684-4CD5-4D7B-8965-74B3D83666F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A53A495-4358-4CD9-B0A0-B8A970F6019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23E8A2A-B7B4-4DBB-8818-84CAD40670F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4524F97-A6D9-4303-B528-A94BD5B9C29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7D98550-E067-47F1-B173-61CAE4ADF87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D0A37FA-C071-48D5-A2EC-DB521A167C0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18B818-4E7D-4081-80F7-762654B1C73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E791D38-7FE8-49C8-9546-B379FCE71C5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2E2D4-37A9-44F1-84E1-3D88FDFC5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E07931F-C2DC-4DD7-BF5A-3750A035481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C41BAE3-1068-4B92-AB77-F0CD66AE8F5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1969644-7568-43E3-8C55-1D1A65A869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2F0DC3B-9189-4F93-96AC-ECCD05B7722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1DCE4DC-1517-4F58-A018-8B33CA50962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D78E3F8-811A-4D64-903A-1B7FC20C01A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1102D32-A709-406E-9AF6-F57D19A67F7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D9533BF-5ECD-4554-BD18-C36D477196E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CBEC201-E693-49CD-8762-33C87BC0B21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0C5036D-2734-4E4C-B3AC-578C5624E70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42423-3DC5-44CE-AC03-64F5BB37EE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22B5575-9228-46C3-928D-BB1C32B00AB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10A202A-B28A-4B3E-AB39-1312A8C4767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A2FF03D-EC2D-4CC1-8FFB-E1C8A3D0994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1FC9671-C980-4F49-A007-92CAE24C9A5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0D8B9A-7C05-463C-88AC-CDD82A2821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2A53E00-C4D9-4DFF-8CB6-ED8F4220BCA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D336F71-CBF2-4B97-87AD-F86FF789658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B8A3C40-426F-4ADF-BE48-190D843F009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52F66C4-9C98-49BB-AFA9-777A1C515B2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F07876A-3689-45DE-84AD-4B57519F113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06BB91-4EFE-473B-8E46-2C902B557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D859BEF-995C-410C-8328-D7D0891F0E6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00AF33E-9DAC-4F24-9EFF-B66AF6FE56E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C82A081-460C-45C9-8537-6F1B2751FD7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7ED63A2-ACE2-4B64-9025-7B0F4E47F01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DB99FB8-1EEE-48C7-BB23-C5E83750E0D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F829FB6-C936-4634-8DE3-BFF8836B3F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5D257D5-EE36-4854-BF7A-0BD7773F332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7543BA6-D48A-4484-9269-75BD764E13C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522E122-9907-4DD5-9958-756B17A5B65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204E0D2-52CF-47DC-AB7B-51DE753FC8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1CE9F-017E-41AB-8570-C49B05EEA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6C54535-9DC3-4602-8999-6AB3E3824E3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9C237A5-278C-4C6E-A12F-8497F7500BF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63140B4-8CDB-4709-8C9E-CC1B25DC22D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EB7DDEB-F249-404B-9C36-6D0BA0A9A07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D75FEEC-8084-4951-9009-68E2E3656E9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7620163-E31A-43E5-8989-431174C9ECF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4A6E470-1583-4DA7-98E4-18964ED8607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DAC0C7A-2E6F-4001-BD7C-180E3F5D91C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6228531-EAD1-4FF1-9A78-0C07828910C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079376C-0F77-445D-9F20-C1CCFA89E5A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FB034-6234-472F-B1EC-70FC708654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B104185-8E01-484D-8458-632507A99EE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B39AEF2-87A5-4A82-A9AA-42A1046BD92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40CE3A6-2886-495E-96C1-7BF6D28493E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76266EB-E1F3-4D75-ACCC-3DD727CCD94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1CDB1AA-1B71-4898-97F2-F541C88849E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F0EC023-D224-49AD-8BC1-76E5F7C9DE1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F06AEAD-E276-4851-88E7-CF27939C63F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7B79779-3D66-401E-8A8D-6498752E701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8D6BD53-60D2-48B7-A5C1-B7537FB0204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E63265D-8215-4D22-B6C0-10F0D768CB4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4E04F-1707-4ADF-B86C-74467CFEE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6AD832D-FD19-420E-8DF3-AB39C4AC899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6EC3158-1563-4DAB-81F0-9AA065EA6F1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BE15DFB-21C1-4939-B5BA-BB2D8824B20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9DEF494-8197-4DE9-A8D4-BC39AF76DC3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CBCEDCB-7824-4C16-AA5B-19E03FDD884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25FDF302-D58A-4625-8B2E-77E62875604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BF5AE95-D404-42D3-9633-830EEC14C57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D1CB5CB-44C3-4024-8A88-8E3A29447CF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BEAE79E-4340-4BD9-A151-ACF9BED153F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6931202-8C39-48A1-B07E-882E8C62DEB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44DB1-6644-4C53-967B-FA97FAB7F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BE19AC2-45C4-4856-8548-C7E1224B088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0CD063F-843E-4B54-ABDA-3F3843DC107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BA8B1CE-B0DD-4FFE-AC04-1B65C656DB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16CAD81-DBAE-494B-BBAD-04CFD979256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9D6A5EA-075E-4CA4-8372-AA7EB7F3CF4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94A92FC-1B51-4766-9075-E6871B22BC6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C6AB26D-9500-45D8-A28A-F9F168C8655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74DE7FF-A10E-4BAE-A910-10643F06B52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FBCF06D-E47B-4290-8676-358BE3B923C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71EFFF6-68D4-44EB-90BB-606540A3FEA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9B6EB-DD81-4840-985A-97DB44458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42DCB-5D69-472E-AEBA-1E64EA73B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D84F27A-A667-48E6-9D01-0150E8D0392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7D46949-53E8-40A5-A7B0-280144EFCD0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7DF636C-85B7-44CF-98BF-BD05D7C8ED9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05170B-61D5-4C57-A249-94890E0EA0B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96EF19-E587-4242-BEA7-38305C52BC3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0009AFB-E0F7-4141-B235-6AD98115FBB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3DB9290-9759-4D28-A9FD-B76802E74EF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88701DB-2DC8-44B8-8E2E-E944183F530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DFF9D6E-C9E4-4561-9D1B-3122227F9DE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A9765CF-9ABC-4EE1-9202-A06B71EE95A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7BE2E-9A33-47C6-91E0-2ABD73B25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3A70073-9906-4FAF-BEF9-8AA8D4A7AC7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0CD5BD7-593F-4FC6-A592-53517DA20C5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022C004-CEED-4DAA-A21A-C0267F14F47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FC334CA-9EBA-45E8-8385-86AD1A8D3A8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C634EF9-78CC-42A6-B1D7-99F7F0F6EF7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2AA68CD-0EB2-4532-9C35-886340B4EFC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AAD9020-C01D-40B9-A345-0DD8945523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F8D1AED-4FC9-4A87-A0FC-3C7D91C1F0E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BE604D2-B658-41F4-9D83-7873466CDE1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FA3977A-A1F6-492D-88FA-E898C7FE4C8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F7C77-BF74-49E2-993B-3383305C7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380B230-574A-4BFE-A2ED-F9EC9E9B05C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CA76727-44CF-4286-9816-EA387C93A4B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6AF5582-F5AF-44F7-9D0F-475F7E35386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F889690-7392-4756-BFF0-CA19C3219B9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E21FF71-A84E-4F52-AE32-BFE202F6794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34D58D4-904C-4FD4-BEB6-4088D921AA7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DF11114-D460-45BA-8ABC-5EE99D65B7F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A669A5B-BC5D-42D0-9331-1A73EB2BA0C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CF4A7D8-C74C-46A0-A1B2-00E1097FEAF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61A221E-4AE1-4A2C-82B0-9D7455D87C2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CBE6D-3971-4800-885F-CA6C0AAE3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2CF75A8-68D1-4711-A828-CF0CC91D13A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6B9864C-B9CB-43A9-B929-5294416470E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43BCAA9-008F-4D40-AF68-88A2E62FC01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C9FB5C7-6282-4142-8390-D35C70D8D9A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5C552C4-EDF1-4D22-AD80-E6A4B54FCBA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F776782-361A-4110-B69B-B629B95F96B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39BED40-B0B1-4C2C-90AA-1539D273F4A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C616EE1-0AAF-4B20-9727-E762087953E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CB640C7-2213-4313-B9F0-66A646299DA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E0AD037-BBAC-40C5-9ADF-537C3C660AA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27728-41DB-4394-B57B-445053608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AA4F44C-A029-4C2E-97A6-4F6EE403394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EFF211F-5BD5-4F09-B0D0-1A8F40CAACE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C0E0B6C-E708-43DE-BF80-8D857A23196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605C61A-21D3-4116-8DD7-325D77940DDB}"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5F4993D-E3C5-4FF8-BF31-430AB25426E2}"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043373C-8BAA-465A-A83C-16397F06899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ECD9F2C-4C4F-46A0-A96C-D37498C21FA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454EA05-AE12-4892-8593-EFA0BCC0439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9E95797-311B-4253-95CB-FE2374BFFF6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D22D420-931F-4988-8AC5-ECDDC328C6D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7C7BD-7895-4DEF-8DBD-01ECADE9C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2AEABB6-7F8B-4150-A7FA-550810C0BEA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3D1DFB5-EE9A-4CEE-94DD-FE2117EB3F1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F61E71B-826E-4BC9-A4F9-97E2C28A74D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09C698D-5B24-4B8E-93D3-FEF05FBD76B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9E47200-714A-4CA9-B002-267D8995333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87C4968D-7781-4BAB-BEA7-0953F9A19D4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62E6CAF-D62E-4939-BA88-7E1F4EA104A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FBB0D55-9BEE-4481-B0E9-F5D6A4D2F6E5}"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B8E5018-21F0-48D1-8008-C5B1832C6B0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AB3E7CB-93D1-4A21-8C15-2972DF002C4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CD0B7-D013-47D2-B74C-318E98184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8A19EC1-432C-4854-AA1F-1285EDA2A55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1A7494B-755C-49EE-AF8C-A951AADB4E1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CEE15CF-3669-44F5-A47E-F5D0F5C52BF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EF61D1D-9A68-42A5-A65D-34C217ECD3E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F07E57A-79CB-4DB8-835E-36630B38888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A8F0471-5408-40CE-BB4A-122081B4EF8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38EBF04-FA53-465D-8614-084A5154F8A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19B7862-3E49-420B-8162-31826C05BC2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A62EB64-D042-489A-B83E-6BB4BE7B9F7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37FF089-8CA7-4A0B-BD6F-A8CD9801CC4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A7D75A-0739-44BA-A7E2-A3A9488512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79E2144-A971-4C8B-95E0-4B2DD11E9CC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A116860-F0DF-4AEC-A05B-1B928067617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B9C4AAC-DB6A-419B-8BCE-30DA05EB332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F0F6BC4-30D2-47BD-ABD8-12DFAB17EA5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F049C5E-CA34-4EBA-8219-9FC043D7BC6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4DBAAE3-342F-4E1A-8E57-A3BD8055840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7D6428C-114A-4709-ACDA-78D442CAB41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4F38AF8-A2FF-4B92-B81B-AE522C03E67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546796C-13A5-49E3-99B5-47F21A3FC97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0D548BD-B277-451D-99AA-5660BB9AD91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2F8E7-E98F-4A20-9BC6-6CE881FF5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74D745E-3F79-4920-A5FB-BA220C98B73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BD3AA9D-558B-4785-85E9-27FE10C0949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A0DE748-219B-4963-9C26-5CE42600AF3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945BA56-2D4D-48F8-87FF-56003A46C64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DDCBCD4-3866-4CCC-9E3D-15A369CBF6F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CE96FEA-EF4E-4718-80EA-5CECB2C764C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DDCC27C-0064-4A89-BAB5-4368F67BDF1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BFE5658-EF76-485D-85AC-A1AC1473C60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A14F727-97D7-4AF2-8AB1-C70137A357D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9700A47-8849-41D7-A7F4-9C3BFAB43C0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68E314-9E88-40B0-8CAA-B7C3740FE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0FD5B45-D205-4CF0-957A-DEFC23F0411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2680B47-00C4-47A7-9C6C-895939EEC94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B203AA6-9DA3-439C-8EDD-4B6653D36E84}"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33B1874-C35A-4772-B31F-B52A67FA6C4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FFCFC85-B64F-4443-80DE-E6F6082DC55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A6939F4-9B23-47DC-B068-7E9DCB3D828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EC74272-18B3-4404-8AF4-1749DCF6A56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9D0CBB9-1DDC-4B01-97FE-69FFA25AE0D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9367D78-C84D-4FCC-B712-061375E2C0B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73168E3-07BA-4087-9017-38A7719BFB3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0E70-C4AE-4E9C-8E8E-3FA14953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97E5E-8423-43D5-B099-88D729BCA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1B3323B-35D3-4E0F-A863-FC786496885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2D2E03C-C92A-44BE-B20C-50672151CB5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D23C8FA-6F23-4BC3-8C09-D5E6B6A9538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E64EC12-A955-47FB-8D83-F82408FDA99D}"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1B31185-328A-4C68-8D19-8C35D647D72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48C90C93-F670-4978-942F-D643202C898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3441FFB-1A96-4314-B936-BDD90A0530B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4B94B92-C518-435D-BBAB-96C83ECCA31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BFE30B0-BC9F-46C5-B1B2-821D53DAF89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15E042EB-3A2B-4A72-8C26-451CC01E1F6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2956E-128C-43A2-9B79-224AB7A47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0CDB573-3D18-4B96-8F3C-B0CA047AACA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EFAA196-26E5-47A5-A262-9996E98EBDC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E5ACEBA-69E4-4C16-84E4-A206D379BCF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27ECA93-38E1-4593-AC77-4B7F8FCEE50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F7F935E-4FE4-498F-8A02-55D82041ABE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3E4C0D3-5A3A-4B26-ACB4-BCB7A3DE0E3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8261D40D-08C7-4AC3-91E6-692AF7B5CC8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C3CAB6CB-2E60-4B7F-960A-0C6E4B2F094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B8A8B8E-DB9C-48D6-8471-D51683C6057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159447A-5B84-4983-A6BB-F9E7AA183F5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F019D-811F-43A0-9BBE-C03C6C1B7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52A5536-CE0F-4651-B0F9-060284E745E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834E1B1-0AEA-41AE-B963-9D10096E991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501ADC8-37A2-4F5A-8C79-A540FDDBBD4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A7C5F77-C0D1-4C65-8416-0C03D56FE26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910D958-90C7-4492-95CD-C5602ADEDF7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05515C7-AEC7-475E-9C03-1DB4F30665D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641C8A1-39E1-4E8B-81B4-8B302A7B7ED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AD3175D-B0EB-481E-8D41-497D8D40433B}"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BD01B88-0F5E-4B8A-8908-FB620B1B2AE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C5AA0AF-503C-4192-8F34-B766347C9FCA}"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94F6D-F908-499E-8CB1-515684255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786B587-5362-4028-9629-43B09BBAA63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DF8322D-0EA2-44D2-876D-7D5B2561324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814157A-64B5-46C5-8013-D831D59EE11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DC73E18-B145-4656-B1B7-1C4254BE214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449C086-BC74-4207-AE91-67BA359BF6C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D835B11-5DBD-427D-B81B-D4B98C6F12F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324BBEC-22C0-4C70-B559-DE328B4746C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BE862DF-3A9C-4BDC-9BB8-7699BA59FE7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D002D38-D1A1-452F-BF0A-49E22EAC8A4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CA93564-3F83-4D0D-B7BF-162E4D440854}"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D12EC-ABC8-413C-92E6-C85185C09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0870CDBD-973B-4F46-A148-6610FE3F548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BF96103-A9CA-49EB-AD40-ED3227C47F6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2BDC65E-6A23-478D-A0BB-9066B058CC6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5A64204-764E-487A-BD25-0FC13A91D8F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515FCB5-2042-4318-B8DD-379561C7C11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54F7641-F5B4-4335-BFD3-DC6075ED1BD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FFE7B005-804F-44E9-9EA1-8820CB11BE7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1A8AA61-089F-4903-85A5-E682B0E57F2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8D77962-3693-493D-84AC-39B8EBA4B1E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3D2A48-B677-4F2F-AAE1-5E73C6533EC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19A3C-0885-4D9B-95C7-24AB53696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632173D-626D-4252-ABFE-8A01982F4A9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F2469667-009E-4367-8EA5-7F89D7DC89A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2C544EEA-BFC6-4C36-85C8-643EAA86151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5E3DB89-A003-45D7-A7AB-06B82533CBEC}"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773F36D-ED41-4C89-AE37-CEB5039DEC4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7D4CB43-C8E3-4C56-AF8A-7EC6AE783F6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8608304-0F52-49D6-9665-8F8998D0980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4BCF21B-96B5-4807-946F-752EDBB02E4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FCD95A2-3F5B-4971-A02D-CB638563B51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960C53B-229B-423B-99F9-583A946E807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60B36-7C97-484F-885E-9A14CE397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4CC2C24-6CF0-4BB3-B6F1-900D21816F5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1E5CE0F-A20D-4FDB-B562-D8347FBE46B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90569B1-530D-441C-94DC-AF2B5670AFB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2028573-8627-4165-A04F-7E8D7CB96BF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724A2841-7075-4E2D-AA72-D809BF23364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FA9228B-5AEA-4E5B-84DC-C3E0B518ABA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CE0AC30-6398-42B6-852C-0ED22EBA8B6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8BC1259-4341-40F6-9CD4-8ED337346E2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FE4CD0B-51D2-4E69-8E27-87C46FE9DAC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FF6F545-9CBF-4095-BB64-E5F39CE79E4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1C515-5426-47E3-BD32-C164BFDAB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7809F30-43FF-4C85-B15A-E90F1F606CF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3ED8F6A-963F-4953-9852-4E47C551EBE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BF87991-3472-47EF-9223-85CE7B774DD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29FF2A0-9425-45DA-8323-C3DFF050C8E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146E465-E0DC-4000-95F6-E7F94F865A4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8391E6E-BD7F-45B1-A9B3-2285D858995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983A657-BE3B-4D03-A372-6A07728BD0D4}"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E671FE97-3020-4191-9992-662A535445A4}"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63F2194-5CB9-4B90-A766-252E38873B6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FCC06D8-7D71-41ED-9782-E42757A52038}"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3885C-24DC-4008-9FB3-1394B77BC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A662997-30C6-4ADD-8785-3AAE33E0812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56298F5F-3CBC-41FD-AAC0-D67D86FBA92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DFC2A64B-A8D4-4BCF-90E3-E6B88914365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A07A500-C8B7-4610-B108-DF5819B85D5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299E612-72C9-45F8-BA30-9C55579FE9F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A947F6C-ED87-4202-A5BE-E3006760410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C06475E-F06A-4861-8DD5-BBC544694E60}"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903AC1FC-8792-4701-821C-AFA76030CCE3}"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CE5BFAED-A3F5-4A46-BAE2-2D8ADCE56B96}"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8748BE18-CE4D-4D9D-9D70-F54127484002}"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AF985-2FA4-4DA5-BDF8-B7E729F10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93423C0-657C-4915-9538-14347B902BD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E910B75-C715-43E1-B138-04236458362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DC349E1-B8B7-4BA9-A65C-7C62F6765D9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984BEBA5-E732-4C16-9C81-EC20A8B37CF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1FD7FAB-C4EF-47C4-A5C3-699F2FC37A86}"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C8F1214-E64B-44CC-91E0-E4A25D19F27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7A86BF8-A4D2-4B02-9D29-97DB1091D65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AEEB5E1-90B3-41D5-84B4-52E5EEED1F4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64EB798-B57D-4F69-A3A0-2D0DC08344EE}"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6FDCF295-E9E8-4D93-978E-E2C57CF69CF5}"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EECA3-BE14-4CDA-8CAE-BB10EFB9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B12A04-E422-4C1C-9E00-9D4A195AC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52753242-746A-48E4-83F8-ED2BD6284C6C}"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21F4594A-7D27-4066-BBE9-DD27EE37BD9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6D50311-77B9-45FB-ACF9-F0ABA13D3F9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0D204CB2-656C-4315-A86D-CD4BD550481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7E2758B-1A0C-4C3C-9A83-E3B80F17EC3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255C5231-707B-4223-B34E-C86C19923D8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6189008-44D2-4406-9B44-43326BE5340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29C1EF4-EE50-455C-BDA0-A87B373BD60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0CF35BD-6A02-473A-A1BB-2999A580DFC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F42CD6D-DA3C-49D9-867E-1819B3C5AB8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56C7EF-3243-41DF-81B5-19CD031809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0C5BB3C3-BA76-42B4-8CC3-11102424D68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3F1EB28-DDF2-4E5F-A396-A22EA34FAFCD}"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39529EB6-1567-4E12-8749-F5FE00C6717F}"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7F33B832-649B-48AB-8E10-8FC815E30D19}"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5E48800-FB45-4439-8D37-4660B5A2647F}"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B48C34E-FB93-4A86-B708-2597A769CE2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ED3DCE12-BBA7-431F-B475-12C872863FE5}"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88577CE-DDCE-4656-A04F-A6AA4307C9D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0AA9ABE-D7BC-44FB-A607-06318AB2979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462F9DB-BCE3-4357-BD9B-25492491853B}"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5B52C-7F51-4C23-9A42-76373D736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3FE31DE-9D6E-4A44-B929-ADD284925FB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19529BF-F006-4BA4-B7D1-3881E18681F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AA450D9-3C2B-4F3D-A934-DAB6AD8D34F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67A6474-05AB-4352-9FD8-C9EB942B88F8}"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6909BD63-616F-4B1C-A3E4-51851C656D2D}"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83B562A-B6BA-4002-96A5-325450AA597D}"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9415BECF-5B63-4C00-8D52-4B3BC89BE5C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C9F02CB-B164-4F5D-B83A-E272E18FE127}"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902D711-7B4B-41DE-9595-FF449975AA5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EF7B7D7-2C97-4ADE-91AC-4E2A72F24EB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04531E-429C-4738-9E88-5B865AB2F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B19F2671-4B4B-41AC-8CD4-8E74E9911D80}"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A9712D9-DD19-41E2-9001-224AA2928AD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9903EE8-E54E-4366-B019-5695EF89F77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016273F-471E-420F-B260-173D5DB16C2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09488C30-5CDB-4D2D-8E7E-93E5C333887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491E71F7-1B64-42B0-A694-48F776ED4180}"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93DDF413-DF7D-4AF7-9165-5DF44DE82379}"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11E37F7B-63BE-4E1F-8E69-63156301C96A}"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AB45F766-3980-4C19-9DE1-3E72D664C234}"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F104D630-50B4-4147-B24F-BC4DB2173E29}"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9DA02-890E-431D-9828-05F7CE5A1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1B6ABBB-8E77-42C9-9E70-14A1FE756D3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40957942-605B-4855-A96A-1B972B93EB2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8FF7D2E-ACDA-4AF0-80C7-2B01C997457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661E1E3-9DEB-4A6D-AEA0-8B302C94242F}"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B01688C-613D-4683-A57C-54DDC77846E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05EBD08-692A-4782-9729-1107E26EC20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BE4ECEB2-5CC2-48CB-8E8D-D9A5D9EDD731}"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F3BC1CFE-43F6-49F8-8945-0E20A2AD3869}"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A9C972F1-CB42-46F2-958B-CDEE6B4A69E2}"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91B8A47B-9758-4EC6-AB67-956EBF715FC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A54BC-1EC0-4046-97DA-DF09F7ABD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969FF1BE-53A0-4846-80E0-88AB50E00B3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7CF8FCB-0814-47A6-9C7E-FA8A7418F6C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2D46C98-5EA1-4E47-8561-0756930DF6A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A053FADF-9016-44A6-8ABE-6071A025FEB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BD47DA5-01EB-4CDB-AA79-A0BBBE7BC35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623B6FE-8969-4093-97C7-EB8EF0C46BA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83DFE4D-4924-462E-8CED-04C2F95AA48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4B541FC-23E4-4CEA-BA34-C2C35C37A96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D3584FD-39AD-43BC-A99B-943D32459F9B}"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5C1B619D-F89C-4972-A782-6AE4DCBD9468}"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F1265-FCA6-45CE-8DF7-C4E9472EA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C355F059-52C9-4F69-A3FD-56C31B29A725}"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0D2421E1-CA47-4ACD-9FB5-FD10253D232C}"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53446B0-0835-4C4D-97F6-427A4B4DD625}"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93C468B4-8C3B-4615-B966-3C2E64F0A03E}"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36F33F7-C2D3-44A3-9816-903A979582E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C658F42-EB6A-4177-9197-4F88FD5319B2}"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24B1B6C-A791-485D-A876-FF536DBFA062}"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9AD098AC-59BD-4132-969F-5117997DDBA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0D8950C-61FC-4804-A181-B55F6556EE8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3344772-85A8-47DC-8CD3-DB0D1D8E7CA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82A02-835E-4E73-8EFB-7C201A73F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0282E3F-D058-495C-905F-3C6D4ED884A0}"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2A1F4BB7-E27D-4835-9CEA-9669DE56F017}"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984204B8-AA0A-4D83-82B9-59D65C752625}"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B7493EB4-E763-406C-BECB-C0F062CFAEBC}"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A548B135-071F-49B9-B889-555DBA047D6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BF3178F-C94A-4A14-852F-C2D4BCE54547}"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086C3C6-E36A-4425-87A3-5009B4D7AF8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7F023D19-A8A3-4B9E-8687-EC82427D531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5DE53C03-DF96-4603-93D3-FE5B909EFC02}"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B37EA6F-B80D-453A-8E6E-04114B688A8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1F4EF-E34F-41BD-B865-18E9E5555F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DEAF5E4-9AAD-4EBC-958C-C84829FB6301}"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CA24F36-DD1E-4506-BFC2-DDC94C2A12B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1801DFBC-446E-415E-AD72-77C093B18314}"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3358902F-F0C9-4242-AD7C-EF23B6A97699}"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71584416-5888-4212-AC82-163B8BED68AB}"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57C788CD-1604-4C13-B0D1-CBAC877F5AFD}"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31CA398F-4CA0-4FF0-8419-B810A7446464}"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BFBE202B-7A85-4AEA-845D-81B0FA31D4F7}"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6A53107B-BA27-4035-8F66-3526F0307D92}"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69337E57-7D63-4EFE-A4FB-5C694425745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C14DB-0642-4653-B110-15F2240F2B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CAB33313-2108-4061-BA48-ABE1E0133C63}"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7882D6C-ED1E-4DD1-84FB-1D7DC9DAC9E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2FE63C3B-DAF8-45DF-91CD-1D13EC631C4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620D624-B7C4-4169-8D2D-F039AA37D68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E9BD20A-7F5D-4110-8323-3D7BCF0585C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7E83DEA2-4630-4BBA-B55F-E4A3F7E8705F}"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662476EE-59F1-4641-B3FB-38FE6A9368ED}"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68094DEB-E2C9-43F8-9A98-FAF0246AC984}"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B48F8350-8E3C-48C9-A13A-0577C5EC436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017D1BA7-D536-4BCD-BA03-20FCD505ED8B}"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C4B5-5856-4B64-8970-CF92B09D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14D42-5479-428A-AE2F-C42774AEC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7337B91-D1B3-41DD-9D77-981B8A708AFE}"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A64F500-7AC9-4660-AC55-B4F36EADB509}"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50D69929-C8F1-4E97-8921-EC085B911BD6}"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9FA3D25-BE70-4ACE-B559-B67632F181D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48ABBFC8-11EB-4025-B151-7C467017FBA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BCD1D1C-4341-4338-B67A-9AD44A0A17CB}"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5A6AC873-D9D3-475E-8FD8-75E7C01FB25F}"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E9D069F9-F23E-4D45-A22E-8AA3BB2A0012}"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6E190BF9-FA2F-43A5-A497-4D4C37776693}"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B8B4A4B7-7D6F-4341-BE65-2558C34737A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09C95-F706-4052-AF07-9BA41A5E8A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61BB2842-F73E-4283-95E9-3B1D63E57106}"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1932EFD-3476-4BC6-AB0C-438C0132BCEE}"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C48E7594-D949-4C98-9482-27454DE78C26}"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1B18D4F6-47F8-4B0C-9F33-83EDADD6966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B935D15B-086F-4D13-86D3-9AE830D76973}"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254B2C0-85AE-4A28-B855-EDE0F22329A1}"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9FC0B6D-AFBF-4766-989A-8AFECD86898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AEEAFBC0-5B96-48EB-9120-3A2F2F8C962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74F18046-2307-4517-9DB8-181E759A72F7}"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AA726E26-DE38-49B1-A87E-F345C4A8BE2E}"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A3E341-EAF7-4319-8E8D-4CB1732B6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507C1707-EB6E-4F14-A764-D9B888E4D4AE}"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966BA5BC-5EFA-4678-BCCE-B0FC92BF28A6}"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EE0683BF-C90A-404F-86B6-FC0D856A2169}"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30683112-1800-4D73-BAAE-8CD6D4CD21A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92097202-D94E-4812-97E0-FECD4DFE2F53}"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21FFD3B5-7F6A-4190-9C62-7D846C80312A}"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8EF378B3-620A-49EC-8B07-10B6E3A109C1}"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3F81832-DF2E-4B3F-9FD7-75A91DC2E17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3C193B9-D8E7-46F8-8FBB-D62EDCFB792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1F117AD-EDF9-4D93-8213-D63CCD4AA3F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665E72-7AF2-446F-A666-F0ACB95693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BB2FFB48-D2CE-4D19-8195-95F9D8F0CADC}"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358BF108-9B73-484C-A032-315973F4776F}"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50B9F23-CE5F-4CDD-BA3A-B7B3888680E9}"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3A840E70-6390-483B-9A46-3A72804FF26A}"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1DAF2A48-3111-4C27-954D-34785C5A792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C82A16CC-8593-4FA3-93B4-25AE90653E2B}"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9F2B67B-C60D-4E77-84E0-73C17F27B487}"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7F44E76-C61B-4D36-9B80-E1ADFED4D7D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43CAE540-7104-4E7F-8940-E1F0031DFB62}"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48694BED-8122-4D13-B4DE-5E2663868288}"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E92E93-F7EC-4788-9656-ABFAF2093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140D437-8364-42CC-BCBE-F6F83A6CE53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7402F0E6-13C4-47D6-9032-257E0AC9F0E7}"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92462869-D12B-43A4-9502-B94E839D7AF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C27925A8-DD1D-4902-8BEF-3F7DDD5AF131}"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1C42E5D4-5ECF-4822-8CC9-98DB029CEBFC}"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15AE582A-CD08-4237-B0F2-CE0A7207128E}"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46088E7-074B-420C-902C-20860504550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7C13027-B83E-4971-B2CC-A484C596C9A7}"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345E5773-2144-420F-BA68-2ACD4A6609B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EC1337DA-3819-4CCF-8A7A-7C26AE14252E}"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6600D-17B3-4140-8C00-E80C6194A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C657ADA1-C507-4C2A-B0BD-61914A3B7244}"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F595CB59-A83A-4884-B5D2-E96A8F53E5A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D13B2E13-6243-49EF-8FBA-DFE6AC01C3F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904B84A4-15CC-4266-B7B3-CDD977684CB2}"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D09B34A8-47F7-478C-8FEC-BAFED0766C3A}"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C8E94C91-F888-422D-AA52-26E65ED38174}"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DCDF21C7-7F47-43DF-9CA6-244238DF4DEF}"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50B2000E-D967-460C-9303-2DA8B1F78BCD}"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FEB1E0E2-A2F5-4D4C-854E-1EE996D193F7}"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2B51945-6736-46F1-B0FB-B4D058C43EF1}"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0B792-71CE-4C2D-96B6-F33B3BB77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97E7EB07-5101-4811-B16D-E2718AA7B480}"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2B77A111-5E40-4B09-80FB-8287F6E2B36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A3E87522-692E-4B37-8A68-89AD774DA217}"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7FE7D57-02F5-483D-8417-A5A1A60EF02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15C2213-FF57-4741-B291-0CFDA083EBB9}"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16754B1-192F-4CFC-8B9B-4A3F370DEC2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AA70F1B5-0911-4A1A-9274-5C1A0E58CE80}"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C609770F-917D-4FED-A053-64C222A75A18}"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95A6B25C-26AB-4010-B72C-7795DA4FB8D4}"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D9DD6E7C-6B84-4917-9C96-3B65BCC7EBB6}"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B64932-8BB2-47E5-8C45-3C7CAA979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C8F43AE5-9928-4BC3-930F-2586BC944C4D}"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2CDDEB42-5BB1-4F5D-954C-AC4736B2A87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032BB6A-E763-4299-AD66-BDDD3724EA5C}"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D99FC83-C0A5-4E4A-AAE8-D34997DF7C52}"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ED2FA1DD-98DF-4D37-AE75-4A86A47AB000}"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41D25EB8-B977-4CB8-A5B5-E273FE6AC53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91F28E0-2135-4A1E-AF02-00463B122062}"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DE3C604-2353-4CAB-840E-7ECDA964980F}"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724199E-5D7C-499B-8E17-5654C5E3F6BF}"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A878AF47-3261-4572-9BF3-4BE842B26249}"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644CD-A8CE-42BB-A964-01B3A57BA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7A741442-E868-40B4-ABC9-E6CADCF9EB7D}"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35C6C4BD-23C6-4B5B-A12C-FF02A49028C3}"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C226DB6-1BC4-4AB1-B095-E8C597A7674A}"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93A24031-CB2D-4963-A1D7-36179571C077}"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10B5315-4026-4E12-AB6B-AC5469944101}"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852F689-DF1C-45B7-BEF9-52F666C33C9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164DDED-993A-4FCF-A48C-8CC32FAAA7FD}"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81196D86-EE3C-4D4B-B4DB-19E6D5273C10}"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4A339CB-6729-439E-A46E-6433AEAE63F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6A3B619-F76D-4D96-A44B-82537754E40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38EDD-D857-4A98-AE91-77B61BACE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F5186A1-4D52-4C43-A9E3-42214FA4C18F}"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281F03BC-66F8-4B9E-A2AE-5F5BDADAFFF8}"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6C1930DE-C766-4B18-88D6-B6A1D7F2DAA8}"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7EB9EB50-B4F8-4DE3-8D65-5F926E9CC02C}"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EC7F320-D530-428B-A665-A49DF1F24E59}"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A4646209-5BDE-4D02-B670-9C9D4DC2C448}"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5260BD2C-C256-43A4-BAB3-4EB24C9BB722}"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44C5BD52-AB4E-4144-A2FA-FC68545B563F}"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A74BE945-B057-41D0-A43E-C019C4BF5283}"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69A916B-45F3-40D4-8B28-3C5D2EB06859}"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60D89-866D-46ED-A751-1161C628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4148D-F03F-4FE1-8912-7F86D1E27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9BA1847-222B-4CFB-A6CB-EA6ACC92843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8CE1E70-DA81-4345-B13D-30739087BFF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45FA0957-441A-455B-9799-D2180EE5EE9A}"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F22365D1-33FF-4724-B977-8D58FC0330AF}"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33453016-FF77-4CDD-BD23-0EDD689111C0}"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932DC5B7-DBAD-4F31-8F2D-66EF2EEA39DF}"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C6290BF9-279B-49CF-AA23-B1FB15C6F81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D31AC42-A512-41CC-B05E-C4D573502516}"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AA36F8F1-984F-415E-B1A6-CDF35FF77436}"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479B5B6F-2534-4ECF-94F3-22BFBFDFE2D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4F94D-A043-4BCA-8FCC-4096667E1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AF5067FE-A0B2-4E7C-92D9-50621499F4B4}"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329BC1C0-3F0D-4B13-92F4-3BF18903718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6F04564-C772-4C9D-ACE0-6A347317C6FB}"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DA6893EC-70D1-416D-BDC9-D18770A24376}"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57E89ADA-583F-4C77-85A9-04DD03290EEB}"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14149C07-123E-42CD-A64B-C9CC4AE9F2D6}"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1BB72768-CE54-49AF-95E0-39C2FFD4E7A7}"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98C9FC7E-5786-427C-9353-7953479E24F0}"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5A7134BD-B108-49ED-B68C-3E3D06F69FFC}"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0C21F8B1-D067-4D22-836B-6C87171A9D47}"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678DDA-7093-4BD2-9CDB-677C11F38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4AE7B3B-F807-4672-9064-78EF77E7997B}"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28BC5ED0-9E60-4A3C-B221-5F701E7B4540}"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473FD5B7-462A-40D1-860A-AF3699EAFF2F}"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31BDAB31-F03E-444E-B3F8-157FE9B5AE2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02635F7-A239-48FF-96B4-F17C50906DD9}"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0B40268-2E23-465C-996A-9C56D81C1050}"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AAE76C64-0E0E-4324-945F-A0970C7F793F}"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79E18A33-767F-400F-A6E6-F85091ACA5E0}"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306125C7-8774-48B5-A465-63D3C779A109}"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F8D15243-7399-4F6C-95EB-C914609E784B}"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715A43-2D41-4013-ADBF-9337569EF7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CB74FFFD-1B78-48D3-94EB-27D97CBB0A41}"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83A6C0A6-5883-4126-9294-22C0060B227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A2273FC2-B6DA-4174-9FC5-FA7C6C9ECD91}"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1E2ED4B0-1E68-4CF2-A53A-F7BDD3FC1868}"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0A0A5609-FC29-414F-9D50-94785BAF822E}"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CB7648E2-122E-40DA-A295-1C84034B9BF7}"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8C9C7D5-F472-431C-965D-C686B867F972}"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5F8C264-9F9B-4C07-B579-BCF111CF1BE2}"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3E8D0A4-8604-4AB6-9E96-C4C243B5FE19}"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2E2E0CDA-CA8B-41A3-A9F9-0AF58A77D920}"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E197D-F0BD-4C15-990C-41DCFA627B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AB9278A4-3086-416D-B0C3-7F843221FD94}"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2CB36418-AF3A-4C1D-8A6D-98B417C4011E}"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AE18B6D-E14A-43E7-BE49-BC5FAC389E8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8B834184-808F-4266-9DFC-D89370AB1361}"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C8E4CD84-CA80-415E-98B2-32140062CB06}"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AAE22084-F52E-4E9E-834D-C9D55A45A25E}"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E096EED8-53F5-4576-AFAE-9822653108D2}"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8A0F644-44FF-45C1-BD2B-45FE0FE0C694}"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471C898-3471-48E7-8E3E-43C6CCD64D7E}"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95AC80EE-B8B3-484D-BF55-AFAC1E53794A}"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C03503-3791-4F08-B0A4-0176447A1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72F606D5-DF91-4903-BAEF-DDBD9ED05350}"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76076E67-8FC2-44C7-B9FE-45FB0C671B7F}"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AFD5DD16-5E26-448D-A668-7065E31ECF81}"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D04E7C61-E4D0-4875-B91A-A1DA0C79D443}"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3F5260C0-6E11-4D03-9B6E-128AD81D6623}"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D6E11BA3-F643-43AB-9747-D40AB9B2B936}"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52C614BA-6787-42E5-99B0-D28FE55B18C5}"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63112656-187C-41A3-B4B0-483400BF571E}"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026683DC-A553-489D-80E8-766070885C25}"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04BA25FC-7C3D-4CC9-9C80-6EAEFAC4513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3F23E-936F-4A06-9CB0-2FB77B720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F970E0B3-3402-438E-800D-469C909522CC}"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58F94BAD-BEC7-401E-A328-F187242A732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E4F4F9BF-D64A-427F-BCED-AF038183B93E}"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1BA00794-7F50-4BE5-BB39-DA0A529FA971}"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B38360EF-6895-4F89-9321-75BE12488A55}"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8B55AD40-FF3D-4677-9481-39ACCF9CC6CE}"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2B3B1998-3767-441A-8A66-ED3EC42FE3A3}"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43F307DD-23FF-4834-A3F5-BCDAC07B63B8}"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4B84F2BC-2930-457C-A23B-FB3AFCB7374A}"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236AD75C-C09D-4250-999C-2F5E6361B751}"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B7EBC-D689-489D-B782-6F3E59007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36A1BD5D-8CA2-43B8-AEC6-2EC5C796A16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3DC31AB9-68B5-43A4-B277-BEFE9D6A30C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EADE0822-6F7B-4342-B059-371CA4F70C2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DF52432-BE09-4CD3-87D9-F83B4C1EF8D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05392E24-F5CB-4F74-8C98-1D9897A4CE5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02362FF5-C637-4D85-B4DC-17F13BFC7F3A}"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E8A63771-6A0C-45E0-B8DD-C3A6CF39FA38}"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E36FA1D5-BE7E-47B0-A653-DA7B6E62FBA5}"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8E1B75C1-9CC4-4725-8B30-7C1B5E9981E8}"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2D360429-2030-4C68-BA60-869512BA5DB1}"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20C8AC-96B9-4BF9-8A4D-DB830BC550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BE50060D-DEB8-4660-8972-04CD064C9B57}"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1FFC7217-767A-4E6B-9795-EC3E3B403B10}"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E3C29F4-B641-4ADA-A0D7-365B82B02360}"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C03F42E9-AFD6-4B7B-B155-5C70969BD331}"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88CBDD2-EEAC-4D0D-9F47-9BC48736F6BC}"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A008941-C961-4645-A0D8-DBCA024EA274}"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C3F603EB-1C99-4EED-B9E5-B0103ABFC7A3}"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9E33FDB6-02E1-44DE-AB64-33AC8EBEE46D}"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DE34E6CF-9F3E-4BFF-BE96-466590FDB5E0}"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A835E23A-C82C-4E33-8EF1-9E34C90D4287}"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CFAFCE-7AE3-49D1-997D-F628A30B5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D80C8B4B-0C95-4748-9517-84B39783C38F}"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C84AE924-C28E-4F62-B282-89C547CF5227}"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62CE9026-1164-4B65-8035-4FFE669D59AC}"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F13C0BD1-01C8-44E4-A425-542F6C84ED31}"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8969F0EF-BB97-46B4-AD50-969554EBA377}"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D457B207-0DC6-44A7-806C-6A40BE92FF2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82CB78ED-84BA-4CB2-B455-C94763A82986}"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1AE1FB6-32C8-422B-8932-04F0B3193208}"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20D7A76F-4CE9-4A6F-A640-E10A58EB972C}"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9661F455-1F35-46C2-91F7-6272BE1A70A6}"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8C96-DDB0-4F82-8870-35BEE4D9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0C8C7-C3C0-421B-8633-2548E4A81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803A4EFC-5038-419D-9F2B-0BBB186A7022}"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A335B-0F37-4383-B75F-A90A2C87B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DD272-2DDD-4E70-B122-D61530CE1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4F355C-386A-47F5-9C7D-59C6C0BA5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AD6C8-1B51-44E1-BE69-4EC39140F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830B69-D4DF-40D6-ABB6-989237C97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C8A473-BE76-495F-B82D-E1C3A042B3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036577-C5FA-4DFD-9CA2-6A12C356EE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A7386-DC19-417D-A0DD-76892DCDDA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B4E5A-E930-4561-BB07-3169F0FEAE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7752-2F31-4D78-A844-9D2E4BA6053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B2F7-194E-479B-A792-2C3EE4ABE60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B0C7-0DF7-4A58-BE2E-A365EE17A52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AA60-2E87-4F86-A8A8-0CA19C06805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E1B5-83DB-4470-92E2-C255507B842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E6FF-DC90-4C89-BEEF-D9CDB0563D4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F21F-25E2-4247-9CB3-A5803DFA677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C573-2DEB-4BFA-BF70-EB02396AB97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94D6-1820-41AA-8ADC-4A94FB7A7B5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D717-0E43-4FB2-8878-28CEEA8DE32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82C4-C062-4D59-AE7B-696F11F284B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AC62-96C3-4E45-B162-A490297D2CB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16CD-D86C-42BB-AFB7-61DE906C26D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815E-B31D-4FC9-A464-5658E076CEA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8FDE-7150-4FA2-B19E-B569D94B883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9264-BABC-4281-B077-AD331F13AF9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E11E-2D23-453E-BFB4-817BD31AB0A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F0E6-983C-49CB-9B0D-2E127F045CA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CB5D-3671-4BB4-B838-EC2B9B8178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E44E-8256-414C-B885-6091B20D84F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A584-72C3-4837-88FF-361404BB4FC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569C-436F-49CE-8EB7-273C94D8C16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B3D9-0763-453C-90A6-5CD5002D3E9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B58E-A1E4-4959-9EBB-E60EC00F97B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34CD-3C45-4831-B4EF-6EE7B089FE66}"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CFE6-AD4C-4B9A-9CF3-09ABE9CF6DB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57F3-EDC3-4B45-8CB1-D8317A64A9C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5CB7-5302-44C2-A26C-3C40912C3E0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08FF-3ACE-4D0F-B46A-38D29ED3D0A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8A2A-7DEF-42B1-A1EB-5089028FB42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7BCF-9216-4FBB-BD0C-207151A7B1A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90CF-56FD-492F-89EE-2FDE05F966C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732C-AB9B-4BD3-BFEA-36B9DE5859E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FE68-158D-478C-89CE-4F418F0DD7D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6257-5E4E-4901-A5F2-FA5EF607562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D9A1-1EA7-47D9-80B4-B9DF6BCB3C9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F35C-97CE-4E4D-82BC-3C937D86ADD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DF00-7A08-41CB-906C-D72AC51DF79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6D75-27D4-4D4C-A3D7-66B8DC92CFA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F1C1-C35C-4ECD-BFB4-77D5E8F9F89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708B-A37D-421C-BE1F-A2D5BDAC22F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9A4E-FA0B-4B8A-92FD-A903A024472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80E-8202-40A3-A87B-688B4238AA0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E625-2592-4133-9C17-1B5F53C1DED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3127-74C3-466D-B9FB-30346118AB7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644A-3ED8-4D6C-9E32-59AEFA4D53F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8286-DC60-4912-B5E5-D10411CC538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5BB5-0DCD-48E9-AB9F-D0FFEEBF125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0F58-13FD-495F-83D5-A61296E437B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8405-BFA5-4594-8975-CB71FB4C40F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844C-6829-48AB-AF88-7A7EFDE052A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81C8-AB05-4CE3-831E-086286D2478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97B79-90A5-42DB-9223-C72EFFB3306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8C7E-D720-4FDF-A08E-2C52CF4E0AE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C6F9-727A-4399-A50C-16EE2DAD237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B2C5-9203-4897-988E-D5472229BDC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C435-AA9A-4B43-A2CF-075D921720B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5CBF-908C-4249-81B8-9A050322AED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8864-552A-4084-9D5B-3FB319A4E84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14AF-4CA9-42FF-ACC9-5845B3914ED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BB04-7F66-4D46-931E-9805D48E60F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138C-E307-4DB7-A2A8-5CF9432FFFD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766B-71C1-402B-8DF1-186FA8B81FA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F596-B777-403F-B697-20F280ECD42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02A1-A865-4753-B953-43DBF505D1A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1EFC-4499-43F4-A7D7-8B3766A3AC7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345F-C1F4-4BBF-90B6-E7E87AFEF7C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E4B1-2523-4CD5-ABDD-B6FDFF3C3E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36BE-77F7-42F1-8A58-3BA5AD63451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9795-488B-4CC7-9139-D1A0AE87F3A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9FF1-DC7B-46CD-A1DB-570CF63C109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ADFA-B236-4BF0-AD19-7754BC41ED6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97F4-8F5A-4AFB-86D5-0FBE8EE682B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9C27-1987-488F-A06F-2F5454A7120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477A-3A39-41BD-B658-FC9C64DAF7D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