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85F6-6379-4A81-A101-E1CA440E3BB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49B7-9A99-44E2-9797-6B51DAA0991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12FF-3DDF-46F5-A339-213C3532F5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8283A-0416-4106-AAE4-133899AE70B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B608-A599-4D60-913C-B252B45594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517A-54AC-41FF-A45C-38A252BEA0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8FA6-B484-45BD-A5A1-A9CC4CB1BD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6EF7-80B6-4AB2-9CC5-6827103C0F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3065-FEA3-4269-82FD-5D0CF65CC35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42F0-A3C5-4467-941B-0A269960A4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5102A-5F38-4DFF-8573-485D6E91246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0359-B960-4DC7-A30A-7E43310011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2A0E-E292-40D0-A9CE-E8DBAD42CA9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948B-16AC-40EB-8002-3957431703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591C-0A65-4D04-A641-DC45CE275E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9A8A-9162-4D36-9519-2AC79DA181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FBCC-F734-427B-870B-A4598D0386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E927D-94D5-45AE-BBC1-607AEDFB81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25F1-886E-4183-90CD-CF2D389A460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4407-7CA3-4A6E-B683-D50D28613C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D644-40BC-4C56-AD9D-734AB2538D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11D72-B232-491B-BBA3-86BA337958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99EC-3E4D-4FEE-B83B-582316C4F0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7623-9CA3-49FD-BA4B-1E0DFE1CE1C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B18B3-0D8A-4A85-9334-B8FE0FE5F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1BCF0-A7CC-4C08-B778-FF607C3B2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EB601A-68A2-427E-ACC5-E4E247076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57CF1D-F954-4032-AF3B-EBB4380FEE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EAAE47-D62A-4A07-9318-B03168CFE9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28FFE-D2F5-479D-9484-135FA5492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9013B7-E7E6-471C-A4A7-82E3E0D461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3A0C1A-8EEC-49D7-8A55-0E6C21FBD7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DE2A6D-88CE-4081-B269-BBBFFD33CC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A7778B-AEF0-42D4-8FD9-595C4D5597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C6AEE1-D2E2-4533-8C6D-56E1E3D467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6B1426-E5ED-49FC-A13E-5115CA4B8E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7BA46-884A-4CC9-9835-3CA92EC6E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A13BA5-7050-46B8-98AF-E6213327CC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FA3535-EF0A-4C65-A1BB-E2E063EBF3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75D64E-61C1-48BF-A42F-74C5E4E1A2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A29C4A-D787-45DC-A444-3E7615231CB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493797-537C-41B8-92C1-C96CB51647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1C2BC6-25B6-4FD9-9492-C1DF84DCF2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6310E0-720B-492A-A967-31E0CB9D4D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C0834D-0A78-43B1-B13A-2D5BDD3CA3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286A60E-9632-4D3E-B6CC-8C3115189B4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A7DBA8-7B33-454E-A85B-D50143A8DF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8CF16-1A1F-41A3-88CB-13BF7D16E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CE9B98-EB65-4944-887B-82138BCEB5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7A5BEE-F48A-4519-8A6F-CCF2251DE6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79C71D-40E2-4EE1-B6E5-A64896DF7C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CE92BB-0772-4403-A451-F46D2D80D5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76070E-E42C-4150-84C6-BFDB7654B6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D8D6A4-EC06-4C79-A0C0-29C309B4FF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437B61-CF21-4299-AF49-A8007D5E7E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D2E571-FB81-43D7-B4D6-25C817C463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BD445A-0A72-4A30-B196-099DECF19B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7F3053-35D7-47F8-8524-3623023D81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03884-2EE9-42E5-BDA7-FF5C1F35A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4F59E6-139F-4FB7-AF9D-07A9C0A18F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299048-8821-4F17-8CB1-A12CD00477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4A3674-FA2A-4C10-81A8-86A9AE33CF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23C70B-8DFC-4374-9BB2-D6172E126D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63EEB1-D637-4F45-BA1D-AA98869542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E34720-7B82-4183-B777-F0B92494A1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391463-F819-4312-A991-F65AC438B5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59E4C8-E38E-4D83-BBE5-064747E5F3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3EF634-0102-47B1-8073-E30EE7336B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E408A4-E3AC-4572-AD99-484F03EEF7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5F1A3-05E8-4C42-BC51-3818C8882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EE1DA-FD8F-4171-AED4-CC2A4B65CE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07DCB7-2FCC-461B-92AB-65FB69CC13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C584E7-AB80-49AC-A81F-3507188383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5E9462-D779-429B-A2F0-43DE7997FB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A6100F-A295-4A82-99A0-4C578A95A1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8AB576-9D5B-4021-A802-E68F8A2CBEF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28157A-80E7-4E91-AC25-A0B2A1FF2F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544503-F67F-4944-A20C-3769ACF692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38F454B-B551-493D-8FAA-9F46B54464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444A72-9FCF-41B2-B794-7E0B3EC9B2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21FDC-A33F-4F4D-9542-BE7847AFD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E29011-1040-4B06-8A0E-2B305C9B02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07A7B86-F59A-42D7-BFBF-22267CE6D6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FF4CB40-61E1-4C9E-B9C2-04B620A984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9E5E12-4567-4E54-B7ED-859D045DA9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E137F9-1F8C-471F-B603-E8858D7A04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DD0BD18-0620-4771-87B4-706A900A70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0C9BF1D-BEF7-4824-B29F-7029036F24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8151D1D-8612-44E8-BE7D-AC10D1EE77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1035A3-12C3-480B-9E8B-6EEB1FF472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682921-D3BD-4A99-9148-12DD7AD939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F5709-7388-48E1-BC6B-EA571DA76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7865BC8-483E-4AC9-99B3-711A76B10C8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261713-71BF-4E66-9D31-064C4ABDA0A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00109D-9CDC-40B5-811A-C71485D927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9504E1-9D3A-4524-8678-DDCC32B50F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EC5206-A8CE-4F07-9F82-E1E0183B91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009AD7-041B-49ED-ABB2-67FBF33DCC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E72C40-37AB-4C9D-81FC-6A23582E55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4F01CC-6430-4AD7-AB8F-80EA7CA166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65DD01-9B96-4E69-A6FE-5E73BEE222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55C9DFE-7D23-4331-9826-2B4456C69DC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12F1C-A396-40E8-842E-21A1E280C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C4670C-FCC7-46B0-854B-D6770733AF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37019E-C284-49A2-AEDB-3A065CA768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F86D1C-34B5-44C3-9064-81F84017B7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3AB076-8416-43B1-B167-B71EC38CED0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3DCDDC-70D1-4B56-A3B2-999E3523AA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F8CDF5-DF47-4DC4-A4B4-F0EAD714AB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F35CD4-FBEE-4289-9CE4-9431FF1E209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FD136A0-870A-44D3-BA7D-9D49B7702A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759A59-073A-4CC3-A2C7-53E56EEF05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FBD8C0A-CAB1-43E4-A3B6-765BB142D1F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53B97-476A-40A3-B26A-8F6F8662B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3559AE4-2C67-420A-8CDF-5DBE70024EA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3F63821-FD96-4C9C-A5E8-F1BF8B4B1A9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907D48-144F-49A6-BEEB-D1C3570CD1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D503875-407E-4A04-A973-0C1D2A5AB0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FD26F5C-4948-45A2-9827-4EFB1CFC42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AFAC2F-7462-4324-B08C-90E6A8A8F5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B794CF8-F910-4CB1-B0AB-80EDACF7FA6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80DF04-1FEC-444D-A9AA-1F5A66A006C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E5F12C-E740-4B27-8BE0-7B40794D83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CC1AE8-81F7-4897-A975-97B879DD27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98DCE-D74E-48AD-BB2A-77C5E83A2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0FC5AA-1E48-4016-A8A6-ED198A68F6C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00E7981-52DB-4012-919E-9C2725CC415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CCC4A58-A28C-44C8-BE1D-78B5E35D50C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FD7F2A9-5E27-42E0-A3B3-91BA83EE76B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3EA89A7-9792-4890-ACA2-8DDE6644E0D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4F33359-4D03-422E-8EAF-F2B128892C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3DA8A48-1CB6-42E2-BCC6-5932EF2FAB9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F0D0362-9E14-4A0B-971F-49C3901E4AA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F16DB4-DC44-40F2-A0F2-8254F747DCC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2B95BA-50F2-49A3-B161-A107256F3E8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B2FAA-1129-4B91-887A-E11D24AF6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A9AC0-ABD7-4F01-96DC-4A1EC4343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6AF647-F926-43BB-A304-89A543653E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FDABA3E-A968-4E95-A484-361674CDA1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4CC1349-8A0F-47E2-A405-4212C958E5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2AFC6E7-6980-4E02-A435-28D8A569CAC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D44E2AA-8639-4A98-9B62-4A6B08CD5FA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C72224C-62ED-4410-B291-9F1A37FDD2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CC79B30-5775-4408-B18B-AB82E46BD11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0C747B-75D2-428A-9AE1-3DC3A2CF39E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E6BF857-4089-4991-944B-8A404E1D9F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FDB0A5C-9943-46DB-B27E-E214340A8EF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9104F-DBD1-48BE-9DAF-CFA51F4FE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01E827-03B1-4CD2-BF55-400DB63F14F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4297B6-A8C4-416D-906B-9E2D74654D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CABE31-A232-4392-9232-AC6563D77F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690221-2168-4E2B-ACBD-7404A99FC2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7362A0-D089-4D01-BF12-59DB0C95F7B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0631E3A-FE07-4C59-88E3-19D5EEAEE16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56173C5-C0AC-4787-A8BA-B14C2F9E83F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5E704BC-B5DF-4AC1-8710-FFC2BC57855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5F9778E-FDD3-4E83-B70D-3C5956770C2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B4B793D-F0A7-4F92-AE5A-42863C38029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A9BC7-DF0B-43BE-B145-BFB1F762D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C34832B-DD13-4051-8936-A2391DFCF70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09C413-8DD3-44DC-B4A6-9A59E1AD696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0606947-0A9F-4590-8E3B-392708A00A4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E0B5FA-393D-4F7A-8AFB-B2AFF07D2B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FDD2B67-397F-41F1-91A8-88EA19FE800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4B00BA-6617-40C2-B3EB-88495F4CDAA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0E3B7E-5EF2-4E2D-B03B-0398395224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339EF1D-4638-470A-8534-C2992D52B4D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0E88747-EA17-4D85-B165-24B3B205064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3FFFEA7-9313-45C6-8058-8AB5EF06BCA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E0963-762B-463C-AACB-E20A704D4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365530B-1E6F-410C-9912-18DA41630FE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5324DB4-4687-49A4-9E3E-486B874CC7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15B115-4EEA-432E-98CC-2DDA34305B2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584AC2E-A24E-47EE-9CD0-6F647AD0F02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647FC84-9047-4F07-8681-ED6AC21CE2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EB2E3CA-7A29-4490-A57A-727DD094B8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8BADF70-E678-4E45-A5BC-757FB5E67DA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CF11CA-5B32-4854-9E4F-F18F0C9DA9A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E1158F0-796E-4C79-BF39-D4F6799E00F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D3D4762-80F8-4191-BDE7-43F7B0A5DA5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4DB62-1D35-466F-80E5-9AA72FEA4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B2A4600-493C-4CEC-9C24-DB1B3752994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9B72808-450C-4A41-BD83-4CAFE2F7168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DF4B89F-8843-4DF7-B8F3-A52A638FAE0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65D3734-150F-44F2-930F-1A1C7ABF6B7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9935EEA-F1D0-4332-AFAA-6EF167C7956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462529F-3F04-43E1-B8F4-7574C8612A9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915C284-8118-4DC5-943F-86D70327607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BB8D473-3695-4599-B9F0-20420962B4A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AF92541-E68F-49EC-B7AB-E4C6BB14F4A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4EB9F27-4B06-4480-B544-F9987D9A7D9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4F03E-3531-4F77-A955-993E6CED8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F2ED65E-560C-4F72-B43E-D22DA44428B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537EB4F-BF82-4E42-AE36-FB62BB7B71E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E1E11C2-BFD9-43CE-BA73-8A105FBAD7F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DF9F4CB-1730-456A-B7ED-7FD697342EC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7D1E01E-2382-456C-A881-6A81282AE31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88B3E37-FEEE-4378-8B83-017F70490CA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655927B-3E80-4BA2-960E-44177304FF6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22D3B66-4543-4381-8FB4-8E3A2D331E5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1C240FD-1635-4DA4-846D-231DE5243CB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A8FDAD6-8A15-47FD-9A74-A732F9CE02D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E4F4C-CDDE-43CE-98C7-91B635919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13F48D-0684-467E-9C64-C1CE5D9757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9D1492F-5FE5-4651-BBD9-5BC8D4B9B27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01DC86E-AEA3-468C-ABDB-DF2B016B0B4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ACFA349-3764-4E1A-B65B-F7AF185A6BC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0B45674-2565-4693-AA64-0C1556B91FD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7D6DD5B-CA30-482E-9C6C-EA219E50216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B81869D-FD92-4FD4-9ABD-D0B396F8A50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638487-519D-44CC-A0FF-03CC58426A3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4B4B9ED-8F54-4AE5-86C5-D582B83F788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16C909-AB2A-422B-AF84-5880FF16B33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1949DB-D5BC-47C4-B0A9-F94756DAF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2BC9C58-3EA7-44F6-A8D2-9F6DE995CFF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73F0A0-1E86-43E4-8A6A-F66F785084D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8CCBCEA-6D07-4AE6-A716-02FE0D86D8A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4C9E76-F8B6-438C-A9EC-96D5F23D171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37D417F-FC33-4D62-B6D7-69EEA9C47F0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52ABB34-644C-44D9-9A49-F20B8C0B368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C492637-A45E-4334-983B-546A2427D772}"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D011859-DA73-496B-ABBF-7410F4EFAD4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3DD8E1F-0A3A-4E9B-9B3E-85DE8036B3E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1527071-37FD-4478-9EB4-C8EFCF57A23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BCD12-FD29-48B2-9B49-A72B985AC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1CB9252-C3E6-455C-AE87-FC80022BF08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7A709B-F103-46C6-9F28-C472AC202DF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37DABDD-9E89-4C83-9129-B3C91AA3733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03F1D10-5CA0-4EC7-9096-D139718925A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6D7A4A2-FFA1-476B-A0F5-13730D4B449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04C995A-9D80-4764-B537-7FF07BE52C7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6FAACE7-CC23-4FF9-877D-BBD7890FB89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1113EB7-BFD3-4F6A-8B70-E54E1B86C69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3516E7A-DAF7-46E1-A276-5370E071AAA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AD1CB97-B4D1-4980-9368-8E971814FA2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EADC5-4718-48E4-9D8F-73575DFBD0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7F38A33-052E-4F66-8F11-AEE91DA77C4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338571E-0BE1-41B4-A0DE-A781CB90B2A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3243BD6-9A44-40B1-BFEE-EBC69B17340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DDCC9B7-A487-45E4-B717-2B732755800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66B703E-567B-469F-8162-614D2EDED0C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C0A6037-4EE7-49E8-A527-733EA75A632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330599C-3E45-41A3-8599-2D53474EE86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FE01311-5F04-4062-B859-07510DD11EF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DA4B3E6-BAB5-407A-9953-AA2F0CFFC23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FF9176B-344F-48EF-8CF8-713DDA6C8B1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83FE-809E-485C-B881-97293E214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98C17-EB0E-4A03-8663-8252B7EA8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A265A51-05A3-40EF-B3AC-6F32513043C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762AA66-0DB2-470B-9C2A-60B02410D2C1}"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5FFB486-CB8A-424D-A28D-5ABB21A9707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6ED7509-F1DE-489C-9840-E72475A6324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621093C-96CE-430E-BBAC-BDF056C5132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C81970C-65D3-4B3B-88A7-37A702D8D02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691FC3A-4EA5-4459-873F-F6443C9ABF8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8EBF07A-59F5-463A-839B-AC6965B0D4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8413868-05C0-42CA-8DCD-587F1BF7E73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9A39566-05A6-43D3-8BDC-ED582229C58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3A5C4-2E38-4C2F-8DA7-A29ACCADF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475F5B8-3A5D-4F3B-8AC3-BDA1490053A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64C97E3-31E3-4042-BC34-AFCDC606EFE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63E842D-759E-4CF8-A686-71F7FDD2DB8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AF02710-FD26-4629-8524-292CE2763F1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38B7E28-99E7-41E9-89EE-292BDB89CB6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DFB2A43-3A81-4FFE-86DF-E0833F0FE48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392A36B-C7C6-4FC6-BA9E-C0AA64A7D90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DB53211-63CB-45DB-B5E5-E85BA5B989C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D0639A9-A7AC-41AA-A342-598590E14F8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F55D30F-F29C-4A65-97FA-C3785CB9433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0A087-9275-42BA-BE40-3AADC50AF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1B8A099-0E15-48C0-8166-33705776733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8625DD6-45DE-4F4C-B27A-0DBCA85092E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E283A39-CA74-4527-95EB-0735027319D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8AF09D8-438E-4292-BA0D-BABCA4A1854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EE120E6-841D-461E-B698-2AF35C84EB9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6F5ED0-3F3A-45E5-9471-C631AC60F3F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D6FAA15-76CA-4CD3-8DF7-FB4CA663F98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AB2202E-104D-4081-9CE8-595400DA71CB}"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F2DF0EC-8830-4835-9D64-172A744E161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A8C9858-6049-49CC-8BD0-D4DEFA5B290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ABE95-EE47-4CAB-9794-06D4AC4F2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CBE1608-EF29-4725-B493-8FB840D521E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AB930DC-9A5B-4CF3-857C-621015C3FE5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2879CE4-A91F-4236-A327-52BA732794C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A61CC3A-342F-41A1-BCD5-C14B6A37566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0811661-001C-493B-9352-A4EBDC2B3B4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AE8D6576-595E-423E-8207-5A7FA34D257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42687046-52A9-4478-93A3-E6A3C649F248}"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357FFDF2-3A5E-422D-A2EA-78AF75A92A0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D34922A-46A1-4122-A471-F23A91C7F98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99D80E3F-D264-49F5-9BA9-C7E6F44AFDCF}"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D79EA6-FA1A-4DBA-874B-7246DB61A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93F1A78-C42A-48A0-AE52-16B49FB0380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417C0C6-0548-4AF1-8AA4-3E114A75540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C043547-3804-423C-BF8D-31BCB11B3DC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D2C1F29-871A-4366-85AA-A689ABF42AB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0A9763B-631D-4563-9385-60747EDE328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845DF90-FBF5-4450-A276-EA02408F044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80E0196-7F9A-4AFE-B194-D657EDFF8AD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0950BFD-7A8A-49CA-AF5A-236506B5C9D7}"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08117B69-8C72-4D80-8CEE-31BDA22B2E50}"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BF5FBD2-A2BC-417B-987E-792ACDF585A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72197E-0DCA-48C2-8661-E20664B7FA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566BE56-389E-41B9-A5AF-6BD0C7D52FD4}"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2E726E7-BB4A-4119-AAC3-9EAFB077995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E3CADA7-1906-4E28-AE0A-5262882A6C8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F7E7E79-FC36-4950-BAE2-DC003900234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BDF1DA4-DD1D-4719-A6A0-2F5C4FDC2FA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50EE65A-CBA9-4486-9591-4A2F1996852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B3F1888-A31F-4FA2-943B-5BB9314E7FF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EBE2286-0454-4458-9CF6-DFFB980EA9D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DECFCE1-12DB-4F30-B370-8FB89E09009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C52F947-D5ED-47AB-96F4-2F7B3EDA835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EEE1C-2E35-4F7C-822D-5169F26CE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CABA7243-FF05-442A-8364-4D24A0659CA1}"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47D829D-F739-4EA3-BB81-F1308E96893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D11F9C1-DB86-498B-9C82-23F67BF18E8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C3BCDD7-4461-40EE-B10D-143750D593A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F54ABC7-804F-425A-B916-1B072EF76C0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7317751-D448-435E-839A-B143D43FD399}"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9DD7FFF-08D4-4D29-A1F6-AC10103FB13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77088DD-0945-44A0-B014-CE8C70226C1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94A9DC5-243D-47A8-B1B1-32972528035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CAD3956-A2E0-42D3-80C3-76E69A149CF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07B5AC-4C40-4328-BCD6-E6B2118D4A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CA4D45D-F8B4-4DAB-B5F8-53079934710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A4337610-44E5-4D24-9B8F-2A3E8961D35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BF3D885-EE52-4DDF-BEB1-A2094CDB3784}"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A0677A9-78FC-4456-A7DD-7ECE445C4F4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742E0BD-20A3-44C4-8A5B-FC70873D3B3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98A64C7-90E6-4D89-91E6-990FA96EEC3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9563A95-23E2-4519-9F01-64079494226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A83BB2F-C428-4FA2-90A7-B292F952942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D27CFAE-344D-4455-AFAA-0D3431C7406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2F536F9-1BFD-4879-8107-B257B5DFF84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A03BA-E156-4A6E-BB24-88D3F85D2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01768B6-DB86-4A03-B94E-F604459C2A7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9D0F78F-B976-456A-AF97-A301463CC10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D8D51F6-47EC-4777-9777-B9E8DADF84B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9E1CB2AC-7A78-43AE-B3F6-DC51B399D0F0}"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4CB346F-CE4D-4005-B108-C252D984326B}"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74A3D64-225E-4B3E-98CA-71F313F3CDD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27E8753-AB1C-4032-9366-464B538D2C2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35305D0-32B4-49C0-A6A2-8B97A7CE988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3E6CD4D-9FEA-499D-B326-9E5D7BD10CC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0F5DD28-0AA3-4464-A658-B1591D575E9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CCEDC-0791-43C3-A696-42C5D5164B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91EC8F6-77F7-40C0-A4B8-8F84C8E8BA0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3BC2964-833E-4780-9B0F-8BB3D3D5555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899129F-8793-4D34-8DAE-ADE73619614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D1DF195-C9F5-4F40-B08C-3DE5E817CF5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400DA8E-A2AC-45D7-9F0F-7BA7A60A6B6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FE5AB8F5-2F39-416F-B10F-35A1DF34B11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311F88F-FBC3-4F17-8606-2F4566F245CE}"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4DA216F-2F15-4979-96D7-980CDBEF8E27}"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51AE897-B07C-4888-A4CD-7DEB8FD4279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98788F9-10C2-483D-938A-D2CB1BC67869}"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23011-B83A-41D7-9D0C-086BD0912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00917-CAC5-45B7-B165-7107D10CF0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65533C0-69C4-4547-BC1F-ECBB423391D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EF05353-C128-40EC-BE4F-D558C1D9612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8F89112-5E9F-4F23-AB34-220C787680D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9AEDF54-2525-4A94-A564-0176F69166C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7E5611A-26AD-4395-833E-FB662A2BAEF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50101CA-DFE2-4823-A2FF-8462FCDAB7C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6B6D359-8299-463E-9648-ABC9A47786E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DF4C8B8-E14E-40FA-81E3-8BAF9C6E885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2F4A515-88CA-4A0F-8439-C255078B4A8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9A0D72E-ABE7-4FA3-A793-504A1084197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19763-26B5-4EA4-8C5F-8F70A51C76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5F2E9A1-E604-498D-874E-F71E74C922DE}"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D20D37B-8B53-4748-8CCA-A3976589C00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5124D59-5146-4206-80B5-05378539154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88443F4-E3C3-43CE-8EBB-71756A4C877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6DE3C0F-3F26-4454-BE54-93BE8238E47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1215E58-0750-4A08-AAEA-9E8639B2F8B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6829A08-19AE-499F-8241-531928B6E72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74D4B0D-0A61-48A8-997B-8FB395DC89E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DDE4F56-C18C-404C-A20E-BCD6F45C178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54A3F6C-A7A2-4410-A7FF-A02C61DE4AEB}"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80913-28E3-45C7-AB38-321A0FBE69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568079B-7935-4E38-B370-B1034252DCC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D49EEBD9-8E3B-4FE6-B36E-A9DDD8EE179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D857088-DC79-4225-BDAF-EE1CE5DC1EF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D75B56C-7E7B-4B35-BCF7-8F8828713F5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9162534-28A1-43BB-8E64-2E5E9ABB44F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371F79E-76EC-4110-A0BD-A57AC8B0EA58}"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D01CDED-E9EA-4329-BA93-30414D2A350F}"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2377AA6-3A17-4EC1-9F16-1CB3877B440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F3D97AD-F3C5-44F9-BC28-D7323AFDD68A}"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18CFEA7-9ADC-4528-9024-795A547C721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F2867-A2C6-46BD-A751-AA6EDF1AA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0E8B946-BF34-42B1-B8C5-AFA4AF10E23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B372BC1-7089-447E-8183-0C1B0ABA80A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2F8B08C-7FAA-4497-B003-734AE912BB82}"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71A8DC1-8C91-4F7C-A35C-7719C8E1A4CB}"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67D109E-C82D-4A25-93C9-C13B5CF17B5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AEDA5557-B832-4124-977A-DB8954A41584}"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60BA3FFA-2BD6-47AE-B378-A95DDB73D83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D3214582-8D58-4927-9FB6-6E38B00A523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14A771E-0B22-4F9F-8342-13CCFD147BF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E81FFDC-C8FC-472C-A434-5A41ED509CE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14402-E1BD-4FA5-BAEE-EA4541826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95F74B4-8F29-4E9A-B930-B4D0D172B3F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183FEFF5-02DD-4DF9-BEC1-D321F915D94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913E703A-86D5-44A6-A2C4-521A55890C1E}"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E9718D95-16E2-4574-AA50-3FC1F81BA471}"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96A2EB17-4226-41F8-B349-3D46DE8A8BA6}"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2AE461B-ED4A-46D4-8B18-A07FF2148E1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9D5C5B3-0935-48A6-B805-0BFC9A29A716}"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468D030-BFA1-46FE-AE00-D9F23818490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E2ABD59-F1C0-4C70-9053-180A5002A90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F3671BA-36E5-44FF-A803-F42F98F80E9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E0A38-387E-4FAC-8E34-FC762F811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F1069CA8-3971-45F9-B04A-8E35F4C8C7C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42DE05C-ECCD-46A0-87E2-F28F80DD5B6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7027DDA-885D-4F11-AE07-368DD8A21DC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D44CF9D-67B1-434D-A671-020E2E42C92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3DB025D-CE54-495C-9244-346106758CD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7D82CAA-12A9-4DCB-B30E-86625958EDC9}"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6CAB763-D393-4F24-8AF5-691D7C2233BF}"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B238DBC-98F7-4A64-99C6-EF28A26E12F1}"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D9EAA10-3834-4A38-B059-4FCA2047DC3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607DE97-5050-48E1-88A7-7C787197E98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6F0154-71F7-4E87-8D13-6AB5B08BC0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891B057-DFB3-4433-B0D3-C568837C134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22E825E-A7E8-43F2-BDEA-0C7A5D542D5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406B17F-FDB8-41B5-8194-F3900CC9AB3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22C8EC4-A93B-42ED-AAB3-A287F21C6DA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6C8546D-F7B4-498B-9BAB-2114C79D04D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61494EE-E209-47B1-83FE-A14E799B297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629BF17-D453-4B74-B605-D144ADA21A5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6B049FFA-72D6-45FF-BF0A-8D146219909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2835CFE9-6E21-4BEB-9563-04640339FDB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56978C4-0163-4ED7-A933-3D7F34565E6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CE982B-01F1-4A70-98C9-B5B771C8C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8ECAA95-8AC9-4A60-A6EA-5E12A79DDF0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105D39B-8748-4730-84F6-1376108D0CB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4FB475E-6001-4997-B20D-38FDDD91403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36620A39-F0A3-4E6F-BF84-BC2EF085A0B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A4C443A-19AF-4F3B-B8FB-F31C42D7125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5A8F69A-D36A-4981-B1BF-A89D62D6B5D8}"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8031E93-3C54-4F6C-90F3-5F45B6AB7D3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0259F97-0465-4DAE-A75C-6753E1F8174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67A9537-7314-47D6-A562-BB28B4C3C2F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39D9F5DD-E81B-4DC8-9E43-8D480F9B13B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F4821D-FC2C-4E99-AEB3-16A445A51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6BFC4551-1D6A-4A48-A4FD-4F11BD4400E2}"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55DA002-2F33-4592-9728-71949202B2D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900C76AE-9341-48D8-BD90-5FA75BFF2B8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14A674A7-FC09-4701-A8FE-0C391F624734}"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60DEFA88-1847-4100-B9DA-7373AE1D0D4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8B650C5-891B-4CF5-AA28-41E298823EA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A4F9C9F-5980-4AE1-95D5-4AE173CDB63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53F8E07-56C3-446C-9380-29707D1ABBB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709ED1A-C2A7-45E1-998C-12D5854811D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D777E5D-DE9C-4150-A822-9073FDF0DC9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5462EC-93EB-4FDF-90C3-3EBE4B093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DCE9715-B4AA-4537-B23C-92C89C9B303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6EA5133-CA1C-49A3-ABB0-B3724304E91B}"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453483CD-209C-4C7C-B4B9-1922F6866E6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9CED79E-E278-4F70-A0F0-9D599D72EAF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D88E5544-3AF2-44EB-96DF-592E112C240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27BB70C-3036-436A-AE47-23A8A5A8415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ABF2355-1033-4A65-AF70-F07F7D4572D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53C1EA32-A0B5-4F01-99FF-070DC6506E9E}"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2A676D0-51A8-4A8E-95B2-52BC64ADEE46}"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5353CE44-31B8-4495-AD7F-A188DFA2CC9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561F4-61D3-48C2-BB57-57F2403B1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2059E-7ADF-4D3B-9B4E-8359A1FBA0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9DA844E-D2CF-413A-B67B-4F05E3F067F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8F54B96-FFA2-4702-AFAD-A4E285FA07C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FDD4A4D1-9AEB-4758-ACBA-1B81593564B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8CBB9824-8D5F-445B-B924-DDDD901847F2}"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79BD182-BADC-4344-8359-D7CBB1D1C4E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44E81EF-608E-47FC-828B-E7D0B36B2DD5}"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281782A-BE76-4407-878E-F980947D940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96B3CA4F-1903-4612-B88F-4F4C88DEFB5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5F68C08-0351-4114-B46C-6EEC5F7E70D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E9831B9-3CD7-413B-B6E8-6E4338DA485D}"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A9286E-9071-4411-973E-53835B3F8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F0B3B8C-2916-48B8-A9D1-8C50ACAB073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1CDCBC7-05C6-46BD-8870-19D1CF463CF6}"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BD178B9-63E1-4B0D-9AE4-F437001A482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382D99C-D3A6-4D5A-AE67-B69A2386CB1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A28E8C0-485B-4B6C-9B74-0FA449F5BE4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DEA9B5D5-57F8-4025-9B51-5DBFCA5A2053}"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EDCADE1-CAA4-4BB3-899D-4D0D850C135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24CC9A51-2549-491A-ADAB-8FA608D5B592}"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169FFBE-A9F6-405C-88D3-6AB92DC51C1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5AA80DC-B20A-4ACB-8554-8FE05DCB9B6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251DF-977A-454C-9584-8E84F7617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9EC37AE-AB94-46C9-BF4C-D39075856C09}"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6F28EDB-6B9C-4E8A-A59A-98E91CE9C2A0}"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E63F308-EA91-42CA-8FF6-3BAE54B5DAF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E75083E-22C7-4DB2-9D72-2250E827E183}"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FB4A62A-64E2-4ADE-BEDA-4F11EF6D839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16823A3-0E6E-4012-AE0A-E983A2EFB58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A7A9379-73F7-457D-9AA1-B7E6121378DA}"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7C4053F9-CB2B-4DEB-BE56-93589096927E}"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79DC5F45-43A6-4FE9-98AB-B2875AE81E1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0C9018C-CAD6-4109-8140-CF582E87B0F2}"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FE924E-88FF-4DFF-AB41-37D36C5BAB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18506C7-71AC-422A-8DE2-3EEA1953C36A}"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AD83D32-FEE5-424C-97B8-AA54CD76D003}"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7FFE996-17D3-48BF-B43B-52DC578018B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3DCA3CF-E433-49B1-AA31-582413C8EAD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A0A0CE3-AD34-4BFC-82DC-922FFEEFDA9B}"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56C25F2-49A8-47BF-8041-5C32F579137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928687F-E8EA-43DE-90D7-19C0B73254B8}"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5C0566C-9BC0-4EC7-B1E7-E91ECEDE5D9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31F84EF-26F5-4C78-9F9B-113BE2F4A81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38A3B92F-9867-4515-8BF4-5F95BA510DBB}"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5CF8EF-65A9-4753-A0C9-3F793ED42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76CAE1BF-88FF-4DCE-89FC-F5FCDB580FC0}"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230E2773-6672-4926-8386-316DE0F05FDC}"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202569C-68F9-4000-9E08-F6816CAA8D5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E31B7C5-0EE1-4C35-833E-41417B65668D}"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0C1B7FB-3D4D-4665-BDDC-25FAF6A516B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D0B2E1F7-7988-4728-ACE7-884DCDC3EFE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23B9614-07DD-4A27-8098-566F8DB7AB6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EA26BC3-4D0B-4E02-A44E-A065937B712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6833D2B-59F8-40E5-A7F0-5F0201B1179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6AE3F50-4A4B-48EC-89F8-C02477C6DE6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CD0EB-6324-4C96-A749-976A94A8B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EE58F414-C6E2-48D3-B522-FF5218F0550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E798918C-AE11-47C9-8CE9-92A64D0F06DC}"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8E3D05D6-5296-4B65-95E0-7D32F5CA7272}"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CCA03FF4-0BEC-41A4-A43C-6E7698C92AF3}"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5789CBE-1577-4294-A166-382C53694C0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D5D5F29-A841-4787-97D4-76B33607246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824AD5F-B48E-4328-AD1B-873D10BE2524}"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C7F1B65-4A96-4203-80FB-E8602B404DD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854BAB4-AC78-4987-9645-A3D16E68034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64E1797-3AB0-4940-9080-E1B75703FB9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BF9D2-A9A1-4A0D-8A32-2653C80A47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834B5D1-1DA6-4454-AEA6-1C2B2FA5569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9FD6255-5857-4382-A64F-DB477F3AAD6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6E20F79-EE4D-4B47-AE80-E8CD67895AB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57D3688-36AC-495E-A63E-370A0C098AC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2EC2E68B-5A25-450B-8FFB-39011575BE9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9CEAFF2-8752-4332-9417-5FDB985837B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7243480-49F6-4A2C-94BA-D69ED2095CA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94C24F5-BAA5-4A5F-AC16-CE11EC2AED7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691D98A-DC8B-43F8-9B48-F4166F290F3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2EE42195-0698-4CB1-AB7F-B73D8A52B19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77050-4623-49A4-B4F0-F2A4826E4C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72641D9-7CF3-43D3-87A9-3FCB731A5F53}"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685DF7E-A586-4DAD-B44F-657CFC9F6D8D}"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B1AA9072-498E-49B5-AEA6-3FC473B9247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075D08C-6D37-4D2A-9BBD-225A0D4D103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797317F-53DE-4400-BF93-CCCC4AF1B30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154D67F7-7747-468A-A5DE-9EB9373909D5}"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787DFC4-FE07-4D1D-818E-4090A192025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9AC66820-5533-4833-AEC0-59FE982E7935}"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A59CD86F-4A2B-4D5B-A9FE-50D56DAA0A0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9740C3AE-B97E-4AFB-9968-97692577F34E}"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3B3E6C-44AB-4007-A31A-48713758D1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C19C7172-9DD4-431A-84EA-5562F26BE86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3294239-7F99-4A9E-B80E-1AFD4187666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741B5CC-4819-490E-B353-0F35BC264851}"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798FDCF-0E01-4730-8B6F-7A37D7062C3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91399527-9AE1-4518-9D7F-B48B24A42C17}"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E7323C3F-0F90-4A56-85D3-6E4B7F0C532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2683E685-EC7B-43E5-8D1F-DEFB8B2633F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5ACCC93F-A1F9-40E4-AEA6-F3733E44151A}"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39E3E26F-6EFF-447E-99A4-31501CFA352A}"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F1639F8A-48E7-433C-A284-25EABA878297}"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A219D5-1566-4774-A83D-CF0520880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45D785E3-0A84-4C08-A14B-BA75766732BE}"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69412A03-F26F-42F4-AB6E-8EEC647B1A3B}"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55297BD8-424B-4AF4-A390-A7FA96A91180}"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CCBA2CC1-5A62-41B3-A29B-881A1A28A7AB}"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6765E47-F1F6-41FC-BE7E-393EAD2BAF89}"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5742FA5-98AA-4B82-8C9C-9A445EE1070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9FFC74F-56DB-4C94-9D03-A95B1EAFBD86}"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B72FDED-7742-41B1-8048-DA6EE9EEFCF0}"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553E1361-DADC-47DB-8208-0328F2609130}"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5E8A87B2-6D42-4474-8902-0EFFC2FDA615}"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B122E-1F97-4F3D-9415-A1186345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AEC6C2-5BE9-4576-9053-7A093A8003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B4A69262-37FF-49FF-8C44-BC33794C530A}"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B77A4803-E745-4509-A1E5-4D8AEBBEAC8B}"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1B2B2127-4907-4874-B4CD-180F610BB0E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6D797F82-B74A-44CA-A426-3E1803F85AB7}"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BC18C30D-CEFC-4762-A8BA-BF9698BF54F4}"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491B949B-8410-4194-A548-6944C2F7621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B7F1462-0E0A-415C-9A47-980C2E9B8D2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7651F0D-DE3F-4B2F-A43C-CFEC216A6BC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4827B81-DB35-4CCE-8EB4-ECB6BC11841F}"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5CFB969-1F42-4CF8-9AC4-040ACC21E87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B92A27-F3DF-4072-BE76-B887823B8C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9DE161EA-04A2-4688-A0BF-078CA227198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74C9AE21-1C76-4939-AB38-176959557F91}"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34994FBA-50E0-47BD-9991-3195060CE864}"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7ECB808A-3BBC-47AF-9011-FC5D9AAFFC56}"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2912D6AA-516A-4853-97AA-09160546E25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76681B77-0EA8-4D53-ACBE-B1AF36448B36}"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008C429C-A8C2-40B0-AD16-6EF0655278F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B4231B7E-9078-4F12-B82E-6338B2B91309}"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DD6720C1-B194-4540-AA66-5704E64FF58D}"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D7306316-83FC-48AD-A635-E177D5E65EDD}"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E30102-A14B-4ECB-AA24-84B248594B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176DCB29-181A-4668-AA93-DDFB6D8C5F5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5E01539-08BA-4529-8847-1B93D0E9549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5C466C8-736B-4EED-B15E-1F80A2B3E25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16D1661E-05F3-4723-BED1-A29A00D6C16A}"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31AF9AC4-FDF8-43B6-85D9-430902FFBAB9}"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D4622D45-2D8D-44D6-B324-F1B420C03DC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2142FC0E-AFBA-4107-B7E4-DC8FC9EADAB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D4E5531-2709-4B2D-8DFE-051094823B41}"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CDB3811-35E5-436E-AE22-34BFD6B35F0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DFD31D43-C88B-414F-9377-34C474C7B3D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5A8CB6-7054-4188-BAC0-64F0B1F46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02744688-4D89-4F31-8E50-E856A5F49CC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5F2C018D-0886-4BF7-AC48-83E75C6F184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4E3FFED-C173-4FDD-8472-91493340D424}"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9E91C04-A567-4B86-B5D5-BB7CFD80E28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0E4ECF25-1EC6-41BD-B417-40798B8A60D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253619AA-E6F8-450B-B37F-93AEC9FF9E29}"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68F45503-7B90-4931-8FD7-1BBE1254F828}"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E8256F2B-763F-45CB-927C-E3C4E2A521C6}"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3AA1610-4077-496E-87D7-691B618B0A47}"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5D8C835-937A-4F22-BF7E-2B13B8F72CAE}"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BD8125-02BE-4071-B0B1-F9CB2B5D7B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FF5894D7-B58C-4468-B077-AEA96CB15D2B}"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D92D1B4-1028-4054-B944-484AA8F1DE5F}"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AD6A779F-4D59-402A-A9B2-C835D5FDA038}"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6DE79E4-D8A6-44F9-8FE6-D90C5410ECF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CEC8B094-C4A0-42B1-BE67-949DB518769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69AB5A4-E554-486E-A825-2F8785F13217}"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4C5E158-53A2-4AAA-90FF-F78C669F942E}"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8221A7C6-A943-458C-8772-D44D3DBBD313}"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6E9224C6-8A3F-4FBA-8331-7AF9C9EFC360}"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2C21C2DA-140C-4A3C-9B59-8C7B1761F75B}"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86035-0709-4846-A1CC-0DB3126EE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F2930D9A-EDFC-4062-B063-69D1DB836C4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E03B2756-E87D-4939-92CE-ACAD1D28760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34CD94EF-B45D-4802-B91E-95AA633CD1D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A901817A-C327-4660-8119-750AEAC6B30C}"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F2D91154-17C3-4E1E-8B09-1AB53CDB5838}"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6192A49E-6F06-4D58-B194-838866E03BA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D44A2B4E-C06F-46AD-84C4-72DE23AEAF17}"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05E0509E-A905-4AD3-8F36-7A517D053BB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82114D16-A9B0-4A74-84BA-198EF204B65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B2840FDC-0F1E-42D3-B6EA-5D85FD8FA435}"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F952F-2C99-4F39-9D5E-959D8D8C0F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BBAB41E8-F55B-45B9-8707-5074DC22ACB3}"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24730AAE-15E2-4F52-96F2-770CC4C28046}"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765D9C09-C0DC-485D-9AF0-351E748F96C5}"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42CCB61-BE66-4FE9-8F84-583A95394BAC}"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2916523-8A76-4F39-9FB3-FEBCEAF8E0F5}"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89CD9142-630B-47D7-85F8-38C1A3AF5D9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6802D22D-46E2-4765-9551-A397A8C606A3}"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1554CA1-368A-4B34-AEB5-83D851C8C748}"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3B02F7DC-0CA2-470C-A353-FAAF4AE57D9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ED08BA5B-889D-4130-8ED3-FD0A251E8496}"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C4E72-A1E2-4C4E-88EF-0AD33F44B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49756A49-7DD6-406F-8B9B-D2B29918CE5C}"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00CCEFB5-4076-412D-81F9-0907E3F95BFB}"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9C835D2F-94A2-4BD4-986D-EAFD6924B597}"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8A658DD7-5F19-42C8-8122-9F3BB860CECB}"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404403D6-1743-4812-83F0-FAE1884958C6}"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424C83CD-AE43-44BF-BEFF-97E3126E0CAD}"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110C95B-7C38-4A2D-823B-D635DC61BA74}"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F24AF2B-759F-469F-8979-458C37C3A932}"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F0E1455F-8699-40D5-A3AC-A6BFA17176DE}"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A68AE79-A2A0-41D2-AB51-D59F01027072}"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0A386-3DCE-49A3-9016-7AEC38FED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03560AE-384D-4086-969F-6A1078313777}"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11A20695-A466-4AD5-BCF2-E50C127CEA96}"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73CA2E79-CA7A-4CDC-A29D-D8B9BABFEB82}"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593D25D9-60D3-4BB5-A172-E36846499B8F}"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AE323716-027F-4685-8E12-171B0F10AA6B}"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B0BA391D-69B6-45FF-886B-E562BF9E5886}"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87B23BF-1BB8-4E9A-A151-78A402D7B84B}"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64B60CD9-6FBD-4A56-9184-F47BDEBB81B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734B769A-7A0E-46EE-B99C-23C906B11395}"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A0CD6D17-14A3-4F5B-A7A2-D2FC92081872}"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7AA63-0233-4B38-B60E-2AE4C64C2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FED8535F-FFD0-463C-B56C-6D8ACA29175D}"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6348BB6-5127-4E04-A10A-5D4F83E0A05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5A3FC04-33AD-4586-AB49-26CDF861B19B}"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56D02D8A-8A4C-4057-BEE4-EDF8F1D0F204}"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9209632-C7E9-45DE-92A9-CAAA110C8139}"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4A506236-720B-4050-B3FC-BFEF1F71CF87}"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51FE1D32-B5C3-4FF1-9BC8-1D0C4F2E7C0F}"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82DA812C-C266-4D82-99F9-D1AA0DAC14A4}"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BE6EB26D-6708-4F52-BB37-2BE5B8FC65AA}"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26A4B7A9-5FBE-4053-AA14-EF6A8E74A17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D7256-7D3A-47A7-B188-DAC680CC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44615-4568-4C8B-935B-836F56EE9E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C04E4243-F56B-465A-9EDF-36DA3333E675}"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5C60B9A-D41F-4261-A2C7-69616F03696D}"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741E4120-037E-4338-ABEA-1E11CC0BC013}"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CCF8D57C-D1C4-4E97-A490-DDFF93B710FF}"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DDB299E2-C790-43DB-A8F5-E26CB12B091A}"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2059ED9-3CB6-4363-9F22-D3E27EB7766D}"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8EB36B6-2A36-4FDA-B382-DF87DB1C260E}"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679A9B16-5C58-4889-86E0-B340ADFEAA48}"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659FC81E-AD4B-4A92-AFBC-E268CBE1870F}"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731E97AA-994C-4705-A4E9-9913FA0A7E5E}"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8B60D0-5896-44FE-9027-01D3BA1A9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66EADC3-527C-4817-853B-1C14220F2D21}"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E7B7976B-35B5-4156-AAA8-FBE51420FCAE}"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522AEF86-CC1D-424F-8E95-DB56D0D37499}"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75CD9347-F812-4C2F-A965-2E79ED1C93D7}"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F499D13-EAF0-47D8-A9D9-9C1F413C87C2}"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1055CE7-EA68-4969-AAB0-E24645912DE3}"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1CB9541-0F3D-48B0-8F3D-2B8DC084996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5ABFC213-5014-4D6C-8FDA-0A65A745FD2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34629764-B9B3-406A-BB43-1B0FA1504690}"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2F508D1E-B6BA-4A82-9AA2-A5D5F27E7A67}"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13AD19-2B45-4870-A429-48550882D5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CF2E28C8-A536-43A6-A360-BF1862614556}"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FF1E9077-5ECF-47FD-AB17-17F6D79E57A7}"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2D3AC167-8BB8-415B-AD9F-31CE87BABCDC}"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806E98DF-85D7-4E29-895F-ECA04E417A2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CD2A4E1-35D6-4086-AC87-8A27CE5E1D41}"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8DC3DE16-00E6-4002-8099-5C7DCF9CFD78}"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75804739-6802-4F8C-B5D9-5CB48F77B6AD}"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6ADD5DF-BD49-4B61-B5F4-75DE6FDD0661}"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DCE1FEB1-FC9A-4E69-B07D-F52B286FDF80}"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7AD5154-CD3D-4D9C-9CF7-4750BB82F5C8}"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4326BB-B1A7-40A3-A65A-234CAAFD3A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7F32F7B0-8B9C-480A-B3F3-DB380C113356}"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59ECD4E9-7BC3-4318-8998-61E435160033}"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EFCA81AF-C497-4FD6-9D31-4FEA41CD3209}"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8627EF9B-DAF0-4ACC-AE17-02F1B8669F33}"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99F06AEA-A205-429E-844D-FB2D950A1550}"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A34FE0E1-B99E-4FE9-815C-9DF94C5DDDE2}"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2CCFFBCD-E3FC-4351-A26C-077AFBA4A21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836350B3-5503-4C7F-81F2-A5814C0404CE}"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A1947A37-DFC4-4902-BCCF-B8669DDB1B6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3F8DC799-F791-4E6F-8D48-F8CE2D9FA45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A1BD10-F034-4C27-B412-F8AE38899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6BCE86B4-E501-4CA7-8613-03A733EB92FF}"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18EA3534-720C-48D6-8A8D-DA3A608049F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90E1E077-227D-4C4F-98FE-60C7FDC8476C}"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09C5BE93-E722-423C-BDEE-A157C6E7F4D3}"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583E6DAC-6753-4D97-9D43-717619D2C21B}"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090C7796-3451-40B9-839A-75941C72E106}"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FFCF4BE7-D820-43A7-BDA8-D1A239FA7E4E}"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3CA81083-992B-43A9-A089-4046D182D378}"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335BBBC4-F6AF-42D7-8025-47AF52824A16}"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8B425EFC-000A-433D-AE21-0F818B581F2A}"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733B8-DB31-4CD9-9B8D-3161EEE142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65068400-3F3A-400A-98FD-65994A7D3ED1}"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E714A23-F3C0-4BCD-AB19-0A4FEA26306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3CE56DB-A0C6-4D63-9D04-E701F88CE4D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C16F2AA-76CF-4286-9160-AE3A07DC996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1C9B7FD-8C69-4D09-B7A0-2DEA3A80B9D0}"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0AE6B2B5-678C-485C-ACF6-811ACCC6076A}"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7C392664-6E6F-4FB9-A2A5-36B7CF7D834E}"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470B2C53-8ECA-400B-9DBE-415EE6B89DA2}"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448FBE10-B693-44AF-A164-F482C9F475F8}"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1602DA05-A2E7-4A6C-8916-8559A221983D}"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F3C931-5CE2-419E-86B3-9F4B457F74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400A8EF7-0053-4B18-AF91-7A10D45353F2}"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3E457D6E-89D5-4627-8162-6314D96E3F11}"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E74D4A94-91F7-4B81-8A81-DFA9026CD00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FA9D87B-490E-4968-86FB-4F32FF187564}"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F741B78-F940-48C0-9852-D42384AC650E}"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6E5FA5DF-D23F-493B-A908-BD6BE89CE1E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ACDFCD44-B7F4-4FBA-A99A-F01120189F9A}"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B7C6428A-8C78-458A-8CDF-3AAB4028494E}"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E15F28CD-08E6-4B18-AEC7-ACD9327433E7}"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E3767C19-46A5-43BE-B4BD-4303426BC80C}"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E8FBE-F8FB-4888-9CC1-559C838A30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4183DFC2-2499-4524-92E6-5FEE5EB19E1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5B92A37A-2671-4C26-9B98-B81EEA96D8C3}"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C8F793DC-5ED6-4DCE-A16D-1C1EF10FE85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00C72568-F05F-4B68-B487-B26DA8DCAADA}"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0677695B-D057-4039-93FF-84A9B4A960AE}"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AA035D15-ADF9-4B61-891A-EEEA4770E37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6B93B44-FDC0-4F52-B501-5F566A0AD2F3}"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A7199790-C8B9-4317-B29D-B2B9947BAD88}"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EED976F0-A07B-4358-81AA-90824B922ECB}"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966F5F19-B66C-497E-9293-BF7E5D4F2D37}"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870E77-B258-4269-B056-0E5C297191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A10B97AC-C881-41DF-A8F4-723870813EDA}"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37EF3225-94DF-47AF-9E34-C0EBEDB34C51}"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60ED6BF7-ABF9-4BDF-A657-504BA0347217}"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77F8F13C-A7A0-4209-B3A9-C61339910BC6}"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184BD790-F5BF-446B-87F7-619AD90BA469}"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F9D3926A-5408-4ADF-AF9B-93C35D5AC5FC}"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7BE25223-FF29-407F-B083-D9B732872367}"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414E710-D05F-401B-80DC-E22BDD05157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18D2937-7821-4BF7-84E6-CD1925579854}"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5010FD1A-1257-43B2-9DAA-F3550844E87C}"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CD4D6-DF3D-4242-90C0-19FDF689AE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E8A61672-F361-4B73-B381-0DB602F60A07}"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46F574AD-F316-4E67-B294-C6251CDC3A55}"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B2CC1EDC-89AC-43B0-8457-B2C141E68D27}"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BABF1A4B-C434-417E-A211-B429CF58FAF5}"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DCE56E89-1B60-4D77-B327-A198A19935AB}"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EAF60E16-751E-4182-8D17-EBD57E84ED74}"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54F5A26F-D752-4CA9-B109-32D76FE4A80C}"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BCE0DEA6-0259-4265-8744-086A9AB4873D}"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C13350E-9880-44BD-9236-DB963B938F38}"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BE44916-9F05-4E9F-93C1-B109CDD96E4C}"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3070-A436-4B75-A7F4-5474C3CCB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27CF98-FE81-4256-9183-D9AF96D571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93D99D5-EC25-4652-ABE1-C798D875291F}"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E5FF1436-A110-40C0-9A3F-B22A6B28040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9E3B4DC3-4207-4E5D-BD11-F2FE57F64CE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5E37A72C-3FAE-4B59-8261-3B2C8FFB9406}"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47FB271D-4572-4BB1-821D-BDA53950E4DE}"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3599909B-FF41-4B00-8D10-6026AECC6EAB}"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5034546B-56FB-4651-952C-57CA232A48A8}"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01971325-B8DD-4375-8EB2-45E196E0DC48}"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D1F49DBC-E12F-4F0C-B85E-57468096C3E7}"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8755C943-4043-4847-9552-571A6E45C73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DE283-89E0-48AE-9284-8884B9665C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80169D04-B8E6-4012-809D-AF710F41B6BA}"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7662D47-60FF-4055-A130-3BCB74CC9712}"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81AFEE35-76D5-4567-B9AE-26F303B89E3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02BC677-44DD-4C92-B9CF-58C7A2A72419}"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4D8ED5D0-BAE6-4D94-AAC3-7826E0D24901}"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0277EAE4-932D-45D8-9010-A5E59F3DB79F}"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067EE708-976D-4046-97F4-DF6E6F7AA7A9}"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4EBB559D-AF90-4555-8DC8-02A789A4291C}"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E44AD558-77ED-430F-B2BF-BC51BB342853}"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01F2506-3C76-48C9-85D5-C6B1BB338CBB}"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57787A-030E-4FA8-B32F-7ED2B71D53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D2B791A6-87E9-43C6-BAB1-457727ED89B6}"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D926CD8B-0DD7-45E7-8911-33D3FD655D14}"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42669BE9-5531-4E10-B55B-5044CBF163F0}"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2419968-8D26-4FF2-ADC3-3FDCBDF2469F}"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97510AA-F9E0-4021-9B2D-DBE96F7A513E}"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2B242B38-48C0-4CC4-9D35-A7775127CC9B}"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C0A924DC-BD58-4FFC-9A43-47004A2305F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C9C799AA-E588-49A8-B447-B0DC2BF7132C}"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7FB3D7D1-7B45-4A20-81A6-BFBE0769C156}"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DBAC8A36-D674-4520-B8BC-E686526E5534}"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69435B-8ED1-4E7D-A441-E1C6615464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A5B8CE8E-1D25-4207-B51B-63C3BD5AEEAB}"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B7677CB8-2D19-4FB1-9995-B34E5ACA4F63}"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6F85B58B-C909-47F0-8C70-FDF10B3BDF88}"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B1D0FFD2-1D3A-4622-800D-3BEB20D616AF}"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A90A9988-2363-46C8-9FCA-CE4C80108A5B}"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0FD8407A-CB9B-4422-B680-A0F39F4AE499}"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6A18F938-BD6F-4308-A108-1382D39748A9}"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74D7AE35-CCA4-47C8-BA47-6D256F638264}"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8248006-505E-4377-B5BD-67D0E8147773}"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67FAB32A-5DA8-4533-92EC-3352BAB101A9}"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943FFE-C0EF-4796-83BB-8E846C8949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54C2A217-40F4-4BD2-8BC9-AB2C0F9DE340}"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D04C69E5-AE81-443D-A506-7F16DB61A17E}"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BE1B0749-BA82-478F-AE92-07FEE8403AA8}"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B0487A17-808D-4159-A48F-7BFD3FFEA7C4}"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9AC10D10-0541-4006-B3E2-F98F1C481EC7}"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90442BA2-6E09-4034-9ACE-A25B9311D69A}"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3172D048-4556-41D7-9A5E-1ACDC3EBA2E7}"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3E897293-E939-4CDD-96FB-77536A2F9378}"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7D694F5E-1F2F-47A9-90FC-725BDDF1C2A6}"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81956725-8832-4930-B924-183686BD602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5FA144-77B0-45AB-A68E-12AB223BDF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D5B02C8B-AB65-4C10-BB7A-909D11370AB2}"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EE66776A-EBB4-48D4-9EA6-7A226F79F002}"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97083940-99B9-4E42-B5CB-CA21DDA280EB}"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7BD17E8E-0B22-4BA4-A448-63F371C58175}"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049FFA08-D301-4C49-853B-0B63FE0C77C9}"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B5F624B7-ACD8-47BC-962E-D350F7C4B4C2}"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06F77BBA-CAC2-425B-965A-8DD5F3064BFA}"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D8C01834-FC4A-46DB-B19B-0BBD2B3907E0}"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993B6AA7-E734-4A0A-B36F-47E1313B9A5C}"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C75EE29-E2B3-4274-9248-A2B0ABEB7385}"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C61A2-E70D-4EE0-AB26-12753366AC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FEC34F82-BC0B-4713-B05A-8EB211F80C65}"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00018A0A-1A60-49AF-8D5F-B34710472D84}"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25F64BB4-12C5-4705-ABB8-5B2A4D7746BC}"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10EA37B2-BD27-46EE-B7D7-5D04F218E515}"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0FA360B5-F30C-4141-A7F3-DF41B700276D}"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94B4F66E-1C68-47FD-AFF7-6BBC7F530FB0}"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4FEE15D-BEAD-494F-B46F-A91AB4B6F160}"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9C11C4E6-F5CD-428E-91A8-39798C662129}"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1188D7EC-4D02-4B14-98F8-3F9A9EC79349}"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839CFCC9-0B93-4612-908E-000BD426C726}"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4DAE8F-DFBE-4010-B0CB-1394CD2538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E003B9A9-A92F-4ED1-BA64-D9E2B5F8B699}"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CDA95B0B-8260-45AB-8777-33FE546B7991}"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DECA94DA-97EE-4400-8F50-CF9BE77481D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2F07B19E-68DA-4621-87EC-8E7129BD64A6}"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D2DCD634-5E6E-4980-A941-FFBBC0558BB1}"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A4E8E101-2853-4CAE-AD86-198DF50BED00}"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27D934B0-F49E-48AF-A73D-F9BDE206A6C1}"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9A1382EA-9A46-4F06-9D55-4DFD7220C13A}"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BD16F088-B8F4-43BE-817F-5754E49281D1}"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52EEFAB4-DEFE-497B-A5A1-A615237C333E}"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12CE7-6E67-4BDE-B166-00B436C46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AC6ACA3F-74B7-409B-B4E7-C98A03D315D0}"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75B08355-588D-4582-9C60-3BDFA22BCCDA}"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34A90E8B-58F2-478C-B98A-C5618C208327}"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53DB079B-BD62-4A4F-8C36-7BA276896087}"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1E77887D-F1A1-4C7F-991A-1DCC2A68433E}"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2BB8E7BA-FFFD-4E3C-8A3D-83BC5A3F07FC}"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15061E31-D27D-4B9C-BDB3-999E9EB756B6}"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D9CFFC97-E5BB-41A9-B0C9-C56D088C0F8C}"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E4EC0D69-CB6D-4DA1-9484-360D276AC275}"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1C62C2AC-2A82-4079-B9A3-C7689164D114}"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33269A-34EE-485E-BBF0-CBC4EF0AF0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8DF42FF9-7260-443E-BAA1-BC0B1BE0174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CADEC562-FA10-4E78-96F1-94C6B9B4171E}"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6448C96D-F4F0-4CC5-86CF-1D008ACCCA02}"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02F7458A-701B-4119-BE00-C02F1CFCAC76}"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94DAA33F-D85D-4D1A-9DDF-9B56960C2D5D}"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E928662C-65A6-4573-BCA9-BAC5CC46F5DA}"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9AD08F36-F066-41A5-86C3-19C2E71FAD25}"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D6FCDEA9-7CE4-4660-A0D2-264D13010F3C}"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AD1E4325-3857-425B-ACB1-46BAAC0D72FF}"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C7B98818-D5C9-42D4-A74E-C67B27CB3A19}"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BA1A-60C1-4CED-B0B7-B1D9B9FF8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EBE3A8-BBB9-492F-A879-B278867268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4E46B804-643E-4400-A304-95F8CB6D5EF5}"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EAB334-F3D5-4BDA-83F9-F5B411C03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20AE50-A67F-498B-A21D-DAAB366429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A7CBE-1B1B-4C7D-8030-7259FF64A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F7C89-CDC6-467F-8B56-9FDDA47AF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BBEAD2-01EB-4018-8064-804DFE447C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9C807C-13F8-49F1-AB2C-F4A66D627E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057143-D64E-4AFD-9F31-12A89C59A6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05E66-D31C-4295-930E-165B7354E4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E11A02-0C43-4D9C-A53B-0AAE2B57D4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3660-9994-4445-914B-39B0976C7CB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EA40-D307-4046-B3BF-12CE3D1B67A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857E-4C5F-4407-8718-8AA2F3FF6B7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FBDE-5BD0-41EF-8744-4E8261C7723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93AB-D649-410A-9D52-330AB0E07B0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5029-D5AA-4563-A40D-27A2996AEF8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AD906-F4AD-4CB8-8649-8133B6FF4B1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AFD2-413A-446E-8094-4D28B933A9D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711A-6030-4E38-9A48-0F30A58B9CE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F3C4-2C1D-4A88-835D-2C7125E8A96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0D40-6C0E-4923-B1DD-FE0B3D0F03F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CB80-5BC9-4A87-B19C-0FAD8DBA116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5C34-E35C-454C-AC2E-B1517FD665E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8454-4DBB-4960-AF1B-802E4B4711C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6AA1-E518-43BF-99A7-218F7CA2C44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845B-BD70-4296-8D59-99195FA8BA3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828B-97F6-4D62-ADFB-8FA6B9B7EF5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996A-7ACB-45FF-BEA1-E3E4C081ED0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CC7F-24FE-4D29-883F-72B4C0498D2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156A-294F-4E6D-85F2-A20FF32E9D2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CFF1-9CDA-4AB3-9DDE-7DC836668AB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E204-64B1-43DF-8741-0E15DCC4E68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D3CC-36EF-4787-9400-30BFC060ADA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FBED-69B9-4D17-90B9-DB30AD49850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9BDC-EDDF-47B7-B474-6E0A12FF112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5ADB-52A3-4804-9A1E-91A11423A46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E2F2-0E37-491E-9ED4-928E38E1C41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E04C-1BCA-4743-B57F-8789167337F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91CD-72A9-4626-8A46-087731D6CB4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5B1A-BCA2-41C3-8365-E48F767C848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2566-9125-457B-B7B2-49C55A4E5F6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C062-E1E2-4901-B9BB-B571A7C5E1A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D608-1EA2-45DB-A290-2E1B0C503D73}"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3C7D-AA4A-4EFB-9F12-BDA83025FB4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806EB-89E0-4B32-9619-3EDF9C8365FA}"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7637-BF0D-4947-B605-30A487120B0B}"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FBEE-BACB-4017-8DEA-B85FBC0F1C6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15CC-2245-4B4B-8DAF-0F8A6D9B013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E874-AFAB-45DE-BF79-C0C6CF1C659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ABC3-6981-4334-A072-7736CF30613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6509-403F-4946-AD1D-B4D52091F8AE}"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2A7B-85A6-41D8-8E33-A23C8A38993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E5FD-E4D1-4B1A-BD31-12D51E53234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B1BC-8538-40B8-ACD7-A1DBA4AE76B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F3A1-9269-4F5D-A189-7653AE440CB1}"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7F70-838E-451D-BC84-980F159A90B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A7DB-73A5-4945-BFD8-5F140543E64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0BA76-165F-4793-ABD4-9F7C0E05CD30}"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2BD5-2DE9-40FB-9BF6-F7A988BB053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E843-ECA3-48ED-ABF3-FBD22C759DA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AC1B-3115-4C5C-A958-C688BD21A7F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CA58-CD5E-450B-A4B6-2FBA1D8C9AE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38F7-97AE-4CD4-9E9E-5E1B76CB630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FBBC-C289-475D-BF39-544007AADA6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D283-C031-423A-9818-09FB75A6634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B99F-DA03-4A8A-A62C-035682B23C4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EBC5-2D80-4D7D-90DF-28A2721070B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E527F-E910-485C-A191-32034205E1A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4651-D1F3-4471-9E51-F06A5E24801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77E8-4A94-431A-9E05-9D2CAC46C30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286D-2FD4-46D0-AC44-1ED628D6757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F144-48F6-4B11-9D8B-853701F850E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D6F3-BBBF-433C-A8DC-DAEF798EFA1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E783-5A73-4E79-A628-1018733727A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4161-8EF4-409E-BDA3-18D3D945596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926A-D06C-4F1E-9DA2-044E6512E73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1AA0-30CF-49C7-98D5-D298469E53D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C39D-38D3-4975-A7F1-861CAB9BDF9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C3A8-3BD9-46EE-A36C-D9DA6D62159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F60F-637A-40C5-8E10-847400269C2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3D50-958E-4946-99D7-58DE5544765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096C-FEC7-4A68-8A31-7E215A3A87F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B5E5-191E-41AD-96DC-95268EC0BF1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AA26-DE32-46A0-9F08-C505D0D11F1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0B25-4B9C-48EF-A039-7520759ED90E}"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