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73A6-DFB6-4325-A3E5-07A9DAA500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ка и Программирование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</a:rPr>
              <a:t>Выполнил: Кармаков Евгений ИМ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712D-1E22-4B34-A4D4-3626E83B8084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ограмма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eamweaver CS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6DC0-6548-4462-92EF-EF8A0378FA42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браузер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 9.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9CB4-F984-428C-A2B3-EEC82BDF5CED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88CB-1971-487D-A6BB-D6D369A5B929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ель работы: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257C-320B-412A-BCA8-8DEE8C9B1A56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 работе рассмотрены следующие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1. Понятие информационной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1. Структура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2. Принципы изложения матери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DB2F-64C9-406C-B471-74560634A0E3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7703-233C-49ED-B06E-D8CFA250CDDB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уктура, содерж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инцип из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материала при раз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FB81-C6A5-4008-B9C9-AAAA23FFBC0B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а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dex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ме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99E6-9FC6-451B-B806-E738044FBC52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D53-7875-4607-B420-D20BF06B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32E-FD95-4C53-955A-6C39BCA5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381-A83D-483F-A061-5DB6E5E6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DD6-C8F2-44E9-8E4D-F102C45F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5CF9-0614-4F84-9498-BB5AA88E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5E84-C16F-4BF2-9C17-5BE84E1A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ACF5-0B31-42F4-AABB-69B6DF62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C7D2-7E7B-49E4-8B6D-F79831FA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400D-4C72-41FD-AE58-11511384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00A2-2D7F-41A6-80FD-1D2786B2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7895-4F50-4003-B0EA-1F6E0E6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B9A-A468-44C7-AC67-973A31C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7F4C-6D12-4FCD-8DD7-3BD873A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4296-76E2-4E43-98C3-879B0EC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9F37-7F54-42AC-8D56-11446CDE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E1B5-9F7D-4AC4-A689-13AA3027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7E49-2BE6-4838-936F-8470E193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800-B05D-4EC7-A910-B4812E93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EB5-B941-47A8-8329-5A5B3570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84D-217D-4248-B2FE-FE896971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5E7-7AB8-4C78-A492-01DB36BD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4A8-B65F-4147-840E-B94BD8CA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F49-2AB2-4B8A-B096-8FA8E58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945-EEA6-4C84-A033-82BB8C7C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7577-C698-43ED-8220-50750B7724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BA3B-3406-4803-9731-9791CADB34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6340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“</a:t>
            </a: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Информатика и Программирование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5725800"/>
            <a:ext cx="86407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ыполнил: Кармаков Евгений ИМ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075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Программа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Dreamweaver CS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reamweaver2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браузер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Opera 9.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oper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Цель работы: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работе рассмотрены следующи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1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1. Понятие информационной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1. Структура и содерж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2. Принципы изложения матери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труктура, содерж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принцип изло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материала при разработ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электронного учебник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тра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им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лед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allpart"/>
          <p:cNvPicPr/>
          <p:nvPr/>
        </p:nvPicPr>
        <p:blipFill>
          <a:blip r:embed="rId1"/>
          <a:stretch/>
        </p:blipFill>
        <p:spPr>
          <a:xfrm>
            <a:off x="2403360" y="404640"/>
            <a:ext cx="4265640" cy="604872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hat1"/>
          <p:cNvPicPr/>
          <p:nvPr/>
        </p:nvPicPr>
        <p:blipFill>
          <a:blip r:embed="rId1"/>
          <a:stretch/>
        </p:blipFill>
        <p:spPr>
          <a:xfrm>
            <a:off x="366840" y="2819520"/>
            <a:ext cx="8410320" cy="1218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hat2"/>
          <p:cNvPicPr/>
          <p:nvPr/>
        </p:nvPicPr>
        <p:blipFill>
          <a:blip r:embed="rId1"/>
          <a:stretch/>
        </p:blipFill>
        <p:spPr>
          <a:xfrm>
            <a:off x="380880" y="3062160"/>
            <a:ext cx="8382240" cy="733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allpart"/>
          <p:cNvPicPr/>
          <p:nvPr/>
        </p:nvPicPr>
        <p:blipFill>
          <a:blip r:embed="rId1"/>
          <a:stretch/>
        </p:blipFill>
        <p:spPr>
          <a:xfrm>
            <a:off x="2606760" y="260280"/>
            <a:ext cx="4397400" cy="6237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20:57:26Z</dcterms:created>
  <dc:creator>eugene</dc:creator>
  <dc:description/>
  <dc:language>en-US</dc:language>
  <cp:lastModifiedBy>LEGION</cp:lastModifiedBy>
  <dcterms:modified xsi:type="dcterms:W3CDTF">2015-04-01T06:53:46Z</dcterms:modified>
  <cp:revision>14</cp:revision>
  <dc:subject/>
  <dc:title>Разработка электронного учебника по дисциплине “Информатика и программирование”</dc:title>
</cp:coreProperties>
</file>