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B164-87FC-48C4-B6AA-7C21D68212C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Разработка электронного учебника по дисциплине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нформатика и Программирование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urier New"/>
              </a:rPr>
              <a:t>Выполнил: Кармаков Евгений ИМ-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5270-B001-4B5D-80A2-5244A32C3DC3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реда разработки электронного учеб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Программа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eamweaver CS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6432-9000-4AF7-A768-AAA1C5FB53B0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реда разработки электронного учеб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браузер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pera 9.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7BEA-215D-4763-AB20-EA2553A21467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В данной курсовой работе рассматривалась разработке электронного учебного пособия по дисциплине «информатика и программирование», которая включает в себя базовые знания в области информатики и программ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1505-2678-4A2C-8D4B-5887CAAF551B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Цель работы: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400"/>
            </a:b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Разработать электронный учебник по дисциплине «Информатика и Программировани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Рассмотреть роль информационных технологии в образов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Так же рассмотреть структуру, содержание, принцип изложения материала при разработке электронного учеб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4A22-A14E-4D33-BF5A-74B2C703EB98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 работе рассмотрены следующие вопро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Глава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нформационные технологии в образо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1. Понятие информационной техн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2. Роль средств новых информационных технологий (СНИТ) в образов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3. Педагогические цели использования СН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4. Направления внедрения СНИТ в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Глава 2. Разработка электронного пособия по дисциплине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.1. Структура и содерж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.2. Принципы изложения матери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.3. Использования электронного пособия в учебном процессе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5D04-6E98-4A40-8859-61C80139EAC3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нформационные технологии в образован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нформатизация общества — это глобальный социальный процесс, особенность которого состоит в том, что доминирующим видом деятельности в сфере общественного производства является сбор, накопление, продуцирование, обработка, хранение, передача и использование информации, осуществляемые на основе современных средств микропроцессорной и вычислительной техники, а также на базе разнообразных средств информационного об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1D33-862D-4C4F-B3E7-7F133761B2C0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труктура, содерж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принцип из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материала при разрабо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электронного учеб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943E-68DC-4378-9AB3-E18E8DE5DEFA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тра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dex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ме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F04B-3134-4BB3-A76B-C2FAF28275FD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72E-250B-43F5-A451-461761A0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6FE4-F360-4765-9DF8-D10D15D0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16B-8978-4157-82B5-4A38245D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31C-6F78-473F-AA1D-D76A15E4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04F7-1285-48AE-B884-6E208220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7D28-8FB1-46F9-A82D-061F8774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CD6E-0E88-4A71-BD3D-8EAD1989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FA54-ADD7-414C-A995-0A151355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45CB-62D8-4384-B634-D14CCD3A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DC73-501E-4162-9F55-A7FDDD22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ACC1-E4D3-44CE-9A21-B4F7E421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A611-1BD9-46BC-9591-68F37BAA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4FF6-DB2D-485A-BB71-272BDFA2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5C51-0E57-4765-9232-40E4EECD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2569-BFD2-412C-ADC5-FB3F88E6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275F-1D86-4DE6-BCA9-83BE52F1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6AB0-82AD-434E-89AF-127107E8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060-4A0F-4B2D-BE83-EC05E0A9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1906-63B0-4F15-B4DE-1F0BA0F0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587F-212B-4502-B130-9F5758B8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B327-04C0-45EA-A4EA-9A96EF6F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007-C8D8-46D2-8363-6B27CE6B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9715-98BE-490B-87AD-BA8FD521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C1CE-57C1-4F4C-9AED-AE66FE8E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DAC9-DBE2-41B1-9A37-23182E50C8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6232-760A-4D99-A656-36DD5021EB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46340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Разработка электронного учебника по дисциплине </a:t>
            </a:r>
            <a:r>
              <a:rPr b="0" lang="en-US" sz="4400" spc="-1" strike="noStrike">
                <a:solidFill>
                  <a:srgbClr val="ffffff"/>
                </a:solidFill>
                <a:latin typeface="Courier New"/>
              </a:rPr>
              <a:t>“</a:t>
            </a: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Информатика и Программирование</a:t>
            </a:r>
            <a:r>
              <a:rPr b="0" lang="en-US" sz="4400" spc="-1" strike="noStrike">
                <a:solidFill>
                  <a:srgbClr val="ffffff"/>
                </a:solidFill>
                <a:latin typeface="Courier New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24000" y="5725800"/>
            <a:ext cx="864072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Выполнил: Кармаков Евгений ИМ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Среда разработки электронного учеб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280" y="3141360"/>
            <a:ext cx="8075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Программа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Dreamweaver CS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dreamweaver2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Среда разработки электронного учеб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306864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браузер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Opera 9.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opera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6736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Заключ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В данной курсовой работе рассматривалась разработке электронного учебного пособия по дисциплине «информатика и программирование», которая включает в себя базовые знания в области информатики и программиров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Цель работы: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 </a:t>
            </a:r>
            <a:br>
              <a:rPr sz="2400"/>
            </a:b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Разработать электронный учебник по дисциплине «Информатика и Программирован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Рассмотреть роль информационных технологии в образова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Так же рассмотреть структуру, содержание, принцип изложения материала при разработке электронного учебн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В работе рассмотрены следующие вопро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Глава 1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Информационные технологии в образов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1. Понятие информационной техноло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2. Роль средств новых информационных технологий (СНИТ) в образов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3. Педагогические цели использования СН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4. Направления внедрения СНИТ в образ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Глава 2. Разработка электронного пособия по дисциплине информа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2.1. Структура и содерж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2.2. Принципы изложения материа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2.3. Использования электронного пособия в учебном процессе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Информационные технологии в образовани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Информатизация общества — это глобальный социальный процесс, особенность которого состоит в том, что доминирующим видом деятельности в сфере общественного производства является сбор, накопление, продуцирование, обработка, хранение, передача и использование информации, осуществляемые на основе современных средств микропроцессорной и вычислительной техники, а также на базе разнообразных средств информационного обме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Структура, содержан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принцип излож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материала при разработ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электронного учебник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73844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Стран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ndex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име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следующ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ви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allpart"/>
          <p:cNvPicPr/>
          <p:nvPr/>
        </p:nvPicPr>
        <p:blipFill>
          <a:blip r:embed="rId1"/>
          <a:stretch/>
        </p:blipFill>
        <p:spPr>
          <a:xfrm>
            <a:off x="2403360" y="404640"/>
            <a:ext cx="4265640" cy="604872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hat1"/>
          <p:cNvPicPr/>
          <p:nvPr/>
        </p:nvPicPr>
        <p:blipFill>
          <a:blip r:embed="rId1"/>
          <a:stretch/>
        </p:blipFill>
        <p:spPr>
          <a:xfrm>
            <a:off x="366840" y="2819520"/>
            <a:ext cx="8410320" cy="12189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hat2"/>
          <p:cNvPicPr/>
          <p:nvPr/>
        </p:nvPicPr>
        <p:blipFill>
          <a:blip r:embed="rId1"/>
          <a:stretch/>
        </p:blipFill>
        <p:spPr>
          <a:xfrm>
            <a:off x="380880" y="3062160"/>
            <a:ext cx="8382240" cy="7336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4" descr="allpart"/>
          <p:cNvPicPr/>
          <p:nvPr/>
        </p:nvPicPr>
        <p:blipFill>
          <a:blip r:embed="rId1"/>
          <a:stretch/>
        </p:blipFill>
        <p:spPr>
          <a:xfrm>
            <a:off x="2606760" y="260280"/>
            <a:ext cx="4397400" cy="6237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5T20:57:26Z</dcterms:created>
  <dc:creator>eugene</dc:creator>
  <dc:description/>
  <dc:language>en-US</dc:language>
  <cp:lastModifiedBy>LEGION</cp:lastModifiedBy>
  <dcterms:modified xsi:type="dcterms:W3CDTF">2015-04-01T06:53:46Z</dcterms:modified>
  <cp:revision>14</cp:revision>
  <dc:subject/>
  <dc:title>Разработка электронного учебника по дисциплине “Информатика и программирование”</dc:title>
</cp:coreProperties>
</file>