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D0C6-7065-441F-8618-962D08F3FD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ка и Программирование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</a:rPr>
              <a:t>Выполнил: Кармаков Евгений ИМ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6F2-504F-48F2-AB9F-897A111CB8E9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ограмма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eamweaver CS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E417-2058-4D2B-894E-1C1B855372C8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браузер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 9.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D542-07C5-4015-A8C1-8032AA35089E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451F-9961-452C-9AF8-676723C04A7F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ель работы: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6E09-B243-4122-AAF1-6E990F3B7D15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 работе рассмотрены следующие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1. Понятие информационной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1. Структура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2. Принципы изложения матери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ADB8-6757-4F3E-A93F-49D01FF9A540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F74C-153F-4675-8EE7-852847DC781A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уктура, содерж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инцип из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материала при раз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6B8D-F392-4300-854E-72ED47A668DA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а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dex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ме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8F85-9B15-4BCA-B40C-703BDC11E6CE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28C-89A8-4457-89FB-4F22D94B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681-B7F3-4DCF-843B-8D42D80D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953-8C85-4202-AB48-4BBEFD24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8CD-47A9-4A29-986A-E3ADA21D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D140-F6A5-4362-B7AB-7B7C04B3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0F8A-7139-4DB6-8A9F-F0BE966B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2CA9-6DA4-496F-89AD-E54A2A5B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98C7-38CD-4681-89F7-181E907A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32D3-74F8-4737-A1B7-4CD44285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56F6-672E-43EC-BF95-943BA85E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92E1-919C-473B-A548-F43522B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7C1-E660-43F3-8234-0397AA8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A983-F71B-4E3C-962C-10FE4477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FD2D-A0B5-4812-A3F3-E9E81E70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23CC-210E-4744-8533-873508C5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3A4F-CA52-47F1-BF37-A062E369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51C3-756E-4045-85B8-2482F185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7D3-5D3C-4057-8094-E0A7DAF8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835-6C1A-47A9-94B5-6B73E264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C4D-41BE-4B3C-9E54-1D760384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5B5-BE8B-46CB-8E86-AD33399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1D9-11C2-4683-AE4C-41F1E812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A36-B265-4C24-A91F-926474A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AA4-DD76-41E4-BE19-99A33750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97F-01CF-4EB1-9B32-F1084F10C9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E663-7B7E-467F-8305-98F88F2A1B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6340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“</a:t>
            </a: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Информатика и Программирование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5725800"/>
            <a:ext cx="86407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ыполнил: Кармаков Евгений ИМ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075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Программа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Dreamweaver CS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reamweaver2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браузер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Opera 9.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oper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Цель работы: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работе рассмотрены следующи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1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1. Понятие информационной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1. Структура и содерж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2. Принципы изложения матери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труктура, содерж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принцип изло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материала при разработ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электронного учебник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тра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им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лед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allpart"/>
          <p:cNvPicPr/>
          <p:nvPr/>
        </p:nvPicPr>
        <p:blipFill>
          <a:blip r:embed="rId1"/>
          <a:stretch/>
        </p:blipFill>
        <p:spPr>
          <a:xfrm>
            <a:off x="2403360" y="404640"/>
            <a:ext cx="4265640" cy="604872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hat1"/>
          <p:cNvPicPr/>
          <p:nvPr/>
        </p:nvPicPr>
        <p:blipFill>
          <a:blip r:embed="rId1"/>
          <a:stretch/>
        </p:blipFill>
        <p:spPr>
          <a:xfrm>
            <a:off x="366840" y="2819520"/>
            <a:ext cx="8410320" cy="1218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hat2"/>
          <p:cNvPicPr/>
          <p:nvPr/>
        </p:nvPicPr>
        <p:blipFill>
          <a:blip r:embed="rId1"/>
          <a:stretch/>
        </p:blipFill>
        <p:spPr>
          <a:xfrm>
            <a:off x="380880" y="3062160"/>
            <a:ext cx="8382240" cy="733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allpart"/>
          <p:cNvPicPr/>
          <p:nvPr/>
        </p:nvPicPr>
        <p:blipFill>
          <a:blip r:embed="rId1"/>
          <a:stretch/>
        </p:blipFill>
        <p:spPr>
          <a:xfrm>
            <a:off x="2606760" y="260280"/>
            <a:ext cx="4397400" cy="6237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20:57:26Z</dcterms:created>
  <dc:creator>eugene</dc:creator>
  <dc:description/>
  <dc:language>en-US</dc:language>
  <cp:lastModifiedBy>LEGION</cp:lastModifiedBy>
  <dcterms:modified xsi:type="dcterms:W3CDTF">2015-04-01T06:53:46Z</dcterms:modified>
  <cp:revision>14</cp:revision>
  <dc:subject/>
  <dc:title>Разработка электронного учебника по дисциплине “Информатика и программирование”</dc:title>
</cp:coreProperties>
</file>