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0CEA-74BF-4D2D-88E8-07089F375F2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Разработка электронного учебника по дисциплине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тика и Программирование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urier New"/>
              </a:rPr>
              <a:t>Выполнил: Кармаков Евгений ИМ-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1F8E-5BDC-4A19-BD5D-DBA881BC6981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реда разработки электронного учеб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Программа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eamweaver CS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954E-53F8-4003-878C-25734A91E32D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реда разработки электронного учеб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браузер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pera 9.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B90C-28BD-4C7D-B296-F81A31356C4B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В данной курсовой работе рассматривалась разработке электронного учебного пособия по дисциплине «информатика и программирование», которая включает в себя базовые знания в области информатики и программ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ABC7-738F-4E85-8F74-8CF39AE0EA62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Цель работы: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400"/>
            </a:b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Разработать электронный учебник по дисциплине «Информатика и Программировани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Рассмотреть роль информационных технологии в образов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Так же рассмотреть структуру, содержание, принцип изложения материала при разработке электронного учеб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F018-535B-4BA5-A75C-DC22B3762BA1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 работе рассмотрены следующие вопро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Глава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ционные технологии в образо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1. Понятие информационной техн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2. Роль средств новых информационных технологий (СНИТ) в образов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3. Педагогические цели использования СН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4. Направления внедрения СНИТ в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Глава 2. Разработка электронного пособия по дисциплине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1. Структура и содерж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2. Принципы изложения матери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3. Использования электронного пособия в учебном процессе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585A-9E7B-47B9-AF72-5DD059C808D3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нформационные технологии в образован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тизация общества — это глобальный социальный процесс, особенность которого состоит в том, что доминирующим видом деятельности в сфере общественного производства является сбор, накопление, продуцирование, обработка, хранение, передача и использование информации, осуществляемые на основе современных средств микропроцессорной и вычислительной техники, а также на базе разнообразных средств информационного об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EE15-F4FB-4EAF-9D6F-CEEA81134771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труктура, содерж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принцип из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материала при разрабо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электронного учеб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5F09-4B0F-4C74-A24B-4FAD5842CEA0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тра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dex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ме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B2D4-D450-43A8-9FE9-AA64B52924BB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A9F-5F96-459D-AA7D-3B3FA231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5D58-6B7F-4A91-B370-C6C85400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7ED-18E6-4639-922B-2CF9DFD1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853-AE43-4C21-BEC0-0DDE5E48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6026-F058-4408-A8A5-3946EBEE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9E16-C1A9-4EBA-AB17-72E04849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581A-A462-4941-9062-AC84D48E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19CE-E6A4-4059-B39C-779F09DF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5790-CE96-421E-A94B-74F47F80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A5B9-9EEA-422E-8587-99A098F0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0217-9283-44CA-B12A-76F65B96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2C2-5161-408A-84A2-1B112182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3DE6-52A3-4886-913E-D53355E9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E048-9A72-41BC-840D-761EDB83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594D-E29E-48B0-AC02-204B5B05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EA92-F1D3-486A-9E78-62F9DE8B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7F00-25D8-4C3F-B841-7D30AECD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804-5E0F-41CB-AE5B-CE9389D3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A72-DA49-49BB-A9C0-8445717C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391D-0A17-4158-9098-93B07896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4E5-B60D-401F-9EED-4E02D878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B234-5AF2-47AB-B528-0AEC6A57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346-1DC8-4C5F-81C9-7853EFE8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B89F-8AAD-425A-91EB-81720C7C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F837-5559-44A7-B879-703811ABCA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441E-E56F-4219-82DA-BA010283F4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46340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Разработка электронного учебника по дисциплине </a:t>
            </a:r>
            <a:r>
              <a:rPr b="0" lang="en-US" sz="4400" spc="-1" strike="noStrike">
                <a:solidFill>
                  <a:srgbClr val="ffffff"/>
                </a:solidFill>
                <a:latin typeface="Courier New"/>
              </a:rPr>
              <a:t>“</a:t>
            </a: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Информатика и Программирование</a:t>
            </a:r>
            <a:r>
              <a:rPr b="0" lang="en-US" sz="4400" spc="-1" strike="noStrike">
                <a:solidFill>
                  <a:srgbClr val="ffffff"/>
                </a:solidFill>
                <a:latin typeface="Courier New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24000" y="5725800"/>
            <a:ext cx="864072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ыполнил: Кармаков Евгений ИМ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реда разработки электронного учеб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280" y="3141360"/>
            <a:ext cx="8075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Программа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Dreamweaver CS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dreamweaver2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реда разработки электронного учеб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306864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браузер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Opera 9.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opera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 данной курсовой работе рассматривалась разработке электронного учебного пособия по дисциплине «информатика и программирование», которая включает в себя базовые знания в области информатики и программиров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Цель работы: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 </a:t>
            </a:r>
            <a:br>
              <a:rPr sz="2400"/>
            </a:b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Разработать электронный учебник по дисциплине «Информатика и Программирован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Рассмотреть роль информационных технологии в образова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Так же рассмотреть структуру, содержание, принцип изложения материала при разработке электронного учебн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 работе рассмотрены следующие вопро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Глава 1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Информационные технологии в образов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1. Понятие информационной техн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2. Роль средств новых информационных технологий (СНИТ) в образов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3. Педагогические цели использования СН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4. Направления внедрения СНИТ в образ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Глава 2. Разработка электронного пособия по дисциплине информа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1. Структура и содерж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2. Принципы изложения материа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3. Использования электронного пособия в учебном процессе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Информационные технологии в образовани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Информатизация общества — это глобальный социальный процесс, особенность которого состоит в том, что доминирующим видом деятельности в сфере общественного производства является сбор, накопление, продуцирование, обработка, хранение, передача и использование информации, осуществляемые на основе современных средств микропроцессорной и вычислительной техники, а также на базе разнообразных средств информационного обме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труктура, содержан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принцип излож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материала при разработ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электронного учебник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7384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Стран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nde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име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следующ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ви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allpart"/>
          <p:cNvPicPr/>
          <p:nvPr/>
        </p:nvPicPr>
        <p:blipFill>
          <a:blip r:embed="rId1"/>
          <a:stretch/>
        </p:blipFill>
        <p:spPr>
          <a:xfrm>
            <a:off x="2403360" y="404640"/>
            <a:ext cx="4265640" cy="604872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hat1"/>
          <p:cNvPicPr/>
          <p:nvPr/>
        </p:nvPicPr>
        <p:blipFill>
          <a:blip r:embed="rId1"/>
          <a:stretch/>
        </p:blipFill>
        <p:spPr>
          <a:xfrm>
            <a:off x="366840" y="2819520"/>
            <a:ext cx="8410320" cy="12189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hat2"/>
          <p:cNvPicPr/>
          <p:nvPr/>
        </p:nvPicPr>
        <p:blipFill>
          <a:blip r:embed="rId1"/>
          <a:stretch/>
        </p:blipFill>
        <p:spPr>
          <a:xfrm>
            <a:off x="380880" y="3062160"/>
            <a:ext cx="8382240" cy="7336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allpart"/>
          <p:cNvPicPr/>
          <p:nvPr/>
        </p:nvPicPr>
        <p:blipFill>
          <a:blip r:embed="rId1"/>
          <a:stretch/>
        </p:blipFill>
        <p:spPr>
          <a:xfrm>
            <a:off x="2606760" y="260280"/>
            <a:ext cx="4397400" cy="6237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20:57:26Z</dcterms:created>
  <dc:creator>eugene</dc:creator>
  <dc:description/>
  <dc:language>en-US</dc:language>
  <cp:lastModifiedBy>LEGION</cp:lastModifiedBy>
  <dcterms:modified xsi:type="dcterms:W3CDTF">2015-04-01T06:53:46Z</dcterms:modified>
  <cp:revision>14</cp:revision>
  <dc:subject/>
  <dc:title>Разработка электронного учебника по дисциплине “Информатика и программирование”</dc:title>
</cp:coreProperties>
</file>