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859F-F78B-4416-834B-08F83A78661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Разработка электронного учебника по дисциплине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Информатика и Программирование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urier New"/>
              </a:rPr>
              <a:t>Выполнил: Кармаков Евгений ИМ-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A8E3-0B8D-4B81-A051-BF14BBCF692F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Среда разработки электронного учеб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Программа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reamweaver CS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778C-EB34-4151-88F3-D16F923BAB8A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Среда разработки электронного учеб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браузер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pera 9.5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985B-B036-4CB4-9257-9AD410FF2717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В данной курсовой работе рассматривалась разработке электронного учебного пособия по дисциплине «информатика и программирование», которая включает в себя базовые знания в области информатики и программ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EA05-9253-4C37-BC95-4CCFC4898E46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Цель работы: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400"/>
            </a:b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Разработать электронный учебник по дисциплине «Информатика и Программирование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Рассмотреть роль информационных технологии в образова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Так же рассмотреть структуру, содержание, принцип изложения материала при разработке электронного учебни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D4B0-3808-47C1-BE53-6D19ADDF96BE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 работе рассмотрены следующие вопрос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Глава 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Информационные технологии в образов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1.1. Понятие информационной техн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1.2. Роль средств новых информационных технологий (СНИТ) в образова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1.3. Педагогические цели использования СН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1.4. Направления внедрения СНИТ в 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Глава 2. Разработка электронного пособия по дисциплине информа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2.1. Структура и содерж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2.2. Принципы изложения материа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2.3. Использования электронного пособия в учебном процессе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5CBB-9C63-42DE-8AD7-89D564E48753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Информационные технологии в образован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Информатизация общества — это глобальный социальный процесс, особенность которого состоит в том, что доминирующим видом деятельности в сфере общественного производства является сбор, накопление, продуцирование, обработка, хранение, передача и использование информации, осуществляемые на основе современных средств микропроцессорной и вычислительной техники, а также на базе разнообразных средств информационного обме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02B5-C9FF-487A-B947-E9B51E4B0FC9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Структура, содержа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принцип из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материала при разработ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электронного учебни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7771-DF3C-4772-B081-797B35CA40E2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Стра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dex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име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следующ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FA18-440C-4AA5-B77F-188DE0170B81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6FB4-9652-4FE5-A034-5E32D1658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55AD-EAD2-4D97-AC99-6746A558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DBDF-D171-4A1E-8610-4FC5E8E7A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91A4-8243-4E0E-A65A-30D69CAC1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5F6C-B0B7-4C50-B6EC-D878BC641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3B68-8C36-4B78-A6C0-6484F613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3F73-D4FD-4B16-8DA7-61C6C34D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216C-0067-4DBB-A426-55244811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846B-E00A-40B7-B50F-F6CCA745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127F-82DA-4989-B4FD-6978837D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7653-A4CC-48B6-A925-38704B93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3B73-1F01-4212-95C0-F9DF06F1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36DF-4329-40B9-A653-B8D8B8E0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9F8A-48C0-493B-9531-69BF84ED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0381-E0F9-42F1-BCF8-B1B1D69E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833E-1241-46C7-8C02-F59B9820C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D2D1-B833-4CED-AF89-C205FB235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9A2F-E702-4582-9C92-D305E920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F1CB-64C3-4C13-A455-0CF3E724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FB95-C2E9-42B5-BFDB-1D55C1AB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2DE2-2E7E-4984-8D76-216F881B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9D3B-148A-4086-844D-82591F31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719F-4FD3-434C-830F-0097D303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4F52-AFB3-46F4-96BB-B92E52DF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urier New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urier New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FB2B-3376-4196-AEEE-8B107F79FD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urier New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urier New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363A-8535-4A48-9A1E-E6D79EE67D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46340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urier New"/>
              </a:rPr>
              <a:t>Разработка электронного учебника по дисциплине </a:t>
            </a:r>
            <a:r>
              <a:rPr b="0" lang="en-US" sz="4400" spc="-1" strike="noStrike">
                <a:solidFill>
                  <a:srgbClr val="ffffff"/>
                </a:solidFill>
                <a:latin typeface="Courier New"/>
              </a:rPr>
              <a:t>“</a:t>
            </a:r>
            <a:r>
              <a:rPr b="0" lang="ru-RU" sz="4400" spc="-1" strike="noStrike">
                <a:solidFill>
                  <a:srgbClr val="ffffff"/>
                </a:solidFill>
                <a:latin typeface="Courier New"/>
              </a:rPr>
              <a:t>Информатика и Программирование</a:t>
            </a:r>
            <a:r>
              <a:rPr b="0" lang="en-US" sz="4400" spc="-1" strike="noStrike">
                <a:solidFill>
                  <a:srgbClr val="ffffff"/>
                </a:solidFill>
                <a:latin typeface="Courier New"/>
              </a:rPr>
              <a:t>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24000" y="5725800"/>
            <a:ext cx="864072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urier New"/>
              </a:rPr>
              <a:t>Выполнил: Кармаков Евгений ИМ-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urier New"/>
              </a:rPr>
              <a:t>Среда разработки электронного учебн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9280" y="3141360"/>
            <a:ext cx="8075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urier New"/>
              </a:rPr>
              <a:t>Программа 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Dreamweaver CS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4" descr="dreamweaver2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urier New"/>
              </a:rPr>
              <a:t>Среда разработки электронного учебн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9640" y="306864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urier New"/>
              </a:rPr>
              <a:t>браузер 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Opera 9.5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4" descr="opera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67360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urier New"/>
              </a:rPr>
              <a:t>Заключ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urier New"/>
              </a:rPr>
              <a:t>В данной курсовой работе рассматривалась разработке электронного учебного пособия по дисциплине «информатика и программирование», которая включает в себя базовые знания в области информатики и программирова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urier New"/>
              </a:rPr>
              <a:t>Цель работы:</a:t>
            </a:r>
            <a:r>
              <a:rPr b="0" lang="ru-RU" sz="2400" spc="-1" strike="noStrike">
                <a:solidFill>
                  <a:srgbClr val="ffffff"/>
                </a:solidFill>
                <a:latin typeface="Courier New"/>
              </a:rPr>
              <a:t> </a:t>
            </a:r>
            <a:br>
              <a:rPr sz="2400"/>
            </a:br>
            <a:r>
              <a:rPr b="0" lang="ru-RU" sz="2800" spc="-1" strike="noStrike">
                <a:solidFill>
                  <a:srgbClr val="ffffff"/>
                </a:solidFill>
                <a:latin typeface="Courier New"/>
              </a:rPr>
              <a:t>Разработать электронный учебник по дисциплине «Информатика и Программировани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urier New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Рассмотреть роль информационных технологии в образован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Так же рассмотреть структуру, содержание, принцип изложения материала при разработке электронного учебни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urier New"/>
              </a:rPr>
              <a:t>В работе рассмотрены следующие вопрос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Глава 1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.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Информационные технологии в образован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1.1. Понятие информационной технолог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1.2. Роль средств новых информационных технологий (СНИТ) в образован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1.3. Педагогические цели использования СНИ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1.4. Направления внедрения СНИТ в образ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Глава 2. Разработка электронного пособия по дисциплине информат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2.1. Структура и содержа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2.2. Принципы изложения материа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2.3. Использования электронного пособия в учебном процессе</a:t>
            </a:r>
            <a:r>
              <a:rPr b="0" lang="ru-RU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urier New"/>
              </a:rPr>
              <a:t>Информационные технологии в образовании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urier New"/>
              </a:rPr>
              <a:t>Информатизация общества — это глобальный социальный процесс, особенность которого состоит в том, что доминирующим видом деятельности в сфере общественного производства является сбор, накопление, продуцирование, обработка, хранение, передача и использование информации, осуществляемые на основе современных средств микропроцессорной и вычислительной техники, а также на базе разнообразных средств информационного обмен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urier New"/>
              </a:rPr>
              <a:t>Структура, содержание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urier New"/>
              </a:rPr>
              <a:t>принцип излож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urier New"/>
              </a:rPr>
              <a:t>материала при разработк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urier New"/>
              </a:rPr>
              <a:t>электронного учебника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173844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urier New"/>
              </a:rPr>
              <a:t>Страни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index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urier New"/>
              </a:rPr>
              <a:t>име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urier New"/>
              </a:rPr>
              <a:t>следующ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urier New"/>
              </a:rPr>
              <a:t>ви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5" descr="allpart"/>
          <p:cNvPicPr/>
          <p:nvPr/>
        </p:nvPicPr>
        <p:blipFill>
          <a:blip r:embed="rId1"/>
          <a:stretch/>
        </p:blipFill>
        <p:spPr>
          <a:xfrm>
            <a:off x="2403360" y="404640"/>
            <a:ext cx="4265640" cy="604872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hat1"/>
          <p:cNvPicPr/>
          <p:nvPr/>
        </p:nvPicPr>
        <p:blipFill>
          <a:blip r:embed="rId1"/>
          <a:stretch/>
        </p:blipFill>
        <p:spPr>
          <a:xfrm>
            <a:off x="366840" y="2819520"/>
            <a:ext cx="8410320" cy="121896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hat2"/>
          <p:cNvPicPr/>
          <p:nvPr/>
        </p:nvPicPr>
        <p:blipFill>
          <a:blip r:embed="rId1"/>
          <a:stretch/>
        </p:blipFill>
        <p:spPr>
          <a:xfrm>
            <a:off x="380880" y="3062160"/>
            <a:ext cx="8382240" cy="73368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4" descr="allpart"/>
          <p:cNvPicPr/>
          <p:nvPr/>
        </p:nvPicPr>
        <p:blipFill>
          <a:blip r:embed="rId1"/>
          <a:stretch/>
        </p:blipFill>
        <p:spPr>
          <a:xfrm>
            <a:off x="2606760" y="260280"/>
            <a:ext cx="4397400" cy="623736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5T20:57:26Z</dcterms:created>
  <dc:creator>eugene</dc:creator>
  <dc:description/>
  <dc:language>en-US</dc:language>
  <cp:lastModifiedBy>LEGION</cp:lastModifiedBy>
  <dcterms:modified xsi:type="dcterms:W3CDTF">2015-04-01T06:53:46Z</dcterms:modified>
  <cp:revision>14</cp:revision>
  <dc:subject/>
  <dc:title>Разработка электронного учебника по дисциплине “Информатика и программирование”</dc:title>
</cp:coreProperties>
</file>