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chimes.wav" ContentType="audio/x-wav"/>
  <Override PartName="/ppt/media/laser.wav" ContentType="audio/x-wav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B606-CD07-4490-B61A-B8509A2AEA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BB82-0A4F-4F58-9E53-1660A648F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367C-D4AB-45CD-83D0-ACA1A89B6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A433-3034-4CCC-A220-7DDDB7FA9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2400"/>
            </a:b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9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0E92-12A7-42E9-BF3E-B0672711C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E125-B90B-45CA-B463-0576CEDEC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F89-5D7A-4147-B400-51DBECC4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DDE-52CA-4413-B707-BC619C15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1AC-6F6C-40BF-B1A9-DABA5FD5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AA2-CEA6-4567-9224-B19AB89D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65E-89D8-444D-B292-2F5CA61F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A45-1EB8-43BD-9C95-AE4DDA87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47F-66E2-4800-8E96-8DBD5291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FFC-303F-4441-8751-A14C77EC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AF2-3240-4472-8A87-BB7DA9A4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B74-4044-4067-927C-824FAAEE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528-09B0-4728-8C9A-663EB7E0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18E-9AEF-4A06-B2A3-44A2097F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B023-9E38-4D10-9B5E-36FB68A01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j0287005"/>
          <p:cNvPicPr/>
          <p:nvPr/>
        </p:nvPicPr>
        <p:blipFill>
          <a:blip r:embed="rId1"/>
          <a:stretch/>
        </p:blipFill>
        <p:spPr>
          <a:xfrm>
            <a:off x="3276720" y="1193760"/>
            <a:ext cx="2050920" cy="3524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0" y="0"/>
            <a:ext cx="9144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651200"/>
            <a:ext cx="91440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19700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8000"/>
            </a:b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771640" y="3933720"/>
            <a:ext cx="3600720" cy="3011760"/>
            <a:chOff x="2771640" y="3933720"/>
            <a:chExt cx="3600720" cy="3011760"/>
          </a:xfrm>
        </p:grpSpPr>
        <p:pic>
          <p:nvPicPr>
            <p:cNvPr id="57" name="Picture 4" descr="j0205582"/>
            <p:cNvPicPr/>
            <p:nvPr/>
          </p:nvPicPr>
          <p:blipFill>
            <a:blip r:embed="rId1"/>
            <a:stretch/>
          </p:blipFill>
          <p:spPr>
            <a:xfrm>
              <a:off x="2771640" y="3933720"/>
              <a:ext cx="360072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6"/>
            <p:cNvSpPr/>
            <p:nvPr/>
          </p:nvSpPr>
          <p:spPr>
            <a:xfrm>
              <a:off x="4356000" y="4869000"/>
              <a:ext cx="792360" cy="64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4356000" y="5013360"/>
              <a:ext cx="792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х2=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2"/>
          <p:cNvSpPr/>
          <p:nvPr/>
        </p:nvSpPr>
        <p:spPr>
          <a:xfrm>
            <a:off x="0" y="2133720"/>
            <a:ext cx="9144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10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j0292982"/>
          <p:cNvPicPr/>
          <p:nvPr/>
        </p:nvPicPr>
        <p:blipFill>
          <a:blip r:embed="rId1"/>
          <a:stretch/>
        </p:blipFill>
        <p:spPr>
          <a:xfrm>
            <a:off x="1116000" y="0"/>
            <a:ext cx="6842160" cy="6753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0" y="33336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720" y="980640"/>
            <a:ext cx="9180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-36360" y="-27000"/>
            <a:ext cx="93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75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75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75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75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75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75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75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75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03:36Z</dcterms:created>
  <dc:creator>Саня</dc:creator>
  <dc:description/>
  <dc:language>en-US</dc:language>
  <cp:lastModifiedBy>LEGION</cp:lastModifiedBy>
  <dcterms:modified xsi:type="dcterms:W3CDTF">2015-04-01T06:54:31Z</dcterms:modified>
  <cp:revision>31</cp:revision>
  <dc:subject/>
  <dc:title>Информатизация общества. Информатика. </dc:title>
</cp:coreProperties>
</file>