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chimes.wav" ContentType="audio/x-wav"/>
  <Override PartName="/ppt/media/laser.wav" ContentType="audio/x-wav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BA3C-0B61-4FFC-B0F8-7518DEC29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46A0-D69D-4930-80C6-4F11111FD5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Компьютер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7664-808C-411F-97ED-CA1EC563BB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это наука, изучающая законы и методы накопления, обработки и предоставления информации с помощью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C8F5-9BCF-4148-A22C-ADA62290E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ВМ</a:t>
            </a:r>
            <a:br>
              <a:rPr sz="2400"/>
            </a:b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(Электронно-вычислительная маш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9600" spc="-1" strike="noStrike">
                <a:solidFill>
                  <a:srgbClr val="ff0000"/>
                </a:solidFill>
                <a:latin typeface="Times New Roman"/>
              </a:rPr>
              <a:t>компьюте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ff"/>
                </a:solidFill>
                <a:latin typeface="Arial"/>
              </a:rPr>
              <a:t>computer </a:t>
            </a: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i="1" lang="en-U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вычисли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1BD4-92BE-4CCE-9F7A-F3B0A0C7A0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как наука зародилась с середины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ХХ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века благодаря изобретению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Области применения 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лопроизводство, изд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. анимация, реклам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. музыка, виде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томатизация вычислений (бухгалтерских, научных, статистичес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поисковые системы (архивно-библиотечная деятельность, продажа товаров, биле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ПР (системы автоматизированного проектиров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СУ (автоматизированные системы управ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вязь (комп. се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учающие и игровы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2A12-33C9-463E-8F62-B47EDE0DF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04A-830F-4B2E-8F3A-E88CFCCA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95F-CB71-4549-9F9F-3B181E11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50A-7CA6-4B09-B784-03F54542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1E4-2700-473B-8C38-97F95F2E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CD70-4F39-4EFD-AD77-9C6CCB15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E2B-7343-4E93-9C2B-790930CD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551-6252-4260-A290-7611A587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B5E-E0C1-4F65-9931-36F0C6B1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E8B-CBB4-44C7-A357-67A21E4D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895-5EB1-4F40-A5FB-FE4D30A7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170-B70E-413B-85BD-7820AF5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13A-775E-4590-817D-1CC3C4A1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A0FC-860A-4E71-B6E9-EDD45D9E64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j0287005"/>
          <p:cNvPicPr/>
          <p:nvPr/>
        </p:nvPicPr>
        <p:blipFill>
          <a:blip r:embed="rId1"/>
          <a:stretch/>
        </p:blipFill>
        <p:spPr>
          <a:xfrm>
            <a:off x="3276720" y="1193760"/>
            <a:ext cx="2050920" cy="3524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0" y="0"/>
            <a:ext cx="9144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Times New Roman"/>
              </a:rPr>
              <a:t>Информа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651200"/>
            <a:ext cx="91440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Times New Roman"/>
              </a:rPr>
              <a:t>Компьютер в жизни общест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197000"/>
            <a:ext cx="9144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- это наука, изучающая законы и методы накопления, обработки и предоставления информации с помощью ЭВ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ЭВМ</a:t>
            </a:r>
            <a:br>
              <a:rPr sz="8000"/>
            </a:b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(Электронно-вычислительная машин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771640" y="3933720"/>
            <a:ext cx="3600720" cy="3011760"/>
            <a:chOff x="2771640" y="3933720"/>
            <a:chExt cx="3600720" cy="3011760"/>
          </a:xfrm>
        </p:grpSpPr>
        <p:pic>
          <p:nvPicPr>
            <p:cNvPr id="57" name="Picture 4" descr="j0205582"/>
            <p:cNvPicPr/>
            <p:nvPr/>
          </p:nvPicPr>
          <p:blipFill>
            <a:blip r:embed="rId1"/>
            <a:stretch/>
          </p:blipFill>
          <p:spPr>
            <a:xfrm>
              <a:off x="2771640" y="3933720"/>
              <a:ext cx="360072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6"/>
            <p:cNvSpPr/>
            <p:nvPr/>
          </p:nvSpPr>
          <p:spPr>
            <a:xfrm>
              <a:off x="4356000" y="4869000"/>
              <a:ext cx="792360" cy="64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4356000" y="5013360"/>
              <a:ext cx="792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х2=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2"/>
          <p:cNvSpPr/>
          <p:nvPr/>
        </p:nvSpPr>
        <p:spPr>
          <a:xfrm>
            <a:off x="0" y="2133720"/>
            <a:ext cx="9144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10600" spc="-1" strike="noStrike">
                <a:solidFill>
                  <a:srgbClr val="ff0000"/>
                </a:solidFill>
                <a:latin typeface="Times New Roman"/>
              </a:rPr>
              <a:t>компьютер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4800" spc="-1" strike="noStrike">
                <a:solidFill>
                  <a:srgbClr val="3333ff"/>
                </a:solidFill>
                <a:latin typeface="Arial"/>
              </a:rPr>
              <a:t>computer </a:t>
            </a: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i="1" lang="en-US" sz="4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вычислител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j0292982"/>
          <p:cNvPicPr/>
          <p:nvPr/>
        </p:nvPicPr>
        <p:blipFill>
          <a:blip r:embed="rId1"/>
          <a:stretch/>
        </p:blipFill>
        <p:spPr>
          <a:xfrm>
            <a:off x="1116000" y="0"/>
            <a:ext cx="6842160" cy="6753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0" y="33336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Информатика как наука зародилась с середины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</a:rPr>
              <a:t>ХХ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 века благодаря изобретению ЭВ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720" y="980640"/>
            <a:ext cx="9180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Делопроизводство, издательск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омп. анимация, рекламн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омп. музыка, виде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Автоматизация вычислений (бухгалтерских, научных, статистически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Информационно-поисковые системы (архивно-библиотечная деятельность, продажа товаров, билет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АПР (системы автоматизированного проектирова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АСУ (автоматизированные системы управле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вязь (комп. сет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Обучающие и игровы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-36360" y="-27000"/>
            <a:ext cx="93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3333ff"/>
                </a:solidFill>
                <a:latin typeface="Times New Roman"/>
              </a:rPr>
              <a:t>Области применения ЭВМ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75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75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75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75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75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75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75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75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9:03:36Z</dcterms:created>
  <dc:creator>Саня</dc:creator>
  <dc:description/>
  <dc:language>en-US</dc:language>
  <cp:lastModifiedBy>LEGION</cp:lastModifiedBy>
  <dcterms:modified xsi:type="dcterms:W3CDTF">2015-04-01T06:54:31Z</dcterms:modified>
  <cp:revision>31</cp:revision>
  <dc:subject/>
  <dc:title>Информатизация общества. Информатика. </dc:title>
</cp:coreProperties>
</file>