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chimes.wav" ContentType="audio/x-wav"/>
  <Override PartName="/ppt/media/laser.wav" ContentType="audio/x-wav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3C87-3695-40A2-9673-221FD8602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E7C-AE2C-4DFC-BA83-BE405190EE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F74-1686-46E7-AE79-9667D39AF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826-653A-4CFB-BA0D-837DB08C6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2400"/>
            </a:b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9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231-94D0-4661-A36C-38ABC9AC0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F441-8B6B-4638-8083-95691DEDC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CDD-7240-4217-9614-C2D2879A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0D4-1483-40C8-BD8C-8631D39D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2AA-B8DB-4037-B171-7E63ACF8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FB9-EE58-46A8-AE2A-6803E80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7AB-CAC4-428D-9669-EDB27636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07B-466D-4E69-92DA-33976BB5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224-8816-40BF-BE44-901385E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108-10D4-4BAC-978A-E1E7C80B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83F-4E18-4626-99D8-E7653E44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54D-54CF-4423-ABB5-DBFDE71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319-86A7-4B15-AF01-67EEA4E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CE6-316D-4878-84ED-973002F3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CDFF-7D3D-4B40-ABF1-2B2F0A941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j0287005"/>
          <p:cNvPicPr/>
          <p:nvPr/>
        </p:nvPicPr>
        <p:blipFill>
          <a:blip r:embed="rId1"/>
          <a:stretch/>
        </p:blipFill>
        <p:spPr>
          <a:xfrm>
            <a:off x="3276720" y="1193760"/>
            <a:ext cx="2050920" cy="3524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51200"/>
            <a:ext cx="91440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ff"/>
                </a:solidFill>
                <a:latin typeface="Times New Roman"/>
              </a:rPr>
              <a:t>Компьютер в жизни обще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19700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- это наука, изучающая законы и методы накопления, обработки и предоставления информации с помощью ЭВ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Информа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ЭВМ</a:t>
            </a:r>
            <a:br>
              <a:rPr sz="8000"/>
            </a:b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Электронно-вычислительная машин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771640" y="3933720"/>
            <a:ext cx="3600720" cy="3011760"/>
            <a:chOff x="2771640" y="3933720"/>
            <a:chExt cx="3600720" cy="3011760"/>
          </a:xfrm>
        </p:grpSpPr>
        <p:pic>
          <p:nvPicPr>
            <p:cNvPr id="57" name="Picture 4" descr="j0205582"/>
            <p:cNvPicPr/>
            <p:nvPr/>
          </p:nvPicPr>
          <p:blipFill>
            <a:blip r:embed="rId1"/>
            <a:stretch/>
          </p:blipFill>
          <p:spPr>
            <a:xfrm>
              <a:off x="2771640" y="3933720"/>
              <a:ext cx="360072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"/>
            <p:cNvSpPr/>
            <p:nvPr/>
          </p:nvSpPr>
          <p:spPr>
            <a:xfrm>
              <a:off x="4356000" y="4869000"/>
              <a:ext cx="79236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4356000" y="5013360"/>
              <a:ext cx="7923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х2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0" y="2133720"/>
            <a:ext cx="9144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ru-RU" sz="10600" spc="-1" strike="noStrike">
                <a:solidFill>
                  <a:srgbClr val="ff0000"/>
                </a:solidFill>
                <a:latin typeface="Times New Roman"/>
              </a:rPr>
              <a:t>компьютер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computer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i="1" lang="en-US" sz="4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3333ff"/>
                </a:solidFill>
                <a:latin typeface="Arial"/>
              </a:rPr>
              <a:t>вычислител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j0292982"/>
          <p:cNvPicPr/>
          <p:nvPr/>
        </p:nvPicPr>
        <p:blipFill>
          <a:blip r:embed="rId1"/>
          <a:stretch/>
        </p:blipFill>
        <p:spPr>
          <a:xfrm>
            <a:off x="1116000" y="0"/>
            <a:ext cx="6842160" cy="6753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0" y="33336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Информатика как наука зародилась с середины </a:t>
            </a:r>
            <a:r>
              <a:rPr b="1" i="1" lang="ru-RU" sz="8000" spc="-1" strike="noStrike">
                <a:solidFill>
                  <a:srgbClr val="ff0000"/>
                </a:solidFill>
                <a:latin typeface="Times New Roman"/>
              </a:rPr>
              <a:t>ХХ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 века благодаря изобретению ЭВМ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720" y="980640"/>
            <a:ext cx="9180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Делопроизводство, издательск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анимация, реклам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омп. музыка, виде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втоматизация вычислений (бухгалтерских, научных, статистически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Информационно-поисковые системы (архивно-библиотечная деятельность, продажа товаров, биле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АПР (системы автоматизированного проектирова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АСУ (автоматизированные системы управлен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Связь (комп. се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Обучающие и игровы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-36360" y="-27000"/>
            <a:ext cx="93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3333ff"/>
                </a:solidFill>
                <a:latin typeface="Times New Roman"/>
              </a:rPr>
              <a:t>Области применения ЭВМ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75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75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75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75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75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75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75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03:36Z</dcterms:created>
  <dc:creator>Саня</dc:creator>
  <dc:description/>
  <dc:language>en-US</dc:language>
  <cp:lastModifiedBy>LEGION</cp:lastModifiedBy>
  <dcterms:modified xsi:type="dcterms:W3CDTF">2015-04-01T06:54:31Z</dcterms:modified>
  <cp:revision>31</cp:revision>
  <dc:subject/>
  <dc:title>Информатизация общества. Информатика. </dc:title>
</cp:coreProperties>
</file>