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chimes.wav" ContentType="audio/x-wav"/>
  <Override PartName="/ppt/media/laser.wav" ContentType="audio/x-wav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04A0A-DD56-4DE1-86A1-35954BCFBF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60E95-6C46-43D4-893F-DEF5839084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ff"/>
                </a:solidFill>
                <a:latin typeface="Times New Roman"/>
              </a:rPr>
              <a:t>Информа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ff"/>
                </a:solidFill>
                <a:latin typeface="Times New Roman"/>
              </a:rPr>
              <a:t>Компьютер в жизни об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06EE8-74FB-4673-8108-36B666ED38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Информа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- это наука, изучающая законы и методы накопления, обработки и предоставления информации с помощью ЭВ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C66B2-7900-49FC-8587-7D0F7C2DDD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ЭВМ</a:t>
            </a:r>
            <a:br>
              <a:rPr sz="2400"/>
            </a:br>
            <a:r>
              <a:rPr b="0" i="1" lang="ru-RU" sz="1200" spc="-1" strike="noStrike">
                <a:solidFill>
                  <a:srgbClr val="3333ff"/>
                </a:solidFill>
                <a:latin typeface="Arial"/>
              </a:rPr>
              <a:t>(Электронно-вычислительная машин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ru-RU" sz="9600" spc="-1" strike="noStrike">
                <a:solidFill>
                  <a:srgbClr val="ff0000"/>
                </a:solidFill>
                <a:latin typeface="Times New Roman"/>
              </a:rPr>
              <a:t>компьютер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333ff"/>
                </a:solidFill>
                <a:latin typeface="Arial"/>
              </a:rPr>
              <a:t>(</a:t>
            </a:r>
            <a:r>
              <a:rPr b="0" i="1" lang="en-US" sz="1200" spc="-1" strike="noStrike">
                <a:solidFill>
                  <a:srgbClr val="3333ff"/>
                </a:solidFill>
                <a:latin typeface="Arial"/>
              </a:rPr>
              <a:t>computer </a:t>
            </a:r>
            <a:r>
              <a:rPr b="0" i="1" lang="ru-RU" sz="1200" spc="-1" strike="noStrike">
                <a:solidFill>
                  <a:srgbClr val="3333ff"/>
                </a:solidFill>
                <a:latin typeface="Arial"/>
              </a:rPr>
              <a:t>-</a:t>
            </a:r>
            <a:r>
              <a:rPr b="0" i="1" lang="en-US" sz="12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3333ff"/>
                </a:solidFill>
                <a:latin typeface="Arial"/>
              </a:rPr>
              <a:t>вычислител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41661-5156-420F-A942-290280535A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Информатика как наука зародилась с середины </a:t>
            </a: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ХХ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века благодаря изобретению ЭВ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ff"/>
                </a:solidFill>
                <a:latin typeface="Times New Roman"/>
              </a:rPr>
              <a:t>Области применения ЭВ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Делопроизводство, издательская дея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Комп. анимация, рекламная дея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Комп. музыка, виде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Автоматизация вычислений (бухгалтерских, научных, статистических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Информационно-поисковые системы (архивно-библиотечная деятельность, продажа товаров, билет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САПР (системы автоматизированного проектирова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АСУ (автоматизированные системы управле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Связь (комп. сет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Программ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Обучающие и игровые програм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146C3-E685-4778-8741-402A12244B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A6C2-E707-4EE4-A3DD-1518CA5F9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FF6D-2660-400B-866C-2A7D66EA4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6B3A-5492-43B0-91C7-8B9CE8A2E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1435-7006-4E0F-AD47-216643304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C037-2B01-45E9-AB70-64410EA08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1CA6-5A84-4559-A581-97B592ABF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A43E-5E6D-4EFD-98A6-13401EDD7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BE0C-396A-4B71-9F9D-0E81657FD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44E5-EDB0-4E59-B898-1D21B9409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3D9C-0329-4CF7-93C2-CB01329F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D0AF-AD0E-4885-B25C-52A4D43B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4A8F-F2C8-4F01-BAF3-38C8A2416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28C8A-2423-40B5-822A-B27D719D6F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himes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j0287005"/>
          <p:cNvPicPr/>
          <p:nvPr/>
        </p:nvPicPr>
        <p:blipFill>
          <a:blip r:embed="rId1"/>
          <a:stretch/>
        </p:blipFill>
        <p:spPr>
          <a:xfrm>
            <a:off x="3276720" y="1193760"/>
            <a:ext cx="2050920" cy="35244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2"/>
          <p:cNvSpPr/>
          <p:nvPr/>
        </p:nvSpPr>
        <p:spPr>
          <a:xfrm>
            <a:off x="0" y="0"/>
            <a:ext cx="914400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3333ff"/>
                </a:solidFill>
                <a:latin typeface="Times New Roman"/>
              </a:rPr>
              <a:t>Информатик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3"/>
          <p:cNvSpPr/>
          <p:nvPr/>
        </p:nvSpPr>
        <p:spPr>
          <a:xfrm>
            <a:off x="0" y="4651200"/>
            <a:ext cx="9144000" cy="18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3333ff"/>
                </a:solidFill>
                <a:latin typeface="Times New Roman"/>
              </a:rPr>
              <a:t>Компьютер в жизни обществ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825"/>
                            </p:stCondLst>
                            <p:childTnLst>
                              <p:par>
                                <p:cTn id="10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75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75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0" y="1197000"/>
            <a:ext cx="914400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Times New Roman"/>
              </a:rPr>
              <a:t>- это наука, изучающая законы и методы накопления, обработки и предоставления информации с помощью ЭВМ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Times New Roman"/>
              </a:rPr>
              <a:t>Информатик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75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Times New Roman"/>
              </a:rPr>
              <a:t>ЭВМ</a:t>
            </a:r>
            <a:br>
              <a:rPr sz="8000"/>
            </a:br>
            <a:r>
              <a:rPr b="0" i="1" lang="ru-RU" sz="4800" spc="-1" strike="noStrike">
                <a:solidFill>
                  <a:srgbClr val="3333ff"/>
                </a:solidFill>
                <a:latin typeface="Arial"/>
              </a:rPr>
              <a:t>(Электронно-вычислительная машина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7"/>
          <p:cNvGrpSpPr/>
          <p:nvPr/>
        </p:nvGrpSpPr>
        <p:grpSpPr>
          <a:xfrm>
            <a:off x="2771640" y="3933720"/>
            <a:ext cx="3600720" cy="3011760"/>
            <a:chOff x="2771640" y="3933720"/>
            <a:chExt cx="3600720" cy="3011760"/>
          </a:xfrm>
        </p:grpSpPr>
        <p:pic>
          <p:nvPicPr>
            <p:cNvPr id="57" name="Picture 4" descr="j0205582"/>
            <p:cNvPicPr/>
            <p:nvPr/>
          </p:nvPicPr>
          <p:blipFill>
            <a:blip r:embed="rId1"/>
            <a:stretch/>
          </p:blipFill>
          <p:spPr>
            <a:xfrm>
              <a:off x="2771640" y="3933720"/>
              <a:ext cx="3600720" cy="301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Rectangle 6"/>
            <p:cNvSpPr/>
            <p:nvPr/>
          </p:nvSpPr>
          <p:spPr>
            <a:xfrm>
              <a:off x="4356000" y="4869000"/>
              <a:ext cx="792360" cy="647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5"/>
            <p:cNvSpPr/>
            <p:nvPr/>
          </p:nvSpPr>
          <p:spPr>
            <a:xfrm>
              <a:off x="4356000" y="5013360"/>
              <a:ext cx="79236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2х2=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Rectangle 2"/>
          <p:cNvSpPr/>
          <p:nvPr/>
        </p:nvSpPr>
        <p:spPr>
          <a:xfrm>
            <a:off x="0" y="2133720"/>
            <a:ext cx="914400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ru-RU" sz="10600" spc="-1" strike="noStrike">
                <a:solidFill>
                  <a:srgbClr val="ff0000"/>
                </a:solidFill>
                <a:latin typeface="Times New Roman"/>
              </a:rPr>
              <a:t>компьютер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3333ff"/>
                </a:solidFill>
                <a:latin typeface="Arial"/>
              </a:rPr>
              <a:t>(</a:t>
            </a:r>
            <a:r>
              <a:rPr b="0" i="1" lang="en-US" sz="4800" spc="-1" strike="noStrike">
                <a:solidFill>
                  <a:srgbClr val="3333ff"/>
                </a:solidFill>
                <a:latin typeface="Arial"/>
              </a:rPr>
              <a:t>computer </a:t>
            </a:r>
            <a:r>
              <a:rPr b="0" i="1" lang="ru-RU" sz="4800" spc="-1" strike="noStrike">
                <a:solidFill>
                  <a:srgbClr val="3333ff"/>
                </a:solidFill>
                <a:latin typeface="Arial"/>
              </a:rPr>
              <a:t>-</a:t>
            </a:r>
            <a:r>
              <a:rPr b="0" i="1" lang="en-US" sz="4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i="1" lang="ru-RU" sz="4800" spc="-1" strike="noStrike">
                <a:solidFill>
                  <a:srgbClr val="3333ff"/>
                </a:solidFill>
                <a:latin typeface="Arial"/>
              </a:rPr>
              <a:t>вычислитель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75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8" descr="j0292982"/>
          <p:cNvPicPr/>
          <p:nvPr/>
        </p:nvPicPr>
        <p:blipFill>
          <a:blip r:embed="rId1"/>
          <a:stretch/>
        </p:blipFill>
        <p:spPr>
          <a:xfrm>
            <a:off x="1116000" y="0"/>
            <a:ext cx="6842160" cy="67532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2"/>
          <p:cNvSpPr/>
          <p:nvPr/>
        </p:nvSpPr>
        <p:spPr>
          <a:xfrm>
            <a:off x="0" y="333360"/>
            <a:ext cx="9144000" cy="61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0000"/>
                </a:solidFill>
                <a:latin typeface="Times New Roman"/>
              </a:rPr>
              <a:t>Информатика как наука зародилась с середины </a:t>
            </a:r>
            <a:r>
              <a:rPr b="1" i="1" lang="ru-RU" sz="8000" spc="-1" strike="noStrike">
                <a:solidFill>
                  <a:srgbClr val="ff0000"/>
                </a:solidFill>
                <a:latin typeface="Times New Roman"/>
              </a:rPr>
              <a:t>ХХ</a:t>
            </a:r>
            <a:r>
              <a:rPr b="1" i="1" lang="ru-RU" sz="8000" spc="-1" strike="noStrike">
                <a:solidFill>
                  <a:srgbClr val="000000"/>
                </a:solidFill>
                <a:latin typeface="Times New Roman"/>
              </a:rPr>
              <a:t> века благодаря изобретению ЭВМ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75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-36720" y="980640"/>
            <a:ext cx="918036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70000"/>
              </a:lnSpc>
              <a:spcBef>
                <a:spcPts val="751"/>
              </a:spcBef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Делопроизводство, издательская деятельнос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751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Комп. анимация, рекламная деятельнос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751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Комп. музыка, виде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751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Автоматизация вычислений (бухгалтерских, научных, статистических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751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Информационно-поисковые системы (архивно-библиотечная деятельность, продажа товаров, билетов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751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САПР (системы автоматизированного проектирования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751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АСУ (автоматизированные системы управления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751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Связь (комп. сети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751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Программиров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751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Обучающие и игровые програм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-36360" y="-27000"/>
            <a:ext cx="9324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800" spc="-1" strike="noStrike">
                <a:solidFill>
                  <a:srgbClr val="3333ff"/>
                </a:solidFill>
                <a:latin typeface="Times New Roman"/>
              </a:rPr>
              <a:t>Области применения ЭВМ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75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75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75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75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75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75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75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75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75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75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3T19:03:36Z</dcterms:created>
  <dc:creator>Саня</dc:creator>
  <dc:description/>
  <dc:language>en-US</dc:language>
  <cp:lastModifiedBy>LEGION</cp:lastModifiedBy>
  <dcterms:modified xsi:type="dcterms:W3CDTF">2015-04-01T06:54:31Z</dcterms:modified>
  <cp:revision>31</cp:revision>
  <dc:subject/>
  <dc:title>Информатизация общества. Информатика. </dc:title>
</cp:coreProperties>
</file>